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DE904-D537-4AAE-984D-BDAE70358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C64DA-3CE8-44B5-AC2C-D6FE23211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0CEDB-3A91-468E-B4D3-E16EA51B2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0B981-244A-4256-94DD-FE03AD132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38366-9255-4345-8670-B73683D91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59ABD-4B4F-4EC9-A418-FF135B1DA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2FD0F-0B8B-44A8-8F9D-7A1E10DCE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3C3F4-B499-408D-8AB7-AD58F7B5F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DCBEB-503C-4020-B8E3-4E8E0FD52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234BC-2DD2-476E-B313-7B563EE0A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FADB8-6F51-49C4-8081-B14D820B7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5B7B3-8FCF-4B4A-A860-68970F18F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Times New Roman (Arabic)"/>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ea typeface="Times New Roman (Arabic)"/>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Times New Roman (Arabic)"/>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abic)"/>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7D641-30CD-4E8C-8B8C-40686D98121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1701720"/>
            <a:ext cx="7772400" cy="2664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لفصل الثالث</a:t>
            </a:r>
            <a:br>
              <a:rPr sz="4400"/>
            </a:br>
            <a:r>
              <a:rPr b="1" lang="hi-IN" sz="4400" spc="-1" strike="noStrike">
                <a:solidFill>
                  <a:srgbClr val="ff0000"/>
                </a:solidFill>
                <a:latin typeface="Arial"/>
              </a:rPr>
              <a:t>الإطار المفاهيمي لنظرية المحاسب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fontScale="97000"/>
          </a:bodyPr>
          <a:p>
            <a:pPr marL="332640" indent="0" algn="just"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hi-IN" sz="3200" spc="-1" strike="noStrike">
                <a:solidFill>
                  <a:srgbClr val="000000"/>
                </a:solidFill>
                <a:latin typeface="Arial"/>
              </a:rPr>
              <a:t>أما المجموعة الأخرى من مستخدمي تلك التقارير فهي تلك التي لا يتوفر لها القدرة ، لكي تملي احتياجاتها من المعلومات على إدارة المنشأة ، فبالنسبة لهذه المجموعة تعتبر التقارير المالية التي تعدها الإدارة هي المصدر الأساسي للحصول على المعلومات التي يحتاجونها عن المنشأ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475920"/>
            <a:ext cx="8229600" cy="6381720"/>
          </a:xfrm>
          <a:prstGeom prst="rect">
            <a:avLst/>
          </a:prstGeom>
          <a:noFill/>
          <a:ln w="0">
            <a:noFill/>
          </a:ln>
        </p:spPr>
        <p:txBody>
          <a:bodyPr lIns="90000" rIns="90000" tIns="46800" bIns="46800" anchor="t">
            <a:normAutofit fontScale="86000"/>
          </a:bodyPr>
          <a:p>
            <a:pPr marL="294840" indent="-294840" algn="just" rtl="1">
              <a:lnSpc>
                <a:spcPct val="120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فيما يتعلق بوجود خاصية منافع اقتصادية مستقبلية من الأصل هو وجود سعر تبادلي للأصل مع ملاحظة أن عدم توافر سعر سوق أو عدم إمكانية تبادل الأصل في الأسواق لا يعتبر دليلاً قاطعاً على عدم إمكانية تبادل الأصل. </a:t>
            </a:r>
            <a:endParaRPr b="0" lang="en-US" sz="3200" spc="-1" strike="noStrike">
              <a:solidFill>
                <a:srgbClr val="000000"/>
              </a:solidFill>
              <a:latin typeface="Arial"/>
            </a:endParaRPr>
          </a:p>
          <a:p>
            <a:pPr marL="294840" indent="-294840" algn="just" rtl="1">
              <a:lnSpc>
                <a:spcPct val="120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ليس من الضروري أن يكون الأصل قابلاً للتداول أو التصرف فيه، فمثلاً نجد أن البضاعة تحت التشغيل أو الأصول الثابتة ذات الاستخدام المتخصص أو شهرة المحل تعتبر جميعاً أصول للمنشأة رغم عدم إمكانية التصرف فيها بالتداول إلا أنه لها قيمة استثمارية بالنسبة للنشاط الإنتاجي للمنشأة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fontScale="94000"/>
          </a:bodyPr>
          <a:p>
            <a:pPr marL="322200" indent="-322200" algn="just" rtl="1">
              <a:lnSpc>
                <a:spcPct val="12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كما أن تحمل التكلفة ليس دليلاً قاطعاً على وجود الأصل ، فقد لا تحقق التكلفة الهدف المرجو منها فتصبح من بنود الخسائر، كما قد تحصل المنشأة على بعض الأصول دون تحمل تكاليف كما في حالة الهبات والتبرعات، كما قد تنشأ بعض الأصول دون تحمل تكاليف كنتيجة للنمو الطبيعي للموارد أو الاكتشافات الطبيعية أو التغيرات في الأسعار، الأمر الذي يعني ضرورة التفرقة بين الأصل وبين طريقة الحصول عليه، فالأصل في جوهره يعتبر منافع اقتصادية متوقعة، أما التكلفة فهي أحد الآثار التي قد تترتب على تدبير هذا الأص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326880"/>
            <a:ext cx="8229600" cy="6126480"/>
          </a:xfrm>
          <a:prstGeom prst="rect">
            <a:avLst/>
          </a:prstGeom>
          <a:noFill/>
          <a:ln w="0">
            <a:noFill/>
          </a:ln>
        </p:spPr>
        <p:txBody>
          <a:bodyPr lIns="90000" rIns="90000" tIns="46800" bIns="46800" anchor="t">
            <a:normAutofit fontScale="83000"/>
          </a:bodyPr>
          <a:p>
            <a:pPr marL="284400" indent="-284400" algn="just" rtl="1">
              <a:lnSpc>
                <a:spcPct val="125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فيما يتعلق بخاصية قدرة المنشأة على التحقق والاستفادة من منافع الأصل فإنه عادة ما يستند ذلك إلي حقوق قانونية، إلا أنه من ناحية أخري يلاحظ أن غياب الأسانيد القانونية ليس دائماً دليلاً قاطعاً على عدم وجود الأصل وكمثال على ذلك حالة الشراء التأجيري للأصل حيث أن للمنشأة القدرة في التحكم في ا لمنافع المستقبلية للأصل دون أن يكون في ملكيتها أو حيازتها قانونياً ومثال آخر على ذلك في حالة سيطرة المنشأة على اكتشاف أو اختراع معين مع المحافظة على سرية هذا الاكتشاف والاخترا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68360" y="549360"/>
            <a:ext cx="8229600" cy="4525920"/>
          </a:xfrm>
          <a:prstGeom prst="rect">
            <a:avLst/>
          </a:prstGeom>
          <a:noFill/>
          <a:ln w="0">
            <a:noFill/>
          </a:ln>
        </p:spPr>
        <p:txBody>
          <a:bodyPr lIns="90000" rIns="90000" tIns="46800" bIns="46800" anchor="t">
            <a:normAutofit/>
          </a:bodyPr>
          <a:p>
            <a:pPr marL="343080" indent="-343080" algn="just" rtl="1">
              <a:lnSpc>
                <a:spcPct val="125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فيما يتعلق بخاصية حدوث عمليات في الماضي كأحد الاعتبارات للاعتراف محاسبياً للأصل فإنه من الأمثلة على ذلك المخزون من البترول في باطن الأرض حي لا يعتبر ضمن المخزون إلا بعد وقوع عمليات اكتشافه والحصول على حق استخراج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71360"/>
            <a:ext cx="8229600" cy="6858000"/>
          </a:xfrm>
          <a:prstGeom prst="rect">
            <a:avLst/>
          </a:prstGeom>
          <a:noFill/>
          <a:ln w="0">
            <a:noFill/>
          </a:ln>
        </p:spPr>
        <p:txBody>
          <a:bodyPr lIns="90000" rIns="90000" tIns="46800" bIns="46800" anchor="t">
            <a:normAutofit fontScale="89000"/>
          </a:bodyPr>
          <a:p>
            <a:pPr marL="305280" indent="0" algn="r" rtl="1">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onotype Koufi"/>
              </a:rPr>
              <a:t>(ب)  مفهوم الخصوم : -</a:t>
            </a:r>
            <a:endParaRPr b="0" lang="en-US" sz="3200" spc="-1" strike="noStrike">
              <a:solidFill>
                <a:srgbClr val="000000"/>
              </a:solidFill>
              <a:latin typeface="Arial"/>
            </a:endParaRPr>
          </a:p>
          <a:p>
            <a:pPr marL="305280" indent="-305280" algn="just" rtl="1">
              <a:lnSpc>
                <a:spcPct val="120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دمت لجنة المصطلحات التابعة لمجمع المحاسبين القانونيين الأمريكيين تعريفاً للخصوم على أنها كل ما يتمثل في رصيد دائن يلزم ترحيله للفترة القادمة بعد إقفال الحسابات وذلك طبقاً للقواعد والمبادئ المحاسبية المتعارف على ها وهي تشتمل على الالتزامات المتعلقة بالدائنين ، حملة الأسهم، وأي عناصر دائنة مؤجلة للفترات القادمة.</a:t>
            </a:r>
            <a:endParaRPr b="0" lang="en-US" sz="2800" spc="-1" strike="noStrike">
              <a:solidFill>
                <a:srgbClr val="000000"/>
              </a:solidFill>
              <a:latin typeface="Arial"/>
            </a:endParaRPr>
          </a:p>
          <a:p>
            <a:pPr marL="305280" indent="-305280" algn="just" rtl="1">
              <a:lnSpc>
                <a:spcPct val="120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في عام </a:t>
            </a:r>
            <a:r>
              <a:rPr b="1" lang="ar-SA" sz="2800" spc="-1" strike="noStrike">
                <a:solidFill>
                  <a:srgbClr val="000000"/>
                </a:solidFill>
                <a:latin typeface="Arial"/>
              </a:rPr>
              <a:t>1985</a:t>
            </a:r>
            <a:r>
              <a:rPr b="1" lang="ar-SA" sz="2800" spc="-1" strike="noStrike">
                <a:solidFill>
                  <a:srgbClr val="000000"/>
                </a:solidFill>
                <a:latin typeface="Arial"/>
              </a:rPr>
              <a:t>م استقر رأي مجلس معايير المحاسبة الأمريكي عل تعريف الخصوم بأنها منافع اقتصادية من المتوقع التضحية بها مستقبلاً في شكل التزام قائم بالفعل على الوحدة المحاسبية من خلال تحويل أصول أو تقديم خدمات لوحدات أخري وذلك نتيجة أحداث وقعت في الماض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fontScale="86000"/>
          </a:bodyPr>
          <a:p>
            <a:pPr marL="294840" indent="-29484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لاحظ على التعريف الأول أنه يأخذ بوجهة نظر الشخصية المعنوية في تعريف الخصوم، حيث أدخل في نطاقها حقوق الملكية بالإضافة إلي الالتزامات تجاه الدائنين كما أعطي هذا التعريف أهمية للقواعد والمبادئ المحاسبية المتعارف عليها ضمن محددات المفهوم.</a:t>
            </a:r>
            <a:endParaRPr b="0" lang="en-US" sz="2800" spc="-1" strike="noStrike">
              <a:solidFill>
                <a:srgbClr val="000000"/>
              </a:solidFill>
              <a:latin typeface="Arial"/>
            </a:endParaRPr>
          </a:p>
          <a:p>
            <a:pPr marL="294840" indent="-29484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ما التعريف الثاني فيعتبر تطوراً جذرياً في تحديد مفهوم الخصوم وقد تميز بثلاثة خصائص رئيسية هي :-</a:t>
            </a:r>
            <a:endParaRPr b="0" lang="en-US" sz="2800" spc="-1" strike="noStrike">
              <a:solidFill>
                <a:srgbClr val="000000"/>
              </a:solidFill>
              <a:latin typeface="Arial"/>
            </a:endParaRPr>
          </a:p>
          <a:p>
            <a:pPr marL="294840" indent="-29484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جود التزام حالي بتحمل تضحية اقتصادية مستقبلاً وذلك سواء بنقل ملكية بعض الأصول لصالح الالتزام سواء كان واجب الأداء حالاً أو في تاريخ محدد أو عند وقوع حدث معي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fontScale="85000"/>
          </a:bodyPr>
          <a:p>
            <a:pPr marL="291600" indent="-291600" algn="just" rtl="1">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رتباط الالتزام بالمنشأة بصفة محددة وقاطعة أي بمعني عدم إمكانية تجنب هذا الالتزام وأن علها الوفاء به دون قيد أو شرط .</a:t>
            </a:r>
            <a:endParaRPr b="0" lang="en-US" sz="2800" spc="-1" strike="noStrike">
              <a:solidFill>
                <a:srgbClr val="000000"/>
              </a:solidFill>
              <a:latin typeface="Arial"/>
            </a:endParaRPr>
          </a:p>
          <a:p>
            <a:pPr marL="291600" indent="-291600" algn="just" rtl="1">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ن تكون الأحداث أو العمليات التي ترتبت على قيام الالتزام قد حدثت فعلاً في  الماضي .</a:t>
            </a:r>
            <a:endParaRPr b="0" lang="en-US" sz="2800" spc="-1" strike="noStrike">
              <a:solidFill>
                <a:srgbClr val="000000"/>
              </a:solidFill>
              <a:latin typeface="Arial"/>
            </a:endParaRPr>
          </a:p>
          <a:p>
            <a:pPr marL="291600" indent="0" algn="just" rtl="1">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ويتبين من الخصائص المذكورة أنها تدور حول فكرة أساسية هي وجود تضحية اقتصادية مستقبلية وأن الدليل المعتاد على نشوء هذا الالتزام هو وجود تعاقد أو اتفاق أو تعليمات من الجهة المنظمة أو المسيطرة على النشاط، إلا أنه من ناحية أخري ليس من الضروري وجود سند قانوني يؤيد قيام هذا الالتزام لأن مفهوم الخصوم محاسبياً أشمل وأعم من المفهوم القانوني، فقد تتربت الالتزامات نتيجة للعرف التجاري السائد في الزمان والمكان كما ق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fontScale="82000"/>
          </a:bodyPr>
          <a:p>
            <a:pPr marL="281160" indent="0" algn="just"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تنشأ بناءً على اعتبارات اجتماعية أو أخلاقية ، ومن ناحية أخري أيضاً يجب أن لا يتم التوسع في هذا التفسير خشية إدخال مفردات ليست من الخصائص الرئيسية للخصوم، كما لا ينبغي تفسيرها بشكل أضيق مما ينبغي حتى لا يتم استبعاد مفردات تعد في جوهرها من عناصر الخصوم ، أي أنه يتعين القول أن غياب السند القانوني ليس دليلاً كافياً لاستبعاد مفردة معينة من الخصوم، وفي جميع الأحوال فإن ذلك يلقي على المحاسب عبئاً يتمثل في الحاجة الماسة للتقييم الموضوعي للأوضاع والظروف المحيطة .</a:t>
            </a:r>
            <a:endParaRPr b="0" lang="en-US" sz="2800" spc="-1" strike="noStrike">
              <a:solidFill>
                <a:srgbClr val="000000"/>
              </a:solidFill>
              <a:latin typeface="Arial"/>
            </a:endParaRPr>
          </a:p>
          <a:p>
            <a:pPr marL="281160" indent="0" algn="just"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وعادة ما تحصل المنشأة على مقابل نظير قبول الالتزام، إلا أن وجود هذا المقابل لا يعتبر في الوقت نفسه شرطاً ضرورياً للاعتراف محاسبياً بأحد عناصر الخصوم، وذلك كما في حالة فرض الضرائ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fontScale="83000"/>
          </a:bodyPr>
          <a:p>
            <a:pPr marL="284400"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ويلزم التفرقة هنا بين الالتزامات الحالية والالتزامات المستقبلية ، فالخصوم تتمثل فقط في الالتزامات الحالية والتي تكون قد نشأت نتيجة أحداث وعمليات تمت في الماضي ، وترتيباً على ذلك لا تعتبر الاحتياطيات التي تكونها المنشأة لمقابلة أحداث متوقعة خصوماً مثل احتياطي التجديدات أو التوسعات وغيرها .</a:t>
            </a:r>
            <a:endParaRPr b="0" lang="en-US" sz="2800" spc="-1" strike="noStrike">
              <a:solidFill>
                <a:srgbClr val="000000"/>
              </a:solidFill>
              <a:latin typeface="Arial"/>
            </a:endParaRPr>
          </a:p>
          <a:p>
            <a:pPr marL="284400" indent="0" algn="just" rtl="1">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لذلك يمكن القول بأن نشأة الخصم قد تكون مصاحبة بوجود مقابل كما قد يكون دون مقابل على الإطلاق، كذلك ليس من الضروري يعتمد وجود الخصوم على أسانيد قانونية، وأخيراً يلزم التنبيه إلي أن خصوم الوحدة المحاسبية تأخذ نفس الحكم المرتبط بالأصول حيث تتأثر بعوامل كثيرة خارجة عن نطاق سيطرة المحاسب مثل تغير مستويات الأسعار ، تغير سعر الفائدة  ... إل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0"/>
            <a:ext cx="8229600" cy="6524640"/>
          </a:xfrm>
          <a:prstGeom prst="rect">
            <a:avLst/>
          </a:prstGeom>
          <a:noFill/>
          <a:ln w="0">
            <a:noFill/>
          </a:ln>
        </p:spPr>
        <p:txBody>
          <a:bodyPr lIns="90000" rIns="90000" tIns="46800" bIns="46800" anchor="t">
            <a:normAutofit fontScale="87000"/>
          </a:bodyPr>
          <a:p>
            <a:pPr marL="298440" indent="0" algn="just" rtl="1">
              <a:lnSpc>
                <a:spcPct val="11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Monotype Koufi"/>
              </a:rPr>
              <a:t>(ج) مفهوم حقوق الملكية :-</a:t>
            </a:r>
            <a:endParaRPr b="0" lang="en-US" sz="2800" spc="-1" strike="noStrike">
              <a:solidFill>
                <a:srgbClr val="000000"/>
              </a:solidFill>
              <a:latin typeface="Arial"/>
            </a:endParaRPr>
          </a:p>
          <a:p>
            <a:pPr marL="298440" indent="-298440" algn="just" rtl="1">
              <a:lnSpc>
                <a:spcPct val="115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رَّف مجلس مبادئ المحاسبة الأمريكي مفهوم حقوق الملكية على أنها زيادة أصول المنشأة على خصومها وطبقاً لهذا التعريف فإن حقوق الملكية هي عبارة عن استبعاد خصوم المنشأ’ من أصولها </a:t>
            </a:r>
            <a:r>
              <a:rPr b="1" lang="ar-SA" sz="2800" spc="-1" strike="noStrike">
                <a:solidFill>
                  <a:srgbClr val="000099"/>
                </a:solidFill>
                <a:latin typeface="Arial"/>
              </a:rPr>
              <a:t>وتتميز حقوق الملكية بالخصائص الآتية :-</a:t>
            </a:r>
            <a:endParaRPr b="0" lang="en-US" sz="2800" spc="-1" strike="noStrike">
              <a:solidFill>
                <a:srgbClr val="000000"/>
              </a:solidFill>
              <a:latin typeface="Arial"/>
            </a:endParaRPr>
          </a:p>
          <a:p>
            <a:pPr lvl="1" marL="646200" indent="-248400" algn="just" rtl="1">
              <a:lnSpc>
                <a:spcPct val="115000"/>
              </a:lnSpc>
              <a:spcBef>
                <a:spcPts val="1049"/>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نها تمثل حقوق متبقية </a:t>
            </a:r>
            <a:r>
              <a:rPr b="1" lang="en-US" sz="2800" spc="-1" strike="noStrike">
                <a:solidFill>
                  <a:srgbClr val="000000"/>
                </a:solidFill>
                <a:latin typeface="Arial"/>
              </a:rPr>
              <a:t>residual interest</a:t>
            </a:r>
            <a:r>
              <a:rPr b="1" lang="ar-SA" sz="2800" spc="-1" strike="noStrike">
                <a:solidFill>
                  <a:srgbClr val="000000"/>
                </a:solidFill>
                <a:latin typeface="Arial"/>
              </a:rPr>
              <a:t> .</a:t>
            </a:r>
            <a:endParaRPr b="0" lang="en-US" sz="2800" spc="-1" strike="noStrike">
              <a:solidFill>
                <a:srgbClr val="000000"/>
              </a:solidFill>
              <a:latin typeface="Arial"/>
            </a:endParaRPr>
          </a:p>
          <a:p>
            <a:pPr lvl="1" marL="646200" indent="-248400" algn="just" rtl="1">
              <a:lnSpc>
                <a:spcPct val="115000"/>
              </a:lnSpc>
              <a:spcBef>
                <a:spcPts val="1049"/>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نها تأتي من مصدرين أساسيين هما: استثمارات أصحاب الحقوق (الأسهم)، وحقوق مكتسبة نتيجة الأرباح المتجمعة.</a:t>
            </a:r>
            <a:endParaRPr b="0" lang="en-US" sz="2800" spc="-1" strike="noStrike">
              <a:solidFill>
                <a:srgbClr val="000000"/>
              </a:solidFill>
              <a:latin typeface="Arial"/>
            </a:endParaRPr>
          </a:p>
          <a:p>
            <a:pPr marL="298440" indent="-298440" algn="just" rtl="1">
              <a:lnSpc>
                <a:spcPct val="115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حقوق الملكية تأتي في المرتبة الثانية بعد الخصوم من حيث أولوية السداد وتمثل حقوق الملكية من حيث المقدار الحد الأقصى للتوزيعات التي يمكن أن تقوم بها المنشأة لأصحاب الحقوق المتبق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8000"/>
          </a:bodyPr>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ea typeface="Monotype Koufi"/>
              </a:rPr>
              <a:t>*    أهداف التقارير الماليـــــة : -</a:t>
            </a:r>
            <a:endParaRPr b="0" lang="en-US" sz="3200" spc="-1" strike="noStrike">
              <a:solidFill>
                <a:srgbClr val="000000"/>
              </a:solidFill>
              <a:latin typeface="Arial"/>
            </a:endParaRPr>
          </a:p>
          <a:p>
            <a:pPr marL="335880" indent="0" algn="just" rtl="1">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000000"/>
                </a:solidFill>
                <a:latin typeface="Arial"/>
              </a:rPr>
              <a:t>إن تحديد أهداف التقارير المالية ذات الغرض العام يثير الكثير من التساؤلات أهمها:-</a:t>
            </a:r>
            <a:endParaRPr b="0" lang="en-US" sz="3200" spc="-1" strike="noStrike">
              <a:solidFill>
                <a:srgbClr val="000000"/>
              </a:solidFill>
              <a:latin typeface="Arial"/>
            </a:endParaRPr>
          </a:p>
          <a:p>
            <a:pPr marL="335880" indent="-3358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ن هم المستخدمون الخارجيون للتقارير المالية ذات الغرض العام ؟ </a:t>
            </a:r>
            <a:endParaRPr b="0" lang="en-US" sz="3200" spc="-1" strike="noStrike">
              <a:solidFill>
                <a:srgbClr val="000000"/>
              </a:solidFill>
              <a:latin typeface="Arial"/>
            </a:endParaRPr>
          </a:p>
          <a:p>
            <a:pPr marL="335880" indent="-3358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ل هناك احتياجات مشتركة لهم وما هي طبيعة هذه الاحتياجات ؟</a:t>
            </a:r>
            <a:endParaRPr b="0" lang="en-US" sz="3200" spc="-1" strike="noStrike">
              <a:solidFill>
                <a:srgbClr val="000000"/>
              </a:solidFill>
              <a:latin typeface="Arial"/>
            </a:endParaRPr>
          </a:p>
          <a:p>
            <a:pPr marL="335880" indent="-3358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ا هي درجة الوعي والإدراك والجدية المفترضة لدي هؤلاء المستخدمي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89080"/>
            <a:ext cx="8229600" cy="6524640"/>
          </a:xfrm>
          <a:prstGeom prst="rect">
            <a:avLst/>
          </a:prstGeom>
          <a:noFill/>
          <a:ln w="0">
            <a:noFill/>
          </a:ln>
        </p:spPr>
        <p:txBody>
          <a:bodyPr lIns="90000" rIns="90000" tIns="46800" bIns="46800" anchor="t">
            <a:normAutofit fontScale="93000"/>
          </a:bodyPr>
          <a:p>
            <a:pPr marL="318960" indent="-318960" algn="just" rtl="1">
              <a:lnSpc>
                <a:spcPct val="125000"/>
              </a:lnSpc>
              <a:spcBef>
                <a:spcPts val="11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إن الفرق بين حقوق الملكية وبين الخصوم يعتبر أمراً واضحاً من حيث المفهوم إلا أنه في التطبيق العملي قد تثار بعض المشكلات مثل السندات ذات الحق في التحويل إلي أسهم وكذلك الأسهم الممتازة التي لها أولوية في السداد أو ذات استحقاق محدد وبالنسبة لتبويب هذه الحقوق فيتم حسب الامتيازات التي تتمتع وحسب درجة المخاطرة التي تتعرض لها، فمثلاً يقسم رأس المال إلي أسهم عادية ، أسهم ممتازة مجمعة للأرباح، أسهم ممتازة واجبة السدا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243000"/>
            <a:ext cx="8229600" cy="6858000"/>
          </a:xfrm>
          <a:prstGeom prst="rect">
            <a:avLst/>
          </a:prstGeom>
          <a:noFill/>
          <a:ln w="0">
            <a:noFill/>
          </a:ln>
        </p:spPr>
        <p:txBody>
          <a:bodyPr lIns="90000" rIns="90000" tIns="46800" bIns="46800" anchor="t">
            <a:normAutofit fontScale="85000"/>
          </a:bodyPr>
          <a:p>
            <a:pPr marL="291600" indent="-291600" algn="just" rtl="1">
              <a:lnSpc>
                <a:spcPct val="12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ومن الجدير بالذكر في هذا المجال أن الوحدات التي لا تهدف إلي تحقيق الربح لا تستخدم مصطلح حقوق الملكية للتعبير عن الحقوق المتعلقة بأصحاب المشروع وإنما تستخدم عبارة ( صافي الأصول )، والسبب في ذلك هو عدم وجود رأس مال مستثمر لهذه الوحدات بالمعني المألوف في المشروعات التجارية كما أن هناك قيوداً قد تحد بشكل أو بآخر من حرية الوحدة في استخدام صافي أصولها وقد تكون هذه القيود دائمة أو تكون مؤقتة وهذه القيود تضع حدوداً على كيفية استخدام الموارد في تحقيق نشاط الوحدة المحاسبية فهي نوع من الرقابة أو التنظيم المفروض من قبل مقدمي الأموال وأخيراً يلزم التنبيه بضرورة المحافظة على صافي الأصول كما هو الحال في رأس المال في المشروعات التجارية وإلا تعرضت الوحدة إلي مشكلات عدم الاستمرارية والتوقف عن أداء مهامه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44000"/>
            <a:ext cx="8229600" cy="6597720"/>
          </a:xfrm>
          <a:prstGeom prst="rect">
            <a:avLst/>
          </a:prstGeom>
          <a:noFill/>
          <a:ln w="0">
            <a:noFill/>
          </a:ln>
        </p:spPr>
        <p:txBody>
          <a:bodyPr lIns="90000" rIns="90000" tIns="46800" bIns="46800" anchor="t">
            <a:normAutofit fontScale="81000"/>
          </a:bodyPr>
          <a:p>
            <a:pPr marL="277560" indent="0" algn="just" rtl="1">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Monotype Koufi"/>
              </a:rPr>
              <a:t>(</a:t>
            </a:r>
            <a:r>
              <a:rPr b="1" lang="ar-SA" sz="2800" spc="-1" strike="noStrike">
                <a:solidFill>
                  <a:srgbClr val="ff0000"/>
                </a:solidFill>
                <a:latin typeface="Arial"/>
                <a:ea typeface="Monotype Koufi"/>
              </a:rPr>
              <a:t>2</a:t>
            </a:r>
            <a:r>
              <a:rPr b="1" lang="ar-SA" sz="2800" spc="-1" strike="noStrike">
                <a:solidFill>
                  <a:srgbClr val="ff0000"/>
                </a:solidFill>
                <a:latin typeface="Arial"/>
                <a:ea typeface="Monotype Koufi"/>
              </a:rPr>
              <a:t>) المفاهيم الخاصة بالتدفقات :-</a:t>
            </a:r>
            <a:endParaRPr b="0" lang="en-US" sz="2800" spc="-1" strike="noStrike">
              <a:solidFill>
                <a:srgbClr val="000000"/>
              </a:solidFill>
              <a:latin typeface="Arial"/>
            </a:endParaRPr>
          </a:p>
          <a:p>
            <a:pPr marL="277560" indent="0" algn="just" rtl="1">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تكون التدفقات من العناصر الأساسية الآتية :</a:t>
            </a:r>
            <a:endParaRPr b="0" lang="en-US" sz="2800" spc="-1" strike="noStrike">
              <a:solidFill>
                <a:srgbClr val="000000"/>
              </a:solidFill>
              <a:latin typeface="Arial"/>
            </a:endParaRPr>
          </a:p>
          <a:p>
            <a:pPr marL="277560" indent="0" algn="just" rtl="1">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إيرادات والمصروفات ، المكاسب والخسائر ، الدخل الشامل).</a:t>
            </a:r>
            <a:endParaRPr b="0" lang="en-US" sz="2800" spc="-1" strike="noStrike">
              <a:solidFill>
                <a:srgbClr val="000000"/>
              </a:solidFill>
              <a:latin typeface="Arial"/>
            </a:endParaRPr>
          </a:p>
          <a:p>
            <a:pPr marL="277560" indent="0" algn="just" rtl="1">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rPr>
              <a:t>أ) مفهوم الإيرادات والمصروفات :-</a:t>
            </a:r>
            <a:endParaRPr b="0" lang="en-US" sz="2800" spc="-1" strike="noStrike">
              <a:solidFill>
                <a:srgbClr val="000000"/>
              </a:solidFill>
              <a:latin typeface="Arial"/>
            </a:endParaRPr>
          </a:p>
          <a:p>
            <a:pPr marL="277560" indent="0" algn="just" rtl="1">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ناك عدة تعريفات لمصطلح الإيرادات والمصروفات أهمها ما يلي :-</a:t>
            </a:r>
            <a:endParaRPr b="0" lang="en-US" sz="2800" spc="-1" strike="noStrike">
              <a:solidFill>
                <a:srgbClr val="000000"/>
              </a:solidFill>
              <a:latin typeface="Arial"/>
            </a:endParaRPr>
          </a:p>
          <a:p>
            <a:pPr marL="277560" indent="-277560" algn="just" rtl="1">
              <a:lnSpc>
                <a:spcPct val="11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ريف المقدم من مجمع المحاسبين القانونيين الأمريكي حيث عرف الإيرادات على أنها كل ما ينتج من بيع السلع وتقديم الخدمات وتحدد قيمة الايرادات وفقاًَ لذلك.</a:t>
            </a:r>
            <a:endParaRPr b="0" lang="en-US" sz="2800" spc="-1" strike="noStrike">
              <a:solidFill>
                <a:srgbClr val="000000"/>
              </a:solidFill>
              <a:latin typeface="Arial"/>
            </a:endParaRPr>
          </a:p>
          <a:p>
            <a:pPr marL="277560" indent="-277560" algn="just" rtl="1">
              <a:lnSpc>
                <a:spcPct val="11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ما قدم مجلس مبادئ المحاسبة الأمريكي تعريفاً للإيرادات على أنها الزيادة الإجمالية في قيمة الأصول أو النقص في قيمة الخصوم الناتجة عن القيام بنشاط موجه لتحقيق الأرباح ، ويتم قياسها وفقاً لمبادئ المحاسبة المتعارف عليه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fontScale="88000"/>
          </a:bodyPr>
          <a:p>
            <a:pPr marL="301680" indent="-301680" algn="just" rtl="1">
              <a:lnSpc>
                <a:spcPct val="120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أخيراً استقر رأي مجلس معايير المحاسبة الأمريكي على التعريف الآتي للإيرادات: " الإيرادات هي التدفقات الداخلة إلي الوحدة المحاسبية أو أي زيادة في أصولها أو تسديداً لخصومها التي تنشأ عن إنتاج وبيع السلع وتأدية الخدمات للغير ضمن الأعمال الرئيسية المعتادة للمنشأة " .</a:t>
            </a:r>
            <a:endParaRPr b="0" lang="en-US" sz="2800" spc="-1" strike="noStrike">
              <a:solidFill>
                <a:srgbClr val="000000"/>
              </a:solidFill>
              <a:latin typeface="Arial"/>
            </a:endParaRPr>
          </a:p>
          <a:p>
            <a:pPr marL="301680" indent="-301680" algn="just" rtl="1">
              <a:lnSpc>
                <a:spcPct val="120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ويلاحظ على التعريف الأول</a:t>
            </a:r>
            <a:r>
              <a:rPr b="1" lang="ar-SA" sz="2800" spc="-1" strike="noStrike">
                <a:solidFill>
                  <a:srgbClr val="000000"/>
                </a:solidFill>
                <a:latin typeface="Arial"/>
              </a:rPr>
              <a:t> أنه يعكس بوضوح وجهة نظر قائمة الدخل حيث تم تعريف الإيراد باعتباره نشاط إنتاج، في </a:t>
            </a:r>
            <a:r>
              <a:rPr b="1" lang="ar-SA" sz="2800" spc="-1" strike="noStrike" u="sng">
                <a:solidFill>
                  <a:srgbClr val="000000"/>
                </a:solidFill>
                <a:uFillTx/>
                <a:latin typeface="Arial"/>
              </a:rPr>
              <a:t>حين يأخذ التعريف الثاني</a:t>
            </a:r>
            <a:r>
              <a:rPr b="1" lang="ar-SA" sz="2800" spc="-1" strike="noStrike">
                <a:solidFill>
                  <a:srgbClr val="000000"/>
                </a:solidFill>
                <a:latin typeface="Arial"/>
              </a:rPr>
              <a:t> من وجهة نظر قائمة المركز المالي إذ تم تعريفه من زاوية أثره على عناصر الأصول والخصوم، أما </a:t>
            </a:r>
            <a:r>
              <a:rPr b="1" lang="ar-SA" sz="2800" spc="-1" strike="noStrike" u="sng">
                <a:solidFill>
                  <a:srgbClr val="000000"/>
                </a:solidFill>
                <a:uFillTx/>
                <a:latin typeface="Arial"/>
              </a:rPr>
              <a:t>التعريف الثالث</a:t>
            </a:r>
            <a:r>
              <a:rPr b="1" lang="ar-SA" sz="2800" spc="-1" strike="noStrike">
                <a:solidFill>
                  <a:srgbClr val="000000"/>
                </a:solidFill>
                <a:latin typeface="Arial"/>
              </a:rPr>
              <a:t> فهو أكثر شمولاً حيث يجمع بين تحديد مصدر الإيراد وين أثره على عناصر الأصول والخصو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398160"/>
            <a:ext cx="8229600" cy="6459480"/>
          </a:xfrm>
          <a:prstGeom prst="rect">
            <a:avLst/>
          </a:prstGeom>
          <a:noFill/>
          <a:ln w="0">
            <a:noFill/>
          </a:ln>
        </p:spPr>
        <p:txBody>
          <a:bodyPr lIns="90000" rIns="90000" tIns="46800" bIns="46800" anchor="t">
            <a:normAutofit fontScale="83000"/>
          </a:bodyPr>
          <a:p>
            <a:pPr marL="284400" indent="-28440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فيما يتعلق بالمصروفات فقد قدمت لجنة المصطلحات التابعة لمجمع المحاسبين القانونيين الأمريكي تعريفاً للمصروفات على أنها كل التكاليف المستنفذة التي يمكن خصمها من إيرادات الفترة.</a:t>
            </a:r>
            <a:endParaRPr b="0" lang="en-US" sz="2800" spc="-1" strike="noStrike">
              <a:solidFill>
                <a:srgbClr val="000000"/>
              </a:solidFill>
              <a:latin typeface="Arial"/>
            </a:endParaRPr>
          </a:p>
          <a:p>
            <a:pPr marL="284400" indent="-28440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في عام </a:t>
            </a:r>
            <a:r>
              <a:rPr b="1" lang="ar-SA" sz="2800" spc="-1" strike="noStrike">
                <a:solidFill>
                  <a:srgbClr val="000000"/>
                </a:solidFill>
                <a:latin typeface="Arial"/>
              </a:rPr>
              <a:t>1985</a:t>
            </a:r>
            <a:r>
              <a:rPr b="1" lang="ar-SA" sz="2800" spc="-1" strike="noStrike">
                <a:solidFill>
                  <a:srgbClr val="000000"/>
                </a:solidFill>
                <a:latin typeface="Arial"/>
              </a:rPr>
              <a:t>م استقر رأي مجلس معايير المحاسبة الأمريكي على تعريف المصروفات على النحو التالي : " هي التدفقات الخارجة من الوحدة أو أي نقص في أصولها أو زيادة في خصومها أو كليهما معاً والتي تنشأ عن إنتاج السلع أو بيعها وتأدية الخدمات للغير مما يشكل الأعمال الرئيسية المعتادة للمنشأة .</a:t>
            </a:r>
            <a:endParaRPr b="0" lang="en-US" sz="2800" spc="-1" strike="noStrike">
              <a:solidFill>
                <a:srgbClr val="000000"/>
              </a:solidFill>
              <a:latin typeface="Arial"/>
            </a:endParaRPr>
          </a:p>
          <a:p>
            <a:pPr marL="284400" indent="-28440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لاحظ على هذا التعريف أنه يمثل تطوراً لمفهوم المصروفات على نفس النسق بالنسبة لمفهوم الإيرادات والقاعدة العامة هي أن المصروف يرتب عليه نقص في الأصول أو زيادة في الخصو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398160"/>
            <a:ext cx="8229600" cy="6459480"/>
          </a:xfrm>
          <a:prstGeom prst="rect">
            <a:avLst/>
          </a:prstGeom>
          <a:noFill/>
          <a:ln w="0">
            <a:noFill/>
          </a:ln>
        </p:spPr>
        <p:txBody>
          <a:bodyPr lIns="90000" rIns="90000" tIns="46800" bIns="46800" anchor="t">
            <a:normAutofit fontScale="89000"/>
          </a:bodyPr>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Monotype Koufi"/>
              </a:rPr>
              <a:t>ب) مفهوم المكاسب والخسائر :-</a:t>
            </a:r>
            <a:endParaRPr b="0" lang="en-US" sz="2800" spc="-1" strike="noStrike">
              <a:solidFill>
                <a:srgbClr val="000000"/>
              </a:solidFill>
              <a:latin typeface="Arial"/>
            </a:endParaRPr>
          </a:p>
          <a:p>
            <a:pPr marL="305280" indent="-305280" algn="just" rtl="1">
              <a:lnSpc>
                <a:spcPct val="120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ان مفهوم التفرقة بين الإيرادات والمكاسب ثم بين المصروفات والخسائر في بداية التطور المحاسبي قاصراً على طريقة الإفصاح في القوائم المالية وقد عرف مجلس معايير المحاسبة الأمريكي المكاسب على أنها الزيادة في حقوق الملكية الناتجة عن العمليات العرضية أو الفرعية أو أي أهداف وظروف تؤثر على الوحدة المحاسبية خلافاً لتلك التي تتمثل في إيرادات استثمارات أصحاب الأموال، أما الخسائر فهي النقص في حقوق الملكية الناتجة عن العمليات العرضية أو الفرعية أو عن أحداث أو ظروف تؤثر على الوحدة المحاسبة خلافاً للمصروفات أو توزيعات متعلقة بأصحاب رأس الما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398160"/>
            <a:ext cx="8229600" cy="6459480"/>
          </a:xfrm>
          <a:prstGeom prst="rect">
            <a:avLst/>
          </a:prstGeom>
          <a:noFill/>
          <a:ln w="0">
            <a:noFill/>
          </a:ln>
        </p:spPr>
        <p:txBody>
          <a:bodyPr lIns="90000" rIns="90000" tIns="46800" bIns="46800" anchor="t">
            <a:normAutofit fontScale="92000"/>
          </a:bodyPr>
          <a:p>
            <a:pPr marL="315360" indent="-31536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لاحظ الاختلاف بينها وبين الإيرادات والمصروفات إلا أنه يجدر الملاحظة أن ما يمثل مكاسب أو خسائر بالمقارنة بالإيرادات أو المصروفات سوف يختلف من وحدة لأخرى وفقاً لاختلاف طبيعة النشاط واختلاف الظروف المحيطة، فمثلاً تعتبر الاستثمارات في الأوراق المالية أحد أوجه النشاط الرئيسي بالنسبة للبنوك وبالتالي تعتبر نتائج هذه العمليات إيراداً أو مصروفاً بينما يختلف الأمر بالنسبة للمشروعات الأخرى حيث تعتبر مكاسب أو خسائر .</a:t>
            </a:r>
            <a:endParaRPr b="0" lang="en-US" sz="2800" spc="-1" strike="noStrike">
              <a:solidFill>
                <a:srgbClr val="000000"/>
              </a:solidFill>
              <a:latin typeface="Arial"/>
            </a:endParaRPr>
          </a:p>
          <a:p>
            <a:pPr marL="315360" indent="-31536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ذلك قد تنشأ المكاسب أو الخسائر بسبب حيازة أو اقتناء الأصول أو الخصوم وذلك نتيجة تغيرات مستويات الأسعار أو تغيرات أسعار الصر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398160"/>
            <a:ext cx="8229600" cy="6459480"/>
          </a:xfrm>
          <a:prstGeom prst="rect">
            <a:avLst/>
          </a:prstGeom>
          <a:noFill/>
          <a:ln w="0">
            <a:noFill/>
          </a:ln>
        </p:spPr>
        <p:txBody>
          <a:bodyPr lIns="90000" rIns="90000" tIns="46800" bIns="46800" anchor="t">
            <a:normAutofit fontScale="87000"/>
          </a:bodyPr>
          <a:p>
            <a:pPr marL="298440" indent="0" algn="r" rtl="1">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Monotype Koufi"/>
              </a:rPr>
              <a:t>(ج)  مفهوم الدخل الشامل :-</a:t>
            </a:r>
            <a:endParaRPr b="0" lang="en-US" sz="2800" spc="-1" strike="noStrike">
              <a:solidFill>
                <a:srgbClr val="000000"/>
              </a:solidFill>
              <a:latin typeface="Arial"/>
            </a:endParaRPr>
          </a:p>
          <a:p>
            <a:pPr marL="298440" indent="-29844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دم مجلس معايير المحاسبة الأمريكي تعريفاً لمفهوم الدخل الشامل بأنه عبارة عن التغير في حقوق الملكية الناتج عن العمليات والأهداف والظروف الخاصة بالفترة التي ليس لها  صلة بأصحاب رأس المال بصفتهم ملاك للوحدة المحاسبية.</a:t>
            </a:r>
            <a:endParaRPr b="0" lang="en-US" sz="2800" spc="-1" strike="noStrike">
              <a:solidFill>
                <a:srgbClr val="000000"/>
              </a:solidFill>
              <a:latin typeface="Arial"/>
            </a:endParaRPr>
          </a:p>
          <a:p>
            <a:pPr marL="298440" indent="-29844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عكس التعريف بوضوح المفهوم الشامل للدخل إذ يشمل كافة التغيرات في حقوق الملكية باستثناء تلك الناشئة عن استثمارات أصحاب المشروع أي أن هذا المفهوم سوف يساوي صافي التدفقات النقدية من وإلي الوحدة بعد إستبعاد تلك التدفقات المتعلقة بتكوين رأس المال والتوزيعات التي تتم لأصحاب المشرو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8000"/>
          </a:bodyPr>
          <a:p>
            <a:pPr marL="301680" indent="-301680" algn="r"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بموجب شمولية المفهوم المحاسبي لصافي الدخل (أو صافي الخسارة) </a:t>
            </a:r>
            <a:r>
              <a:rPr b="1" lang="ar-SA" sz="2800" spc="-1" strike="noStrike">
                <a:solidFill>
                  <a:srgbClr val="000099"/>
                </a:solidFill>
                <a:latin typeface="Arial"/>
              </a:rPr>
              <a:t>يمكن تحديد مصادر رئيسية للدخل الشامل كما يلي :-</a:t>
            </a:r>
            <a:endParaRPr b="0" lang="en-US" sz="2800" spc="-1" strike="noStrike">
              <a:solidFill>
                <a:srgbClr val="000000"/>
              </a:solidFill>
              <a:latin typeface="Arial"/>
            </a:endParaRPr>
          </a:p>
          <a:p>
            <a:pPr lvl="1" marL="653760" indent="-251280" algn="r" rtl="1">
              <a:lnSpc>
                <a:spcPct val="120000"/>
              </a:lnSpc>
              <a:spcBef>
                <a:spcPts val="14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عمليات التبادلية أو التحويلية التي تجريها الوحدة المحاسبية مع الغير بخلاف أصحاب رأس المال .</a:t>
            </a:r>
            <a:endParaRPr b="0" lang="en-US" sz="2800" spc="-1" strike="noStrike">
              <a:solidFill>
                <a:srgbClr val="000000"/>
              </a:solidFill>
              <a:latin typeface="Arial"/>
            </a:endParaRPr>
          </a:p>
          <a:p>
            <a:pPr lvl="1" marL="653760" indent="-251280" algn="r" rtl="1">
              <a:lnSpc>
                <a:spcPct val="120000"/>
              </a:lnSpc>
              <a:spcBef>
                <a:spcPts val="14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نشاط الإنتاجي للوحدة المحاسبية وما يسفر عنه من منافع في شكل سلعة وخدمات .</a:t>
            </a:r>
            <a:endParaRPr b="0" lang="en-US" sz="2800" spc="-1" strike="noStrike">
              <a:solidFill>
                <a:srgbClr val="000000"/>
              </a:solidFill>
              <a:latin typeface="Arial"/>
            </a:endParaRPr>
          </a:p>
          <a:p>
            <a:pPr lvl="1" marL="653760" indent="-251280" algn="r" rtl="1">
              <a:lnSpc>
                <a:spcPct val="120000"/>
              </a:lnSpc>
              <a:spcBef>
                <a:spcPts val="14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نتائج تفاعل الوحدة المحاسبية مع الظروف البيئية المحيطة مثل تغيرات الأسعار و التغيرات التقنية ومما تسببه من تقادم، كوراث طبيعية ، سرقات، .... إل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0000"/>
          </a:bodyPr>
          <a:p>
            <a:pPr marL="308520" indent="0" algn="just" rtl="1">
              <a:lnSpc>
                <a:spcPct val="12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Monotype Koufi"/>
              </a:rPr>
              <a:t>(</a:t>
            </a:r>
            <a:r>
              <a:rPr b="1" lang="en-US" sz="3200" spc="-1" strike="noStrike">
                <a:solidFill>
                  <a:srgbClr val="ff0000"/>
                </a:solidFill>
                <a:latin typeface="Arial"/>
                <a:ea typeface="Monotype Koufi"/>
              </a:rPr>
              <a:t>3</a:t>
            </a:r>
            <a:r>
              <a:rPr b="1" lang="en-US" sz="3200" spc="-1" strike="noStrike">
                <a:solidFill>
                  <a:srgbClr val="ff0000"/>
                </a:solidFill>
                <a:latin typeface="Arial"/>
                <a:ea typeface="Monotype Koufi"/>
              </a:rPr>
              <a:t>)المفاهيم الخاصة بالتغيرات في حقوق الملكية :-</a:t>
            </a:r>
            <a:endParaRPr b="0" lang="en-US" sz="3200" spc="-1" strike="noStrike">
              <a:solidFill>
                <a:srgbClr val="000000"/>
              </a:solidFill>
              <a:latin typeface="Arial"/>
            </a:endParaRPr>
          </a:p>
          <a:p>
            <a:pPr marL="308520" indent="0" algn="just" rtl="1">
              <a:lnSpc>
                <a:spcPct val="12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إن من الأسباب الرئيسية التي تؤدي إلي تغير حقوق الملكية ما يلي :</a:t>
            </a:r>
            <a:endParaRPr b="0" lang="en-US" sz="3200" spc="-1" strike="noStrike">
              <a:solidFill>
                <a:srgbClr val="000000"/>
              </a:solidFill>
              <a:latin typeface="Arial"/>
            </a:endParaRPr>
          </a:p>
          <a:p>
            <a:pPr marL="308520" indent="-308520" algn="just" rtl="1">
              <a:lnSpc>
                <a:spcPct val="125000"/>
              </a:lnSpc>
              <a:spcBef>
                <a:spcPts val="14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جود صافي دخل أو صافي خسارة .</a:t>
            </a:r>
            <a:endParaRPr b="0" lang="en-US" sz="3200" spc="-1" strike="noStrike">
              <a:solidFill>
                <a:srgbClr val="000000"/>
              </a:solidFill>
              <a:latin typeface="Arial"/>
            </a:endParaRPr>
          </a:p>
          <a:p>
            <a:pPr marL="308520" indent="-308520" algn="just" rtl="1">
              <a:lnSpc>
                <a:spcPct val="125000"/>
              </a:lnSpc>
              <a:spcBef>
                <a:spcPts val="14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جود معاملات مع أصحاب رأس المال بصفته ملاكاً وفيما يتعلق بعناصر الدخل الشامل فقد سبق توضيحها ، أما المعاملات مع أصحاب رأس المال فتنقسم إلي نوعين هما:-</a:t>
            </a:r>
            <a:endParaRPr b="0" lang="en-US" sz="3200" spc="-1" strike="noStrike">
              <a:solidFill>
                <a:srgbClr val="000000"/>
              </a:solidFill>
              <a:latin typeface="Arial"/>
            </a:endParaRPr>
          </a:p>
          <a:p>
            <a:pPr marL="308520" indent="0" algn="just" rtl="1">
              <a:lnSpc>
                <a:spcPct val="12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fontScale="86000"/>
          </a:bodyPr>
          <a:p>
            <a:pPr marL="294840" indent="-294840" algn="just" rtl="1">
              <a:lnSpc>
                <a:spcPct val="12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لي أي مدي يمكن مقابلة هذه الاحتياجات ؟</a:t>
            </a:r>
            <a:endParaRPr b="0" lang="en-US" sz="3200" spc="-1" strike="noStrike">
              <a:solidFill>
                <a:srgbClr val="000000"/>
              </a:solidFill>
              <a:latin typeface="Arial"/>
            </a:endParaRPr>
          </a:p>
          <a:p>
            <a:pPr marL="294840" indent="-294840" algn="just" rtl="1">
              <a:lnSpc>
                <a:spcPct val="12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ا هو الإطار العلمي الملائم لمقابلة هذه الاحتياجات ؟</a:t>
            </a:r>
            <a:endParaRPr b="0" lang="en-US" sz="3200" spc="-1" strike="noStrike">
              <a:solidFill>
                <a:srgbClr val="000000"/>
              </a:solidFill>
              <a:latin typeface="Arial"/>
            </a:endParaRPr>
          </a:p>
          <a:p>
            <a:pPr marL="294840" indent="0" algn="just" rtl="1">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gn="just" rtl="1">
              <a:lnSpc>
                <a:spcPct val="120000"/>
              </a:lnSpc>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000000"/>
                </a:solidFill>
                <a:latin typeface="Arial"/>
              </a:rPr>
              <a:t>ولدراسة هذه التساؤلات والإجابة عنها، فإن ذلك يتطلب دراسة كل من :-</a:t>
            </a:r>
            <a:endParaRPr b="0" lang="en-US" sz="3200" spc="-1" strike="noStrike">
              <a:solidFill>
                <a:srgbClr val="000000"/>
              </a:solidFill>
              <a:latin typeface="Arial"/>
            </a:endParaRPr>
          </a:p>
          <a:p>
            <a:pPr marL="294840" indent="-294840" algn="just" rtl="1">
              <a:lnSpc>
                <a:spcPct val="12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ظروف البيئية المحيطة باستخدام التقارير المالية .</a:t>
            </a:r>
            <a:endParaRPr b="0" lang="en-US" sz="3200" spc="-1" strike="noStrike">
              <a:solidFill>
                <a:srgbClr val="000000"/>
              </a:solidFill>
              <a:latin typeface="Arial"/>
            </a:endParaRPr>
          </a:p>
          <a:p>
            <a:pPr marL="294840" indent="-294840" algn="just" rtl="1">
              <a:lnSpc>
                <a:spcPct val="12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هم الفئات المستخدمة للتقارير المالية .</a:t>
            </a:r>
            <a:endParaRPr b="0" lang="en-US" sz="3200" spc="-1" strike="noStrike">
              <a:solidFill>
                <a:srgbClr val="000000"/>
              </a:solidFill>
              <a:latin typeface="Arial"/>
            </a:endParaRPr>
          </a:p>
          <a:p>
            <a:pPr marL="294840" indent="-294840" algn="just" rtl="1">
              <a:lnSpc>
                <a:spcPct val="12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حدودية استخدام المعلومات التي تتضمنها التقارير المال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360"/>
            <a:ext cx="8229600" cy="6597720"/>
          </a:xfrm>
          <a:prstGeom prst="rect">
            <a:avLst/>
          </a:prstGeom>
          <a:noFill/>
          <a:ln w="0">
            <a:noFill/>
          </a:ln>
        </p:spPr>
        <p:txBody>
          <a:bodyPr lIns="90000" rIns="90000" tIns="46800" bIns="46800" anchor="t">
            <a:normAutofit fontScale="85000"/>
          </a:bodyPr>
          <a:p>
            <a:pPr marL="291600" indent="0" algn="just" rtl="1">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1</a:t>
            </a:r>
            <a:r>
              <a:rPr b="1" lang="en-US" sz="2800" spc="-1" strike="noStrike">
                <a:solidFill>
                  <a:srgbClr val="000099"/>
                </a:solidFill>
                <a:latin typeface="Arial"/>
              </a:rPr>
              <a:t>. استثمارات أصحاب رأس المال :</a:t>
            </a:r>
            <a:endParaRPr b="0" lang="en-US" sz="2800" spc="-1" strike="noStrike">
              <a:solidFill>
                <a:srgbClr val="000000"/>
              </a:solidFill>
              <a:latin typeface="Arial"/>
            </a:endParaRPr>
          </a:p>
          <a:p>
            <a:pPr marL="291600" indent="0" algn="just" rtl="1">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hi-IN" sz="2800" spc="-1" strike="noStrike">
                <a:solidFill>
                  <a:srgbClr val="000000"/>
                </a:solidFill>
                <a:latin typeface="Arial"/>
              </a:rPr>
              <a:t>وهي الزيادة في الاستثمارات الناتجة عن تحويل ملكية أصول أو تقديم خدمات مقابل الحصول على حقوق ملكية ، أي أنها معاملات في اتجاه واحد بين الوحدة وأصحابها، وبهذا تعتبر عمليات غير تبادلية بمعني أن الوحدة المحاسبية غير مطلوب إعطاء مقابل نظير هذه الاستثمارات .</a:t>
            </a:r>
            <a:endParaRPr b="0" lang="en-US" sz="2800" spc="-1" strike="noStrike">
              <a:solidFill>
                <a:srgbClr val="000000"/>
              </a:solidFill>
              <a:latin typeface="Arial"/>
            </a:endParaRPr>
          </a:p>
          <a:p>
            <a:pPr marL="291600" indent="0" algn="just" rtl="1">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en-US" sz="2800" spc="-1" strike="noStrike">
                <a:solidFill>
                  <a:srgbClr val="000099"/>
                </a:solidFill>
                <a:latin typeface="Arial"/>
              </a:rPr>
              <a:t>. التوزيعات على أصحاب رأس المال :</a:t>
            </a:r>
            <a:endParaRPr b="0" lang="en-US" sz="2800" spc="-1" strike="noStrike">
              <a:solidFill>
                <a:srgbClr val="000000"/>
              </a:solidFill>
              <a:latin typeface="Arial"/>
            </a:endParaRPr>
          </a:p>
          <a:p>
            <a:pPr marL="291600" indent="0" algn="just" rtl="1">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hi-IN" sz="2800" spc="-1" strike="noStrike">
                <a:solidFill>
                  <a:srgbClr val="000000"/>
                </a:solidFill>
                <a:latin typeface="Arial"/>
              </a:rPr>
              <a:t>وهي تعد في جوهرها استثمار سالب تتمثل في تحويل ملكية أصول إلي أصحاب حقوق ملكية أو تحمل بعض الالتزامات مقابل تخفيض مماثل في حقوق ملكيتهم وهذه التوزيعات تعتبر أيضاً في اتجاه واحد بمعني أنها غير تبادلية تمييزاً لها عن المعاملات التبادلية الأخرى التي تقع بين الوحدة المحاسبية والغي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89000"/>
          </a:bodyPr>
          <a:p>
            <a:pPr marL="305280" indent="0" algn="ctr" rtl="1">
              <a:spcBef>
                <a:spcPts val="6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200" spc="-1" strike="noStrike">
                <a:solidFill>
                  <a:srgbClr val="990099"/>
                </a:solidFill>
                <a:latin typeface="Arial"/>
                <a:cs typeface="Bold Italic Art"/>
              </a:rPr>
              <a:t>انتهى </a:t>
            </a:r>
            <a:endParaRPr b="0" lang="en-US" sz="2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96000"/>
          </a:bodyPr>
          <a:p>
            <a:pPr marL="32904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3200" spc="-1" strike="noStrike">
                <a:solidFill>
                  <a:srgbClr val="000099"/>
                </a:solidFill>
                <a:latin typeface="Arial"/>
                <a:cs typeface="Monotype Koufi"/>
              </a:rPr>
              <a:t>الظروف البيئية وأثرها في تحديد أهداف التقارير المالية : </a:t>
            </a:r>
            <a:endParaRPr b="0" lang="en-US" sz="3200" spc="-1" strike="noStrike">
              <a:solidFill>
                <a:srgbClr val="000000"/>
              </a:solidFill>
              <a:latin typeface="Arial"/>
            </a:endParaRPr>
          </a:p>
          <a:p>
            <a:pPr marL="329040" indent="-329040" algn="just" rtl="1">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ؤثر الاعتبارات الاقتصادية والقانونية والسياسية والاجتماعية القائمة، ففي المجتمعات ذات الاقتصاد الحر حيث توجد أسواق مالية متطورة ونشطة للتبادل .</a:t>
            </a:r>
            <a:endParaRPr b="0" lang="en-US" sz="2800" spc="-1" strike="noStrike">
              <a:solidFill>
                <a:srgbClr val="000000"/>
              </a:solidFill>
              <a:latin typeface="Arial"/>
            </a:endParaRPr>
          </a:p>
          <a:p>
            <a:pPr marL="329040" indent="-329040" algn="just" rtl="1">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خذ الأفراد قراراتهم الاقتصادية بما يحقق التخصيص الأمثل لموارده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84000"/>
          </a:bodyPr>
          <a:p>
            <a:pPr marL="288000" indent="-288000" algn="just" rtl="1">
              <a:lnSpc>
                <a:spcPct val="12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لعب الأسواق دوراً رئيسياً في توجيه المدخرات نحو الاستثمار في الوحدات التي تستخدم الموارد بدرجة أكبر من الكفاءة والفاعلية ، ومما لا شك فيه أن توفير هذه المعلومات سوف يزيد من كفاءة هذه الأسواق في تخصيص الموارد وعليه فإنه طبقاً لمقتضيات الظروف البيئية يمكن القول أن الهدف الأساسي للتقارير المالية هو توفير المعلومات الملائمة والمفيدة لمستخدمي هذه المعلومات الذين يتخذون القرارات الاقتصاد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86000"/>
          </a:bodyPr>
          <a:p>
            <a:pPr marL="523800" indent="-523800" algn="just" rtl="1">
              <a:lnSpc>
                <a:spcPct val="90000"/>
              </a:lnSpc>
              <a:spcBef>
                <a:spcPts val="799"/>
              </a:spcBef>
              <a:buClr>
                <a:srgbClr val="0000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Arial"/>
                <a:ea typeface="Monotype Koufi"/>
              </a:rPr>
              <a:t> فئات مستخدمي التقارير المالية  :</a:t>
            </a:r>
            <a:r>
              <a:rPr b="1" lang="ar-SA" sz="3200" spc="-1" strike="noStrike">
                <a:solidFill>
                  <a:srgbClr val="000000"/>
                </a:solidFill>
                <a:latin typeface="Arial"/>
              </a:rPr>
              <a:t> </a:t>
            </a:r>
            <a:endParaRPr b="0" lang="en-US" sz="3200" spc="-1" strike="noStrike">
              <a:solidFill>
                <a:srgbClr val="000000"/>
              </a:solidFill>
              <a:latin typeface="Arial"/>
            </a:endParaRPr>
          </a:p>
          <a:p>
            <a:pPr marL="523800" indent="-523800" algn="just" rtl="1">
              <a:spcBef>
                <a:spcPts val="15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مكن تحديد احتياجات مشتركة لمستخدمي التقارير المالية، ذات الاستخدام العام وفي نفس الوقت تتضمن معلوما ملائمة لهذه الاحتياجات المشتركة لهم مثل (المستثمرون الحاليين والمرتقبون، المقرضون الحاليين والمرتقبون، الموردون والعملاء والعاملون) .</a:t>
            </a:r>
            <a:endParaRPr b="0" lang="en-US" sz="3200" spc="-1" strike="noStrike">
              <a:solidFill>
                <a:srgbClr val="000000"/>
              </a:solidFill>
              <a:latin typeface="Arial"/>
            </a:endParaRPr>
          </a:p>
          <a:p>
            <a:pPr marL="523800" indent="-523800" algn="just" rtl="1">
              <a:spcBef>
                <a:spcPts val="15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ستثمرون الحاليون ينظرون إلي التقارير المالية على أنها المصدر الأساسي للمعلومات التي تساعدهم على استمرارية حيازتهم للحقوق التي يمتلكونها في المنشأة ، وقدرة الإدارة الحالية للمنشأة على تصريف أمورها، كما أن المستثمرون المرتقبون ينظرون إلي التقارير المالية لغرض تحديد حجم وطبيعة التدفقات النقدية التي يتوقع أن تؤول إليه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fontScale="88000"/>
          </a:bodyPr>
          <a:p>
            <a:pPr marL="301680" indent="-301680" algn="just" rtl="1">
              <a:spcBef>
                <a:spcPts val="22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قرضون الحاليون والمرتقبون ينظرون إلي التقارير المالية على أنها المصدر الأساسي للمعلومات التي تساعدهم على فهم أوضاع المنشأة من حيث منح الائتمان والضمانات ومعدل العائد وشروط السداد وتواريخ الاستحقاق أي بمعني تقييم قدرة المنشأة على توليد تدفقات نقدية تضمن لهم حقوقهم ، .</a:t>
            </a:r>
            <a:endParaRPr b="0" lang="en-US" sz="3200" spc="-1" strike="noStrike">
              <a:solidFill>
                <a:srgbClr val="000000"/>
              </a:solidFill>
              <a:latin typeface="Arial"/>
            </a:endParaRPr>
          </a:p>
          <a:p>
            <a:pPr marL="301680" indent="-301680" algn="just" rtl="1">
              <a:spcBef>
                <a:spcPts val="22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نصب اهتمامات الموردين والعملاء والعاملين، حول مدي ربحية علاقاتهم الحالية والمرتقبة مع المنشأة ، وقدرة المنشأة على الاستمرار في تحقيق احتياجات هذه الفئات وتوليد تدفقات نقدية وضمان استمراريت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a:bodyPr>
          <a:p>
            <a:pPr marL="609480" indent="-609480" algn="just" rtl="1">
              <a:spcBef>
                <a:spcPts val="799"/>
              </a:spcBef>
              <a:buClr>
                <a:srgbClr val="0000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cs typeface="Andalus"/>
              </a:rPr>
              <a:t>وفيما يتعلق بمحدودية المعلومات التي توفرها التقارير المالية:</a:t>
            </a:r>
            <a:endParaRPr b="0" lang="en-US" sz="3200" spc="-1" strike="noStrike">
              <a:solidFill>
                <a:srgbClr val="000000"/>
              </a:solidFill>
              <a:latin typeface="Arial"/>
            </a:endParaRPr>
          </a:p>
          <a:p>
            <a:pPr marL="609480" indent="-60948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 التقارير المالية لا يمكنها توفير كل المعلومات اللازمة عن التغيرات والأحداث التي تعد على جانب كبير من الأهمية بالنسبة لمستخدمي هذه التقارير.</a:t>
            </a:r>
            <a:endParaRPr b="0" lang="en-US" sz="3200" spc="-1" strike="noStrike">
              <a:solidFill>
                <a:srgbClr val="000000"/>
              </a:solidFill>
              <a:latin typeface="Arial"/>
            </a:endParaRPr>
          </a:p>
          <a:p>
            <a:pPr marL="609480" indent="-60948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  المعلومات التي تتضمنها هذه التقارير هي معلومات تتعلق بأحداث تاريخية وقعت فعلاً مما تستوجب إجراء التحليلات والتنبؤات اللازمة بشأن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87000"/>
          </a:bodyPr>
          <a:p>
            <a:pPr marL="298440" indent="-298440" algn="just" rtl="1">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يس بمقدور المحاسبة الفصل بين أداء الإدارة وبين أداء المنشأة، لأن نجاح أو فشل المنشأة إنما يتوقف على كثير من المتغيرات الخارجية ، والتي لا يكون لإدارة المنشأة القدرة على السيطرة أو  التأثير عليها ، وعليه فإن المعلومات الواردة بالتقارير المالية تقتصر على تقييم أداء الإدارة بمعزل عن أداء المنشأة .</a:t>
            </a:r>
            <a:endParaRPr b="0" lang="en-US" sz="3200" spc="-1" strike="noStrike">
              <a:solidFill>
                <a:srgbClr val="000000"/>
              </a:solidFill>
              <a:latin typeface="Arial"/>
            </a:endParaRPr>
          </a:p>
          <a:p>
            <a:pPr marL="298440" indent="-298440" algn="just" rtl="1">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قارير المالية ذات الغرض العام لا توفر معلومات عن المتغيرات التي لا يمكن قياس آثارها المالية، وبالتالي فإنها لا تحتوي على مقاييس مباشرة تفيد في تقدير المنافع والتكاليف الاجتماعية وكذلك المخاطر التي ترتبط بحقوق الملك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96000"/>
          </a:bodyPr>
          <a:p>
            <a:pPr marL="329040" indent="0" algn="just"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000000"/>
                </a:solidFill>
                <a:latin typeface="Arial"/>
              </a:rPr>
              <a:t>هذا وقد بذلت عدة محاولات لتحديد أهداف القوائم المالية كان أهمها المحاولة التي قام بها مجمع المحاسبين القانونيين الأمريكي عام </a:t>
            </a:r>
            <a:r>
              <a:rPr b="1" lang="ar-SA" sz="3200" spc="-1" strike="noStrike">
                <a:solidFill>
                  <a:srgbClr val="000000"/>
                </a:solidFill>
                <a:latin typeface="Arial"/>
              </a:rPr>
              <a:t>1971</a:t>
            </a:r>
            <a:r>
              <a:rPr b="1" lang="ar-SA" sz="3200" spc="-1" strike="noStrike">
                <a:solidFill>
                  <a:srgbClr val="000000"/>
                </a:solidFill>
                <a:latin typeface="Arial"/>
              </a:rPr>
              <a:t>م ، حيث تم تكوين لجنة عرفت باسم لجنة تروب لود ( </a:t>
            </a:r>
            <a:r>
              <a:rPr b="1" lang="en-US" sz="3200" spc="-1" strike="noStrike">
                <a:solidFill>
                  <a:srgbClr val="000000"/>
                </a:solidFill>
                <a:latin typeface="Arial"/>
              </a:rPr>
              <a:t>true blood</a:t>
            </a:r>
            <a:r>
              <a:rPr b="1" lang="ar-SA" sz="3200" spc="-1" strike="noStrike">
                <a:solidFill>
                  <a:srgbClr val="000000"/>
                </a:solidFill>
                <a:latin typeface="Arial"/>
              </a:rPr>
              <a:t> ) وحددت فيه </a:t>
            </a:r>
            <a:r>
              <a:rPr b="1" lang="ar-SA" sz="3200" spc="-1" strike="noStrike">
                <a:solidFill>
                  <a:srgbClr val="000000"/>
                </a:solidFill>
                <a:latin typeface="Arial"/>
              </a:rPr>
              <a:t>12</a:t>
            </a:r>
            <a:r>
              <a:rPr b="1" lang="ar-SA" sz="3200" spc="-1" strike="noStrike">
                <a:solidFill>
                  <a:srgbClr val="000000"/>
                </a:solidFill>
                <a:latin typeface="Arial"/>
              </a:rPr>
              <a:t>هدفاً للقوائم المالية </a:t>
            </a:r>
            <a:r>
              <a:rPr b="1" lang="ar-SA" sz="3200" spc="-1" strike="noStrike">
                <a:solidFill>
                  <a:srgbClr val="ff0000"/>
                </a:solidFill>
                <a:latin typeface="Arial"/>
              </a:rPr>
              <a:t>كانت الأساس الذي بنيت عليه الكثير من الآثار المحاسبية الواضحة كما يل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cs typeface="Monotype Koufi"/>
              </a:rPr>
              <a:t>الفصل الثالث</a:t>
            </a:r>
            <a:br>
              <a:rPr sz="4400"/>
            </a:br>
            <a:r>
              <a:rPr b="1" lang="hi-IN" sz="4400" spc="-1" strike="noStrike">
                <a:solidFill>
                  <a:srgbClr val="ff0000"/>
                </a:solidFill>
                <a:latin typeface="Arial"/>
                <a:cs typeface="Monotype Koufi"/>
              </a:rPr>
              <a:t>الإطار المفاهيمي لنظرية المحاسبة</a:t>
            </a:r>
            <a:endParaRPr b="0" lang="en-US" sz="4400" spc="-1" strike="noStrike">
              <a:solidFill>
                <a:srgbClr val="000000"/>
              </a:solidFill>
              <a:latin typeface="Arial"/>
            </a:endParaRPr>
          </a:p>
        </p:txBody>
      </p:sp>
      <p:sp>
        <p:nvSpPr>
          <p:cNvPr id="43" name="PlaceHolder 2"/>
          <p:cNvSpPr>
            <a:spLocks noGrp="1"/>
          </p:cNvSpPr>
          <p:nvPr>
            <p:ph/>
          </p:nvPr>
        </p:nvSpPr>
        <p:spPr>
          <a:xfrm>
            <a:off x="457200" y="2176560"/>
            <a:ext cx="8229600" cy="4132080"/>
          </a:xfrm>
          <a:prstGeom prst="rect">
            <a:avLst/>
          </a:prstGeom>
          <a:noFill/>
          <a:ln w="0">
            <a:noFill/>
          </a:ln>
        </p:spPr>
        <p:txBody>
          <a:bodyPr lIns="90000" rIns="90000" tIns="46800" bIns="46800" anchor="t">
            <a:normAutofit fontScale="96000"/>
          </a:bodyPr>
          <a:p>
            <a:pPr marL="329040" indent="0" algn="just" rtl="1">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hi-IN" sz="3600" spc="-1" strike="noStrike">
                <a:solidFill>
                  <a:srgbClr val="000000"/>
                </a:solidFill>
                <a:latin typeface="Arial"/>
              </a:rPr>
              <a:t>يشتمل الإطار الفكري لأي علم على العناصر التالية: </a:t>
            </a:r>
            <a:endParaRPr b="0" lang="en-US" sz="3600" spc="-1" strike="noStrike">
              <a:solidFill>
                <a:srgbClr val="000000"/>
              </a:solidFill>
              <a:latin typeface="Arial"/>
            </a:endParaRPr>
          </a:p>
          <a:p>
            <a:pPr marL="329040" indent="0" algn="just" rtl="1">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الأهداف – المفاهيم – الفروض – المبادئ ) ويتكون الإطار المفاهيمي من كل من الأهداف والمفاهيم ، أما البناء الرسمي للنظرية فيتكون من الفروض والمبادئ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620640"/>
            <a:ext cx="8229600" cy="5832720"/>
          </a:xfrm>
          <a:prstGeom prst="rect">
            <a:avLst/>
          </a:prstGeom>
          <a:noFill/>
          <a:ln w="0">
            <a:noFill/>
          </a:ln>
        </p:spPr>
        <p:txBody>
          <a:bodyPr lIns="90000" rIns="90000" tIns="46800" bIns="46800" anchor="t">
            <a:normAutofit fontScale="84000"/>
          </a:bodyPr>
          <a:p>
            <a:pPr marL="288000" indent="-288000" algn="just" rtl="1">
              <a:lnSpc>
                <a:spcPct val="115000"/>
              </a:lnSpc>
              <a:spcBef>
                <a:spcPts val="24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هدف الأول :</a:t>
            </a:r>
            <a:r>
              <a:rPr b="1" lang="ar-SA" sz="3200" spc="-1" strike="noStrike">
                <a:solidFill>
                  <a:srgbClr val="000000"/>
                </a:solidFill>
                <a:latin typeface="Arial"/>
              </a:rPr>
              <a:t> إن الهدف الأساسي للقوائم المالية هو توفير معلومات مفيدة في مجال اتخاذ القرارات .</a:t>
            </a:r>
            <a:endParaRPr b="0" lang="en-US" sz="3200" spc="-1" strike="noStrike">
              <a:solidFill>
                <a:srgbClr val="000000"/>
              </a:solidFill>
              <a:latin typeface="Arial"/>
            </a:endParaRPr>
          </a:p>
          <a:p>
            <a:pPr marL="288000" indent="-288000" algn="just" rtl="1">
              <a:lnSpc>
                <a:spcPct val="115000"/>
              </a:lnSpc>
              <a:spcBef>
                <a:spcPts val="24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هدف الثاني :</a:t>
            </a:r>
            <a:r>
              <a:rPr b="1" lang="ar-SA" sz="3200" spc="-1" strike="noStrike">
                <a:solidFill>
                  <a:srgbClr val="000000"/>
                </a:solidFill>
                <a:latin typeface="Arial"/>
              </a:rPr>
              <a:t> خدمة الطائفة التي ليس لديها القدرة أو الإمكانيات على طلب المعلومات مباشرة مما يجعلها تعتمد على القوائم كمصدر أساس لتوفير المعلومات .</a:t>
            </a:r>
            <a:endParaRPr b="0" lang="en-US" sz="3200" spc="-1" strike="noStrike">
              <a:solidFill>
                <a:srgbClr val="000000"/>
              </a:solidFill>
              <a:latin typeface="Arial"/>
            </a:endParaRPr>
          </a:p>
          <a:p>
            <a:pPr marL="288000" indent="-288000" algn="just" rtl="1">
              <a:lnSpc>
                <a:spcPct val="115000"/>
              </a:lnSpc>
              <a:spcBef>
                <a:spcPts val="24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هدف الثالث :</a:t>
            </a:r>
            <a:r>
              <a:rPr b="1" lang="ar-SA" sz="3200" spc="-1" strike="noStrike">
                <a:solidFill>
                  <a:srgbClr val="000000"/>
                </a:solidFill>
                <a:latin typeface="Arial"/>
              </a:rPr>
              <a:t> توفير المعلومات المفيدة للمستثمرين والمقرضين من أجل عقد المقارنات وعمل التنبؤات وإجراء التقييمات للتدفقات النقدية المتوقع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04640"/>
            <a:ext cx="8229600" cy="6453360"/>
          </a:xfrm>
          <a:prstGeom prst="rect">
            <a:avLst/>
          </a:prstGeom>
          <a:noFill/>
          <a:ln w="0">
            <a:noFill/>
          </a:ln>
        </p:spPr>
        <p:txBody>
          <a:bodyPr lIns="90000" rIns="90000" tIns="46800" bIns="46800" anchor="t">
            <a:normAutofit fontScale="87000"/>
          </a:bodyPr>
          <a:p>
            <a:pPr marL="298440" indent="-298440" algn="just" rtl="1">
              <a:spcBef>
                <a:spcPts val="18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هدف الرابع :</a:t>
            </a:r>
            <a:r>
              <a:rPr b="1" lang="ar-SA" sz="3200" spc="-1" strike="noStrike">
                <a:solidFill>
                  <a:srgbClr val="000000"/>
                </a:solidFill>
                <a:latin typeface="Arial"/>
              </a:rPr>
              <a:t> هو إمداد مستخدمي هذه القوائم بالمعلومات اللازمة لإجراء التنبؤات وعقد المقارنات </a:t>
            </a:r>
            <a:r>
              <a:rPr b="1" lang="ar-SA" sz="3200" spc="-1" strike="noStrike" u="sng">
                <a:solidFill>
                  <a:srgbClr val="000000"/>
                </a:solidFill>
                <a:uFillTx/>
                <a:latin typeface="Arial"/>
              </a:rPr>
              <a:t>وتقييم قدرة المنشأة على تحقيق الدخل</a:t>
            </a:r>
            <a:r>
              <a:rPr b="1" lang="ar-SA" sz="3200" spc="-1" strike="noStrike">
                <a:solidFill>
                  <a:srgbClr val="000000"/>
                </a:solidFill>
                <a:latin typeface="Arial"/>
              </a:rPr>
              <a:t> .</a:t>
            </a:r>
            <a:endParaRPr b="0" lang="en-US" sz="3200" spc="-1" strike="noStrike">
              <a:solidFill>
                <a:srgbClr val="000000"/>
              </a:solidFill>
              <a:latin typeface="Arial"/>
            </a:endParaRPr>
          </a:p>
          <a:p>
            <a:pPr marL="298440" indent="0" algn="just"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000000"/>
                </a:solidFill>
                <a:latin typeface="Arial"/>
              </a:rPr>
              <a:t>أي أن هذا الهدف يشير إلي أن تدفقات الدخل تعتبر أساس أفضل للتنبؤ وعقد المقارنات وتقييم قدرة المنشأة على تحقيق الدخل .</a:t>
            </a:r>
            <a:endParaRPr b="0" lang="en-US" sz="3200" spc="-1" strike="noStrike">
              <a:solidFill>
                <a:srgbClr val="000000"/>
              </a:solidFill>
              <a:latin typeface="Arial"/>
            </a:endParaRPr>
          </a:p>
          <a:p>
            <a:pPr marL="298440" indent="-298440" algn="just" rtl="1">
              <a:spcBef>
                <a:spcPts val="18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هدف الخامس :</a:t>
            </a:r>
            <a:r>
              <a:rPr b="1" lang="ar-SA" sz="3200" spc="-1" strike="noStrike">
                <a:solidFill>
                  <a:srgbClr val="000000"/>
                </a:solidFill>
                <a:latin typeface="Arial"/>
              </a:rPr>
              <a:t> هو توفير المعلومات اللازمة لتقييم قدرة المنشأة على الاستخدام الكفء  ( </a:t>
            </a:r>
            <a:r>
              <a:rPr b="1" lang="en-US" sz="3200" spc="-1" strike="noStrike">
                <a:solidFill>
                  <a:srgbClr val="000000"/>
                </a:solidFill>
                <a:latin typeface="Arial"/>
              </a:rPr>
              <a:t>efficient</a:t>
            </a:r>
            <a:r>
              <a:rPr b="1" lang="ar-SA" sz="3200" spc="-1" strike="noStrike">
                <a:solidFill>
                  <a:srgbClr val="000000"/>
                </a:solidFill>
                <a:latin typeface="Arial"/>
              </a:rPr>
              <a:t> ) والفعال ( </a:t>
            </a:r>
            <a:r>
              <a:rPr b="1" lang="en-US" sz="3200" spc="-1" strike="noStrike">
                <a:solidFill>
                  <a:srgbClr val="000000"/>
                </a:solidFill>
                <a:latin typeface="Arial"/>
              </a:rPr>
              <a:t>effective</a:t>
            </a:r>
            <a:r>
              <a:rPr b="1" lang="ar-SA" sz="3200" spc="-1" strike="noStrike">
                <a:solidFill>
                  <a:srgbClr val="000000"/>
                </a:solidFill>
                <a:latin typeface="Arial"/>
              </a:rPr>
              <a:t> )</a:t>
            </a:r>
            <a:r>
              <a:rPr b="1" lang="en-US" sz="3200" spc="-1" strike="noStrike">
                <a:solidFill>
                  <a:srgbClr val="000000"/>
                </a:solidFill>
                <a:latin typeface="Arial"/>
              </a:rPr>
              <a:t>   </a:t>
            </a:r>
            <a:r>
              <a:rPr b="1" lang="ar-SA" sz="3200" spc="-1" strike="noStrike">
                <a:solidFill>
                  <a:srgbClr val="000000"/>
                </a:solidFill>
                <a:latin typeface="Arial"/>
              </a:rPr>
              <a:t> للموارد الاقتصادية المتاحة، أي أن هذا الهدف يشير إي </a:t>
            </a:r>
            <a:r>
              <a:rPr b="1" lang="ar-SA" sz="3200" spc="-1" strike="noStrike" u="sng">
                <a:solidFill>
                  <a:srgbClr val="000000"/>
                </a:solidFill>
                <a:uFillTx/>
                <a:latin typeface="Arial"/>
              </a:rPr>
              <a:t>الحاجة لتقييم أداء الإدارة نحو</a:t>
            </a:r>
            <a:r>
              <a:rPr b="1" lang="ar-SA" sz="3200" spc="-1" strike="noStrike">
                <a:solidFill>
                  <a:srgbClr val="000000"/>
                </a:solidFill>
                <a:latin typeface="Arial"/>
              </a:rPr>
              <a:t> الاستخدام الأمثل للموارد وليس مجرد مسؤوليتها التقليدية تجاه صيانة وحماية الأصو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620640"/>
            <a:ext cx="8229600" cy="5832720"/>
          </a:xfrm>
          <a:prstGeom prst="rect">
            <a:avLst/>
          </a:prstGeom>
          <a:noFill/>
          <a:ln w="0">
            <a:noFill/>
          </a:ln>
        </p:spPr>
        <p:txBody>
          <a:bodyPr lIns="90000" rIns="90000" tIns="46800" bIns="46800" anchor="t">
            <a:normAutofit fontScale="87000"/>
          </a:bodyPr>
          <a:p>
            <a:pPr marL="298440" indent="-298440" algn="just" rtl="1">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هدف السادس :</a:t>
            </a:r>
            <a:r>
              <a:rPr b="1" lang="ar-SA" sz="3200" spc="-1" strike="noStrike">
                <a:solidFill>
                  <a:srgbClr val="000000"/>
                </a:solidFill>
                <a:latin typeface="Arial"/>
              </a:rPr>
              <a:t> توفير معلومات واقعية وتفسيرية عن العمليات والأحداث التي تساعد في التنبؤ ،والمقارنة، والتقييم لقدرة المنشأة على تحقيق الدخل .</a:t>
            </a:r>
            <a:endParaRPr b="0" lang="en-US" sz="3200" spc="-1" strike="noStrike">
              <a:solidFill>
                <a:srgbClr val="000000"/>
              </a:solidFill>
              <a:latin typeface="Arial"/>
            </a:endParaRPr>
          </a:p>
          <a:p>
            <a:pPr marL="298440" indent="-298440" algn="just" rtl="1">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هدف السابع :</a:t>
            </a:r>
            <a:r>
              <a:rPr b="1" lang="ar-SA" sz="3200" spc="-1" strike="noStrike">
                <a:solidFill>
                  <a:srgbClr val="000000"/>
                </a:solidFill>
                <a:latin typeface="Arial"/>
              </a:rPr>
              <a:t> تقديم قائمة للمركز المالي تكون مفيدة في مجال التنبؤ والمقارنة و التقييم لقدرة المنشأة على تحقيق الدخل، ولتحقيق ذلك يلزم التقرير في هذه القائمة عن دورات النشاط غير المكتملة حتى تاريخ الإعداد وأن تكون القياسات على أساس القيم الجارية، كذلك يحدد الهدف بأن يكون التبويب لعناصر الأصول والخصوم على أساس درجة السيولة التي يتمتع بها العنص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6000"/>
          </a:bodyPr>
          <a:p>
            <a:pPr marL="294840" indent="-294840" algn="just" rtl="1">
              <a:lnSpc>
                <a:spcPct val="13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الهدف الثامن :</a:t>
            </a:r>
            <a:r>
              <a:rPr b="1" lang="en-US" sz="3200" spc="-1" strike="noStrike">
                <a:solidFill>
                  <a:srgbClr val="000000"/>
                </a:solidFill>
                <a:latin typeface="Arial"/>
              </a:rPr>
              <a:t> تقديم قائمة بالدخل الدوري بحيث يمكن الاعتماد عليها في عمل التنبؤات والمقارنات والتقييم بقدرة المنشأة على تحقيق الدخل في ا لمستقبل ، أي أنه يلزم التقرير عن نتائج العمليات والأحداث التي تمثل دورات النشاط المكتملة، وكذلك تقدير نتائج النشاط للدورات غير المكتملة حتى تاريخ الإعداد ، كما يلزم التقرير عن التغيرات التي طرأت على القيم الواردة في قائمة المركز المال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620280"/>
            <a:ext cx="8229600" cy="5761080"/>
          </a:xfrm>
          <a:prstGeom prst="rect">
            <a:avLst/>
          </a:prstGeom>
          <a:noFill/>
          <a:ln w="0">
            <a:noFill/>
          </a:ln>
        </p:spPr>
        <p:txBody>
          <a:bodyPr lIns="90000" rIns="90000" tIns="46800" bIns="46800" anchor="t">
            <a:normAutofit fontScale="87000"/>
          </a:bodyPr>
          <a:p>
            <a:pPr marL="298440" indent="-298440" algn="just" rtl="1">
              <a:lnSpc>
                <a:spcPct val="13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هدف التاسع :</a:t>
            </a:r>
            <a:r>
              <a:rPr b="1" lang="ar-SA" sz="3200" spc="-1" strike="noStrike">
                <a:solidFill>
                  <a:srgbClr val="000000"/>
                </a:solidFill>
                <a:latin typeface="Arial"/>
              </a:rPr>
              <a:t> تقديم قائمة بالنشاط المالي بحث يمكن الاستفادة منها في عمل التنبؤات والمقارنات والتقييم للقدرة الإيرادية للمنشأة، ويلاحظ هنا أن دورات النشاط المالي تعتبر أقصر دورات النشاط إذا ما قورنت بدورات نشاط أخري كدورات الحصول على الأصول الثابتة واستخدامها ، أي أن هذه القائمة يتم التقرير فيها عن وقائع متعلقة بالعمليات والأحداث ذات الآثار النقدية المتحققة فعلاً أو وجود احتمال كبير في تحقق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5000"/>
          </a:bodyPr>
          <a:p>
            <a:pPr marL="325800" indent="-325800" algn="just" rtl="1">
              <a:lnSpc>
                <a:spcPct val="120000"/>
              </a:lnSpc>
              <a:spcBef>
                <a:spcPts val="24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هدف العاشر :</a:t>
            </a:r>
            <a:r>
              <a:rPr b="1" lang="ar-SA" sz="3200" spc="-1" strike="noStrike">
                <a:solidFill>
                  <a:srgbClr val="000000"/>
                </a:solidFill>
                <a:latin typeface="Arial"/>
              </a:rPr>
              <a:t> تقديم قائمة بالتقديرات المالية المتصلة بالمستقبل ، إن مثل هذه القائمة تساعد على التنبؤ بتقييم الأحداث الاقتصادية المتوقعة خدمة لمستخدمي القوائم المالية.</a:t>
            </a:r>
            <a:endParaRPr b="0" lang="en-US" sz="3200" spc="-1" strike="noStrike">
              <a:solidFill>
                <a:srgbClr val="000000"/>
              </a:solidFill>
              <a:latin typeface="Arial"/>
            </a:endParaRPr>
          </a:p>
          <a:p>
            <a:pPr marL="325800" indent="-325800" algn="just" rtl="1">
              <a:lnSpc>
                <a:spcPct val="120000"/>
              </a:lnSpc>
              <a:spcBef>
                <a:spcPts val="24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هدف الحادي عشر :</a:t>
            </a:r>
            <a:r>
              <a:rPr b="1" lang="ar-SA" sz="3200" spc="-1" strike="noStrike">
                <a:solidFill>
                  <a:srgbClr val="000000"/>
                </a:solidFill>
                <a:latin typeface="Arial"/>
              </a:rPr>
              <a:t> توفير معلومات مفيدة في مجال تقييم كفاءة الإدارة في استخدام الموارد الاقتصادية المتاحة ومدي فاعليتها لتحقيق أهداف التنظي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gn="just" rtl="1">
              <a:lnSpc>
                <a:spcPct val="13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الهدف الثاني عشر :</a:t>
            </a:r>
            <a:r>
              <a:rPr b="1" lang="en-US" sz="3200" spc="-1" strike="noStrike">
                <a:solidFill>
                  <a:srgbClr val="000000"/>
                </a:solidFill>
                <a:latin typeface="Arial"/>
              </a:rPr>
              <a:t>  هو التقرير عن تلك الأنشطة التي تقوم بها المنشأة ، والتي يكون لها أثر على المجتمع، ومن الطبيعي أن تكون هذه الآثار قابلة للقياس الكمي حتى يمكن التقرير عنها ويعتبر هذا الهدف إشارة صريحة إلي المسؤولية الاجتماعية للوحدات الاقتصاد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549000"/>
            <a:ext cx="8229600" cy="5832360"/>
          </a:xfrm>
          <a:prstGeom prst="rect">
            <a:avLst/>
          </a:prstGeom>
          <a:noFill/>
          <a:ln w="0">
            <a:noFill/>
          </a:ln>
        </p:spPr>
        <p:txBody>
          <a:bodyPr lIns="90000" rIns="90000" tIns="46800" bIns="46800" anchor="t">
            <a:normAutofit fontScale="88000"/>
          </a:bodyPr>
          <a:p>
            <a:pPr marL="536040" indent="-536040" algn="just" rtl="1">
              <a:lnSpc>
                <a:spcPct val="120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وفي وقت لاحق قام مجمع المحاسبين القانونيين بإنجلترا وويلز وبجهود إضافية وقدم قوائم أخرى هي :-</a:t>
            </a:r>
            <a:endParaRPr b="0" lang="en-US" sz="3200" spc="-1" strike="noStrike">
              <a:solidFill>
                <a:srgbClr val="000000"/>
              </a:solidFill>
              <a:latin typeface="Arial"/>
            </a:endParaRPr>
          </a:p>
          <a:p>
            <a:pPr marL="536040" indent="-536040" algn="just" rtl="1">
              <a:lnSpc>
                <a:spcPct val="120000"/>
              </a:lnSpc>
              <a:spcBef>
                <a:spcPts val="15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قائمة لبيان القيمة المضافة وكيفية توزيعها على عوامل الإنتاج .</a:t>
            </a:r>
            <a:endParaRPr b="0" lang="en-US" sz="3200" spc="-1" strike="noStrike">
              <a:solidFill>
                <a:srgbClr val="000000"/>
              </a:solidFill>
              <a:latin typeface="Arial"/>
            </a:endParaRPr>
          </a:p>
          <a:p>
            <a:pPr marL="536040" indent="-536040" algn="just" rtl="1">
              <a:lnSpc>
                <a:spcPct val="120000"/>
              </a:lnSpc>
              <a:spcBef>
                <a:spcPts val="15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قائمة لبيان شؤون العمالة خاصة فيما يتعلق بالإنتاجية والكفاية والعلاقات الصناعية .</a:t>
            </a:r>
            <a:endParaRPr b="0" lang="en-US" sz="3200" spc="-1" strike="noStrike">
              <a:solidFill>
                <a:srgbClr val="000000"/>
              </a:solidFill>
              <a:latin typeface="Arial"/>
            </a:endParaRPr>
          </a:p>
          <a:p>
            <a:pPr marL="536040" indent="-536040" algn="just" rtl="1">
              <a:lnSpc>
                <a:spcPct val="120000"/>
              </a:lnSpc>
              <a:spcBef>
                <a:spcPts val="15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قائمة لبيان حجم المعاملات مع الحكومة كالإعانات والمنح والضرائب والتأمينات الاجتماع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387360"/>
            <a:ext cx="8229600" cy="6858000"/>
          </a:xfrm>
          <a:prstGeom prst="rect">
            <a:avLst/>
          </a:prstGeom>
          <a:noFill/>
          <a:ln w="0">
            <a:noFill/>
          </a:ln>
        </p:spPr>
        <p:txBody>
          <a:bodyPr lIns="90000" rIns="90000" tIns="46800" bIns="46800" anchor="t">
            <a:normAutofit fontScale="92000"/>
          </a:bodyPr>
          <a:p>
            <a:pPr marL="560520" indent="-560520" algn="just" rtl="1">
              <a:spcBef>
                <a:spcPts val="1599"/>
              </a:spcBef>
              <a:buClr>
                <a:srgbClr val="0000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قائمة لبيان المعاملات مع العالم الخارجي والتي تمت بعملات أجنبية والمتعلقة بالإقراض والاقتراض .</a:t>
            </a:r>
            <a:endParaRPr b="0" lang="en-US" sz="3200" spc="-1" strike="noStrike">
              <a:solidFill>
                <a:srgbClr val="000000"/>
              </a:solidFill>
              <a:latin typeface="Arial"/>
            </a:endParaRPr>
          </a:p>
          <a:p>
            <a:pPr marL="560520" indent="-560520" algn="just" rtl="1">
              <a:spcBef>
                <a:spcPts val="1599"/>
              </a:spcBef>
              <a:buClr>
                <a:srgbClr val="0000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قائمة لبيان التوقعات المستقبلية لمستويات الأرباح والعالة والاستثمار.</a:t>
            </a:r>
            <a:endParaRPr b="0" lang="en-US" sz="3200" spc="-1" strike="noStrike">
              <a:solidFill>
                <a:srgbClr val="000000"/>
              </a:solidFill>
              <a:latin typeface="Arial"/>
            </a:endParaRPr>
          </a:p>
          <a:p>
            <a:pPr marL="560520" indent="-560520" algn="just" rtl="1">
              <a:spcBef>
                <a:spcPts val="1599"/>
              </a:spcBef>
              <a:buClr>
                <a:srgbClr val="0000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قائمة لبيان أهداف النشاط .</a:t>
            </a:r>
            <a:endParaRPr b="0" lang="en-US" sz="3200" spc="-1" strike="noStrike">
              <a:solidFill>
                <a:srgbClr val="000000"/>
              </a:solidFill>
              <a:latin typeface="Arial"/>
            </a:endParaRPr>
          </a:p>
          <a:p>
            <a:pPr marL="560520" indent="-560520" algn="just" rtl="1">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في مجال تحقيق تلك الأهداف قام مجلس معايير المحاسبة الأمريكي بنشر إصدارين الأول في نوفمبر </a:t>
            </a:r>
            <a:r>
              <a:rPr b="1" lang="en-US" sz="3200" spc="-1" strike="noStrike">
                <a:solidFill>
                  <a:srgbClr val="000000"/>
                </a:solidFill>
                <a:latin typeface="Arial"/>
              </a:rPr>
              <a:t>1978</a:t>
            </a:r>
            <a:r>
              <a:rPr b="1" lang="hi-IN" sz="3200" spc="-1" strike="noStrike">
                <a:solidFill>
                  <a:srgbClr val="000000"/>
                </a:solidFill>
                <a:latin typeface="Arial"/>
              </a:rPr>
              <a:t>م ، يتعلق بأهداف التقارير المالية في المشروعات التجارية، والثاني في ديسمبر </a:t>
            </a:r>
            <a:r>
              <a:rPr b="1" lang="en-US" sz="3200" spc="-1" strike="noStrike">
                <a:solidFill>
                  <a:srgbClr val="000000"/>
                </a:solidFill>
                <a:latin typeface="Arial"/>
              </a:rPr>
              <a:t>1980</a:t>
            </a:r>
            <a:r>
              <a:rPr b="1" lang="hi-IN" sz="3200" spc="-1" strike="noStrike">
                <a:solidFill>
                  <a:srgbClr val="000000"/>
                </a:solidFill>
                <a:latin typeface="Arial"/>
              </a:rPr>
              <a:t>م ويتعلق بأهداف التقارير في المشروعات غير التجارية أو التي لا تهدف إلي تحقيق الربح كما يل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475920"/>
            <a:ext cx="8229600" cy="6381720"/>
          </a:xfrm>
          <a:prstGeom prst="rect">
            <a:avLst/>
          </a:prstGeom>
          <a:noFill/>
          <a:ln w="0">
            <a:noFill/>
          </a:ln>
        </p:spPr>
        <p:txBody>
          <a:bodyPr lIns="90000" rIns="90000" tIns="46800" bIns="46800" anchor="t">
            <a:normAutofit fontScale="85000"/>
          </a:bodyPr>
          <a:p>
            <a:pPr marL="518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ea typeface="Monotype Koufi"/>
              </a:rPr>
              <a:t>* الأول :</a:t>
            </a:r>
            <a:r>
              <a:rPr b="1" lang="ar-SA" sz="3200" spc="-1" strike="noStrike">
                <a:solidFill>
                  <a:srgbClr val="000000"/>
                </a:solidFill>
                <a:latin typeface="Arial"/>
              </a:rPr>
              <a:t> الأهداف في الوحدات أو المشروعات التجارية (الاقتصادية ) : -</a:t>
            </a:r>
            <a:endParaRPr b="0" lang="en-US" sz="3200" spc="-1" strike="noStrike">
              <a:solidFill>
                <a:srgbClr val="000000"/>
              </a:solidFill>
              <a:latin typeface="Arial"/>
            </a:endParaRPr>
          </a:p>
          <a:p>
            <a:pPr marL="518040" indent="-518040" algn="just" rtl="1">
              <a:lnSpc>
                <a:spcPct val="90000"/>
              </a:lnSpc>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وفير المعلومات التي تفيد مستخدمي القوائم المالية في ترشيد القرارات الاستثمارية والائتمانية الخاصة بهم .</a:t>
            </a:r>
            <a:endParaRPr b="0" lang="en-US" sz="3200" spc="-1" strike="noStrike">
              <a:solidFill>
                <a:srgbClr val="000000"/>
              </a:solidFill>
              <a:latin typeface="Arial"/>
            </a:endParaRPr>
          </a:p>
          <a:p>
            <a:pPr marL="518040" indent="-518040" algn="just" rtl="1">
              <a:lnSpc>
                <a:spcPct val="90000"/>
              </a:lnSpc>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وفير المعلومات التي تفيد في تقدير التدفقات المستقبلية ، فالمستثمرون الحاليين والمرتقبون والدائنون يهمهم الحصول على تدفقات نقدية متمثلة في الأرباح الموزعة والفوائد على السندات .</a:t>
            </a:r>
            <a:endParaRPr b="0" lang="en-US" sz="3200" spc="-1" strike="noStrike">
              <a:solidFill>
                <a:srgbClr val="000000"/>
              </a:solidFill>
              <a:latin typeface="Arial"/>
            </a:endParaRPr>
          </a:p>
          <a:p>
            <a:pPr marL="518040" indent="-518040" algn="just" rtl="1">
              <a:lnSpc>
                <a:spcPct val="90000"/>
              </a:lnSpc>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وفير المعلومات المتعلقة بموارد المنشأة والتزاماتها والتغيرات التي طرأت على هذه الموارد والإلتزامات، إن هذه المعلومات سوف تساعد المستثمرين والدائنين وغيرهم على تحديد مواطن القوة والضعف واحتمالات مواجهة حالات العسر المال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rPr>
              <a:t>تعريف الإطار المفاهيمي لنظرية المحاسبة : </a:t>
            </a:r>
            <a:endParaRPr b="0" lang="en-US" sz="2800" spc="-1" strike="noStrike">
              <a:solidFill>
                <a:srgbClr val="000000"/>
              </a:solidFill>
              <a:latin typeface="Arial"/>
            </a:endParaRPr>
          </a:p>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endParaRPr b="0" lang="en-US" sz="2800" spc="-1" strike="noStrike">
              <a:solidFill>
                <a:srgbClr val="000000"/>
              </a:solidFill>
              <a:latin typeface="Arial"/>
            </a:endParaRPr>
          </a:p>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إطار المفاهيمي هو عبارة عن نظام متماسك يشتمل على مجموعة مترابطة من المفاهيم الخاصة بأهداف وأساسيات العلم .</a:t>
            </a:r>
            <a:endParaRPr b="0" lang="en-US" sz="2800" spc="-1" strike="noStrike">
              <a:solidFill>
                <a:srgbClr val="000000"/>
              </a:solidFill>
              <a:latin typeface="Arial"/>
            </a:endParaRPr>
          </a:p>
          <a:p>
            <a:pPr marL="329040" indent="0" algn="just">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99"/>
                </a:solidFill>
                <a:latin typeface="Arial"/>
              </a:rPr>
              <a:t>THE CONCEPTUAL FRAMEWORK IS A COHERENT SYSTEM OF INTERRELATED OBJECTIVES  AND FUNDAMENTALS THAT IS EXPECTED TO  LEAD TO CONSISTENT STANDARDS OBJECTIVES GIVE DIRECTION, AND CONCEPTS ARE TOOLS FOR SOLVING PROBLE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fontScale="87000"/>
          </a:bodyPr>
          <a:p>
            <a:pPr marL="529920" indent="-529920" algn="just" rtl="1">
              <a:lnSpc>
                <a:spcPct val="120000"/>
              </a:lnSpc>
              <a:spcBef>
                <a:spcPts val="2200"/>
              </a:spcBef>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وفير المعلومات التي تفيد في تقييم أداء المنشأة وتحديد أرباحها، حيث يعتمد تقييم أداء المنشأة على مقاييس الربح الدوري ومكوناته، وهنا نجد أن مقاييس الربح المعدة طبقاً لمبدأ الاستحقاق تعطي مؤشراً أفضل لأداء المنشأة لأنه يربط بين المجهودات والإنجازات، وبالتالي يعتبر أساساً سليماًَ للتنبؤ بالتدفقات النقدية المتوقعة .</a:t>
            </a:r>
            <a:endParaRPr b="0" lang="en-US" sz="3200" spc="-1" strike="noStrike">
              <a:solidFill>
                <a:srgbClr val="000000"/>
              </a:solidFill>
              <a:latin typeface="Arial"/>
            </a:endParaRPr>
          </a:p>
          <a:p>
            <a:pPr marL="529920" indent="-529920" algn="just" rtl="1">
              <a:lnSpc>
                <a:spcPct val="120000"/>
              </a:lnSpc>
              <a:spcBef>
                <a:spcPts val="2200"/>
              </a:spcBef>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وفير المعلومات التي تفيد في تحديد درجة السيولة والأعباء وتدفق الأموال الصادرة والوارد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691920"/>
            <a:ext cx="8229600" cy="5761080"/>
          </a:xfrm>
          <a:prstGeom prst="rect">
            <a:avLst/>
          </a:prstGeom>
          <a:noFill/>
          <a:ln w="0">
            <a:noFill/>
          </a:ln>
        </p:spPr>
        <p:txBody>
          <a:bodyPr lIns="90000" rIns="90000" tIns="46800" bIns="46800" anchor="t">
            <a:normAutofit/>
          </a:bodyPr>
          <a:p>
            <a:pPr marL="609480" indent="-609480" algn="just" rtl="1">
              <a:lnSpc>
                <a:spcPct val="120000"/>
              </a:lnSpc>
              <a:spcBef>
                <a:spcPts val="2001"/>
              </a:spcBef>
              <a:buClr>
                <a:srgbClr val="ff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وفير المعلومات التي تفيد في التقرير عن مسؤولية الإدارة وتقييم كفاءة أدائها وتحديد مسئولياتها ومدي نجاحها في المحافظة على موارد المنشأة .</a:t>
            </a:r>
            <a:endParaRPr b="0" lang="en-US" sz="3200" spc="-1" strike="noStrike">
              <a:solidFill>
                <a:srgbClr val="000000"/>
              </a:solidFill>
              <a:latin typeface="Arial"/>
            </a:endParaRPr>
          </a:p>
          <a:p>
            <a:pPr marL="609480" indent="-609480" algn="just" rtl="1">
              <a:lnSpc>
                <a:spcPct val="120000"/>
              </a:lnSpc>
              <a:spcBef>
                <a:spcPts val="2001"/>
              </a:spcBef>
              <a:buClr>
                <a:srgbClr val="ff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وفير معلومات تتعلق بملاحظات وتفسيرات الإدارة التي ترى أهميتها لمستخدمي التقارير بغرض زيادة المنفعة التي تتضمن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326880"/>
            <a:ext cx="8229600" cy="6126480"/>
          </a:xfrm>
          <a:prstGeom prst="rect">
            <a:avLst/>
          </a:prstGeom>
          <a:noFill/>
          <a:ln w="0">
            <a:noFill/>
          </a:ln>
        </p:spPr>
        <p:txBody>
          <a:bodyPr lIns="90000" rIns="90000" tIns="46800" bIns="46800" anchor="t">
            <a:normAutofit fontScale="84000"/>
          </a:bodyPr>
          <a:p>
            <a:pPr marL="511920" indent="0" algn="just" rtl="1">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 الثاني :</a:t>
            </a:r>
            <a:r>
              <a:rPr b="1" lang="ar-SA" sz="3200" spc="-1" strike="noStrike">
                <a:solidFill>
                  <a:srgbClr val="000000"/>
                </a:solidFill>
                <a:latin typeface="Arial"/>
              </a:rPr>
              <a:t> الأهداف في الوحدات غير الاقتصادية : -</a:t>
            </a:r>
            <a:endParaRPr b="0" lang="en-US" sz="3200" spc="-1" strike="noStrike">
              <a:solidFill>
                <a:srgbClr val="000000"/>
              </a:solidFill>
              <a:latin typeface="Arial"/>
            </a:endParaRPr>
          </a:p>
          <a:p>
            <a:pPr marL="511920" indent="-511920" algn="just" rtl="1">
              <a:lnSpc>
                <a:spcPct val="120000"/>
              </a:lnSpc>
              <a:spcBef>
                <a:spcPts val="24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جب أن توفر التقارير المالية معلومات مفيدة في مجال ترشيد القرارات للذين يقومون بتدبير الموارد المالية .</a:t>
            </a:r>
            <a:endParaRPr b="0" lang="en-US" sz="3200" spc="-1" strike="noStrike">
              <a:solidFill>
                <a:srgbClr val="000000"/>
              </a:solidFill>
              <a:latin typeface="Arial"/>
            </a:endParaRPr>
          </a:p>
          <a:p>
            <a:pPr marL="511920" indent="-511920" algn="just" rtl="1">
              <a:lnSpc>
                <a:spcPct val="120000"/>
              </a:lnSpc>
              <a:spcBef>
                <a:spcPts val="24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جب أن توفر التقارير المالية المعلومات المفيدة لمقدمي الأموال الحاليين والمرتقبين للوقوف على مدى قيام الإدارة بمسئولياتها وتقييم أدائها ، مما يلزم التقدير بصفة خاصة عن مدي التقيد بالحدود المفروضة على استخدام الموارد، كما يلزم الإفصاح عن مدي نجاح الإدارة في تحقيق الأهداف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7000"/>
          </a:bodyPr>
          <a:p>
            <a:pPr marL="529920" indent="-529920" algn="just" rtl="1">
              <a:lnSpc>
                <a:spcPct val="110000"/>
              </a:lnSpc>
              <a:spcBef>
                <a:spcPts val="2401"/>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جب أن توفر التقارير المالية معلومات عن الموارد الاقتصادية المتاحة وعن الإلتزامات القائمة على هذه الموارد وعن صافي الموارد القائمة وكذلك عن التغيرات التي طرأت عليها، .</a:t>
            </a:r>
            <a:endParaRPr b="0" lang="en-US" sz="3200" spc="-1" strike="noStrike">
              <a:solidFill>
                <a:srgbClr val="000000"/>
              </a:solidFill>
              <a:latin typeface="Arial"/>
            </a:endParaRPr>
          </a:p>
          <a:p>
            <a:pPr marL="529920" indent="-529920" algn="just" rtl="1">
              <a:lnSpc>
                <a:spcPct val="110000"/>
              </a:lnSpc>
              <a:spcBef>
                <a:spcPts val="2401"/>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جب أن توفر التقارير  المالية معلومات مفيدة لتقييم الأداء الدوري للوحدة المحاسبية، مما يتعين الإفصاح عن التغيرات التي تحققت في صافي الموارد ويعتبر أساس الاستحقاق هو الأساس الملائم لقياس التغيرات الموجبة والسالبة لموارد الوحدة</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609480" indent="-609480" algn="just" rtl="1">
              <a:lnSpc>
                <a:spcPct val="120000"/>
              </a:lnSpc>
              <a:spcBef>
                <a:spcPts val="2200"/>
              </a:spcBef>
              <a:buClr>
                <a:srgbClr val="ff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جب أن توفر التقارير المالية معلومات مفيدة للتعرف على مصادر الحصول على النقدية وغيرها من الموارد وكذلك أوجه استخداماتها .</a:t>
            </a:r>
            <a:endParaRPr b="0" lang="en-US" sz="3200" spc="-1" strike="noStrike">
              <a:solidFill>
                <a:srgbClr val="000000"/>
              </a:solidFill>
              <a:latin typeface="Arial"/>
            </a:endParaRPr>
          </a:p>
          <a:p>
            <a:pPr marL="609480" indent="-609480" algn="just" rtl="1">
              <a:lnSpc>
                <a:spcPct val="120000"/>
              </a:lnSpc>
              <a:spcBef>
                <a:spcPts val="2200"/>
              </a:spcBef>
              <a:buClr>
                <a:srgbClr val="ff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جب أن توفر التقارير المالية معلومات تتعلق بأي إيضاحات أو ملاحظات تري إدارة الوحدة أنها تساعد مستخدمي التقارير في اتخاذ قرارات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86000"/>
          </a:bodyPr>
          <a:p>
            <a:pPr marL="2948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cs typeface="Monotype Koufi"/>
              </a:rPr>
              <a:t>ثانياً: المفاهيم الخاصة بطبيعة الوحدة المحاسبية :</a:t>
            </a:r>
            <a:endParaRPr b="0" lang="en-US" sz="3200" spc="-1" strike="noStrike">
              <a:solidFill>
                <a:srgbClr val="000000"/>
              </a:solidFill>
              <a:latin typeface="Arial"/>
            </a:endParaRPr>
          </a:p>
          <a:p>
            <a:pPr marL="294840" indent="-294840" algn="just" rtl="1">
              <a:lnSpc>
                <a:spcPct val="110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حدة المحاسبية هي دائرة نشاط معين يلزم إخضاعه للمنهج المحاسبي، وقد تختلف طبيعتها من عدة أوجه، فمن حيث الشكل القانوني أو التنظيمي هناك مشروعات فردية وشركات أشخاص وشركات أموال . </a:t>
            </a:r>
            <a:endParaRPr b="0" lang="en-US" sz="3200" spc="-1" strike="noStrike">
              <a:solidFill>
                <a:srgbClr val="000000"/>
              </a:solidFill>
              <a:latin typeface="Arial"/>
            </a:endParaRPr>
          </a:p>
          <a:p>
            <a:pPr marL="294840" indent="-294840" algn="just" rtl="1">
              <a:lnSpc>
                <a:spcPct val="110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حيث النظام فقد تتمثل الوحدة المحاسبية في اعتماد من المال المخصص لمواجهة غرض معين، أو قد تتمثل في فرع أو شركة قابضة أو تابعة أو تتمثل في الاقتصاد القومي.</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87000"/>
          </a:bodyPr>
          <a:p>
            <a:pPr marL="298440" indent="-298440" algn="just" rtl="1">
              <a:lnSpc>
                <a:spcPct val="115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تختلف الوحدة المحاسبية من حيث الهدف الذي تسعي إليه، فمنها من يهدف إلي الربح، أو لا تهدف إلي ذلك ، ومنها من يهدف إلي أغراض اقتصادية أخري، ونظراً لتعدد خصائص الوحدة المحاسبية تتعدد المفاهيم الخاصة بها على النحو التالي : </a:t>
            </a:r>
            <a:endParaRPr b="0" lang="en-US" sz="2800" spc="-1" strike="noStrike">
              <a:solidFill>
                <a:srgbClr val="000000"/>
              </a:solidFill>
              <a:latin typeface="Arial"/>
            </a:endParaRPr>
          </a:p>
          <a:p>
            <a:pPr marL="298440" indent="0" algn="just" rtl="1">
              <a:lnSpc>
                <a:spcPct val="11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1</a:t>
            </a:r>
            <a:r>
              <a:rPr b="1" lang="en-US" sz="2800" spc="-1" strike="noStrike">
                <a:solidFill>
                  <a:srgbClr val="000099"/>
                </a:solidFill>
                <a:latin typeface="Arial"/>
              </a:rPr>
              <a:t>- مفهوم حقوق الملكية :-</a:t>
            </a:r>
            <a:endParaRPr b="0" lang="en-US" sz="2800" spc="-1" strike="noStrike">
              <a:solidFill>
                <a:srgbClr val="000000"/>
              </a:solidFill>
              <a:latin typeface="Arial"/>
            </a:endParaRPr>
          </a:p>
          <a:p>
            <a:pPr marL="298440" indent="0" algn="just" rtl="1">
              <a:lnSpc>
                <a:spcPct val="11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ليس هناك خلاف حول أن الوحدة المحاسبية هي شخصية مستقلة ، ولكن الاختلاف حول طبيعة هذه الشخصية ، وطبقاً لمفهوم حقوق الملكية تعطي الأهمية لعنصر الملكية باعتباره الجوهر والمحور الأساس في مدي نجاح أو استمرار المشروع ، ويشير هذا المفهوم إلي المنشأة الفردية أو شركات الأشخاص ، وفيما يلي أهم النتائج المترتبة على ذل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691920"/>
            <a:ext cx="8229600" cy="6165720"/>
          </a:xfrm>
          <a:prstGeom prst="rect">
            <a:avLst/>
          </a:prstGeom>
          <a:noFill/>
          <a:ln w="0">
            <a:noFill/>
          </a:ln>
        </p:spPr>
        <p:txBody>
          <a:bodyPr lIns="90000" rIns="90000" tIns="46800" bIns="46800" anchor="t">
            <a:normAutofit fontScale="96000"/>
          </a:bodyPr>
          <a:p>
            <a:pPr marL="329040" indent="-329040" algn="just" rtl="1">
              <a:lnSpc>
                <a:spcPct val="110000"/>
              </a:lnSpc>
              <a:spcBef>
                <a:spcPts val="12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بالنسبة للأصول: تعتبر الأصول ملكاً لصاحب المشروع وليست ملكاً للمشروع.</a:t>
            </a:r>
            <a:endParaRPr b="0" lang="en-US" sz="2800" spc="-1" strike="noStrike">
              <a:solidFill>
                <a:srgbClr val="000000"/>
              </a:solidFill>
              <a:latin typeface="Arial"/>
            </a:endParaRPr>
          </a:p>
          <a:p>
            <a:pPr marL="329040" indent="-329040" algn="just" rtl="1">
              <a:lnSpc>
                <a:spcPct val="110000"/>
              </a:lnSpc>
              <a:spcBef>
                <a:spcPts val="12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بالنسبة للخصوم : تعتبر الخصوم التزامات على صاحب المشروع وليست التزامات على المشروع.</a:t>
            </a:r>
            <a:endParaRPr b="0" lang="en-US" sz="2800" spc="-1" strike="noStrike">
              <a:solidFill>
                <a:srgbClr val="000000"/>
              </a:solidFill>
              <a:latin typeface="Arial"/>
            </a:endParaRPr>
          </a:p>
          <a:p>
            <a:pPr marL="329040" indent="-329040" algn="just" rtl="1">
              <a:lnSpc>
                <a:spcPct val="110000"/>
              </a:lnSpc>
              <a:spcBef>
                <a:spcPts val="12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بالنسبة لمعادلة الميزانية: يكون التركيز على حقوق أصحاب المشروع وتكون معادلة الميزانية كالآتي : ( حقوق الملكية= الأصول – الخصوم )</a:t>
            </a:r>
            <a:endParaRPr b="0" lang="en-US" sz="2800" spc="-1" strike="noStrike">
              <a:solidFill>
                <a:srgbClr val="000000"/>
              </a:solidFill>
              <a:latin typeface="Arial"/>
            </a:endParaRPr>
          </a:p>
          <a:p>
            <a:pPr marL="329040" indent="-329040" algn="just" rtl="1">
              <a:lnSpc>
                <a:spcPct val="110000"/>
              </a:lnSpc>
              <a:spcBef>
                <a:spcPts val="12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بالنسبة للإيرادات : تمثل الإيرادات عناصر موجبة في حساب رأس المال .</a:t>
            </a:r>
            <a:endParaRPr b="0" lang="en-US" sz="2800" spc="-1" strike="noStrike">
              <a:solidFill>
                <a:srgbClr val="000000"/>
              </a:solidFill>
              <a:latin typeface="Arial"/>
            </a:endParaRPr>
          </a:p>
          <a:p>
            <a:pPr marL="329040" indent="-329040" algn="just" rtl="1">
              <a:lnSpc>
                <a:spcPct val="110000"/>
              </a:lnSpc>
              <a:spcBef>
                <a:spcPts val="12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بالنسبة للمصروفات : تمثل المصروفات عناصر سالبة في حساب رأس الما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5000"/>
          </a:bodyPr>
          <a:p>
            <a:pPr marL="291600" indent="-291600" algn="just" rtl="1">
              <a:lnSpc>
                <a:spcPct val="115000"/>
              </a:lnSpc>
              <a:spcBef>
                <a:spcPts val="2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بالنسبة لنتائج الأعمال: يتم تحديد نتائج الأعمال عن طريق مقارنة المركز المالي في بداية ونهاية الفترة المحاسبية .</a:t>
            </a:r>
            <a:endParaRPr b="0" lang="en-US" sz="3200" spc="-1" strike="noStrike">
              <a:solidFill>
                <a:srgbClr val="000000"/>
              </a:solidFill>
              <a:latin typeface="Arial"/>
            </a:endParaRPr>
          </a:p>
          <a:p>
            <a:pPr marL="291600" indent="0" algn="just" rtl="1">
              <a:lnSpc>
                <a:spcPct val="11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hi-IN" sz="3200" spc="-1" strike="noStrike">
                <a:solidFill>
                  <a:srgbClr val="000000"/>
                </a:solidFill>
                <a:latin typeface="Arial"/>
              </a:rPr>
              <a:t>ومن الجدير بالذكر أن الربح طبقاً لوجهة نظر حقوق الملكية (أصحاب المشروع) هو ربح شامل أو  أياً كان مصدره بعد تغطية كافة عناصر ا لتكاليف ، وبصفة خاصة الفائدة التي تتحملها المنشأة نتيجة للاقتراض ، وكذلك الضرائب على الأرباح ، كما تعتبر التوزيعات في حكم المسحوبات مما يؤدي إلي تخفيض حقوق الملك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93000"/>
          </a:bodyPr>
          <a:p>
            <a:pPr marL="318960" indent="0" algn="just" rtl="1">
              <a:lnSpc>
                <a:spcPct val="115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99"/>
                </a:solidFill>
                <a:latin typeface="Arial"/>
              </a:rPr>
              <a:t>. مفهوم الشخصية المعنوية :-</a:t>
            </a:r>
            <a:endParaRPr b="0" lang="en-US" sz="3200" spc="-1" strike="noStrike">
              <a:solidFill>
                <a:srgbClr val="000000"/>
              </a:solidFill>
              <a:latin typeface="Arial"/>
            </a:endParaRPr>
          </a:p>
          <a:p>
            <a:pPr marL="318960" indent="-318960" algn="just" rtl="1">
              <a:lnSpc>
                <a:spcPct val="115000"/>
              </a:lnSpc>
              <a:spcBef>
                <a:spcPts val="15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ني هذا المفهوم أن المشروع له شخصية معنوية ذات وجود قانوني قائم بذاته وله ذمة مالية يمكنه التملك والتقاضي منفصلاً عن الذمة المالية للمالكين .</a:t>
            </a:r>
            <a:endParaRPr b="0" lang="en-US" sz="3200" spc="-1" strike="noStrike">
              <a:solidFill>
                <a:srgbClr val="000000"/>
              </a:solidFill>
              <a:latin typeface="Arial"/>
            </a:endParaRPr>
          </a:p>
          <a:p>
            <a:pPr marL="318960" indent="-318960" algn="just" rtl="1">
              <a:lnSpc>
                <a:spcPct val="115000"/>
              </a:lnSpc>
              <a:spcBef>
                <a:spcPts val="15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ساد هذا المفهوم في الفكر المحاسبي منذ أوائل القرن العشرين، بعد زيادة عدد وحجم شركات الأموال، حيث يستوي رأس المال المقترض مع رأس المال المملوك من حيث فاعليته في تحريك النشاط،  فضلاً عما نجده من تجزئة رأس المال المملوك والمقترض، وسهولة تداوله في سوق الأوراق المالية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80000"/>
          </a:bodyPr>
          <a:p>
            <a:pPr marL="487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أي أن الإطار المفاهيمي يعتبر ضرورياً لتحقيق ما يلي :-</a:t>
            </a:r>
            <a:endParaRPr b="0" lang="en-US" sz="3200" spc="-1" strike="noStrike">
              <a:solidFill>
                <a:srgbClr val="000000"/>
              </a:solidFill>
              <a:latin typeface="Arial"/>
            </a:endParaRPr>
          </a:p>
          <a:p>
            <a:pPr marL="487440" indent="0" algn="just"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87440" indent="-487440" algn="just"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تبر أساس منطقي للتوصل إلي مجموعة متسقة من الفروض والمبادئ والمعايير المحاسبية .</a:t>
            </a:r>
            <a:endParaRPr b="0" lang="en-US" sz="3200" spc="-1" strike="noStrike">
              <a:solidFill>
                <a:srgbClr val="000000"/>
              </a:solidFill>
              <a:latin typeface="Arial"/>
            </a:endParaRPr>
          </a:p>
          <a:p>
            <a:pPr marL="487440" indent="-487440" algn="just"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تبر أساس منطقي للنهوض بالتطبيق العملي من خلال تقييم المبادئ والمعايير المعمول بها حالياً واستبعاد أي ممارسات غير منطقية كما يساهم في تضييق شقة الخلاف في الممارسات العملية .</a:t>
            </a:r>
            <a:endParaRPr b="0" lang="en-US" sz="3200" spc="-1" strike="noStrike">
              <a:solidFill>
                <a:srgbClr val="000000"/>
              </a:solidFill>
              <a:latin typeface="Arial"/>
            </a:endParaRPr>
          </a:p>
          <a:p>
            <a:pPr marL="487440" indent="-487440" algn="just"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مواجهة المنطقية والسريعة لعدة قضايا فكرية أو تطبيقية تستجد في المستقبل ،وفيما يتعلق العناصر الأساسية للإطار المفاهيمي لنظرية المحاسبة فهي كما يلي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89000"/>
          </a:bodyPr>
          <a:p>
            <a:pPr marL="305280" indent="-305280" algn="just" rtl="1">
              <a:lnSpc>
                <a:spcPct val="110000"/>
              </a:lnSpc>
              <a:spcBef>
                <a:spcPts val="1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ثرة عدد الأشخاص أصحاب المصلحة في الوحدة المحاسبية ، وتغيير هويتهم في بشكل مستمر مما يجعل قيامهم جميعاً بمهام الإدارة أمراً مستحيلاً، أي أن مفهوم الشخصية المعنوية يأخذ بوجهة نظر الإدارة .</a:t>
            </a:r>
            <a:endParaRPr b="0" lang="en-US" sz="2800" spc="-1" strike="noStrike">
              <a:solidFill>
                <a:srgbClr val="000000"/>
              </a:solidFill>
              <a:latin typeface="Arial"/>
            </a:endParaRPr>
          </a:p>
          <a:p>
            <a:pPr marL="305280" indent="0" algn="just" rtl="1">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Monotype Koufi"/>
              </a:rPr>
              <a:t>وفيما يلي أهم النتائج التي تترتب على ذلك : -</a:t>
            </a:r>
            <a:endParaRPr b="0" lang="en-US" sz="2800" spc="-1" strike="noStrike">
              <a:solidFill>
                <a:srgbClr val="000000"/>
              </a:solidFill>
              <a:latin typeface="Arial"/>
            </a:endParaRPr>
          </a:p>
          <a:p>
            <a:pPr marL="305280" indent="-305280" algn="just" rtl="1">
              <a:lnSpc>
                <a:spcPct val="11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النسبة للأصول: تعتبر الأموال أو الموارد التي يستخدمها المشروع في نشاطه هي ملك المشروع باعتباره شخصية معنوية، وأن أصحاب المشروع لهم الحق على هذه الأصول متمثلاً في الأرباح عند تقديرها أو التصفية عند الانقضاء، كما أن المقرضين ( حملة السندات ) لهم الحق على هذه الأموال متمثلاً في العوائد المحققة لهم والمتفق على تحديده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96000"/>
          </a:bodyPr>
          <a:p>
            <a:pPr marL="329040" indent="-329040" algn="just" rtl="1">
              <a:lnSpc>
                <a:spcPct val="110000"/>
              </a:lnSpc>
              <a:spcBef>
                <a:spcPts val="11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النسبة للخصوم: تعتبر أموال والتزامات على المشروع ، ولا يمكن الرجوع بها على الأموال الخاصة بأصحاب المشروع .</a:t>
            </a:r>
            <a:endParaRPr b="0" lang="en-US" sz="3200" spc="-1" strike="noStrike">
              <a:solidFill>
                <a:srgbClr val="000000"/>
              </a:solidFill>
              <a:latin typeface="Arial"/>
            </a:endParaRPr>
          </a:p>
          <a:p>
            <a:pPr marL="329040" indent="-329040" algn="just" rtl="1">
              <a:lnSpc>
                <a:spcPct val="110000"/>
              </a:lnSpc>
              <a:spcBef>
                <a:spcPts val="11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النسبة لمعادلة الميزانية: تعتبر معادلة الميزانية تعبيراً عن وجهة نظر الإدارة فهي الوكيل عن أصحاب الحقوق في المشروع ، وتأخذ الشكل التالي : ( مجموع الأصول = مجموع الخصوم ) .</a:t>
            </a:r>
            <a:endParaRPr b="0" lang="en-US" sz="3200" spc="-1" strike="noStrike">
              <a:solidFill>
                <a:srgbClr val="000000"/>
              </a:solidFill>
              <a:latin typeface="Arial"/>
            </a:endParaRPr>
          </a:p>
          <a:p>
            <a:pPr marL="329040" indent="0" algn="just" rtl="1">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مجموع الأصول = مجموع الحقوق بما في ذلك الالتزامات أو </a:t>
            </a:r>
            <a:endParaRPr b="0" lang="en-US" sz="3200" spc="-1" strike="noStrike">
              <a:solidFill>
                <a:srgbClr val="000000"/>
              </a:solidFill>
              <a:latin typeface="Arial"/>
            </a:endParaRPr>
          </a:p>
          <a:p>
            <a:pPr marL="329040" indent="0" algn="just" rtl="1">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000000"/>
                </a:solidFill>
                <a:latin typeface="Arial"/>
              </a:rPr>
              <a:t>أوجه الاستخدام للأموال = مصادر الأمو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86000"/>
          </a:bodyPr>
          <a:p>
            <a:pPr marL="294840" indent="-294840" algn="just" rtl="1">
              <a:lnSpc>
                <a:spcPct val="115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النسبة للإيرادات: تعتبر الإيرادات هي مجموع القيم المالية التي تستحق للمشروع نظير تأدية خدماته أو بيع منتجاته للغير، فهي تدفقات دخل موجبة ، وليس مجرد تغيرات في حساب رأس المال .</a:t>
            </a:r>
            <a:endParaRPr b="0" lang="en-US" sz="2800" spc="-1" strike="noStrike">
              <a:solidFill>
                <a:srgbClr val="000000"/>
              </a:solidFill>
              <a:latin typeface="Arial"/>
            </a:endParaRPr>
          </a:p>
          <a:p>
            <a:pPr marL="294840" indent="-294840" algn="just" rtl="1">
              <a:lnSpc>
                <a:spcPct val="115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النسبة للمصروفات: تعتبر المصروفات هي تكلفة الحصول على الإيرادات ، أي المجهودات التي بذلت للحصول على الإيرادات مما يعني وجود العلاقة السببية بينهما ، فهي تدفقات دخل سالبة .</a:t>
            </a:r>
            <a:endParaRPr b="0" lang="en-US" sz="2800" spc="-1" strike="noStrike">
              <a:solidFill>
                <a:srgbClr val="000000"/>
              </a:solidFill>
              <a:latin typeface="Arial"/>
            </a:endParaRPr>
          </a:p>
          <a:p>
            <a:pPr marL="294840" indent="-294840" algn="just" rtl="1">
              <a:lnSpc>
                <a:spcPct val="115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النسبة لنتائج الأعمال: تعتبر محصلة المقابلة بين الإيرادات والمصروفات ، وليست مقارنة صافي الأصول بين تاريخيين متعاقبين ، أي أن الهدف قد أصبح الحكم على مدي كفاءة الإدارة في استثمار الأموال الموكلة إليها . من قبل المساهمين والمقرضين ،</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90000"/>
          </a:bodyPr>
          <a:p>
            <a:pPr marL="308520" indent="0" algn="just" rtl="1">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Monotype Koufi"/>
              </a:rPr>
              <a:t>ويلاحظ على النتائج السابقة ما يلي :- </a:t>
            </a:r>
            <a:endParaRPr b="0" lang="en-US" sz="2800" spc="-1" strike="noStrike">
              <a:solidFill>
                <a:srgbClr val="000000"/>
              </a:solidFill>
              <a:latin typeface="Arial"/>
            </a:endParaRPr>
          </a:p>
          <a:p>
            <a:pPr marL="308520" indent="-308520" algn="just" rtl="1">
              <a:spcBef>
                <a:spcPts val="17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ن وجهة نظر الشخصية المعنوية تعطي الأولوية من حيث الاهتمام لقائمة الدخل وقياس نتائج الأعمال خلافاً لمفهوم حقوق الملكية التي تعطي الأولوية من حيث الاهتمام لقائمة المركز المالي.</a:t>
            </a:r>
            <a:endParaRPr b="0" lang="en-US" sz="2800" spc="-1" strike="noStrike">
              <a:solidFill>
                <a:srgbClr val="000000"/>
              </a:solidFill>
              <a:latin typeface="Arial"/>
            </a:endParaRPr>
          </a:p>
          <a:p>
            <a:pPr marL="308520" indent="-308520" algn="just" rtl="1">
              <a:spcBef>
                <a:spcPts val="17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ناك العديد من الممارسات المحاسبية التي تعتمد في تأصيلها العلمي على اختيارنا لمفهوم معين دون الأخر، فمثلاً يعتبر استخدام طريقة الوارد أخيراً صادر أولاً </a:t>
            </a:r>
            <a:r>
              <a:rPr b="1" lang="en-US" sz="2800" spc="-1" strike="noStrike">
                <a:solidFill>
                  <a:srgbClr val="000000"/>
                </a:solidFill>
                <a:latin typeface="Arial"/>
              </a:rPr>
              <a:t>LIFO</a:t>
            </a:r>
            <a:r>
              <a:rPr b="1" lang="ar-SA" sz="2800" spc="-1" strike="noStrike">
                <a:solidFill>
                  <a:srgbClr val="000000"/>
                </a:solidFill>
                <a:latin typeface="Arial"/>
              </a:rPr>
              <a:t> أكثر اتفاقاً مع وجهة نظر مفهوم الشخصية المعنوية لأنها تؤدي إلي قياس أفضل للدخل الدوري، في حين أن طريقة الوارد أولا صادر أولاً </a:t>
            </a:r>
            <a:r>
              <a:rPr b="1" lang="en-US" sz="2800" spc="-1" strike="noStrike">
                <a:solidFill>
                  <a:srgbClr val="000000"/>
                </a:solidFill>
                <a:latin typeface="Arial"/>
              </a:rPr>
              <a:t>FIFO</a:t>
            </a:r>
            <a:r>
              <a:rPr b="1" lang="ar-SA" sz="2800" spc="-1" strike="noStrike">
                <a:solidFill>
                  <a:srgbClr val="000000"/>
                </a:solidFill>
                <a:latin typeface="Arial"/>
              </a:rPr>
              <a:t> تعتبر أكثر اتفاقاً مع وجهة نظر أصحاب المشروع ( حقوق الملكية )  لأنها تحقق قيماً لعناصر الأصول في قائمة  المركز المالي أكثر تعبيراً عن القيم الجارية لهذه الأصو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475920"/>
            <a:ext cx="8229600" cy="5832360"/>
          </a:xfrm>
          <a:prstGeom prst="rect">
            <a:avLst/>
          </a:prstGeom>
          <a:noFill/>
          <a:ln w="0">
            <a:noFill/>
          </a:ln>
        </p:spPr>
        <p:txBody>
          <a:bodyPr lIns="90000" rIns="90000" tIns="46800" bIns="46800" anchor="t">
            <a:normAutofit fontScale="82000"/>
          </a:bodyPr>
          <a:p>
            <a:pPr marL="281160" indent="-281160" algn="just" rtl="1">
              <a:lnSpc>
                <a:spcPct val="115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 تقييم الأصول من وجهة نظر أصحاب المشروع (حقوق الملكية) تتفق أكثر مع استخدام القيم الجارية، في حين أن وجهة نظر الشخصية المعنوية تتفق أكثر مع استخدام أساس التكلفة التاريخية . </a:t>
            </a:r>
            <a:endParaRPr b="0" lang="en-US" sz="2800" spc="-1" strike="noStrike">
              <a:solidFill>
                <a:srgbClr val="000000"/>
              </a:solidFill>
              <a:latin typeface="Arial"/>
            </a:endParaRPr>
          </a:p>
          <a:p>
            <a:pPr marL="281160" indent="-281160" algn="just" rtl="1">
              <a:lnSpc>
                <a:spcPct val="115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لعل من أهم النتائج المترتبة على الأخذ بمفهوم معين من مفاهيم الوحدة المحاسبية، هو ذلك الأثر الناتج عن تحديد مفهوم الربح والعناصر المكونة له، فمثلاً قد يقصد بمفهوم حقوق الملكية (أصحاب المشروع ) أصحاب الأسهم العادية والممتازة، وقد يقصد به أصحاب الحقوق المتبقية ( الأسهم العادية ) و أن هذا الاختلاف له تأثير على مفهوم مكونات الربح المحاسبي، فالربح من وجهة نظر حملة الأسهم أشمل من الربح من وجهة نظر أصحاب  الحقوق المتبقية لأن الربح</a:t>
            </a:r>
            <a:r>
              <a:rPr b="0" lang="ar-SA" sz="2800" spc="-1" strike="noStrike">
                <a:solidFill>
                  <a:srgbClr val="000000"/>
                </a:solidFill>
                <a:latin typeface="Arial"/>
              </a:rPr>
              <a:t> </a:t>
            </a:r>
            <a:r>
              <a:rPr b="1" lang="ar-SA" sz="2800" spc="-1" strike="noStrike">
                <a:solidFill>
                  <a:srgbClr val="000000"/>
                </a:solidFill>
                <a:latin typeface="Arial"/>
              </a:rPr>
              <a:t>من وجهة النظر الأخيرة تعتبر توزيعات الأسه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475920"/>
            <a:ext cx="8229600" cy="6381720"/>
          </a:xfrm>
          <a:prstGeom prst="rect">
            <a:avLst/>
          </a:prstGeom>
          <a:noFill/>
          <a:ln w="0">
            <a:noFill/>
          </a:ln>
        </p:spPr>
        <p:txBody>
          <a:bodyPr lIns="90000" rIns="90000" tIns="46800" bIns="46800" anchor="t">
            <a:normAutofit fontScale="87000"/>
          </a:bodyPr>
          <a:p>
            <a:pPr marL="298440" indent="0" algn="just" rtl="1">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الممتازة تكلفة يتعين انزالها قبل الوصول إلي الربح الصافي ،. كما قد يتسع مفهوم حقوق الملكية بحيث يشمل المستثمرين على اختلاف طوائفهم مثل حملة الأسهم العادية، حملة الأسهم الممتازة، حملة السندات أو أصحاب القروض طويلة الأجل، وفي هذه الحالة يعتبر الربح الصافي هو الربح الذي يتم التوصل إليه قبل خصم فوائد السندات أو فوائد القروض طويلة الأجل حيث يعتبر في هذه الحالة توزيعاً للربح وليست من عناصر المصروفات،.</a:t>
            </a:r>
            <a:endParaRPr b="0" lang="en-US" sz="2800" spc="-1" strike="noStrike">
              <a:solidFill>
                <a:srgbClr val="000000"/>
              </a:solidFill>
              <a:latin typeface="Arial"/>
            </a:endParaRPr>
          </a:p>
          <a:p>
            <a:pPr marL="298440" indent="-298440" algn="just" rtl="1">
              <a:lnSpc>
                <a:spcPct val="110000"/>
              </a:lnSpc>
              <a:spcBef>
                <a:spcPts val="10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 مفهوم الشخصية المعنوية يركز على المنشأة ككل وليس على الإدارة حيث ينظر إلي الوحدة المحاسبية على أنها تنظيم اجتماعي يسعى لتحقيق مصالح أطراف عديدة تتمثل في الملاك، المقرضين، الحكومة، العاملين ، الإدارة، المجتمع، أي أنه نواة المحاسبية عن المسؤولية الاجتماع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475920"/>
            <a:ext cx="8229600" cy="6381720"/>
          </a:xfrm>
          <a:prstGeom prst="rect">
            <a:avLst/>
          </a:prstGeom>
          <a:noFill/>
          <a:ln w="0">
            <a:noFill/>
          </a:ln>
        </p:spPr>
        <p:txBody>
          <a:bodyPr lIns="90000" rIns="90000" tIns="46800" bIns="46800" anchor="t">
            <a:normAutofit fontScale="87000"/>
          </a:bodyPr>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onotype Koufi"/>
              </a:rPr>
              <a:t>3</a:t>
            </a:r>
            <a:r>
              <a:rPr b="1" lang="ar-SA" sz="3200" spc="-1" strike="noStrike">
                <a:solidFill>
                  <a:srgbClr val="000099"/>
                </a:solidFill>
                <a:latin typeface="Arial"/>
                <a:ea typeface="Monotype Koufi"/>
              </a:rPr>
              <a:t>. مفهوم الإعتمادات أو الأموال المخصصة :-</a:t>
            </a:r>
            <a:endParaRPr b="0" lang="en-US" sz="3200" spc="-1" strike="noStrike">
              <a:solidFill>
                <a:srgbClr val="000000"/>
              </a:solidFill>
              <a:latin typeface="Arial"/>
            </a:endParaRPr>
          </a:p>
          <a:p>
            <a:pPr marL="298440" indent="-298440" algn="just" rtl="1">
              <a:lnSpc>
                <a:spcPct val="115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تبر هذا المفهوم التفسير المناسب لطبيعة الوحدات الإدارية التي تمثل الجهاز الإداري والحكومي للدولة. </a:t>
            </a:r>
            <a:endParaRPr b="0" lang="en-US" sz="3200" spc="-1" strike="noStrike">
              <a:solidFill>
                <a:srgbClr val="000000"/>
              </a:solidFill>
              <a:latin typeface="Arial"/>
            </a:endParaRPr>
          </a:p>
          <a:p>
            <a:pPr marL="298440" indent="-298440" algn="just" rtl="1">
              <a:lnSpc>
                <a:spcPct val="115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 الوحدة الإدارية ليست ذات شخصية معنوية مستقلة بدليل أن الفائض أو العجز في أموال الوحدة  يتم تسويته عن طريق الخزانة العامة.</a:t>
            </a:r>
            <a:endParaRPr b="0" lang="en-US" sz="3200" spc="-1" strike="noStrike">
              <a:solidFill>
                <a:srgbClr val="000000"/>
              </a:solidFill>
              <a:latin typeface="Arial"/>
            </a:endParaRPr>
          </a:p>
          <a:p>
            <a:pPr marL="298440" indent="-298440" algn="just" rtl="1">
              <a:lnSpc>
                <a:spcPct val="115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ا توجد علاقة السببية بشكل قاطع بين الإيرادات والمصروفات كما ليست للوحدة الإدارية رأس مال بالمفهوم التجاري المألوف ، وفيما يلي أهم النتائج المترتبة على الأخذ بهذا المفهوم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93000"/>
          </a:bodyPr>
          <a:p>
            <a:pPr marL="318960" indent="-318960" algn="just" rtl="1">
              <a:lnSpc>
                <a:spcPct val="120000"/>
              </a:lnSpc>
              <a:spcBef>
                <a:spcPts val="17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بالنسبة لطبيعة الوحدة المحاسبية:</a:t>
            </a:r>
            <a:r>
              <a:rPr b="1" lang="ar-SA" sz="2800" spc="-1" strike="noStrike">
                <a:solidFill>
                  <a:srgbClr val="000000"/>
                </a:solidFill>
                <a:latin typeface="Arial"/>
              </a:rPr>
              <a:t> تعرف الوحدة المحاسبية بأنها مجموعة من الأموال المخصصة لتأدية نشاط معين، بموجب قيود محددة على قيمة كل مصروف ومجال إنفاقه ، فهي بذلك مجرد اعتماد مالي .</a:t>
            </a:r>
            <a:endParaRPr b="0" lang="en-US" sz="2800" spc="-1" strike="noStrike">
              <a:solidFill>
                <a:srgbClr val="000000"/>
              </a:solidFill>
              <a:latin typeface="Arial"/>
            </a:endParaRPr>
          </a:p>
          <a:p>
            <a:pPr marL="318960" indent="-318960" algn="just" rtl="1">
              <a:lnSpc>
                <a:spcPct val="120000"/>
              </a:lnSpc>
              <a:spcBef>
                <a:spcPts val="17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بالنسبة للأصول:</a:t>
            </a:r>
            <a:r>
              <a:rPr b="1" lang="ar-SA" sz="2800" spc="-1" strike="noStrike">
                <a:solidFill>
                  <a:srgbClr val="000000"/>
                </a:solidFill>
                <a:latin typeface="Arial"/>
              </a:rPr>
              <a:t> هي مجموعة من الموارد المعتمدة للوحدة لاستخدامها في مجال محدد، فهي عبارة عن إيرادات مستحقة .</a:t>
            </a:r>
            <a:endParaRPr b="0" lang="en-US" sz="2800" spc="-1" strike="noStrike">
              <a:solidFill>
                <a:srgbClr val="000000"/>
              </a:solidFill>
              <a:latin typeface="Arial"/>
            </a:endParaRPr>
          </a:p>
          <a:p>
            <a:pPr marL="318960" indent="-318960" algn="just" rtl="1">
              <a:lnSpc>
                <a:spcPct val="120000"/>
              </a:lnSpc>
              <a:spcBef>
                <a:spcPts val="17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بالنسبة للخصوم :</a:t>
            </a:r>
            <a:r>
              <a:rPr b="1" lang="ar-SA" sz="2800" spc="-1" strike="noStrike">
                <a:solidFill>
                  <a:srgbClr val="000000"/>
                </a:solidFill>
                <a:latin typeface="Arial"/>
              </a:rPr>
              <a:t> وهي تتمثل في الاعتمادات المحددة لكافة مجالات الإنفاق المختلفة ، فهي مصروفات مستحقة خلال الفترة المحاسبية وفقاً للقيود الموضوعة على المصروف ومجال إنفاق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81000"/>
          </a:bodyPr>
          <a:p>
            <a:pPr marL="277560" indent="-277560" algn="just" rtl="1">
              <a:lnSpc>
                <a:spcPct val="11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بالنسبة لمعادلة الميزانية:</a:t>
            </a:r>
            <a:r>
              <a:rPr b="1" lang="ar-SA" sz="3200" spc="-1" strike="noStrike">
                <a:solidFill>
                  <a:srgbClr val="000000"/>
                </a:solidFill>
                <a:latin typeface="Arial"/>
              </a:rPr>
              <a:t> حسب التعريفات السابقة تكون : </a:t>
            </a:r>
            <a:endParaRPr b="0" lang="en-US" sz="3200" spc="-1" strike="noStrike">
              <a:solidFill>
                <a:srgbClr val="000000"/>
              </a:solidFill>
              <a:latin typeface="Arial"/>
            </a:endParaRPr>
          </a:p>
          <a:p>
            <a:pPr marL="277560" indent="0" algn="just" rtl="1">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الموارد المعتمدة والمقرر تحصيلها (إيرادات مستحقة) = الاعتماد المخصصة (مصروفات مستحقة).</a:t>
            </a:r>
            <a:endParaRPr b="0" lang="en-US" sz="3200" spc="-1" strike="noStrike">
              <a:solidFill>
                <a:srgbClr val="000000"/>
              </a:solidFill>
              <a:latin typeface="Arial"/>
            </a:endParaRPr>
          </a:p>
          <a:p>
            <a:pPr marL="277560" indent="-277560" algn="just" rtl="1">
              <a:lnSpc>
                <a:spcPct val="11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بالنسبة للإيرادات والمصروفات:</a:t>
            </a:r>
            <a:r>
              <a:rPr b="1" lang="ar-SA" sz="3200" spc="-1" strike="noStrike">
                <a:solidFill>
                  <a:srgbClr val="000000"/>
                </a:solidFill>
                <a:latin typeface="Arial"/>
              </a:rPr>
              <a:t> تمثل إيرادات الوحدة ذلك الجزء من الإيرادات الذي تم تحصيله من الإيرادات المقررة، أما المصروفات فتمثل ذلك الجزء الذي تم إنفاقه فعلاً من الإعتمادات المخصصة .</a:t>
            </a:r>
            <a:endParaRPr b="0" lang="en-US" sz="3200" spc="-1" strike="noStrike">
              <a:solidFill>
                <a:srgbClr val="000000"/>
              </a:solidFill>
              <a:latin typeface="Arial"/>
            </a:endParaRPr>
          </a:p>
          <a:p>
            <a:pPr marL="277560" indent="-277560" algn="just" rtl="1">
              <a:lnSpc>
                <a:spcPct val="11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بالنسبة لنتائج الأعمال:</a:t>
            </a:r>
            <a:r>
              <a:rPr b="1" lang="ar-SA" sz="3200" spc="-1" strike="noStrike">
                <a:solidFill>
                  <a:srgbClr val="000000"/>
                </a:solidFill>
                <a:latin typeface="Arial"/>
              </a:rPr>
              <a:t> يركز المفهوم على مدي التزام الوحدة المحاسبية وتقيدها بالحدود المقررة في استخدام الموارد المخصصة حسب الإعتماد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620640"/>
            <a:ext cx="8229600" cy="6237360"/>
          </a:xfrm>
          <a:prstGeom prst="rect">
            <a:avLst/>
          </a:prstGeom>
          <a:noFill/>
          <a:ln w="0">
            <a:noFill/>
          </a:ln>
        </p:spPr>
        <p:txBody>
          <a:bodyPr lIns="90000" rIns="90000" tIns="46800" bIns="46800" anchor="t">
            <a:normAutofit fontScale="87000"/>
          </a:bodyPr>
          <a:p>
            <a:pPr marL="298440" indent="0" algn="just" rtl="1">
              <a:lnSpc>
                <a:spcPct val="1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Monotype Koufi"/>
              </a:rPr>
              <a:t>	</a:t>
            </a:r>
            <a:r>
              <a:rPr b="1" lang="hi-IN" sz="3200" spc="-1" strike="noStrike">
                <a:solidFill>
                  <a:srgbClr val="000099"/>
                </a:solidFill>
                <a:latin typeface="Arial"/>
                <a:cs typeface="Monotype Koufi"/>
              </a:rPr>
              <a:t>ثالثاً: مفاهيم جودة المعلومات المحاسبية :-</a:t>
            </a:r>
            <a:endParaRPr b="0" lang="en-US" sz="3200" spc="-1" strike="noStrike">
              <a:solidFill>
                <a:srgbClr val="000000"/>
              </a:solidFill>
              <a:latin typeface="Arial"/>
            </a:endParaRPr>
          </a:p>
          <a:p>
            <a:pPr marL="298440" indent="0" algn="just" rtl="1">
              <a:lnSpc>
                <a:spcPct val="1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hi-IN" sz="3200" spc="-1" strike="noStrike">
                <a:solidFill>
                  <a:srgbClr val="000000"/>
                </a:solidFill>
                <a:latin typeface="Arial"/>
              </a:rPr>
              <a:t>تعرضنا فيما سبق إلى تحديد أهداف التقارير المالية باعتبارها نقطة البداية في تطبيق منهج فائدة المعلومات، حيث أن تحديد الأهداف يؤدي إلي تحديد وتقييم البدائل المحاسبية التي يتم المفاضلة بينها لاختيار أفضل الطرق والأساليب المناسبة للقياس والإفصاح .</a:t>
            </a:r>
            <a:endParaRPr b="0" lang="en-US" sz="3200" spc="-1" strike="noStrike">
              <a:solidFill>
                <a:srgbClr val="000000"/>
              </a:solidFill>
              <a:latin typeface="Arial"/>
            </a:endParaRPr>
          </a:p>
          <a:p>
            <a:pPr marL="298440" indent="0" algn="just" rtl="1">
              <a:lnSpc>
                <a:spcPct val="1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hi-IN" sz="3200" spc="-1" strike="noStrike">
                <a:solidFill>
                  <a:srgbClr val="000099"/>
                </a:solidFill>
                <a:latin typeface="Arial"/>
              </a:rPr>
              <a:t>كما أنه بعد تحديد مفاهيم الوحدة المحاسبية، يلزم الأمر تحديد مفاهيم جودة المعلومات المحاسبية، ويقصد بجودة المعلومات المحاسب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77000"/>
          </a:bodyPr>
          <a:p>
            <a:pPr lvl="1" marL="572040" indent="-219960" algn="r" rtl="1">
              <a:lnSpc>
                <a:spcPct val="175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فاهيم الخاصة بأهداف التقارير المالية .</a:t>
            </a:r>
            <a:endParaRPr b="0" lang="en-US" sz="3200" spc="-1" strike="noStrike">
              <a:solidFill>
                <a:srgbClr val="000000"/>
              </a:solidFill>
              <a:latin typeface="Arial"/>
            </a:endParaRPr>
          </a:p>
          <a:p>
            <a:pPr lvl="1" marL="572040" indent="-219960" algn="r" rtl="1">
              <a:lnSpc>
                <a:spcPct val="175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فاهيم الخاصة بطبيعة الوحدة المحاسبية .</a:t>
            </a:r>
            <a:endParaRPr b="0" lang="en-US" sz="3200" spc="-1" strike="noStrike">
              <a:solidFill>
                <a:srgbClr val="000000"/>
              </a:solidFill>
              <a:latin typeface="Arial"/>
            </a:endParaRPr>
          </a:p>
          <a:p>
            <a:pPr lvl="1" marL="572040" indent="-219960" algn="r" rtl="1">
              <a:lnSpc>
                <a:spcPct val="175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فاهيم الخاصة بجودة المعلومات المحاسبية .</a:t>
            </a:r>
            <a:endParaRPr b="0" lang="en-US" sz="3200" spc="-1" strike="noStrike">
              <a:solidFill>
                <a:srgbClr val="000000"/>
              </a:solidFill>
              <a:latin typeface="Arial"/>
            </a:endParaRPr>
          </a:p>
          <a:p>
            <a:pPr lvl="1" marL="572040" indent="-219960" algn="r" rtl="1">
              <a:lnSpc>
                <a:spcPct val="175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فاهيم الخاصة بالقوائم المالية الأساسية .</a:t>
            </a:r>
            <a:endParaRPr b="0" lang="en-US" sz="3200" spc="-1" strike="noStrike">
              <a:solidFill>
                <a:srgbClr val="000000"/>
              </a:solidFill>
              <a:latin typeface="Arial"/>
            </a:endParaRPr>
          </a:p>
          <a:p>
            <a:pPr lvl="1" marL="572040" indent="-219960" algn="r" rtl="1">
              <a:lnSpc>
                <a:spcPct val="175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فاهيم الخاصة بعناصر القوائم المال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333360"/>
            <a:ext cx="8229600" cy="630864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تلك الخصائص التي يجب أن تتسم بها المعلومات المحاسبية المفيدة "، أي جودة المعلومات المحاسبية تتحدد في ضوء :</a:t>
            </a: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000000"/>
                </a:solidFill>
                <a:latin typeface="Arial"/>
              </a:rPr>
              <a:t>- ملاءمة المعلومات </a:t>
            </a:r>
            <a:r>
              <a:rPr b="1" lang="en-US" sz="3200" spc="-1" strike="noStrike">
                <a:solidFill>
                  <a:srgbClr val="000000"/>
                </a:solidFill>
                <a:latin typeface="Arial"/>
              </a:rPr>
              <a:t>relevance</a:t>
            </a:r>
            <a:r>
              <a:rPr b="1" lang="ar-SA" sz="3200" spc="-1" strike="noStrike">
                <a:solidFill>
                  <a:srgbClr val="000000"/>
                </a:solidFill>
                <a:latin typeface="Arial"/>
              </a:rPr>
              <a:t> .</a:t>
            </a: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000000"/>
                </a:solidFill>
                <a:latin typeface="Arial"/>
              </a:rPr>
              <a:t>- درجة الثقة </a:t>
            </a:r>
            <a:r>
              <a:rPr b="1" lang="en-US" sz="3200" spc="-1" strike="noStrike">
                <a:solidFill>
                  <a:srgbClr val="000000"/>
                </a:solidFill>
                <a:latin typeface="Arial"/>
              </a:rPr>
              <a:t>reliability</a:t>
            </a:r>
            <a:r>
              <a:rPr b="1" lang="en-US" sz="3200" spc="-1" strike="noStrike">
                <a:solidFill>
                  <a:srgbClr val="000000"/>
                </a:solidFill>
                <a:latin typeface="Arial"/>
              </a:rPr>
              <a:t> </a:t>
            </a:r>
            <a:r>
              <a:rPr b="1" lang="ar-SA" sz="3200" spc="-1" strike="noStrike">
                <a:solidFill>
                  <a:srgbClr val="000000"/>
                </a:solidFill>
                <a:latin typeface="Arial"/>
              </a:rPr>
              <a:t>.</a:t>
            </a:r>
            <a:endParaRPr b="0" lang="en-US" sz="3200" spc="-1" strike="noStrike">
              <a:solidFill>
                <a:srgbClr val="000000"/>
              </a:solidFill>
              <a:latin typeface="Arial"/>
            </a:endParaRPr>
          </a:p>
          <a:p>
            <a:pPr marL="305280" indent="-305280" algn="r" rtl="1">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في المقابل هناك خصائص أخري تتعلق بمتخذي القرارات (مستخدمي التقارير) مثل :</a:t>
            </a:r>
            <a:endParaRPr b="0" lang="en-US" sz="3200" spc="-1" strike="noStrike">
              <a:solidFill>
                <a:srgbClr val="000000"/>
              </a:solidFill>
              <a:latin typeface="Arial"/>
            </a:endParaRPr>
          </a:p>
          <a:p>
            <a:pPr lvl="1" marL="660960" indent="-25416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جال استخدام القرارات وطبيعة المشكلة التي يواجهها .</a:t>
            </a:r>
            <a:endParaRPr b="0" lang="en-US" sz="2800" spc="-1" strike="noStrike">
              <a:solidFill>
                <a:srgbClr val="000000"/>
              </a:solidFill>
              <a:latin typeface="Arial"/>
            </a:endParaRPr>
          </a:p>
          <a:p>
            <a:pPr lvl="1" marL="660960" indent="-25416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طبيعة ومصادر المعلومات التي يحتاجونها .</a:t>
            </a:r>
            <a:endParaRPr b="0" lang="en-US" sz="2800" spc="-1" strike="noStrike">
              <a:solidFill>
                <a:srgbClr val="000000"/>
              </a:solidFill>
              <a:latin typeface="Arial"/>
            </a:endParaRPr>
          </a:p>
          <a:p>
            <a:pPr lvl="1" marL="660960" indent="-25416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طبيعة النموذج القراري المستخدم .</a:t>
            </a:r>
            <a:endParaRPr b="0" lang="en-US" sz="2800" spc="-1" strike="noStrike">
              <a:solidFill>
                <a:srgbClr val="000000"/>
              </a:solidFill>
              <a:latin typeface="Arial"/>
            </a:endParaRPr>
          </a:p>
          <a:p>
            <a:pPr lvl="1" marL="660960" indent="-25416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قدار ونوعية المعلومات المتوفرة .</a:t>
            </a:r>
            <a:endParaRPr b="0" lang="en-US" sz="2800" spc="-1" strike="noStrike">
              <a:solidFill>
                <a:srgbClr val="000000"/>
              </a:solidFill>
              <a:latin typeface="Arial"/>
            </a:endParaRPr>
          </a:p>
          <a:p>
            <a:pPr lvl="1" marL="660960" indent="-25416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درة متخذ القرارات على تحليل المعلومات .</a:t>
            </a:r>
            <a:endParaRPr b="0" lang="en-US" sz="2800" spc="-1" strike="noStrike">
              <a:solidFill>
                <a:srgbClr val="000000"/>
              </a:solidFill>
              <a:latin typeface="Arial"/>
            </a:endParaRPr>
          </a:p>
          <a:p>
            <a:pPr lvl="1" marL="660960" indent="-25416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ستوي الفهم والإدراك المتوفر لدي متخذ القرا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26880"/>
            <a:ext cx="8229600" cy="612648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هناك علاقة متداخلة بين الخصائص الذاتية للمعلومات وبين خصائص مستخدمي هذه التقارير ، فبالنسبة للخصائص الذاتية للمعلومات فإنه يتفرع منها خصائص فرعية أهمها:-</a:t>
            </a:r>
            <a:endParaRPr b="0" lang="en-US" sz="3200" spc="-1" strike="noStrike">
              <a:solidFill>
                <a:srgbClr val="000000"/>
              </a:solidFill>
              <a:latin typeface="Arial"/>
            </a:endParaRPr>
          </a:p>
          <a:p>
            <a:pPr lvl="1" marL="623880" indent="-239760" algn="just"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قدرة المعلومات على التنبؤ والتقييم .</a:t>
            </a:r>
            <a:endParaRPr b="0" lang="en-US" sz="2800" spc="-1" strike="noStrike">
              <a:solidFill>
                <a:srgbClr val="000000"/>
              </a:solidFill>
              <a:latin typeface="Arial"/>
            </a:endParaRPr>
          </a:p>
          <a:p>
            <a:pPr lvl="1" marL="623880" indent="-239760" algn="just"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 تعبر المعلومات بصدق عن الأحداث والظواهر التي وقعت .</a:t>
            </a:r>
            <a:endParaRPr b="0" lang="en-US" sz="2800" spc="-1" strike="noStrike">
              <a:solidFill>
                <a:srgbClr val="000000"/>
              </a:solidFill>
              <a:latin typeface="Arial"/>
            </a:endParaRPr>
          </a:p>
          <a:p>
            <a:pPr lvl="1" marL="623880" indent="-239760" algn="just"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 تكون هذه المعلومات قابلة للإثبات بمعني أنه بالإمكان التحقق من سلامتها مما يتطلب قدراً كبيراً من الحياد في مجال القياس والإفصاح .</a:t>
            </a:r>
            <a:endParaRPr b="0" lang="en-US" sz="2800" spc="-1" strike="noStrike">
              <a:solidFill>
                <a:srgbClr val="000000"/>
              </a:solidFill>
              <a:latin typeface="Arial"/>
            </a:endParaRPr>
          </a:p>
          <a:p>
            <a:pPr lvl="1" marL="623880" indent="-239760" algn="just"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 تكون قابلة للمقارنة وما يتطلبه ذلك من ثبات في تطبيق الطرق والأساليب المحاسبية ،وعادة تتم هذه المقارنة بين نتائج الفترات لنفس الوحدة المحاسبية أو المقارنة بين نتائج الوحدات المحاسبية المختلفة .</a:t>
            </a:r>
            <a:endParaRPr b="0" lang="en-US" sz="2800" spc="-1" strike="noStrike">
              <a:solidFill>
                <a:srgbClr val="000000"/>
              </a:solidFill>
              <a:latin typeface="Arial"/>
            </a:endParaRPr>
          </a:p>
          <a:p>
            <a:pPr lvl="1" marL="623880" indent="-239760" algn="just"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توقيت إعداد المعلومات أي إعداد المعلومات بحيث تصل إلي مستخدميها في الوقت المناس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fontScale="85000"/>
          </a:bodyPr>
          <a:p>
            <a:pPr marL="291600" indent="0" algn="just" rtl="1">
              <a:lnSpc>
                <a:spcPct val="10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ea typeface="Monotype Koufi"/>
              </a:rPr>
              <a:t>* مفهوم الملاءمة والثقة :-</a:t>
            </a:r>
            <a:endParaRPr b="0" lang="en-US" sz="3200" spc="-1" strike="noStrike">
              <a:solidFill>
                <a:srgbClr val="000000"/>
              </a:solidFill>
              <a:latin typeface="Arial"/>
            </a:endParaRPr>
          </a:p>
          <a:p>
            <a:pPr marL="291600" indent="0" algn="just" rtl="1">
              <a:lnSpc>
                <a:spcPct val="10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u="sng">
                <a:solidFill>
                  <a:srgbClr val="000099"/>
                </a:solidFill>
                <a:uFillTx/>
                <a:latin typeface="Arial"/>
              </a:rPr>
              <a:t>يقصد بالملائمة</a:t>
            </a:r>
            <a:r>
              <a:rPr b="1" lang="ar-SA" sz="2800" spc="-1" strike="noStrike">
                <a:solidFill>
                  <a:srgbClr val="000000"/>
                </a:solidFill>
                <a:latin typeface="Arial"/>
              </a:rPr>
              <a:t> هو قدرة المعلومات على إحداث تغيير في اتجاه قرار مستخدم معين ليس لديه علم مسبق بهذه المعلومات .</a:t>
            </a:r>
            <a:endParaRPr b="0" lang="en-US" sz="2800" spc="-1" strike="noStrike">
              <a:solidFill>
                <a:srgbClr val="000000"/>
              </a:solidFill>
              <a:latin typeface="Arial"/>
            </a:endParaRPr>
          </a:p>
          <a:p>
            <a:pPr marL="291600" indent="0" algn="just" rtl="1">
              <a:lnSpc>
                <a:spcPct val="10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وبتطبيق مفهوم الملاءمة على التقارير المالية، فإن التقارير الصادرة سوف تعمل على تكوين توقعات عن النتائج المتعلقة بالفترة المستقبلية استناداً على أحداث الماضي والحاضر ، أما إذا كان لدي مستخدمي التقارير توقعات قائمة بالفعل وقت حصولهم على المعلومات ، فإن ملائمة هذه المعلومات تعني في هذه الحالة قدرتها على تعزيز ( </a:t>
            </a:r>
            <a:r>
              <a:rPr b="1" lang="en-US" sz="2800" spc="-1" strike="noStrike">
                <a:solidFill>
                  <a:srgbClr val="000000"/>
                </a:solidFill>
                <a:latin typeface="Arial"/>
              </a:rPr>
              <a:t>SONFIRMATION</a:t>
            </a:r>
            <a:r>
              <a:rPr b="1" lang="ar-SA" sz="2800" spc="-1" strike="noStrike">
                <a:solidFill>
                  <a:srgbClr val="000000"/>
                </a:solidFill>
                <a:latin typeface="Arial"/>
              </a:rPr>
              <a:t> ) التوقعات الحالية أو أحداث تغيرات في هذه التوقعات وفي كلتا الحالتين تعتبر المعلومات المحاسبية معلومات ملائمة لأنها أدت إلي تغيير درجة التأكد بالنسبة للقرار محل الدراسة وهناك ثلاث مقومات لخاصية الملاءمة ه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a:bodyPr>
          <a:p>
            <a:pPr lvl="1" marL="743040" indent="-285840" algn="r" rtl="1">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التنبؤ بالمستقبل .</a:t>
            </a:r>
            <a:endParaRPr b="0" lang="en-US" sz="2800" spc="-1" strike="noStrike">
              <a:solidFill>
                <a:srgbClr val="000000"/>
              </a:solidFill>
              <a:latin typeface="Arial"/>
            </a:endParaRPr>
          </a:p>
          <a:p>
            <a:pPr lvl="1" marL="743040" indent="-285840" algn="r" rtl="1">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التقييم الإرتدادي للتنبؤات السابقة .</a:t>
            </a:r>
            <a:endParaRPr b="0" lang="en-US" sz="2800" spc="-1" strike="noStrike">
              <a:solidFill>
                <a:srgbClr val="000000"/>
              </a:solidFill>
              <a:latin typeface="Arial"/>
            </a:endParaRPr>
          </a:p>
          <a:p>
            <a:pPr lvl="1" marL="743040" indent="-285840" algn="r" rtl="1">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زامن (التوقيت الملائم) .</a:t>
            </a:r>
            <a:endParaRPr b="0" lang="en-US" sz="2800" spc="-1" strike="noStrike">
              <a:solidFill>
                <a:srgbClr val="000000"/>
              </a:solidFill>
              <a:latin typeface="Arial"/>
            </a:endParaRPr>
          </a:p>
          <a:p>
            <a:pPr marL="343080" indent="0" algn="r" rtl="1">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a:p>
            <a:pPr marL="343080" indent="-343080" algn="just" rtl="1">
              <a:lnSpc>
                <a:spcPct val="12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فيما يتعلق بالمفهوم الأول يجب أن تكون المعلومات قادرة على تحسين قدرة متخذ  القرار على التنبؤ بالنتائج المتوقعة في المستقبل أو أن تؤدي إلي تصحيح أو تعزيز توقعاته الحال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fontScale="83000"/>
          </a:bodyPr>
          <a:p>
            <a:pPr marL="284400" indent="-284400" algn="just" rtl="1">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فيما يتعلق بمفهوم التقييم الارتدادي فيقصد بها مساعدة مستخدم المعلومات في تقييم مدي صحة التوقعات السابقة ، وبالتالي تقييم نتائج القرارات التي بنيت على هذه التوقعات، فمن المعلوم أن الوقوف على نتائج الماضي وتقييم اتجاهاتها سوف يكون مفيداً بالتنبؤ نحو المستقبل ، ومن أمثلة المعلومات المحاسبية التي  تتميز بالقدرة على التقييم الارتدادي لنتائج القرارات الماضية، وفي نفس الوقت لها قدرة تنبؤية عالية بالنسبة للمستقبل سوف نجدها في التقارير المرحلية </a:t>
            </a:r>
            <a:r>
              <a:rPr b="1" lang="en-US" sz="3200" spc="-1" strike="noStrike">
                <a:solidFill>
                  <a:srgbClr val="000000"/>
                </a:solidFill>
                <a:latin typeface="Arial"/>
              </a:rPr>
              <a:t>INTERIM REPORTS</a:t>
            </a:r>
            <a:r>
              <a:rPr b="1" lang="ar-SA" sz="3200" spc="-1" strike="noStrike">
                <a:solidFill>
                  <a:srgbClr val="000000"/>
                </a:solidFill>
                <a:latin typeface="Arial"/>
              </a:rPr>
              <a:t>والتقارير القطاعية </a:t>
            </a:r>
            <a:r>
              <a:rPr b="1" lang="en-US" sz="3200" spc="-1" strike="noStrike">
                <a:solidFill>
                  <a:srgbClr val="000000"/>
                </a:solidFill>
                <a:latin typeface="Arial"/>
              </a:rPr>
              <a:t>SEGMENTAL REPORTING</a:t>
            </a:r>
            <a:r>
              <a:rPr b="1" lang="ar-SA" sz="3200" spc="-1" strike="noStrike">
                <a:solidFill>
                  <a:srgbClr val="000000"/>
                </a:solidFill>
                <a:latin typeface="Arial"/>
              </a:rPr>
              <a:t> ،حيث أثبتت الدراسات الميدانية قدرة فاعلية هذه التقارير في مجال تخفيض درجة عدم التأك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8000"/>
          </a:bodyPr>
          <a:p>
            <a:pPr marL="301680" indent="-301680" algn="r"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ما بالنسبة لمفهوم التزامن (التوقيت الملائم ) فيقصد به توفير المعلومات في حينه أي قبل أن تفقد أهميتها وقدرتها على التأثير  في عملية اتخاذ القرارات، وبالتطبيق في مجال التقارير المالية هناك جانبان لخاصية التوقيت:-</a:t>
            </a:r>
            <a:endParaRPr b="0" lang="en-US" sz="3200" spc="-1" strike="noStrike">
              <a:solidFill>
                <a:srgbClr val="000000"/>
              </a:solidFill>
              <a:latin typeface="Arial"/>
            </a:endParaRPr>
          </a:p>
          <a:p>
            <a:pPr marL="301680" indent="0" algn="r"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دورية التقارير بمعني طول أو قصر الفترة التي يلزم إعداد تقرير عنها .</a:t>
            </a:r>
            <a:endParaRPr b="0" lang="en-US" sz="3200" spc="-1" strike="noStrike">
              <a:solidFill>
                <a:srgbClr val="000000"/>
              </a:solidFill>
              <a:latin typeface="Arial"/>
            </a:endParaRPr>
          </a:p>
          <a:p>
            <a:pPr marL="301680" indent="0" algn="r"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المدة التي تنقضي بين نهاية الفترة التي تعد عنها التقارير وبين تاريخ إصدار هذه التقاري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259920"/>
            <a:ext cx="8229600" cy="6381720"/>
          </a:xfrm>
          <a:prstGeom prst="rect">
            <a:avLst/>
          </a:prstGeom>
          <a:noFill/>
          <a:ln w="0">
            <a:noFill/>
          </a:ln>
        </p:spPr>
        <p:txBody>
          <a:bodyPr lIns="90000" rIns="90000" tIns="46800" bIns="46800" anchor="t">
            <a:normAutofit fontScale="91000"/>
          </a:bodyPr>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Monotype Koufi"/>
              </a:rPr>
              <a:t>* مفهوم الثقة  :-</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مفهوم الثقة يقصد به أمانة المعلومات وإمكانية الاعتماد عليها و ترتكز على ثلاث مقومات هي :-</a:t>
            </a:r>
            <a:endParaRPr b="0" lang="en-US" sz="2800" spc="-1" strike="noStrike">
              <a:solidFill>
                <a:srgbClr val="000000"/>
              </a:solidFill>
              <a:latin typeface="Arial"/>
            </a:endParaRPr>
          </a:p>
          <a:p>
            <a:pPr marL="312120" indent="-312120" algn="r" rtl="1">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صدق في التعبير .</a:t>
            </a:r>
            <a:endParaRPr b="0" lang="en-US" sz="2800" spc="-1" strike="noStrike">
              <a:solidFill>
                <a:srgbClr val="000000"/>
              </a:solidFill>
              <a:latin typeface="Arial"/>
            </a:endParaRPr>
          </a:p>
          <a:p>
            <a:pPr marL="312120" indent="-312120" algn="r" rtl="1">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مكانية التثبت من المعلومات .</a:t>
            </a:r>
            <a:endParaRPr b="0" lang="en-US" sz="2800" spc="-1" strike="noStrike">
              <a:solidFill>
                <a:srgbClr val="000000"/>
              </a:solidFill>
              <a:latin typeface="Arial"/>
            </a:endParaRPr>
          </a:p>
          <a:p>
            <a:pPr marL="312120" indent="-312120" algn="r" rtl="1">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حيدة المعلومات .</a:t>
            </a:r>
            <a:endParaRPr b="0" lang="en-US" sz="2800" spc="-1" strike="noStrike">
              <a:solidFill>
                <a:srgbClr val="000000"/>
              </a:solidFill>
              <a:latin typeface="Arial"/>
            </a:endParaRPr>
          </a:p>
          <a:p>
            <a:pPr marL="312120" indent="-312120" algn="just" rtl="1">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قصد بمفهوم الصدق هو وجود درجة عالية من التطابق بين المقاييس المطبقة والظواهر المراد التقرير عنها، فالعبرة بصدق تمثيل المضمون (الجوهر) وليس مجرد الشكل، فالصدق في  التعبير عن الواقع الاقتصادي فمثلاً يتم الإفصاح عن معامل الخطأ الذي قد يصاحب الأرقام المحاسبية، فخاصية الصدق تتطلب تجنب نوعين من أنواع التحيز هما:-</a:t>
            </a:r>
            <a:endParaRPr b="0" lang="en-US" sz="2800" spc="-1" strike="noStrike">
              <a:solidFill>
                <a:srgbClr val="000000"/>
              </a:solidFill>
              <a:latin typeface="Arial"/>
            </a:endParaRPr>
          </a:p>
          <a:p>
            <a:pPr lvl="1" marL="676080" indent="-2599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حيز في سياسة الحيطة والحذر .</a:t>
            </a:r>
            <a:endParaRPr b="0" lang="en-US" sz="2400" spc="-1" strike="noStrike">
              <a:solidFill>
                <a:srgbClr val="000000"/>
              </a:solidFill>
              <a:latin typeface="Arial"/>
            </a:endParaRPr>
          </a:p>
          <a:p>
            <a:pPr lvl="1" marL="676080" indent="-2599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حيز من قبل القائم بعملية القياس، كما في حالة عدم الأمانة أو في حالة نقص المعرفة والخبر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475920"/>
            <a:ext cx="8229600" cy="6381720"/>
          </a:xfrm>
          <a:prstGeom prst="rect">
            <a:avLst/>
          </a:prstGeom>
          <a:noFill/>
          <a:ln w="0">
            <a:noFill/>
          </a:ln>
        </p:spPr>
        <p:txBody>
          <a:bodyPr lIns="90000" rIns="90000" tIns="46800" bIns="46800" anchor="t">
            <a:normAutofit fontScale="89000"/>
          </a:bodyPr>
          <a:p>
            <a:pPr marL="305280" indent="-305280" algn="just" rtl="1">
              <a:spcBef>
                <a:spcPts val="15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وفيما يتعلق بمفهوم التحقق والتثبت من المعلومات فهي التعبير المرادف والمستخدم حالياً في مجال المحاسبة والمعروف بشرط الموضوعية التي يجب أن تتوافر في أي قياس علمي ، بمعني أن النتائج التي يتوصل إليها الشخص المعين باستخدام أساليب معينة للقياس والإفصاح يستطيع أن يتوصل إليها شخص آخر مستقل باستخدام نفس الأساليب .</a:t>
            </a:r>
            <a:endParaRPr b="0" lang="en-US" sz="2800" spc="-1" strike="noStrike">
              <a:solidFill>
                <a:srgbClr val="000000"/>
              </a:solidFill>
              <a:latin typeface="Arial"/>
            </a:endParaRPr>
          </a:p>
          <a:p>
            <a:pPr marL="305280" indent="0" algn="just" rtl="1">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hi-IN" sz="2800" spc="-1" strike="noStrike">
                <a:solidFill>
                  <a:srgbClr val="000000"/>
                </a:solidFill>
                <a:latin typeface="Arial"/>
              </a:rPr>
              <a:t>إن خاصية التثبت تحقق لنا تجنب التحيز المتعلق بشخصية القائم بعملية القياس ولكنها لا تضمن لنا صحة الطريقة المستخدمة في القياس، فالمعلومات قد تكون ناتجة عن تطبيق أمين وصادق للقواعد المحاسبية المتعارف عليها، وبالتالي يكون هناك تماثل كبير في النتائج التي يتم التوصل إليها مختلف المحاسبين، إلا أنه قد لا تكون هذه النتائج صادقة أو معبرة عن مضمون الظواهر المراد قياسها والإفصاح عنه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326880"/>
            <a:ext cx="8229600" cy="6126480"/>
          </a:xfrm>
          <a:prstGeom prst="rect">
            <a:avLst/>
          </a:prstGeom>
          <a:noFill/>
          <a:ln w="0">
            <a:noFill/>
          </a:ln>
        </p:spPr>
        <p:txBody>
          <a:bodyPr lIns="90000" rIns="90000" tIns="46800" bIns="46800" anchor="t">
            <a:normAutofit fontScale="87000"/>
          </a:bodyPr>
          <a:p>
            <a:pPr marL="298440" indent="-298440" algn="just" rtl="1">
              <a:lnSpc>
                <a:spcPct val="110000"/>
              </a:lnSpc>
              <a:spcBef>
                <a:spcPts val="2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فيما يتعلق بحيدة المعلومات فهي ترتبط بمستوى الأجهزة المسئول عن تنظيم السياسة المحاسبية (أي وضع معايير المحاسبة) ثم مستوى المسئولين عن إعداد التقارير المالية.</a:t>
            </a:r>
            <a:endParaRPr b="0" lang="en-US" sz="3200" spc="-1" strike="noStrike">
              <a:solidFill>
                <a:srgbClr val="000000"/>
              </a:solidFill>
              <a:latin typeface="Arial"/>
            </a:endParaRPr>
          </a:p>
          <a:p>
            <a:pPr marL="298440" indent="-298440" algn="just" rtl="1">
              <a:lnSpc>
                <a:spcPct val="110000"/>
              </a:lnSpc>
              <a:spcBef>
                <a:spcPts val="2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فيما يتعلق بحيدة المعلومات فهي تعني تجنب ذلك النوع المقصود من التحيز الذي قد يمارسه القائم بإعداد وعرض المعلومات المحاسبية ، بهدف التوصل إلي نتائج مسبقة أو بهدف التأثير على سلوك مستخدم هذه المعلومات ، وبمعني آخر أن خلو المعلومات من التحيز يحقق لنا بصورة تلقائية حيدة هذه المعلوم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fontScale="96000"/>
          </a:bodyPr>
          <a:p>
            <a:pPr marL="329040" indent="0" algn="just" rtl="1">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hi-IN" sz="2800" spc="-1" strike="noStrike">
                <a:solidFill>
                  <a:srgbClr val="000000"/>
                </a:solidFill>
                <a:latin typeface="Arial"/>
              </a:rPr>
              <a:t>وأخيراً من الجدير بالذكر أن التطبيق الشائع لسياسة الحيطة والحذر ينتج عنه تشويه للأرقام المحاسبية مما يتعارض بشكل صارخ مع متطلبات خاصية الملاءمة، لأن سياسة الحيطة والحذر هي نوع من التحيز في القياس المحاسبي وهو أمر يتعارض مع حيدة المعلومات ولا يتفق مع خاصية الصدق في التعبير، كما تتعارض مع خاصية الثبات، كما ينتج عنها قياسات غير دقيقة للدخل الدوري للوحدة المحاسبية، ونظراً لأهمية خاصية الملاءمة والثقة في الإطار المفاهيمي، فإنه من المتوقع أن تفقد سياسة الحيطة والحذر في النموذج المحاسبي المعاصر أهميتها التقليد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80000"/>
          </a:bodyPr>
          <a:p>
            <a:pPr marL="2743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Monotype Koufi"/>
              </a:rPr>
              <a:t>أولاً: المفاهيم الخاصة بالأهداف :</a:t>
            </a:r>
            <a:r>
              <a:rPr b="1" lang="ar-SA" sz="2800" spc="-1" strike="noStrike">
                <a:solidFill>
                  <a:srgbClr val="ff0000"/>
                </a:solidFill>
                <a:latin typeface="Arial"/>
              </a:rPr>
              <a:t> -</a:t>
            </a:r>
            <a:endParaRPr b="0" lang="en-US" sz="2800" spc="-1" strike="noStrike">
              <a:solidFill>
                <a:srgbClr val="000000"/>
              </a:solidFill>
              <a:latin typeface="Arial"/>
            </a:endParaRPr>
          </a:p>
          <a:p>
            <a:pPr marL="274320"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من المعلوم أن المحاسبة هي نشاط خدمي، وأن المنتج النهائي لهذا النشاط هو مجموعة من التقارير المالية التي تعدها الإدارة لصالح أطراف متعددة داخل المنشأة وخارجها، وبالتالي فإن أهداف المحاسبة تنطلق من تحديد الوظائف الرئيسية لهذه التقارير ، كما أنه من المعلوم أن هذه الأطراف هي : -</a:t>
            </a:r>
            <a:endParaRPr b="0" lang="en-US" sz="2800" spc="-1" strike="noStrike">
              <a:solidFill>
                <a:srgbClr val="000000"/>
              </a:solidFill>
              <a:latin typeface="Arial"/>
            </a:endParaRPr>
          </a:p>
          <a:p>
            <a:pPr marL="274320" indent="-274320" algn="just" rtl="1">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دارة المنشأة وما يتبعها من محاسبين ومراجعين ( المسئولة عن إعداد التقارير و توصيلها إلي أصحاب المنشأة ) .</a:t>
            </a:r>
            <a:endParaRPr b="0" lang="en-US" sz="2800" spc="-1" strike="noStrike">
              <a:solidFill>
                <a:srgbClr val="000000"/>
              </a:solidFill>
              <a:latin typeface="Arial"/>
            </a:endParaRPr>
          </a:p>
          <a:p>
            <a:pPr marL="274320" indent="-274320" algn="just" rtl="1">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t>
            </a:r>
            <a:r>
              <a:rPr b="1" lang="ar-SA" sz="2800" spc="-1" strike="noStrike">
                <a:solidFill>
                  <a:srgbClr val="000000"/>
                </a:solidFill>
                <a:latin typeface="Arial"/>
              </a:rPr>
              <a:t>مهنة المحاسبة والمراجعة ( المسئولة عن فحص وتدقيق هذه  التقارير وعن تحديد وتطوير مبادئ المحاسبة والمراجعة ) .</a:t>
            </a:r>
            <a:endParaRPr b="0" lang="en-US" sz="2800" spc="-1" strike="noStrike">
              <a:solidFill>
                <a:srgbClr val="000000"/>
              </a:solidFill>
              <a:latin typeface="Arial"/>
            </a:endParaRPr>
          </a:p>
          <a:p>
            <a:pPr marL="274320" indent="-274320" algn="just" rtl="1">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t>
            </a:r>
            <a:r>
              <a:rPr b="1" lang="ar-SA" sz="2800" spc="-1" strike="noStrike">
                <a:solidFill>
                  <a:srgbClr val="000000"/>
                </a:solidFill>
                <a:latin typeface="Arial"/>
              </a:rPr>
              <a:t>مستخدمي التقارير المالية ( المستفيدين منها خارج المنشأ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75920"/>
            <a:ext cx="8229600" cy="6381720"/>
          </a:xfrm>
          <a:prstGeom prst="rect">
            <a:avLst/>
          </a:prstGeom>
          <a:noFill/>
          <a:ln w="0">
            <a:noFill/>
          </a:ln>
        </p:spPr>
        <p:txBody>
          <a:bodyPr lIns="90000" rIns="90000" tIns="46800" bIns="46800" anchor="t">
            <a:normAutofit fontScale="89000"/>
          </a:bodyPr>
          <a:p>
            <a:pPr marL="305280" indent="0" algn="r" rtl="1">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ea typeface="Monotype Koufi"/>
              </a:rPr>
              <a:t>* القيود على استخدام الخصائص النوعية : -</a:t>
            </a:r>
            <a:endParaRPr b="0" lang="en-US" sz="3200" spc="-1" strike="noStrike">
              <a:solidFill>
                <a:srgbClr val="000000"/>
              </a:solidFill>
              <a:latin typeface="Arial"/>
            </a:endParaRPr>
          </a:p>
          <a:p>
            <a:pPr marL="305280" indent="0" algn="just" rtl="1">
              <a:lnSpc>
                <a:spcPct val="11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هناك احتمالات للتعارض بين الخصائص النوعية التي سبق شرحها فمثلاً قد ينشأ التعارض فيما يلي :-</a:t>
            </a:r>
            <a:endParaRPr b="0" lang="en-US" sz="2800" spc="-1" strike="noStrike">
              <a:solidFill>
                <a:srgbClr val="000000"/>
              </a:solidFill>
              <a:latin typeface="Arial"/>
            </a:endParaRPr>
          </a:p>
          <a:p>
            <a:pPr marL="305280" indent="-305280" algn="just" rtl="1">
              <a:lnSpc>
                <a:spcPct val="110000"/>
              </a:lnSpc>
              <a:spcBef>
                <a:spcPts val="12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ارض بين التوقيت الملائم وبين القدرة التنبؤية للمعلومات حيث أن السرعة في إعداد المعلومات قد تكون على  حساب الدقة والاكتمال .</a:t>
            </a:r>
            <a:endParaRPr b="0" lang="en-US" sz="2800" spc="-1" strike="noStrike">
              <a:solidFill>
                <a:srgbClr val="000000"/>
              </a:solidFill>
              <a:latin typeface="Arial"/>
            </a:endParaRPr>
          </a:p>
          <a:p>
            <a:pPr marL="305280" indent="-305280" algn="just" rtl="1">
              <a:lnSpc>
                <a:spcPct val="110000"/>
              </a:lnSpc>
              <a:spcBef>
                <a:spcPts val="12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ارض بين الصدق في التعبير وبين إمكانية التثبت من المعلومات، وكمثال على ذلك نجده في استخدام الأرقام القياسية العامة والخاصة لغرض قياس القيم الجارية فمن المعروف أن الأرقام القياسية ما هي إلا متوسطات قد تكون بعيدة عن الصدق في تمثيل الظواهر الاقتصادية ، إلا أنها في المقابل تتمتع بدرجة عالية من الحياد في التطبي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387360"/>
            <a:ext cx="8229600" cy="6858000"/>
          </a:xfrm>
          <a:prstGeom prst="rect">
            <a:avLst/>
          </a:prstGeom>
          <a:noFill/>
          <a:ln w="0">
            <a:noFill/>
          </a:ln>
        </p:spPr>
        <p:txBody>
          <a:bodyPr lIns="90000" rIns="90000" tIns="46800" bIns="46800" anchor="t">
            <a:normAutofit fontScale="86000"/>
          </a:bodyPr>
          <a:p>
            <a:pPr marL="294840" indent="-294840" algn="just" rtl="1">
              <a:lnSpc>
                <a:spcPct val="120000"/>
              </a:lnSpc>
              <a:spcBef>
                <a:spcPts val="15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عارض بين ملاءمة المعلومات وبين الثقة فيها ، وكمثال على ذلك اتباع أساس التكلفة التاريخية حيث تتمتع بدرجة عالية من الثقة لخلوها من التحيز، إلا أنها تمتع بدرجة منخفضة من الملاءمة بالنسبة لمستخدمي التقارير المالية. </a:t>
            </a:r>
            <a:endParaRPr b="0" lang="en-US" sz="3200" spc="-1" strike="noStrike">
              <a:solidFill>
                <a:srgbClr val="000000"/>
              </a:solidFill>
              <a:latin typeface="Arial"/>
            </a:endParaRPr>
          </a:p>
          <a:p>
            <a:pPr marL="294840" indent="-294840" algn="just" rtl="1">
              <a:lnSpc>
                <a:spcPct val="120000"/>
              </a:lnSpc>
              <a:spcBef>
                <a:spcPts val="15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في جميع الأحوال يجب مراعاة توفر الحد الأدنى من الخصائص المذكورة في المعلومات المحاسبية، فمن المعروف أن الموقف التقليدي للمحاسب والمراجع الخارجي هو إعطاء أقصي أهمية لعامل الثقة للمعلومات التي ترد في صلب القوائم المالية، حتى لو كان ذلك على حساب مدي ملائمة هذه المعلوم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326880"/>
            <a:ext cx="8229600" cy="6126480"/>
          </a:xfrm>
          <a:prstGeom prst="rect">
            <a:avLst/>
          </a:prstGeom>
          <a:noFill/>
          <a:ln w="0">
            <a:noFill/>
          </a:ln>
        </p:spPr>
        <p:txBody>
          <a:bodyPr lIns="90000" rIns="90000" tIns="46800" bIns="46800" anchor="t">
            <a:normAutofit fontScale="85000"/>
          </a:bodyPr>
          <a:p>
            <a:pPr marL="291600" indent="-291600" algn="just" rtl="1">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يس كل المعلومات الملائمة أو الموثوقة فيها تعتبر معلومات مفيدة لأن هذه المعلومات قد لا تكون ذات أهمية نسبية تذكر ، كما قد تكون تكلفة الحصول عليها أكبر من العائد المتوقع، أي أنه يجب إخضاع الخصائص النوعية المذكورة لنوعين من الاختبار هما :-</a:t>
            </a:r>
            <a:endParaRPr b="0" lang="en-US" sz="2800" spc="-1" strike="noStrike">
              <a:solidFill>
                <a:srgbClr val="000000"/>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اختبار مستوي الأهمية النسبية .</a:t>
            </a:r>
            <a:endParaRPr b="0" lang="en-US" sz="2800" spc="-1" strike="noStrike">
              <a:solidFill>
                <a:srgbClr val="000000"/>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اختبار التكلفة والعائد .</a:t>
            </a:r>
            <a:endParaRPr b="0" lang="en-US" sz="2800" spc="-1" strike="noStrike">
              <a:solidFill>
                <a:srgbClr val="000000"/>
              </a:solidFill>
              <a:latin typeface="Arial"/>
            </a:endParaRPr>
          </a:p>
          <a:p>
            <a:pPr marL="291600" indent="-291600" algn="just" rtl="1">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بالنسبة لمستوي الأهمية النسبية ، تعتمد المعلومات على اعتبارات كمية ونوعية أو على خليط منهما، والسؤال إلى يثور ما هو حجم البند وما هي درجة تأثيره بصورة منسوبة إلي المستوي الذي يعتبر عادياً أو منسوباً إلي بند آخر أو منسوباً إلي مجموعة من البنود ذات الصلة ، كما يوجد ارتباط وثيق بين الملاءمة وبين الأهمية النسبية، لأن المعلومات التي لا ترتبط بأهداف التقارير المالية لا  تعتبر مهمة،  وهناك ارتباط آخر بين خاصية الثقة وبين الأهمية النسبية ، لأن أخطاء القياس غير المهمة لا تؤثر على الثقة في مجال المعلومات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42560"/>
            <a:ext cx="8229600" cy="6381720"/>
          </a:xfrm>
          <a:prstGeom prst="rect">
            <a:avLst/>
          </a:prstGeom>
          <a:noFill/>
          <a:ln w="0">
            <a:noFill/>
          </a:ln>
        </p:spPr>
        <p:txBody>
          <a:bodyPr lIns="90000" rIns="90000" tIns="46800" bIns="46800" anchor="t">
            <a:normAutofit fontScale="83000"/>
          </a:bodyPr>
          <a:p>
            <a:pPr marL="284400" indent="-284400" algn="just" rtl="1">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بصفة عامة يمكن القول أن البند يعتبر ذو أهمية نسبية إذا أدي حذفه أو الإفصاح عنه بصورة محرفة إلي التأثير على متخذ القرار ، وهذا الأمر بطبيعته يعتمد بصفة أساسية على طبيعة البند المتعلق بالمعلومات المالية، فمثلاً يمكن القول أنه إذا بلغ نشاط معين من أنشطة المنشأة ما قيمته </a:t>
            </a:r>
            <a:r>
              <a:rPr b="1" lang="ar-SA" sz="2800" spc="-1" strike="noStrike">
                <a:solidFill>
                  <a:srgbClr val="000000"/>
                </a:solidFill>
                <a:latin typeface="Arial"/>
              </a:rPr>
              <a:t>10</a:t>
            </a:r>
            <a:r>
              <a:rPr b="1" lang="ar-SA" sz="2800" spc="-1" strike="noStrike">
                <a:solidFill>
                  <a:srgbClr val="000000"/>
                </a:solidFill>
                <a:latin typeface="Arial"/>
              </a:rPr>
              <a:t>% من إيرادها فإن هذا النشاط يعتبر قطاع متميز ويلزم التقرير عن نتائجه بصورة منفصلة .</a:t>
            </a:r>
            <a:endParaRPr b="0" lang="en-US" sz="2800" spc="-1" strike="noStrike">
              <a:solidFill>
                <a:srgbClr val="000000"/>
              </a:solidFill>
              <a:latin typeface="Arial"/>
            </a:endParaRPr>
          </a:p>
          <a:p>
            <a:pPr marL="284400" indent="-284400" algn="just" rtl="1">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ما فيما يتعلق بموضوع التكلفة والعائد فإن القاعدة العامة هي أن المعلومات المحاسبية لا يجب إنتاجها وتوزيعها إلا إذا كانت منفعتها تزيد عن تكاليفها، فاختيار التكلفة والعائد ما هو إلا نوع من دراسة الجدوى التي تطبق على إنتاج وتوزيع المعلومات المحاسبية ، وتشمل عادة تكاليف المعلومات المحاسبية عناصر متعددة مثل تكاليف تجميع وتشغيل وتخزين واستخراج  المعلومات وتكاليف المراجعة الداخلية والخارجية وتكاليف الإفصاح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255240"/>
            <a:ext cx="8229600" cy="6126120"/>
          </a:xfrm>
          <a:prstGeom prst="rect">
            <a:avLst/>
          </a:prstGeom>
          <a:noFill/>
          <a:ln w="0">
            <a:noFill/>
          </a:ln>
        </p:spPr>
        <p:txBody>
          <a:bodyPr lIns="90000" rIns="90000" tIns="46800" bIns="46800" anchor="t">
            <a:normAutofit fontScale="88000"/>
          </a:bodyPr>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cs typeface="Monotype Koufi"/>
              </a:rPr>
              <a:t>رابعاً: المفاهيم الخاصة بالقوائم المالية :-</a:t>
            </a:r>
            <a:endParaRPr b="0" lang="en-US" sz="3200" spc="-1" strike="noStrike">
              <a:solidFill>
                <a:srgbClr val="000000"/>
              </a:solidFill>
              <a:latin typeface="Arial"/>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000000"/>
                </a:solidFill>
                <a:latin typeface="Arial"/>
              </a:rPr>
              <a:t>من المعلوم أن نتائج المحاسبة المالية تتبلور في مجموعة مترابطة ومتكاملة من القوائم المالية ، والتي تعتبر جزءاً أساسياً من الإطار المفاهيمي للمحاسبة، لذلك من الأهمية دراسة مفاهيم هذه القوائم .</a:t>
            </a:r>
            <a:endParaRPr b="0" lang="en-US" sz="3200" spc="-1" strike="noStrike">
              <a:solidFill>
                <a:srgbClr val="000000"/>
              </a:solidFill>
              <a:latin typeface="Arial"/>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Monotype Koufi"/>
              </a:rPr>
              <a:t>والقوائم المالية قد تكون على نوعين :</a:t>
            </a:r>
            <a:endParaRPr b="0" lang="en-US" sz="3200" spc="-1" strike="noStrike">
              <a:solidFill>
                <a:srgbClr val="000000"/>
              </a:solidFill>
              <a:latin typeface="Arial"/>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 الأولي:</a:t>
            </a:r>
            <a:r>
              <a:rPr b="1" lang="ar-SA" sz="3200" spc="-1" strike="noStrike">
                <a:solidFill>
                  <a:srgbClr val="000000"/>
                </a:solidFill>
                <a:latin typeface="Arial"/>
              </a:rPr>
              <a:t> قوائم مالية أساسية ( </a:t>
            </a:r>
            <a:r>
              <a:rPr b="1" lang="en-US" sz="3200" spc="-1" strike="noStrike">
                <a:solidFill>
                  <a:srgbClr val="000000"/>
                </a:solidFill>
                <a:latin typeface="Arial"/>
              </a:rPr>
              <a:t>PRIMARY</a:t>
            </a:r>
            <a:r>
              <a:rPr b="1" lang="ar-SA" sz="3200" spc="-1" strike="noStrike">
                <a:solidFill>
                  <a:srgbClr val="000000"/>
                </a:solidFill>
                <a:latin typeface="Arial"/>
              </a:rPr>
              <a:t> ) يتم إعدادها بصورة منتظمة ودورياً توفر لنا الحد الأدنى من المعلومات المحاسبية اللازمة لتحقيق أهداف المحاسبة المالية وهذه القوائم ه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ائمة الدخل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ائمة المركز المالي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ائمة التغير في حقوق الملكية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ائمة التدفق النقدي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99"/>
                </a:solidFill>
                <a:latin typeface="Arial"/>
              </a:rPr>
              <a:t>الثانية :-</a:t>
            </a:r>
            <a:r>
              <a:rPr b="1" lang="ar-SA" sz="3200" spc="-1" strike="noStrike">
                <a:solidFill>
                  <a:srgbClr val="000000"/>
                </a:solidFill>
                <a:latin typeface="Arial"/>
              </a:rPr>
              <a:t> فهي القوائم الملحقة وهي قوائم إضافة يتم إعدادها بصورة تطوعية أو بناءً على توصيات محاسبية لمقابلة ظروف معينة، ومن أمثلة ذل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326880"/>
            <a:ext cx="8229600" cy="6126480"/>
          </a:xfrm>
          <a:prstGeom prst="rect">
            <a:avLst/>
          </a:prstGeom>
          <a:noFill/>
          <a:ln w="0">
            <a:noFill/>
          </a:ln>
        </p:spPr>
        <p:txBody>
          <a:bodyPr lIns="90000" rIns="90000" tIns="46800" bIns="46800" anchor="t">
            <a:normAutofit fontScale="91000"/>
          </a:bodyPr>
          <a:p>
            <a:pPr marL="312120" indent="-312120" algn="r" rtl="1">
              <a:lnSpc>
                <a:spcPct val="110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وائم تفصيلية لبعض الإجماليات الواردة في القوائم المالية الأساسية .</a:t>
            </a:r>
            <a:endParaRPr b="0" lang="en-US" sz="3200" spc="-1" strike="noStrike">
              <a:solidFill>
                <a:srgbClr val="000000"/>
              </a:solidFill>
              <a:latin typeface="Arial"/>
            </a:endParaRPr>
          </a:p>
          <a:p>
            <a:pPr marL="312120" indent="-312120" algn="r" rtl="1">
              <a:lnSpc>
                <a:spcPct val="110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وائم مالية معدة بالتغير في مستويات الأسعار .</a:t>
            </a:r>
            <a:endParaRPr b="0" lang="en-US" sz="3200" spc="-1" strike="noStrike">
              <a:solidFill>
                <a:srgbClr val="000000"/>
              </a:solidFill>
              <a:latin typeface="Arial"/>
            </a:endParaRPr>
          </a:p>
          <a:p>
            <a:pPr marL="312120" indent="-312120" algn="r" rtl="1">
              <a:lnSpc>
                <a:spcPct val="110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وائم مالية موحدة لمجموعة من الشركات التي تكون وحدة اقتصادية متكاملة .</a:t>
            </a:r>
            <a:endParaRPr b="0" lang="en-US" sz="3200" spc="-1" strike="noStrike">
              <a:solidFill>
                <a:srgbClr val="000000"/>
              </a:solidFill>
              <a:latin typeface="Arial"/>
            </a:endParaRPr>
          </a:p>
          <a:p>
            <a:pPr marL="312120" indent="-312120" algn="r" rtl="1">
              <a:lnSpc>
                <a:spcPct val="110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وائم مالية قطاعية عن خطوط الإنتاج والتوزيع في الوحدات ذات النشاط المتعدد .</a:t>
            </a:r>
            <a:endParaRPr b="0" lang="en-US" sz="3200" spc="-1" strike="noStrike">
              <a:solidFill>
                <a:srgbClr val="000000"/>
              </a:solidFill>
              <a:latin typeface="Arial"/>
            </a:endParaRPr>
          </a:p>
          <a:p>
            <a:pPr marL="312120" indent="0" algn="just" rtl="1">
              <a:lnSpc>
                <a:spcPct val="11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000000"/>
                </a:solidFill>
                <a:latin typeface="Arial"/>
              </a:rPr>
              <a:t>وفيما يلي نتناول بالشرح والتحليل مفهوم القوائم المالية الأساس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fontScale="97000"/>
          </a:bodyPr>
          <a:p>
            <a:pPr marL="332640" indent="0" algn="r"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Monotype Koufi"/>
              </a:rPr>
              <a:t>1</a:t>
            </a:r>
            <a:r>
              <a:rPr b="1" lang="ar-SA" sz="2800" spc="-1" strike="noStrike">
                <a:solidFill>
                  <a:srgbClr val="000099"/>
                </a:solidFill>
                <a:latin typeface="Arial"/>
                <a:ea typeface="Monotype Koufi"/>
              </a:rPr>
              <a:t>- مفهوم قائمة الدخل :-</a:t>
            </a:r>
            <a:endParaRPr b="0" lang="en-US" sz="2800" spc="-1" strike="noStrike">
              <a:solidFill>
                <a:srgbClr val="000000"/>
              </a:solidFill>
              <a:latin typeface="Arial"/>
            </a:endParaRPr>
          </a:p>
          <a:p>
            <a:pPr marL="332640" indent="0" algn="just"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يتم إعداد قائمة الدخل لغرض بيان نتائج الأعمال والإفصاح عن مكوناتها بهدف المساعدة في تقييم التدفقات الإيرادية واستخدام نتائج هذا التقييم لأغراض التنبؤ بالتدفقات الإيرادية المستقبلية ، وإمكانية تحويلها إلي تدفقات نقدية ( </a:t>
            </a:r>
            <a:r>
              <a:rPr b="1" lang="en-US" sz="2800" spc="-1" strike="noStrike">
                <a:solidFill>
                  <a:srgbClr val="000000"/>
                </a:solidFill>
                <a:latin typeface="Arial"/>
              </a:rPr>
              <a:t>Cash flows</a:t>
            </a:r>
            <a:r>
              <a:rPr b="1" lang="en-US" sz="2800" spc="-1" strike="noStrike">
                <a:solidFill>
                  <a:srgbClr val="000000"/>
                </a:solidFill>
                <a:latin typeface="Arial"/>
              </a:rPr>
              <a:t> </a:t>
            </a:r>
            <a:r>
              <a:rPr b="1" lang="ar-SA" sz="2800" spc="-1" strike="noStrike">
                <a:solidFill>
                  <a:srgbClr val="000000"/>
                </a:solidFill>
                <a:latin typeface="Arial"/>
              </a:rPr>
              <a:t>) ، وتعد قائمة الدخل طبقاً لأحد مفهومين أساسيين للربح المحاسبي :</a:t>
            </a:r>
            <a:endParaRPr b="0" lang="en-US" sz="2800" spc="-1" strike="noStrike">
              <a:solidFill>
                <a:srgbClr val="000000"/>
              </a:solidFill>
              <a:latin typeface="Arial"/>
            </a:endParaRPr>
          </a:p>
          <a:p>
            <a:pPr lvl="1" marL="7207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     مفهوم الربح من العمليات الجارية ( </a:t>
            </a:r>
            <a:r>
              <a:rPr b="1" lang="en-US" sz="2400" spc="-1" strike="noStrike">
                <a:solidFill>
                  <a:srgbClr val="000000"/>
                </a:solidFill>
                <a:latin typeface="Arial"/>
              </a:rPr>
              <a:t>Current Operating</a:t>
            </a:r>
            <a:r>
              <a:rPr b="1" lang="ar-SA" sz="2400" spc="-1" strike="noStrike">
                <a:solidFill>
                  <a:srgbClr val="000000"/>
                </a:solidFill>
                <a:latin typeface="Arial"/>
              </a:rPr>
              <a:t> ) .</a:t>
            </a:r>
            <a:endParaRPr b="0" lang="en-US" sz="2400" spc="-1" strike="noStrike">
              <a:solidFill>
                <a:srgbClr val="000000"/>
              </a:solidFill>
              <a:latin typeface="Arial"/>
            </a:endParaRPr>
          </a:p>
          <a:p>
            <a:pPr lvl="1" marL="7207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    مفهوم الربح الشامل  ( </a:t>
            </a:r>
            <a:r>
              <a:rPr b="1" lang="en-US" sz="2400" spc="-1" strike="noStrike">
                <a:solidFill>
                  <a:srgbClr val="000000"/>
                </a:solidFill>
                <a:latin typeface="Arial"/>
              </a:rPr>
              <a:t>All- Inclusive or Comprehensive</a:t>
            </a:r>
            <a:r>
              <a:rPr b="1" lang="ar-SA" sz="2400" spc="-1" strike="noStrike">
                <a:solidFill>
                  <a:srgbClr val="000000"/>
                </a:solidFill>
                <a:latin typeface="Arial"/>
              </a:rPr>
              <a:t>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326880"/>
            <a:ext cx="8229600" cy="6126480"/>
          </a:xfrm>
          <a:prstGeom prst="rect">
            <a:avLst/>
          </a:prstGeom>
          <a:noFill/>
          <a:ln w="0">
            <a:noFill/>
          </a:ln>
        </p:spPr>
        <p:txBody>
          <a:bodyPr lIns="90000" rIns="90000" tIns="46800" bIns="46800" anchor="t">
            <a:normAutofit fontScale="91000"/>
          </a:bodyPr>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Monotype Koufi"/>
              </a:rPr>
              <a:t>أ) مفهوم الربح من العمليات الجارية :-</a:t>
            </a:r>
            <a:endParaRPr b="0" lang="en-US" sz="2800" spc="-1" strike="noStrike">
              <a:solidFill>
                <a:srgbClr val="000000"/>
              </a:solidFill>
              <a:latin typeface="Arial"/>
            </a:endParaRPr>
          </a:p>
          <a:p>
            <a:pPr marL="312120" indent="-31212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تضمن قائمة الدخل العناصر التي تعتبر عادية ومتكررة تتعلق بنشاط الفترة الحالية.</a:t>
            </a:r>
            <a:endParaRPr b="0" lang="en-US" sz="2800" spc="-1" strike="noStrike">
              <a:solidFill>
                <a:srgbClr val="000000"/>
              </a:solidFill>
              <a:latin typeface="Arial"/>
            </a:endParaRPr>
          </a:p>
          <a:p>
            <a:pPr marL="312120" indent="-31212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 استبعاد أي عنصر غير عادي أو غير متكرر ولا ترتبط ارتباطاً وثيقاً بالنشاط الجاري مثل نتائج إيقاف أحد خطوط الإنتاج، نتائج تصحيح بعض أخطاء القياس المحاسبي لسنوات سابقة ، الأثر الناتج عن تغيير بعض المبادئ المحاسبية .</a:t>
            </a:r>
            <a:endParaRPr b="0" lang="en-US" sz="2800" spc="-1" strike="noStrike">
              <a:solidFill>
                <a:srgbClr val="000000"/>
              </a:solidFill>
              <a:latin typeface="Arial"/>
            </a:endParaRPr>
          </a:p>
          <a:p>
            <a:pPr marL="312120" indent="-31212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 فلسفة هذا المفهوم يستند إلي تبرير أساسي هو أن العناصر غير العادية لا تخضع عادة لإدارة المنشأة، مما يجعل قائمة الدخل أكثر فائدة في مجال التقييم وعمل التنبؤ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8000"/>
          </a:bodyPr>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cs typeface="Monotype Koufi"/>
              </a:rPr>
              <a:t>ب) مفهوم الربح الشامل  :-</a:t>
            </a:r>
            <a:endParaRPr b="0" lang="en-US" sz="3200" spc="-1" strike="noStrike">
              <a:solidFill>
                <a:srgbClr val="000000"/>
              </a:solidFill>
              <a:latin typeface="Arial"/>
            </a:endParaRPr>
          </a:p>
          <a:p>
            <a:pPr marL="301680" indent="-301680" algn="just" rtl="1">
              <a:lnSpc>
                <a:spcPct val="115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ضمن إدخال أثر كافة العمليات والأحداث والظروف التي أدت إلي تغيير حقوق الملكية ( بعد استبعاد العمليات الرأسمالية والتي تتم مع أصحاب رأس المال بصفتهم ملاكاً).</a:t>
            </a:r>
            <a:endParaRPr b="0" lang="en-US" sz="2800" spc="-1" strike="noStrike">
              <a:solidFill>
                <a:srgbClr val="000000"/>
              </a:solidFill>
              <a:latin typeface="Arial"/>
            </a:endParaRPr>
          </a:p>
          <a:p>
            <a:pPr marL="301680" indent="-301680" algn="just" rtl="1">
              <a:lnSpc>
                <a:spcPct val="115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عتمد أصحاب هذا الرأي على إبراز مساوئ إتباع مفهوم ربح النشاط الجاري ويذكرون في هذا الشأن أن تحديد العناصر غير العادية سوف يعتمد إلي حد كبير على تقدير ظروف الحال مما يفسح المجال أما الإدارة على تحديد نتائج الأعمال وفقاً لما تراه مناسباً ، مما يفقد هذه المعلومات الحياد والقدرة على التثبت من صحته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620640"/>
            <a:ext cx="8229600" cy="6237360"/>
          </a:xfrm>
          <a:prstGeom prst="rect">
            <a:avLst/>
          </a:prstGeom>
          <a:noFill/>
          <a:ln w="0">
            <a:noFill/>
          </a:ln>
        </p:spPr>
        <p:txBody>
          <a:bodyPr lIns="90000" rIns="90000" tIns="46800" bIns="46800" anchor="t">
            <a:normAutofit fontScale="88000"/>
          </a:bodyPr>
          <a:p>
            <a:pPr marL="536040" indent="0" algn="just" rtl="1">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cs typeface="Monotype Koufi"/>
              </a:rPr>
              <a:t>اتجاهات تحقيق الأهداف :-</a:t>
            </a:r>
            <a:endParaRPr b="0" lang="en-US" sz="3200" spc="-1" strike="noStrike">
              <a:solidFill>
                <a:srgbClr val="000000"/>
              </a:solidFill>
              <a:latin typeface="Arial"/>
            </a:endParaRPr>
          </a:p>
          <a:p>
            <a:pPr marL="536040" indent="0" algn="just" rtl="1">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000000"/>
                </a:solidFill>
                <a:latin typeface="Arial"/>
              </a:rPr>
              <a:t>إن من أهم المشاكل التي تثيرها عملية تحديد أهداف التقارير المالية، تنشأ من احتمالات تعارض وجهات النظر الثلاثة، وما قد يفرضه ذلك من ضرورة تغليب وجهة نظر مجموعة على أخرى .</a:t>
            </a:r>
            <a:endParaRPr b="0" lang="en-US" sz="3200" spc="-1" strike="noStrike">
              <a:solidFill>
                <a:srgbClr val="000000"/>
              </a:solidFill>
              <a:latin typeface="Arial"/>
            </a:endParaRPr>
          </a:p>
          <a:p>
            <a:pPr marL="536040" indent="-536040" algn="just" rtl="1">
              <a:spcBef>
                <a:spcPts val="15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جهة نظر إدارة المنشأة كانت الوجهة الغالبة في تحديد أهداف المحاسبة، حيث كان إعداد التقارير المالية محكوماً بمدي استعداد المنشأة وقدرتها على الإفصاح ، وبالتالي كان الهدف الأساسي للتقارير المالية هو الإفصاح عن مدي وفاء الإدارة بالتزاماتها ومسئولياتها اتجاه أصحاب الأموال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475920"/>
            <a:ext cx="8229600" cy="6381720"/>
          </a:xfrm>
          <a:prstGeom prst="rect">
            <a:avLst/>
          </a:prstGeom>
          <a:noFill/>
          <a:ln w="0">
            <a:noFill/>
          </a:ln>
        </p:spPr>
        <p:txBody>
          <a:bodyPr lIns="90000" rIns="90000" tIns="46800" bIns="46800" anchor="t">
            <a:normAutofit fontScale="90000"/>
          </a:bodyPr>
          <a:p>
            <a:pPr marL="308520" indent="0" algn="just" rtl="1">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1" lang="ar-SA" sz="2800" spc="-1" strike="noStrike">
                <a:solidFill>
                  <a:srgbClr val="000000"/>
                </a:solidFill>
                <a:latin typeface="Arial"/>
              </a:rPr>
              <a:t>ومن الجدير بالذكر أن هناك اتفاق حتى وقت قريب بين المحاسبين على المفهوم الواجب إتباعه ، فقد كان موقف جمعية المحاسبين والمراجعين الأمريكيين مؤدياً لمفهوم الربح الشامل، في حين كان موقف مجمع المحاسبين والمراجعين القانونيين الأمريكيين مؤيداً لمفهوم الربح للنشاط الجاري ثم تحول بعد ذلك إلي مفهوم الربح الشامل، </a:t>
            </a:r>
            <a:r>
              <a:rPr b="1" lang="ar-SA" sz="2800" spc="-1" strike="noStrike">
                <a:solidFill>
                  <a:srgbClr val="ff0000"/>
                </a:solidFill>
                <a:latin typeface="Arial"/>
              </a:rPr>
              <a:t>وتأخذ التوصيات المحاسبية المعاصرة بالجمع بين مفهومي الربح كما يلي  :-</a:t>
            </a:r>
            <a:endParaRPr b="0" lang="en-US" sz="2800" spc="-1" strike="noStrike">
              <a:solidFill>
                <a:srgbClr val="000000"/>
              </a:solidFill>
              <a:latin typeface="Arial"/>
            </a:endParaRPr>
          </a:p>
          <a:p>
            <a:pPr lvl="1" marL="668520" indent="-257040" algn="just" rtl="1">
              <a:lnSpc>
                <a:spcPct val="11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عداد قائمة دخل تحتوي على قسمين يختص الأول منها ببيان نتائج النشاط الجاري.</a:t>
            </a:r>
            <a:endParaRPr b="0" lang="en-US" sz="2800" spc="-1" strike="noStrike">
              <a:solidFill>
                <a:srgbClr val="000000"/>
              </a:solidFill>
              <a:latin typeface="Arial"/>
            </a:endParaRPr>
          </a:p>
          <a:p>
            <a:pPr lvl="1" marL="668520" indent="-257040" algn="just" rtl="1">
              <a:lnSpc>
                <a:spcPct val="11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ختص القسم الثاني ببيان نتائج الأنشطة غير التشغيلية التي لا ترتبط بالنشاط الجاري وإضافة هذه النتائج إلي القسم الأول من قائمة الدخ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fontScale="91000"/>
          </a:bodyPr>
          <a:p>
            <a:pPr marL="48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وفيما يتعلق بالبنود التي يشملها القسم الثاني فهي كالآتي :- </a:t>
            </a:r>
            <a:endParaRPr b="0" lang="en-US" sz="2800" spc="-1" strike="noStrike">
              <a:solidFill>
                <a:srgbClr val="000000"/>
              </a:solidFill>
              <a:latin typeface="Arial"/>
            </a:endParaRPr>
          </a:p>
          <a:p>
            <a:pPr marL="485280" indent="-485280" algn="just" rtl="1">
              <a:spcBef>
                <a:spcPts val="1400"/>
              </a:spcBef>
              <a:buClr>
                <a:srgbClr val="000099"/>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بنود الاستثنائية وهي البنود التي تجمع بين صفتين ، أن يكـون غير عـادي ( </a:t>
            </a:r>
            <a:r>
              <a:rPr b="1" lang="en-US" sz="2800" spc="-1" strike="noStrike">
                <a:solidFill>
                  <a:srgbClr val="000000"/>
                </a:solidFill>
                <a:latin typeface="Arial"/>
              </a:rPr>
              <a:t>Unusual Nature</a:t>
            </a:r>
            <a:r>
              <a:rPr b="1" lang="ar-SA" sz="2800" spc="-1" strike="noStrike">
                <a:solidFill>
                  <a:srgbClr val="000000"/>
                </a:solidFill>
                <a:latin typeface="Arial"/>
              </a:rPr>
              <a:t> )، وأن يكون غير متكرر</a:t>
            </a:r>
            <a:endParaRPr b="0" lang="en-US" sz="2800" spc="-1" strike="noStrike">
              <a:solidFill>
                <a:srgbClr val="000000"/>
              </a:solidFill>
              <a:latin typeface="Arial"/>
            </a:endParaRPr>
          </a:p>
          <a:p>
            <a:pPr marL="48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 </a:t>
            </a:r>
            <a:r>
              <a:rPr b="1" lang="en-US" sz="2800" spc="-1" strike="noStrike">
                <a:solidFill>
                  <a:srgbClr val="000000"/>
                </a:solidFill>
                <a:latin typeface="Arial"/>
              </a:rPr>
              <a:t>Infrequency of Occurrence</a:t>
            </a:r>
            <a:r>
              <a:rPr b="1" lang="en-US" sz="2800" spc="-1" strike="noStrike">
                <a:solidFill>
                  <a:srgbClr val="000000"/>
                </a:solidFill>
                <a:latin typeface="Arial"/>
              </a:rPr>
              <a:t> </a:t>
            </a:r>
            <a:r>
              <a:rPr b="1" lang="ar-SA" sz="2800" spc="-1" strike="noStrike">
                <a:solidFill>
                  <a:srgbClr val="000000"/>
                </a:solidFill>
                <a:latin typeface="Arial"/>
              </a:rPr>
              <a:t>) ، وبالتالي إن تحديد هذه البنود على هذا النحو سوف يحد بشكل كبير من أثر الاجتهاد الشخصي، ومن أمثلة ذلك حدوث ظروف غير مألوفة، صدور قوانين تحظر التعامل في بعض منتجات المنشأة .</a:t>
            </a:r>
            <a:endParaRPr b="0" lang="en-US" sz="2800" spc="-1" strike="noStrike">
              <a:solidFill>
                <a:srgbClr val="000000"/>
              </a:solidFill>
              <a:latin typeface="Arial"/>
            </a:endParaRPr>
          </a:p>
          <a:p>
            <a:pPr marL="48528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485280" indent="-485280" algn="just" rtl="1">
              <a:spcBef>
                <a:spcPts val="700"/>
              </a:spcBef>
              <a:buClr>
                <a:srgbClr val="0000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أثر الناتج عن تغيير بعض المبادئ المحاسبية والتي تنتج عادة بسبب إصدارات محاسبية جديدة، أو اعتبارات قانونية مستحدثة أو نتيجة تغير في الظروف المحيطة بنشاط المنشأ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326880"/>
            <a:ext cx="8229600" cy="6126480"/>
          </a:xfrm>
          <a:prstGeom prst="rect">
            <a:avLst/>
          </a:prstGeom>
          <a:noFill/>
          <a:ln w="0">
            <a:noFill/>
          </a:ln>
        </p:spPr>
        <p:txBody>
          <a:bodyPr lIns="90000" rIns="90000" tIns="46800" bIns="46800" anchor="t">
            <a:normAutofit fontScale="96000"/>
          </a:bodyPr>
          <a:p>
            <a:pPr marL="511920" indent="-511920" algn="just" rtl="1">
              <a:lnSpc>
                <a:spcPct val="120000"/>
              </a:lnSpc>
              <a:spcBef>
                <a:spcPts val="1400"/>
              </a:spcBef>
              <a:buClr>
                <a:srgbClr val="0000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أثر الناتج عن الأنشطة التي تقرر إيقافها والتي تشتمل على عنصرين أساسيين هما :</a:t>
            </a:r>
            <a:endParaRPr b="0" lang="en-US" sz="2800" spc="-1" strike="noStrike">
              <a:solidFill>
                <a:srgbClr val="000000"/>
              </a:solidFill>
              <a:latin typeface="Arial"/>
            </a:endParaRPr>
          </a:p>
          <a:p>
            <a:pPr marL="511920" indent="-511920" algn="just" rtl="1">
              <a:lnSpc>
                <a:spcPct val="12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ربح أو الخسارة المتعلقة بعمليات النشاط التي تقرر إيقافه.</a:t>
            </a:r>
            <a:endParaRPr b="0" lang="en-US" sz="2800" spc="-1" strike="noStrike">
              <a:solidFill>
                <a:srgbClr val="000000"/>
              </a:solidFill>
              <a:latin typeface="Arial"/>
            </a:endParaRPr>
          </a:p>
          <a:p>
            <a:pPr marL="511920" indent="-511920" algn="just" rtl="1">
              <a:lnSpc>
                <a:spcPct val="12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كاسب أو الخسائر الناتجة عن التخلص من هذه الأصول.</a:t>
            </a:r>
            <a:endParaRPr b="0" lang="en-US" sz="2800" spc="-1" strike="noStrike">
              <a:solidFill>
                <a:srgbClr val="000000"/>
              </a:solidFill>
              <a:latin typeface="Arial"/>
            </a:endParaRPr>
          </a:p>
          <a:p>
            <a:pPr marL="511920" indent="0" algn="just"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أما التسويات المتعلقة بالفترات السابقة فيجب ألا تؤثر على قائمة الدخل للفترة الحالية، وإنما يقتصر أثرها على تعديل رقم الأرباح المرحلة، ومن أمثلة ذلك تصحيح الأخطاء المحاسبية التي حدثت في القوائم المالية في الفترة السابق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326880"/>
            <a:ext cx="8229600" cy="6531120"/>
          </a:xfrm>
          <a:prstGeom prst="rect">
            <a:avLst/>
          </a:prstGeom>
          <a:noFill/>
          <a:ln w="0">
            <a:noFill/>
          </a:ln>
        </p:spPr>
        <p:txBody>
          <a:bodyPr lIns="90000" rIns="90000" tIns="46800" bIns="46800" anchor="t">
            <a:normAutofit fontScale="88000"/>
          </a:bodyPr>
          <a:p>
            <a:pPr marL="536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onotype Koufi"/>
              </a:rPr>
              <a:t>2</a:t>
            </a:r>
            <a:r>
              <a:rPr b="1" lang="ar-SA" sz="3200" spc="-1" strike="noStrike">
                <a:solidFill>
                  <a:srgbClr val="000099"/>
                </a:solidFill>
                <a:latin typeface="Arial"/>
                <a:ea typeface="Monotype Koufi"/>
              </a:rPr>
              <a:t>- مفهوم قائمة المركز المالي :-</a:t>
            </a:r>
            <a:endParaRPr b="0" lang="en-US" sz="3200" spc="-1" strike="noStrike">
              <a:solidFill>
                <a:srgbClr val="000000"/>
              </a:solidFill>
              <a:latin typeface="Arial"/>
            </a:endParaRPr>
          </a:p>
          <a:p>
            <a:pPr marL="536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قائمة المركز المالي هي تصوير للوضع المالي للمنشأة في لحظة معينة وبالتالي فإن محتويات قائمة المركز المالي هي عناصر لحظية وتعرف محاسبياً بمصطلح الأرصدة تمييزاً لها عن التدفقات التي تمثل القوائم المالية الأخرى.</a:t>
            </a:r>
            <a:endParaRPr b="0" lang="en-US" sz="2800" spc="-1" strike="noStrike">
              <a:solidFill>
                <a:srgbClr val="000000"/>
              </a:solidFill>
              <a:latin typeface="Arial"/>
            </a:endParaRPr>
          </a:p>
          <a:p>
            <a:pPr marL="536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ولذلك فإنه يمكن تقسيم عناصر القوائم المالية إلي ثلاث مجموعـات : -</a:t>
            </a:r>
            <a:endParaRPr b="0" lang="en-US" sz="2800" spc="-1" strike="noStrike">
              <a:solidFill>
                <a:srgbClr val="000000"/>
              </a:solidFill>
              <a:latin typeface="Arial"/>
            </a:endParaRPr>
          </a:p>
          <a:p>
            <a:pPr marL="536040" indent="-536040" algn="just" rtl="1">
              <a:spcBef>
                <a:spcPts val="700"/>
              </a:spcBef>
              <a:buClr>
                <a:srgbClr val="333399"/>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الأرصدة :</a:t>
            </a:r>
            <a:r>
              <a:rPr b="1" lang="ar-SA" sz="2800" spc="-1" strike="noStrike">
                <a:solidFill>
                  <a:srgbClr val="000000"/>
                </a:solidFill>
                <a:latin typeface="Arial"/>
              </a:rPr>
              <a:t> وهي تشمل عناصر الأصول والخصوم وحقوق الملكية ويتم الإفصاح عنها بقائمة المركز المالي .</a:t>
            </a:r>
            <a:endParaRPr b="0" lang="en-US" sz="2800" spc="-1" strike="noStrike">
              <a:solidFill>
                <a:srgbClr val="000000"/>
              </a:solidFill>
              <a:latin typeface="Arial"/>
            </a:endParaRPr>
          </a:p>
          <a:p>
            <a:pPr marL="536040" indent="-536040" algn="just" rtl="1">
              <a:spcBef>
                <a:spcPts val="700"/>
              </a:spcBef>
              <a:buClr>
                <a:srgbClr val="333399"/>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تدفقات إيرادية:</a:t>
            </a:r>
            <a:r>
              <a:rPr b="1" lang="ar-SA" sz="2800" spc="-1" strike="noStrike">
                <a:solidFill>
                  <a:srgbClr val="000000"/>
                </a:solidFill>
                <a:latin typeface="Arial"/>
              </a:rPr>
              <a:t> وتشمل عناصر الإيرادات والمصروفات ويتم الإفصاح عنها في قائمة الدخل .</a:t>
            </a:r>
            <a:endParaRPr b="0" lang="en-US" sz="2800" spc="-1" strike="noStrike">
              <a:solidFill>
                <a:srgbClr val="000000"/>
              </a:solidFill>
              <a:latin typeface="Arial"/>
            </a:endParaRPr>
          </a:p>
          <a:p>
            <a:pPr marL="536040" indent="-536040" algn="just" rtl="1">
              <a:spcBef>
                <a:spcPts val="700"/>
              </a:spcBef>
              <a:buClr>
                <a:srgbClr val="333399"/>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تدفقات نقدية:</a:t>
            </a:r>
            <a:r>
              <a:rPr b="1" lang="ar-SA" sz="2800" spc="-1" strike="noStrike">
                <a:solidFill>
                  <a:srgbClr val="000000"/>
                </a:solidFill>
                <a:latin typeface="Arial"/>
              </a:rPr>
              <a:t> وتشمل عناصر المتحصلات والمدفوعات ويتم الإفصاح عنها في قائمة خاص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76000"/>
            <a:ext cx="8229600" cy="6165720"/>
          </a:xfrm>
          <a:prstGeom prst="rect">
            <a:avLst/>
          </a:prstGeom>
          <a:noFill/>
          <a:ln w="0">
            <a:noFill/>
          </a:ln>
        </p:spPr>
        <p:txBody>
          <a:bodyPr lIns="90000" rIns="90000" tIns="46800" bIns="46800" anchor="t">
            <a:normAutofit fontScale="93000"/>
          </a:bodyPr>
          <a:p>
            <a:pPr marL="318960" indent="-318960" algn="just" rtl="1">
              <a:lnSpc>
                <a:spcPct val="12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فيما يتعلق بقائمة المركز المالي فإن هناك محدودية لاستخدامها في مجال توفير كافة المعلومات حيث أن كثير من الأرقام الواردة في هذه القائمة تتأثر إلي حد كبير بأحداث وظواهر لا يتم الاعتراف فيها محاسبياً مثل تغيرات الأسعار ، كما أن الأرقام الواردة فيها لا تمثل مقاييس متجانسة لأنها عبارة عن نسيج من عناصر مختلفة للأصول والخصوم يتم تقويمها على أساس التكلفة التاريخية أو التكلفة الجارية أو أسعار السوق أو القيم الدفتر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326880"/>
            <a:ext cx="8229600" cy="6126480"/>
          </a:xfrm>
          <a:prstGeom prst="rect">
            <a:avLst/>
          </a:prstGeom>
          <a:noFill/>
          <a:ln w="0">
            <a:noFill/>
          </a:ln>
        </p:spPr>
        <p:txBody>
          <a:bodyPr lIns="90000" rIns="90000" tIns="46800" bIns="46800" anchor="t">
            <a:normAutofit fontScale="92000"/>
          </a:bodyPr>
          <a:p>
            <a:pPr marL="315360" indent="-31536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ن الاستخدامات الرئيسية لقائمة المركز المالي تتركز في مساعدة مستخدمي التقارير المالية على تقييم بعض خصائص الوضع المالي للمنشأة وبصفة خاصة ما يلي : ( درجة السيولة، درجة مرونة الهيكل المالي، احتمالات المستقبل، درجة المخاطرة، عقد المقارنات، حساب معدلات العائد، ).</a:t>
            </a:r>
            <a:endParaRPr b="0" lang="en-US" sz="2800" spc="-1" strike="noStrike">
              <a:solidFill>
                <a:srgbClr val="000000"/>
              </a:solidFill>
              <a:latin typeface="Arial"/>
            </a:endParaRPr>
          </a:p>
          <a:p>
            <a:pPr marL="315360" indent="-31536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تم عادةً تبويب عناصر المركز المالي على أساس درجة سيولتها لذلك يتم تقسيم عناصر الأصول والخصوم إلي عناصر متداولة وأخري غير متداولة، ويقصد بالعناصر المتداولة تلك العناصر التي ينتظر تحويلها إلي نقدية خلال عام أو خلال دورة النشاط العادي أيهما أطو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288720"/>
            <a:ext cx="8229600" cy="6453000"/>
          </a:xfrm>
          <a:prstGeom prst="rect">
            <a:avLst/>
          </a:prstGeom>
          <a:noFill/>
          <a:ln w="0">
            <a:noFill/>
          </a:ln>
        </p:spPr>
        <p:txBody>
          <a:bodyPr lIns="90000" rIns="90000" tIns="46800" bIns="46800" anchor="t">
            <a:normAutofit fontScale="98000"/>
          </a:bodyPr>
          <a:p>
            <a:pPr marL="335880" indent="-335880" algn="just" rtl="1">
              <a:lnSpc>
                <a:spcPct val="12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ناك رأي آخر يري أن يتم التبويب على أساس التمييز بين العناصر النقدية وغير النقدية داخل مجموعة العناصر المتداولة، كذلك يتم التمييز بين الأصول التي تقتني لغرض البيع وبين تلك التي تقتني لغرض الاستخدام .</a:t>
            </a:r>
            <a:endParaRPr b="0" lang="en-US" sz="2800" spc="-1" strike="noStrike">
              <a:solidFill>
                <a:srgbClr val="000000"/>
              </a:solidFill>
              <a:latin typeface="Arial"/>
            </a:endParaRPr>
          </a:p>
          <a:p>
            <a:pPr marL="335880" indent="-335880" algn="r" rtl="1">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فيما يتعلق بتبويب عناصر الخصوم فيمكن التميز بين خمسة أنواع من الإلتزامات:-</a:t>
            </a:r>
            <a:endParaRPr b="0" lang="en-US" sz="2800" spc="-1" strike="noStrike">
              <a:solidFill>
                <a:srgbClr val="000000"/>
              </a:solidFill>
              <a:latin typeface="Arial"/>
            </a:endParaRPr>
          </a:p>
          <a:p>
            <a:pPr lvl="1" marL="727920" indent="-28008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زامات تعاقدية</a:t>
            </a:r>
            <a:r>
              <a:rPr b="1" lang="ar-SA" sz="2800" spc="-1" strike="noStrike">
                <a:solidFill>
                  <a:srgbClr val="000000"/>
                </a:solidFill>
                <a:latin typeface="Arial"/>
              </a:rPr>
              <a:t>	</a:t>
            </a:r>
            <a:r>
              <a:rPr b="1" lang="en-US" sz="2800" spc="-1" strike="noStrike">
                <a:solidFill>
                  <a:srgbClr val="000000"/>
                </a:solidFill>
                <a:latin typeface="Arial"/>
              </a:rPr>
              <a:t>contractual stabilities</a:t>
            </a:r>
            <a:r>
              <a:rPr b="1" lang="ar-SA" sz="2800" spc="-1" strike="noStrike">
                <a:solidFill>
                  <a:srgbClr val="000000"/>
                </a:solidFill>
                <a:latin typeface="Arial"/>
              </a:rPr>
              <a:t> .</a:t>
            </a:r>
            <a:endParaRPr b="0" lang="en-US" sz="2800" spc="-1" strike="noStrike">
              <a:solidFill>
                <a:srgbClr val="000000"/>
              </a:solidFill>
              <a:latin typeface="Arial"/>
            </a:endParaRPr>
          </a:p>
          <a:p>
            <a:pPr lvl="1" marL="727920" indent="-28008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زامات تقليدية  </a:t>
            </a:r>
            <a:r>
              <a:rPr b="1" lang="en-US" sz="2800" spc="-1" strike="noStrike">
                <a:solidFill>
                  <a:srgbClr val="000000"/>
                </a:solidFill>
                <a:latin typeface="Arial"/>
              </a:rPr>
              <a:t>constructive obligations</a:t>
            </a:r>
            <a:r>
              <a:rPr b="1" lang="en-US" sz="2800" spc="-1" strike="noStrike">
                <a:solidFill>
                  <a:srgbClr val="000000"/>
                </a:solidFill>
                <a:latin typeface="Arial"/>
              </a:rPr>
              <a:t> </a:t>
            </a:r>
            <a:endParaRPr b="0" lang="en-US" sz="2800" spc="-1" strike="noStrike">
              <a:solidFill>
                <a:srgbClr val="000000"/>
              </a:solidFill>
              <a:latin typeface="Arial"/>
            </a:endParaRPr>
          </a:p>
          <a:p>
            <a:pPr lvl="1" marL="727920" indent="-28008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زامات أخلاقية</a:t>
            </a:r>
            <a:r>
              <a:rPr b="1" lang="ar-SA" sz="2800" spc="-1" strike="noStrike">
                <a:solidFill>
                  <a:srgbClr val="000000"/>
                </a:solidFill>
                <a:latin typeface="Arial"/>
              </a:rPr>
              <a:t>	</a:t>
            </a:r>
            <a:r>
              <a:rPr b="1" lang="en-US" sz="2800" spc="-1" strike="noStrike">
                <a:solidFill>
                  <a:srgbClr val="000000"/>
                </a:solidFill>
                <a:latin typeface="Arial"/>
              </a:rPr>
              <a:t>equitable obligations</a:t>
            </a:r>
            <a:r>
              <a:rPr b="1" lang="ar-SA" sz="2800" spc="-1" strike="noStrike">
                <a:solidFill>
                  <a:srgbClr val="000000"/>
                </a:solidFill>
                <a:latin typeface="Arial"/>
              </a:rPr>
              <a:t>.</a:t>
            </a:r>
            <a:endParaRPr b="0" lang="en-US" sz="2800" spc="-1" strike="noStrike">
              <a:solidFill>
                <a:srgbClr val="000000"/>
              </a:solidFill>
              <a:latin typeface="Arial"/>
            </a:endParaRPr>
          </a:p>
          <a:p>
            <a:pPr lvl="1" marL="727920" indent="-28008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زامات احتمالية</a:t>
            </a:r>
            <a:r>
              <a:rPr b="1" lang="ar-SA" sz="2800" spc="-1" strike="noStrike">
                <a:solidFill>
                  <a:srgbClr val="000000"/>
                </a:solidFill>
                <a:latin typeface="Arial"/>
              </a:rPr>
              <a:t>	</a:t>
            </a:r>
            <a:r>
              <a:rPr b="1" lang="en-US" sz="2800" spc="-1" strike="noStrike">
                <a:solidFill>
                  <a:srgbClr val="000000"/>
                </a:solidFill>
                <a:latin typeface="Arial"/>
              </a:rPr>
              <a:t>contingent liabilities</a:t>
            </a:r>
            <a:r>
              <a:rPr b="1" lang="ar-SA" sz="2800" spc="-1" strike="noStrike">
                <a:solidFill>
                  <a:srgbClr val="000000"/>
                </a:solidFill>
                <a:latin typeface="Arial"/>
              </a:rPr>
              <a:t> .</a:t>
            </a:r>
            <a:endParaRPr b="0" lang="en-US" sz="2800" spc="-1" strike="noStrike">
              <a:solidFill>
                <a:srgbClr val="000000"/>
              </a:solidFill>
              <a:latin typeface="Arial"/>
            </a:endParaRPr>
          </a:p>
          <a:p>
            <a:pPr lvl="1" marL="727920" indent="-280080" algn="r" rtl="1">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رصدة دائنة أخري</a:t>
            </a:r>
            <a:r>
              <a:rPr b="1" lang="ar-SA" sz="2800" spc="-1" strike="noStrike">
                <a:solidFill>
                  <a:srgbClr val="000000"/>
                </a:solidFill>
                <a:latin typeface="Arial"/>
              </a:rPr>
              <a:t>	</a:t>
            </a:r>
            <a:r>
              <a:rPr b="1" lang="en-US" sz="2800" spc="-1" strike="noStrike">
                <a:solidFill>
                  <a:srgbClr val="000000"/>
                </a:solidFill>
                <a:latin typeface="Arial"/>
              </a:rPr>
              <a:t>deferred credits</a:t>
            </a:r>
            <a:r>
              <a:rPr b="1" lang="ar-SA" sz="2400" spc="-1" strike="noStrike">
                <a:solidFill>
                  <a:srgbClr val="000000"/>
                </a:solidFill>
                <a:latin typeface="Arial"/>
              </a:rPr>
              <a:t> .</a:t>
            </a:r>
            <a:endParaRPr b="0" lang="en-US" sz="2400" spc="-1" strike="noStrike">
              <a:solidFill>
                <a:srgbClr val="000000"/>
              </a:solidFill>
              <a:latin typeface="Arial"/>
            </a:endParaRPr>
          </a:p>
          <a:p>
            <a:pPr marL="335880" indent="0" algn="just" rtl="1">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just" rtl="1">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398160"/>
            <a:ext cx="8229600" cy="6126120"/>
          </a:xfrm>
          <a:prstGeom prst="rect">
            <a:avLst/>
          </a:prstGeom>
          <a:noFill/>
          <a:ln w="0">
            <a:noFill/>
          </a:ln>
        </p:spPr>
        <p:txBody>
          <a:bodyPr lIns="90000" rIns="90000" tIns="46800" bIns="46800" anchor="t">
            <a:normAutofit fontScale="90000"/>
          </a:bodyPr>
          <a:p>
            <a:pPr marL="308520" indent="-30852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قصد بالالتزامات التعاقدية تلك الالتزامات التي تنشأ نتيجة تعاقد بين المنشأة وجهات أخري .</a:t>
            </a:r>
            <a:endParaRPr b="0" lang="en-US" sz="2800" spc="-1" strike="noStrike">
              <a:solidFill>
                <a:srgbClr val="000000"/>
              </a:solidFill>
              <a:latin typeface="Arial"/>
            </a:endParaRPr>
          </a:p>
          <a:p>
            <a:pPr marL="308520" indent="-30852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ما الالتزامات التقليدية فهي الالتزامات غير التعاقدية ولا تعتمد على أسانيد قانونية وإنما تترتب عن أوضاع بيئية معينة تحيط بنشاط المنشأة ومن أمثلة ذلك ما جري عليه العرف من منح إجازات بأجر أو منح مكافآت للعاملين في نهاية العام .</a:t>
            </a:r>
            <a:endParaRPr b="0" lang="en-US" sz="2800" spc="-1" strike="noStrike">
              <a:solidFill>
                <a:srgbClr val="000000"/>
              </a:solidFill>
              <a:latin typeface="Arial"/>
            </a:endParaRPr>
          </a:p>
          <a:p>
            <a:pPr marL="308520" indent="-30852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ما الالتزامات الأخلاقية فهي السائدة مثل العدالة والحق والواجب والمثال  الواضح على ذلك هو استمرارية الالتزام الأخلاقي للمورد بتوريد السلع والخدمات رغم عدم وجود اتفاق قانوني بذل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87000"/>
          </a:bodyPr>
          <a:p>
            <a:pPr marL="298440" indent="-298440" algn="just" rtl="1">
              <a:lnSpc>
                <a:spcPct val="11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ما الالتزامات الاحتمالية فهي تلك الالتزامات الشرطية التي يصاحبها عنصر عدم التأكد من حيث قيام الالتزام أو مبلغ الالتزام أو تاريخ الالتزام ويشترط في هذا الالتزام وجود احتمالية قيام الالتزام وإمكانية قياس النتائج المترتبة عليه ومن أمثلة ذلك الدعاوى القضائية ضد المنشأة، الخسائر المحتملة من عقود شراء غير قابلة للإلغاء ، التزام مقابل ضمانات .</a:t>
            </a:r>
            <a:endParaRPr b="0" lang="en-US" sz="2800" spc="-1" strike="noStrike">
              <a:solidFill>
                <a:srgbClr val="000000"/>
              </a:solidFill>
              <a:latin typeface="Arial"/>
            </a:endParaRPr>
          </a:p>
          <a:p>
            <a:pPr marL="298440" indent="-298440" algn="just" rtl="1">
              <a:lnSpc>
                <a:spcPct val="11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ما فيما يتعلق بالأرصدة الدائنة فهي تشتمل على نوعين : -</a:t>
            </a:r>
            <a:endParaRPr b="0" lang="en-US" sz="2800" spc="-1" strike="noStrike">
              <a:solidFill>
                <a:srgbClr val="000000"/>
              </a:solidFill>
              <a:latin typeface="Arial"/>
            </a:endParaRPr>
          </a:p>
          <a:p>
            <a:pPr marL="298440" indent="0" algn="just"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	</a:t>
            </a:r>
            <a:r>
              <a:rPr b="1" lang="ar-SA" sz="2800" spc="-1" strike="noStrike">
                <a:solidFill>
                  <a:srgbClr val="333399"/>
                </a:solidFill>
                <a:latin typeface="Arial"/>
              </a:rPr>
              <a:t>الأول:</a:t>
            </a:r>
            <a:r>
              <a:rPr b="1" lang="ar-SA" sz="2800" spc="-1" strike="noStrike">
                <a:solidFill>
                  <a:srgbClr val="000000"/>
                </a:solidFill>
                <a:latin typeface="Arial"/>
              </a:rPr>
              <a:t> يمثل إيرادات محصلة مقدماً، وهي تتعلق بأداء خدمات أو تقديم سلع للمنشأة .</a:t>
            </a:r>
            <a:endParaRPr b="0" lang="en-US" sz="2800" spc="-1" strike="noStrike">
              <a:solidFill>
                <a:srgbClr val="000000"/>
              </a:solidFill>
              <a:latin typeface="Arial"/>
            </a:endParaRPr>
          </a:p>
          <a:p>
            <a:pPr marL="298440" indent="0" algn="just"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	</a:t>
            </a:r>
            <a:r>
              <a:rPr b="1" lang="ar-SA" sz="2800" spc="-1" strike="noStrike">
                <a:solidFill>
                  <a:srgbClr val="333399"/>
                </a:solidFill>
                <a:latin typeface="Arial"/>
              </a:rPr>
              <a:t>الثاني:</a:t>
            </a:r>
            <a:r>
              <a:rPr b="1" lang="ar-SA" sz="2800" spc="-1" strike="noStrike">
                <a:solidFill>
                  <a:srgbClr val="000000"/>
                </a:solidFill>
                <a:latin typeface="Arial"/>
              </a:rPr>
              <a:t> فهي عبارة عن تسويات محاسبية ناتجة عن تطبيق مبدأ مقابلة الإيرادات بالمصروفات ومن أمثلتها وفورات ضريبية مرحلة، مستحقات للغير لا يتم تضمينها في قائمة الدخ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71240"/>
            <a:ext cx="8229600" cy="6126120"/>
          </a:xfrm>
          <a:prstGeom prst="rect">
            <a:avLst/>
          </a:prstGeom>
          <a:noFill/>
          <a:ln w="0">
            <a:noFill/>
          </a:ln>
        </p:spPr>
        <p:txBody>
          <a:bodyPr lIns="90000" rIns="90000" tIns="46800" bIns="46800" anchor="t">
            <a:normAutofit fontScale="92000"/>
          </a:bodyPr>
          <a:p>
            <a:pPr marL="315360" indent="-31536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أما العنصر الأخير في قائمة المركز المالي فيمكن تقسيمه إلي ثلاثة بنود رئيسية هي:-</a:t>
            </a:r>
            <a:endParaRPr b="0" lang="en-US" sz="3200" spc="-1" strike="noStrike">
              <a:solidFill>
                <a:srgbClr val="000000"/>
              </a:solidFill>
              <a:latin typeface="Arial"/>
            </a:endParaRPr>
          </a:p>
          <a:p>
            <a:pPr marL="315360" indent="0" algn="just"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cs typeface="Monotype Koufi"/>
              </a:rPr>
              <a:t>أ) رأس المال المدفوع :-</a:t>
            </a:r>
            <a:endParaRPr b="0" lang="en-US" sz="3200" spc="-1" strike="noStrike">
              <a:solidFill>
                <a:srgbClr val="000000"/>
              </a:solidFill>
              <a:latin typeface="Arial"/>
            </a:endParaRPr>
          </a:p>
          <a:p>
            <a:pPr marL="315360" indent="0" algn="just"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نقسم إلي: </a:t>
            </a:r>
            <a:endParaRPr b="0" lang="en-US" sz="3200" spc="-1" strike="noStrike">
              <a:solidFill>
                <a:srgbClr val="000000"/>
              </a:solidFill>
              <a:latin typeface="Arial"/>
            </a:endParaRPr>
          </a:p>
          <a:p>
            <a:pPr lvl="1" marL="683280" indent="-262800" algn="just" rtl="1">
              <a:lnSpc>
                <a:spcPct val="120000"/>
              </a:lnSpc>
              <a:spcBef>
                <a:spcPts val="12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رأس مال قانوني ( </a:t>
            </a:r>
            <a:r>
              <a:rPr b="1" lang="en-US" sz="2800" spc="-1" strike="noStrike">
                <a:solidFill>
                  <a:srgbClr val="000000"/>
                </a:solidFill>
                <a:latin typeface="Arial"/>
              </a:rPr>
              <a:t>legal capital</a:t>
            </a:r>
            <a:r>
              <a:rPr b="1" lang="ar-SA" sz="2800" spc="-1" strike="noStrike">
                <a:solidFill>
                  <a:srgbClr val="000000"/>
                </a:solidFill>
                <a:latin typeface="Arial"/>
              </a:rPr>
              <a:t> ) ويمثل  المسؤولية القانونية لحملة الأسهم ويتحدد على أساس القيمة الاسمية .</a:t>
            </a:r>
            <a:endParaRPr b="0" lang="en-US" sz="2800" spc="-1" strike="noStrike">
              <a:solidFill>
                <a:srgbClr val="000000"/>
              </a:solidFill>
              <a:latin typeface="Arial"/>
            </a:endParaRPr>
          </a:p>
          <a:p>
            <a:pPr lvl="1" marL="683280" indent="-262800" algn="just" rtl="1">
              <a:lnSpc>
                <a:spcPct val="120000"/>
              </a:lnSpc>
              <a:spcBef>
                <a:spcPts val="12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رأس مال إضافي: ويشمل عناصر علاوة الإصدار ، زيادة أو نقص قيمة أسهم الخزينة المراد إصدارها، الهبات الرأس مال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33360"/>
            <a:ext cx="8229600" cy="6120000"/>
          </a:xfrm>
          <a:prstGeom prst="rect">
            <a:avLst/>
          </a:prstGeom>
          <a:noFill/>
          <a:ln w="0">
            <a:noFill/>
          </a:ln>
        </p:spPr>
        <p:txBody>
          <a:bodyPr lIns="90000" rIns="90000" tIns="46800" bIns="46800" anchor="t">
            <a:normAutofit fontScale="84000"/>
          </a:bodyPr>
          <a:p>
            <a:pPr marL="511920" indent="-511920" algn="just" rtl="1">
              <a:spcBef>
                <a:spcPts val="2100"/>
              </a:spcBef>
              <a:buClr>
                <a:srgbClr val="0000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وجهة نظر المراجع الخارجي فقد على أهداف المحاسبة ، وأصبح الهدف من التقارير المالية هو إظهار مدي عدالة الإفصاح ومدي اتفاقه مع المبادئ المحاسبية المتعارف عليها ، أي أن الاهتمام الأساسي أصبح يركز على إنتاج تقارير مالية تتسم بالموضوعية ومستندة على مبادئ المحاسبة المتعارف عليها، بغرض حماية المراجع الخارجي من أية مسئولية قد يتعرض لها .</a:t>
            </a:r>
            <a:endParaRPr b="0" lang="en-US" sz="2800" spc="-1" strike="noStrike">
              <a:solidFill>
                <a:srgbClr val="000000"/>
              </a:solidFill>
              <a:latin typeface="Arial"/>
            </a:endParaRPr>
          </a:p>
          <a:p>
            <a:pPr marL="511920" indent="-511920" algn="just" rtl="1">
              <a:spcBef>
                <a:spcPts val="2100"/>
              </a:spcBef>
              <a:buClr>
                <a:srgbClr val="0000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وجهة نظر مستخدمي التقارير المالية هي وجهة النظر السائدة حالياً في تحديد أهداف المحاسبة وهو ما يعرف بالاتجاه النفعي أو اتجاه فائدة المعلومات في اتخاذ القرارات، لأن الهدف الرئيسي من التقارير المالية يعتمد على المعلومات التي يحتاجها مستخدمو هذه التقارير، بحيث يقع على عاتق كل من المنشأة ، والمهنة مسئولية توجيه وتطوير إمكانياتهم وقدراتهم نحو تحقيق هذه الاحتياجات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3000"/>
          </a:bodyPr>
          <a:p>
            <a:pPr marL="284400" indent="0" algn="r" rtl="1">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cs typeface="Monotype Koufi"/>
              </a:rPr>
              <a:t>ب) رأس المال المكتسب :-</a:t>
            </a:r>
            <a:endParaRPr b="0" lang="en-US" sz="3200" spc="-1" strike="noStrike">
              <a:solidFill>
                <a:srgbClr val="000000"/>
              </a:solidFill>
              <a:latin typeface="Arial"/>
            </a:endParaRPr>
          </a:p>
          <a:p>
            <a:pPr marL="284400" indent="0" algn="just" rtl="1">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a:t>
            </a:r>
            <a:r>
              <a:rPr b="1" lang="ar-SA" sz="3200" spc="-1" strike="noStrike">
                <a:solidFill>
                  <a:srgbClr val="000000"/>
                </a:solidFill>
                <a:latin typeface="Arial"/>
              </a:rPr>
              <a:t>ويعرف بالأرباح المحتجزة ويمثل الأرباح المحققة وغير  الموزعة حتى تاريخ إعداد المركز المالي وقد يكــــون رأس المال المكتسب غير مقيد أو أن يكون مقيد في شكل احتياطيات ( </a:t>
            </a:r>
            <a:r>
              <a:rPr b="1" lang="en-US" sz="3200" spc="-1" strike="noStrike">
                <a:solidFill>
                  <a:srgbClr val="000000"/>
                </a:solidFill>
                <a:latin typeface="Arial"/>
              </a:rPr>
              <a:t>reserves</a:t>
            </a:r>
            <a:r>
              <a:rPr b="1" lang="ar-SA" sz="3200" spc="-1" strike="noStrike">
                <a:solidFill>
                  <a:srgbClr val="000000"/>
                </a:solidFill>
                <a:latin typeface="Arial"/>
              </a:rPr>
              <a:t> ) مثل الاحتياط القانوني أو احتياطي التوسعات ويلزم هنا التفرقة بين الاحتياطيات والمخصصات حيث أن الاحتياطيات هي نوع من التصرف أو التخصيص للربح وليس التخفيض له، بينما المخصصات هي لمقابلة خسائر محتملة وهي بذلك تحميلاً على الربح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289080"/>
            <a:ext cx="8229600" cy="6308640"/>
          </a:xfrm>
          <a:prstGeom prst="rect">
            <a:avLst/>
          </a:prstGeom>
          <a:noFill/>
          <a:ln w="0">
            <a:noFill/>
          </a:ln>
        </p:spPr>
        <p:txBody>
          <a:bodyPr lIns="90000" rIns="90000" tIns="46800" bIns="46800" anchor="t">
            <a:normAutofit fontScale="88000"/>
          </a:bodyPr>
          <a:p>
            <a:pPr marL="301680" indent="0" algn="just"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Monotype Koufi"/>
              </a:rPr>
              <a:t>ج) رأس المال المحتسب :-</a:t>
            </a:r>
            <a:endParaRPr b="0" lang="en-US" sz="2800" spc="-1" strike="noStrike">
              <a:solidFill>
                <a:srgbClr val="000000"/>
              </a:solidFill>
              <a:latin typeface="Arial"/>
            </a:endParaRPr>
          </a:p>
          <a:p>
            <a:pPr marL="301680" indent="0" algn="just"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SA" sz="2800" spc="-1" strike="noStrike">
                <a:solidFill>
                  <a:srgbClr val="000000"/>
                </a:solidFill>
                <a:latin typeface="Arial"/>
              </a:rPr>
              <a:t>وهو يمثل تسويات رأسمالية لم تتحقق حتى تاريخ إعداد قائمة المركز المالي ومن أمثلة ذلك رأس مال إعادة تقويم، فروق ترجمة الأرصدة من العملات الأجنبية، أرباح الحيازة غير المحققة ومن ذلك يتبين أ، قائمة المركز المالي وقائمة الدخل يعكسان مصادر التغير في حقوق الملكية والتي تتمثل في الآتي :-</a:t>
            </a:r>
            <a:endParaRPr b="0" lang="en-US" sz="2800" spc="-1" strike="noStrike">
              <a:solidFill>
                <a:srgbClr val="000000"/>
              </a:solidFill>
              <a:latin typeface="Arial"/>
            </a:endParaRPr>
          </a:p>
          <a:p>
            <a:pPr marL="301680" indent="-30168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استثمارات الإضافية المقدمة من أصحاب رأس المال .</a:t>
            </a:r>
            <a:endParaRPr b="0" lang="en-US" sz="2800" spc="-1" strike="noStrike">
              <a:solidFill>
                <a:srgbClr val="000000"/>
              </a:solidFill>
              <a:latin typeface="Arial"/>
            </a:endParaRPr>
          </a:p>
          <a:p>
            <a:pPr marL="301680" indent="-30168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وزيعات على أصحاب رأس المال وتشمل توزيعات الأرباح على رأس المال المستثمر أو توزيعات تمثل استرداد أو تخفيض لرأس الما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fontScale="92000"/>
          </a:bodyPr>
          <a:p>
            <a:pPr marL="315360" indent="-315360" algn="just" rtl="1">
              <a:lnSpc>
                <a:spcPct val="125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تكون توزيعات الأرباح إما نقداً أو عيناً وهي توزيعات تؤثر على إجمالي حقوق الملكية غير أن هناك توزيعات لا تؤثر على إجمالي حقوق الملكية وإنما تؤثر  على مكونات هذه الحقوق ويتم هذا النوع الأخير من التوزيعات عن طريق إصدار أسهم مجانية ( </a:t>
            </a:r>
            <a:r>
              <a:rPr b="1" lang="en-US" sz="3200" spc="-1" strike="noStrike">
                <a:solidFill>
                  <a:srgbClr val="000000"/>
                </a:solidFill>
                <a:latin typeface="Arial"/>
              </a:rPr>
              <a:t>stock dividends</a:t>
            </a:r>
            <a:r>
              <a:rPr b="1" lang="ar-SA" sz="3200" spc="-1" strike="noStrike">
                <a:solidFill>
                  <a:srgbClr val="000000"/>
                </a:solidFill>
                <a:latin typeface="Arial"/>
              </a:rPr>
              <a:t> )، فالأسهم المجانية هي مجرد تحويل من الأرباح المحتجزة وجعلها غير قابلة للتوزي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360"/>
            <a:ext cx="8229600" cy="6381720"/>
          </a:xfrm>
          <a:prstGeom prst="rect">
            <a:avLst/>
          </a:prstGeom>
          <a:noFill/>
          <a:ln w="0">
            <a:noFill/>
          </a:ln>
        </p:spPr>
        <p:txBody>
          <a:bodyPr lIns="90000" rIns="90000" tIns="46800" bIns="46800" anchor="t">
            <a:normAutofit fontScale="81000"/>
          </a:bodyPr>
          <a:p>
            <a:pPr marL="277560" indent="-277560" algn="just" rtl="1">
              <a:lnSpc>
                <a:spcPct val="12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ما توزيع رأس المال أو تخفيضه فقد يتم عن طريق شراء أسهم رأس المال والذي قد يكون بصورة نهائية مقابل تخفيض نهائي لحقوق الملكية أو قد يكون بصورة مؤقتة عن طريق ما يعرف بشراء أسهم الخزينة ، وشراء أسهم الخزينة في جوهره هو نوع من التخفيض المؤقت لحقوق الملكية إلي حين قيام المنشأة بإعادة إصدار هذه الأسهم لذلك لا تعتبر أسهم الخزينة أصلاً من أصول المنشأة.</a:t>
            </a:r>
            <a:endParaRPr b="0" lang="en-US" sz="3200" spc="-1" strike="noStrike">
              <a:solidFill>
                <a:srgbClr val="000000"/>
              </a:solidFill>
              <a:latin typeface="Arial"/>
            </a:endParaRPr>
          </a:p>
          <a:p>
            <a:pPr marL="277560" indent="-277560" algn="just" rtl="1">
              <a:lnSpc>
                <a:spcPct val="12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ما الصورة الأخرى لتوزيع رأس المال فيتم عن طريق إجراء توزيعات التصفية وهي توزيعات تزيد عن مقدار الربح المحتجز مما تعد معه تخفيضاً لرأس الما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fontScale="92000"/>
          </a:bodyPr>
          <a:p>
            <a:pPr marL="315360" indent="0" algn="just" rtl="1">
              <a:lnSpc>
                <a:spcPct val="1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onotype Koufi"/>
              </a:rPr>
              <a:t>3</a:t>
            </a:r>
            <a:r>
              <a:rPr b="1" lang="ar-SA" sz="3200" spc="-1" strike="noStrike">
                <a:solidFill>
                  <a:srgbClr val="000099"/>
                </a:solidFill>
                <a:latin typeface="Arial"/>
                <a:ea typeface="Monotype Koufi"/>
              </a:rPr>
              <a:t>- مفهوم التغير في حقوق الملكية :-</a:t>
            </a:r>
            <a:endParaRPr b="0" lang="en-US" sz="3200" spc="-1" strike="noStrike">
              <a:solidFill>
                <a:srgbClr val="000000"/>
              </a:solidFill>
              <a:latin typeface="Arial"/>
            </a:endParaRPr>
          </a:p>
          <a:p>
            <a:pPr marL="315360" indent="-315360" algn="just" rtl="1">
              <a:lnSpc>
                <a:spcPct val="120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التغير في حقوق الملكية هو حلقة الربط بين قائمة الدخل وقائمة المركز المالي. </a:t>
            </a:r>
            <a:endParaRPr b="0" lang="en-US" sz="3200" spc="-1" strike="noStrike">
              <a:solidFill>
                <a:srgbClr val="000000"/>
              </a:solidFill>
              <a:latin typeface="Arial"/>
            </a:endParaRPr>
          </a:p>
          <a:p>
            <a:pPr marL="315360" indent="-315360" algn="just" rtl="1">
              <a:lnSpc>
                <a:spcPct val="120000"/>
              </a:lnSpc>
              <a:spcBef>
                <a:spcPts val="15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شمل قائمة التغير في حقوق الملكية على تيارين أساسيين هما :-</a:t>
            </a:r>
            <a:endParaRPr b="0" lang="en-US" sz="3200" spc="-1" strike="noStrike">
              <a:solidFill>
                <a:srgbClr val="000000"/>
              </a:solidFill>
              <a:latin typeface="Arial"/>
            </a:endParaRPr>
          </a:p>
          <a:p>
            <a:pPr lvl="1" marL="683280" indent="-262800" algn="just" rtl="1">
              <a:lnSpc>
                <a:spcPct val="12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استثمارات الإضافية المقدمة منهم بصفتهم ملاكاً للمشروع ، وقد تتم بصورة نقدية أو عينية . </a:t>
            </a:r>
            <a:endParaRPr b="0" lang="en-US" sz="2800" spc="-1" strike="noStrike">
              <a:solidFill>
                <a:srgbClr val="000000"/>
              </a:solidFill>
              <a:latin typeface="Arial"/>
            </a:endParaRPr>
          </a:p>
          <a:p>
            <a:pPr lvl="1" marL="683280" indent="-262800" algn="just" rtl="1">
              <a:lnSpc>
                <a:spcPct val="120000"/>
              </a:lnSpc>
              <a:spcBef>
                <a:spcPts val="15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زيعات على أصحاب رأس المال وقد تتم بصورة توزيعات أرباح محتجزة أو استرداد لرأس المال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93000"/>
          </a:bodyPr>
          <a:p>
            <a:pPr marL="318960" indent="0" algn="just" rtl="1">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Monotype Koufi"/>
              </a:rPr>
              <a:t>4</a:t>
            </a:r>
            <a:r>
              <a:rPr b="1" lang="ar-SA" sz="2800" spc="-1" strike="noStrike">
                <a:solidFill>
                  <a:srgbClr val="000099"/>
                </a:solidFill>
                <a:latin typeface="Arial"/>
                <a:ea typeface="Monotype Koufi"/>
              </a:rPr>
              <a:t>- مفهوم قائمة التدفق النقدي :-</a:t>
            </a:r>
            <a:endParaRPr b="0" lang="en-US" sz="2800" spc="-1" strike="noStrike">
              <a:solidFill>
                <a:srgbClr val="000000"/>
              </a:solidFill>
              <a:latin typeface="Arial"/>
            </a:endParaRPr>
          </a:p>
          <a:p>
            <a:pPr marL="318960" indent="-31896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 قائمة الدخل أنها عبارة عن بيان نتائج العمليات الإيرادية في المنشأة والتي لا توضح لنا مقدار التغيرات في المركز المالي مما يبرز أهمية الحاجة إلي قائمة التغيرات في المركز المالي لتصبح جنباً إلي جنب مع قائمة الدخل وقائمة المركز المالي .</a:t>
            </a:r>
            <a:endParaRPr b="0" lang="en-US" sz="2800" spc="-1" strike="noStrike">
              <a:solidFill>
                <a:srgbClr val="000000"/>
              </a:solidFill>
              <a:latin typeface="Arial"/>
            </a:endParaRPr>
          </a:p>
          <a:p>
            <a:pPr marL="318960" indent="-31896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من المشاكل الرئيسية التي تثيرها هذه القائمة هو تحديد مفهوم الأموال، فقد يقصد بالأموال النقدية وما في حكمها، أو أصول النقدية، أو صافي الأصول النقدية، أو رأس المال العامل.</a:t>
            </a:r>
            <a:endParaRPr b="0" lang="en-US" sz="2800" spc="-1" strike="noStrike">
              <a:solidFill>
                <a:srgbClr val="000000"/>
              </a:solidFill>
              <a:latin typeface="Arial"/>
            </a:endParaRPr>
          </a:p>
          <a:p>
            <a:pPr marL="318960" indent="-31896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ما تواجهنا مشكلة التمييز بين الأصول والخصوم النقدية وغير النقدية.</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71360"/>
            <a:ext cx="8229600" cy="6858000"/>
          </a:xfrm>
          <a:prstGeom prst="rect">
            <a:avLst/>
          </a:prstGeom>
          <a:noFill/>
          <a:ln w="0">
            <a:noFill/>
          </a:ln>
        </p:spPr>
        <p:txBody>
          <a:bodyPr lIns="90000" rIns="90000" tIns="46800" bIns="46800" anchor="t">
            <a:normAutofit fontScale="91000"/>
          </a:bodyPr>
          <a:p>
            <a:pPr marL="312120" indent="-312120" algn="just" rtl="1">
              <a:lnSpc>
                <a:spcPct val="120000"/>
              </a:lnSpc>
              <a:spcBef>
                <a:spcPts val="2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تعدد الممارسات المحاسبية في مجال إعداد قائمة التغير في المركز المالي الأمر الذي أضر بمصالح مستخدمي التقارير المالية . </a:t>
            </a:r>
            <a:endParaRPr b="0" lang="en-US" sz="3200" spc="-1" strike="noStrike">
              <a:solidFill>
                <a:srgbClr val="000000"/>
              </a:solidFill>
              <a:latin typeface="Arial"/>
            </a:endParaRPr>
          </a:p>
          <a:p>
            <a:pPr marL="312120" indent="-312120" algn="just" rtl="1">
              <a:lnSpc>
                <a:spcPct val="120000"/>
              </a:lnSpc>
              <a:spcBef>
                <a:spcPts val="2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أدى ذلك إلي تزايد الاتجاه نحو قائمة التدفقات النقدية التاريخية لأغراض التنبؤ بالتدفقات النقدية المستقبلية ، من هنا جاء موقف مجلس معايير المحاسبة الأمريكي الذي يقضي بوجوب إعداد قائمة التدفقات النقدية ( </a:t>
            </a:r>
            <a:r>
              <a:rPr b="1" lang="en-US" sz="3200" spc="-1" strike="noStrike">
                <a:solidFill>
                  <a:srgbClr val="000000"/>
                </a:solidFill>
                <a:latin typeface="Arial"/>
              </a:rPr>
              <a:t>cash flows</a:t>
            </a:r>
            <a:r>
              <a:rPr b="1" lang="ar-SA" sz="3200" spc="-1" strike="noStrike">
                <a:solidFill>
                  <a:srgbClr val="000000"/>
                </a:solidFill>
                <a:latin typeface="Arial"/>
              </a:rPr>
              <a:t> ) بدلاً من قائمة التغير في المركز المالي وقد حدد الهدف من إعداد هذه القائمة هو مساعدة  المستخدمين والمقرضين في المجالات التال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86000"/>
          </a:bodyPr>
          <a:p>
            <a:pPr lvl="1" marL="639000" indent="-245520" algn="r" rtl="1">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نبؤ بالتدفقات النقدية المستقبلية .</a:t>
            </a:r>
            <a:endParaRPr b="0" lang="en-US" sz="2800" spc="-1" strike="noStrike">
              <a:solidFill>
                <a:srgbClr val="000000"/>
              </a:solidFill>
              <a:latin typeface="Arial"/>
            </a:endParaRPr>
          </a:p>
          <a:p>
            <a:pPr lvl="1" marL="639000" indent="-245520" algn="r" rtl="1">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قييم الارتدادي ( </a:t>
            </a:r>
            <a:r>
              <a:rPr b="1" lang="en-US" sz="2800" spc="-1" strike="noStrike">
                <a:solidFill>
                  <a:srgbClr val="000000"/>
                </a:solidFill>
                <a:latin typeface="Arial"/>
              </a:rPr>
              <a:t>feed back</a:t>
            </a:r>
            <a:r>
              <a:rPr b="1" lang="ar-SA" sz="2800" spc="-1" strike="noStrike">
                <a:solidFill>
                  <a:srgbClr val="000000"/>
                </a:solidFill>
                <a:latin typeface="Arial"/>
              </a:rPr>
              <a:t> ) للتدفقات النقدية الحالية .</a:t>
            </a:r>
            <a:endParaRPr b="0" lang="en-US" sz="2800" spc="-1" strike="noStrike">
              <a:solidFill>
                <a:srgbClr val="000000"/>
              </a:solidFill>
              <a:latin typeface="Arial"/>
            </a:endParaRPr>
          </a:p>
          <a:p>
            <a:pPr lvl="1" marL="639000" indent="-245520" algn="r" rtl="1">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قييم قدرة المنشأة على إجراء توزيعات للأرباح .</a:t>
            </a:r>
            <a:endParaRPr b="0" lang="en-US" sz="2800" spc="-1" strike="noStrike">
              <a:solidFill>
                <a:srgbClr val="000000"/>
              </a:solidFill>
              <a:latin typeface="Arial"/>
            </a:endParaRPr>
          </a:p>
          <a:p>
            <a:pPr lvl="1" marL="639000" indent="-245520" algn="r" rtl="1">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حديد مصادر الاختلاف بين صافي الدخل وصافي التدفقات النقدية .</a:t>
            </a:r>
            <a:endParaRPr b="0" lang="en-US" sz="2800" spc="-1" strike="noStrike">
              <a:solidFill>
                <a:srgbClr val="000000"/>
              </a:solidFill>
              <a:latin typeface="Arial"/>
            </a:endParaRPr>
          </a:p>
          <a:p>
            <a:pPr marL="294840" indent="-294840" algn="just" rtl="1">
              <a:lnSpc>
                <a:spcPct val="120000"/>
              </a:lnSpc>
              <a:spcBef>
                <a:spcPts val="11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لاحظ أنه لتحقيق هذه الأهداف يجب الأخذ بمفهوم النقدية الداخلة والخارجة وليس أي مفهوم آخر للأموال ومن أمثلة العناصر النقدية ( أوراق القبض، المدينين، استثمارات قصيرة الأجل لا تزيد مدة استحقاقها عن ثلاثة شهور )، ولتحقيق أهداف هذه القائمة يتعين تبويب التدفقات النقدية إلي ثلاثة مجموعات :</a:t>
            </a:r>
            <a:endParaRPr b="0" lang="en-US" sz="3200" spc="-1" strike="noStrike">
              <a:solidFill>
                <a:srgbClr val="000000"/>
              </a:solidFill>
              <a:latin typeface="Arial"/>
            </a:endParaRPr>
          </a:p>
          <a:p>
            <a:pPr marL="294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687240"/>
            <a:ext cx="8229600" cy="6126480"/>
          </a:xfrm>
          <a:prstGeom prst="rect">
            <a:avLst/>
          </a:prstGeom>
          <a:noFill/>
          <a:ln w="0">
            <a:noFill/>
          </a:ln>
        </p:spPr>
        <p:txBody>
          <a:bodyPr lIns="90000" rIns="90000" tIns="46800" bIns="46800" anchor="t">
            <a:normAutofit fontScale="86000"/>
          </a:bodyPr>
          <a:p>
            <a:pPr marL="294840" indent="0" algn="just"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Monotype Koufi"/>
              </a:rPr>
              <a:t>* الأولى:</a:t>
            </a:r>
            <a:r>
              <a:rPr b="1" lang="ar-SA" sz="2800" spc="-1" strike="noStrike">
                <a:solidFill>
                  <a:srgbClr val="000000"/>
                </a:solidFill>
                <a:latin typeface="Arial"/>
              </a:rPr>
              <a:t> تدفقات نقدية من النشاط الاستثماري وتشمل:</a:t>
            </a:r>
            <a:endParaRPr b="0" lang="en-US" sz="2800" spc="-1" strike="noStrike">
              <a:solidFill>
                <a:srgbClr val="000000"/>
              </a:solidFill>
              <a:latin typeface="Arial"/>
            </a:endParaRPr>
          </a:p>
          <a:p>
            <a:pPr marL="294840" indent="-294840" algn="just" rtl="1">
              <a:lnSpc>
                <a:spcPct val="12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تحصلات بيع الاستثمارات في الأوراق المالية أو بيع أي أصل آخر خلافاً للمخزون السلعي .</a:t>
            </a:r>
            <a:endParaRPr b="0" lang="en-US" sz="2800" spc="-1" strike="noStrike">
              <a:solidFill>
                <a:srgbClr val="000000"/>
              </a:solidFill>
              <a:latin typeface="Arial"/>
            </a:endParaRPr>
          </a:p>
          <a:p>
            <a:pPr marL="294840" indent="-294840" algn="just" rtl="1">
              <a:lnSpc>
                <a:spcPct val="12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دفوعات مقابل زيادة الاستثمارات في الأوراق المالية أو شراء أي أصل آخر بغرض الاقتناء وليس بغرض البيع.</a:t>
            </a:r>
            <a:endParaRPr b="0" lang="en-US" sz="2800" spc="-1" strike="noStrike">
              <a:solidFill>
                <a:srgbClr val="000000"/>
              </a:solidFill>
              <a:latin typeface="Arial"/>
            </a:endParaRPr>
          </a:p>
          <a:p>
            <a:pPr marL="294840" indent="0" algn="just"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Monotype Koufi"/>
              </a:rPr>
              <a:t>* الثانية:</a:t>
            </a:r>
            <a:r>
              <a:rPr b="1" lang="ar-SA" sz="2800" spc="-1" strike="noStrike">
                <a:solidFill>
                  <a:srgbClr val="000000"/>
                </a:solidFill>
                <a:latin typeface="Arial"/>
              </a:rPr>
              <a:t> تدفقات نقدية من النشاط التمويلي وتشمل :</a:t>
            </a:r>
            <a:endParaRPr b="0" lang="en-US" sz="2800" spc="-1" strike="noStrike">
              <a:solidFill>
                <a:srgbClr val="000000"/>
              </a:solidFill>
              <a:latin typeface="Arial"/>
            </a:endParaRPr>
          </a:p>
          <a:p>
            <a:pPr marL="294840" indent="-294840" algn="just" rtl="1">
              <a:lnSpc>
                <a:spcPct val="12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تحصلات من إصدار الأسهم والسندات أو أي مصدر تمويلي آخر ( اقتراض ) .</a:t>
            </a:r>
            <a:endParaRPr b="0" lang="en-US" sz="2800" spc="-1" strike="noStrike">
              <a:solidFill>
                <a:srgbClr val="000000"/>
              </a:solidFill>
              <a:latin typeface="Arial"/>
            </a:endParaRPr>
          </a:p>
          <a:p>
            <a:pPr marL="294840" indent="-294840" algn="just" rtl="1">
              <a:lnSpc>
                <a:spcPct val="12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دفوعات في شكل توزيعات أرباح أو سداد قروض طويلة الأج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87000"/>
          </a:bodyPr>
          <a:p>
            <a:pPr marL="464040" indent="0" algn="just"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Monotype Koufi"/>
              </a:rPr>
              <a:t>* الثالثة:</a:t>
            </a:r>
            <a:r>
              <a:rPr b="1" lang="en-US" sz="2800" spc="-1" strike="noStrike">
                <a:solidFill>
                  <a:srgbClr val="000000"/>
                </a:solidFill>
                <a:latin typeface="Arial"/>
              </a:rPr>
              <a:t> تدفقات نقدية من النشاط التشغيلي:</a:t>
            </a:r>
            <a:endParaRPr b="0" lang="en-US" sz="2800" spc="-1" strike="noStrike">
              <a:solidFill>
                <a:srgbClr val="000000"/>
              </a:solidFill>
              <a:latin typeface="Arial"/>
            </a:endParaRPr>
          </a:p>
          <a:p>
            <a:pPr marL="464040" indent="0" algn="just"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وتمثل الآثار النقدية للعمليات والأحداث التي تدخل في صافي الربح وتشمل :</a:t>
            </a:r>
            <a:endParaRPr b="0" lang="en-US" sz="2800" spc="-1" strike="noStrike">
              <a:solidFill>
                <a:srgbClr val="000000"/>
              </a:solidFill>
              <a:latin typeface="Arial"/>
            </a:endParaRPr>
          </a:p>
          <a:p>
            <a:pPr marL="464040" indent="-464040" algn="just" rtl="1">
              <a:lnSpc>
                <a:spcPct val="110000"/>
              </a:lnSpc>
              <a:spcBef>
                <a:spcPts val="700"/>
              </a:spcBef>
              <a:buClr>
                <a:srgbClr val="ff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متحصلات بيع السلع أو تحصيل الحسابات المدينة وكذلك عوائد الاستثمار في الأوراق المالية أو أي نشاط آخر لا يدخل في   دائرة الاستثمارات أو التمويلي .</a:t>
            </a:r>
            <a:endParaRPr b="0" lang="en-US" sz="2800" spc="-1" strike="noStrike">
              <a:solidFill>
                <a:srgbClr val="000000"/>
              </a:solidFill>
              <a:latin typeface="Arial"/>
            </a:endParaRPr>
          </a:p>
          <a:p>
            <a:pPr marL="464040" indent="-464040" algn="just" rtl="1">
              <a:lnSpc>
                <a:spcPct val="110000"/>
              </a:lnSpc>
              <a:spcBef>
                <a:spcPts val="700"/>
              </a:spcBef>
              <a:buClr>
                <a:srgbClr val="ff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دفوعات مقابل تكلفة البضاعة المباعة المقدمة للعملاء وكذلك مقابل سداد الحسابات الدائنة   والمدفوعات عن فوائد القروض وسداد الضرائب .</a:t>
            </a:r>
            <a:endParaRPr b="0" lang="en-US" sz="2800" spc="-1" strike="noStrike">
              <a:solidFill>
                <a:srgbClr val="000000"/>
              </a:solidFill>
              <a:latin typeface="Arial"/>
            </a:endParaRPr>
          </a:p>
          <a:p>
            <a:pPr marL="464040" indent="0" algn="just"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وفي جميع الأحوال يتعين الإفصاح عن كافة العمليات بحيث يتم التمييز بين صافي التدفق النقدي لكل نشاط من الأنشطة المذكورة على حد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81000"/>
          </a:bodyPr>
          <a:p>
            <a:pPr marL="2775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hi-IN" sz="3200" spc="-1" strike="noStrike">
                <a:solidFill>
                  <a:srgbClr val="000000"/>
                </a:solidFill>
                <a:latin typeface="Arial"/>
              </a:rPr>
              <a:t>وقد يكون مستخدمي التقارير المالية من داخل المنشأة أو خارجها ، في فالاستخدامات الداخلية للتقارير المالية هي استخدامات تتعلق بإدارة المنشأة وتدخل في نطاق ما يعرف بالمحاسبة الإدارية وهي استخدامات محددة ومعروفة ولا تثير مشكلة في مجال تحديد الأهداف ،لأن إدارة المنشأة تستطيع تصميم وتشغيل نظام المعلومات طبقاً لاحتياجاتها .</a:t>
            </a:r>
            <a:endParaRPr b="0" lang="en-US" sz="3200" spc="-1" strike="noStrike">
              <a:solidFill>
                <a:srgbClr val="000000"/>
              </a:solidFill>
              <a:latin typeface="Arial"/>
            </a:endParaRPr>
          </a:p>
          <a:p>
            <a:pPr marL="2775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2775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hi-IN" sz="3200" spc="-1" strike="noStrike">
                <a:solidFill>
                  <a:srgbClr val="000000"/>
                </a:solidFill>
                <a:latin typeface="Arial"/>
              </a:rPr>
              <a:t>أما بالنسبة للمستخدمين الخارجيين فإن بعضهم قد تكون لهم القدرة على الحصول على هذه المعلومات طبقاً لاحتياجاتهم، ومن أمثلة هذه المجموعة ( مصلحة الضرائب، البنوك والمنشآت المالية، السلطة المشرفة على سوق الأوراق المالية، النقابات العمالية، الخ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475920"/>
            <a:ext cx="8229600" cy="6381720"/>
          </a:xfrm>
          <a:prstGeom prst="rect">
            <a:avLst/>
          </a:prstGeom>
          <a:noFill/>
          <a:ln w="0">
            <a:noFill/>
          </a:ln>
        </p:spPr>
        <p:txBody>
          <a:bodyPr lIns="90000" rIns="90000" tIns="46800" bIns="46800" anchor="t">
            <a:normAutofit fontScale="93000"/>
          </a:bodyPr>
          <a:p>
            <a:pPr marL="318960" indent="0" algn="just" rtl="1">
              <a:lnSpc>
                <a:spcPct val="11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000099"/>
                </a:solidFill>
                <a:latin typeface="Arial"/>
              </a:rPr>
              <a:t>وفيما يتعلق بصافي التدفق النقدي من النشاط التشغيلي فيمكن تحديده بإحدي طريقتين :-</a:t>
            </a:r>
            <a:endParaRPr b="0" lang="en-US" sz="2800" spc="-1" strike="noStrike">
              <a:solidFill>
                <a:srgbClr val="000000"/>
              </a:solidFill>
              <a:latin typeface="Arial"/>
            </a:endParaRPr>
          </a:p>
          <a:p>
            <a:pPr marL="318960" indent="-318960" algn="just" rtl="1">
              <a:lnSpc>
                <a:spcPct val="115000"/>
              </a:lnSpc>
              <a:spcBef>
                <a:spcPts val="12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طريقة المباشرة: وطبقاً لهذه الطريقة يتم تحديد العناصر الأساسية المكونة للتدفقات الداخلة والخارجة الناتجة عن النشاط التشغيلي مثل  المتحصلات النقدية من المبيعات ومن العملاء والمدفوعات للمشتريات وسداد الموردين.</a:t>
            </a:r>
            <a:endParaRPr b="0" lang="en-US" sz="2800" spc="-1" strike="noStrike">
              <a:solidFill>
                <a:srgbClr val="000000"/>
              </a:solidFill>
              <a:latin typeface="Arial"/>
            </a:endParaRPr>
          </a:p>
          <a:p>
            <a:pPr marL="318960" indent="-318960" algn="just" rtl="1">
              <a:lnSpc>
                <a:spcPct val="115000"/>
              </a:lnSpc>
              <a:spcBef>
                <a:spcPts val="12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تميز هذه الطريقة بأنها توفر معلومات أكثر تفصيلاً عن الآثار النقدية لأوجه النشاط التشغيلي وتعتبر أكثر فائدة في تقييم الوضع النقدي، إلا أنه يعاب عليها بما ترتبه من أعباء إضافية خاصة بنظام المعلومات المحاسبية</a:t>
            </a:r>
            <a:r>
              <a:rPr b="0" lang="ar-SA" sz="2800" spc="-1" strike="noStrike">
                <a:solidFill>
                  <a:srgbClr val="000000"/>
                </a:solidFill>
                <a:latin typeface="Arial"/>
              </a:rPr>
              <a:t> </a:t>
            </a:r>
            <a:r>
              <a:rPr b="1" lang="ar-SA" sz="2800" spc="-1" strike="noStrike">
                <a:solidFill>
                  <a:srgbClr val="000000"/>
                </a:solidFill>
                <a:latin typeface="Arial"/>
              </a:rPr>
              <a:t>الذي يعتمد على أساس الاستحقاق وليس الأساس النقد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471240"/>
            <a:ext cx="8229600" cy="6126120"/>
          </a:xfrm>
          <a:prstGeom prst="rect">
            <a:avLst/>
          </a:prstGeom>
          <a:noFill/>
          <a:ln w="0">
            <a:noFill/>
          </a:ln>
        </p:spPr>
        <p:txBody>
          <a:bodyPr lIns="90000" rIns="90000" tIns="46800" bIns="46800" anchor="t">
            <a:normAutofit fontScale="91000"/>
          </a:bodyPr>
          <a:p>
            <a:pPr marL="312120" indent="-312120" algn="just" rtl="1">
              <a:lnSpc>
                <a:spcPct val="12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طريقة غير المباشرة: فهي تبدأ برقم صافي الربح الظاهر في قائمة الدخل ثم يتم تعديله بعناصر الإيرادات والمصروفات التي لا يترتب عليها تدفق نقدي مثل المقدمات والمستحقات والإستهلاكات و كافة التسويات المحاسبية الأخرى .</a:t>
            </a:r>
            <a:endParaRPr b="0" lang="en-US" sz="2800" spc="-1" strike="noStrike">
              <a:solidFill>
                <a:srgbClr val="000000"/>
              </a:solidFill>
              <a:latin typeface="Arial"/>
            </a:endParaRPr>
          </a:p>
          <a:p>
            <a:pPr marL="312120" indent="-312120" algn="just" rtl="1">
              <a:lnSpc>
                <a:spcPct val="12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تميز هذه الطريقة بأنها توفر معلومات لمستخدمي التقارير المالية حول كيفية الانتقال من الأرقام المحاسبية إلي تيارات نقدية مما يكسب مستخدمي التقارير المالية القدرة على تحويل وتعديل القوائم المالية لفترات عديدة مما يوفر لهم معلومات عن التدفقات النقدية لعدد من الفترات تساعدهم على التنبؤ بالمستقب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94000"/>
          </a:bodyPr>
          <a:p>
            <a:pPr marL="572760" indent="0" algn="just" rtl="1">
              <a:lnSpc>
                <a:spcPct val="1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ويجدر في الختام أن نبين أهمية التكامل بين القوائم المالية الأساسية كما يلي :-</a:t>
            </a:r>
            <a:endParaRPr b="0" lang="en-US" sz="3200" spc="-1" strike="noStrike">
              <a:solidFill>
                <a:srgbClr val="000000"/>
              </a:solidFill>
              <a:latin typeface="Arial"/>
            </a:endParaRPr>
          </a:p>
          <a:p>
            <a:pPr marL="572760" indent="-572760" algn="just" rtl="1">
              <a:lnSpc>
                <a:spcPct val="120000"/>
              </a:lnSpc>
              <a:spcBef>
                <a:spcPts val="15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إن قائمة المركز المالي تتضمن معلومات عن الهيكل التمويلي للمنشأة وبالتالي يمكن استخدامها في مجال تقييم السيولة والمرونة التمويلية .</a:t>
            </a:r>
            <a:endParaRPr b="0" lang="en-US" sz="3200" spc="-1" strike="noStrike">
              <a:solidFill>
                <a:srgbClr val="000000"/>
              </a:solidFill>
              <a:latin typeface="Arial"/>
            </a:endParaRPr>
          </a:p>
          <a:p>
            <a:pPr marL="572760" indent="-572760" algn="just" rtl="1">
              <a:lnSpc>
                <a:spcPct val="120000"/>
              </a:lnSpc>
              <a:spcBef>
                <a:spcPts val="15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إن قائمة الدخل تعطينا معلومات هامة عن قدرة المنشأة على تحقيق الأرباح وسوف تكون هذه المعلومات ذات مضمون أشمل وأعمق إذا ما تم ربطها بالمعلومات الواردة في قائمة المركز المال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89000"/>
          </a:bodyPr>
          <a:p>
            <a:pPr marL="542160" indent="-542160" algn="just" rtl="1">
              <a:lnSpc>
                <a:spcPct val="120000"/>
              </a:lnSpc>
              <a:spcBef>
                <a:spcPts val="1400"/>
              </a:spcBef>
              <a:buClr>
                <a:srgbClr val="0000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ن قائمة التدفق النقدي تعطينا معلومات عن التدفقات النقدية الحالية (التاريخية) والتي تتأثر بطبيعة الحال بنشاط الفترة السابقة مما يجعلها ذات فائدة محدودة في مجال التنبؤ بالمستقبل إلا أنه بربط المعلومات الواردة في هذه القائمة مع قائمة الدخل فإنها ستكون ذات فائدة للتنبؤ.</a:t>
            </a:r>
            <a:endParaRPr b="0" lang="en-US" sz="2800" spc="-1" strike="noStrike">
              <a:solidFill>
                <a:srgbClr val="000000"/>
              </a:solidFill>
              <a:latin typeface="Arial"/>
            </a:endParaRPr>
          </a:p>
          <a:p>
            <a:pPr marL="542160" indent="-542160" algn="just" rtl="1">
              <a:lnSpc>
                <a:spcPct val="120000"/>
              </a:lnSpc>
              <a:spcBef>
                <a:spcPts val="1400"/>
              </a:spcBef>
              <a:buClr>
                <a:srgbClr val="0000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ن قائمة التغير في حقوق الملكية توفر لنا معلومات عن مصادر التغير في عناصر المركز المالي، إلا أن هذه المعلومات لن تكون ذات فائدة إلا إذا استخدمت جنباً إلي جنب مع المعلومات الواردة في القوائم المالية الأخر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85000"/>
          </a:bodyPr>
          <a:p>
            <a:pPr marL="291600" indent="0" algn="r" rtl="1">
              <a:lnSpc>
                <a:spcPct val="1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onotype Koufi"/>
              </a:rPr>
              <a:t>*خامساً : مفاهيم عناصر القوائم المالية :-</a:t>
            </a:r>
            <a:endParaRPr b="0" lang="en-US" sz="3200" spc="-1" strike="noStrike">
              <a:solidFill>
                <a:srgbClr val="000000"/>
              </a:solidFill>
              <a:latin typeface="Arial"/>
            </a:endParaRPr>
          </a:p>
          <a:p>
            <a:pPr marL="291600" indent="-291600" algn="just" rtl="1">
              <a:lnSpc>
                <a:spcPct val="12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عد القوائم المالية تمثلاً للواقع الاقتصادي للوحدة المحاسبية في نهاية الفترة المحاسبية، وأن المؤشرات المالية المستخدمة فيها ما هي إلا مقاييس عمة للحكم على الأداء الإجمالي للمنشأة، غير أن دراسة مكونات هذه العناصر الإجمالية بشكل أكثر تفصيلاً يعتبر أكثر فائدة وفعالية في التعبير عن الوقائع المالية .</a:t>
            </a:r>
            <a:endParaRPr b="0" lang="en-US" sz="2800" spc="-1" strike="noStrike">
              <a:solidFill>
                <a:srgbClr val="000000"/>
              </a:solidFill>
              <a:latin typeface="Arial"/>
            </a:endParaRPr>
          </a:p>
          <a:p>
            <a:pPr marL="291600" indent="-291600" algn="just" rtl="1">
              <a:lnSpc>
                <a:spcPct val="120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التبويب في القوائم المالية يكون على أساس تجميع البنود </a:t>
            </a:r>
            <a:r>
              <a:rPr b="1" lang="en-US" sz="2800" spc="-1" strike="noStrike">
                <a:solidFill>
                  <a:srgbClr val="000000"/>
                </a:solidFill>
                <a:latin typeface="Arial"/>
              </a:rPr>
              <a:t>items</a:t>
            </a:r>
            <a:r>
              <a:rPr b="1" lang="ar-SA" sz="2800" spc="-1" strike="noStrike">
                <a:solidFill>
                  <a:srgbClr val="000000"/>
                </a:solidFill>
                <a:latin typeface="Arial"/>
              </a:rPr>
              <a:t>  المتشابهة في مجموعات من العناصر الأساسية بهدف إنتاج أكبر قدر من المعلومات المفيدة لمستخدمي التقارير المالية، وهذا التبويب يتم عادة على أسس وخصائص معينة بدورة النشاط الاقتصاد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fontScale="90000"/>
          </a:bodyPr>
          <a:p>
            <a:pPr marL="308520" indent="-308520" algn="just" rtl="1">
              <a:lnSpc>
                <a:spcPct val="120000"/>
              </a:lnSpc>
              <a:spcBef>
                <a:spcPts val="15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مكن حصر العناصر الأساسية للقوائم المالية في عشرة عناصر منها سبعة عناصر تتعلق بالوحدات التجارية وغير التجارية وهي :-</a:t>
            </a:r>
            <a:endParaRPr b="0" lang="en-US" sz="3200" spc="-1" strike="noStrike">
              <a:solidFill>
                <a:srgbClr val="000000"/>
              </a:solidFill>
              <a:latin typeface="Arial"/>
            </a:endParaRPr>
          </a:p>
          <a:p>
            <a:pPr marL="308520" indent="0" algn="just" rtl="1">
              <a:lnSpc>
                <a:spcPct val="1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 الأصول، الخصوم، حقوق الملكية "صافي الأصول"، الإيرادات، المصروفات، المكاسب والخسائر )، .</a:t>
            </a:r>
            <a:endParaRPr b="0" lang="en-US" sz="3200" spc="-1" strike="noStrike">
              <a:solidFill>
                <a:srgbClr val="000000"/>
              </a:solidFill>
              <a:latin typeface="Arial"/>
            </a:endParaRPr>
          </a:p>
          <a:p>
            <a:pPr marL="308520" indent="-308520" algn="just" rtl="1">
              <a:lnSpc>
                <a:spcPct val="120000"/>
              </a:lnSpc>
              <a:spcBef>
                <a:spcPts val="15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ما العناصر الثلاثة الأخرى فترتبط فقط بالوحدات التجارية وهي ( استثمارات أصحاب المشروع، التوزيعات على أصحاب المشروع، صافي الدخل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471240"/>
            <a:ext cx="8229600" cy="6126120"/>
          </a:xfrm>
          <a:prstGeom prst="rect">
            <a:avLst/>
          </a:prstGeom>
          <a:noFill/>
          <a:ln w="0">
            <a:noFill/>
          </a:ln>
        </p:spPr>
        <p:txBody>
          <a:bodyPr lIns="90000" rIns="90000" tIns="46800" bIns="46800" anchor="t">
            <a:normAutofit/>
          </a:bodyPr>
          <a:p>
            <a:pPr marL="60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ولدراسة هذا الموضوع يم تناوله في ثلاثة مجموعات من المفاهيم كالآتي :-</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مفاهيم الخاصة بالأرصدة .</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مفاهيم الخاصة بالتدفقات .</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مفاهيم الخاصة بالتغيرات في حقوق الملكي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Monotype Koufi"/>
              </a:rPr>
              <a:t>(</a:t>
            </a:r>
            <a:r>
              <a:rPr b="1" lang="en-US" sz="3200" spc="-1" strike="noStrike">
                <a:solidFill>
                  <a:srgbClr val="ff0000"/>
                </a:solidFill>
                <a:latin typeface="Arial"/>
                <a:ea typeface="Monotype Koufi"/>
              </a:rPr>
              <a:t>1</a:t>
            </a:r>
            <a:r>
              <a:rPr b="1" lang="en-US" sz="3200" spc="-1" strike="noStrike">
                <a:solidFill>
                  <a:srgbClr val="ff0000"/>
                </a:solidFill>
                <a:latin typeface="Arial"/>
                <a:ea typeface="Monotype Koufi"/>
              </a:rPr>
              <a:t>) المفاهيم الخاصة بالأرصد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hi-IN" sz="3200" spc="-1" strike="noStrike">
                <a:solidFill>
                  <a:srgbClr val="000000"/>
                </a:solidFill>
                <a:latin typeface="Arial"/>
              </a:rPr>
              <a:t>تتناول الأرصدة ثلاثة عناصر أساسية هي : " الأصول، الخصوم، حقوق الملكية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260280"/>
            <a:ext cx="8229600" cy="6858000"/>
          </a:xfrm>
          <a:prstGeom prst="rect">
            <a:avLst/>
          </a:prstGeom>
          <a:noFill/>
          <a:ln w="0">
            <a:noFill/>
          </a:ln>
        </p:spPr>
        <p:txBody>
          <a:bodyPr lIns="90000" rIns="90000" tIns="46800" bIns="46800" anchor="t">
            <a:normAutofit fontScale="89000"/>
          </a:bodyPr>
          <a:p>
            <a:pPr marL="305280" indent="0" algn="just" rtl="1">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onotype Koufi"/>
              </a:rPr>
              <a:t>(أ) مفهوم الأصول : -</a:t>
            </a:r>
            <a:endParaRPr b="0" lang="en-US" sz="3200" spc="-1" strike="noStrike">
              <a:solidFill>
                <a:srgbClr val="000000"/>
              </a:solidFill>
              <a:latin typeface="Arial"/>
            </a:endParaRPr>
          </a:p>
          <a:p>
            <a:pPr marL="305280" indent="-30528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رف مجمع المحاسبين القانونيين ( </a:t>
            </a:r>
            <a:r>
              <a:rPr b="1" lang="en-US" sz="2800" spc="-1" strike="noStrike">
                <a:solidFill>
                  <a:srgbClr val="000000"/>
                </a:solidFill>
                <a:latin typeface="Arial"/>
              </a:rPr>
              <a:t>AICDA</a:t>
            </a:r>
            <a:r>
              <a:rPr b="1" lang="ar-SA" sz="2800" spc="-1" strike="noStrike">
                <a:solidFill>
                  <a:srgbClr val="000000"/>
                </a:solidFill>
                <a:latin typeface="Arial"/>
              </a:rPr>
              <a:t> ) الأصول على أنها كل ما يتمثل في رصيد مدين يتعين ترحيله للفترة القادمة بعد إقفال الحسابات طبقاً للمبادئ المحاسبية المتعارف عليها وذلك باعتبار أن هذا الرصيد المرحل يتمثل في قيمة معينة من الممتلكات أو المصروفات المؤجلة التي تخص الفترات المقبلة . </a:t>
            </a:r>
            <a:endParaRPr b="0" lang="en-US" sz="2800" spc="-1" strike="noStrike">
              <a:solidFill>
                <a:srgbClr val="000000"/>
              </a:solidFill>
              <a:latin typeface="Arial"/>
            </a:endParaRPr>
          </a:p>
          <a:p>
            <a:pPr marL="305280" indent="-30528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قد استقر رأي مجلس معايير المحاسبة الأمريكي على تعريف الأصول بأنها:</a:t>
            </a:r>
            <a:endParaRPr b="0" lang="en-US" sz="2800" spc="-1" strike="noStrike">
              <a:solidFill>
                <a:srgbClr val="000000"/>
              </a:solidFill>
              <a:latin typeface="Arial"/>
            </a:endParaRPr>
          </a:p>
          <a:p>
            <a:pPr marL="305280" indent="-305280" algn="just" rtl="1">
              <a:lnSpc>
                <a:spcPct val="120000"/>
              </a:lnSpc>
              <a:spcBef>
                <a:spcPts val="12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نافع اقتصادية متوقع الحصول عليها في المستقبل ، وأن الوحدة المحاسبية قد اكتسبت حق الحصول على هذه المنافع أو السيطرة عليها نتيجة أحداث وقعت أو عمليات تمت في الماض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80000"/>
          </a:bodyPr>
          <a:p>
            <a:pPr marL="274320" indent="-27432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لاحظ على التعريف الأول أنه يؤكد على الملكية القانونية كصفة من صفات الأصل كما أنه أدخل ضمن عناصر الأصول المصروفات المؤجلة التي لم يتمكن المحاسب من تحميلها على قائمة الدخل أي أن هذا التعريف يعطي الأولوية لاعتبارات تحديد الدخل كما يدخل القواعد والمبادئ المحاسبية ضمن محددات هذا المفهوم .</a:t>
            </a:r>
            <a:endParaRPr b="0" lang="en-US" sz="2800" spc="-1" strike="noStrike">
              <a:solidFill>
                <a:srgbClr val="000000"/>
              </a:solidFill>
              <a:latin typeface="Arial"/>
            </a:endParaRPr>
          </a:p>
          <a:p>
            <a:pPr marL="274320" indent="-274320" algn="just" rtl="1">
              <a:lnSpc>
                <a:spcPct val="120000"/>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ما التعريف الثاني فيعتبر تطوراً جذرياً في تحديد معني الأصول، وهو يتميز بثلاثة خصائص رئيسية هي :</a:t>
            </a:r>
            <a:endParaRPr b="0" lang="en-US" sz="2800" spc="-1" strike="noStrike">
              <a:solidFill>
                <a:srgbClr val="000000"/>
              </a:solidFill>
              <a:latin typeface="Arial"/>
            </a:endParaRPr>
          </a:p>
          <a:p>
            <a:pPr lvl="1" marL="594360" indent="-228600" algn="just" rtl="1">
              <a:lnSpc>
                <a:spcPct val="120000"/>
              </a:lnSpc>
              <a:spcBef>
                <a:spcPts val="14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جود منافع اقتصادية مستقبلية أي أن للأصل قدرة مباشرة أو غير مباشرة على تزويد المنشأة بالخدمة أو  المنفعة بهدف تحقيق تدفقات نقدية موجبة في المستقب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16080"/>
            <a:ext cx="8229600" cy="6858000"/>
          </a:xfrm>
          <a:prstGeom prst="rect">
            <a:avLst/>
          </a:prstGeom>
          <a:noFill/>
          <a:ln w="0">
            <a:noFill/>
          </a:ln>
        </p:spPr>
        <p:txBody>
          <a:bodyPr lIns="90000" rIns="90000" tIns="46800" bIns="46800" anchor="t">
            <a:normAutofit fontScale="90000"/>
          </a:bodyPr>
          <a:p>
            <a:pPr lvl="1" marL="668520" indent="-257040" algn="just" rtl="1">
              <a:spcBef>
                <a:spcPts val="7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درة المنشأة على التحكم أو السيطرة على هذه المنافع بمعني وجود ارتباط بين المنشأة والأصل بحيث يكون في استطاعة المنشأة الحصول على المنافع أو الخدمات لنفسها أو تمكين الغير منها .</a:t>
            </a:r>
            <a:endParaRPr b="0" lang="en-US" sz="2800" spc="-1" strike="noStrike">
              <a:solidFill>
                <a:srgbClr val="000000"/>
              </a:solidFill>
              <a:latin typeface="Arial"/>
            </a:endParaRPr>
          </a:p>
          <a:p>
            <a:pPr lvl="1" marL="668520" indent="-257040" algn="just" rtl="1">
              <a:spcBef>
                <a:spcPts val="7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ن تكون القدرة على التحكم في المنافع قد نتجت عن الأحداث أو عمليات تمت فعلاً في الماضي والتي تخولها حق السيطرة والحصول على هذه المنافع .</a:t>
            </a:r>
            <a:endParaRPr b="0" lang="en-US" sz="2800" spc="-1" strike="noStrike">
              <a:solidFill>
                <a:srgbClr val="000000"/>
              </a:solidFill>
              <a:latin typeface="Arial"/>
            </a:endParaRPr>
          </a:p>
          <a:p>
            <a:pPr marL="308520" indent="0" algn="just" rtl="1">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rPr>
              <a:t>ويمكن أن يتم تقديم الأصل للخدمات المستقبلية بإحدي الصور التالية :</a:t>
            </a:r>
            <a:endParaRPr b="0" lang="en-US" sz="2800" spc="-1" strike="noStrike">
              <a:solidFill>
                <a:srgbClr val="000000"/>
              </a:solidFill>
              <a:latin typeface="Arial"/>
            </a:endParaRPr>
          </a:p>
          <a:p>
            <a:pPr lvl="1" marL="668520" indent="-257040" algn="just" rtl="1">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مكانية مبادلة الأصل بأي شيء آخر له قيمة بالنسبة للمنشأة .</a:t>
            </a:r>
            <a:endParaRPr b="0" lang="en-US" sz="2800" spc="-1" strike="noStrike">
              <a:solidFill>
                <a:srgbClr val="000000"/>
              </a:solidFill>
              <a:latin typeface="Arial"/>
            </a:endParaRPr>
          </a:p>
          <a:p>
            <a:pPr lvl="1" marL="668520" indent="-257040" algn="just" rtl="1">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مكانية استخدام الأصل داخلياً في تحقيق نشاط له قيمة بالنسبة للمنشأة.</a:t>
            </a:r>
            <a:endParaRPr b="0" lang="en-US" sz="2800" spc="-1" strike="noStrike">
              <a:solidFill>
                <a:srgbClr val="000000"/>
              </a:solidFill>
              <a:latin typeface="Arial"/>
            </a:endParaRPr>
          </a:p>
          <a:p>
            <a:pPr lvl="1" marL="668520" indent="-257040" algn="just" rtl="1">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مكانية استخدام الأصل للوفاء ببعض الإلتزامات المتعلقة بالمنشأ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23:34:38Z</dcterms:created>
  <dc:creator>mom</dc:creator>
  <dc:description/>
  <dc:language>en-US</dc:language>
  <cp:lastModifiedBy>ashaheen</cp:lastModifiedBy>
  <dcterms:modified xsi:type="dcterms:W3CDTF">2008-10-19T12:41:04Z</dcterms:modified>
  <cp:revision>109</cp:revision>
  <dc:subject/>
  <dc:title>الفصل الثالث الإطار المفاهيمي لنظرية المحاسبة</dc:title>
</cp:coreProperties>
</file>