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Finger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49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04000"/>
            <a:ext cx="81849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788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0400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7880" y="410400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0840" y="167616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160" y="167616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0400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0840" y="410400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160" y="4104000"/>
            <a:ext cx="2635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4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49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7880" y="1676160"/>
            <a:ext cx="399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86868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880" y="1676160"/>
            <a:ext cx="399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0400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7880" y="410400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1676160"/>
            <a:ext cx="399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04000"/>
            <a:ext cx="81849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849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007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560" y="1371600"/>
            <a:ext cx="9016920" cy="0"/>
          </a:xfrm>
          <a:prstGeom prst="line">
            <a:avLst/>
          </a:prstGeom>
          <a:ln w="50760">
            <a:solidFill>
              <a:srgbClr val="247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90040" y="0"/>
            <a:ext cx="60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5-</a:t>
            </a:r>
            <a:fld id="{8BEF52A5-33ED-4E8F-9540-F80F00E28C5E}" type="slidenum">
              <a:rPr b="1" lang="en-US" sz="1200" spc="-1" strike="noStrike">
                <a:solidFill>
                  <a:srgbClr val="00279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1.ra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14.ra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21.ram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29.ra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31.ram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33.ram" TargetMode="External"/><Relationship Id="rId2" Type="http://schemas.openxmlformats.org/officeDocument/2006/relationships/audio" Target="../media/Finger2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vrpacioli.loyola.edu/ac101/chapter5/chap5_vkp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1447920"/>
            <a:ext cx="8762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e0043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6e0043"/>
                </a:solidFill>
                <a:latin typeface="Times New Roman"/>
              </a:rPr>
              <a:t>CCOUNTING</a:t>
            </a:r>
            <a:r>
              <a:rPr b="1" lang="en-US" sz="6600" spc="-1" strike="noStrike">
                <a:solidFill>
                  <a:srgbClr val="6e0043"/>
                </a:solidFill>
                <a:latin typeface="Times New Roman"/>
              </a:rPr>
              <a:t> T</a:t>
            </a:r>
            <a:r>
              <a:rPr b="1" lang="en-US" sz="4800" spc="-1" strike="noStrike">
                <a:solidFill>
                  <a:srgbClr val="6e0043"/>
                </a:solidFill>
                <a:latin typeface="Times New Roman"/>
              </a:rPr>
              <a:t>HEORY</a:t>
            </a:r>
            <a:r>
              <a:rPr b="1" lang="en-US" sz="6600" spc="-1" strike="noStrike">
                <a:solidFill>
                  <a:srgbClr val="6e0043"/>
                </a:solidFill>
                <a:latin typeface="Times New Roman"/>
              </a:rPr>
              <a:t> U</a:t>
            </a:r>
            <a:r>
              <a:rPr b="1" lang="en-US" sz="4800" spc="-1" strike="noStrike">
                <a:solidFill>
                  <a:srgbClr val="6e0043"/>
                </a:solidFill>
                <a:latin typeface="Times New Roman"/>
              </a:rPr>
              <a:t>NDERLYING</a:t>
            </a:r>
            <a:r>
              <a:rPr b="1" lang="en-US" sz="6600" spc="-1" strike="noStrike">
                <a:solidFill>
                  <a:srgbClr val="6e0043"/>
                </a:solidFill>
                <a:latin typeface="Times New Roman"/>
              </a:rPr>
              <a:t> F</a:t>
            </a:r>
            <a:r>
              <a:rPr b="1" lang="en-US" sz="4800" spc="-1" strike="noStrike">
                <a:solidFill>
                  <a:srgbClr val="6e0043"/>
                </a:solidFill>
                <a:latin typeface="Times New Roman"/>
              </a:rPr>
              <a:t>INANCIAL </a:t>
            </a:r>
            <a:r>
              <a:rPr b="1" lang="en-US" sz="6600" spc="-1" strike="noStrike">
                <a:solidFill>
                  <a:srgbClr val="6e0043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6e0043"/>
                </a:solidFill>
                <a:latin typeface="Times New Roman"/>
              </a:rPr>
              <a:t>CCOUN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0040" y="488880"/>
            <a:ext cx="8759880" cy="698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77000" y="3740040"/>
            <a:ext cx="1231920" cy="2516400"/>
            <a:chOff x="7677000" y="3740040"/>
            <a:chExt cx="1231920" cy="2516400"/>
          </a:xfrm>
        </p:grpSpPr>
        <p:grpSp>
          <p:nvGrpSpPr>
            <p:cNvPr id="43" name=""/>
            <p:cNvGrpSpPr/>
            <p:nvPr/>
          </p:nvGrpSpPr>
          <p:grpSpPr>
            <a:xfrm>
              <a:off x="7677000" y="3740040"/>
              <a:ext cx="1231920" cy="2421000"/>
              <a:chOff x="7677000" y="3740040"/>
              <a:chExt cx="1231920" cy="24210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8247240" y="5875200"/>
                <a:ext cx="474480" cy="285840"/>
                <a:chOff x="8247240" y="5875200"/>
                <a:chExt cx="474480" cy="2858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247240" y="5875200"/>
                  <a:ext cx="474480" cy="285840"/>
                </a:xfrm>
                <a:custGeom>
                  <a:avLst/>
                  <a:gdLst/>
                  <a:ahLst/>
                  <a:rect l="l" t="t" r="r" b="b"/>
                  <a:pathLst>
                    <a:path w="896" h="540">
                      <a:moveTo>
                        <a:pt x="313" y="61"/>
                      </a:moveTo>
                      <a:lnTo>
                        <a:pt x="191" y="157"/>
                      </a:lnTo>
                      <a:lnTo>
                        <a:pt x="0" y="244"/>
                      </a:lnTo>
                      <a:lnTo>
                        <a:pt x="0" y="305"/>
                      </a:lnTo>
                      <a:lnTo>
                        <a:pt x="104" y="340"/>
                      </a:lnTo>
                      <a:lnTo>
                        <a:pt x="278" y="331"/>
                      </a:lnTo>
                      <a:lnTo>
                        <a:pt x="461" y="296"/>
                      </a:lnTo>
                      <a:lnTo>
                        <a:pt x="583" y="270"/>
                      </a:lnTo>
                      <a:lnTo>
                        <a:pt x="557" y="401"/>
                      </a:lnTo>
                      <a:lnTo>
                        <a:pt x="531" y="462"/>
                      </a:lnTo>
                      <a:lnTo>
                        <a:pt x="539" y="505"/>
                      </a:lnTo>
                      <a:lnTo>
                        <a:pt x="679" y="540"/>
                      </a:lnTo>
                      <a:lnTo>
                        <a:pt x="827" y="462"/>
                      </a:lnTo>
                      <a:lnTo>
                        <a:pt x="862" y="383"/>
                      </a:lnTo>
                      <a:lnTo>
                        <a:pt x="862" y="314"/>
                      </a:lnTo>
                      <a:lnTo>
                        <a:pt x="896" y="261"/>
                      </a:lnTo>
                      <a:lnTo>
                        <a:pt x="879" y="0"/>
                      </a:lnTo>
                      <a:lnTo>
                        <a:pt x="313" y="6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8259840" y="5934240"/>
                  <a:ext cx="422280" cy="195120"/>
                  <a:chOff x="8259840" y="5934240"/>
                  <a:chExt cx="422280" cy="19512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8259840" y="5964120"/>
                    <a:ext cx="149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90">
                        <a:moveTo>
                          <a:pt x="0" y="83"/>
                        </a:moveTo>
                        <a:lnTo>
                          <a:pt x="146" y="90"/>
                        </a:lnTo>
                        <a:lnTo>
                          <a:pt x="281" y="56"/>
                        </a:lnTo>
                        <a:lnTo>
                          <a:pt x="174" y="0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8358120" y="5934240"/>
                    <a:ext cx="1634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99">
                        <a:moveTo>
                          <a:pt x="64" y="0"/>
                        </a:moveTo>
                        <a:lnTo>
                          <a:pt x="0" y="51"/>
                        </a:lnTo>
                        <a:lnTo>
                          <a:pt x="91" y="99"/>
                        </a:lnTo>
                        <a:lnTo>
                          <a:pt x="164" y="85"/>
                        </a:lnTo>
                        <a:lnTo>
                          <a:pt x="244" y="64"/>
                        </a:lnTo>
                        <a:lnTo>
                          <a:pt x="308" y="46"/>
                        </a:lnTo>
                        <a:lnTo>
                          <a:pt x="165" y="35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8540640" y="6037200"/>
                    <a:ext cx="1414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75">
                        <a:moveTo>
                          <a:pt x="39" y="50"/>
                        </a:moveTo>
                        <a:lnTo>
                          <a:pt x="30" y="98"/>
                        </a:lnTo>
                        <a:lnTo>
                          <a:pt x="0" y="150"/>
                        </a:lnTo>
                        <a:lnTo>
                          <a:pt x="78" y="172"/>
                        </a:lnTo>
                        <a:lnTo>
                          <a:pt x="152" y="175"/>
                        </a:lnTo>
                        <a:lnTo>
                          <a:pt x="220" y="141"/>
                        </a:lnTo>
                        <a:lnTo>
                          <a:pt x="252" y="102"/>
                        </a:lnTo>
                        <a:lnTo>
                          <a:pt x="268" y="15"/>
                        </a:lnTo>
                        <a:lnTo>
                          <a:pt x="191" y="32"/>
                        </a:lnTo>
                        <a:lnTo>
                          <a:pt x="112" y="31"/>
                        </a:lnTo>
                        <a:lnTo>
                          <a:pt x="46" y="0"/>
                        </a:lnTo>
                        <a:lnTo>
                          <a:pt x="39" y="5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567640" y="5981760"/>
                    <a:ext cx="1126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28">
                        <a:moveTo>
                          <a:pt x="0" y="96"/>
                        </a:moveTo>
                        <a:lnTo>
                          <a:pt x="56" y="123"/>
                        </a:lnTo>
                        <a:lnTo>
                          <a:pt x="149" y="128"/>
                        </a:lnTo>
                        <a:lnTo>
                          <a:pt x="214" y="113"/>
                        </a:lnTo>
                        <a:lnTo>
                          <a:pt x="209" y="49"/>
                        </a:lnTo>
                        <a:lnTo>
                          <a:pt x="209" y="0"/>
                        </a:lnTo>
                        <a:lnTo>
                          <a:pt x="167" y="22"/>
                        </a:lnTo>
                        <a:lnTo>
                          <a:pt x="39" y="40"/>
                        </a:lnTo>
                        <a:lnTo>
                          <a:pt x="17" y="27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" name=""/>
              <p:cNvGrpSpPr/>
              <p:nvPr/>
            </p:nvGrpSpPr>
            <p:grpSpPr>
              <a:xfrm>
                <a:off x="7858080" y="3992400"/>
                <a:ext cx="1050840" cy="2005200"/>
                <a:chOff x="7858080" y="3992400"/>
                <a:chExt cx="1050840" cy="200520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858080" y="4025880"/>
                  <a:ext cx="1050840" cy="1971720"/>
                </a:xfrm>
                <a:custGeom>
                  <a:avLst/>
                  <a:gdLst/>
                  <a:ahLst/>
                  <a:rect l="l" t="t" r="r" b="b"/>
                  <a:pathLst>
                    <a:path w="1987" h="3726">
                      <a:moveTo>
                        <a:pt x="4" y="440"/>
                      </a:moveTo>
                      <a:lnTo>
                        <a:pt x="0" y="420"/>
                      </a:lnTo>
                      <a:lnTo>
                        <a:pt x="43" y="418"/>
                      </a:lnTo>
                      <a:lnTo>
                        <a:pt x="95" y="379"/>
                      </a:lnTo>
                      <a:lnTo>
                        <a:pt x="129" y="322"/>
                      </a:lnTo>
                      <a:lnTo>
                        <a:pt x="129" y="285"/>
                      </a:lnTo>
                      <a:lnTo>
                        <a:pt x="123" y="269"/>
                      </a:lnTo>
                      <a:lnTo>
                        <a:pt x="146" y="260"/>
                      </a:lnTo>
                      <a:lnTo>
                        <a:pt x="468" y="497"/>
                      </a:lnTo>
                      <a:lnTo>
                        <a:pt x="486" y="492"/>
                      </a:lnTo>
                      <a:lnTo>
                        <a:pt x="529" y="505"/>
                      </a:lnTo>
                      <a:lnTo>
                        <a:pt x="529" y="484"/>
                      </a:lnTo>
                      <a:lnTo>
                        <a:pt x="568" y="484"/>
                      </a:lnTo>
                      <a:lnTo>
                        <a:pt x="573" y="466"/>
                      </a:lnTo>
                      <a:lnTo>
                        <a:pt x="629" y="401"/>
                      </a:lnTo>
                      <a:lnTo>
                        <a:pt x="725" y="288"/>
                      </a:lnTo>
                      <a:lnTo>
                        <a:pt x="750" y="261"/>
                      </a:lnTo>
                      <a:lnTo>
                        <a:pt x="789" y="192"/>
                      </a:lnTo>
                      <a:lnTo>
                        <a:pt x="819" y="148"/>
                      </a:lnTo>
                      <a:lnTo>
                        <a:pt x="859" y="122"/>
                      </a:lnTo>
                      <a:lnTo>
                        <a:pt x="933" y="96"/>
                      </a:lnTo>
                      <a:lnTo>
                        <a:pt x="998" y="87"/>
                      </a:lnTo>
                      <a:lnTo>
                        <a:pt x="1067" y="44"/>
                      </a:lnTo>
                      <a:lnTo>
                        <a:pt x="1482" y="0"/>
                      </a:lnTo>
                      <a:lnTo>
                        <a:pt x="1501" y="48"/>
                      </a:lnTo>
                      <a:lnTo>
                        <a:pt x="1623" y="109"/>
                      </a:lnTo>
                      <a:lnTo>
                        <a:pt x="1758" y="148"/>
                      </a:lnTo>
                      <a:lnTo>
                        <a:pt x="1818" y="187"/>
                      </a:lnTo>
                      <a:lnTo>
                        <a:pt x="1841" y="227"/>
                      </a:lnTo>
                      <a:lnTo>
                        <a:pt x="1857" y="370"/>
                      </a:lnTo>
                      <a:lnTo>
                        <a:pt x="1889" y="517"/>
                      </a:lnTo>
                      <a:lnTo>
                        <a:pt x="1935" y="678"/>
                      </a:lnTo>
                      <a:lnTo>
                        <a:pt x="1979" y="844"/>
                      </a:lnTo>
                      <a:lnTo>
                        <a:pt x="1987" y="983"/>
                      </a:lnTo>
                      <a:lnTo>
                        <a:pt x="1970" y="1166"/>
                      </a:lnTo>
                      <a:lnTo>
                        <a:pt x="1961" y="1332"/>
                      </a:lnTo>
                      <a:lnTo>
                        <a:pt x="1913" y="1569"/>
                      </a:lnTo>
                      <a:lnTo>
                        <a:pt x="1818" y="1551"/>
                      </a:lnTo>
                      <a:lnTo>
                        <a:pt x="1826" y="1848"/>
                      </a:lnTo>
                      <a:lnTo>
                        <a:pt x="1748" y="1910"/>
                      </a:lnTo>
                      <a:lnTo>
                        <a:pt x="1712" y="2676"/>
                      </a:lnTo>
                      <a:lnTo>
                        <a:pt x="1671" y="3120"/>
                      </a:lnTo>
                      <a:lnTo>
                        <a:pt x="1645" y="3390"/>
                      </a:lnTo>
                      <a:lnTo>
                        <a:pt x="1654" y="3504"/>
                      </a:lnTo>
                      <a:lnTo>
                        <a:pt x="1645" y="3630"/>
                      </a:lnTo>
                      <a:lnTo>
                        <a:pt x="1497" y="3708"/>
                      </a:lnTo>
                      <a:lnTo>
                        <a:pt x="1379" y="3726"/>
                      </a:lnTo>
                      <a:lnTo>
                        <a:pt x="1327" y="3634"/>
                      </a:lnTo>
                      <a:lnTo>
                        <a:pt x="1258" y="3634"/>
                      </a:lnTo>
                      <a:lnTo>
                        <a:pt x="1110" y="3626"/>
                      </a:lnTo>
                      <a:lnTo>
                        <a:pt x="1001" y="3586"/>
                      </a:lnTo>
                      <a:lnTo>
                        <a:pt x="979" y="3469"/>
                      </a:lnTo>
                      <a:lnTo>
                        <a:pt x="983" y="3369"/>
                      </a:lnTo>
                      <a:lnTo>
                        <a:pt x="885" y="2658"/>
                      </a:lnTo>
                      <a:lnTo>
                        <a:pt x="886" y="1901"/>
                      </a:lnTo>
                      <a:lnTo>
                        <a:pt x="790" y="1779"/>
                      </a:lnTo>
                      <a:lnTo>
                        <a:pt x="877" y="1140"/>
                      </a:lnTo>
                      <a:lnTo>
                        <a:pt x="864" y="994"/>
                      </a:lnTo>
                      <a:lnTo>
                        <a:pt x="869" y="697"/>
                      </a:lnTo>
                      <a:lnTo>
                        <a:pt x="651" y="841"/>
                      </a:lnTo>
                      <a:lnTo>
                        <a:pt x="580" y="863"/>
                      </a:lnTo>
                      <a:lnTo>
                        <a:pt x="502" y="858"/>
                      </a:lnTo>
                      <a:lnTo>
                        <a:pt x="367" y="797"/>
                      </a:lnTo>
                      <a:lnTo>
                        <a:pt x="255" y="684"/>
                      </a:lnTo>
                      <a:lnTo>
                        <a:pt x="4" y="44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445600" y="3992400"/>
                  <a:ext cx="191880" cy="498600"/>
                </a:xfrm>
                <a:custGeom>
                  <a:avLst/>
                  <a:gdLst/>
                  <a:ahLst/>
                  <a:rect l="l" t="t" r="r" b="b"/>
                  <a:pathLst>
                    <a:path w="362" h="942">
                      <a:moveTo>
                        <a:pt x="0" y="188"/>
                      </a:moveTo>
                      <a:lnTo>
                        <a:pt x="0" y="358"/>
                      </a:lnTo>
                      <a:lnTo>
                        <a:pt x="9" y="628"/>
                      </a:lnTo>
                      <a:lnTo>
                        <a:pt x="66" y="864"/>
                      </a:lnTo>
                      <a:lnTo>
                        <a:pt x="88" y="942"/>
                      </a:lnTo>
                      <a:lnTo>
                        <a:pt x="114" y="724"/>
                      </a:lnTo>
                      <a:lnTo>
                        <a:pt x="153" y="502"/>
                      </a:lnTo>
                      <a:lnTo>
                        <a:pt x="209" y="358"/>
                      </a:lnTo>
                      <a:lnTo>
                        <a:pt x="262" y="245"/>
                      </a:lnTo>
                      <a:lnTo>
                        <a:pt x="288" y="206"/>
                      </a:lnTo>
                      <a:lnTo>
                        <a:pt x="362" y="79"/>
                      </a:lnTo>
                      <a:lnTo>
                        <a:pt x="341" y="0"/>
                      </a:lnTo>
                      <a:lnTo>
                        <a:pt x="5" y="71"/>
                      </a:lnTo>
                      <a:lnTo>
                        <a:pt x="0" y="18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458200" y="4118040"/>
                  <a:ext cx="73080" cy="345960"/>
                </a:xfrm>
                <a:custGeom>
                  <a:avLst/>
                  <a:gdLst/>
                  <a:ahLst/>
                  <a:rect l="l" t="t" r="r" b="b"/>
                  <a:pathLst>
                    <a:path w="138" h="654">
                      <a:moveTo>
                        <a:pt x="72" y="9"/>
                      </a:moveTo>
                      <a:lnTo>
                        <a:pt x="56" y="55"/>
                      </a:lnTo>
                      <a:lnTo>
                        <a:pt x="64" y="105"/>
                      </a:lnTo>
                      <a:lnTo>
                        <a:pt x="29" y="205"/>
                      </a:lnTo>
                      <a:lnTo>
                        <a:pt x="4" y="291"/>
                      </a:lnTo>
                      <a:lnTo>
                        <a:pt x="0" y="369"/>
                      </a:lnTo>
                      <a:lnTo>
                        <a:pt x="11" y="436"/>
                      </a:lnTo>
                      <a:lnTo>
                        <a:pt x="59" y="654"/>
                      </a:lnTo>
                      <a:lnTo>
                        <a:pt x="85" y="445"/>
                      </a:lnTo>
                      <a:lnTo>
                        <a:pt x="103" y="340"/>
                      </a:lnTo>
                      <a:lnTo>
                        <a:pt x="103" y="214"/>
                      </a:lnTo>
                      <a:lnTo>
                        <a:pt x="103" y="101"/>
                      </a:lnTo>
                      <a:lnTo>
                        <a:pt x="138" y="82"/>
                      </a:lnTo>
                      <a:lnTo>
                        <a:pt x="126" y="16"/>
                      </a:lnTo>
                      <a:lnTo>
                        <a:pt x="103" y="0"/>
                      </a:lnTo>
                      <a:lnTo>
                        <a:pt x="72" y="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352000" y="4060800"/>
                  <a:ext cx="144360" cy="604800"/>
                </a:xfrm>
                <a:custGeom>
                  <a:avLst/>
                  <a:gdLst/>
                  <a:ahLst/>
                  <a:rect l="l" t="t" r="r" b="b"/>
                  <a:pathLst>
                    <a:path w="274" h="1145">
                      <a:moveTo>
                        <a:pt x="126" y="0"/>
                      </a:moveTo>
                      <a:lnTo>
                        <a:pt x="51" y="44"/>
                      </a:lnTo>
                      <a:lnTo>
                        <a:pt x="29" y="88"/>
                      </a:lnTo>
                      <a:lnTo>
                        <a:pt x="0" y="179"/>
                      </a:lnTo>
                      <a:lnTo>
                        <a:pt x="61" y="214"/>
                      </a:lnTo>
                      <a:lnTo>
                        <a:pt x="17" y="262"/>
                      </a:lnTo>
                      <a:lnTo>
                        <a:pt x="35" y="371"/>
                      </a:lnTo>
                      <a:lnTo>
                        <a:pt x="57" y="475"/>
                      </a:lnTo>
                      <a:lnTo>
                        <a:pt x="83" y="619"/>
                      </a:lnTo>
                      <a:lnTo>
                        <a:pt x="104" y="702"/>
                      </a:lnTo>
                      <a:lnTo>
                        <a:pt x="122" y="807"/>
                      </a:lnTo>
                      <a:lnTo>
                        <a:pt x="222" y="1145"/>
                      </a:lnTo>
                      <a:lnTo>
                        <a:pt x="274" y="1019"/>
                      </a:lnTo>
                      <a:lnTo>
                        <a:pt x="209" y="737"/>
                      </a:lnTo>
                      <a:lnTo>
                        <a:pt x="174" y="576"/>
                      </a:lnTo>
                      <a:lnTo>
                        <a:pt x="161" y="427"/>
                      </a:lnTo>
                      <a:lnTo>
                        <a:pt x="157" y="244"/>
                      </a:lnTo>
                      <a:lnTo>
                        <a:pt x="152" y="135"/>
                      </a:lnTo>
                      <a:lnTo>
                        <a:pt x="165" y="92"/>
                      </a:lnTo>
                      <a:lnTo>
                        <a:pt x="144" y="53"/>
                      </a:lnTo>
                      <a:lnTo>
                        <a:pt x="135" y="31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474040" y="4044960"/>
                  <a:ext cx="206280" cy="600120"/>
                </a:xfrm>
                <a:custGeom>
                  <a:avLst/>
                  <a:gdLst/>
                  <a:ahLst/>
                  <a:rect l="l" t="t" r="r" b="b"/>
                  <a:pathLst>
                    <a:path w="391" h="1136">
                      <a:moveTo>
                        <a:pt x="322" y="0"/>
                      </a:moveTo>
                      <a:lnTo>
                        <a:pt x="326" y="22"/>
                      </a:lnTo>
                      <a:lnTo>
                        <a:pt x="391" y="56"/>
                      </a:lnTo>
                      <a:lnTo>
                        <a:pt x="365" y="126"/>
                      </a:lnTo>
                      <a:lnTo>
                        <a:pt x="352" y="209"/>
                      </a:lnTo>
                      <a:lnTo>
                        <a:pt x="283" y="205"/>
                      </a:lnTo>
                      <a:lnTo>
                        <a:pt x="344" y="274"/>
                      </a:lnTo>
                      <a:lnTo>
                        <a:pt x="291" y="318"/>
                      </a:lnTo>
                      <a:lnTo>
                        <a:pt x="230" y="418"/>
                      </a:lnTo>
                      <a:lnTo>
                        <a:pt x="191" y="540"/>
                      </a:lnTo>
                      <a:lnTo>
                        <a:pt x="161" y="675"/>
                      </a:lnTo>
                      <a:lnTo>
                        <a:pt x="135" y="815"/>
                      </a:lnTo>
                      <a:lnTo>
                        <a:pt x="69" y="1136"/>
                      </a:lnTo>
                      <a:lnTo>
                        <a:pt x="0" y="1005"/>
                      </a:lnTo>
                      <a:lnTo>
                        <a:pt x="65" y="792"/>
                      </a:lnTo>
                      <a:lnTo>
                        <a:pt x="78" y="667"/>
                      </a:lnTo>
                      <a:lnTo>
                        <a:pt x="100" y="531"/>
                      </a:lnTo>
                      <a:lnTo>
                        <a:pt x="122" y="418"/>
                      </a:lnTo>
                      <a:lnTo>
                        <a:pt x="161" y="296"/>
                      </a:lnTo>
                      <a:lnTo>
                        <a:pt x="209" y="200"/>
                      </a:lnTo>
                      <a:lnTo>
                        <a:pt x="270" y="100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70800" y="4076640"/>
                  <a:ext cx="339840" cy="984240"/>
                </a:xfrm>
                <a:custGeom>
                  <a:avLst/>
                  <a:gdLst/>
                  <a:ahLst/>
                  <a:rect l="l" t="t" r="r" b="b"/>
                  <a:pathLst>
                    <a:path w="640" h="1859">
                      <a:moveTo>
                        <a:pt x="405" y="0"/>
                      </a:moveTo>
                      <a:lnTo>
                        <a:pt x="388" y="78"/>
                      </a:lnTo>
                      <a:lnTo>
                        <a:pt x="388" y="152"/>
                      </a:lnTo>
                      <a:lnTo>
                        <a:pt x="370" y="165"/>
                      </a:lnTo>
                      <a:lnTo>
                        <a:pt x="318" y="157"/>
                      </a:lnTo>
                      <a:lnTo>
                        <a:pt x="344" y="183"/>
                      </a:lnTo>
                      <a:lnTo>
                        <a:pt x="362" y="209"/>
                      </a:lnTo>
                      <a:lnTo>
                        <a:pt x="357" y="226"/>
                      </a:lnTo>
                      <a:lnTo>
                        <a:pt x="331" y="235"/>
                      </a:lnTo>
                      <a:lnTo>
                        <a:pt x="283" y="314"/>
                      </a:lnTo>
                      <a:lnTo>
                        <a:pt x="253" y="362"/>
                      </a:lnTo>
                      <a:lnTo>
                        <a:pt x="227" y="449"/>
                      </a:lnTo>
                      <a:lnTo>
                        <a:pt x="201" y="553"/>
                      </a:lnTo>
                      <a:lnTo>
                        <a:pt x="179" y="680"/>
                      </a:lnTo>
                      <a:lnTo>
                        <a:pt x="140" y="765"/>
                      </a:lnTo>
                      <a:lnTo>
                        <a:pt x="92" y="857"/>
                      </a:lnTo>
                      <a:lnTo>
                        <a:pt x="5" y="1062"/>
                      </a:lnTo>
                      <a:lnTo>
                        <a:pt x="0" y="1232"/>
                      </a:lnTo>
                      <a:lnTo>
                        <a:pt x="13" y="1608"/>
                      </a:lnTo>
                      <a:lnTo>
                        <a:pt x="60" y="1859"/>
                      </a:lnTo>
                      <a:lnTo>
                        <a:pt x="218" y="1858"/>
                      </a:lnTo>
                      <a:lnTo>
                        <a:pt x="479" y="1836"/>
                      </a:lnTo>
                      <a:lnTo>
                        <a:pt x="640" y="1743"/>
                      </a:lnTo>
                      <a:lnTo>
                        <a:pt x="618" y="1406"/>
                      </a:lnTo>
                      <a:lnTo>
                        <a:pt x="454" y="1374"/>
                      </a:lnTo>
                      <a:lnTo>
                        <a:pt x="463" y="1290"/>
                      </a:lnTo>
                      <a:lnTo>
                        <a:pt x="505" y="1052"/>
                      </a:lnTo>
                      <a:lnTo>
                        <a:pt x="518" y="873"/>
                      </a:lnTo>
                      <a:lnTo>
                        <a:pt x="518" y="812"/>
                      </a:lnTo>
                      <a:lnTo>
                        <a:pt x="492" y="768"/>
                      </a:lnTo>
                      <a:lnTo>
                        <a:pt x="510" y="746"/>
                      </a:lnTo>
                      <a:lnTo>
                        <a:pt x="492" y="685"/>
                      </a:lnTo>
                      <a:lnTo>
                        <a:pt x="462" y="559"/>
                      </a:lnTo>
                      <a:lnTo>
                        <a:pt x="440" y="466"/>
                      </a:lnTo>
                      <a:lnTo>
                        <a:pt x="405" y="401"/>
                      </a:lnTo>
                      <a:lnTo>
                        <a:pt x="440" y="423"/>
                      </a:lnTo>
                      <a:lnTo>
                        <a:pt x="440" y="340"/>
                      </a:lnTo>
                      <a:lnTo>
                        <a:pt x="457" y="248"/>
                      </a:lnTo>
                      <a:lnTo>
                        <a:pt x="492" y="174"/>
                      </a:lnTo>
                      <a:lnTo>
                        <a:pt x="531" y="122"/>
                      </a:lnTo>
                      <a:lnTo>
                        <a:pt x="562" y="87"/>
                      </a:lnTo>
                      <a:lnTo>
                        <a:pt x="588" y="65"/>
                      </a:lnTo>
                      <a:lnTo>
                        <a:pt x="540" y="48"/>
                      </a:lnTo>
                      <a:lnTo>
                        <a:pt x="479" y="30"/>
                      </a:lnTo>
                      <a:lnTo>
                        <a:pt x="40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710560" y="4113360"/>
                  <a:ext cx="189000" cy="726840"/>
                </a:xfrm>
                <a:custGeom>
                  <a:avLst/>
                  <a:gdLst/>
                  <a:ahLst/>
                  <a:rect l="l" t="t" r="r" b="b"/>
                  <a:pathLst>
                    <a:path w="357" h="1374">
                      <a:moveTo>
                        <a:pt x="148" y="0"/>
                      </a:moveTo>
                      <a:lnTo>
                        <a:pt x="87" y="65"/>
                      </a:lnTo>
                      <a:lnTo>
                        <a:pt x="44" y="130"/>
                      </a:lnTo>
                      <a:lnTo>
                        <a:pt x="13" y="187"/>
                      </a:lnTo>
                      <a:lnTo>
                        <a:pt x="4" y="244"/>
                      </a:lnTo>
                      <a:lnTo>
                        <a:pt x="0" y="296"/>
                      </a:lnTo>
                      <a:lnTo>
                        <a:pt x="4" y="353"/>
                      </a:lnTo>
                      <a:lnTo>
                        <a:pt x="17" y="389"/>
                      </a:lnTo>
                      <a:lnTo>
                        <a:pt x="35" y="489"/>
                      </a:lnTo>
                      <a:lnTo>
                        <a:pt x="52" y="581"/>
                      </a:lnTo>
                      <a:lnTo>
                        <a:pt x="78" y="662"/>
                      </a:lnTo>
                      <a:lnTo>
                        <a:pt x="192" y="690"/>
                      </a:lnTo>
                      <a:lnTo>
                        <a:pt x="78" y="698"/>
                      </a:lnTo>
                      <a:lnTo>
                        <a:pt x="91" y="720"/>
                      </a:lnTo>
                      <a:lnTo>
                        <a:pt x="161" y="737"/>
                      </a:lnTo>
                      <a:lnTo>
                        <a:pt x="235" y="772"/>
                      </a:lnTo>
                      <a:lnTo>
                        <a:pt x="131" y="764"/>
                      </a:lnTo>
                      <a:lnTo>
                        <a:pt x="83" y="759"/>
                      </a:lnTo>
                      <a:lnTo>
                        <a:pt x="91" y="803"/>
                      </a:lnTo>
                      <a:lnTo>
                        <a:pt x="83" y="890"/>
                      </a:lnTo>
                      <a:lnTo>
                        <a:pt x="70" y="1025"/>
                      </a:lnTo>
                      <a:lnTo>
                        <a:pt x="12" y="1295"/>
                      </a:lnTo>
                      <a:lnTo>
                        <a:pt x="89" y="1297"/>
                      </a:lnTo>
                      <a:lnTo>
                        <a:pt x="186" y="1304"/>
                      </a:lnTo>
                      <a:lnTo>
                        <a:pt x="241" y="1330"/>
                      </a:lnTo>
                      <a:lnTo>
                        <a:pt x="289" y="1374"/>
                      </a:lnTo>
                      <a:lnTo>
                        <a:pt x="322" y="1156"/>
                      </a:lnTo>
                      <a:lnTo>
                        <a:pt x="327" y="973"/>
                      </a:lnTo>
                      <a:lnTo>
                        <a:pt x="357" y="777"/>
                      </a:lnTo>
                      <a:lnTo>
                        <a:pt x="344" y="676"/>
                      </a:lnTo>
                      <a:lnTo>
                        <a:pt x="309" y="541"/>
                      </a:lnTo>
                      <a:lnTo>
                        <a:pt x="266" y="389"/>
                      </a:lnTo>
                      <a:lnTo>
                        <a:pt x="244" y="284"/>
                      </a:lnTo>
                      <a:lnTo>
                        <a:pt x="231" y="209"/>
                      </a:lnTo>
                      <a:lnTo>
                        <a:pt x="218" y="126"/>
                      </a:lnTo>
                      <a:lnTo>
                        <a:pt x="213" y="69"/>
                      </a:lnTo>
                      <a:lnTo>
                        <a:pt x="196" y="34"/>
                      </a:lnTo>
                      <a:lnTo>
                        <a:pt x="14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866000" y="4089240"/>
                  <a:ext cx="473040" cy="384480"/>
                </a:xfrm>
                <a:custGeom>
                  <a:avLst/>
                  <a:gdLst/>
                  <a:ahLst/>
                  <a:rect l="l" t="t" r="r" b="b"/>
                  <a:pathLst>
                    <a:path w="895" h="726">
                      <a:moveTo>
                        <a:pt x="895" y="0"/>
                      </a:moveTo>
                      <a:lnTo>
                        <a:pt x="866" y="79"/>
                      </a:lnTo>
                      <a:lnTo>
                        <a:pt x="848" y="193"/>
                      </a:lnTo>
                      <a:lnTo>
                        <a:pt x="848" y="289"/>
                      </a:lnTo>
                      <a:lnTo>
                        <a:pt x="844" y="415"/>
                      </a:lnTo>
                      <a:lnTo>
                        <a:pt x="853" y="467"/>
                      </a:lnTo>
                      <a:lnTo>
                        <a:pt x="853" y="546"/>
                      </a:lnTo>
                      <a:lnTo>
                        <a:pt x="635" y="698"/>
                      </a:lnTo>
                      <a:lnTo>
                        <a:pt x="528" y="726"/>
                      </a:lnTo>
                      <a:lnTo>
                        <a:pt x="458" y="700"/>
                      </a:lnTo>
                      <a:lnTo>
                        <a:pt x="362" y="656"/>
                      </a:lnTo>
                      <a:lnTo>
                        <a:pt x="217" y="511"/>
                      </a:lnTo>
                      <a:lnTo>
                        <a:pt x="101" y="408"/>
                      </a:lnTo>
                      <a:lnTo>
                        <a:pt x="72" y="377"/>
                      </a:lnTo>
                      <a:lnTo>
                        <a:pt x="0" y="312"/>
                      </a:lnTo>
                      <a:lnTo>
                        <a:pt x="29" y="309"/>
                      </a:lnTo>
                      <a:lnTo>
                        <a:pt x="65" y="294"/>
                      </a:lnTo>
                      <a:lnTo>
                        <a:pt x="101" y="257"/>
                      </a:lnTo>
                      <a:lnTo>
                        <a:pt x="130" y="193"/>
                      </a:lnTo>
                      <a:lnTo>
                        <a:pt x="124" y="151"/>
                      </a:lnTo>
                      <a:lnTo>
                        <a:pt x="409" y="363"/>
                      </a:lnTo>
                      <a:lnTo>
                        <a:pt x="417" y="406"/>
                      </a:lnTo>
                      <a:lnTo>
                        <a:pt x="426" y="489"/>
                      </a:lnTo>
                      <a:lnTo>
                        <a:pt x="439" y="406"/>
                      </a:lnTo>
                      <a:lnTo>
                        <a:pt x="452" y="393"/>
                      </a:lnTo>
                      <a:lnTo>
                        <a:pt x="504" y="393"/>
                      </a:lnTo>
                      <a:lnTo>
                        <a:pt x="513" y="441"/>
                      </a:lnTo>
                      <a:lnTo>
                        <a:pt x="561" y="498"/>
                      </a:lnTo>
                      <a:lnTo>
                        <a:pt x="535" y="445"/>
                      </a:lnTo>
                      <a:lnTo>
                        <a:pt x="531" y="384"/>
                      </a:lnTo>
                      <a:lnTo>
                        <a:pt x="552" y="376"/>
                      </a:lnTo>
                      <a:lnTo>
                        <a:pt x="583" y="402"/>
                      </a:lnTo>
                      <a:lnTo>
                        <a:pt x="635" y="432"/>
                      </a:lnTo>
                      <a:lnTo>
                        <a:pt x="613" y="398"/>
                      </a:lnTo>
                      <a:lnTo>
                        <a:pt x="578" y="363"/>
                      </a:lnTo>
                      <a:lnTo>
                        <a:pt x="618" y="315"/>
                      </a:lnTo>
                      <a:lnTo>
                        <a:pt x="648" y="306"/>
                      </a:lnTo>
                      <a:lnTo>
                        <a:pt x="709" y="206"/>
                      </a:lnTo>
                      <a:lnTo>
                        <a:pt x="731" y="184"/>
                      </a:lnTo>
                      <a:lnTo>
                        <a:pt x="787" y="210"/>
                      </a:lnTo>
                      <a:lnTo>
                        <a:pt x="766" y="175"/>
                      </a:lnTo>
                      <a:lnTo>
                        <a:pt x="753" y="140"/>
                      </a:lnTo>
                      <a:lnTo>
                        <a:pt x="774" y="101"/>
                      </a:lnTo>
                      <a:lnTo>
                        <a:pt x="796" y="114"/>
                      </a:lnTo>
                      <a:lnTo>
                        <a:pt x="800" y="75"/>
                      </a:lnTo>
                      <a:lnTo>
                        <a:pt x="827" y="27"/>
                      </a:lnTo>
                      <a:lnTo>
                        <a:pt x="89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290080" y="4083120"/>
                  <a:ext cx="193680" cy="969840"/>
                </a:xfrm>
                <a:custGeom>
                  <a:avLst/>
                  <a:gdLst/>
                  <a:ahLst/>
                  <a:rect l="l" t="t" r="r" b="b"/>
                  <a:pathLst>
                    <a:path w="366" h="1835">
                      <a:moveTo>
                        <a:pt x="153" y="0"/>
                      </a:moveTo>
                      <a:lnTo>
                        <a:pt x="122" y="67"/>
                      </a:lnTo>
                      <a:lnTo>
                        <a:pt x="88" y="141"/>
                      </a:lnTo>
                      <a:lnTo>
                        <a:pt x="148" y="172"/>
                      </a:lnTo>
                      <a:lnTo>
                        <a:pt x="105" y="237"/>
                      </a:lnTo>
                      <a:lnTo>
                        <a:pt x="122" y="268"/>
                      </a:lnTo>
                      <a:lnTo>
                        <a:pt x="153" y="446"/>
                      </a:lnTo>
                      <a:lnTo>
                        <a:pt x="188" y="603"/>
                      </a:lnTo>
                      <a:lnTo>
                        <a:pt x="227" y="747"/>
                      </a:lnTo>
                      <a:lnTo>
                        <a:pt x="366" y="1042"/>
                      </a:lnTo>
                      <a:lnTo>
                        <a:pt x="283" y="1835"/>
                      </a:lnTo>
                      <a:lnTo>
                        <a:pt x="90" y="1787"/>
                      </a:lnTo>
                      <a:lnTo>
                        <a:pt x="0" y="1668"/>
                      </a:lnTo>
                      <a:lnTo>
                        <a:pt x="83" y="1033"/>
                      </a:lnTo>
                      <a:lnTo>
                        <a:pt x="61" y="734"/>
                      </a:lnTo>
                      <a:lnTo>
                        <a:pt x="66" y="616"/>
                      </a:lnTo>
                      <a:lnTo>
                        <a:pt x="74" y="481"/>
                      </a:lnTo>
                      <a:lnTo>
                        <a:pt x="57" y="394"/>
                      </a:lnTo>
                      <a:lnTo>
                        <a:pt x="57" y="268"/>
                      </a:lnTo>
                      <a:lnTo>
                        <a:pt x="61" y="185"/>
                      </a:lnTo>
                      <a:lnTo>
                        <a:pt x="70" y="98"/>
                      </a:lnTo>
                      <a:lnTo>
                        <a:pt x="69" y="32"/>
                      </a:lnTo>
                      <a:lnTo>
                        <a:pt x="96" y="6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13640" y="4006800"/>
                  <a:ext cx="117720" cy="168480"/>
                </a:xfrm>
                <a:custGeom>
                  <a:avLst/>
                  <a:gdLst/>
                  <a:ahLst/>
                  <a:rect l="l" t="t" r="r" b="b"/>
                  <a:pathLst>
                    <a:path w="222" h="319">
                      <a:moveTo>
                        <a:pt x="0" y="191"/>
                      </a:moveTo>
                      <a:lnTo>
                        <a:pt x="39" y="223"/>
                      </a:lnTo>
                      <a:lnTo>
                        <a:pt x="42" y="258"/>
                      </a:lnTo>
                      <a:lnTo>
                        <a:pt x="47" y="296"/>
                      </a:lnTo>
                      <a:lnTo>
                        <a:pt x="68" y="319"/>
                      </a:lnTo>
                      <a:lnTo>
                        <a:pt x="94" y="276"/>
                      </a:lnTo>
                      <a:lnTo>
                        <a:pt x="121" y="218"/>
                      </a:lnTo>
                      <a:lnTo>
                        <a:pt x="144" y="174"/>
                      </a:lnTo>
                      <a:lnTo>
                        <a:pt x="186" y="113"/>
                      </a:lnTo>
                      <a:lnTo>
                        <a:pt x="212" y="71"/>
                      </a:lnTo>
                      <a:lnTo>
                        <a:pt x="222" y="53"/>
                      </a:lnTo>
                      <a:lnTo>
                        <a:pt x="206" y="0"/>
                      </a:lnTo>
                      <a:lnTo>
                        <a:pt x="166" y="69"/>
                      </a:lnTo>
                      <a:lnTo>
                        <a:pt x="131" y="119"/>
                      </a:lnTo>
                      <a:lnTo>
                        <a:pt x="93" y="157"/>
                      </a:lnTo>
                      <a:lnTo>
                        <a:pt x="57" y="175"/>
                      </a:lnTo>
                      <a:lnTo>
                        <a:pt x="0" y="19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453520" y="4087800"/>
                  <a:ext cx="52200" cy="81000"/>
                </a:xfrm>
                <a:custGeom>
                  <a:avLst/>
                  <a:gdLst/>
                  <a:ahLst/>
                  <a:rect l="l" t="t" r="r" b="b"/>
                  <a:pathLst>
                    <a:path w="97" h="152">
                      <a:moveTo>
                        <a:pt x="97" y="37"/>
                      </a:moveTo>
                      <a:lnTo>
                        <a:pt x="68" y="59"/>
                      </a:lnTo>
                      <a:lnTo>
                        <a:pt x="55" y="90"/>
                      </a:lnTo>
                      <a:lnTo>
                        <a:pt x="48" y="113"/>
                      </a:lnTo>
                      <a:lnTo>
                        <a:pt x="44" y="152"/>
                      </a:lnTo>
                      <a:lnTo>
                        <a:pt x="20" y="129"/>
                      </a:lnTo>
                      <a:lnTo>
                        <a:pt x="0" y="103"/>
                      </a:lnTo>
                      <a:lnTo>
                        <a:pt x="0" y="55"/>
                      </a:lnTo>
                      <a:lnTo>
                        <a:pt x="0" y="3"/>
                      </a:lnTo>
                      <a:lnTo>
                        <a:pt x="23" y="0"/>
                      </a:lnTo>
                      <a:lnTo>
                        <a:pt x="61" y="0"/>
                      </a:lnTo>
                      <a:lnTo>
                        <a:pt x="97" y="3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516880" y="4168800"/>
                  <a:ext cx="30240" cy="108000"/>
                </a:xfrm>
                <a:custGeom>
                  <a:avLst/>
                  <a:gdLst/>
                  <a:ahLst/>
                  <a:rect l="l" t="t" r="r" b="b"/>
                  <a:pathLst>
                    <a:path w="57" h="206">
                      <a:moveTo>
                        <a:pt x="57" y="26"/>
                      </a:moveTo>
                      <a:lnTo>
                        <a:pt x="35" y="0"/>
                      </a:lnTo>
                      <a:lnTo>
                        <a:pt x="2" y="14"/>
                      </a:lnTo>
                      <a:lnTo>
                        <a:pt x="2" y="74"/>
                      </a:lnTo>
                      <a:lnTo>
                        <a:pt x="0" y="141"/>
                      </a:lnTo>
                      <a:lnTo>
                        <a:pt x="0" y="206"/>
                      </a:lnTo>
                      <a:lnTo>
                        <a:pt x="6" y="158"/>
                      </a:lnTo>
                      <a:lnTo>
                        <a:pt x="27" y="106"/>
                      </a:lnTo>
                      <a:lnTo>
                        <a:pt x="57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451720" y="4146480"/>
                  <a:ext cx="30240" cy="120600"/>
                </a:xfrm>
                <a:custGeom>
                  <a:avLst/>
                  <a:gdLst/>
                  <a:ahLst/>
                  <a:rect l="l" t="t" r="r" b="b"/>
                  <a:pathLst>
                    <a:path w="56" h="227">
                      <a:moveTo>
                        <a:pt x="3" y="0"/>
                      </a:moveTo>
                      <a:lnTo>
                        <a:pt x="30" y="40"/>
                      </a:lnTo>
                      <a:lnTo>
                        <a:pt x="46" y="50"/>
                      </a:lnTo>
                      <a:lnTo>
                        <a:pt x="56" y="54"/>
                      </a:lnTo>
                      <a:lnTo>
                        <a:pt x="43" y="93"/>
                      </a:lnTo>
                      <a:lnTo>
                        <a:pt x="29" y="149"/>
                      </a:lnTo>
                      <a:lnTo>
                        <a:pt x="8" y="227"/>
                      </a:lnTo>
                      <a:lnTo>
                        <a:pt x="7" y="202"/>
                      </a:lnTo>
                      <a:lnTo>
                        <a:pt x="3" y="141"/>
                      </a:lnTo>
                      <a:lnTo>
                        <a:pt x="0" y="7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772480" y="4278240"/>
                  <a:ext cx="63720" cy="103320"/>
                </a:xfrm>
                <a:custGeom>
                  <a:avLst/>
                  <a:gdLst/>
                  <a:ahLst/>
                  <a:rect l="l" t="t" r="r" b="b"/>
                  <a:pathLst>
                    <a:path w="122" h="197">
                      <a:moveTo>
                        <a:pt x="122" y="0"/>
                      </a:moveTo>
                      <a:lnTo>
                        <a:pt x="61" y="127"/>
                      </a:lnTo>
                      <a:lnTo>
                        <a:pt x="0" y="197"/>
                      </a:lnTo>
                      <a:lnTo>
                        <a:pt x="43" y="114"/>
                      </a:lnTo>
                      <a:lnTo>
                        <a:pt x="65" y="79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474040" y="4597560"/>
                  <a:ext cx="22320" cy="2700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74040" y="4689360"/>
                  <a:ext cx="22320" cy="2700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332920" y="4832280"/>
                  <a:ext cx="439560" cy="1146240"/>
                </a:xfrm>
                <a:custGeom>
                  <a:avLst/>
                  <a:gdLst/>
                  <a:ahLst/>
                  <a:rect l="l" t="t" r="r" b="b"/>
                  <a:pathLst>
                    <a:path w="829" h="2167">
                      <a:moveTo>
                        <a:pt x="272" y="712"/>
                      </a:moveTo>
                      <a:lnTo>
                        <a:pt x="350" y="1278"/>
                      </a:lnTo>
                      <a:lnTo>
                        <a:pt x="376" y="1522"/>
                      </a:lnTo>
                      <a:lnTo>
                        <a:pt x="446" y="1940"/>
                      </a:lnTo>
                      <a:lnTo>
                        <a:pt x="437" y="2054"/>
                      </a:lnTo>
                      <a:lnTo>
                        <a:pt x="480" y="2167"/>
                      </a:lnTo>
                      <a:lnTo>
                        <a:pt x="567" y="2167"/>
                      </a:lnTo>
                      <a:lnTo>
                        <a:pt x="715" y="2106"/>
                      </a:lnTo>
                      <a:lnTo>
                        <a:pt x="742" y="1940"/>
                      </a:lnTo>
                      <a:lnTo>
                        <a:pt x="672" y="1940"/>
                      </a:lnTo>
                      <a:lnTo>
                        <a:pt x="567" y="1914"/>
                      </a:lnTo>
                      <a:lnTo>
                        <a:pt x="681" y="1914"/>
                      </a:lnTo>
                      <a:lnTo>
                        <a:pt x="733" y="1897"/>
                      </a:lnTo>
                      <a:lnTo>
                        <a:pt x="750" y="1513"/>
                      </a:lnTo>
                      <a:lnTo>
                        <a:pt x="785" y="1182"/>
                      </a:lnTo>
                      <a:lnTo>
                        <a:pt x="800" y="986"/>
                      </a:lnTo>
                      <a:lnTo>
                        <a:pt x="804" y="752"/>
                      </a:lnTo>
                      <a:lnTo>
                        <a:pt x="829" y="415"/>
                      </a:lnTo>
                      <a:lnTo>
                        <a:pt x="704" y="427"/>
                      </a:lnTo>
                      <a:lnTo>
                        <a:pt x="466" y="441"/>
                      </a:lnTo>
                      <a:lnTo>
                        <a:pt x="303" y="441"/>
                      </a:lnTo>
                      <a:lnTo>
                        <a:pt x="261" y="183"/>
                      </a:lnTo>
                      <a:lnTo>
                        <a:pt x="253" y="0"/>
                      </a:lnTo>
                      <a:lnTo>
                        <a:pt x="244" y="136"/>
                      </a:lnTo>
                      <a:lnTo>
                        <a:pt x="212" y="436"/>
                      </a:lnTo>
                      <a:lnTo>
                        <a:pt x="7" y="383"/>
                      </a:lnTo>
                      <a:lnTo>
                        <a:pt x="0" y="601"/>
                      </a:lnTo>
                      <a:lnTo>
                        <a:pt x="19" y="947"/>
                      </a:lnTo>
                      <a:lnTo>
                        <a:pt x="2" y="1147"/>
                      </a:lnTo>
                      <a:lnTo>
                        <a:pt x="36" y="1339"/>
                      </a:lnTo>
                      <a:lnTo>
                        <a:pt x="115" y="1827"/>
                      </a:lnTo>
                      <a:lnTo>
                        <a:pt x="202" y="1879"/>
                      </a:lnTo>
                      <a:lnTo>
                        <a:pt x="124" y="1888"/>
                      </a:lnTo>
                      <a:lnTo>
                        <a:pt x="124" y="2010"/>
                      </a:lnTo>
                      <a:lnTo>
                        <a:pt x="211" y="2080"/>
                      </a:lnTo>
                      <a:lnTo>
                        <a:pt x="393" y="2089"/>
                      </a:lnTo>
                      <a:lnTo>
                        <a:pt x="402" y="2010"/>
                      </a:lnTo>
                      <a:lnTo>
                        <a:pt x="420" y="1975"/>
                      </a:lnTo>
                      <a:lnTo>
                        <a:pt x="359" y="1592"/>
                      </a:lnTo>
                      <a:lnTo>
                        <a:pt x="324" y="1330"/>
                      </a:lnTo>
                      <a:lnTo>
                        <a:pt x="298" y="1104"/>
                      </a:lnTo>
                      <a:lnTo>
                        <a:pt x="272" y="71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74040" y="5078520"/>
                  <a:ext cx="57240" cy="74520"/>
                </a:xfrm>
                <a:custGeom>
                  <a:avLst/>
                  <a:gdLst/>
                  <a:ahLst/>
                  <a:rect l="l" t="t" r="r" b="b"/>
                  <a:pathLst>
                    <a:path w="107" h="141">
                      <a:moveTo>
                        <a:pt x="107" y="0"/>
                      </a:moveTo>
                      <a:lnTo>
                        <a:pt x="16" y="52"/>
                      </a:lnTo>
                      <a:lnTo>
                        <a:pt x="0" y="141"/>
                      </a:lnTo>
                      <a:lnTo>
                        <a:pt x="26" y="70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47120" y="5297400"/>
                  <a:ext cx="44280" cy="542880"/>
                </a:xfrm>
                <a:custGeom>
                  <a:avLst/>
                  <a:gdLst/>
                  <a:ahLst/>
                  <a:rect l="l" t="t" r="r" b="b"/>
                  <a:pathLst>
                    <a:path w="83" h="1024">
                      <a:moveTo>
                        <a:pt x="9" y="0"/>
                      </a:moveTo>
                      <a:lnTo>
                        <a:pt x="44" y="575"/>
                      </a:lnTo>
                      <a:lnTo>
                        <a:pt x="83" y="850"/>
                      </a:lnTo>
                      <a:lnTo>
                        <a:pt x="83" y="1024"/>
                      </a:lnTo>
                      <a:lnTo>
                        <a:pt x="61" y="841"/>
                      </a:lnTo>
                      <a:lnTo>
                        <a:pt x="30" y="575"/>
                      </a:lnTo>
                      <a:lnTo>
                        <a:pt x="0" y="26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7677000" y="4094280"/>
                <a:ext cx="254160" cy="158760"/>
                <a:chOff x="7677000" y="4094280"/>
                <a:chExt cx="254160" cy="15876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7677000" y="4094280"/>
                  <a:ext cx="231840" cy="141120"/>
                  <a:chOff x="7677000" y="4094280"/>
                  <a:chExt cx="231840" cy="1411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7677000" y="4094280"/>
                    <a:ext cx="23184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267">
                        <a:moveTo>
                          <a:pt x="412" y="129"/>
                        </a:moveTo>
                        <a:lnTo>
                          <a:pt x="396" y="96"/>
                        </a:lnTo>
                        <a:lnTo>
                          <a:pt x="374" y="75"/>
                        </a:lnTo>
                        <a:lnTo>
                          <a:pt x="317" y="40"/>
                        </a:lnTo>
                        <a:lnTo>
                          <a:pt x="249" y="14"/>
                        </a:lnTo>
                        <a:lnTo>
                          <a:pt x="207" y="7"/>
                        </a:lnTo>
                        <a:lnTo>
                          <a:pt x="177" y="7"/>
                        </a:lnTo>
                        <a:lnTo>
                          <a:pt x="132" y="0"/>
                        </a:lnTo>
                        <a:lnTo>
                          <a:pt x="95" y="3"/>
                        </a:lnTo>
                        <a:lnTo>
                          <a:pt x="55" y="4"/>
                        </a:lnTo>
                        <a:lnTo>
                          <a:pt x="30" y="13"/>
                        </a:lnTo>
                        <a:lnTo>
                          <a:pt x="7" y="23"/>
                        </a:lnTo>
                        <a:lnTo>
                          <a:pt x="0" y="33"/>
                        </a:lnTo>
                        <a:lnTo>
                          <a:pt x="3" y="48"/>
                        </a:lnTo>
                        <a:lnTo>
                          <a:pt x="11" y="54"/>
                        </a:lnTo>
                        <a:lnTo>
                          <a:pt x="34" y="55"/>
                        </a:lnTo>
                        <a:lnTo>
                          <a:pt x="59" y="49"/>
                        </a:lnTo>
                        <a:lnTo>
                          <a:pt x="108" y="51"/>
                        </a:lnTo>
                        <a:lnTo>
                          <a:pt x="136" y="58"/>
                        </a:lnTo>
                        <a:lnTo>
                          <a:pt x="158" y="72"/>
                        </a:lnTo>
                        <a:lnTo>
                          <a:pt x="129" y="90"/>
                        </a:lnTo>
                        <a:lnTo>
                          <a:pt x="121" y="103"/>
                        </a:lnTo>
                        <a:lnTo>
                          <a:pt x="127" y="120"/>
                        </a:lnTo>
                        <a:lnTo>
                          <a:pt x="133" y="128"/>
                        </a:lnTo>
                        <a:lnTo>
                          <a:pt x="124" y="147"/>
                        </a:lnTo>
                        <a:lnTo>
                          <a:pt x="135" y="167"/>
                        </a:lnTo>
                        <a:lnTo>
                          <a:pt x="130" y="186"/>
                        </a:lnTo>
                        <a:lnTo>
                          <a:pt x="142" y="206"/>
                        </a:lnTo>
                        <a:lnTo>
                          <a:pt x="156" y="241"/>
                        </a:lnTo>
                        <a:lnTo>
                          <a:pt x="191" y="247"/>
                        </a:lnTo>
                        <a:lnTo>
                          <a:pt x="233" y="247"/>
                        </a:lnTo>
                        <a:lnTo>
                          <a:pt x="251" y="232"/>
                        </a:lnTo>
                        <a:lnTo>
                          <a:pt x="274" y="254"/>
                        </a:lnTo>
                        <a:lnTo>
                          <a:pt x="317" y="255"/>
                        </a:lnTo>
                        <a:lnTo>
                          <a:pt x="339" y="263"/>
                        </a:lnTo>
                        <a:lnTo>
                          <a:pt x="368" y="267"/>
                        </a:lnTo>
                        <a:lnTo>
                          <a:pt x="399" y="244"/>
                        </a:lnTo>
                        <a:lnTo>
                          <a:pt x="422" y="221"/>
                        </a:lnTo>
                        <a:lnTo>
                          <a:pt x="438" y="176"/>
                        </a:lnTo>
                        <a:lnTo>
                          <a:pt x="419" y="155"/>
                        </a:lnTo>
                        <a:lnTo>
                          <a:pt x="412" y="12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648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767720" y="4110120"/>
                    <a:ext cx="759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23">
                        <a:moveTo>
                          <a:pt x="145" y="45"/>
                        </a:moveTo>
                        <a:lnTo>
                          <a:pt x="74" y="49"/>
                        </a:lnTo>
                        <a:lnTo>
                          <a:pt x="59" y="45"/>
                        </a:lnTo>
                        <a:lnTo>
                          <a:pt x="33" y="48"/>
                        </a:lnTo>
                        <a:lnTo>
                          <a:pt x="29" y="67"/>
                        </a:lnTo>
                        <a:lnTo>
                          <a:pt x="4" y="103"/>
                        </a:lnTo>
                        <a:lnTo>
                          <a:pt x="11" y="119"/>
                        </a:lnTo>
                        <a:lnTo>
                          <a:pt x="43" y="117"/>
                        </a:lnTo>
                        <a:lnTo>
                          <a:pt x="56" y="100"/>
                        </a:lnTo>
                        <a:lnTo>
                          <a:pt x="72" y="90"/>
                        </a:lnTo>
                        <a:lnTo>
                          <a:pt x="100" y="96"/>
                        </a:lnTo>
                        <a:lnTo>
                          <a:pt x="104" y="116"/>
                        </a:lnTo>
                        <a:lnTo>
                          <a:pt x="71" y="100"/>
                        </a:lnTo>
                        <a:lnTo>
                          <a:pt x="49" y="115"/>
                        </a:lnTo>
                        <a:lnTo>
                          <a:pt x="26" y="123"/>
                        </a:lnTo>
                        <a:lnTo>
                          <a:pt x="6" y="120"/>
                        </a:lnTo>
                        <a:lnTo>
                          <a:pt x="1" y="110"/>
                        </a:lnTo>
                        <a:lnTo>
                          <a:pt x="0" y="97"/>
                        </a:lnTo>
                        <a:lnTo>
                          <a:pt x="13" y="83"/>
                        </a:lnTo>
                        <a:lnTo>
                          <a:pt x="24" y="67"/>
                        </a:lnTo>
                        <a:lnTo>
                          <a:pt x="26" y="58"/>
                        </a:lnTo>
                        <a:lnTo>
                          <a:pt x="30" y="40"/>
                        </a:lnTo>
                        <a:lnTo>
                          <a:pt x="49" y="40"/>
                        </a:lnTo>
                        <a:lnTo>
                          <a:pt x="84" y="45"/>
                        </a:lnTo>
                        <a:lnTo>
                          <a:pt x="77" y="19"/>
                        </a:lnTo>
                        <a:lnTo>
                          <a:pt x="72" y="0"/>
                        </a:lnTo>
                        <a:lnTo>
                          <a:pt x="78" y="14"/>
                        </a:lnTo>
                        <a:lnTo>
                          <a:pt x="91" y="42"/>
                        </a:lnTo>
                        <a:lnTo>
                          <a:pt x="109" y="42"/>
                        </a:lnTo>
                        <a:lnTo>
                          <a:pt x="129" y="42"/>
                        </a:lnTo>
                        <a:lnTo>
                          <a:pt x="145" y="45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807320" y="4168800"/>
                    <a:ext cx="205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2">
                        <a:moveTo>
                          <a:pt x="0" y="0"/>
                        </a:moveTo>
                        <a:lnTo>
                          <a:pt x="14" y="9"/>
                        </a:lnTo>
                        <a:lnTo>
                          <a:pt x="17" y="19"/>
                        </a:lnTo>
                        <a:lnTo>
                          <a:pt x="16" y="29"/>
                        </a:lnTo>
                        <a:lnTo>
                          <a:pt x="26" y="32"/>
                        </a:lnTo>
                        <a:lnTo>
                          <a:pt x="32" y="39"/>
                        </a:lnTo>
                        <a:lnTo>
                          <a:pt x="32" y="51"/>
                        </a:lnTo>
                        <a:lnTo>
                          <a:pt x="27" y="57"/>
                        </a:lnTo>
                        <a:lnTo>
                          <a:pt x="4" y="64"/>
                        </a:lnTo>
                        <a:lnTo>
                          <a:pt x="9" y="70"/>
                        </a:lnTo>
                        <a:lnTo>
                          <a:pt x="9" y="79"/>
                        </a:lnTo>
                        <a:lnTo>
                          <a:pt x="0" y="89"/>
                        </a:lnTo>
                        <a:lnTo>
                          <a:pt x="13" y="92"/>
                        </a:lnTo>
                        <a:lnTo>
                          <a:pt x="13" y="77"/>
                        </a:lnTo>
                        <a:lnTo>
                          <a:pt x="23" y="66"/>
                        </a:lnTo>
                        <a:lnTo>
                          <a:pt x="35" y="58"/>
                        </a:lnTo>
                        <a:lnTo>
                          <a:pt x="39" y="42"/>
                        </a:lnTo>
                        <a:lnTo>
                          <a:pt x="33" y="34"/>
                        </a:lnTo>
                        <a:lnTo>
                          <a:pt x="22" y="28"/>
                        </a:lnTo>
                        <a:lnTo>
                          <a:pt x="22" y="16"/>
                        </a:lnTo>
                        <a:lnTo>
                          <a:pt x="19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94720" y="417348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8" y="0"/>
                        </a:moveTo>
                        <a:lnTo>
                          <a:pt x="7" y="7"/>
                        </a:lnTo>
                        <a:lnTo>
                          <a:pt x="8" y="16"/>
                        </a:lnTo>
                        <a:lnTo>
                          <a:pt x="20" y="20"/>
                        </a:lnTo>
                        <a:lnTo>
                          <a:pt x="0" y="1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804080" y="418932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9" y="16"/>
                        </a:lnTo>
                        <a:lnTo>
                          <a:pt x="14" y="16"/>
                        </a:lnTo>
                        <a:lnTo>
                          <a:pt x="25" y="16"/>
                        </a:lnTo>
                        <a:lnTo>
                          <a:pt x="15" y="1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02640" y="4206960"/>
                    <a:ext cx="3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4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3" y="24"/>
                        </a:lnTo>
                        <a:lnTo>
                          <a:pt x="7" y="1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763040" y="4200480"/>
                    <a:ext cx="36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68" y="6"/>
                        </a:moveTo>
                        <a:lnTo>
                          <a:pt x="44" y="6"/>
                        </a:lnTo>
                        <a:lnTo>
                          <a:pt x="0" y="0"/>
                        </a:lnTo>
                        <a:lnTo>
                          <a:pt x="20" y="6"/>
                        </a:lnTo>
                        <a:lnTo>
                          <a:pt x="51" y="13"/>
                        </a:lnTo>
                        <a:lnTo>
                          <a:pt x="68" y="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756560" y="4183200"/>
                    <a:ext cx="55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8">
                        <a:moveTo>
                          <a:pt x="106" y="8"/>
                        </a:moveTo>
                        <a:lnTo>
                          <a:pt x="83" y="13"/>
                        </a:lnTo>
                        <a:lnTo>
                          <a:pt x="61" y="15"/>
                        </a:lnTo>
                        <a:lnTo>
                          <a:pt x="32" y="6"/>
                        </a:lnTo>
                        <a:lnTo>
                          <a:pt x="0" y="0"/>
                        </a:lnTo>
                        <a:lnTo>
                          <a:pt x="38" y="13"/>
                        </a:lnTo>
                        <a:lnTo>
                          <a:pt x="64" y="18"/>
                        </a:lnTo>
                        <a:lnTo>
                          <a:pt x="86" y="18"/>
                        </a:lnTo>
                        <a:lnTo>
                          <a:pt x="106" y="8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773840" y="4154400"/>
                    <a:ext cx="16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7" y="0"/>
                        </a:moveTo>
                        <a:lnTo>
                          <a:pt x="25" y="14"/>
                        </a:lnTo>
                        <a:lnTo>
                          <a:pt x="13" y="24"/>
                        </a:lnTo>
                        <a:lnTo>
                          <a:pt x="0" y="29"/>
                        </a:lnTo>
                        <a:lnTo>
                          <a:pt x="13" y="27"/>
                        </a:lnTo>
                        <a:lnTo>
                          <a:pt x="26" y="21"/>
                        </a:lnTo>
                        <a:lnTo>
                          <a:pt x="29" y="1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7854840" y="4168800"/>
                  <a:ext cx="76320" cy="84240"/>
                </a:xfrm>
                <a:custGeom>
                  <a:avLst/>
                  <a:gdLst/>
                  <a:ahLst/>
                  <a:rect l="l" t="t" r="r" b="b"/>
                  <a:pathLst>
                    <a:path w="145" h="161">
                      <a:moveTo>
                        <a:pt x="10" y="146"/>
                      </a:moveTo>
                      <a:lnTo>
                        <a:pt x="28" y="161"/>
                      </a:lnTo>
                      <a:lnTo>
                        <a:pt x="113" y="120"/>
                      </a:lnTo>
                      <a:lnTo>
                        <a:pt x="145" y="61"/>
                      </a:lnTo>
                      <a:lnTo>
                        <a:pt x="140" y="20"/>
                      </a:lnTo>
                      <a:lnTo>
                        <a:pt x="106" y="0"/>
                      </a:lnTo>
                      <a:lnTo>
                        <a:pt x="87" y="1"/>
                      </a:lnTo>
                      <a:lnTo>
                        <a:pt x="95" y="26"/>
                      </a:lnTo>
                      <a:lnTo>
                        <a:pt x="93" y="48"/>
                      </a:lnTo>
                      <a:lnTo>
                        <a:pt x="81" y="69"/>
                      </a:lnTo>
                      <a:lnTo>
                        <a:pt x="54" y="96"/>
                      </a:lnTo>
                      <a:lnTo>
                        <a:pt x="28" y="120"/>
                      </a:lnTo>
                      <a:lnTo>
                        <a:pt x="0" y="125"/>
                      </a:lnTo>
                      <a:lnTo>
                        <a:pt x="3" y="136"/>
                      </a:lnTo>
                      <a:lnTo>
                        <a:pt x="10" y="1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8377200" y="3740040"/>
                <a:ext cx="258840" cy="358920"/>
                <a:chOff x="8377200" y="3740040"/>
                <a:chExt cx="258840" cy="3589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8383680" y="3774960"/>
                  <a:ext cx="242640" cy="324000"/>
                </a:xfrm>
                <a:custGeom>
                  <a:avLst/>
                  <a:gdLst/>
                  <a:ahLst/>
                  <a:rect l="l" t="t" r="r" b="b"/>
                  <a:pathLst>
                    <a:path w="457" h="611">
                      <a:moveTo>
                        <a:pt x="244" y="0"/>
                      </a:moveTo>
                      <a:lnTo>
                        <a:pt x="197" y="24"/>
                      </a:lnTo>
                      <a:lnTo>
                        <a:pt x="144" y="44"/>
                      </a:lnTo>
                      <a:lnTo>
                        <a:pt x="94" y="59"/>
                      </a:lnTo>
                      <a:lnTo>
                        <a:pt x="41" y="88"/>
                      </a:lnTo>
                      <a:lnTo>
                        <a:pt x="3" y="114"/>
                      </a:lnTo>
                      <a:lnTo>
                        <a:pt x="0" y="143"/>
                      </a:lnTo>
                      <a:lnTo>
                        <a:pt x="3" y="183"/>
                      </a:lnTo>
                      <a:lnTo>
                        <a:pt x="0" y="218"/>
                      </a:lnTo>
                      <a:lnTo>
                        <a:pt x="0" y="259"/>
                      </a:lnTo>
                      <a:lnTo>
                        <a:pt x="3" y="271"/>
                      </a:lnTo>
                      <a:lnTo>
                        <a:pt x="7" y="279"/>
                      </a:lnTo>
                      <a:lnTo>
                        <a:pt x="19" y="287"/>
                      </a:lnTo>
                      <a:lnTo>
                        <a:pt x="23" y="300"/>
                      </a:lnTo>
                      <a:lnTo>
                        <a:pt x="25" y="340"/>
                      </a:lnTo>
                      <a:lnTo>
                        <a:pt x="33" y="366"/>
                      </a:lnTo>
                      <a:lnTo>
                        <a:pt x="43" y="382"/>
                      </a:lnTo>
                      <a:lnTo>
                        <a:pt x="49" y="419"/>
                      </a:lnTo>
                      <a:lnTo>
                        <a:pt x="57" y="438"/>
                      </a:lnTo>
                      <a:lnTo>
                        <a:pt x="70" y="465"/>
                      </a:lnTo>
                      <a:lnTo>
                        <a:pt x="74" y="487"/>
                      </a:lnTo>
                      <a:lnTo>
                        <a:pt x="83" y="506"/>
                      </a:lnTo>
                      <a:lnTo>
                        <a:pt x="90" y="516"/>
                      </a:lnTo>
                      <a:lnTo>
                        <a:pt x="94" y="532"/>
                      </a:lnTo>
                      <a:lnTo>
                        <a:pt x="102" y="557"/>
                      </a:lnTo>
                      <a:lnTo>
                        <a:pt x="116" y="574"/>
                      </a:lnTo>
                      <a:lnTo>
                        <a:pt x="132" y="581"/>
                      </a:lnTo>
                      <a:lnTo>
                        <a:pt x="155" y="581"/>
                      </a:lnTo>
                      <a:lnTo>
                        <a:pt x="173" y="581"/>
                      </a:lnTo>
                      <a:lnTo>
                        <a:pt x="180" y="579"/>
                      </a:lnTo>
                      <a:lnTo>
                        <a:pt x="200" y="577"/>
                      </a:lnTo>
                      <a:lnTo>
                        <a:pt x="213" y="590"/>
                      </a:lnTo>
                      <a:lnTo>
                        <a:pt x="229" y="605"/>
                      </a:lnTo>
                      <a:lnTo>
                        <a:pt x="251" y="611"/>
                      </a:lnTo>
                      <a:lnTo>
                        <a:pt x="297" y="596"/>
                      </a:lnTo>
                      <a:lnTo>
                        <a:pt x="337" y="574"/>
                      </a:lnTo>
                      <a:lnTo>
                        <a:pt x="371" y="535"/>
                      </a:lnTo>
                      <a:lnTo>
                        <a:pt x="412" y="474"/>
                      </a:lnTo>
                      <a:lnTo>
                        <a:pt x="428" y="448"/>
                      </a:lnTo>
                      <a:lnTo>
                        <a:pt x="444" y="414"/>
                      </a:lnTo>
                      <a:lnTo>
                        <a:pt x="450" y="396"/>
                      </a:lnTo>
                      <a:lnTo>
                        <a:pt x="450" y="384"/>
                      </a:lnTo>
                      <a:lnTo>
                        <a:pt x="450" y="366"/>
                      </a:lnTo>
                      <a:lnTo>
                        <a:pt x="432" y="340"/>
                      </a:lnTo>
                      <a:lnTo>
                        <a:pt x="441" y="324"/>
                      </a:lnTo>
                      <a:lnTo>
                        <a:pt x="453" y="295"/>
                      </a:lnTo>
                      <a:lnTo>
                        <a:pt x="457" y="266"/>
                      </a:lnTo>
                      <a:lnTo>
                        <a:pt x="457" y="242"/>
                      </a:lnTo>
                      <a:lnTo>
                        <a:pt x="450" y="208"/>
                      </a:lnTo>
                      <a:lnTo>
                        <a:pt x="441" y="185"/>
                      </a:lnTo>
                      <a:lnTo>
                        <a:pt x="428" y="175"/>
                      </a:lnTo>
                      <a:lnTo>
                        <a:pt x="412" y="175"/>
                      </a:lnTo>
                      <a:lnTo>
                        <a:pt x="399" y="179"/>
                      </a:lnTo>
                      <a:lnTo>
                        <a:pt x="387" y="189"/>
                      </a:lnTo>
                      <a:lnTo>
                        <a:pt x="379" y="213"/>
                      </a:lnTo>
                      <a:lnTo>
                        <a:pt x="374" y="226"/>
                      </a:lnTo>
                      <a:lnTo>
                        <a:pt x="374" y="242"/>
                      </a:lnTo>
                      <a:lnTo>
                        <a:pt x="371" y="263"/>
                      </a:lnTo>
                      <a:lnTo>
                        <a:pt x="371" y="279"/>
                      </a:lnTo>
                      <a:lnTo>
                        <a:pt x="358" y="308"/>
                      </a:lnTo>
                      <a:lnTo>
                        <a:pt x="334" y="313"/>
                      </a:lnTo>
                      <a:lnTo>
                        <a:pt x="321" y="295"/>
                      </a:lnTo>
                      <a:lnTo>
                        <a:pt x="325" y="259"/>
                      </a:lnTo>
                      <a:lnTo>
                        <a:pt x="316" y="233"/>
                      </a:lnTo>
                      <a:lnTo>
                        <a:pt x="292" y="195"/>
                      </a:lnTo>
                      <a:lnTo>
                        <a:pt x="280" y="166"/>
                      </a:lnTo>
                      <a:lnTo>
                        <a:pt x="255" y="131"/>
                      </a:lnTo>
                      <a:lnTo>
                        <a:pt x="244" y="114"/>
                      </a:lnTo>
                      <a:lnTo>
                        <a:pt x="231" y="64"/>
                      </a:lnTo>
                      <a:lnTo>
                        <a:pt x="231" y="44"/>
                      </a:lnTo>
                      <a:lnTo>
                        <a:pt x="234" y="24"/>
                      </a:lnTo>
                      <a:lnTo>
                        <a:pt x="210" y="35"/>
                      </a:lnTo>
                      <a:lnTo>
                        <a:pt x="244" y="0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648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437680" y="404964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14"/>
                      </a:moveTo>
                      <a:lnTo>
                        <a:pt x="13" y="1"/>
                      </a:lnTo>
                      <a:lnTo>
                        <a:pt x="26" y="0"/>
                      </a:lnTo>
                      <a:lnTo>
                        <a:pt x="50" y="1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4" y="14"/>
                      </a:lnTo>
                      <a:lnTo>
                        <a:pt x="81" y="30"/>
                      </a:lnTo>
                      <a:lnTo>
                        <a:pt x="79" y="36"/>
                      </a:lnTo>
                      <a:lnTo>
                        <a:pt x="69" y="43"/>
                      </a:lnTo>
                      <a:lnTo>
                        <a:pt x="59" y="37"/>
                      </a:lnTo>
                      <a:lnTo>
                        <a:pt x="40" y="42"/>
                      </a:lnTo>
                      <a:lnTo>
                        <a:pt x="30" y="52"/>
                      </a:lnTo>
                      <a:lnTo>
                        <a:pt x="17" y="50"/>
                      </a:lnTo>
                      <a:lnTo>
                        <a:pt x="4" y="3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426520" y="4022640"/>
                  <a:ext cx="50760" cy="23760"/>
                </a:xfrm>
                <a:custGeom>
                  <a:avLst/>
                  <a:gdLst/>
                  <a:ahLst/>
                  <a:rect l="l" t="t" r="r" b="b"/>
                  <a:pathLst>
                    <a:path w="96" h="46">
                      <a:moveTo>
                        <a:pt x="14" y="46"/>
                      </a:moveTo>
                      <a:lnTo>
                        <a:pt x="23" y="43"/>
                      </a:lnTo>
                      <a:lnTo>
                        <a:pt x="13" y="26"/>
                      </a:lnTo>
                      <a:lnTo>
                        <a:pt x="22" y="23"/>
                      </a:lnTo>
                      <a:lnTo>
                        <a:pt x="37" y="24"/>
                      </a:lnTo>
                      <a:lnTo>
                        <a:pt x="48" y="22"/>
                      </a:lnTo>
                      <a:lnTo>
                        <a:pt x="56" y="17"/>
                      </a:lnTo>
                      <a:lnTo>
                        <a:pt x="74" y="11"/>
                      </a:lnTo>
                      <a:lnTo>
                        <a:pt x="81" y="4"/>
                      </a:lnTo>
                      <a:lnTo>
                        <a:pt x="96" y="0"/>
                      </a:lnTo>
                      <a:lnTo>
                        <a:pt x="78" y="0"/>
                      </a:lnTo>
                      <a:lnTo>
                        <a:pt x="64" y="0"/>
                      </a:lnTo>
                      <a:lnTo>
                        <a:pt x="56" y="3"/>
                      </a:lnTo>
                      <a:lnTo>
                        <a:pt x="36" y="4"/>
                      </a:lnTo>
                      <a:lnTo>
                        <a:pt x="27" y="14"/>
                      </a:lnTo>
                      <a:lnTo>
                        <a:pt x="20" y="4"/>
                      </a:lnTo>
                      <a:lnTo>
                        <a:pt x="11" y="0"/>
                      </a:lnTo>
                      <a:lnTo>
                        <a:pt x="3" y="4"/>
                      </a:lnTo>
                      <a:lnTo>
                        <a:pt x="0" y="11"/>
                      </a:lnTo>
                      <a:lnTo>
                        <a:pt x="3" y="23"/>
                      </a:lnTo>
                      <a:lnTo>
                        <a:pt x="4" y="32"/>
                      </a:lnTo>
                      <a:lnTo>
                        <a:pt x="14" y="4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397720" y="3921120"/>
                  <a:ext cx="144720" cy="101520"/>
                </a:xfrm>
                <a:custGeom>
                  <a:avLst/>
                  <a:gdLst/>
                  <a:ahLst/>
                  <a:rect l="l" t="t" r="r" b="b"/>
                  <a:pathLst>
                    <a:path w="274" h="192">
                      <a:moveTo>
                        <a:pt x="38" y="118"/>
                      </a:moveTo>
                      <a:lnTo>
                        <a:pt x="38" y="112"/>
                      </a:lnTo>
                      <a:lnTo>
                        <a:pt x="60" y="110"/>
                      </a:lnTo>
                      <a:lnTo>
                        <a:pt x="74" y="103"/>
                      </a:lnTo>
                      <a:lnTo>
                        <a:pt x="80" y="86"/>
                      </a:lnTo>
                      <a:lnTo>
                        <a:pt x="71" y="77"/>
                      </a:lnTo>
                      <a:lnTo>
                        <a:pt x="76" y="65"/>
                      </a:lnTo>
                      <a:lnTo>
                        <a:pt x="76" y="49"/>
                      </a:lnTo>
                      <a:lnTo>
                        <a:pt x="76" y="10"/>
                      </a:lnTo>
                      <a:lnTo>
                        <a:pt x="51" y="0"/>
                      </a:lnTo>
                      <a:lnTo>
                        <a:pt x="46" y="28"/>
                      </a:lnTo>
                      <a:lnTo>
                        <a:pt x="42" y="39"/>
                      </a:lnTo>
                      <a:lnTo>
                        <a:pt x="45" y="60"/>
                      </a:lnTo>
                      <a:lnTo>
                        <a:pt x="41" y="65"/>
                      </a:lnTo>
                      <a:lnTo>
                        <a:pt x="32" y="60"/>
                      </a:lnTo>
                      <a:lnTo>
                        <a:pt x="39" y="57"/>
                      </a:lnTo>
                      <a:lnTo>
                        <a:pt x="36" y="44"/>
                      </a:lnTo>
                      <a:lnTo>
                        <a:pt x="19" y="44"/>
                      </a:lnTo>
                      <a:lnTo>
                        <a:pt x="16" y="35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2" y="54"/>
                      </a:lnTo>
                      <a:lnTo>
                        <a:pt x="3" y="71"/>
                      </a:lnTo>
                      <a:lnTo>
                        <a:pt x="16" y="97"/>
                      </a:lnTo>
                      <a:lnTo>
                        <a:pt x="22" y="107"/>
                      </a:lnTo>
                      <a:lnTo>
                        <a:pt x="25" y="137"/>
                      </a:lnTo>
                      <a:lnTo>
                        <a:pt x="32" y="160"/>
                      </a:lnTo>
                      <a:lnTo>
                        <a:pt x="46" y="187"/>
                      </a:lnTo>
                      <a:lnTo>
                        <a:pt x="52" y="192"/>
                      </a:lnTo>
                      <a:lnTo>
                        <a:pt x="67" y="186"/>
                      </a:lnTo>
                      <a:lnTo>
                        <a:pt x="84" y="182"/>
                      </a:lnTo>
                      <a:lnTo>
                        <a:pt x="107" y="186"/>
                      </a:lnTo>
                      <a:lnTo>
                        <a:pt x="126" y="187"/>
                      </a:lnTo>
                      <a:lnTo>
                        <a:pt x="138" y="187"/>
                      </a:lnTo>
                      <a:lnTo>
                        <a:pt x="151" y="174"/>
                      </a:lnTo>
                      <a:lnTo>
                        <a:pt x="142" y="157"/>
                      </a:lnTo>
                      <a:lnTo>
                        <a:pt x="163" y="151"/>
                      </a:lnTo>
                      <a:lnTo>
                        <a:pt x="171" y="141"/>
                      </a:lnTo>
                      <a:lnTo>
                        <a:pt x="158" y="129"/>
                      </a:lnTo>
                      <a:lnTo>
                        <a:pt x="142" y="126"/>
                      </a:lnTo>
                      <a:lnTo>
                        <a:pt x="167" y="121"/>
                      </a:lnTo>
                      <a:lnTo>
                        <a:pt x="180" y="132"/>
                      </a:lnTo>
                      <a:lnTo>
                        <a:pt x="197" y="132"/>
                      </a:lnTo>
                      <a:lnTo>
                        <a:pt x="170" y="113"/>
                      </a:lnTo>
                      <a:lnTo>
                        <a:pt x="187" y="102"/>
                      </a:lnTo>
                      <a:lnTo>
                        <a:pt x="187" y="94"/>
                      </a:lnTo>
                      <a:lnTo>
                        <a:pt x="168" y="86"/>
                      </a:lnTo>
                      <a:lnTo>
                        <a:pt x="164" y="81"/>
                      </a:lnTo>
                      <a:lnTo>
                        <a:pt x="168" y="77"/>
                      </a:lnTo>
                      <a:lnTo>
                        <a:pt x="193" y="74"/>
                      </a:lnTo>
                      <a:lnTo>
                        <a:pt x="251" y="57"/>
                      </a:lnTo>
                      <a:lnTo>
                        <a:pt x="274" y="4"/>
                      </a:lnTo>
                      <a:lnTo>
                        <a:pt x="248" y="1"/>
                      </a:lnTo>
                      <a:lnTo>
                        <a:pt x="210" y="0"/>
                      </a:lnTo>
                      <a:lnTo>
                        <a:pt x="192" y="23"/>
                      </a:lnTo>
                      <a:lnTo>
                        <a:pt x="164" y="45"/>
                      </a:lnTo>
                      <a:lnTo>
                        <a:pt x="145" y="52"/>
                      </a:lnTo>
                      <a:lnTo>
                        <a:pt x="136" y="48"/>
                      </a:lnTo>
                      <a:lnTo>
                        <a:pt x="123" y="35"/>
                      </a:lnTo>
                      <a:lnTo>
                        <a:pt x="123" y="23"/>
                      </a:lnTo>
                      <a:lnTo>
                        <a:pt x="115" y="4"/>
                      </a:lnTo>
                      <a:lnTo>
                        <a:pt x="97" y="22"/>
                      </a:lnTo>
                      <a:lnTo>
                        <a:pt x="100" y="29"/>
                      </a:lnTo>
                      <a:lnTo>
                        <a:pt x="93" y="44"/>
                      </a:lnTo>
                      <a:lnTo>
                        <a:pt x="96" y="52"/>
                      </a:lnTo>
                      <a:lnTo>
                        <a:pt x="102" y="65"/>
                      </a:lnTo>
                      <a:lnTo>
                        <a:pt x="119" y="78"/>
                      </a:lnTo>
                      <a:lnTo>
                        <a:pt x="125" y="89"/>
                      </a:lnTo>
                      <a:lnTo>
                        <a:pt x="132" y="109"/>
                      </a:lnTo>
                      <a:lnTo>
                        <a:pt x="129" y="119"/>
                      </a:lnTo>
                      <a:lnTo>
                        <a:pt x="105" y="126"/>
                      </a:lnTo>
                      <a:lnTo>
                        <a:pt x="78" y="131"/>
                      </a:lnTo>
                      <a:lnTo>
                        <a:pt x="52" y="126"/>
                      </a:lnTo>
                      <a:lnTo>
                        <a:pt x="38" y="118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64680" y="3925800"/>
                  <a:ext cx="39600" cy="23760"/>
                </a:xfrm>
                <a:custGeom>
                  <a:avLst/>
                  <a:gdLst/>
                  <a:ahLst/>
                  <a:rect l="l" t="t" r="r" b="b"/>
                  <a:pathLst>
                    <a:path w="77" h="45">
                      <a:moveTo>
                        <a:pt x="0" y="25"/>
                      </a:moveTo>
                      <a:lnTo>
                        <a:pt x="4" y="31"/>
                      </a:lnTo>
                      <a:lnTo>
                        <a:pt x="13" y="36"/>
                      </a:lnTo>
                      <a:lnTo>
                        <a:pt x="22" y="38"/>
                      </a:lnTo>
                      <a:lnTo>
                        <a:pt x="33" y="35"/>
                      </a:lnTo>
                      <a:lnTo>
                        <a:pt x="46" y="25"/>
                      </a:lnTo>
                      <a:lnTo>
                        <a:pt x="59" y="13"/>
                      </a:lnTo>
                      <a:lnTo>
                        <a:pt x="69" y="0"/>
                      </a:lnTo>
                      <a:lnTo>
                        <a:pt x="77" y="7"/>
                      </a:lnTo>
                      <a:lnTo>
                        <a:pt x="59" y="20"/>
                      </a:lnTo>
                      <a:lnTo>
                        <a:pt x="48" y="35"/>
                      </a:lnTo>
                      <a:lnTo>
                        <a:pt x="39" y="44"/>
                      </a:lnTo>
                      <a:lnTo>
                        <a:pt x="29" y="45"/>
                      </a:lnTo>
                      <a:lnTo>
                        <a:pt x="20" y="45"/>
                      </a:lnTo>
                      <a:lnTo>
                        <a:pt x="4" y="39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385120" y="3807000"/>
                  <a:ext cx="77760" cy="107640"/>
                </a:xfrm>
                <a:custGeom>
                  <a:avLst/>
                  <a:gdLst/>
                  <a:ahLst/>
                  <a:rect l="l" t="t" r="r" b="b"/>
                  <a:pathLst>
                    <a:path w="148" h="202">
                      <a:moveTo>
                        <a:pt x="6" y="202"/>
                      </a:moveTo>
                      <a:lnTo>
                        <a:pt x="22" y="198"/>
                      </a:lnTo>
                      <a:lnTo>
                        <a:pt x="35" y="198"/>
                      </a:lnTo>
                      <a:lnTo>
                        <a:pt x="53" y="195"/>
                      </a:lnTo>
                      <a:lnTo>
                        <a:pt x="61" y="182"/>
                      </a:lnTo>
                      <a:lnTo>
                        <a:pt x="71" y="188"/>
                      </a:lnTo>
                      <a:lnTo>
                        <a:pt x="80" y="166"/>
                      </a:lnTo>
                      <a:lnTo>
                        <a:pt x="82" y="157"/>
                      </a:lnTo>
                      <a:lnTo>
                        <a:pt x="95" y="159"/>
                      </a:lnTo>
                      <a:lnTo>
                        <a:pt x="96" y="175"/>
                      </a:lnTo>
                      <a:lnTo>
                        <a:pt x="112" y="175"/>
                      </a:lnTo>
                      <a:lnTo>
                        <a:pt x="114" y="183"/>
                      </a:lnTo>
                      <a:lnTo>
                        <a:pt x="132" y="181"/>
                      </a:lnTo>
                      <a:lnTo>
                        <a:pt x="135" y="172"/>
                      </a:lnTo>
                      <a:lnTo>
                        <a:pt x="148" y="181"/>
                      </a:lnTo>
                      <a:lnTo>
                        <a:pt x="144" y="162"/>
                      </a:lnTo>
                      <a:lnTo>
                        <a:pt x="137" y="147"/>
                      </a:lnTo>
                      <a:lnTo>
                        <a:pt x="137" y="128"/>
                      </a:lnTo>
                      <a:lnTo>
                        <a:pt x="143" y="104"/>
                      </a:lnTo>
                      <a:lnTo>
                        <a:pt x="147" y="89"/>
                      </a:lnTo>
                      <a:lnTo>
                        <a:pt x="147" y="63"/>
                      </a:lnTo>
                      <a:lnTo>
                        <a:pt x="140" y="45"/>
                      </a:lnTo>
                      <a:lnTo>
                        <a:pt x="122" y="41"/>
                      </a:lnTo>
                      <a:lnTo>
                        <a:pt x="102" y="28"/>
                      </a:lnTo>
                      <a:lnTo>
                        <a:pt x="95" y="21"/>
                      </a:lnTo>
                      <a:lnTo>
                        <a:pt x="98" y="0"/>
                      </a:lnTo>
                      <a:lnTo>
                        <a:pt x="69" y="11"/>
                      </a:lnTo>
                      <a:lnTo>
                        <a:pt x="29" y="32"/>
                      </a:lnTo>
                      <a:lnTo>
                        <a:pt x="11" y="48"/>
                      </a:lnTo>
                      <a:lnTo>
                        <a:pt x="0" y="51"/>
                      </a:lnTo>
                      <a:lnTo>
                        <a:pt x="5" y="75"/>
                      </a:lnTo>
                      <a:lnTo>
                        <a:pt x="5" y="96"/>
                      </a:lnTo>
                      <a:lnTo>
                        <a:pt x="6" y="118"/>
                      </a:lnTo>
                      <a:lnTo>
                        <a:pt x="6" y="137"/>
                      </a:lnTo>
                      <a:lnTo>
                        <a:pt x="5" y="157"/>
                      </a:lnTo>
                      <a:lnTo>
                        <a:pt x="5" y="181"/>
                      </a:lnTo>
                      <a:lnTo>
                        <a:pt x="6" y="20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435880" y="3908520"/>
                  <a:ext cx="79560" cy="23760"/>
                </a:xfrm>
                <a:custGeom>
                  <a:avLst/>
                  <a:gdLst/>
                  <a:ahLst/>
                  <a:rect l="l" t="t" r="r" b="b"/>
                  <a:pathLst>
                    <a:path w="150" h="44">
                      <a:moveTo>
                        <a:pt x="73" y="22"/>
                      </a:moveTo>
                      <a:lnTo>
                        <a:pt x="79" y="42"/>
                      </a:lnTo>
                      <a:lnTo>
                        <a:pt x="64" y="39"/>
                      </a:lnTo>
                      <a:lnTo>
                        <a:pt x="54" y="26"/>
                      </a:lnTo>
                      <a:lnTo>
                        <a:pt x="42" y="34"/>
                      </a:lnTo>
                      <a:lnTo>
                        <a:pt x="34" y="34"/>
                      </a:lnTo>
                      <a:lnTo>
                        <a:pt x="35" y="44"/>
                      </a:lnTo>
                      <a:lnTo>
                        <a:pt x="19" y="39"/>
                      </a:lnTo>
                      <a:lnTo>
                        <a:pt x="13" y="31"/>
                      </a:lnTo>
                      <a:lnTo>
                        <a:pt x="0" y="29"/>
                      </a:lnTo>
                      <a:lnTo>
                        <a:pt x="9" y="18"/>
                      </a:lnTo>
                      <a:lnTo>
                        <a:pt x="6" y="13"/>
                      </a:lnTo>
                      <a:lnTo>
                        <a:pt x="42" y="13"/>
                      </a:lnTo>
                      <a:lnTo>
                        <a:pt x="54" y="2"/>
                      </a:lnTo>
                      <a:lnTo>
                        <a:pt x="68" y="0"/>
                      </a:lnTo>
                      <a:lnTo>
                        <a:pt x="103" y="0"/>
                      </a:lnTo>
                      <a:lnTo>
                        <a:pt x="125" y="9"/>
                      </a:lnTo>
                      <a:lnTo>
                        <a:pt x="137" y="18"/>
                      </a:lnTo>
                      <a:lnTo>
                        <a:pt x="150" y="19"/>
                      </a:lnTo>
                      <a:lnTo>
                        <a:pt x="129" y="25"/>
                      </a:lnTo>
                      <a:lnTo>
                        <a:pt x="108" y="22"/>
                      </a:lnTo>
                      <a:lnTo>
                        <a:pt x="125" y="18"/>
                      </a:lnTo>
                      <a:lnTo>
                        <a:pt x="116" y="10"/>
                      </a:lnTo>
                      <a:lnTo>
                        <a:pt x="97" y="5"/>
                      </a:lnTo>
                      <a:lnTo>
                        <a:pt x="54" y="10"/>
                      </a:lnTo>
                      <a:lnTo>
                        <a:pt x="73" y="22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394840" y="3916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" y="21"/>
                      </a:moveTo>
                      <a:lnTo>
                        <a:pt x="13" y="34"/>
                      </a:lnTo>
                      <a:lnTo>
                        <a:pt x="25" y="34"/>
                      </a:lnTo>
                      <a:lnTo>
                        <a:pt x="32" y="26"/>
                      </a:lnTo>
                      <a:lnTo>
                        <a:pt x="42" y="25"/>
                      </a:lnTo>
                      <a:lnTo>
                        <a:pt x="50" y="34"/>
                      </a:lnTo>
                      <a:lnTo>
                        <a:pt x="57" y="34"/>
                      </a:lnTo>
                      <a:lnTo>
                        <a:pt x="57" y="21"/>
                      </a:lnTo>
                      <a:lnTo>
                        <a:pt x="52" y="6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25" y="12"/>
                      </a:lnTo>
                      <a:lnTo>
                        <a:pt x="5" y="21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418600" y="396396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108" h="59">
                      <a:moveTo>
                        <a:pt x="0" y="36"/>
                      </a:moveTo>
                      <a:lnTo>
                        <a:pt x="12" y="42"/>
                      </a:lnTo>
                      <a:lnTo>
                        <a:pt x="37" y="40"/>
                      </a:lnTo>
                      <a:lnTo>
                        <a:pt x="42" y="33"/>
                      </a:lnTo>
                      <a:lnTo>
                        <a:pt x="58" y="30"/>
                      </a:lnTo>
                      <a:lnTo>
                        <a:pt x="70" y="33"/>
                      </a:lnTo>
                      <a:lnTo>
                        <a:pt x="71" y="36"/>
                      </a:lnTo>
                      <a:lnTo>
                        <a:pt x="84" y="35"/>
                      </a:lnTo>
                      <a:lnTo>
                        <a:pt x="90" y="29"/>
                      </a:lnTo>
                      <a:lnTo>
                        <a:pt x="89" y="16"/>
                      </a:lnTo>
                      <a:lnTo>
                        <a:pt x="84" y="3"/>
                      </a:lnTo>
                      <a:lnTo>
                        <a:pt x="83" y="0"/>
                      </a:lnTo>
                      <a:lnTo>
                        <a:pt x="93" y="8"/>
                      </a:lnTo>
                      <a:lnTo>
                        <a:pt x="96" y="16"/>
                      </a:lnTo>
                      <a:lnTo>
                        <a:pt x="97" y="26"/>
                      </a:lnTo>
                      <a:lnTo>
                        <a:pt x="108" y="36"/>
                      </a:lnTo>
                      <a:lnTo>
                        <a:pt x="97" y="36"/>
                      </a:lnTo>
                      <a:lnTo>
                        <a:pt x="80" y="43"/>
                      </a:lnTo>
                      <a:lnTo>
                        <a:pt x="64" y="55"/>
                      </a:lnTo>
                      <a:lnTo>
                        <a:pt x="45" y="56"/>
                      </a:lnTo>
                      <a:lnTo>
                        <a:pt x="39" y="59"/>
                      </a:lnTo>
                      <a:lnTo>
                        <a:pt x="29" y="51"/>
                      </a:lnTo>
                      <a:lnTo>
                        <a:pt x="18" y="49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3280" y="4014720"/>
                  <a:ext cx="57240" cy="14400"/>
                </a:xfrm>
                <a:custGeom>
                  <a:avLst/>
                  <a:gdLst/>
                  <a:ahLst/>
                  <a:rect l="l" t="t" r="r" b="b"/>
                  <a:pathLst>
                    <a:path w="109" h="29">
                      <a:moveTo>
                        <a:pt x="0" y="5"/>
                      </a:moveTo>
                      <a:lnTo>
                        <a:pt x="6" y="13"/>
                      </a:lnTo>
                      <a:lnTo>
                        <a:pt x="19" y="2"/>
                      </a:lnTo>
                      <a:lnTo>
                        <a:pt x="28" y="5"/>
                      </a:lnTo>
                      <a:lnTo>
                        <a:pt x="38" y="0"/>
                      </a:lnTo>
                      <a:lnTo>
                        <a:pt x="45" y="2"/>
                      </a:lnTo>
                      <a:lnTo>
                        <a:pt x="51" y="6"/>
                      </a:lnTo>
                      <a:lnTo>
                        <a:pt x="71" y="9"/>
                      </a:lnTo>
                      <a:lnTo>
                        <a:pt x="88" y="12"/>
                      </a:lnTo>
                      <a:lnTo>
                        <a:pt x="104" y="9"/>
                      </a:lnTo>
                      <a:lnTo>
                        <a:pt x="106" y="7"/>
                      </a:lnTo>
                      <a:lnTo>
                        <a:pt x="109" y="12"/>
                      </a:lnTo>
                      <a:lnTo>
                        <a:pt x="93" y="13"/>
                      </a:lnTo>
                      <a:lnTo>
                        <a:pt x="74" y="13"/>
                      </a:lnTo>
                      <a:lnTo>
                        <a:pt x="58" y="18"/>
                      </a:lnTo>
                      <a:lnTo>
                        <a:pt x="46" y="22"/>
                      </a:lnTo>
                      <a:lnTo>
                        <a:pt x="36" y="29"/>
                      </a:lnTo>
                      <a:lnTo>
                        <a:pt x="26" y="22"/>
                      </a:lnTo>
                      <a:lnTo>
                        <a:pt x="19" y="1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461440" y="3792600"/>
                  <a:ext cx="164880" cy="280800"/>
                </a:xfrm>
                <a:custGeom>
                  <a:avLst/>
                  <a:gdLst/>
                  <a:ahLst/>
                  <a:rect l="l" t="t" r="r" b="b"/>
                  <a:pathLst>
                    <a:path w="312" h="532">
                      <a:moveTo>
                        <a:pt x="0" y="259"/>
                      </a:moveTo>
                      <a:lnTo>
                        <a:pt x="12" y="265"/>
                      </a:lnTo>
                      <a:lnTo>
                        <a:pt x="27" y="265"/>
                      </a:lnTo>
                      <a:lnTo>
                        <a:pt x="43" y="258"/>
                      </a:lnTo>
                      <a:lnTo>
                        <a:pt x="47" y="249"/>
                      </a:lnTo>
                      <a:lnTo>
                        <a:pt x="38" y="243"/>
                      </a:lnTo>
                      <a:lnTo>
                        <a:pt x="21" y="240"/>
                      </a:lnTo>
                      <a:lnTo>
                        <a:pt x="21" y="233"/>
                      </a:lnTo>
                      <a:lnTo>
                        <a:pt x="21" y="227"/>
                      </a:lnTo>
                      <a:lnTo>
                        <a:pt x="47" y="221"/>
                      </a:lnTo>
                      <a:lnTo>
                        <a:pt x="47" y="218"/>
                      </a:lnTo>
                      <a:lnTo>
                        <a:pt x="64" y="217"/>
                      </a:lnTo>
                      <a:lnTo>
                        <a:pt x="59" y="211"/>
                      </a:lnTo>
                      <a:lnTo>
                        <a:pt x="56" y="204"/>
                      </a:lnTo>
                      <a:lnTo>
                        <a:pt x="64" y="199"/>
                      </a:lnTo>
                      <a:lnTo>
                        <a:pt x="83" y="202"/>
                      </a:lnTo>
                      <a:lnTo>
                        <a:pt x="86" y="198"/>
                      </a:lnTo>
                      <a:lnTo>
                        <a:pt x="105" y="196"/>
                      </a:lnTo>
                      <a:lnTo>
                        <a:pt x="90" y="191"/>
                      </a:lnTo>
                      <a:lnTo>
                        <a:pt x="73" y="191"/>
                      </a:lnTo>
                      <a:lnTo>
                        <a:pt x="67" y="189"/>
                      </a:lnTo>
                      <a:lnTo>
                        <a:pt x="74" y="181"/>
                      </a:lnTo>
                      <a:lnTo>
                        <a:pt x="85" y="176"/>
                      </a:lnTo>
                      <a:lnTo>
                        <a:pt x="86" y="173"/>
                      </a:lnTo>
                      <a:lnTo>
                        <a:pt x="69" y="157"/>
                      </a:lnTo>
                      <a:lnTo>
                        <a:pt x="56" y="157"/>
                      </a:lnTo>
                      <a:lnTo>
                        <a:pt x="57" y="154"/>
                      </a:lnTo>
                      <a:lnTo>
                        <a:pt x="69" y="149"/>
                      </a:lnTo>
                      <a:lnTo>
                        <a:pt x="54" y="134"/>
                      </a:lnTo>
                      <a:lnTo>
                        <a:pt x="57" y="114"/>
                      </a:lnTo>
                      <a:lnTo>
                        <a:pt x="83" y="108"/>
                      </a:lnTo>
                      <a:lnTo>
                        <a:pt x="61" y="89"/>
                      </a:lnTo>
                      <a:lnTo>
                        <a:pt x="60" y="53"/>
                      </a:lnTo>
                      <a:lnTo>
                        <a:pt x="61" y="8"/>
                      </a:lnTo>
                      <a:lnTo>
                        <a:pt x="83" y="0"/>
                      </a:lnTo>
                      <a:lnTo>
                        <a:pt x="86" y="38"/>
                      </a:lnTo>
                      <a:lnTo>
                        <a:pt x="99" y="82"/>
                      </a:lnTo>
                      <a:lnTo>
                        <a:pt x="130" y="122"/>
                      </a:lnTo>
                      <a:lnTo>
                        <a:pt x="138" y="149"/>
                      </a:lnTo>
                      <a:lnTo>
                        <a:pt x="169" y="196"/>
                      </a:lnTo>
                      <a:lnTo>
                        <a:pt x="178" y="221"/>
                      </a:lnTo>
                      <a:lnTo>
                        <a:pt x="176" y="252"/>
                      </a:lnTo>
                      <a:lnTo>
                        <a:pt x="173" y="262"/>
                      </a:lnTo>
                      <a:lnTo>
                        <a:pt x="186" y="279"/>
                      </a:lnTo>
                      <a:lnTo>
                        <a:pt x="208" y="275"/>
                      </a:lnTo>
                      <a:lnTo>
                        <a:pt x="225" y="244"/>
                      </a:lnTo>
                      <a:lnTo>
                        <a:pt x="227" y="211"/>
                      </a:lnTo>
                      <a:lnTo>
                        <a:pt x="227" y="189"/>
                      </a:lnTo>
                      <a:lnTo>
                        <a:pt x="240" y="156"/>
                      </a:lnTo>
                      <a:lnTo>
                        <a:pt x="260" y="143"/>
                      </a:lnTo>
                      <a:lnTo>
                        <a:pt x="278" y="140"/>
                      </a:lnTo>
                      <a:lnTo>
                        <a:pt x="296" y="151"/>
                      </a:lnTo>
                      <a:lnTo>
                        <a:pt x="302" y="173"/>
                      </a:lnTo>
                      <a:lnTo>
                        <a:pt x="312" y="212"/>
                      </a:lnTo>
                      <a:lnTo>
                        <a:pt x="310" y="249"/>
                      </a:lnTo>
                      <a:lnTo>
                        <a:pt x="299" y="289"/>
                      </a:lnTo>
                      <a:lnTo>
                        <a:pt x="291" y="303"/>
                      </a:lnTo>
                      <a:lnTo>
                        <a:pt x="286" y="314"/>
                      </a:lnTo>
                      <a:lnTo>
                        <a:pt x="279" y="321"/>
                      </a:lnTo>
                      <a:lnTo>
                        <a:pt x="265" y="340"/>
                      </a:lnTo>
                      <a:lnTo>
                        <a:pt x="257" y="348"/>
                      </a:lnTo>
                      <a:lnTo>
                        <a:pt x="241" y="348"/>
                      </a:lnTo>
                      <a:lnTo>
                        <a:pt x="236" y="342"/>
                      </a:lnTo>
                      <a:lnTo>
                        <a:pt x="228" y="339"/>
                      </a:lnTo>
                      <a:lnTo>
                        <a:pt x="228" y="356"/>
                      </a:lnTo>
                      <a:lnTo>
                        <a:pt x="225" y="365"/>
                      </a:lnTo>
                      <a:lnTo>
                        <a:pt x="230" y="374"/>
                      </a:lnTo>
                      <a:lnTo>
                        <a:pt x="243" y="371"/>
                      </a:lnTo>
                      <a:lnTo>
                        <a:pt x="243" y="387"/>
                      </a:lnTo>
                      <a:lnTo>
                        <a:pt x="244" y="387"/>
                      </a:lnTo>
                      <a:lnTo>
                        <a:pt x="243" y="398"/>
                      </a:lnTo>
                      <a:lnTo>
                        <a:pt x="243" y="407"/>
                      </a:lnTo>
                      <a:lnTo>
                        <a:pt x="256" y="409"/>
                      </a:lnTo>
                      <a:lnTo>
                        <a:pt x="262" y="394"/>
                      </a:lnTo>
                      <a:lnTo>
                        <a:pt x="262" y="413"/>
                      </a:lnTo>
                      <a:lnTo>
                        <a:pt x="265" y="429"/>
                      </a:lnTo>
                      <a:lnTo>
                        <a:pt x="220" y="499"/>
                      </a:lnTo>
                      <a:lnTo>
                        <a:pt x="191" y="532"/>
                      </a:lnTo>
                      <a:lnTo>
                        <a:pt x="160" y="529"/>
                      </a:lnTo>
                      <a:lnTo>
                        <a:pt x="202" y="478"/>
                      </a:lnTo>
                      <a:lnTo>
                        <a:pt x="220" y="445"/>
                      </a:lnTo>
                      <a:lnTo>
                        <a:pt x="221" y="419"/>
                      </a:lnTo>
                      <a:lnTo>
                        <a:pt x="217" y="391"/>
                      </a:lnTo>
                      <a:lnTo>
                        <a:pt x="201" y="387"/>
                      </a:lnTo>
                      <a:lnTo>
                        <a:pt x="179" y="393"/>
                      </a:lnTo>
                      <a:lnTo>
                        <a:pt x="164" y="407"/>
                      </a:lnTo>
                      <a:lnTo>
                        <a:pt x="154" y="435"/>
                      </a:lnTo>
                      <a:lnTo>
                        <a:pt x="138" y="465"/>
                      </a:lnTo>
                      <a:lnTo>
                        <a:pt x="134" y="477"/>
                      </a:lnTo>
                      <a:lnTo>
                        <a:pt x="124" y="483"/>
                      </a:lnTo>
                      <a:lnTo>
                        <a:pt x="90" y="487"/>
                      </a:lnTo>
                      <a:lnTo>
                        <a:pt x="85" y="472"/>
                      </a:lnTo>
                      <a:lnTo>
                        <a:pt x="73" y="461"/>
                      </a:lnTo>
                      <a:lnTo>
                        <a:pt x="73" y="445"/>
                      </a:lnTo>
                      <a:lnTo>
                        <a:pt x="76" y="441"/>
                      </a:lnTo>
                      <a:lnTo>
                        <a:pt x="93" y="439"/>
                      </a:lnTo>
                      <a:lnTo>
                        <a:pt x="82" y="430"/>
                      </a:lnTo>
                      <a:lnTo>
                        <a:pt x="86" y="417"/>
                      </a:lnTo>
                      <a:lnTo>
                        <a:pt x="82" y="406"/>
                      </a:lnTo>
                      <a:lnTo>
                        <a:pt x="93" y="394"/>
                      </a:lnTo>
                      <a:lnTo>
                        <a:pt x="104" y="393"/>
                      </a:lnTo>
                      <a:lnTo>
                        <a:pt x="114" y="395"/>
                      </a:lnTo>
                      <a:lnTo>
                        <a:pt x="108" y="382"/>
                      </a:lnTo>
                      <a:lnTo>
                        <a:pt x="109" y="371"/>
                      </a:lnTo>
                      <a:lnTo>
                        <a:pt x="109" y="358"/>
                      </a:lnTo>
                      <a:lnTo>
                        <a:pt x="125" y="352"/>
                      </a:lnTo>
                      <a:lnTo>
                        <a:pt x="104" y="343"/>
                      </a:lnTo>
                      <a:lnTo>
                        <a:pt x="99" y="329"/>
                      </a:lnTo>
                      <a:lnTo>
                        <a:pt x="90" y="317"/>
                      </a:lnTo>
                      <a:lnTo>
                        <a:pt x="76" y="321"/>
                      </a:lnTo>
                      <a:lnTo>
                        <a:pt x="59" y="319"/>
                      </a:lnTo>
                      <a:lnTo>
                        <a:pt x="77" y="313"/>
                      </a:lnTo>
                      <a:lnTo>
                        <a:pt x="93" y="298"/>
                      </a:lnTo>
                      <a:lnTo>
                        <a:pt x="109" y="294"/>
                      </a:lnTo>
                      <a:lnTo>
                        <a:pt x="125" y="294"/>
                      </a:lnTo>
                      <a:lnTo>
                        <a:pt x="117" y="278"/>
                      </a:lnTo>
                      <a:lnTo>
                        <a:pt x="131" y="271"/>
                      </a:lnTo>
                      <a:lnTo>
                        <a:pt x="127" y="255"/>
                      </a:lnTo>
                      <a:lnTo>
                        <a:pt x="141" y="244"/>
                      </a:lnTo>
                      <a:lnTo>
                        <a:pt x="137" y="217"/>
                      </a:lnTo>
                      <a:lnTo>
                        <a:pt x="131" y="198"/>
                      </a:lnTo>
                      <a:lnTo>
                        <a:pt x="118" y="211"/>
                      </a:lnTo>
                      <a:lnTo>
                        <a:pt x="108" y="233"/>
                      </a:lnTo>
                      <a:lnTo>
                        <a:pt x="95" y="247"/>
                      </a:lnTo>
                      <a:lnTo>
                        <a:pt x="82" y="260"/>
                      </a:lnTo>
                      <a:lnTo>
                        <a:pt x="64" y="252"/>
                      </a:lnTo>
                      <a:lnTo>
                        <a:pt x="60" y="247"/>
                      </a:lnTo>
                      <a:lnTo>
                        <a:pt x="53" y="263"/>
                      </a:lnTo>
                      <a:lnTo>
                        <a:pt x="43" y="276"/>
                      </a:lnTo>
                      <a:lnTo>
                        <a:pt x="18" y="279"/>
                      </a:lnTo>
                      <a:lnTo>
                        <a:pt x="0" y="278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404200" y="3932280"/>
                  <a:ext cx="20520" cy="23760"/>
                </a:xfrm>
                <a:custGeom>
                  <a:avLst/>
                  <a:gdLst/>
                  <a:ahLst/>
                  <a:rect l="l" t="t" r="r" b="b"/>
                  <a:pathLst>
                    <a:path w="39" h="46">
                      <a:moveTo>
                        <a:pt x="0" y="11"/>
                      </a:moveTo>
                      <a:lnTo>
                        <a:pt x="8" y="13"/>
                      </a:lnTo>
                      <a:lnTo>
                        <a:pt x="20" y="11"/>
                      </a:lnTo>
                      <a:lnTo>
                        <a:pt x="26" y="7"/>
                      </a:lnTo>
                      <a:lnTo>
                        <a:pt x="29" y="0"/>
                      </a:lnTo>
                      <a:lnTo>
                        <a:pt x="39" y="1"/>
                      </a:lnTo>
                      <a:lnTo>
                        <a:pt x="33" y="17"/>
                      </a:lnTo>
                      <a:lnTo>
                        <a:pt x="33" y="24"/>
                      </a:lnTo>
                      <a:lnTo>
                        <a:pt x="33" y="39"/>
                      </a:lnTo>
                      <a:lnTo>
                        <a:pt x="29" y="46"/>
                      </a:lnTo>
                      <a:lnTo>
                        <a:pt x="24" y="46"/>
                      </a:lnTo>
                      <a:lnTo>
                        <a:pt x="20" y="40"/>
                      </a:lnTo>
                      <a:lnTo>
                        <a:pt x="14" y="36"/>
                      </a:lnTo>
                      <a:lnTo>
                        <a:pt x="24" y="32"/>
                      </a:lnTo>
                      <a:lnTo>
                        <a:pt x="21" y="24"/>
                      </a:lnTo>
                      <a:lnTo>
                        <a:pt x="5" y="2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34440" y="4022640"/>
                  <a:ext cx="49320" cy="25560"/>
                </a:xfrm>
                <a:custGeom>
                  <a:avLst/>
                  <a:gdLst/>
                  <a:ahLst/>
                  <a:rect l="l" t="t" r="r" b="b"/>
                  <a:pathLst>
                    <a:path w="93" h="48">
                      <a:moveTo>
                        <a:pt x="0" y="24"/>
                      </a:moveTo>
                      <a:lnTo>
                        <a:pt x="16" y="22"/>
                      </a:lnTo>
                      <a:lnTo>
                        <a:pt x="29" y="23"/>
                      </a:lnTo>
                      <a:lnTo>
                        <a:pt x="41" y="17"/>
                      </a:lnTo>
                      <a:lnTo>
                        <a:pt x="60" y="8"/>
                      </a:lnTo>
                      <a:lnTo>
                        <a:pt x="66" y="1"/>
                      </a:lnTo>
                      <a:lnTo>
                        <a:pt x="82" y="0"/>
                      </a:lnTo>
                      <a:lnTo>
                        <a:pt x="92" y="0"/>
                      </a:lnTo>
                      <a:lnTo>
                        <a:pt x="93" y="8"/>
                      </a:lnTo>
                      <a:lnTo>
                        <a:pt x="82" y="10"/>
                      </a:lnTo>
                      <a:lnTo>
                        <a:pt x="68" y="24"/>
                      </a:lnTo>
                      <a:lnTo>
                        <a:pt x="57" y="33"/>
                      </a:lnTo>
                      <a:lnTo>
                        <a:pt x="52" y="42"/>
                      </a:lnTo>
                      <a:lnTo>
                        <a:pt x="47" y="46"/>
                      </a:lnTo>
                      <a:lnTo>
                        <a:pt x="25" y="48"/>
                      </a:lnTo>
                      <a:lnTo>
                        <a:pt x="12" y="48"/>
                      </a:lnTo>
                      <a:lnTo>
                        <a:pt x="8" y="3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591400" y="3898800"/>
                  <a:ext cx="19080" cy="39960"/>
                </a:xfrm>
                <a:custGeom>
                  <a:avLst/>
                  <a:gdLst/>
                  <a:ahLst/>
                  <a:rect l="l" t="t" r="r" b="b"/>
                  <a:pathLst>
                    <a:path w="35" h="75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" y="32"/>
                      </a:lnTo>
                      <a:lnTo>
                        <a:pt x="11" y="43"/>
                      </a:lnTo>
                      <a:lnTo>
                        <a:pt x="20" y="43"/>
                      </a:lnTo>
                      <a:lnTo>
                        <a:pt x="23" y="57"/>
                      </a:lnTo>
                      <a:lnTo>
                        <a:pt x="19" y="75"/>
                      </a:lnTo>
                      <a:lnTo>
                        <a:pt x="32" y="74"/>
                      </a:lnTo>
                      <a:lnTo>
                        <a:pt x="35" y="58"/>
                      </a:lnTo>
                      <a:lnTo>
                        <a:pt x="33" y="39"/>
                      </a:lnTo>
                      <a:lnTo>
                        <a:pt x="23" y="29"/>
                      </a:lnTo>
                      <a:lnTo>
                        <a:pt x="16" y="29"/>
                      </a:lnTo>
                      <a:lnTo>
                        <a:pt x="8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599320" y="388152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39" h="118">
                      <a:moveTo>
                        <a:pt x="0" y="12"/>
                      </a:moveTo>
                      <a:lnTo>
                        <a:pt x="8" y="0"/>
                      </a:lnTo>
                      <a:lnTo>
                        <a:pt x="17" y="1"/>
                      </a:lnTo>
                      <a:lnTo>
                        <a:pt x="23" y="7"/>
                      </a:lnTo>
                      <a:lnTo>
                        <a:pt x="34" y="27"/>
                      </a:lnTo>
                      <a:lnTo>
                        <a:pt x="39" y="59"/>
                      </a:lnTo>
                      <a:lnTo>
                        <a:pt x="37" y="81"/>
                      </a:lnTo>
                      <a:lnTo>
                        <a:pt x="32" y="104"/>
                      </a:lnTo>
                      <a:lnTo>
                        <a:pt x="10" y="118"/>
                      </a:lnTo>
                      <a:lnTo>
                        <a:pt x="24" y="104"/>
                      </a:lnTo>
                      <a:lnTo>
                        <a:pt x="32" y="80"/>
                      </a:lnTo>
                      <a:lnTo>
                        <a:pt x="29" y="54"/>
                      </a:lnTo>
                      <a:lnTo>
                        <a:pt x="26" y="27"/>
                      </a:lnTo>
                      <a:lnTo>
                        <a:pt x="19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377200" y="3740040"/>
                  <a:ext cx="258840" cy="236520"/>
                </a:xfrm>
                <a:custGeom>
                  <a:avLst/>
                  <a:gdLst/>
                  <a:ahLst/>
                  <a:rect l="l" t="t" r="r" b="b"/>
                  <a:pathLst>
                    <a:path w="489" h="447">
                      <a:moveTo>
                        <a:pt x="10" y="191"/>
                      </a:moveTo>
                      <a:lnTo>
                        <a:pt x="40" y="165"/>
                      </a:lnTo>
                      <a:lnTo>
                        <a:pt x="98" y="138"/>
                      </a:lnTo>
                      <a:lnTo>
                        <a:pt x="128" y="122"/>
                      </a:lnTo>
                      <a:lnTo>
                        <a:pt x="183" y="104"/>
                      </a:lnTo>
                      <a:lnTo>
                        <a:pt x="227" y="85"/>
                      </a:lnTo>
                      <a:lnTo>
                        <a:pt x="254" y="68"/>
                      </a:lnTo>
                      <a:lnTo>
                        <a:pt x="215" y="103"/>
                      </a:lnTo>
                      <a:lnTo>
                        <a:pt x="240" y="103"/>
                      </a:lnTo>
                      <a:lnTo>
                        <a:pt x="237" y="133"/>
                      </a:lnTo>
                      <a:lnTo>
                        <a:pt x="250" y="170"/>
                      </a:lnTo>
                      <a:lnTo>
                        <a:pt x="264" y="200"/>
                      </a:lnTo>
                      <a:lnTo>
                        <a:pt x="286" y="225"/>
                      </a:lnTo>
                      <a:lnTo>
                        <a:pt x="289" y="244"/>
                      </a:lnTo>
                      <a:lnTo>
                        <a:pt x="301" y="261"/>
                      </a:lnTo>
                      <a:lnTo>
                        <a:pt x="320" y="289"/>
                      </a:lnTo>
                      <a:lnTo>
                        <a:pt x="328" y="310"/>
                      </a:lnTo>
                      <a:lnTo>
                        <a:pt x="331" y="332"/>
                      </a:lnTo>
                      <a:lnTo>
                        <a:pt x="331" y="356"/>
                      </a:lnTo>
                      <a:lnTo>
                        <a:pt x="328" y="363"/>
                      </a:lnTo>
                      <a:lnTo>
                        <a:pt x="346" y="380"/>
                      </a:lnTo>
                      <a:lnTo>
                        <a:pt x="370" y="374"/>
                      </a:lnTo>
                      <a:lnTo>
                        <a:pt x="383" y="345"/>
                      </a:lnTo>
                      <a:lnTo>
                        <a:pt x="386" y="310"/>
                      </a:lnTo>
                      <a:lnTo>
                        <a:pt x="391" y="279"/>
                      </a:lnTo>
                      <a:lnTo>
                        <a:pt x="407" y="252"/>
                      </a:lnTo>
                      <a:lnTo>
                        <a:pt x="430" y="242"/>
                      </a:lnTo>
                      <a:lnTo>
                        <a:pt x="452" y="251"/>
                      </a:lnTo>
                      <a:lnTo>
                        <a:pt x="459" y="271"/>
                      </a:lnTo>
                      <a:lnTo>
                        <a:pt x="463" y="294"/>
                      </a:lnTo>
                      <a:lnTo>
                        <a:pt x="468" y="313"/>
                      </a:lnTo>
                      <a:lnTo>
                        <a:pt x="468" y="340"/>
                      </a:lnTo>
                      <a:lnTo>
                        <a:pt x="463" y="364"/>
                      </a:lnTo>
                      <a:lnTo>
                        <a:pt x="456" y="387"/>
                      </a:lnTo>
                      <a:lnTo>
                        <a:pt x="444" y="409"/>
                      </a:lnTo>
                      <a:lnTo>
                        <a:pt x="459" y="447"/>
                      </a:lnTo>
                      <a:lnTo>
                        <a:pt x="481" y="408"/>
                      </a:lnTo>
                      <a:lnTo>
                        <a:pt x="483" y="373"/>
                      </a:lnTo>
                      <a:lnTo>
                        <a:pt x="481" y="312"/>
                      </a:lnTo>
                      <a:lnTo>
                        <a:pt x="489" y="274"/>
                      </a:lnTo>
                      <a:lnTo>
                        <a:pt x="489" y="212"/>
                      </a:lnTo>
                      <a:lnTo>
                        <a:pt x="481" y="151"/>
                      </a:lnTo>
                      <a:lnTo>
                        <a:pt x="472" y="103"/>
                      </a:lnTo>
                      <a:lnTo>
                        <a:pt x="449" y="68"/>
                      </a:lnTo>
                      <a:lnTo>
                        <a:pt x="420" y="42"/>
                      </a:lnTo>
                      <a:lnTo>
                        <a:pt x="375" y="21"/>
                      </a:lnTo>
                      <a:lnTo>
                        <a:pt x="341" y="16"/>
                      </a:lnTo>
                      <a:lnTo>
                        <a:pt x="318" y="17"/>
                      </a:lnTo>
                      <a:lnTo>
                        <a:pt x="288" y="3"/>
                      </a:lnTo>
                      <a:lnTo>
                        <a:pt x="244" y="0"/>
                      </a:lnTo>
                      <a:lnTo>
                        <a:pt x="167" y="17"/>
                      </a:lnTo>
                      <a:lnTo>
                        <a:pt x="114" y="33"/>
                      </a:lnTo>
                      <a:lnTo>
                        <a:pt x="70" y="50"/>
                      </a:lnTo>
                      <a:lnTo>
                        <a:pt x="40" y="78"/>
                      </a:lnTo>
                      <a:lnTo>
                        <a:pt x="13" y="111"/>
                      </a:lnTo>
                      <a:lnTo>
                        <a:pt x="0" y="156"/>
                      </a:lnTo>
                      <a:lnTo>
                        <a:pt x="10" y="19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86920" y="3743280"/>
                  <a:ext cx="141120" cy="68400"/>
                </a:xfrm>
                <a:custGeom>
                  <a:avLst/>
                  <a:gdLst/>
                  <a:ahLst/>
                  <a:rect l="l" t="t" r="r" b="b"/>
                  <a:pathLst>
                    <a:path w="265" h="128">
                      <a:moveTo>
                        <a:pt x="265" y="10"/>
                      </a:moveTo>
                      <a:lnTo>
                        <a:pt x="235" y="39"/>
                      </a:lnTo>
                      <a:lnTo>
                        <a:pt x="201" y="67"/>
                      </a:lnTo>
                      <a:lnTo>
                        <a:pt x="135" y="88"/>
                      </a:lnTo>
                      <a:lnTo>
                        <a:pt x="65" y="96"/>
                      </a:lnTo>
                      <a:lnTo>
                        <a:pt x="17" y="113"/>
                      </a:lnTo>
                      <a:lnTo>
                        <a:pt x="0" y="128"/>
                      </a:lnTo>
                      <a:lnTo>
                        <a:pt x="30" y="97"/>
                      </a:lnTo>
                      <a:lnTo>
                        <a:pt x="65" y="78"/>
                      </a:lnTo>
                      <a:lnTo>
                        <a:pt x="106" y="61"/>
                      </a:lnTo>
                      <a:lnTo>
                        <a:pt x="88" y="61"/>
                      </a:lnTo>
                      <a:lnTo>
                        <a:pt x="49" y="70"/>
                      </a:lnTo>
                      <a:lnTo>
                        <a:pt x="27" y="80"/>
                      </a:lnTo>
                      <a:lnTo>
                        <a:pt x="71" y="54"/>
                      </a:lnTo>
                      <a:lnTo>
                        <a:pt x="106" y="39"/>
                      </a:lnTo>
                      <a:lnTo>
                        <a:pt x="154" y="26"/>
                      </a:lnTo>
                      <a:lnTo>
                        <a:pt x="152" y="19"/>
                      </a:lnTo>
                      <a:lnTo>
                        <a:pt x="193" y="14"/>
                      </a:lnTo>
                      <a:lnTo>
                        <a:pt x="188" y="9"/>
                      </a:lnTo>
                      <a:lnTo>
                        <a:pt x="213" y="1"/>
                      </a:lnTo>
                      <a:lnTo>
                        <a:pt x="235" y="0"/>
                      </a:lnTo>
                      <a:lnTo>
                        <a:pt x="265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507520" y="3753000"/>
                  <a:ext cx="114120" cy="128520"/>
                </a:xfrm>
                <a:custGeom>
                  <a:avLst/>
                  <a:gdLst/>
                  <a:ahLst/>
                  <a:rect l="l" t="t" r="r" b="b"/>
                  <a:pathLst>
                    <a:path w="216" h="244">
                      <a:moveTo>
                        <a:pt x="72" y="0"/>
                      </a:moveTo>
                      <a:lnTo>
                        <a:pt x="30" y="35"/>
                      </a:lnTo>
                      <a:lnTo>
                        <a:pt x="0" y="63"/>
                      </a:lnTo>
                      <a:lnTo>
                        <a:pt x="13" y="58"/>
                      </a:lnTo>
                      <a:lnTo>
                        <a:pt x="4" y="74"/>
                      </a:lnTo>
                      <a:lnTo>
                        <a:pt x="2" y="92"/>
                      </a:lnTo>
                      <a:lnTo>
                        <a:pt x="8" y="118"/>
                      </a:lnTo>
                      <a:lnTo>
                        <a:pt x="17" y="150"/>
                      </a:lnTo>
                      <a:lnTo>
                        <a:pt x="42" y="167"/>
                      </a:lnTo>
                      <a:lnTo>
                        <a:pt x="68" y="202"/>
                      </a:lnTo>
                      <a:lnTo>
                        <a:pt x="55" y="157"/>
                      </a:lnTo>
                      <a:lnTo>
                        <a:pt x="90" y="167"/>
                      </a:lnTo>
                      <a:lnTo>
                        <a:pt x="98" y="192"/>
                      </a:lnTo>
                      <a:lnTo>
                        <a:pt x="104" y="244"/>
                      </a:lnTo>
                      <a:lnTo>
                        <a:pt x="111" y="202"/>
                      </a:lnTo>
                      <a:lnTo>
                        <a:pt x="111" y="172"/>
                      </a:lnTo>
                      <a:lnTo>
                        <a:pt x="133" y="201"/>
                      </a:lnTo>
                      <a:lnTo>
                        <a:pt x="133" y="240"/>
                      </a:lnTo>
                      <a:lnTo>
                        <a:pt x="152" y="196"/>
                      </a:lnTo>
                      <a:lnTo>
                        <a:pt x="152" y="150"/>
                      </a:lnTo>
                      <a:lnTo>
                        <a:pt x="168" y="167"/>
                      </a:lnTo>
                      <a:lnTo>
                        <a:pt x="168" y="201"/>
                      </a:lnTo>
                      <a:lnTo>
                        <a:pt x="178" y="132"/>
                      </a:lnTo>
                      <a:lnTo>
                        <a:pt x="172" y="101"/>
                      </a:lnTo>
                      <a:lnTo>
                        <a:pt x="194" y="109"/>
                      </a:lnTo>
                      <a:lnTo>
                        <a:pt x="198" y="131"/>
                      </a:lnTo>
                      <a:lnTo>
                        <a:pt x="203" y="102"/>
                      </a:lnTo>
                      <a:lnTo>
                        <a:pt x="200" y="83"/>
                      </a:lnTo>
                      <a:lnTo>
                        <a:pt x="216" y="85"/>
                      </a:lnTo>
                      <a:lnTo>
                        <a:pt x="207" y="66"/>
                      </a:lnTo>
                      <a:lnTo>
                        <a:pt x="187" y="45"/>
                      </a:lnTo>
                      <a:lnTo>
                        <a:pt x="164" y="26"/>
                      </a:lnTo>
                      <a:lnTo>
                        <a:pt x="129" y="10"/>
                      </a:lnTo>
                      <a:lnTo>
                        <a:pt x="100" y="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588520" y="394668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41" h="39">
                      <a:moveTo>
                        <a:pt x="6" y="16"/>
                      </a:moveTo>
                      <a:lnTo>
                        <a:pt x="22" y="13"/>
                      </a:lnTo>
                      <a:lnTo>
                        <a:pt x="41" y="0"/>
                      </a:lnTo>
                      <a:lnTo>
                        <a:pt x="33" y="26"/>
                      </a:lnTo>
                      <a:lnTo>
                        <a:pt x="17" y="39"/>
                      </a:lnTo>
                      <a:lnTo>
                        <a:pt x="0" y="36"/>
                      </a:lnTo>
                      <a:lnTo>
                        <a:pt x="0" y="23"/>
                      </a:lnTo>
                      <a:lnTo>
                        <a:pt x="6" y="16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8691480" y="4803840"/>
                <a:ext cx="144720" cy="243000"/>
                <a:chOff x="8691480" y="4803840"/>
                <a:chExt cx="144720" cy="24300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8691480" y="4826160"/>
                  <a:ext cx="128520" cy="220680"/>
                  <a:chOff x="8691480" y="4826160"/>
                  <a:chExt cx="128520" cy="2206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8691480" y="4826160"/>
                    <a:ext cx="1285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417">
                        <a:moveTo>
                          <a:pt x="132" y="0"/>
                        </a:moveTo>
                        <a:lnTo>
                          <a:pt x="94" y="68"/>
                        </a:lnTo>
                        <a:lnTo>
                          <a:pt x="64" y="103"/>
                        </a:lnTo>
                        <a:lnTo>
                          <a:pt x="48" y="130"/>
                        </a:lnTo>
                        <a:lnTo>
                          <a:pt x="30" y="152"/>
                        </a:lnTo>
                        <a:lnTo>
                          <a:pt x="19" y="181"/>
                        </a:lnTo>
                        <a:lnTo>
                          <a:pt x="13" y="209"/>
                        </a:lnTo>
                        <a:lnTo>
                          <a:pt x="0" y="245"/>
                        </a:lnTo>
                        <a:lnTo>
                          <a:pt x="10" y="277"/>
                        </a:lnTo>
                        <a:lnTo>
                          <a:pt x="10" y="321"/>
                        </a:lnTo>
                        <a:lnTo>
                          <a:pt x="24" y="322"/>
                        </a:lnTo>
                        <a:lnTo>
                          <a:pt x="42" y="311"/>
                        </a:lnTo>
                        <a:lnTo>
                          <a:pt x="53" y="289"/>
                        </a:lnTo>
                        <a:lnTo>
                          <a:pt x="53" y="261"/>
                        </a:lnTo>
                        <a:lnTo>
                          <a:pt x="62" y="232"/>
                        </a:lnTo>
                        <a:lnTo>
                          <a:pt x="75" y="255"/>
                        </a:lnTo>
                        <a:lnTo>
                          <a:pt x="78" y="290"/>
                        </a:lnTo>
                        <a:lnTo>
                          <a:pt x="64" y="322"/>
                        </a:lnTo>
                        <a:lnTo>
                          <a:pt x="48" y="347"/>
                        </a:lnTo>
                        <a:lnTo>
                          <a:pt x="33" y="364"/>
                        </a:lnTo>
                        <a:lnTo>
                          <a:pt x="29" y="383"/>
                        </a:lnTo>
                        <a:lnTo>
                          <a:pt x="37" y="395"/>
                        </a:lnTo>
                        <a:lnTo>
                          <a:pt x="46" y="393"/>
                        </a:lnTo>
                        <a:lnTo>
                          <a:pt x="42" y="406"/>
                        </a:lnTo>
                        <a:lnTo>
                          <a:pt x="49" y="417"/>
                        </a:lnTo>
                        <a:lnTo>
                          <a:pt x="64" y="417"/>
                        </a:lnTo>
                        <a:lnTo>
                          <a:pt x="84" y="408"/>
                        </a:lnTo>
                        <a:lnTo>
                          <a:pt x="103" y="406"/>
                        </a:lnTo>
                        <a:lnTo>
                          <a:pt x="127" y="393"/>
                        </a:lnTo>
                        <a:lnTo>
                          <a:pt x="151" y="386"/>
                        </a:lnTo>
                        <a:lnTo>
                          <a:pt x="164" y="372"/>
                        </a:lnTo>
                        <a:lnTo>
                          <a:pt x="188" y="340"/>
                        </a:lnTo>
                        <a:lnTo>
                          <a:pt x="228" y="295"/>
                        </a:lnTo>
                        <a:lnTo>
                          <a:pt x="232" y="238"/>
                        </a:lnTo>
                        <a:lnTo>
                          <a:pt x="241" y="186"/>
                        </a:lnTo>
                        <a:lnTo>
                          <a:pt x="236" y="139"/>
                        </a:lnTo>
                        <a:lnTo>
                          <a:pt x="233" y="104"/>
                        </a:lnTo>
                        <a:lnTo>
                          <a:pt x="242" y="21"/>
                        </a:lnTo>
                        <a:lnTo>
                          <a:pt x="206" y="3"/>
                        </a:lnTo>
                        <a:lnTo>
                          <a:pt x="132" y="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648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728200" y="4976640"/>
                    <a:ext cx="36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93">
                        <a:moveTo>
                          <a:pt x="70" y="0"/>
                        </a:moveTo>
                        <a:lnTo>
                          <a:pt x="55" y="38"/>
                        </a:lnTo>
                        <a:lnTo>
                          <a:pt x="42" y="55"/>
                        </a:lnTo>
                        <a:lnTo>
                          <a:pt x="29" y="72"/>
                        </a:lnTo>
                        <a:lnTo>
                          <a:pt x="0" y="93"/>
                        </a:lnTo>
                        <a:lnTo>
                          <a:pt x="38" y="74"/>
                        </a:lnTo>
                        <a:lnTo>
                          <a:pt x="59" y="42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69240" y="4976640"/>
                    <a:ext cx="23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5">
                        <a:moveTo>
                          <a:pt x="45" y="0"/>
                        </a:moveTo>
                        <a:lnTo>
                          <a:pt x="27" y="34"/>
                        </a:lnTo>
                        <a:lnTo>
                          <a:pt x="14" y="54"/>
                        </a:lnTo>
                        <a:lnTo>
                          <a:pt x="0" y="85"/>
                        </a:lnTo>
                        <a:lnTo>
                          <a:pt x="33" y="37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721720" y="4921200"/>
                    <a:ext cx="64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3">
                        <a:moveTo>
                          <a:pt x="0" y="0"/>
                        </a:moveTo>
                        <a:lnTo>
                          <a:pt x="1" y="25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4" y="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764560" y="4950000"/>
                    <a:ext cx="97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8">
                        <a:moveTo>
                          <a:pt x="4" y="2"/>
                        </a:moveTo>
                        <a:lnTo>
                          <a:pt x="0" y="20"/>
                        </a:lnTo>
                        <a:lnTo>
                          <a:pt x="0" y="58"/>
                        </a:lnTo>
                        <a:lnTo>
                          <a:pt x="5" y="42"/>
                        </a:lnTo>
                        <a:lnTo>
                          <a:pt x="17" y="0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8791560" y="4951440"/>
                    <a:ext cx="6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1">
                        <a:moveTo>
                          <a:pt x="12" y="0"/>
                        </a:moveTo>
                        <a:lnTo>
                          <a:pt x="2" y="11"/>
                        </a:lnTo>
                        <a:lnTo>
                          <a:pt x="0" y="5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704440" y="497196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2">
                        <a:moveTo>
                          <a:pt x="0" y="2"/>
                        </a:moveTo>
                        <a:lnTo>
                          <a:pt x="7" y="6"/>
                        </a:lnTo>
                        <a:lnTo>
                          <a:pt x="8" y="22"/>
                        </a:lnTo>
                        <a:lnTo>
                          <a:pt x="14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8742240" y="4803840"/>
                  <a:ext cx="93960" cy="61920"/>
                </a:xfrm>
                <a:custGeom>
                  <a:avLst/>
                  <a:gdLst/>
                  <a:ahLst/>
                  <a:rect l="l" t="t" r="r" b="b"/>
                  <a:pathLst>
                    <a:path w="177" h="117">
                      <a:moveTo>
                        <a:pt x="0" y="80"/>
                      </a:moveTo>
                      <a:lnTo>
                        <a:pt x="23" y="76"/>
                      </a:lnTo>
                      <a:lnTo>
                        <a:pt x="55" y="77"/>
                      </a:lnTo>
                      <a:lnTo>
                        <a:pt x="81" y="82"/>
                      </a:lnTo>
                      <a:lnTo>
                        <a:pt x="125" y="95"/>
                      </a:lnTo>
                      <a:lnTo>
                        <a:pt x="154" y="111"/>
                      </a:lnTo>
                      <a:lnTo>
                        <a:pt x="163" y="117"/>
                      </a:lnTo>
                      <a:lnTo>
                        <a:pt x="177" y="53"/>
                      </a:lnTo>
                      <a:lnTo>
                        <a:pt x="151" y="28"/>
                      </a:lnTo>
                      <a:lnTo>
                        <a:pt x="116" y="11"/>
                      </a:lnTo>
                      <a:lnTo>
                        <a:pt x="81" y="0"/>
                      </a:lnTo>
                      <a:lnTo>
                        <a:pt x="51" y="0"/>
                      </a:lnTo>
                      <a:lnTo>
                        <a:pt x="20" y="3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7678800" y="4422600"/>
              <a:ext cx="1011240" cy="1833840"/>
              <a:chOff x="7678800" y="4422600"/>
              <a:chExt cx="1011240" cy="1833840"/>
            </a:xfrm>
          </p:grpSpPr>
          <p:sp>
            <p:nvSpPr>
              <p:cNvPr id="114" name=""/>
              <p:cNvSpPr/>
              <p:nvPr/>
            </p:nvSpPr>
            <p:spPr>
              <a:xfrm>
                <a:off x="7678800" y="4422600"/>
                <a:ext cx="728640" cy="343080"/>
              </a:xfrm>
              <a:custGeom>
                <a:avLst/>
                <a:gdLst/>
                <a:ahLst/>
                <a:rect l="l" t="t" r="r" b="b"/>
                <a:pathLst>
                  <a:path w="1376" h="649">
                    <a:moveTo>
                      <a:pt x="297" y="429"/>
                    </a:moveTo>
                    <a:lnTo>
                      <a:pt x="0" y="0"/>
                    </a:lnTo>
                    <a:lnTo>
                      <a:pt x="961" y="120"/>
                    </a:lnTo>
                    <a:lnTo>
                      <a:pt x="1376" y="649"/>
                    </a:lnTo>
                    <a:lnTo>
                      <a:pt x="297" y="429"/>
                    </a:lnTo>
                    <a:close/>
                  </a:path>
                </a:pathLst>
              </a:custGeom>
              <a:solidFill>
                <a:srgbClr val="603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190000" y="4486320"/>
                <a:ext cx="498240" cy="279360"/>
              </a:xfrm>
              <a:custGeom>
                <a:avLst/>
                <a:gdLst/>
                <a:ahLst/>
                <a:rect l="l" t="t" r="r" b="b"/>
                <a:pathLst>
                  <a:path w="943" h="529">
                    <a:moveTo>
                      <a:pt x="0" y="0"/>
                    </a:moveTo>
                    <a:lnTo>
                      <a:pt x="410" y="529"/>
                    </a:lnTo>
                    <a:lnTo>
                      <a:pt x="943" y="4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34320" y="4648320"/>
                <a:ext cx="573120" cy="1608120"/>
              </a:xfrm>
              <a:custGeom>
                <a:avLst/>
                <a:gdLst/>
                <a:ahLst/>
                <a:rect l="l" t="t" r="r" b="b"/>
                <a:pathLst>
                  <a:path w="1084" h="3038">
                    <a:moveTo>
                      <a:pt x="0" y="0"/>
                    </a:moveTo>
                    <a:lnTo>
                      <a:pt x="1084" y="222"/>
                    </a:lnTo>
                    <a:lnTo>
                      <a:pt x="1084" y="3038"/>
                    </a:lnTo>
                    <a:lnTo>
                      <a:pt x="3" y="26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4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07440" y="4726080"/>
                <a:ext cx="282600" cy="1530360"/>
              </a:xfrm>
              <a:custGeom>
                <a:avLst/>
                <a:gdLst/>
                <a:ahLst/>
                <a:rect l="l" t="t" r="r" b="b"/>
                <a:pathLst>
                  <a:path w="532" h="2892">
                    <a:moveTo>
                      <a:pt x="0" y="2892"/>
                    </a:moveTo>
                    <a:lnTo>
                      <a:pt x="0" y="77"/>
                    </a:lnTo>
                    <a:lnTo>
                      <a:pt x="532" y="0"/>
                    </a:lnTo>
                    <a:lnTo>
                      <a:pt x="532" y="2651"/>
                    </a:lnTo>
                    <a:lnTo>
                      <a:pt x="0" y="2892"/>
                    </a:lnTo>
                    <a:close/>
                  </a:path>
                </a:pathLst>
              </a:custGeom>
              <a:solidFill>
                <a:srgbClr val="201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Going-Concern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56440" cy="502920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 the absence of evidence to the contrary, we assume that a business will continue to exist indefinitely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For example, a company is more likely to acquire long-term assets if it can assume that the company will continue to exist indefinitely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t is fundamental to the matching principl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ONEY MEASUREMENT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1523880"/>
            <a:ext cx="7924680" cy="26607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entities measure economic events and transactions in monetary uni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In the United States, the unit of measurement is the dol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820960" y="5265720"/>
            <a:ext cx="3651120" cy="1554120"/>
            <a:chOff x="2820960" y="5265720"/>
            <a:chExt cx="3651120" cy="1554120"/>
          </a:xfrm>
        </p:grpSpPr>
        <p:grpSp>
          <p:nvGrpSpPr>
            <p:cNvPr id="456" name=""/>
            <p:cNvGrpSpPr/>
            <p:nvPr/>
          </p:nvGrpSpPr>
          <p:grpSpPr>
            <a:xfrm>
              <a:off x="2820960" y="5265720"/>
              <a:ext cx="3651120" cy="1554120"/>
              <a:chOff x="2820960" y="5265720"/>
              <a:chExt cx="3651120" cy="1554120"/>
            </a:xfrm>
          </p:grpSpPr>
          <p:sp>
            <p:nvSpPr>
              <p:cNvPr id="457" name=""/>
              <p:cNvSpPr/>
              <p:nvPr/>
            </p:nvSpPr>
            <p:spPr>
              <a:xfrm>
                <a:off x="2820960" y="5265720"/>
                <a:ext cx="3651120" cy="1554120"/>
              </a:xfrm>
              <a:prstGeom prst="rect">
                <a:avLst/>
              </a:prstGeom>
              <a:solidFill>
                <a:srgbClr val="bfffb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03400" y="5348160"/>
                <a:ext cx="3484800" cy="138744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47840" y="5470560"/>
                <a:ext cx="2976840" cy="1128600"/>
              </a:xfrm>
              <a:prstGeom prst="rect">
                <a:avLst/>
              </a:prstGeom>
              <a:solidFill>
                <a:srgbClr val="bfffbf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154400" y="6384960"/>
              <a:ext cx="962280" cy="189000"/>
              <a:chOff x="4154400" y="6384960"/>
              <a:chExt cx="962280" cy="1890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154400" y="6384960"/>
                <a:ext cx="165240" cy="183960"/>
                <a:chOff x="4154400" y="6384960"/>
                <a:chExt cx="165240" cy="183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160880" y="643428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9">
                      <a:moveTo>
                        <a:pt x="193" y="159"/>
                      </a:moveTo>
                      <a:lnTo>
                        <a:pt x="122" y="124"/>
                      </a:lnTo>
                      <a:lnTo>
                        <a:pt x="51" y="74"/>
                      </a:lnTo>
                      <a:lnTo>
                        <a:pt x="0" y="0"/>
                      </a:lnTo>
                      <a:lnTo>
                        <a:pt x="48" y="10"/>
                      </a:lnTo>
                      <a:lnTo>
                        <a:pt x="112" y="38"/>
                      </a:lnTo>
                      <a:lnTo>
                        <a:pt x="155" y="87"/>
                      </a:lnTo>
                      <a:lnTo>
                        <a:pt x="193" y="15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203720" y="6384960"/>
                  <a:ext cx="115920" cy="156960"/>
                </a:xfrm>
                <a:custGeom>
                  <a:avLst/>
                  <a:gdLst/>
                  <a:ahLst/>
                  <a:rect l="l" t="t" r="r" b="b"/>
                  <a:pathLst>
                    <a:path w="146" h="199">
                      <a:moveTo>
                        <a:pt x="146" y="199"/>
                      </a:moveTo>
                      <a:lnTo>
                        <a:pt x="85" y="144"/>
                      </a:lnTo>
                      <a:lnTo>
                        <a:pt x="45" y="95"/>
                      </a:lnTo>
                      <a:lnTo>
                        <a:pt x="24" y="51"/>
                      </a:lnTo>
                      <a:lnTo>
                        <a:pt x="0" y="0"/>
                      </a:lnTo>
                      <a:lnTo>
                        <a:pt x="49" y="25"/>
                      </a:lnTo>
                      <a:lnTo>
                        <a:pt x="87" y="55"/>
                      </a:lnTo>
                      <a:lnTo>
                        <a:pt x="120" y="99"/>
                      </a:lnTo>
                      <a:lnTo>
                        <a:pt x="143" y="149"/>
                      </a:lnTo>
                      <a:lnTo>
                        <a:pt x="146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54400" y="6505560"/>
                  <a:ext cx="146160" cy="6336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81"/>
                      </a:moveTo>
                      <a:lnTo>
                        <a:pt x="119" y="64"/>
                      </a:lnTo>
                      <a:lnTo>
                        <a:pt x="48" y="38"/>
                      </a:lnTo>
                      <a:lnTo>
                        <a:pt x="0" y="0"/>
                      </a:lnTo>
                      <a:lnTo>
                        <a:pt x="48" y="2"/>
                      </a:lnTo>
                      <a:lnTo>
                        <a:pt x="107" y="18"/>
                      </a:lnTo>
                      <a:lnTo>
                        <a:pt x="147" y="40"/>
                      </a:lnTo>
                      <a:lnTo>
                        <a:pt x="184" y="8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950000" y="6388200"/>
                <a:ext cx="166680" cy="185760"/>
                <a:chOff x="4950000" y="6388200"/>
                <a:chExt cx="166680" cy="1857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957920" y="643896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8">
                      <a:moveTo>
                        <a:pt x="0" y="158"/>
                      </a:moveTo>
                      <a:lnTo>
                        <a:pt x="70" y="123"/>
                      </a:lnTo>
                      <a:lnTo>
                        <a:pt x="142" y="73"/>
                      </a:lnTo>
                      <a:lnTo>
                        <a:pt x="193" y="0"/>
                      </a:lnTo>
                      <a:lnTo>
                        <a:pt x="145" y="9"/>
                      </a:lnTo>
                      <a:lnTo>
                        <a:pt x="82" y="37"/>
                      </a:lnTo>
                      <a:lnTo>
                        <a:pt x="39" y="86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950000" y="6388200"/>
                  <a:ext cx="115560" cy="156960"/>
                </a:xfrm>
                <a:custGeom>
                  <a:avLst/>
                  <a:gdLst/>
                  <a:ahLst/>
                  <a:rect l="l" t="t" r="r" b="b"/>
                  <a:pathLst>
                    <a:path w="147" h="199">
                      <a:moveTo>
                        <a:pt x="0" y="199"/>
                      </a:moveTo>
                      <a:lnTo>
                        <a:pt x="62" y="144"/>
                      </a:lnTo>
                      <a:lnTo>
                        <a:pt x="103" y="95"/>
                      </a:lnTo>
                      <a:lnTo>
                        <a:pt x="123" y="51"/>
                      </a:lnTo>
                      <a:lnTo>
                        <a:pt x="147" y="0"/>
                      </a:lnTo>
                      <a:lnTo>
                        <a:pt x="97" y="24"/>
                      </a:lnTo>
                      <a:lnTo>
                        <a:pt x="61" y="54"/>
                      </a:lnTo>
                      <a:lnTo>
                        <a:pt x="27" y="98"/>
                      </a:lnTo>
                      <a:lnTo>
                        <a:pt x="3" y="14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968720" y="6508800"/>
                  <a:ext cx="147960" cy="65160"/>
                </a:xfrm>
                <a:custGeom>
                  <a:avLst/>
                  <a:gdLst/>
                  <a:ahLst/>
                  <a:rect l="l" t="t" r="r" b="b"/>
                  <a:pathLst>
                    <a:path w="185" h="82">
                      <a:moveTo>
                        <a:pt x="0" y="82"/>
                      </a:moveTo>
                      <a:lnTo>
                        <a:pt x="67" y="65"/>
                      </a:lnTo>
                      <a:lnTo>
                        <a:pt x="136" y="40"/>
                      </a:lnTo>
                      <a:lnTo>
                        <a:pt x="185" y="0"/>
                      </a:lnTo>
                      <a:lnTo>
                        <a:pt x="136" y="4"/>
                      </a:lnTo>
                      <a:lnTo>
                        <a:pt x="79" y="19"/>
                      </a:lnTo>
                      <a:lnTo>
                        <a:pt x="38" y="41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3881520" y="5673600"/>
              <a:ext cx="1509480" cy="1051200"/>
              <a:chOff x="3881520" y="5673600"/>
              <a:chExt cx="1509480" cy="10512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4210200" y="5673600"/>
                <a:ext cx="839520" cy="1022400"/>
                <a:chOff x="4210200" y="5673600"/>
                <a:chExt cx="839520" cy="102240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4210200" y="5673600"/>
                  <a:ext cx="839520" cy="1022400"/>
                  <a:chOff x="4210200" y="5673600"/>
                  <a:chExt cx="839520" cy="1022400"/>
                </a:xfrm>
              </p:grpSpPr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4210200" y="5673600"/>
                    <a:ext cx="839520" cy="203400"/>
                    <a:chOff x="4210200" y="5673600"/>
                    <a:chExt cx="839520" cy="2034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2102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0" y="0"/>
                          </a:moveTo>
                          <a:lnTo>
                            <a:pt x="515" y="0"/>
                          </a:lnTo>
                          <a:lnTo>
                            <a:pt x="515" y="256"/>
                          </a:lnTo>
                          <a:lnTo>
                            <a:pt x="147" y="256"/>
                          </a:lnTo>
                          <a:lnTo>
                            <a:pt x="147" y="124"/>
                          </a:lnTo>
                          <a:lnTo>
                            <a:pt x="141" y="103"/>
                          </a:lnTo>
                          <a:lnTo>
                            <a:pt x="128" y="91"/>
                          </a:lnTo>
                          <a:lnTo>
                            <a:pt x="105" y="85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6404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515" y="0"/>
                          </a:moveTo>
                          <a:lnTo>
                            <a:pt x="0" y="0"/>
                          </a:lnTo>
                          <a:lnTo>
                            <a:pt x="0" y="256"/>
                          </a:lnTo>
                          <a:lnTo>
                            <a:pt x="368" y="256"/>
                          </a:lnTo>
                          <a:lnTo>
                            <a:pt x="368" y="124"/>
                          </a:lnTo>
                          <a:lnTo>
                            <a:pt x="374" y="103"/>
                          </a:lnTo>
                          <a:lnTo>
                            <a:pt x="387" y="91"/>
                          </a:lnTo>
                          <a:lnTo>
                            <a:pt x="410" y="85"/>
                          </a:lnTo>
                          <a:lnTo>
                            <a:pt x="515" y="85"/>
                          </a:lnTo>
                          <a:lnTo>
                            <a:pt x="515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4233960" y="5675400"/>
                    <a:ext cx="806400" cy="102060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584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4249800" y="5710320"/>
                  <a:ext cx="750960" cy="890640"/>
                  <a:chOff x="4249800" y="5710320"/>
                  <a:chExt cx="750960" cy="890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4745160" y="6232680"/>
                    <a:ext cx="25560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63">
                        <a:moveTo>
                          <a:pt x="0" y="0"/>
                        </a:moveTo>
                        <a:lnTo>
                          <a:pt x="67" y="28"/>
                        </a:lnTo>
                        <a:lnTo>
                          <a:pt x="74" y="92"/>
                        </a:lnTo>
                        <a:lnTo>
                          <a:pt x="158" y="125"/>
                        </a:lnTo>
                        <a:lnTo>
                          <a:pt x="265" y="147"/>
                        </a:lnTo>
                        <a:lnTo>
                          <a:pt x="323" y="176"/>
                        </a:lnTo>
                        <a:lnTo>
                          <a:pt x="316" y="202"/>
                        </a:lnTo>
                        <a:lnTo>
                          <a:pt x="301" y="240"/>
                        </a:lnTo>
                        <a:lnTo>
                          <a:pt x="280" y="281"/>
                        </a:lnTo>
                        <a:lnTo>
                          <a:pt x="261" y="315"/>
                        </a:lnTo>
                        <a:lnTo>
                          <a:pt x="241" y="345"/>
                        </a:lnTo>
                        <a:lnTo>
                          <a:pt x="219" y="383"/>
                        </a:lnTo>
                        <a:lnTo>
                          <a:pt x="181" y="425"/>
                        </a:lnTo>
                        <a:lnTo>
                          <a:pt x="149" y="463"/>
                        </a:lnTo>
                        <a:lnTo>
                          <a:pt x="46" y="128"/>
                        </a:lnTo>
                        <a:lnTo>
                          <a:pt x="4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05400" y="6186600"/>
                    <a:ext cx="36036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521">
                        <a:moveTo>
                          <a:pt x="452" y="521"/>
                        </a:moveTo>
                        <a:lnTo>
                          <a:pt x="251" y="521"/>
                        </a:lnTo>
                        <a:lnTo>
                          <a:pt x="165" y="521"/>
                        </a:lnTo>
                        <a:lnTo>
                          <a:pt x="165" y="423"/>
                        </a:lnTo>
                        <a:lnTo>
                          <a:pt x="126" y="299"/>
                        </a:lnTo>
                        <a:lnTo>
                          <a:pt x="80" y="174"/>
                        </a:lnTo>
                        <a:lnTo>
                          <a:pt x="87" y="100"/>
                        </a:lnTo>
                        <a:lnTo>
                          <a:pt x="29" y="59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lnTo>
                          <a:pt x="112" y="62"/>
                        </a:lnTo>
                        <a:lnTo>
                          <a:pt x="176" y="75"/>
                        </a:lnTo>
                        <a:lnTo>
                          <a:pt x="207" y="84"/>
                        </a:lnTo>
                        <a:lnTo>
                          <a:pt x="234" y="84"/>
                        </a:lnTo>
                        <a:lnTo>
                          <a:pt x="275" y="75"/>
                        </a:lnTo>
                        <a:lnTo>
                          <a:pt x="304" y="61"/>
                        </a:lnTo>
                        <a:lnTo>
                          <a:pt x="306" y="142"/>
                        </a:lnTo>
                        <a:lnTo>
                          <a:pt x="348" y="193"/>
                        </a:lnTo>
                        <a:lnTo>
                          <a:pt x="410" y="391"/>
                        </a:lnTo>
                        <a:lnTo>
                          <a:pt x="452" y="52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451400" y="5743440"/>
                    <a:ext cx="380880" cy="5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43">
                        <a:moveTo>
                          <a:pt x="52" y="504"/>
                        </a:moveTo>
                        <a:lnTo>
                          <a:pt x="45" y="430"/>
                        </a:lnTo>
                        <a:lnTo>
                          <a:pt x="13" y="347"/>
                        </a:lnTo>
                        <a:lnTo>
                          <a:pt x="0" y="218"/>
                        </a:lnTo>
                        <a:lnTo>
                          <a:pt x="62" y="84"/>
                        </a:lnTo>
                        <a:lnTo>
                          <a:pt x="142" y="29"/>
                        </a:lnTo>
                        <a:lnTo>
                          <a:pt x="243" y="4"/>
                        </a:lnTo>
                        <a:lnTo>
                          <a:pt x="332" y="0"/>
                        </a:lnTo>
                        <a:lnTo>
                          <a:pt x="404" y="42"/>
                        </a:lnTo>
                        <a:lnTo>
                          <a:pt x="462" y="144"/>
                        </a:lnTo>
                        <a:lnTo>
                          <a:pt x="478" y="231"/>
                        </a:lnTo>
                        <a:lnTo>
                          <a:pt x="475" y="345"/>
                        </a:lnTo>
                        <a:lnTo>
                          <a:pt x="465" y="430"/>
                        </a:lnTo>
                        <a:lnTo>
                          <a:pt x="458" y="470"/>
                        </a:lnTo>
                        <a:lnTo>
                          <a:pt x="446" y="502"/>
                        </a:lnTo>
                        <a:lnTo>
                          <a:pt x="423" y="536"/>
                        </a:lnTo>
                        <a:lnTo>
                          <a:pt x="397" y="553"/>
                        </a:lnTo>
                        <a:lnTo>
                          <a:pt x="368" y="563"/>
                        </a:lnTo>
                        <a:lnTo>
                          <a:pt x="371" y="621"/>
                        </a:lnTo>
                        <a:lnTo>
                          <a:pt x="346" y="634"/>
                        </a:lnTo>
                        <a:lnTo>
                          <a:pt x="310" y="643"/>
                        </a:lnTo>
                        <a:lnTo>
                          <a:pt x="245" y="640"/>
                        </a:lnTo>
                        <a:lnTo>
                          <a:pt x="194" y="621"/>
                        </a:lnTo>
                        <a:lnTo>
                          <a:pt x="117" y="589"/>
                        </a:lnTo>
                        <a:lnTo>
                          <a:pt x="68" y="559"/>
                        </a:lnTo>
                        <a:lnTo>
                          <a:pt x="52" y="504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451400" y="595152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443">
                        <a:moveTo>
                          <a:pt x="106" y="0"/>
                        </a:moveTo>
                        <a:lnTo>
                          <a:pt x="133" y="87"/>
                        </a:lnTo>
                        <a:lnTo>
                          <a:pt x="146" y="147"/>
                        </a:lnTo>
                        <a:lnTo>
                          <a:pt x="165" y="202"/>
                        </a:lnTo>
                        <a:lnTo>
                          <a:pt x="194" y="253"/>
                        </a:lnTo>
                        <a:lnTo>
                          <a:pt x="204" y="267"/>
                        </a:lnTo>
                        <a:lnTo>
                          <a:pt x="226" y="283"/>
                        </a:lnTo>
                        <a:lnTo>
                          <a:pt x="246" y="294"/>
                        </a:lnTo>
                        <a:lnTo>
                          <a:pt x="275" y="302"/>
                        </a:lnTo>
                        <a:lnTo>
                          <a:pt x="295" y="307"/>
                        </a:lnTo>
                        <a:lnTo>
                          <a:pt x="312" y="311"/>
                        </a:lnTo>
                        <a:lnTo>
                          <a:pt x="332" y="311"/>
                        </a:lnTo>
                        <a:lnTo>
                          <a:pt x="355" y="306"/>
                        </a:lnTo>
                        <a:lnTo>
                          <a:pt x="332" y="331"/>
                        </a:lnTo>
                        <a:lnTo>
                          <a:pt x="290" y="357"/>
                        </a:lnTo>
                        <a:lnTo>
                          <a:pt x="262" y="386"/>
                        </a:lnTo>
                        <a:lnTo>
                          <a:pt x="243" y="414"/>
                        </a:lnTo>
                        <a:lnTo>
                          <a:pt x="222" y="433"/>
                        </a:lnTo>
                        <a:lnTo>
                          <a:pt x="178" y="440"/>
                        </a:lnTo>
                        <a:lnTo>
                          <a:pt x="117" y="443"/>
                        </a:lnTo>
                        <a:lnTo>
                          <a:pt x="26" y="376"/>
                        </a:lnTo>
                        <a:lnTo>
                          <a:pt x="0" y="325"/>
                        </a:lnTo>
                        <a:lnTo>
                          <a:pt x="36" y="212"/>
                        </a:lnTo>
                        <a:lnTo>
                          <a:pt x="55" y="10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4606920" y="5897520"/>
                    <a:ext cx="220680" cy="201600"/>
                    <a:chOff x="4606920" y="5897520"/>
                    <a:chExt cx="220680" cy="2016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686480" y="6078600"/>
                      <a:ext cx="91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25">
                          <a:moveTo>
                            <a:pt x="0" y="9"/>
                          </a:moveTo>
                          <a:lnTo>
                            <a:pt x="11" y="4"/>
                          </a:lnTo>
                          <a:lnTo>
                            <a:pt x="29" y="1"/>
                          </a:lnTo>
                          <a:lnTo>
                            <a:pt x="46" y="4"/>
                          </a:lnTo>
                          <a:lnTo>
                            <a:pt x="61" y="4"/>
                          </a:lnTo>
                          <a:lnTo>
                            <a:pt x="80" y="0"/>
                          </a:lnTo>
                          <a:lnTo>
                            <a:pt x="93" y="1"/>
                          </a:lnTo>
                          <a:lnTo>
                            <a:pt x="107" y="1"/>
                          </a:lnTo>
                          <a:lnTo>
                            <a:pt x="117" y="9"/>
                          </a:lnTo>
                          <a:lnTo>
                            <a:pt x="99" y="18"/>
                          </a:lnTo>
                          <a:lnTo>
                            <a:pt x="68" y="25"/>
                          </a:lnTo>
                          <a:lnTo>
                            <a:pt x="32" y="25"/>
                          </a:lnTo>
                          <a:lnTo>
                            <a:pt x="13" y="18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687920" y="6029280"/>
                      <a:ext cx="763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7">
                          <a:moveTo>
                            <a:pt x="22" y="5"/>
                          </a:move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9" y="17"/>
                          </a:lnTo>
                          <a:lnTo>
                            <a:pt x="22" y="18"/>
                          </a:lnTo>
                          <a:lnTo>
                            <a:pt x="36" y="19"/>
                          </a:lnTo>
                          <a:lnTo>
                            <a:pt x="48" y="24"/>
                          </a:lnTo>
                          <a:lnTo>
                            <a:pt x="63" y="27"/>
                          </a:lnTo>
                          <a:lnTo>
                            <a:pt x="76" y="27"/>
                          </a:lnTo>
                          <a:lnTo>
                            <a:pt x="87" y="23"/>
                          </a:lnTo>
                          <a:lnTo>
                            <a:pt x="93" y="16"/>
                          </a:lnTo>
                          <a:lnTo>
                            <a:pt x="97" y="6"/>
                          </a:lnTo>
                          <a:lnTo>
                            <a:pt x="87" y="9"/>
                          </a:lnTo>
                          <a:lnTo>
                            <a:pt x="79" y="13"/>
                          </a:lnTo>
                          <a:lnTo>
                            <a:pt x="75" y="12"/>
                          </a:lnTo>
                          <a:lnTo>
                            <a:pt x="64" y="9"/>
                          </a:lnTo>
                          <a:lnTo>
                            <a:pt x="54" y="5"/>
                          </a:lnTo>
                          <a:lnTo>
                            <a:pt x="47" y="3"/>
                          </a:lnTo>
                          <a:lnTo>
                            <a:pt x="34" y="6"/>
                          </a:lnTo>
                          <a:lnTo>
                            <a:pt x="22" y="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4606920" y="5897520"/>
                      <a:ext cx="12528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9">
                          <a:moveTo>
                            <a:pt x="0" y="29"/>
                          </a:moveTo>
                          <a:lnTo>
                            <a:pt x="19" y="14"/>
                          </a:lnTo>
                          <a:lnTo>
                            <a:pt x="43" y="5"/>
                          </a:lnTo>
                          <a:lnTo>
                            <a:pt x="69" y="0"/>
                          </a:lnTo>
                          <a:lnTo>
                            <a:pt x="99" y="3"/>
                          </a:lnTo>
                          <a:lnTo>
                            <a:pt x="120" y="14"/>
                          </a:lnTo>
                          <a:lnTo>
                            <a:pt x="136" y="34"/>
                          </a:lnTo>
                          <a:lnTo>
                            <a:pt x="145" y="77"/>
                          </a:lnTo>
                          <a:lnTo>
                            <a:pt x="153" y="117"/>
                          </a:lnTo>
                          <a:lnTo>
                            <a:pt x="158" y="159"/>
                          </a:lnTo>
                          <a:lnTo>
                            <a:pt x="142" y="151"/>
                          </a:lnTo>
                          <a:lnTo>
                            <a:pt x="127" y="145"/>
                          </a:lnTo>
                          <a:lnTo>
                            <a:pt x="106" y="152"/>
                          </a:lnTo>
                          <a:lnTo>
                            <a:pt x="117" y="108"/>
                          </a:lnTo>
                          <a:lnTo>
                            <a:pt x="126" y="66"/>
                          </a:lnTo>
                          <a:lnTo>
                            <a:pt x="123" y="43"/>
                          </a:lnTo>
                          <a:lnTo>
                            <a:pt x="105" y="23"/>
                          </a:lnTo>
                          <a:lnTo>
                            <a:pt x="59" y="18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729320" y="5900760"/>
                      <a:ext cx="982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30">
                          <a:moveTo>
                            <a:pt x="0" y="30"/>
                          </a:moveTo>
                          <a:lnTo>
                            <a:pt x="25" y="9"/>
                          </a:lnTo>
                          <a:lnTo>
                            <a:pt x="48" y="0"/>
                          </a:lnTo>
                          <a:lnTo>
                            <a:pt x="80" y="1"/>
                          </a:lnTo>
                          <a:lnTo>
                            <a:pt x="110" y="13"/>
                          </a:lnTo>
                          <a:lnTo>
                            <a:pt x="125" y="28"/>
                          </a:lnTo>
                          <a:lnTo>
                            <a:pt x="121" y="30"/>
                          </a:lnTo>
                          <a:lnTo>
                            <a:pt x="95" y="21"/>
                          </a:lnTo>
                          <a:lnTo>
                            <a:pt x="61" y="13"/>
                          </a:lnTo>
                          <a:lnTo>
                            <a:pt x="24" y="25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4635360" y="5927760"/>
                      <a:ext cx="57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0" y="10"/>
                          </a:moveTo>
                          <a:lnTo>
                            <a:pt x="12" y="6"/>
                          </a:lnTo>
                          <a:lnTo>
                            <a:pt x="31" y="1"/>
                          </a:lnTo>
                          <a:lnTo>
                            <a:pt x="44" y="0"/>
                          </a:lnTo>
                          <a:lnTo>
                            <a:pt x="62" y="7"/>
                          </a:lnTo>
                          <a:lnTo>
                            <a:pt x="73" y="14"/>
                          </a:lnTo>
                          <a:lnTo>
                            <a:pt x="56" y="22"/>
                          </a:lnTo>
                          <a:lnTo>
                            <a:pt x="36" y="23"/>
                          </a:lnTo>
                          <a:lnTo>
                            <a:pt x="14" y="21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4746600" y="5925960"/>
                      <a:ext cx="58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73" y="11"/>
                          </a:moveTo>
                          <a:lnTo>
                            <a:pt x="62" y="6"/>
                          </a:lnTo>
                          <a:lnTo>
                            <a:pt x="42" y="0"/>
                          </a:lnTo>
                          <a:lnTo>
                            <a:pt x="29" y="0"/>
                          </a:lnTo>
                          <a:lnTo>
                            <a:pt x="11" y="9"/>
                          </a:lnTo>
                          <a:lnTo>
                            <a:pt x="0" y="15"/>
                          </a:lnTo>
                          <a:lnTo>
                            <a:pt x="18" y="22"/>
                          </a:lnTo>
                          <a:lnTo>
                            <a:pt x="37" y="23"/>
                          </a:lnTo>
                          <a:lnTo>
                            <a:pt x="57" y="21"/>
                          </a:lnTo>
                          <a:lnTo>
                            <a:pt x="73" y="11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8" name=""/>
                  <p:cNvSpPr/>
                  <p:nvPr/>
                </p:nvSpPr>
                <p:spPr>
                  <a:xfrm>
                    <a:off x="4332240" y="5710320"/>
                    <a:ext cx="576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526">
                        <a:moveTo>
                          <a:pt x="361" y="13"/>
                        </a:moveTo>
                        <a:lnTo>
                          <a:pt x="284" y="19"/>
                        </a:lnTo>
                        <a:lnTo>
                          <a:pt x="219" y="51"/>
                        </a:lnTo>
                        <a:lnTo>
                          <a:pt x="141" y="106"/>
                        </a:lnTo>
                        <a:lnTo>
                          <a:pt x="93" y="193"/>
                        </a:lnTo>
                        <a:lnTo>
                          <a:pt x="61" y="253"/>
                        </a:lnTo>
                        <a:lnTo>
                          <a:pt x="19" y="299"/>
                        </a:lnTo>
                        <a:lnTo>
                          <a:pt x="0" y="333"/>
                        </a:lnTo>
                        <a:lnTo>
                          <a:pt x="25" y="386"/>
                        </a:lnTo>
                        <a:lnTo>
                          <a:pt x="60" y="418"/>
                        </a:lnTo>
                        <a:lnTo>
                          <a:pt x="116" y="443"/>
                        </a:lnTo>
                        <a:lnTo>
                          <a:pt x="181" y="469"/>
                        </a:lnTo>
                        <a:lnTo>
                          <a:pt x="206" y="494"/>
                        </a:lnTo>
                        <a:lnTo>
                          <a:pt x="274" y="526"/>
                        </a:lnTo>
                        <a:lnTo>
                          <a:pt x="306" y="511"/>
                        </a:lnTo>
                        <a:lnTo>
                          <a:pt x="289" y="356"/>
                        </a:lnTo>
                        <a:lnTo>
                          <a:pt x="310" y="231"/>
                        </a:lnTo>
                        <a:lnTo>
                          <a:pt x="345" y="147"/>
                        </a:lnTo>
                        <a:lnTo>
                          <a:pt x="406" y="96"/>
                        </a:lnTo>
                        <a:lnTo>
                          <a:pt x="445" y="83"/>
                        </a:lnTo>
                        <a:lnTo>
                          <a:pt x="491" y="87"/>
                        </a:lnTo>
                        <a:lnTo>
                          <a:pt x="535" y="106"/>
                        </a:lnTo>
                        <a:lnTo>
                          <a:pt x="580" y="138"/>
                        </a:lnTo>
                        <a:lnTo>
                          <a:pt x="598" y="166"/>
                        </a:lnTo>
                        <a:lnTo>
                          <a:pt x="616" y="202"/>
                        </a:lnTo>
                        <a:lnTo>
                          <a:pt x="621" y="238"/>
                        </a:lnTo>
                        <a:lnTo>
                          <a:pt x="613" y="266"/>
                        </a:lnTo>
                        <a:lnTo>
                          <a:pt x="613" y="299"/>
                        </a:lnTo>
                        <a:lnTo>
                          <a:pt x="626" y="365"/>
                        </a:lnTo>
                        <a:lnTo>
                          <a:pt x="616" y="405"/>
                        </a:lnTo>
                        <a:lnTo>
                          <a:pt x="616" y="450"/>
                        </a:lnTo>
                        <a:lnTo>
                          <a:pt x="671" y="456"/>
                        </a:lnTo>
                        <a:lnTo>
                          <a:pt x="706" y="439"/>
                        </a:lnTo>
                        <a:lnTo>
                          <a:pt x="725" y="401"/>
                        </a:lnTo>
                        <a:lnTo>
                          <a:pt x="713" y="331"/>
                        </a:lnTo>
                        <a:lnTo>
                          <a:pt x="681" y="263"/>
                        </a:lnTo>
                        <a:lnTo>
                          <a:pt x="632" y="189"/>
                        </a:lnTo>
                        <a:lnTo>
                          <a:pt x="607" y="128"/>
                        </a:lnTo>
                        <a:lnTo>
                          <a:pt x="574" y="79"/>
                        </a:lnTo>
                        <a:lnTo>
                          <a:pt x="544" y="54"/>
                        </a:lnTo>
                        <a:lnTo>
                          <a:pt x="503" y="28"/>
                        </a:lnTo>
                        <a:lnTo>
                          <a:pt x="413" y="0"/>
                        </a:lnTo>
                        <a:lnTo>
                          <a:pt x="361" y="13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4249800" y="6089760"/>
                    <a:ext cx="39672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42">
                        <a:moveTo>
                          <a:pt x="300" y="0"/>
                        </a:moveTo>
                        <a:lnTo>
                          <a:pt x="307" y="79"/>
                        </a:lnTo>
                        <a:lnTo>
                          <a:pt x="336" y="153"/>
                        </a:lnTo>
                        <a:lnTo>
                          <a:pt x="378" y="202"/>
                        </a:lnTo>
                        <a:lnTo>
                          <a:pt x="416" y="234"/>
                        </a:lnTo>
                        <a:lnTo>
                          <a:pt x="410" y="295"/>
                        </a:lnTo>
                        <a:lnTo>
                          <a:pt x="446" y="388"/>
                        </a:lnTo>
                        <a:lnTo>
                          <a:pt x="484" y="508"/>
                        </a:lnTo>
                        <a:lnTo>
                          <a:pt x="500" y="642"/>
                        </a:lnTo>
                        <a:lnTo>
                          <a:pt x="209" y="642"/>
                        </a:lnTo>
                        <a:lnTo>
                          <a:pt x="175" y="614"/>
                        </a:lnTo>
                        <a:lnTo>
                          <a:pt x="137" y="570"/>
                        </a:lnTo>
                        <a:lnTo>
                          <a:pt x="104" y="518"/>
                        </a:lnTo>
                        <a:lnTo>
                          <a:pt x="70" y="461"/>
                        </a:lnTo>
                        <a:lnTo>
                          <a:pt x="39" y="392"/>
                        </a:lnTo>
                        <a:lnTo>
                          <a:pt x="15" y="319"/>
                        </a:lnTo>
                        <a:lnTo>
                          <a:pt x="7" y="259"/>
                        </a:lnTo>
                        <a:lnTo>
                          <a:pt x="0" y="227"/>
                        </a:lnTo>
                        <a:lnTo>
                          <a:pt x="68" y="227"/>
                        </a:lnTo>
                        <a:lnTo>
                          <a:pt x="119" y="218"/>
                        </a:lnTo>
                        <a:lnTo>
                          <a:pt x="180" y="170"/>
                        </a:lnTo>
                        <a:lnTo>
                          <a:pt x="230" y="106"/>
                        </a:lnTo>
                        <a:lnTo>
                          <a:pt x="3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0" name=""/>
              <p:cNvSpPr/>
              <p:nvPr/>
            </p:nvSpPr>
            <p:spPr>
              <a:xfrm>
                <a:off x="3881520" y="6527880"/>
                <a:ext cx="1509480" cy="196920"/>
              </a:xfrm>
              <a:prstGeom prst="rect">
                <a:avLst/>
              </a:prstGeom>
              <a:solidFill>
                <a:srgbClr val="008000"/>
              </a:solidFill>
              <a:ln w="792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838680" y="5345280"/>
              <a:ext cx="1596960" cy="115560"/>
            </a:xfrm>
            <a:prstGeom prst="rect">
              <a:avLst/>
            </a:prstGeom>
            <a:solidFill>
              <a:srgbClr val="008000"/>
            </a:solidFill>
            <a:ln w="1584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927520" y="5349960"/>
              <a:ext cx="580680" cy="544320"/>
              <a:chOff x="2927520" y="5349960"/>
              <a:chExt cx="580680" cy="5443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89320" y="5397480"/>
                <a:ext cx="21888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9" y="259"/>
                    </a:moveTo>
                    <a:lnTo>
                      <a:pt x="17" y="220"/>
                    </a:lnTo>
                    <a:lnTo>
                      <a:pt x="6" y="176"/>
                    </a:lnTo>
                    <a:lnTo>
                      <a:pt x="0" y="121"/>
                    </a:lnTo>
                    <a:lnTo>
                      <a:pt x="13" y="64"/>
                    </a:lnTo>
                    <a:lnTo>
                      <a:pt x="37" y="0"/>
                    </a:lnTo>
                    <a:lnTo>
                      <a:pt x="71" y="58"/>
                    </a:lnTo>
                    <a:lnTo>
                      <a:pt x="90" y="102"/>
                    </a:lnTo>
                    <a:lnTo>
                      <a:pt x="97" y="156"/>
                    </a:lnTo>
                    <a:lnTo>
                      <a:pt x="92" y="216"/>
                    </a:lnTo>
                    <a:lnTo>
                      <a:pt x="84" y="262"/>
                    </a:lnTo>
                    <a:lnTo>
                      <a:pt x="73" y="291"/>
                    </a:lnTo>
                    <a:lnTo>
                      <a:pt x="94" y="262"/>
                    </a:lnTo>
                    <a:lnTo>
                      <a:pt x="130" y="227"/>
                    </a:lnTo>
                    <a:lnTo>
                      <a:pt x="166" y="205"/>
                    </a:lnTo>
                    <a:lnTo>
                      <a:pt x="197" y="189"/>
                    </a:lnTo>
                    <a:lnTo>
                      <a:pt x="240" y="180"/>
                    </a:lnTo>
                    <a:lnTo>
                      <a:pt x="275" y="174"/>
                    </a:lnTo>
                    <a:lnTo>
                      <a:pt x="260" y="215"/>
                    </a:lnTo>
                    <a:lnTo>
                      <a:pt x="243" y="260"/>
                    </a:lnTo>
                    <a:lnTo>
                      <a:pt x="208" y="297"/>
                    </a:lnTo>
                    <a:lnTo>
                      <a:pt x="179" y="319"/>
                    </a:lnTo>
                    <a:lnTo>
                      <a:pt x="130" y="334"/>
                    </a:lnTo>
                    <a:lnTo>
                      <a:pt x="86" y="339"/>
                    </a:lnTo>
                    <a:lnTo>
                      <a:pt x="136" y="364"/>
                    </a:lnTo>
                    <a:lnTo>
                      <a:pt x="171" y="389"/>
                    </a:lnTo>
                    <a:lnTo>
                      <a:pt x="188" y="415"/>
                    </a:lnTo>
                    <a:lnTo>
                      <a:pt x="205" y="445"/>
                    </a:lnTo>
                    <a:lnTo>
                      <a:pt x="207" y="472"/>
                    </a:lnTo>
                    <a:lnTo>
                      <a:pt x="215" y="515"/>
                    </a:lnTo>
                    <a:lnTo>
                      <a:pt x="156" y="495"/>
                    </a:lnTo>
                    <a:lnTo>
                      <a:pt x="118" y="470"/>
                    </a:lnTo>
                    <a:lnTo>
                      <a:pt x="99" y="442"/>
                    </a:lnTo>
                    <a:lnTo>
                      <a:pt x="71" y="388"/>
                    </a:lnTo>
                    <a:lnTo>
                      <a:pt x="94" y="439"/>
                    </a:lnTo>
                    <a:lnTo>
                      <a:pt x="103" y="491"/>
                    </a:lnTo>
                    <a:lnTo>
                      <a:pt x="108" y="527"/>
                    </a:lnTo>
                    <a:lnTo>
                      <a:pt x="102" y="576"/>
                    </a:lnTo>
                    <a:lnTo>
                      <a:pt x="100" y="613"/>
                    </a:lnTo>
                    <a:lnTo>
                      <a:pt x="48" y="566"/>
                    </a:lnTo>
                    <a:lnTo>
                      <a:pt x="21" y="507"/>
                    </a:lnTo>
                    <a:lnTo>
                      <a:pt x="12" y="442"/>
                    </a:lnTo>
                    <a:lnTo>
                      <a:pt x="27" y="377"/>
                    </a:lnTo>
                    <a:lnTo>
                      <a:pt x="27" y="324"/>
                    </a:lnTo>
                    <a:lnTo>
                      <a:pt x="29" y="295"/>
                    </a:lnTo>
                    <a:lnTo>
                      <a:pt x="29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27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7" h="279">
                    <a:moveTo>
                      <a:pt x="79" y="250"/>
                    </a:moveTo>
                    <a:lnTo>
                      <a:pt x="44" y="224"/>
                    </a:lnTo>
                    <a:lnTo>
                      <a:pt x="26" y="199"/>
                    </a:lnTo>
                    <a:lnTo>
                      <a:pt x="11" y="169"/>
                    </a:lnTo>
                    <a:lnTo>
                      <a:pt x="8" y="142"/>
                    </a:lnTo>
                    <a:lnTo>
                      <a:pt x="0" y="99"/>
                    </a:lnTo>
                    <a:lnTo>
                      <a:pt x="59" y="118"/>
                    </a:lnTo>
                    <a:lnTo>
                      <a:pt x="97" y="144"/>
                    </a:lnTo>
                    <a:lnTo>
                      <a:pt x="116" y="170"/>
                    </a:lnTo>
                    <a:lnTo>
                      <a:pt x="145" y="225"/>
                    </a:lnTo>
                    <a:lnTo>
                      <a:pt x="121" y="175"/>
                    </a:lnTo>
                    <a:lnTo>
                      <a:pt x="111" y="123"/>
                    </a:lnTo>
                    <a:lnTo>
                      <a:pt x="108" y="86"/>
                    </a:lnTo>
                    <a:lnTo>
                      <a:pt x="114" y="38"/>
                    </a:lnTo>
                    <a:lnTo>
                      <a:pt x="115" y="0"/>
                    </a:lnTo>
                    <a:lnTo>
                      <a:pt x="164" y="51"/>
                    </a:lnTo>
                    <a:lnTo>
                      <a:pt x="190" y="106"/>
                    </a:lnTo>
                    <a:lnTo>
                      <a:pt x="196" y="170"/>
                    </a:lnTo>
                    <a:lnTo>
                      <a:pt x="197" y="275"/>
                    </a:lnTo>
                    <a:lnTo>
                      <a:pt x="139" y="279"/>
                    </a:lnTo>
                    <a:lnTo>
                      <a:pt x="79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8620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5424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9" y="34"/>
                    </a:moveTo>
                    <a:lnTo>
                      <a:pt x="24" y="34"/>
                    </a:lnTo>
                    <a:lnTo>
                      <a:pt x="44" y="31"/>
                    </a:lnTo>
                    <a:lnTo>
                      <a:pt x="59" y="21"/>
                    </a:lnTo>
                    <a:lnTo>
                      <a:pt x="70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5" y="325"/>
                    </a:lnTo>
                    <a:lnTo>
                      <a:pt x="224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5" y="334"/>
                    </a:lnTo>
                    <a:lnTo>
                      <a:pt x="35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5" y="52"/>
                    </a:lnTo>
                    <a:lnTo>
                      <a:pt x="19" y="47"/>
                    </a:lnTo>
                    <a:lnTo>
                      <a:pt x="9" y="47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770440" y="5349960"/>
              <a:ext cx="581040" cy="544320"/>
              <a:chOff x="5770440" y="5349960"/>
              <a:chExt cx="581040" cy="544320"/>
            </a:xfrm>
          </p:grpSpPr>
          <p:sp>
            <p:nvSpPr>
              <p:cNvPr id="498" name=""/>
              <p:cNvSpPr/>
              <p:nvPr/>
            </p:nvSpPr>
            <p:spPr>
              <a:xfrm>
                <a:off x="5770440" y="5397480"/>
                <a:ext cx="21744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46" y="259"/>
                    </a:moveTo>
                    <a:lnTo>
                      <a:pt x="259" y="220"/>
                    </a:lnTo>
                    <a:lnTo>
                      <a:pt x="269" y="176"/>
                    </a:lnTo>
                    <a:lnTo>
                      <a:pt x="275" y="121"/>
                    </a:lnTo>
                    <a:lnTo>
                      <a:pt x="263" y="64"/>
                    </a:lnTo>
                    <a:lnTo>
                      <a:pt x="239" y="0"/>
                    </a:lnTo>
                    <a:lnTo>
                      <a:pt x="206" y="58"/>
                    </a:lnTo>
                    <a:lnTo>
                      <a:pt x="186" y="102"/>
                    </a:lnTo>
                    <a:lnTo>
                      <a:pt x="179" y="156"/>
                    </a:lnTo>
                    <a:lnTo>
                      <a:pt x="183" y="216"/>
                    </a:lnTo>
                    <a:lnTo>
                      <a:pt x="191" y="262"/>
                    </a:lnTo>
                    <a:lnTo>
                      <a:pt x="202" y="291"/>
                    </a:lnTo>
                    <a:lnTo>
                      <a:pt x="180" y="262"/>
                    </a:lnTo>
                    <a:lnTo>
                      <a:pt x="146" y="227"/>
                    </a:lnTo>
                    <a:lnTo>
                      <a:pt x="109" y="205"/>
                    </a:lnTo>
                    <a:lnTo>
                      <a:pt x="77" y="189"/>
                    </a:lnTo>
                    <a:lnTo>
                      <a:pt x="34" y="180"/>
                    </a:lnTo>
                    <a:lnTo>
                      <a:pt x="0" y="174"/>
                    </a:lnTo>
                    <a:lnTo>
                      <a:pt x="16" y="215"/>
                    </a:lnTo>
                    <a:lnTo>
                      <a:pt x="32" y="260"/>
                    </a:lnTo>
                    <a:lnTo>
                      <a:pt x="67" y="297"/>
                    </a:lnTo>
                    <a:lnTo>
                      <a:pt x="95" y="319"/>
                    </a:lnTo>
                    <a:lnTo>
                      <a:pt x="146" y="334"/>
                    </a:lnTo>
                    <a:lnTo>
                      <a:pt x="190" y="339"/>
                    </a:lnTo>
                    <a:lnTo>
                      <a:pt x="138" y="364"/>
                    </a:lnTo>
                    <a:lnTo>
                      <a:pt x="105" y="389"/>
                    </a:lnTo>
                    <a:lnTo>
                      <a:pt x="87" y="415"/>
                    </a:lnTo>
                    <a:lnTo>
                      <a:pt x="71" y="445"/>
                    </a:lnTo>
                    <a:lnTo>
                      <a:pt x="69" y="472"/>
                    </a:lnTo>
                    <a:lnTo>
                      <a:pt x="61" y="515"/>
                    </a:lnTo>
                    <a:lnTo>
                      <a:pt x="119" y="495"/>
                    </a:lnTo>
                    <a:lnTo>
                      <a:pt x="158" y="470"/>
                    </a:lnTo>
                    <a:lnTo>
                      <a:pt x="177" y="442"/>
                    </a:lnTo>
                    <a:lnTo>
                      <a:pt x="206" y="388"/>
                    </a:lnTo>
                    <a:lnTo>
                      <a:pt x="180" y="439"/>
                    </a:lnTo>
                    <a:lnTo>
                      <a:pt x="172" y="491"/>
                    </a:lnTo>
                    <a:lnTo>
                      <a:pt x="168" y="527"/>
                    </a:lnTo>
                    <a:lnTo>
                      <a:pt x="174" y="576"/>
                    </a:lnTo>
                    <a:lnTo>
                      <a:pt x="176" y="613"/>
                    </a:lnTo>
                    <a:lnTo>
                      <a:pt x="228" y="566"/>
                    </a:lnTo>
                    <a:lnTo>
                      <a:pt x="255" y="507"/>
                    </a:lnTo>
                    <a:lnTo>
                      <a:pt x="264" y="442"/>
                    </a:lnTo>
                    <a:lnTo>
                      <a:pt x="249" y="377"/>
                    </a:lnTo>
                    <a:lnTo>
                      <a:pt x="247" y="324"/>
                    </a:lnTo>
                    <a:lnTo>
                      <a:pt x="246" y="295"/>
                    </a:lnTo>
                    <a:lnTo>
                      <a:pt x="246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94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9" h="279">
                    <a:moveTo>
                      <a:pt x="120" y="250"/>
                    </a:moveTo>
                    <a:lnTo>
                      <a:pt x="155" y="224"/>
                    </a:lnTo>
                    <a:lnTo>
                      <a:pt x="172" y="199"/>
                    </a:lnTo>
                    <a:lnTo>
                      <a:pt x="188" y="169"/>
                    </a:lnTo>
                    <a:lnTo>
                      <a:pt x="189" y="142"/>
                    </a:lnTo>
                    <a:lnTo>
                      <a:pt x="199" y="99"/>
                    </a:lnTo>
                    <a:lnTo>
                      <a:pt x="139" y="118"/>
                    </a:lnTo>
                    <a:lnTo>
                      <a:pt x="102" y="144"/>
                    </a:lnTo>
                    <a:lnTo>
                      <a:pt x="83" y="170"/>
                    </a:lnTo>
                    <a:lnTo>
                      <a:pt x="53" y="225"/>
                    </a:lnTo>
                    <a:lnTo>
                      <a:pt x="78" y="175"/>
                    </a:lnTo>
                    <a:lnTo>
                      <a:pt x="87" y="123"/>
                    </a:lnTo>
                    <a:lnTo>
                      <a:pt x="91" y="86"/>
                    </a:lnTo>
                    <a:lnTo>
                      <a:pt x="84" y="38"/>
                    </a:lnTo>
                    <a:lnTo>
                      <a:pt x="83" y="0"/>
                    </a:lnTo>
                    <a:lnTo>
                      <a:pt x="34" y="51"/>
                    </a:lnTo>
                    <a:lnTo>
                      <a:pt x="9" y="106"/>
                    </a:lnTo>
                    <a:lnTo>
                      <a:pt x="2" y="170"/>
                    </a:lnTo>
                    <a:lnTo>
                      <a:pt x="0" y="275"/>
                    </a:lnTo>
                    <a:lnTo>
                      <a:pt x="60" y="279"/>
                    </a:lnTo>
                    <a:lnTo>
                      <a:pt x="120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6592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3576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8" y="34"/>
                    </a:moveTo>
                    <a:lnTo>
                      <a:pt x="23" y="34"/>
                    </a:lnTo>
                    <a:lnTo>
                      <a:pt x="44" y="31"/>
                    </a:lnTo>
                    <a:lnTo>
                      <a:pt x="58" y="21"/>
                    </a:lnTo>
                    <a:lnTo>
                      <a:pt x="69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4" y="325"/>
                    </a:lnTo>
                    <a:lnTo>
                      <a:pt x="223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4" y="334"/>
                    </a:lnTo>
                    <a:lnTo>
                      <a:pt x="34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4" y="52"/>
                    </a:lnTo>
                    <a:lnTo>
                      <a:pt x="19" y="47"/>
                    </a:lnTo>
                    <a:lnTo>
                      <a:pt x="8" y="4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933640" y="6342120"/>
              <a:ext cx="31104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71800" y="6383160"/>
              <a:ext cx="236520" cy="27972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29040" y="6432480"/>
              <a:ext cx="120600" cy="179280"/>
            </a:xfrm>
            <a:custGeom>
              <a:avLst/>
              <a:gdLst/>
              <a:ahLst/>
              <a:rect l="l" t="t" r="r" b="b"/>
              <a:pathLst>
                <a:path w="152" h="225">
                  <a:moveTo>
                    <a:pt x="5" y="24"/>
                  </a:moveTo>
                  <a:lnTo>
                    <a:pt x="16" y="24"/>
                  </a:lnTo>
                  <a:lnTo>
                    <a:pt x="28" y="20"/>
                  </a:lnTo>
                  <a:lnTo>
                    <a:pt x="37" y="14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3" y="200"/>
                  </a:lnTo>
                  <a:lnTo>
                    <a:pt x="130" y="208"/>
                  </a:lnTo>
                  <a:lnTo>
                    <a:pt x="142" y="214"/>
                  </a:lnTo>
                  <a:lnTo>
                    <a:pt x="152" y="214"/>
                  </a:lnTo>
                  <a:lnTo>
                    <a:pt x="152" y="225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8" y="214"/>
                  </a:lnTo>
                  <a:lnTo>
                    <a:pt x="22" y="208"/>
                  </a:lnTo>
                  <a:lnTo>
                    <a:pt x="28" y="200"/>
                  </a:lnTo>
                  <a:lnTo>
                    <a:pt x="31" y="189"/>
                  </a:lnTo>
                  <a:lnTo>
                    <a:pt x="31" y="49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51600" y="6348240"/>
              <a:ext cx="30960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87960" y="6389640"/>
              <a:ext cx="236520" cy="279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45200" y="644040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5" y="23"/>
                  </a:moveTo>
                  <a:lnTo>
                    <a:pt x="16" y="23"/>
                  </a:lnTo>
                  <a:lnTo>
                    <a:pt x="28" y="21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51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4" y="201"/>
                  </a:lnTo>
                  <a:lnTo>
                    <a:pt x="131" y="208"/>
                  </a:lnTo>
                  <a:lnTo>
                    <a:pt x="144" y="214"/>
                  </a:lnTo>
                  <a:lnTo>
                    <a:pt x="152" y="214"/>
                  </a:lnTo>
                  <a:lnTo>
                    <a:pt x="152" y="22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9" y="214"/>
                  </a:lnTo>
                  <a:lnTo>
                    <a:pt x="22" y="208"/>
                  </a:lnTo>
                  <a:lnTo>
                    <a:pt x="28" y="201"/>
                  </a:lnTo>
                  <a:lnTo>
                    <a:pt x="31" y="189"/>
                  </a:lnTo>
                  <a:lnTo>
                    <a:pt x="31" y="48"/>
                  </a:lnTo>
                  <a:lnTo>
                    <a:pt x="28" y="41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591000" y="5872320"/>
              <a:ext cx="328680" cy="325440"/>
              <a:chOff x="3591000" y="5872320"/>
              <a:chExt cx="328680" cy="325440"/>
            </a:xfrm>
          </p:grpSpPr>
          <p:sp>
            <p:nvSpPr>
              <p:cNvPr id="509" name=""/>
              <p:cNvSpPr/>
              <p:nvPr/>
            </p:nvSpPr>
            <p:spPr>
              <a:xfrm>
                <a:off x="3591000" y="5872320"/>
                <a:ext cx="328680" cy="325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56160" y="5935680"/>
                <a:ext cx="198360" cy="196920"/>
              </a:xfrm>
              <a:prstGeom prst="ellipse">
                <a:avLst/>
              </a:prstGeom>
              <a:solidFill>
                <a:srgbClr val="9fff9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354640" y="5911920"/>
              <a:ext cx="328680" cy="326880"/>
              <a:chOff x="5354640" y="5911920"/>
              <a:chExt cx="328680" cy="326880"/>
            </a:xfrm>
          </p:grpSpPr>
          <p:sp>
            <p:nvSpPr>
              <p:cNvPr id="512" name=""/>
              <p:cNvSpPr/>
              <p:nvPr/>
            </p:nvSpPr>
            <p:spPr>
              <a:xfrm>
                <a:off x="5354640" y="5911920"/>
                <a:ext cx="328680" cy="326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18000" y="5975280"/>
                <a:ext cx="200160" cy="198360"/>
              </a:xfrm>
              <a:prstGeom prst="ellipse">
                <a:avLst/>
              </a:prstGeom>
              <a:solidFill>
                <a:srgbClr val="bfffb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973680" y="6562800"/>
              <a:ext cx="1314360" cy="135000"/>
              <a:chOff x="3973680" y="6562800"/>
              <a:chExt cx="1314360" cy="13500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5154480" y="6562800"/>
                <a:ext cx="133560" cy="129960"/>
                <a:chOff x="5154480" y="6562800"/>
                <a:chExt cx="133560" cy="129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154480" y="6562800"/>
                  <a:ext cx="133560" cy="129960"/>
                </a:xfrm>
                <a:custGeom>
                  <a:avLst/>
                  <a:gdLst/>
                  <a:ahLst/>
                  <a:rect l="l" t="t" r="r" b="b"/>
                  <a:pathLst>
                    <a:path w="170" h="165">
                      <a:moveTo>
                        <a:pt x="0" y="0"/>
                      </a:moveTo>
                      <a:lnTo>
                        <a:pt x="115" y="0"/>
                      </a:lnTo>
                      <a:lnTo>
                        <a:pt x="134" y="6"/>
                      </a:lnTo>
                      <a:lnTo>
                        <a:pt x="146" y="16"/>
                      </a:lnTo>
                      <a:lnTo>
                        <a:pt x="152" y="32"/>
                      </a:lnTo>
                      <a:lnTo>
                        <a:pt x="152" y="62"/>
                      </a:lnTo>
                      <a:lnTo>
                        <a:pt x="144" y="79"/>
                      </a:lnTo>
                      <a:lnTo>
                        <a:pt x="130" y="88"/>
                      </a:lnTo>
                      <a:lnTo>
                        <a:pt x="115" y="92"/>
                      </a:lnTo>
                      <a:lnTo>
                        <a:pt x="130" y="99"/>
                      </a:lnTo>
                      <a:lnTo>
                        <a:pt x="144" y="107"/>
                      </a:lnTo>
                      <a:lnTo>
                        <a:pt x="152" y="124"/>
                      </a:lnTo>
                      <a:lnTo>
                        <a:pt x="158" y="140"/>
                      </a:lnTo>
                      <a:lnTo>
                        <a:pt x="160" y="154"/>
                      </a:lnTo>
                      <a:lnTo>
                        <a:pt x="170" y="154"/>
                      </a:lnTo>
                      <a:lnTo>
                        <a:pt x="170" y="165"/>
                      </a:lnTo>
                      <a:lnTo>
                        <a:pt x="104" y="165"/>
                      </a:lnTo>
                      <a:lnTo>
                        <a:pt x="104" y="154"/>
                      </a:lnTo>
                      <a:lnTo>
                        <a:pt x="115" y="154"/>
                      </a:lnTo>
                      <a:lnTo>
                        <a:pt x="113" y="137"/>
                      </a:lnTo>
                      <a:lnTo>
                        <a:pt x="105" y="124"/>
                      </a:lnTo>
                      <a:lnTo>
                        <a:pt x="96" y="111"/>
                      </a:lnTo>
                      <a:lnTo>
                        <a:pt x="86" y="100"/>
                      </a:lnTo>
                      <a:lnTo>
                        <a:pt x="71" y="92"/>
                      </a:lnTo>
                      <a:lnTo>
                        <a:pt x="71" y="154"/>
                      </a:lnTo>
                      <a:lnTo>
                        <a:pt x="86" y="154"/>
                      </a:lnTo>
                      <a:lnTo>
                        <a:pt x="86" y="165"/>
                      </a:lnTo>
                      <a:lnTo>
                        <a:pt x="2" y="165"/>
                      </a:lnTo>
                      <a:lnTo>
                        <a:pt x="2" y="154"/>
                      </a:lnTo>
                      <a:lnTo>
                        <a:pt x="19" y="154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210280" y="6583320"/>
                  <a:ext cx="23760" cy="33480"/>
                </a:xfrm>
                <a:custGeom>
                  <a:avLst/>
                  <a:gdLst/>
                  <a:ahLst/>
                  <a:rect l="l" t="t" r="r" b="b"/>
                  <a:pathLst>
                    <a:path w="30" h="40">
                      <a:moveTo>
                        <a:pt x="0" y="0"/>
                      </a:moveTo>
                      <a:lnTo>
                        <a:pt x="0" y="40"/>
                      </a:lnTo>
                      <a:lnTo>
                        <a:pt x="15" y="40"/>
                      </a:lnTo>
                      <a:lnTo>
                        <a:pt x="24" y="37"/>
                      </a:lnTo>
                      <a:lnTo>
                        <a:pt x="30" y="27"/>
                      </a:lnTo>
                      <a:lnTo>
                        <a:pt x="30" y="14"/>
                      </a:lnTo>
                      <a:lnTo>
                        <a:pt x="24" y="4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3973680" y="6562800"/>
                <a:ext cx="129960" cy="135000"/>
                <a:chOff x="3973680" y="6562800"/>
                <a:chExt cx="129960" cy="13500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3973680" y="6562800"/>
                  <a:ext cx="129960" cy="135000"/>
                </a:xfrm>
                <a:custGeom>
                  <a:avLst/>
                  <a:gdLst/>
                  <a:ahLst/>
                  <a:rect l="l" t="t" r="r" b="b"/>
                  <a:pathLst>
                    <a:path w="164" h="172">
                      <a:moveTo>
                        <a:pt x="49" y="0"/>
                      </a:moveTo>
                      <a:lnTo>
                        <a:pt x="112" y="0"/>
                      </a:lnTo>
                      <a:lnTo>
                        <a:pt x="127" y="6"/>
                      </a:lnTo>
                      <a:lnTo>
                        <a:pt x="149" y="24"/>
                      </a:lnTo>
                      <a:lnTo>
                        <a:pt x="159" y="44"/>
                      </a:lnTo>
                      <a:lnTo>
                        <a:pt x="164" y="70"/>
                      </a:lnTo>
                      <a:lnTo>
                        <a:pt x="164" y="99"/>
                      </a:lnTo>
                      <a:lnTo>
                        <a:pt x="159" y="125"/>
                      </a:lnTo>
                      <a:lnTo>
                        <a:pt x="149" y="146"/>
                      </a:lnTo>
                      <a:lnTo>
                        <a:pt x="122" y="165"/>
                      </a:lnTo>
                      <a:lnTo>
                        <a:pt x="109" y="172"/>
                      </a:lnTo>
                      <a:lnTo>
                        <a:pt x="49" y="172"/>
                      </a:lnTo>
                      <a:lnTo>
                        <a:pt x="36" y="165"/>
                      </a:lnTo>
                      <a:lnTo>
                        <a:pt x="12" y="148"/>
                      </a:lnTo>
                      <a:lnTo>
                        <a:pt x="3" y="129"/>
                      </a:lnTo>
                      <a:lnTo>
                        <a:pt x="0" y="105"/>
                      </a:lnTo>
                      <a:lnTo>
                        <a:pt x="0" y="70"/>
                      </a:lnTo>
                      <a:lnTo>
                        <a:pt x="3" y="44"/>
                      </a:lnTo>
                      <a:lnTo>
                        <a:pt x="12" y="24"/>
                      </a:lnTo>
                      <a:lnTo>
                        <a:pt x="36" y="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021200" y="6578640"/>
                  <a:ext cx="33120" cy="104760"/>
                </a:xfrm>
                <a:custGeom>
                  <a:avLst/>
                  <a:gdLst/>
                  <a:ahLst/>
                  <a:rect l="l" t="t" r="r" b="b"/>
                  <a:pathLst>
                    <a:path w="41" h="134">
                      <a:moveTo>
                        <a:pt x="14" y="0"/>
                      </a:move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4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4"/>
                      </a:lnTo>
                      <a:lnTo>
                        <a:pt x="41" y="112"/>
                      </a:lnTo>
                      <a:lnTo>
                        <a:pt x="41" y="22"/>
                      </a:lnTo>
                      <a:lnTo>
                        <a:pt x="39" y="11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108320" y="6567480"/>
                <a:ext cx="276480" cy="130320"/>
                <a:chOff x="4108320" y="6567480"/>
                <a:chExt cx="276480" cy="130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08320" y="6567480"/>
                  <a:ext cx="147600" cy="130320"/>
                </a:xfrm>
                <a:custGeom>
                  <a:avLst/>
                  <a:gdLst/>
                  <a:ahLst/>
                  <a:rect l="l" t="t" r="r" b="b"/>
                  <a:pathLst>
                    <a:path w="187" h="166">
                      <a:moveTo>
                        <a:pt x="4" y="166"/>
                      </a:moveTo>
                      <a:lnTo>
                        <a:pt x="50" y="166"/>
                      </a:lnTo>
                      <a:lnTo>
                        <a:pt x="50" y="153"/>
                      </a:lnTo>
                      <a:lnTo>
                        <a:pt x="35" y="153"/>
                      </a:lnTo>
                      <a:lnTo>
                        <a:pt x="35" y="35"/>
                      </a:lnTo>
                      <a:lnTo>
                        <a:pt x="115" y="166"/>
                      </a:lnTo>
                      <a:lnTo>
                        <a:pt x="168" y="166"/>
                      </a:lnTo>
                      <a:lnTo>
                        <a:pt x="168" y="13"/>
                      </a:lnTo>
                      <a:lnTo>
                        <a:pt x="187" y="13"/>
                      </a:lnTo>
                      <a:lnTo>
                        <a:pt x="187" y="0"/>
                      </a:lnTo>
                      <a:lnTo>
                        <a:pt x="135" y="0"/>
                      </a:lnTo>
                      <a:lnTo>
                        <a:pt x="135" y="13"/>
                      </a:lnTo>
                      <a:lnTo>
                        <a:pt x="152" y="13"/>
                      </a:lnTo>
                      <a:lnTo>
                        <a:pt x="152" y="110"/>
                      </a:lnTo>
                      <a:lnTo>
                        <a:pt x="82" y="3"/>
                      </a:lnTo>
                      <a:lnTo>
                        <a:pt x="0" y="3"/>
                      </a:lnTo>
                      <a:lnTo>
                        <a:pt x="0" y="16"/>
                      </a:lnTo>
                      <a:lnTo>
                        <a:pt x="18" y="16"/>
                      </a:lnTo>
                      <a:lnTo>
                        <a:pt x="18" y="153"/>
                      </a:lnTo>
                      <a:lnTo>
                        <a:pt x="4" y="153"/>
                      </a:lnTo>
                      <a:lnTo>
                        <a:pt x="4" y="166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255920" y="6567480"/>
                  <a:ext cx="128880" cy="130320"/>
                </a:xfrm>
                <a:custGeom>
                  <a:avLst/>
                  <a:gdLst/>
                  <a:ahLst/>
                  <a:rect l="l" t="t" r="r" b="b"/>
                  <a:pathLst>
                    <a:path w="162" h="166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8" y="45"/>
                      </a:lnTo>
                      <a:lnTo>
                        <a:pt x="146" y="45"/>
                      </a:lnTo>
                      <a:lnTo>
                        <a:pt x="97" y="13"/>
                      </a:lnTo>
                      <a:lnTo>
                        <a:pt x="71" y="13"/>
                      </a:lnTo>
                      <a:lnTo>
                        <a:pt x="71" y="78"/>
                      </a:lnTo>
                      <a:lnTo>
                        <a:pt x="94" y="78"/>
                      </a:lnTo>
                      <a:lnTo>
                        <a:pt x="121" y="49"/>
                      </a:lnTo>
                      <a:lnTo>
                        <a:pt x="121" y="119"/>
                      </a:lnTo>
                      <a:lnTo>
                        <a:pt x="94" y="91"/>
                      </a:lnTo>
                      <a:lnTo>
                        <a:pt x="71" y="91"/>
                      </a:lnTo>
                      <a:lnTo>
                        <a:pt x="71" y="147"/>
                      </a:lnTo>
                      <a:lnTo>
                        <a:pt x="97" y="147"/>
                      </a:lnTo>
                      <a:lnTo>
                        <a:pt x="152" y="119"/>
                      </a:lnTo>
                      <a:lnTo>
                        <a:pt x="162" y="119"/>
                      </a:lnTo>
                      <a:lnTo>
                        <a:pt x="162" y="166"/>
                      </a:lnTo>
                      <a:lnTo>
                        <a:pt x="3" y="166"/>
                      </a:lnTo>
                      <a:lnTo>
                        <a:pt x="3" y="156"/>
                      </a:lnTo>
                      <a:lnTo>
                        <a:pt x="19" y="156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606920" y="6562800"/>
                <a:ext cx="128520" cy="133200"/>
                <a:chOff x="4606920" y="6562800"/>
                <a:chExt cx="128520" cy="1332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606920" y="6562800"/>
                  <a:ext cx="128520" cy="13320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48" y="0"/>
                      </a:moveTo>
                      <a:lnTo>
                        <a:pt x="112" y="0"/>
                      </a:lnTo>
                      <a:lnTo>
                        <a:pt x="124" y="6"/>
                      </a:lnTo>
                      <a:lnTo>
                        <a:pt x="147" y="23"/>
                      </a:lnTo>
                      <a:lnTo>
                        <a:pt x="157" y="43"/>
                      </a:lnTo>
                      <a:lnTo>
                        <a:pt x="161" y="69"/>
                      </a:lnTo>
                      <a:lnTo>
                        <a:pt x="161" y="95"/>
                      </a:lnTo>
                      <a:lnTo>
                        <a:pt x="157" y="122"/>
                      </a:lnTo>
                      <a:lnTo>
                        <a:pt x="147" y="143"/>
                      </a:lnTo>
                      <a:lnTo>
                        <a:pt x="122" y="162"/>
                      </a:lnTo>
                      <a:lnTo>
                        <a:pt x="108" y="168"/>
                      </a:lnTo>
                      <a:lnTo>
                        <a:pt x="48" y="168"/>
                      </a:lnTo>
                      <a:lnTo>
                        <a:pt x="36" y="162"/>
                      </a:lnTo>
                      <a:lnTo>
                        <a:pt x="14" y="146"/>
                      </a:lnTo>
                      <a:lnTo>
                        <a:pt x="5" y="125"/>
                      </a:lnTo>
                      <a:lnTo>
                        <a:pt x="0" y="103"/>
                      </a:lnTo>
                      <a:lnTo>
                        <a:pt x="0" y="69"/>
                      </a:lnTo>
                      <a:lnTo>
                        <a:pt x="5" y="43"/>
                      </a:lnTo>
                      <a:lnTo>
                        <a:pt x="14" y="23"/>
                      </a:lnTo>
                      <a:lnTo>
                        <a:pt x="36" y="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654440" y="6576840"/>
                  <a:ext cx="33480" cy="106560"/>
                </a:xfrm>
                <a:custGeom>
                  <a:avLst/>
                  <a:gdLst/>
                  <a:ahLst/>
                  <a:rect l="l" t="t" r="r" b="b"/>
                  <a:pathLst>
                    <a:path w="43" h="134">
                      <a:moveTo>
                        <a:pt x="14" y="0"/>
                      </a:moveTo>
                      <a:lnTo>
                        <a:pt x="4" y="12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3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3"/>
                      </a:lnTo>
                      <a:lnTo>
                        <a:pt x="43" y="112"/>
                      </a:lnTo>
                      <a:lnTo>
                        <a:pt x="43" y="22"/>
                      </a:lnTo>
                      <a:lnTo>
                        <a:pt x="39" y="12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741920" y="6562800"/>
                <a:ext cx="241200" cy="129960"/>
                <a:chOff x="4741920" y="6562800"/>
                <a:chExt cx="241200" cy="129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7419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3" h="165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95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5" y="146"/>
                      </a:lnTo>
                      <a:lnTo>
                        <a:pt x="136" y="121"/>
                      </a:lnTo>
                      <a:lnTo>
                        <a:pt x="153" y="121"/>
                      </a:lnTo>
                      <a:lnTo>
                        <a:pt x="153" y="165"/>
                      </a:lnTo>
                      <a:lnTo>
                        <a:pt x="3" y="165"/>
                      </a:lnTo>
                      <a:lnTo>
                        <a:pt x="3" y="155"/>
                      </a:lnTo>
                      <a:lnTo>
                        <a:pt x="18" y="155"/>
                      </a:lnTo>
                      <a:lnTo>
                        <a:pt x="18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8625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1" h="165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6" y="146"/>
                      </a:lnTo>
                      <a:lnTo>
                        <a:pt x="135" y="121"/>
                      </a:lnTo>
                      <a:lnTo>
                        <a:pt x="151" y="121"/>
                      </a:lnTo>
                      <a:lnTo>
                        <a:pt x="151" y="165"/>
                      </a:lnTo>
                      <a:lnTo>
                        <a:pt x="2" y="165"/>
                      </a:lnTo>
                      <a:lnTo>
                        <a:pt x="2" y="155"/>
                      </a:lnTo>
                      <a:lnTo>
                        <a:pt x="17" y="155"/>
                      </a:lnTo>
                      <a:lnTo>
                        <a:pt x="17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979880" y="6564240"/>
                <a:ext cx="176400" cy="130320"/>
                <a:chOff x="4979880" y="6564240"/>
                <a:chExt cx="176400" cy="1303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979880" y="6564240"/>
                  <a:ext cx="176400" cy="130320"/>
                </a:xfrm>
                <a:custGeom>
                  <a:avLst/>
                  <a:gdLst/>
                  <a:ahLst/>
                  <a:rect l="l" t="t" r="r" b="b"/>
                  <a:pathLst>
                    <a:path w="221" h="164">
                      <a:moveTo>
                        <a:pt x="130" y="0"/>
                      </a:moveTo>
                      <a:lnTo>
                        <a:pt x="205" y="151"/>
                      </a:lnTo>
                      <a:lnTo>
                        <a:pt x="221" y="151"/>
                      </a:lnTo>
                      <a:lnTo>
                        <a:pt x="221" y="164"/>
                      </a:lnTo>
                      <a:lnTo>
                        <a:pt x="102" y="164"/>
                      </a:lnTo>
                      <a:lnTo>
                        <a:pt x="102" y="151"/>
                      </a:lnTo>
                      <a:lnTo>
                        <a:pt x="116" y="151"/>
                      </a:lnTo>
                      <a:lnTo>
                        <a:pt x="99" y="104"/>
                      </a:lnTo>
                      <a:lnTo>
                        <a:pt x="56" y="103"/>
                      </a:lnTo>
                      <a:lnTo>
                        <a:pt x="36" y="151"/>
                      </a:lnTo>
                      <a:lnTo>
                        <a:pt x="59" y="151"/>
                      </a:lnTo>
                      <a:lnTo>
                        <a:pt x="59" y="164"/>
                      </a:lnTo>
                      <a:lnTo>
                        <a:pt x="0" y="164"/>
                      </a:lnTo>
                      <a:lnTo>
                        <a:pt x="0" y="151"/>
                      </a:lnTo>
                      <a:lnTo>
                        <a:pt x="16" y="151"/>
                      </a:lnTo>
                      <a:lnTo>
                        <a:pt x="75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029200" y="6597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17" y="0"/>
                      </a:moveTo>
                      <a:lnTo>
                        <a:pt x="0" y="45"/>
                      </a:lnTo>
                      <a:lnTo>
                        <a:pt x="33" y="4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444920" y="6567480"/>
                <a:ext cx="149400" cy="128520"/>
                <a:chOff x="4444920" y="6567480"/>
                <a:chExt cx="149400" cy="1285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444920" y="6567480"/>
                  <a:ext cx="149400" cy="128520"/>
                </a:xfrm>
                <a:custGeom>
                  <a:avLst/>
                  <a:gdLst/>
                  <a:ahLst/>
                  <a:rect l="l" t="t" r="r" b="b"/>
                  <a:pathLst>
                    <a:path w="189" h="162">
                      <a:moveTo>
                        <a:pt x="74" y="0"/>
                      </a:moveTo>
                      <a:lnTo>
                        <a:pt x="138" y="0"/>
                      </a:lnTo>
                      <a:lnTo>
                        <a:pt x="152" y="7"/>
                      </a:lnTo>
                      <a:lnTo>
                        <a:pt x="176" y="23"/>
                      </a:lnTo>
                      <a:lnTo>
                        <a:pt x="184" y="42"/>
                      </a:lnTo>
                      <a:lnTo>
                        <a:pt x="189" y="67"/>
                      </a:lnTo>
                      <a:lnTo>
                        <a:pt x="189" y="93"/>
                      </a:lnTo>
                      <a:lnTo>
                        <a:pt x="184" y="118"/>
                      </a:lnTo>
                      <a:lnTo>
                        <a:pt x="176" y="137"/>
                      </a:lnTo>
                      <a:lnTo>
                        <a:pt x="147" y="157"/>
                      </a:lnTo>
                      <a:lnTo>
                        <a:pt x="134" y="162"/>
                      </a:lnTo>
                      <a:lnTo>
                        <a:pt x="74" y="162"/>
                      </a:lnTo>
                      <a:lnTo>
                        <a:pt x="0" y="162"/>
                      </a:lnTo>
                      <a:lnTo>
                        <a:pt x="2" y="147"/>
                      </a:lnTo>
                      <a:lnTo>
                        <a:pt x="24" y="147"/>
                      </a:lnTo>
                      <a:lnTo>
                        <a:pt x="24" y="99"/>
                      </a:lnTo>
                      <a:lnTo>
                        <a:pt x="24" y="67"/>
                      </a:lnTo>
                      <a:lnTo>
                        <a:pt x="24" y="42"/>
                      </a:lnTo>
                      <a:lnTo>
                        <a:pt x="24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510080" y="6583320"/>
                  <a:ext cx="36360" cy="100080"/>
                </a:xfrm>
                <a:custGeom>
                  <a:avLst/>
                  <a:gdLst/>
                  <a:ahLst/>
                  <a:rect l="l" t="t" r="r" b="b"/>
                  <a:pathLst>
                    <a:path w="44" h="127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127"/>
                      </a:lnTo>
                      <a:lnTo>
                        <a:pt x="15" y="127"/>
                      </a:lnTo>
                      <a:lnTo>
                        <a:pt x="31" y="127"/>
                      </a:lnTo>
                      <a:lnTo>
                        <a:pt x="41" y="117"/>
                      </a:lnTo>
                      <a:lnTo>
                        <a:pt x="44" y="106"/>
                      </a:lnTo>
                      <a:lnTo>
                        <a:pt x="44" y="21"/>
                      </a:lnTo>
                      <a:lnTo>
                        <a:pt x="41" y="10"/>
                      </a:lnTo>
                      <a:lnTo>
                        <a:pt x="3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3592440" y="5500800"/>
              <a:ext cx="2098800" cy="115920"/>
              <a:chOff x="3592440" y="5500800"/>
              <a:chExt cx="2098800" cy="1159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592440" y="5500800"/>
                <a:ext cx="231840" cy="115920"/>
                <a:chOff x="3592440" y="5500800"/>
                <a:chExt cx="231840" cy="1159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59244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6" y="147"/>
                      </a:lnTo>
                      <a:lnTo>
                        <a:pt x="26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66552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9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7"/>
                      </a:lnTo>
                      <a:lnTo>
                        <a:pt x="72" y="57"/>
                      </a:lnTo>
                      <a:lnTo>
                        <a:pt x="72" y="0"/>
                      </a:lnTo>
                      <a:lnTo>
                        <a:pt x="109" y="0"/>
                      </a:lnTo>
                      <a:lnTo>
                        <a:pt x="109" y="147"/>
                      </a:lnTo>
                      <a:lnTo>
                        <a:pt x="72" y="147"/>
                      </a:lnTo>
                      <a:lnTo>
                        <a:pt x="72" y="85"/>
                      </a:lnTo>
                      <a:lnTo>
                        <a:pt x="36" y="85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76092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1" y="85"/>
                      </a:lnTo>
                      <a:lnTo>
                        <a:pt x="41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875040" y="5500800"/>
                <a:ext cx="452520" cy="115920"/>
                <a:chOff x="3875040" y="5500800"/>
                <a:chExt cx="452520" cy="1159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875040" y="5500800"/>
                  <a:ext cx="77760" cy="115920"/>
                </a:xfrm>
                <a:custGeom>
                  <a:avLst/>
                  <a:gdLst/>
                  <a:ahLst/>
                  <a:rect l="l" t="t" r="r" b="b"/>
                  <a:pathLst>
                    <a:path w="98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118"/>
                      </a:lnTo>
                      <a:lnTo>
                        <a:pt x="62" y="118"/>
                      </a:lnTo>
                      <a:lnTo>
                        <a:pt x="62" y="0"/>
                      </a:lnTo>
                      <a:lnTo>
                        <a:pt x="98" y="0"/>
                      </a:lnTo>
                      <a:lnTo>
                        <a:pt x="98" y="127"/>
                      </a:lnTo>
                      <a:lnTo>
                        <a:pt x="72" y="147"/>
                      </a:lnTo>
                      <a:lnTo>
                        <a:pt x="26" y="147"/>
                      </a:lnTo>
                      <a:lnTo>
                        <a:pt x="0" y="1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96396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67" y="69"/>
                      </a:lnTo>
                      <a:lnTo>
                        <a:pt x="67" y="0"/>
                      </a:lnTo>
                      <a:lnTo>
                        <a:pt x="106" y="0"/>
                      </a:lnTo>
                      <a:lnTo>
                        <a:pt x="106" y="147"/>
                      </a:lnTo>
                      <a:lnTo>
                        <a:pt x="67" y="147"/>
                      </a:lnTo>
                      <a:lnTo>
                        <a:pt x="40" y="76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60800" y="5500800"/>
                  <a:ext cx="2844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9896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3" y="29"/>
                      </a:lnTo>
                      <a:lnTo>
                        <a:pt x="63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7528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48000" y="5500800"/>
                  <a:ext cx="79560" cy="115920"/>
                </a:xfrm>
                <a:custGeom>
                  <a:avLst/>
                  <a:gdLst/>
                  <a:ahLst/>
                  <a:rect l="l" t="t" r="r" b="b"/>
                  <a:pathLst>
                    <a:path w="99" h="14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99" y="20"/>
                      </a:lnTo>
                      <a:lnTo>
                        <a:pt x="99" y="127"/>
                      </a:lnTo>
                      <a:lnTo>
                        <a:pt x="76" y="147"/>
                      </a:lnTo>
                      <a:lnTo>
                        <a:pt x="0" y="147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5" y="118"/>
                      </a:lnTo>
                      <a:lnTo>
                        <a:pt x="58" y="118"/>
                      </a:lnTo>
                      <a:lnTo>
                        <a:pt x="58" y="28"/>
                      </a:lnTo>
                      <a:lnTo>
                        <a:pt x="35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386240" y="5500800"/>
                <a:ext cx="457200" cy="115920"/>
                <a:chOff x="4386240" y="5500800"/>
                <a:chExt cx="457200" cy="1159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38624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3" y="20"/>
                      </a:lnTo>
                      <a:lnTo>
                        <a:pt x="93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7" y="61"/>
                      </a:lnTo>
                      <a:lnTo>
                        <a:pt x="65" y="61"/>
                      </a:lnTo>
                      <a:lnTo>
                        <a:pt x="93" y="82"/>
                      </a:lnTo>
                      <a:lnTo>
                        <a:pt x="93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1" y="102"/>
                      </a:lnTo>
                      <a:lnTo>
                        <a:pt x="31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468680" y="5500800"/>
                  <a:ext cx="6696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527720" y="5500800"/>
                  <a:ext cx="9180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6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61160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3" h="147">
                      <a:moveTo>
                        <a:pt x="0" y="0"/>
                      </a:moveTo>
                      <a:lnTo>
                        <a:pt x="83" y="0"/>
                      </a:lnTo>
                      <a:lnTo>
                        <a:pt x="83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69116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76892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5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5" y="20"/>
                      </a:lnTo>
                      <a:lnTo>
                        <a:pt x="95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8" y="61"/>
                      </a:lnTo>
                      <a:lnTo>
                        <a:pt x="65" y="61"/>
                      </a:lnTo>
                      <a:lnTo>
                        <a:pt x="95" y="82"/>
                      </a:lnTo>
                      <a:lnTo>
                        <a:pt x="95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2" y="102"/>
                      </a:lnTo>
                      <a:lnTo>
                        <a:pt x="32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4892760" y="5500800"/>
                <a:ext cx="160200" cy="115920"/>
                <a:chOff x="4892760" y="5500800"/>
                <a:chExt cx="160200" cy="1159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892760" y="5500800"/>
                  <a:ext cx="81000" cy="115920"/>
                </a:xfrm>
                <a:custGeom>
                  <a:avLst/>
                  <a:gdLst/>
                  <a:ahLst/>
                  <a:rect l="l" t="t" r="r" b="b"/>
                  <a:pathLst>
                    <a:path w="102" h="147">
                      <a:moveTo>
                        <a:pt x="26" y="0"/>
                      </a:moveTo>
                      <a:lnTo>
                        <a:pt x="75" y="0"/>
                      </a:lnTo>
                      <a:lnTo>
                        <a:pt x="102" y="24"/>
                      </a:lnTo>
                      <a:lnTo>
                        <a:pt x="102" y="122"/>
                      </a:lnTo>
                      <a:lnTo>
                        <a:pt x="75" y="147"/>
                      </a:lnTo>
                      <a:lnTo>
                        <a:pt x="66" y="147"/>
                      </a:lnTo>
                      <a:lnTo>
                        <a:pt x="36" y="147"/>
                      </a:lnTo>
                      <a:lnTo>
                        <a:pt x="26" y="147"/>
                      </a:lnTo>
                      <a:lnTo>
                        <a:pt x="0" y="122"/>
                      </a:lnTo>
                      <a:lnTo>
                        <a:pt x="0" y="118"/>
                      </a:lnTo>
                      <a:lnTo>
                        <a:pt x="39" y="118"/>
                      </a:lnTo>
                      <a:lnTo>
                        <a:pt x="62" y="118"/>
                      </a:lnTo>
                      <a:lnTo>
                        <a:pt x="62" y="28"/>
                      </a:lnTo>
                      <a:lnTo>
                        <a:pt x="39" y="28"/>
                      </a:lnTo>
                      <a:lnTo>
                        <a:pt x="39" y="118"/>
                      </a:lnTo>
                      <a:lnTo>
                        <a:pt x="0" y="118"/>
                      </a:lnTo>
                      <a:lnTo>
                        <a:pt x="0" y="2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98960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7" y="57"/>
                      </a:lnTo>
                      <a:lnTo>
                        <a:pt x="77" y="85"/>
                      </a:lnTo>
                      <a:lnTo>
                        <a:pt x="41" y="85"/>
                      </a:lnTo>
                      <a:lnTo>
                        <a:pt x="41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5091120" y="5500800"/>
                <a:ext cx="600120" cy="115920"/>
                <a:chOff x="5091120" y="5500800"/>
                <a:chExt cx="600120" cy="1159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509112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7" y="24"/>
                      </a:lnTo>
                      <a:lnTo>
                        <a:pt x="44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4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186520" y="5500800"/>
                  <a:ext cx="102960" cy="115920"/>
                </a:xfrm>
                <a:custGeom>
                  <a:avLst/>
                  <a:gdLst/>
                  <a:ahLst/>
                  <a:rect l="l" t="t" r="r" b="b"/>
                  <a:pathLst>
                    <a:path w="129" h="147">
                      <a:moveTo>
                        <a:pt x="0" y="147"/>
                      </a:moveTo>
                      <a:lnTo>
                        <a:pt x="37" y="147"/>
                      </a:lnTo>
                      <a:lnTo>
                        <a:pt x="37" y="69"/>
                      </a:lnTo>
                      <a:lnTo>
                        <a:pt x="55" y="147"/>
                      </a:lnTo>
                      <a:lnTo>
                        <a:pt x="74" y="147"/>
                      </a:lnTo>
                      <a:lnTo>
                        <a:pt x="93" y="69"/>
                      </a:lnTo>
                      <a:lnTo>
                        <a:pt x="93" y="147"/>
                      </a:lnTo>
                      <a:lnTo>
                        <a:pt x="129" y="147"/>
                      </a:lnTo>
                      <a:lnTo>
                        <a:pt x="129" y="0"/>
                      </a:lnTo>
                      <a:lnTo>
                        <a:pt x="79" y="0"/>
                      </a:lnTo>
                      <a:lnTo>
                        <a:pt x="65" y="69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30712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39" y="28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5"/>
                      </a:lnTo>
                      <a:lnTo>
                        <a:pt x="39" y="85"/>
                      </a:lnTo>
                      <a:lnTo>
                        <a:pt x="39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383080" y="5500800"/>
                  <a:ext cx="7488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93" y="16"/>
                      </a:lnTo>
                      <a:lnTo>
                        <a:pt x="93" y="57"/>
                      </a:lnTo>
                      <a:lnTo>
                        <a:pt x="71" y="73"/>
                      </a:lnTo>
                      <a:lnTo>
                        <a:pt x="93" y="90"/>
                      </a:lnTo>
                      <a:lnTo>
                        <a:pt x="93" y="147"/>
                      </a:lnTo>
                      <a:lnTo>
                        <a:pt x="58" y="147"/>
                      </a:lnTo>
                      <a:lnTo>
                        <a:pt x="58" y="90"/>
                      </a:lnTo>
                      <a:lnTo>
                        <a:pt x="58" y="61"/>
                      </a:lnTo>
                      <a:lnTo>
                        <a:pt x="36" y="61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61"/>
                      </a:lnTo>
                      <a:lnTo>
                        <a:pt x="58" y="90"/>
                      </a:lnTo>
                      <a:lnTo>
                        <a:pt x="36" y="90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472000" y="5500800"/>
                  <a:ext cx="2880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513400" y="5500800"/>
                  <a:ext cx="79200" cy="115920"/>
                </a:xfrm>
                <a:custGeom>
                  <a:avLst/>
                  <a:gdLst/>
                  <a:ahLst/>
                  <a:rect l="l" t="t" r="r" b="b"/>
                  <a:pathLst>
                    <a:path w="101" h="147">
                      <a:moveTo>
                        <a:pt x="28" y="0"/>
                      </a:moveTo>
                      <a:lnTo>
                        <a:pt x="73" y="0"/>
                      </a:lnTo>
                      <a:lnTo>
                        <a:pt x="101" y="20"/>
                      </a:lnTo>
                      <a:lnTo>
                        <a:pt x="101" y="57"/>
                      </a:lnTo>
                      <a:lnTo>
                        <a:pt x="65" y="57"/>
                      </a:lnTo>
                      <a:lnTo>
                        <a:pt x="65" y="28"/>
                      </a:lnTo>
                      <a:lnTo>
                        <a:pt x="36" y="28"/>
                      </a:lnTo>
                      <a:lnTo>
                        <a:pt x="36" y="118"/>
                      </a:lnTo>
                      <a:lnTo>
                        <a:pt x="65" y="118"/>
                      </a:lnTo>
                      <a:lnTo>
                        <a:pt x="65" y="85"/>
                      </a:lnTo>
                      <a:lnTo>
                        <a:pt x="101" y="85"/>
                      </a:lnTo>
                      <a:lnTo>
                        <a:pt x="101" y="127"/>
                      </a:lnTo>
                      <a:lnTo>
                        <a:pt x="73" y="147"/>
                      </a:lnTo>
                      <a:lnTo>
                        <a:pt x="28" y="147"/>
                      </a:lnTo>
                      <a:lnTo>
                        <a:pt x="0" y="127"/>
                      </a:lnTo>
                      <a:lnTo>
                        <a:pt x="0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60088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Dollar or</a:t>
            </a:r>
            <a:br>
              <a:rPr sz="4000"/>
            </a:b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Monetary Unit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820960" y="5265720"/>
            <a:ext cx="3651120" cy="1554120"/>
            <a:chOff x="2820960" y="5265720"/>
            <a:chExt cx="3651120" cy="1554120"/>
          </a:xfrm>
        </p:grpSpPr>
        <p:grpSp>
          <p:nvGrpSpPr>
            <p:cNvPr id="568" name=""/>
            <p:cNvGrpSpPr/>
            <p:nvPr/>
          </p:nvGrpSpPr>
          <p:grpSpPr>
            <a:xfrm>
              <a:off x="2820960" y="5265720"/>
              <a:ext cx="3651120" cy="1554120"/>
              <a:chOff x="2820960" y="5265720"/>
              <a:chExt cx="3651120" cy="1554120"/>
            </a:xfrm>
          </p:grpSpPr>
          <p:sp>
            <p:nvSpPr>
              <p:cNvPr id="569" name=""/>
              <p:cNvSpPr/>
              <p:nvPr/>
            </p:nvSpPr>
            <p:spPr>
              <a:xfrm>
                <a:off x="2820960" y="5265720"/>
                <a:ext cx="3651120" cy="1554120"/>
              </a:xfrm>
              <a:prstGeom prst="rect">
                <a:avLst/>
              </a:prstGeom>
              <a:solidFill>
                <a:srgbClr val="bfffb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03400" y="5348160"/>
                <a:ext cx="3484800" cy="138744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47840" y="5470560"/>
                <a:ext cx="2976840" cy="1128600"/>
              </a:xfrm>
              <a:prstGeom prst="rect">
                <a:avLst/>
              </a:prstGeom>
              <a:solidFill>
                <a:srgbClr val="bfffbf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154400" y="6384960"/>
              <a:ext cx="962280" cy="189000"/>
              <a:chOff x="4154400" y="6384960"/>
              <a:chExt cx="962280" cy="1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154400" y="6384960"/>
                <a:ext cx="165240" cy="183960"/>
                <a:chOff x="4154400" y="6384960"/>
                <a:chExt cx="165240" cy="1839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0880" y="643428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9">
                      <a:moveTo>
                        <a:pt x="193" y="159"/>
                      </a:moveTo>
                      <a:lnTo>
                        <a:pt x="122" y="124"/>
                      </a:lnTo>
                      <a:lnTo>
                        <a:pt x="51" y="74"/>
                      </a:lnTo>
                      <a:lnTo>
                        <a:pt x="0" y="0"/>
                      </a:lnTo>
                      <a:lnTo>
                        <a:pt x="48" y="10"/>
                      </a:lnTo>
                      <a:lnTo>
                        <a:pt x="112" y="38"/>
                      </a:lnTo>
                      <a:lnTo>
                        <a:pt x="155" y="87"/>
                      </a:lnTo>
                      <a:lnTo>
                        <a:pt x="193" y="15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03720" y="6384960"/>
                  <a:ext cx="115920" cy="156960"/>
                </a:xfrm>
                <a:custGeom>
                  <a:avLst/>
                  <a:gdLst/>
                  <a:ahLst/>
                  <a:rect l="l" t="t" r="r" b="b"/>
                  <a:pathLst>
                    <a:path w="146" h="199">
                      <a:moveTo>
                        <a:pt x="146" y="199"/>
                      </a:moveTo>
                      <a:lnTo>
                        <a:pt x="85" y="144"/>
                      </a:lnTo>
                      <a:lnTo>
                        <a:pt x="45" y="95"/>
                      </a:lnTo>
                      <a:lnTo>
                        <a:pt x="24" y="51"/>
                      </a:lnTo>
                      <a:lnTo>
                        <a:pt x="0" y="0"/>
                      </a:lnTo>
                      <a:lnTo>
                        <a:pt x="49" y="25"/>
                      </a:lnTo>
                      <a:lnTo>
                        <a:pt x="87" y="55"/>
                      </a:lnTo>
                      <a:lnTo>
                        <a:pt x="120" y="99"/>
                      </a:lnTo>
                      <a:lnTo>
                        <a:pt x="143" y="149"/>
                      </a:lnTo>
                      <a:lnTo>
                        <a:pt x="146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54400" y="6505560"/>
                  <a:ext cx="146160" cy="6336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81"/>
                      </a:moveTo>
                      <a:lnTo>
                        <a:pt x="119" y="64"/>
                      </a:lnTo>
                      <a:lnTo>
                        <a:pt x="48" y="38"/>
                      </a:lnTo>
                      <a:lnTo>
                        <a:pt x="0" y="0"/>
                      </a:lnTo>
                      <a:lnTo>
                        <a:pt x="48" y="2"/>
                      </a:lnTo>
                      <a:lnTo>
                        <a:pt x="107" y="18"/>
                      </a:lnTo>
                      <a:lnTo>
                        <a:pt x="147" y="40"/>
                      </a:lnTo>
                      <a:lnTo>
                        <a:pt x="184" y="8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950000" y="6388200"/>
                <a:ext cx="166680" cy="185760"/>
                <a:chOff x="4950000" y="6388200"/>
                <a:chExt cx="166680" cy="1857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957920" y="643896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8">
                      <a:moveTo>
                        <a:pt x="0" y="158"/>
                      </a:moveTo>
                      <a:lnTo>
                        <a:pt x="70" y="123"/>
                      </a:lnTo>
                      <a:lnTo>
                        <a:pt x="142" y="73"/>
                      </a:lnTo>
                      <a:lnTo>
                        <a:pt x="193" y="0"/>
                      </a:lnTo>
                      <a:lnTo>
                        <a:pt x="145" y="9"/>
                      </a:lnTo>
                      <a:lnTo>
                        <a:pt x="82" y="37"/>
                      </a:lnTo>
                      <a:lnTo>
                        <a:pt x="39" y="86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50000" y="6388200"/>
                  <a:ext cx="115560" cy="156960"/>
                </a:xfrm>
                <a:custGeom>
                  <a:avLst/>
                  <a:gdLst/>
                  <a:ahLst/>
                  <a:rect l="l" t="t" r="r" b="b"/>
                  <a:pathLst>
                    <a:path w="147" h="199">
                      <a:moveTo>
                        <a:pt x="0" y="199"/>
                      </a:moveTo>
                      <a:lnTo>
                        <a:pt x="62" y="144"/>
                      </a:lnTo>
                      <a:lnTo>
                        <a:pt x="103" y="95"/>
                      </a:lnTo>
                      <a:lnTo>
                        <a:pt x="123" y="51"/>
                      </a:lnTo>
                      <a:lnTo>
                        <a:pt x="147" y="0"/>
                      </a:lnTo>
                      <a:lnTo>
                        <a:pt x="97" y="24"/>
                      </a:lnTo>
                      <a:lnTo>
                        <a:pt x="61" y="54"/>
                      </a:lnTo>
                      <a:lnTo>
                        <a:pt x="27" y="98"/>
                      </a:lnTo>
                      <a:lnTo>
                        <a:pt x="3" y="14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68720" y="6508800"/>
                  <a:ext cx="147960" cy="65160"/>
                </a:xfrm>
                <a:custGeom>
                  <a:avLst/>
                  <a:gdLst/>
                  <a:ahLst/>
                  <a:rect l="l" t="t" r="r" b="b"/>
                  <a:pathLst>
                    <a:path w="185" h="82">
                      <a:moveTo>
                        <a:pt x="0" y="82"/>
                      </a:moveTo>
                      <a:lnTo>
                        <a:pt x="67" y="65"/>
                      </a:lnTo>
                      <a:lnTo>
                        <a:pt x="136" y="40"/>
                      </a:lnTo>
                      <a:lnTo>
                        <a:pt x="185" y="0"/>
                      </a:lnTo>
                      <a:lnTo>
                        <a:pt x="136" y="4"/>
                      </a:lnTo>
                      <a:lnTo>
                        <a:pt x="79" y="19"/>
                      </a:lnTo>
                      <a:lnTo>
                        <a:pt x="38" y="41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1" name=""/>
            <p:cNvGrpSpPr/>
            <p:nvPr/>
          </p:nvGrpSpPr>
          <p:grpSpPr>
            <a:xfrm>
              <a:off x="3881520" y="5673600"/>
              <a:ext cx="1509480" cy="1051200"/>
              <a:chOff x="3881520" y="5673600"/>
              <a:chExt cx="1509480" cy="10512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4210200" y="5673600"/>
                <a:ext cx="839520" cy="1022400"/>
                <a:chOff x="4210200" y="5673600"/>
                <a:chExt cx="839520" cy="102240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4210200" y="5673600"/>
                  <a:ext cx="839520" cy="1022400"/>
                  <a:chOff x="4210200" y="5673600"/>
                  <a:chExt cx="839520" cy="1022400"/>
                </a:xfrm>
              </p:grpSpPr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4210200" y="5673600"/>
                    <a:ext cx="839520" cy="203400"/>
                    <a:chOff x="4210200" y="5673600"/>
                    <a:chExt cx="839520" cy="20340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42102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0" y="0"/>
                          </a:moveTo>
                          <a:lnTo>
                            <a:pt x="515" y="0"/>
                          </a:lnTo>
                          <a:lnTo>
                            <a:pt x="515" y="256"/>
                          </a:lnTo>
                          <a:lnTo>
                            <a:pt x="147" y="256"/>
                          </a:lnTo>
                          <a:lnTo>
                            <a:pt x="147" y="124"/>
                          </a:lnTo>
                          <a:lnTo>
                            <a:pt x="141" y="103"/>
                          </a:lnTo>
                          <a:lnTo>
                            <a:pt x="128" y="91"/>
                          </a:lnTo>
                          <a:lnTo>
                            <a:pt x="105" y="85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46404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515" y="0"/>
                          </a:moveTo>
                          <a:lnTo>
                            <a:pt x="0" y="0"/>
                          </a:lnTo>
                          <a:lnTo>
                            <a:pt x="0" y="256"/>
                          </a:lnTo>
                          <a:lnTo>
                            <a:pt x="368" y="256"/>
                          </a:lnTo>
                          <a:lnTo>
                            <a:pt x="368" y="124"/>
                          </a:lnTo>
                          <a:lnTo>
                            <a:pt x="374" y="103"/>
                          </a:lnTo>
                          <a:lnTo>
                            <a:pt x="387" y="91"/>
                          </a:lnTo>
                          <a:lnTo>
                            <a:pt x="410" y="85"/>
                          </a:lnTo>
                          <a:lnTo>
                            <a:pt x="515" y="85"/>
                          </a:lnTo>
                          <a:lnTo>
                            <a:pt x="515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7" name=""/>
                  <p:cNvSpPr/>
                  <p:nvPr/>
                </p:nvSpPr>
                <p:spPr>
                  <a:xfrm>
                    <a:off x="4233960" y="5675400"/>
                    <a:ext cx="806400" cy="102060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584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4249800" y="5710320"/>
                  <a:ext cx="750960" cy="890640"/>
                  <a:chOff x="4249800" y="5710320"/>
                  <a:chExt cx="750960" cy="890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4745160" y="6232680"/>
                    <a:ext cx="25560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63">
                        <a:moveTo>
                          <a:pt x="0" y="0"/>
                        </a:moveTo>
                        <a:lnTo>
                          <a:pt x="67" y="28"/>
                        </a:lnTo>
                        <a:lnTo>
                          <a:pt x="74" y="92"/>
                        </a:lnTo>
                        <a:lnTo>
                          <a:pt x="158" y="125"/>
                        </a:lnTo>
                        <a:lnTo>
                          <a:pt x="265" y="147"/>
                        </a:lnTo>
                        <a:lnTo>
                          <a:pt x="323" y="176"/>
                        </a:lnTo>
                        <a:lnTo>
                          <a:pt x="316" y="202"/>
                        </a:lnTo>
                        <a:lnTo>
                          <a:pt x="301" y="240"/>
                        </a:lnTo>
                        <a:lnTo>
                          <a:pt x="280" y="281"/>
                        </a:lnTo>
                        <a:lnTo>
                          <a:pt x="261" y="315"/>
                        </a:lnTo>
                        <a:lnTo>
                          <a:pt x="241" y="345"/>
                        </a:lnTo>
                        <a:lnTo>
                          <a:pt x="219" y="383"/>
                        </a:lnTo>
                        <a:lnTo>
                          <a:pt x="181" y="425"/>
                        </a:lnTo>
                        <a:lnTo>
                          <a:pt x="149" y="463"/>
                        </a:lnTo>
                        <a:lnTo>
                          <a:pt x="46" y="128"/>
                        </a:lnTo>
                        <a:lnTo>
                          <a:pt x="4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505400" y="6186600"/>
                    <a:ext cx="36036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521">
                        <a:moveTo>
                          <a:pt x="452" y="521"/>
                        </a:moveTo>
                        <a:lnTo>
                          <a:pt x="251" y="521"/>
                        </a:lnTo>
                        <a:lnTo>
                          <a:pt x="165" y="521"/>
                        </a:lnTo>
                        <a:lnTo>
                          <a:pt x="165" y="423"/>
                        </a:lnTo>
                        <a:lnTo>
                          <a:pt x="126" y="299"/>
                        </a:lnTo>
                        <a:lnTo>
                          <a:pt x="80" y="174"/>
                        </a:lnTo>
                        <a:lnTo>
                          <a:pt x="87" y="100"/>
                        </a:lnTo>
                        <a:lnTo>
                          <a:pt x="29" y="59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lnTo>
                          <a:pt x="112" y="62"/>
                        </a:lnTo>
                        <a:lnTo>
                          <a:pt x="176" y="75"/>
                        </a:lnTo>
                        <a:lnTo>
                          <a:pt x="207" y="84"/>
                        </a:lnTo>
                        <a:lnTo>
                          <a:pt x="234" y="84"/>
                        </a:lnTo>
                        <a:lnTo>
                          <a:pt x="275" y="75"/>
                        </a:lnTo>
                        <a:lnTo>
                          <a:pt x="304" y="61"/>
                        </a:lnTo>
                        <a:lnTo>
                          <a:pt x="306" y="142"/>
                        </a:lnTo>
                        <a:lnTo>
                          <a:pt x="348" y="193"/>
                        </a:lnTo>
                        <a:lnTo>
                          <a:pt x="410" y="391"/>
                        </a:lnTo>
                        <a:lnTo>
                          <a:pt x="452" y="52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451400" y="5743440"/>
                    <a:ext cx="380880" cy="5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43">
                        <a:moveTo>
                          <a:pt x="52" y="504"/>
                        </a:moveTo>
                        <a:lnTo>
                          <a:pt x="45" y="430"/>
                        </a:lnTo>
                        <a:lnTo>
                          <a:pt x="13" y="347"/>
                        </a:lnTo>
                        <a:lnTo>
                          <a:pt x="0" y="218"/>
                        </a:lnTo>
                        <a:lnTo>
                          <a:pt x="62" y="84"/>
                        </a:lnTo>
                        <a:lnTo>
                          <a:pt x="142" y="29"/>
                        </a:lnTo>
                        <a:lnTo>
                          <a:pt x="243" y="4"/>
                        </a:lnTo>
                        <a:lnTo>
                          <a:pt x="332" y="0"/>
                        </a:lnTo>
                        <a:lnTo>
                          <a:pt x="404" y="42"/>
                        </a:lnTo>
                        <a:lnTo>
                          <a:pt x="462" y="144"/>
                        </a:lnTo>
                        <a:lnTo>
                          <a:pt x="478" y="231"/>
                        </a:lnTo>
                        <a:lnTo>
                          <a:pt x="475" y="345"/>
                        </a:lnTo>
                        <a:lnTo>
                          <a:pt x="465" y="430"/>
                        </a:lnTo>
                        <a:lnTo>
                          <a:pt x="458" y="470"/>
                        </a:lnTo>
                        <a:lnTo>
                          <a:pt x="446" y="502"/>
                        </a:lnTo>
                        <a:lnTo>
                          <a:pt x="423" y="536"/>
                        </a:lnTo>
                        <a:lnTo>
                          <a:pt x="397" y="553"/>
                        </a:lnTo>
                        <a:lnTo>
                          <a:pt x="368" y="563"/>
                        </a:lnTo>
                        <a:lnTo>
                          <a:pt x="371" y="621"/>
                        </a:lnTo>
                        <a:lnTo>
                          <a:pt x="346" y="634"/>
                        </a:lnTo>
                        <a:lnTo>
                          <a:pt x="310" y="643"/>
                        </a:lnTo>
                        <a:lnTo>
                          <a:pt x="245" y="640"/>
                        </a:lnTo>
                        <a:lnTo>
                          <a:pt x="194" y="621"/>
                        </a:lnTo>
                        <a:lnTo>
                          <a:pt x="117" y="589"/>
                        </a:lnTo>
                        <a:lnTo>
                          <a:pt x="68" y="559"/>
                        </a:lnTo>
                        <a:lnTo>
                          <a:pt x="52" y="504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451400" y="595152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443">
                        <a:moveTo>
                          <a:pt x="106" y="0"/>
                        </a:moveTo>
                        <a:lnTo>
                          <a:pt x="133" y="87"/>
                        </a:lnTo>
                        <a:lnTo>
                          <a:pt x="146" y="147"/>
                        </a:lnTo>
                        <a:lnTo>
                          <a:pt x="165" y="202"/>
                        </a:lnTo>
                        <a:lnTo>
                          <a:pt x="194" y="253"/>
                        </a:lnTo>
                        <a:lnTo>
                          <a:pt x="204" y="267"/>
                        </a:lnTo>
                        <a:lnTo>
                          <a:pt x="226" y="283"/>
                        </a:lnTo>
                        <a:lnTo>
                          <a:pt x="246" y="294"/>
                        </a:lnTo>
                        <a:lnTo>
                          <a:pt x="275" y="302"/>
                        </a:lnTo>
                        <a:lnTo>
                          <a:pt x="295" y="307"/>
                        </a:lnTo>
                        <a:lnTo>
                          <a:pt x="312" y="311"/>
                        </a:lnTo>
                        <a:lnTo>
                          <a:pt x="332" y="311"/>
                        </a:lnTo>
                        <a:lnTo>
                          <a:pt x="355" y="306"/>
                        </a:lnTo>
                        <a:lnTo>
                          <a:pt x="332" y="331"/>
                        </a:lnTo>
                        <a:lnTo>
                          <a:pt x="290" y="357"/>
                        </a:lnTo>
                        <a:lnTo>
                          <a:pt x="262" y="386"/>
                        </a:lnTo>
                        <a:lnTo>
                          <a:pt x="243" y="414"/>
                        </a:lnTo>
                        <a:lnTo>
                          <a:pt x="222" y="433"/>
                        </a:lnTo>
                        <a:lnTo>
                          <a:pt x="178" y="440"/>
                        </a:lnTo>
                        <a:lnTo>
                          <a:pt x="117" y="443"/>
                        </a:lnTo>
                        <a:lnTo>
                          <a:pt x="26" y="376"/>
                        </a:lnTo>
                        <a:lnTo>
                          <a:pt x="0" y="325"/>
                        </a:lnTo>
                        <a:lnTo>
                          <a:pt x="36" y="212"/>
                        </a:lnTo>
                        <a:lnTo>
                          <a:pt x="55" y="10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606920" y="5897520"/>
                    <a:ext cx="220680" cy="201600"/>
                    <a:chOff x="4606920" y="5897520"/>
                    <a:chExt cx="220680" cy="20160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4686480" y="6078600"/>
                      <a:ext cx="91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25">
                          <a:moveTo>
                            <a:pt x="0" y="9"/>
                          </a:moveTo>
                          <a:lnTo>
                            <a:pt x="11" y="4"/>
                          </a:lnTo>
                          <a:lnTo>
                            <a:pt x="29" y="1"/>
                          </a:lnTo>
                          <a:lnTo>
                            <a:pt x="46" y="4"/>
                          </a:lnTo>
                          <a:lnTo>
                            <a:pt x="61" y="4"/>
                          </a:lnTo>
                          <a:lnTo>
                            <a:pt x="80" y="0"/>
                          </a:lnTo>
                          <a:lnTo>
                            <a:pt x="93" y="1"/>
                          </a:lnTo>
                          <a:lnTo>
                            <a:pt x="107" y="1"/>
                          </a:lnTo>
                          <a:lnTo>
                            <a:pt x="117" y="9"/>
                          </a:lnTo>
                          <a:lnTo>
                            <a:pt x="99" y="18"/>
                          </a:lnTo>
                          <a:lnTo>
                            <a:pt x="68" y="25"/>
                          </a:lnTo>
                          <a:lnTo>
                            <a:pt x="32" y="25"/>
                          </a:lnTo>
                          <a:lnTo>
                            <a:pt x="13" y="18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4687920" y="6029280"/>
                      <a:ext cx="763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7">
                          <a:moveTo>
                            <a:pt x="22" y="5"/>
                          </a:move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9" y="17"/>
                          </a:lnTo>
                          <a:lnTo>
                            <a:pt x="22" y="18"/>
                          </a:lnTo>
                          <a:lnTo>
                            <a:pt x="36" y="19"/>
                          </a:lnTo>
                          <a:lnTo>
                            <a:pt x="48" y="24"/>
                          </a:lnTo>
                          <a:lnTo>
                            <a:pt x="63" y="27"/>
                          </a:lnTo>
                          <a:lnTo>
                            <a:pt x="76" y="27"/>
                          </a:lnTo>
                          <a:lnTo>
                            <a:pt x="87" y="23"/>
                          </a:lnTo>
                          <a:lnTo>
                            <a:pt x="93" y="16"/>
                          </a:lnTo>
                          <a:lnTo>
                            <a:pt x="97" y="6"/>
                          </a:lnTo>
                          <a:lnTo>
                            <a:pt x="87" y="9"/>
                          </a:lnTo>
                          <a:lnTo>
                            <a:pt x="79" y="13"/>
                          </a:lnTo>
                          <a:lnTo>
                            <a:pt x="75" y="12"/>
                          </a:lnTo>
                          <a:lnTo>
                            <a:pt x="64" y="9"/>
                          </a:lnTo>
                          <a:lnTo>
                            <a:pt x="54" y="5"/>
                          </a:lnTo>
                          <a:lnTo>
                            <a:pt x="47" y="3"/>
                          </a:lnTo>
                          <a:lnTo>
                            <a:pt x="34" y="6"/>
                          </a:lnTo>
                          <a:lnTo>
                            <a:pt x="22" y="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4606920" y="5897520"/>
                      <a:ext cx="12528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9">
                          <a:moveTo>
                            <a:pt x="0" y="29"/>
                          </a:moveTo>
                          <a:lnTo>
                            <a:pt x="19" y="14"/>
                          </a:lnTo>
                          <a:lnTo>
                            <a:pt x="43" y="5"/>
                          </a:lnTo>
                          <a:lnTo>
                            <a:pt x="69" y="0"/>
                          </a:lnTo>
                          <a:lnTo>
                            <a:pt x="99" y="3"/>
                          </a:lnTo>
                          <a:lnTo>
                            <a:pt x="120" y="14"/>
                          </a:lnTo>
                          <a:lnTo>
                            <a:pt x="136" y="34"/>
                          </a:lnTo>
                          <a:lnTo>
                            <a:pt x="145" y="77"/>
                          </a:lnTo>
                          <a:lnTo>
                            <a:pt x="153" y="117"/>
                          </a:lnTo>
                          <a:lnTo>
                            <a:pt x="158" y="159"/>
                          </a:lnTo>
                          <a:lnTo>
                            <a:pt x="142" y="151"/>
                          </a:lnTo>
                          <a:lnTo>
                            <a:pt x="127" y="145"/>
                          </a:lnTo>
                          <a:lnTo>
                            <a:pt x="106" y="152"/>
                          </a:lnTo>
                          <a:lnTo>
                            <a:pt x="117" y="108"/>
                          </a:lnTo>
                          <a:lnTo>
                            <a:pt x="126" y="66"/>
                          </a:lnTo>
                          <a:lnTo>
                            <a:pt x="123" y="43"/>
                          </a:lnTo>
                          <a:lnTo>
                            <a:pt x="105" y="23"/>
                          </a:lnTo>
                          <a:lnTo>
                            <a:pt x="59" y="18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4729320" y="5900760"/>
                      <a:ext cx="982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30">
                          <a:moveTo>
                            <a:pt x="0" y="30"/>
                          </a:moveTo>
                          <a:lnTo>
                            <a:pt x="25" y="9"/>
                          </a:lnTo>
                          <a:lnTo>
                            <a:pt x="48" y="0"/>
                          </a:lnTo>
                          <a:lnTo>
                            <a:pt x="80" y="1"/>
                          </a:lnTo>
                          <a:lnTo>
                            <a:pt x="110" y="13"/>
                          </a:lnTo>
                          <a:lnTo>
                            <a:pt x="125" y="28"/>
                          </a:lnTo>
                          <a:lnTo>
                            <a:pt x="121" y="30"/>
                          </a:lnTo>
                          <a:lnTo>
                            <a:pt x="95" y="21"/>
                          </a:lnTo>
                          <a:lnTo>
                            <a:pt x="61" y="13"/>
                          </a:lnTo>
                          <a:lnTo>
                            <a:pt x="24" y="25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4635360" y="5927760"/>
                      <a:ext cx="57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0" y="10"/>
                          </a:moveTo>
                          <a:lnTo>
                            <a:pt x="12" y="6"/>
                          </a:lnTo>
                          <a:lnTo>
                            <a:pt x="31" y="1"/>
                          </a:lnTo>
                          <a:lnTo>
                            <a:pt x="44" y="0"/>
                          </a:lnTo>
                          <a:lnTo>
                            <a:pt x="62" y="7"/>
                          </a:lnTo>
                          <a:lnTo>
                            <a:pt x="73" y="14"/>
                          </a:lnTo>
                          <a:lnTo>
                            <a:pt x="56" y="22"/>
                          </a:lnTo>
                          <a:lnTo>
                            <a:pt x="36" y="23"/>
                          </a:lnTo>
                          <a:lnTo>
                            <a:pt x="14" y="21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4746600" y="5925960"/>
                      <a:ext cx="58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73" y="11"/>
                          </a:moveTo>
                          <a:lnTo>
                            <a:pt x="62" y="6"/>
                          </a:lnTo>
                          <a:lnTo>
                            <a:pt x="42" y="0"/>
                          </a:lnTo>
                          <a:lnTo>
                            <a:pt x="29" y="0"/>
                          </a:lnTo>
                          <a:lnTo>
                            <a:pt x="11" y="9"/>
                          </a:lnTo>
                          <a:lnTo>
                            <a:pt x="0" y="15"/>
                          </a:lnTo>
                          <a:lnTo>
                            <a:pt x="18" y="22"/>
                          </a:lnTo>
                          <a:lnTo>
                            <a:pt x="37" y="23"/>
                          </a:lnTo>
                          <a:lnTo>
                            <a:pt x="57" y="21"/>
                          </a:lnTo>
                          <a:lnTo>
                            <a:pt x="73" y="11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0" name=""/>
                  <p:cNvSpPr/>
                  <p:nvPr/>
                </p:nvSpPr>
                <p:spPr>
                  <a:xfrm>
                    <a:off x="4332240" y="5710320"/>
                    <a:ext cx="576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526">
                        <a:moveTo>
                          <a:pt x="361" y="13"/>
                        </a:moveTo>
                        <a:lnTo>
                          <a:pt x="284" y="19"/>
                        </a:lnTo>
                        <a:lnTo>
                          <a:pt x="219" y="51"/>
                        </a:lnTo>
                        <a:lnTo>
                          <a:pt x="141" y="106"/>
                        </a:lnTo>
                        <a:lnTo>
                          <a:pt x="93" y="193"/>
                        </a:lnTo>
                        <a:lnTo>
                          <a:pt x="61" y="253"/>
                        </a:lnTo>
                        <a:lnTo>
                          <a:pt x="19" y="299"/>
                        </a:lnTo>
                        <a:lnTo>
                          <a:pt x="0" y="333"/>
                        </a:lnTo>
                        <a:lnTo>
                          <a:pt x="25" y="386"/>
                        </a:lnTo>
                        <a:lnTo>
                          <a:pt x="60" y="418"/>
                        </a:lnTo>
                        <a:lnTo>
                          <a:pt x="116" y="443"/>
                        </a:lnTo>
                        <a:lnTo>
                          <a:pt x="181" y="469"/>
                        </a:lnTo>
                        <a:lnTo>
                          <a:pt x="206" y="494"/>
                        </a:lnTo>
                        <a:lnTo>
                          <a:pt x="274" y="526"/>
                        </a:lnTo>
                        <a:lnTo>
                          <a:pt x="306" y="511"/>
                        </a:lnTo>
                        <a:lnTo>
                          <a:pt x="289" y="356"/>
                        </a:lnTo>
                        <a:lnTo>
                          <a:pt x="310" y="231"/>
                        </a:lnTo>
                        <a:lnTo>
                          <a:pt x="345" y="147"/>
                        </a:lnTo>
                        <a:lnTo>
                          <a:pt x="406" y="96"/>
                        </a:lnTo>
                        <a:lnTo>
                          <a:pt x="445" y="83"/>
                        </a:lnTo>
                        <a:lnTo>
                          <a:pt x="491" y="87"/>
                        </a:lnTo>
                        <a:lnTo>
                          <a:pt x="535" y="106"/>
                        </a:lnTo>
                        <a:lnTo>
                          <a:pt x="580" y="138"/>
                        </a:lnTo>
                        <a:lnTo>
                          <a:pt x="598" y="166"/>
                        </a:lnTo>
                        <a:lnTo>
                          <a:pt x="616" y="202"/>
                        </a:lnTo>
                        <a:lnTo>
                          <a:pt x="621" y="238"/>
                        </a:lnTo>
                        <a:lnTo>
                          <a:pt x="613" y="266"/>
                        </a:lnTo>
                        <a:lnTo>
                          <a:pt x="613" y="299"/>
                        </a:lnTo>
                        <a:lnTo>
                          <a:pt x="626" y="365"/>
                        </a:lnTo>
                        <a:lnTo>
                          <a:pt x="616" y="405"/>
                        </a:lnTo>
                        <a:lnTo>
                          <a:pt x="616" y="450"/>
                        </a:lnTo>
                        <a:lnTo>
                          <a:pt x="671" y="456"/>
                        </a:lnTo>
                        <a:lnTo>
                          <a:pt x="706" y="439"/>
                        </a:lnTo>
                        <a:lnTo>
                          <a:pt x="725" y="401"/>
                        </a:lnTo>
                        <a:lnTo>
                          <a:pt x="713" y="331"/>
                        </a:lnTo>
                        <a:lnTo>
                          <a:pt x="681" y="263"/>
                        </a:lnTo>
                        <a:lnTo>
                          <a:pt x="632" y="189"/>
                        </a:lnTo>
                        <a:lnTo>
                          <a:pt x="607" y="128"/>
                        </a:lnTo>
                        <a:lnTo>
                          <a:pt x="574" y="79"/>
                        </a:lnTo>
                        <a:lnTo>
                          <a:pt x="544" y="54"/>
                        </a:lnTo>
                        <a:lnTo>
                          <a:pt x="503" y="28"/>
                        </a:lnTo>
                        <a:lnTo>
                          <a:pt x="413" y="0"/>
                        </a:lnTo>
                        <a:lnTo>
                          <a:pt x="361" y="13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249800" y="6089760"/>
                    <a:ext cx="39672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42">
                        <a:moveTo>
                          <a:pt x="300" y="0"/>
                        </a:moveTo>
                        <a:lnTo>
                          <a:pt x="307" y="79"/>
                        </a:lnTo>
                        <a:lnTo>
                          <a:pt x="336" y="153"/>
                        </a:lnTo>
                        <a:lnTo>
                          <a:pt x="378" y="202"/>
                        </a:lnTo>
                        <a:lnTo>
                          <a:pt x="416" y="234"/>
                        </a:lnTo>
                        <a:lnTo>
                          <a:pt x="410" y="295"/>
                        </a:lnTo>
                        <a:lnTo>
                          <a:pt x="446" y="388"/>
                        </a:lnTo>
                        <a:lnTo>
                          <a:pt x="484" y="508"/>
                        </a:lnTo>
                        <a:lnTo>
                          <a:pt x="500" y="642"/>
                        </a:lnTo>
                        <a:lnTo>
                          <a:pt x="209" y="642"/>
                        </a:lnTo>
                        <a:lnTo>
                          <a:pt x="175" y="614"/>
                        </a:lnTo>
                        <a:lnTo>
                          <a:pt x="137" y="570"/>
                        </a:lnTo>
                        <a:lnTo>
                          <a:pt x="104" y="518"/>
                        </a:lnTo>
                        <a:lnTo>
                          <a:pt x="70" y="461"/>
                        </a:lnTo>
                        <a:lnTo>
                          <a:pt x="39" y="392"/>
                        </a:lnTo>
                        <a:lnTo>
                          <a:pt x="15" y="319"/>
                        </a:lnTo>
                        <a:lnTo>
                          <a:pt x="7" y="259"/>
                        </a:lnTo>
                        <a:lnTo>
                          <a:pt x="0" y="227"/>
                        </a:lnTo>
                        <a:lnTo>
                          <a:pt x="68" y="227"/>
                        </a:lnTo>
                        <a:lnTo>
                          <a:pt x="119" y="218"/>
                        </a:lnTo>
                        <a:lnTo>
                          <a:pt x="180" y="170"/>
                        </a:lnTo>
                        <a:lnTo>
                          <a:pt x="230" y="106"/>
                        </a:lnTo>
                        <a:lnTo>
                          <a:pt x="3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>
                <a:off x="3881520" y="6527880"/>
                <a:ext cx="1509480" cy="196920"/>
              </a:xfrm>
              <a:prstGeom prst="rect">
                <a:avLst/>
              </a:prstGeom>
              <a:solidFill>
                <a:srgbClr val="008000"/>
              </a:solidFill>
              <a:ln w="792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3838680" y="5345280"/>
              <a:ext cx="1596960" cy="115560"/>
            </a:xfrm>
            <a:prstGeom prst="rect">
              <a:avLst/>
            </a:prstGeom>
            <a:solidFill>
              <a:srgbClr val="008000"/>
            </a:solidFill>
            <a:ln w="1584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27520" y="5349960"/>
              <a:ext cx="580680" cy="544320"/>
              <a:chOff x="2927520" y="5349960"/>
              <a:chExt cx="580680" cy="544320"/>
            </a:xfrm>
          </p:grpSpPr>
          <p:sp>
            <p:nvSpPr>
              <p:cNvPr id="605" name=""/>
              <p:cNvSpPr/>
              <p:nvPr/>
            </p:nvSpPr>
            <p:spPr>
              <a:xfrm>
                <a:off x="3289320" y="5397480"/>
                <a:ext cx="21888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9" y="259"/>
                    </a:moveTo>
                    <a:lnTo>
                      <a:pt x="17" y="220"/>
                    </a:lnTo>
                    <a:lnTo>
                      <a:pt x="6" y="176"/>
                    </a:lnTo>
                    <a:lnTo>
                      <a:pt x="0" y="121"/>
                    </a:lnTo>
                    <a:lnTo>
                      <a:pt x="13" y="64"/>
                    </a:lnTo>
                    <a:lnTo>
                      <a:pt x="37" y="0"/>
                    </a:lnTo>
                    <a:lnTo>
                      <a:pt x="71" y="58"/>
                    </a:lnTo>
                    <a:lnTo>
                      <a:pt x="90" y="102"/>
                    </a:lnTo>
                    <a:lnTo>
                      <a:pt x="97" y="156"/>
                    </a:lnTo>
                    <a:lnTo>
                      <a:pt x="92" y="216"/>
                    </a:lnTo>
                    <a:lnTo>
                      <a:pt x="84" y="262"/>
                    </a:lnTo>
                    <a:lnTo>
                      <a:pt x="73" y="291"/>
                    </a:lnTo>
                    <a:lnTo>
                      <a:pt x="94" y="262"/>
                    </a:lnTo>
                    <a:lnTo>
                      <a:pt x="130" y="227"/>
                    </a:lnTo>
                    <a:lnTo>
                      <a:pt x="166" y="205"/>
                    </a:lnTo>
                    <a:lnTo>
                      <a:pt x="197" y="189"/>
                    </a:lnTo>
                    <a:lnTo>
                      <a:pt x="240" y="180"/>
                    </a:lnTo>
                    <a:lnTo>
                      <a:pt x="275" y="174"/>
                    </a:lnTo>
                    <a:lnTo>
                      <a:pt x="260" y="215"/>
                    </a:lnTo>
                    <a:lnTo>
                      <a:pt x="243" y="260"/>
                    </a:lnTo>
                    <a:lnTo>
                      <a:pt x="208" y="297"/>
                    </a:lnTo>
                    <a:lnTo>
                      <a:pt x="179" y="319"/>
                    </a:lnTo>
                    <a:lnTo>
                      <a:pt x="130" y="334"/>
                    </a:lnTo>
                    <a:lnTo>
                      <a:pt x="86" y="339"/>
                    </a:lnTo>
                    <a:lnTo>
                      <a:pt x="136" y="364"/>
                    </a:lnTo>
                    <a:lnTo>
                      <a:pt x="171" y="389"/>
                    </a:lnTo>
                    <a:lnTo>
                      <a:pt x="188" y="415"/>
                    </a:lnTo>
                    <a:lnTo>
                      <a:pt x="205" y="445"/>
                    </a:lnTo>
                    <a:lnTo>
                      <a:pt x="207" y="472"/>
                    </a:lnTo>
                    <a:lnTo>
                      <a:pt x="215" y="515"/>
                    </a:lnTo>
                    <a:lnTo>
                      <a:pt x="156" y="495"/>
                    </a:lnTo>
                    <a:lnTo>
                      <a:pt x="118" y="470"/>
                    </a:lnTo>
                    <a:lnTo>
                      <a:pt x="99" y="442"/>
                    </a:lnTo>
                    <a:lnTo>
                      <a:pt x="71" y="388"/>
                    </a:lnTo>
                    <a:lnTo>
                      <a:pt x="94" y="439"/>
                    </a:lnTo>
                    <a:lnTo>
                      <a:pt x="103" y="491"/>
                    </a:lnTo>
                    <a:lnTo>
                      <a:pt x="108" y="527"/>
                    </a:lnTo>
                    <a:lnTo>
                      <a:pt x="102" y="576"/>
                    </a:lnTo>
                    <a:lnTo>
                      <a:pt x="100" y="613"/>
                    </a:lnTo>
                    <a:lnTo>
                      <a:pt x="48" y="566"/>
                    </a:lnTo>
                    <a:lnTo>
                      <a:pt x="21" y="507"/>
                    </a:lnTo>
                    <a:lnTo>
                      <a:pt x="12" y="442"/>
                    </a:lnTo>
                    <a:lnTo>
                      <a:pt x="27" y="377"/>
                    </a:lnTo>
                    <a:lnTo>
                      <a:pt x="27" y="324"/>
                    </a:lnTo>
                    <a:lnTo>
                      <a:pt x="29" y="295"/>
                    </a:lnTo>
                    <a:lnTo>
                      <a:pt x="29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927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7" h="279">
                    <a:moveTo>
                      <a:pt x="79" y="250"/>
                    </a:moveTo>
                    <a:lnTo>
                      <a:pt x="44" y="224"/>
                    </a:lnTo>
                    <a:lnTo>
                      <a:pt x="26" y="199"/>
                    </a:lnTo>
                    <a:lnTo>
                      <a:pt x="11" y="169"/>
                    </a:lnTo>
                    <a:lnTo>
                      <a:pt x="8" y="142"/>
                    </a:lnTo>
                    <a:lnTo>
                      <a:pt x="0" y="99"/>
                    </a:lnTo>
                    <a:lnTo>
                      <a:pt x="59" y="118"/>
                    </a:lnTo>
                    <a:lnTo>
                      <a:pt x="97" y="144"/>
                    </a:lnTo>
                    <a:lnTo>
                      <a:pt x="116" y="170"/>
                    </a:lnTo>
                    <a:lnTo>
                      <a:pt x="145" y="225"/>
                    </a:lnTo>
                    <a:lnTo>
                      <a:pt x="121" y="175"/>
                    </a:lnTo>
                    <a:lnTo>
                      <a:pt x="111" y="123"/>
                    </a:lnTo>
                    <a:lnTo>
                      <a:pt x="108" y="86"/>
                    </a:lnTo>
                    <a:lnTo>
                      <a:pt x="114" y="38"/>
                    </a:lnTo>
                    <a:lnTo>
                      <a:pt x="115" y="0"/>
                    </a:lnTo>
                    <a:lnTo>
                      <a:pt x="164" y="51"/>
                    </a:lnTo>
                    <a:lnTo>
                      <a:pt x="190" y="106"/>
                    </a:lnTo>
                    <a:lnTo>
                      <a:pt x="196" y="170"/>
                    </a:lnTo>
                    <a:lnTo>
                      <a:pt x="197" y="275"/>
                    </a:lnTo>
                    <a:lnTo>
                      <a:pt x="139" y="279"/>
                    </a:lnTo>
                    <a:lnTo>
                      <a:pt x="79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98620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5424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9" y="34"/>
                    </a:moveTo>
                    <a:lnTo>
                      <a:pt x="24" y="34"/>
                    </a:lnTo>
                    <a:lnTo>
                      <a:pt x="44" y="31"/>
                    </a:lnTo>
                    <a:lnTo>
                      <a:pt x="59" y="21"/>
                    </a:lnTo>
                    <a:lnTo>
                      <a:pt x="70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5" y="325"/>
                    </a:lnTo>
                    <a:lnTo>
                      <a:pt x="224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5" y="334"/>
                    </a:lnTo>
                    <a:lnTo>
                      <a:pt x="35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5" y="52"/>
                    </a:lnTo>
                    <a:lnTo>
                      <a:pt x="19" y="47"/>
                    </a:lnTo>
                    <a:lnTo>
                      <a:pt x="9" y="47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770440" y="5349960"/>
              <a:ext cx="581040" cy="544320"/>
              <a:chOff x="5770440" y="5349960"/>
              <a:chExt cx="581040" cy="54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5770440" y="5397480"/>
                <a:ext cx="21744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46" y="259"/>
                    </a:moveTo>
                    <a:lnTo>
                      <a:pt x="259" y="220"/>
                    </a:lnTo>
                    <a:lnTo>
                      <a:pt x="269" y="176"/>
                    </a:lnTo>
                    <a:lnTo>
                      <a:pt x="275" y="121"/>
                    </a:lnTo>
                    <a:lnTo>
                      <a:pt x="263" y="64"/>
                    </a:lnTo>
                    <a:lnTo>
                      <a:pt x="239" y="0"/>
                    </a:lnTo>
                    <a:lnTo>
                      <a:pt x="206" y="58"/>
                    </a:lnTo>
                    <a:lnTo>
                      <a:pt x="186" y="102"/>
                    </a:lnTo>
                    <a:lnTo>
                      <a:pt x="179" y="156"/>
                    </a:lnTo>
                    <a:lnTo>
                      <a:pt x="183" y="216"/>
                    </a:lnTo>
                    <a:lnTo>
                      <a:pt x="191" y="262"/>
                    </a:lnTo>
                    <a:lnTo>
                      <a:pt x="202" y="291"/>
                    </a:lnTo>
                    <a:lnTo>
                      <a:pt x="180" y="262"/>
                    </a:lnTo>
                    <a:lnTo>
                      <a:pt x="146" y="227"/>
                    </a:lnTo>
                    <a:lnTo>
                      <a:pt x="109" y="205"/>
                    </a:lnTo>
                    <a:lnTo>
                      <a:pt x="77" y="189"/>
                    </a:lnTo>
                    <a:lnTo>
                      <a:pt x="34" y="180"/>
                    </a:lnTo>
                    <a:lnTo>
                      <a:pt x="0" y="174"/>
                    </a:lnTo>
                    <a:lnTo>
                      <a:pt x="16" y="215"/>
                    </a:lnTo>
                    <a:lnTo>
                      <a:pt x="32" y="260"/>
                    </a:lnTo>
                    <a:lnTo>
                      <a:pt x="67" y="297"/>
                    </a:lnTo>
                    <a:lnTo>
                      <a:pt x="95" y="319"/>
                    </a:lnTo>
                    <a:lnTo>
                      <a:pt x="146" y="334"/>
                    </a:lnTo>
                    <a:lnTo>
                      <a:pt x="190" y="339"/>
                    </a:lnTo>
                    <a:lnTo>
                      <a:pt x="138" y="364"/>
                    </a:lnTo>
                    <a:lnTo>
                      <a:pt x="105" y="389"/>
                    </a:lnTo>
                    <a:lnTo>
                      <a:pt x="87" y="415"/>
                    </a:lnTo>
                    <a:lnTo>
                      <a:pt x="71" y="445"/>
                    </a:lnTo>
                    <a:lnTo>
                      <a:pt x="69" y="472"/>
                    </a:lnTo>
                    <a:lnTo>
                      <a:pt x="61" y="515"/>
                    </a:lnTo>
                    <a:lnTo>
                      <a:pt x="119" y="495"/>
                    </a:lnTo>
                    <a:lnTo>
                      <a:pt x="158" y="470"/>
                    </a:lnTo>
                    <a:lnTo>
                      <a:pt x="177" y="442"/>
                    </a:lnTo>
                    <a:lnTo>
                      <a:pt x="206" y="388"/>
                    </a:lnTo>
                    <a:lnTo>
                      <a:pt x="180" y="439"/>
                    </a:lnTo>
                    <a:lnTo>
                      <a:pt x="172" y="491"/>
                    </a:lnTo>
                    <a:lnTo>
                      <a:pt x="168" y="527"/>
                    </a:lnTo>
                    <a:lnTo>
                      <a:pt x="174" y="576"/>
                    </a:lnTo>
                    <a:lnTo>
                      <a:pt x="176" y="613"/>
                    </a:lnTo>
                    <a:lnTo>
                      <a:pt x="228" y="566"/>
                    </a:lnTo>
                    <a:lnTo>
                      <a:pt x="255" y="507"/>
                    </a:lnTo>
                    <a:lnTo>
                      <a:pt x="264" y="442"/>
                    </a:lnTo>
                    <a:lnTo>
                      <a:pt x="249" y="377"/>
                    </a:lnTo>
                    <a:lnTo>
                      <a:pt x="247" y="324"/>
                    </a:lnTo>
                    <a:lnTo>
                      <a:pt x="246" y="295"/>
                    </a:lnTo>
                    <a:lnTo>
                      <a:pt x="246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94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9" h="279">
                    <a:moveTo>
                      <a:pt x="120" y="250"/>
                    </a:moveTo>
                    <a:lnTo>
                      <a:pt x="155" y="224"/>
                    </a:lnTo>
                    <a:lnTo>
                      <a:pt x="172" y="199"/>
                    </a:lnTo>
                    <a:lnTo>
                      <a:pt x="188" y="169"/>
                    </a:lnTo>
                    <a:lnTo>
                      <a:pt x="189" y="142"/>
                    </a:lnTo>
                    <a:lnTo>
                      <a:pt x="199" y="99"/>
                    </a:lnTo>
                    <a:lnTo>
                      <a:pt x="139" y="118"/>
                    </a:lnTo>
                    <a:lnTo>
                      <a:pt x="102" y="144"/>
                    </a:lnTo>
                    <a:lnTo>
                      <a:pt x="83" y="170"/>
                    </a:lnTo>
                    <a:lnTo>
                      <a:pt x="53" y="225"/>
                    </a:lnTo>
                    <a:lnTo>
                      <a:pt x="78" y="175"/>
                    </a:lnTo>
                    <a:lnTo>
                      <a:pt x="87" y="123"/>
                    </a:lnTo>
                    <a:lnTo>
                      <a:pt x="91" y="86"/>
                    </a:lnTo>
                    <a:lnTo>
                      <a:pt x="84" y="38"/>
                    </a:lnTo>
                    <a:lnTo>
                      <a:pt x="83" y="0"/>
                    </a:lnTo>
                    <a:lnTo>
                      <a:pt x="34" y="51"/>
                    </a:lnTo>
                    <a:lnTo>
                      <a:pt x="9" y="106"/>
                    </a:lnTo>
                    <a:lnTo>
                      <a:pt x="2" y="170"/>
                    </a:lnTo>
                    <a:lnTo>
                      <a:pt x="0" y="275"/>
                    </a:lnTo>
                    <a:lnTo>
                      <a:pt x="60" y="279"/>
                    </a:lnTo>
                    <a:lnTo>
                      <a:pt x="120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6592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03576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8" y="34"/>
                    </a:moveTo>
                    <a:lnTo>
                      <a:pt x="23" y="34"/>
                    </a:lnTo>
                    <a:lnTo>
                      <a:pt x="44" y="31"/>
                    </a:lnTo>
                    <a:lnTo>
                      <a:pt x="58" y="21"/>
                    </a:lnTo>
                    <a:lnTo>
                      <a:pt x="69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4" y="325"/>
                    </a:lnTo>
                    <a:lnTo>
                      <a:pt x="223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4" y="334"/>
                    </a:lnTo>
                    <a:lnTo>
                      <a:pt x="34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4" y="52"/>
                    </a:lnTo>
                    <a:lnTo>
                      <a:pt x="19" y="47"/>
                    </a:lnTo>
                    <a:lnTo>
                      <a:pt x="8" y="4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933640" y="6342120"/>
              <a:ext cx="31104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71800" y="6383160"/>
              <a:ext cx="236520" cy="27972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29040" y="6432480"/>
              <a:ext cx="120600" cy="179280"/>
            </a:xfrm>
            <a:custGeom>
              <a:avLst/>
              <a:gdLst/>
              <a:ahLst/>
              <a:rect l="l" t="t" r="r" b="b"/>
              <a:pathLst>
                <a:path w="152" h="225">
                  <a:moveTo>
                    <a:pt x="5" y="24"/>
                  </a:moveTo>
                  <a:lnTo>
                    <a:pt x="16" y="24"/>
                  </a:lnTo>
                  <a:lnTo>
                    <a:pt x="28" y="20"/>
                  </a:lnTo>
                  <a:lnTo>
                    <a:pt x="37" y="14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3" y="200"/>
                  </a:lnTo>
                  <a:lnTo>
                    <a:pt x="130" y="208"/>
                  </a:lnTo>
                  <a:lnTo>
                    <a:pt x="142" y="214"/>
                  </a:lnTo>
                  <a:lnTo>
                    <a:pt x="152" y="214"/>
                  </a:lnTo>
                  <a:lnTo>
                    <a:pt x="152" y="225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8" y="214"/>
                  </a:lnTo>
                  <a:lnTo>
                    <a:pt x="22" y="208"/>
                  </a:lnTo>
                  <a:lnTo>
                    <a:pt x="28" y="200"/>
                  </a:lnTo>
                  <a:lnTo>
                    <a:pt x="31" y="189"/>
                  </a:lnTo>
                  <a:lnTo>
                    <a:pt x="31" y="49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51600" y="6348240"/>
              <a:ext cx="30960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7960" y="6389640"/>
              <a:ext cx="236520" cy="279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5200" y="644040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5" y="23"/>
                  </a:moveTo>
                  <a:lnTo>
                    <a:pt x="16" y="23"/>
                  </a:lnTo>
                  <a:lnTo>
                    <a:pt x="28" y="21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51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4" y="201"/>
                  </a:lnTo>
                  <a:lnTo>
                    <a:pt x="131" y="208"/>
                  </a:lnTo>
                  <a:lnTo>
                    <a:pt x="144" y="214"/>
                  </a:lnTo>
                  <a:lnTo>
                    <a:pt x="152" y="214"/>
                  </a:lnTo>
                  <a:lnTo>
                    <a:pt x="152" y="22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9" y="214"/>
                  </a:lnTo>
                  <a:lnTo>
                    <a:pt x="22" y="208"/>
                  </a:lnTo>
                  <a:lnTo>
                    <a:pt x="28" y="201"/>
                  </a:lnTo>
                  <a:lnTo>
                    <a:pt x="31" y="189"/>
                  </a:lnTo>
                  <a:lnTo>
                    <a:pt x="31" y="48"/>
                  </a:lnTo>
                  <a:lnTo>
                    <a:pt x="28" y="41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591000" y="5872320"/>
              <a:ext cx="328680" cy="325440"/>
              <a:chOff x="3591000" y="5872320"/>
              <a:chExt cx="328680" cy="325440"/>
            </a:xfrm>
          </p:grpSpPr>
          <p:sp>
            <p:nvSpPr>
              <p:cNvPr id="621" name=""/>
              <p:cNvSpPr/>
              <p:nvPr/>
            </p:nvSpPr>
            <p:spPr>
              <a:xfrm>
                <a:off x="3591000" y="5872320"/>
                <a:ext cx="328680" cy="325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56160" y="5935680"/>
                <a:ext cx="198360" cy="196920"/>
              </a:xfrm>
              <a:prstGeom prst="ellipse">
                <a:avLst/>
              </a:prstGeom>
              <a:solidFill>
                <a:srgbClr val="9fff9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354640" y="5911920"/>
              <a:ext cx="328680" cy="326880"/>
              <a:chOff x="5354640" y="5911920"/>
              <a:chExt cx="328680" cy="326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354640" y="5911920"/>
                <a:ext cx="328680" cy="326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18000" y="5975280"/>
                <a:ext cx="200160" cy="198360"/>
              </a:xfrm>
              <a:prstGeom prst="ellipse">
                <a:avLst/>
              </a:prstGeom>
              <a:solidFill>
                <a:srgbClr val="bfffb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973680" y="6562800"/>
              <a:ext cx="1314360" cy="135000"/>
              <a:chOff x="3973680" y="6562800"/>
              <a:chExt cx="1314360" cy="13500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5154480" y="6562800"/>
                <a:ext cx="133560" cy="129960"/>
                <a:chOff x="5154480" y="6562800"/>
                <a:chExt cx="133560" cy="1299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154480" y="6562800"/>
                  <a:ext cx="133560" cy="129960"/>
                </a:xfrm>
                <a:custGeom>
                  <a:avLst/>
                  <a:gdLst/>
                  <a:ahLst/>
                  <a:rect l="l" t="t" r="r" b="b"/>
                  <a:pathLst>
                    <a:path w="170" h="165">
                      <a:moveTo>
                        <a:pt x="0" y="0"/>
                      </a:moveTo>
                      <a:lnTo>
                        <a:pt x="115" y="0"/>
                      </a:lnTo>
                      <a:lnTo>
                        <a:pt x="134" y="6"/>
                      </a:lnTo>
                      <a:lnTo>
                        <a:pt x="146" y="16"/>
                      </a:lnTo>
                      <a:lnTo>
                        <a:pt x="152" y="32"/>
                      </a:lnTo>
                      <a:lnTo>
                        <a:pt x="152" y="62"/>
                      </a:lnTo>
                      <a:lnTo>
                        <a:pt x="144" y="79"/>
                      </a:lnTo>
                      <a:lnTo>
                        <a:pt x="130" y="88"/>
                      </a:lnTo>
                      <a:lnTo>
                        <a:pt x="115" y="92"/>
                      </a:lnTo>
                      <a:lnTo>
                        <a:pt x="130" y="99"/>
                      </a:lnTo>
                      <a:lnTo>
                        <a:pt x="144" y="107"/>
                      </a:lnTo>
                      <a:lnTo>
                        <a:pt x="152" y="124"/>
                      </a:lnTo>
                      <a:lnTo>
                        <a:pt x="158" y="140"/>
                      </a:lnTo>
                      <a:lnTo>
                        <a:pt x="160" y="154"/>
                      </a:lnTo>
                      <a:lnTo>
                        <a:pt x="170" y="154"/>
                      </a:lnTo>
                      <a:lnTo>
                        <a:pt x="170" y="165"/>
                      </a:lnTo>
                      <a:lnTo>
                        <a:pt x="104" y="165"/>
                      </a:lnTo>
                      <a:lnTo>
                        <a:pt x="104" y="154"/>
                      </a:lnTo>
                      <a:lnTo>
                        <a:pt x="115" y="154"/>
                      </a:lnTo>
                      <a:lnTo>
                        <a:pt x="113" y="137"/>
                      </a:lnTo>
                      <a:lnTo>
                        <a:pt x="105" y="124"/>
                      </a:lnTo>
                      <a:lnTo>
                        <a:pt x="96" y="111"/>
                      </a:lnTo>
                      <a:lnTo>
                        <a:pt x="86" y="100"/>
                      </a:lnTo>
                      <a:lnTo>
                        <a:pt x="71" y="92"/>
                      </a:lnTo>
                      <a:lnTo>
                        <a:pt x="71" y="154"/>
                      </a:lnTo>
                      <a:lnTo>
                        <a:pt x="86" y="154"/>
                      </a:lnTo>
                      <a:lnTo>
                        <a:pt x="86" y="165"/>
                      </a:lnTo>
                      <a:lnTo>
                        <a:pt x="2" y="165"/>
                      </a:lnTo>
                      <a:lnTo>
                        <a:pt x="2" y="154"/>
                      </a:lnTo>
                      <a:lnTo>
                        <a:pt x="19" y="154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210280" y="6583320"/>
                  <a:ext cx="23760" cy="33480"/>
                </a:xfrm>
                <a:custGeom>
                  <a:avLst/>
                  <a:gdLst/>
                  <a:ahLst/>
                  <a:rect l="l" t="t" r="r" b="b"/>
                  <a:pathLst>
                    <a:path w="30" h="40">
                      <a:moveTo>
                        <a:pt x="0" y="0"/>
                      </a:moveTo>
                      <a:lnTo>
                        <a:pt x="0" y="40"/>
                      </a:lnTo>
                      <a:lnTo>
                        <a:pt x="15" y="40"/>
                      </a:lnTo>
                      <a:lnTo>
                        <a:pt x="24" y="37"/>
                      </a:lnTo>
                      <a:lnTo>
                        <a:pt x="30" y="27"/>
                      </a:lnTo>
                      <a:lnTo>
                        <a:pt x="30" y="14"/>
                      </a:lnTo>
                      <a:lnTo>
                        <a:pt x="24" y="4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3973680" y="6562800"/>
                <a:ext cx="129960" cy="135000"/>
                <a:chOff x="3973680" y="6562800"/>
                <a:chExt cx="129960" cy="1350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973680" y="6562800"/>
                  <a:ext cx="129960" cy="135000"/>
                </a:xfrm>
                <a:custGeom>
                  <a:avLst/>
                  <a:gdLst/>
                  <a:ahLst/>
                  <a:rect l="l" t="t" r="r" b="b"/>
                  <a:pathLst>
                    <a:path w="164" h="172">
                      <a:moveTo>
                        <a:pt x="49" y="0"/>
                      </a:moveTo>
                      <a:lnTo>
                        <a:pt x="112" y="0"/>
                      </a:lnTo>
                      <a:lnTo>
                        <a:pt x="127" y="6"/>
                      </a:lnTo>
                      <a:lnTo>
                        <a:pt x="149" y="24"/>
                      </a:lnTo>
                      <a:lnTo>
                        <a:pt x="159" y="44"/>
                      </a:lnTo>
                      <a:lnTo>
                        <a:pt x="164" y="70"/>
                      </a:lnTo>
                      <a:lnTo>
                        <a:pt x="164" y="99"/>
                      </a:lnTo>
                      <a:lnTo>
                        <a:pt x="159" y="125"/>
                      </a:lnTo>
                      <a:lnTo>
                        <a:pt x="149" y="146"/>
                      </a:lnTo>
                      <a:lnTo>
                        <a:pt x="122" y="165"/>
                      </a:lnTo>
                      <a:lnTo>
                        <a:pt x="109" y="172"/>
                      </a:lnTo>
                      <a:lnTo>
                        <a:pt x="49" y="172"/>
                      </a:lnTo>
                      <a:lnTo>
                        <a:pt x="36" y="165"/>
                      </a:lnTo>
                      <a:lnTo>
                        <a:pt x="12" y="148"/>
                      </a:lnTo>
                      <a:lnTo>
                        <a:pt x="3" y="129"/>
                      </a:lnTo>
                      <a:lnTo>
                        <a:pt x="0" y="105"/>
                      </a:lnTo>
                      <a:lnTo>
                        <a:pt x="0" y="70"/>
                      </a:lnTo>
                      <a:lnTo>
                        <a:pt x="3" y="44"/>
                      </a:lnTo>
                      <a:lnTo>
                        <a:pt x="12" y="24"/>
                      </a:lnTo>
                      <a:lnTo>
                        <a:pt x="36" y="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21200" y="6578640"/>
                  <a:ext cx="33120" cy="104760"/>
                </a:xfrm>
                <a:custGeom>
                  <a:avLst/>
                  <a:gdLst/>
                  <a:ahLst/>
                  <a:rect l="l" t="t" r="r" b="b"/>
                  <a:pathLst>
                    <a:path w="41" h="134">
                      <a:moveTo>
                        <a:pt x="14" y="0"/>
                      </a:move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4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4"/>
                      </a:lnTo>
                      <a:lnTo>
                        <a:pt x="41" y="112"/>
                      </a:lnTo>
                      <a:lnTo>
                        <a:pt x="41" y="22"/>
                      </a:lnTo>
                      <a:lnTo>
                        <a:pt x="39" y="11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08320" y="6567480"/>
                <a:ext cx="276480" cy="130320"/>
                <a:chOff x="4108320" y="6567480"/>
                <a:chExt cx="276480" cy="1303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08320" y="6567480"/>
                  <a:ext cx="147600" cy="130320"/>
                </a:xfrm>
                <a:custGeom>
                  <a:avLst/>
                  <a:gdLst/>
                  <a:ahLst/>
                  <a:rect l="l" t="t" r="r" b="b"/>
                  <a:pathLst>
                    <a:path w="187" h="166">
                      <a:moveTo>
                        <a:pt x="4" y="166"/>
                      </a:moveTo>
                      <a:lnTo>
                        <a:pt x="50" y="166"/>
                      </a:lnTo>
                      <a:lnTo>
                        <a:pt x="50" y="153"/>
                      </a:lnTo>
                      <a:lnTo>
                        <a:pt x="35" y="153"/>
                      </a:lnTo>
                      <a:lnTo>
                        <a:pt x="35" y="35"/>
                      </a:lnTo>
                      <a:lnTo>
                        <a:pt x="115" y="166"/>
                      </a:lnTo>
                      <a:lnTo>
                        <a:pt x="168" y="166"/>
                      </a:lnTo>
                      <a:lnTo>
                        <a:pt x="168" y="13"/>
                      </a:lnTo>
                      <a:lnTo>
                        <a:pt x="187" y="13"/>
                      </a:lnTo>
                      <a:lnTo>
                        <a:pt x="187" y="0"/>
                      </a:lnTo>
                      <a:lnTo>
                        <a:pt x="135" y="0"/>
                      </a:lnTo>
                      <a:lnTo>
                        <a:pt x="135" y="13"/>
                      </a:lnTo>
                      <a:lnTo>
                        <a:pt x="152" y="13"/>
                      </a:lnTo>
                      <a:lnTo>
                        <a:pt x="152" y="110"/>
                      </a:lnTo>
                      <a:lnTo>
                        <a:pt x="82" y="3"/>
                      </a:lnTo>
                      <a:lnTo>
                        <a:pt x="0" y="3"/>
                      </a:lnTo>
                      <a:lnTo>
                        <a:pt x="0" y="16"/>
                      </a:lnTo>
                      <a:lnTo>
                        <a:pt x="18" y="16"/>
                      </a:lnTo>
                      <a:lnTo>
                        <a:pt x="18" y="153"/>
                      </a:lnTo>
                      <a:lnTo>
                        <a:pt x="4" y="153"/>
                      </a:lnTo>
                      <a:lnTo>
                        <a:pt x="4" y="166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55920" y="6567480"/>
                  <a:ext cx="128880" cy="130320"/>
                </a:xfrm>
                <a:custGeom>
                  <a:avLst/>
                  <a:gdLst/>
                  <a:ahLst/>
                  <a:rect l="l" t="t" r="r" b="b"/>
                  <a:pathLst>
                    <a:path w="162" h="166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8" y="45"/>
                      </a:lnTo>
                      <a:lnTo>
                        <a:pt x="146" y="45"/>
                      </a:lnTo>
                      <a:lnTo>
                        <a:pt x="97" y="13"/>
                      </a:lnTo>
                      <a:lnTo>
                        <a:pt x="71" y="13"/>
                      </a:lnTo>
                      <a:lnTo>
                        <a:pt x="71" y="78"/>
                      </a:lnTo>
                      <a:lnTo>
                        <a:pt x="94" y="78"/>
                      </a:lnTo>
                      <a:lnTo>
                        <a:pt x="121" y="49"/>
                      </a:lnTo>
                      <a:lnTo>
                        <a:pt x="121" y="119"/>
                      </a:lnTo>
                      <a:lnTo>
                        <a:pt x="94" y="91"/>
                      </a:lnTo>
                      <a:lnTo>
                        <a:pt x="71" y="91"/>
                      </a:lnTo>
                      <a:lnTo>
                        <a:pt x="71" y="147"/>
                      </a:lnTo>
                      <a:lnTo>
                        <a:pt x="97" y="147"/>
                      </a:lnTo>
                      <a:lnTo>
                        <a:pt x="152" y="119"/>
                      </a:lnTo>
                      <a:lnTo>
                        <a:pt x="162" y="119"/>
                      </a:lnTo>
                      <a:lnTo>
                        <a:pt x="162" y="166"/>
                      </a:lnTo>
                      <a:lnTo>
                        <a:pt x="3" y="166"/>
                      </a:lnTo>
                      <a:lnTo>
                        <a:pt x="3" y="156"/>
                      </a:lnTo>
                      <a:lnTo>
                        <a:pt x="19" y="156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4606920" y="6562800"/>
                <a:ext cx="128520" cy="133200"/>
                <a:chOff x="4606920" y="6562800"/>
                <a:chExt cx="128520" cy="133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606920" y="6562800"/>
                  <a:ext cx="128520" cy="13320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48" y="0"/>
                      </a:moveTo>
                      <a:lnTo>
                        <a:pt x="112" y="0"/>
                      </a:lnTo>
                      <a:lnTo>
                        <a:pt x="124" y="6"/>
                      </a:lnTo>
                      <a:lnTo>
                        <a:pt x="147" y="23"/>
                      </a:lnTo>
                      <a:lnTo>
                        <a:pt x="157" y="43"/>
                      </a:lnTo>
                      <a:lnTo>
                        <a:pt x="161" y="69"/>
                      </a:lnTo>
                      <a:lnTo>
                        <a:pt x="161" y="95"/>
                      </a:lnTo>
                      <a:lnTo>
                        <a:pt x="157" y="122"/>
                      </a:lnTo>
                      <a:lnTo>
                        <a:pt x="147" y="143"/>
                      </a:lnTo>
                      <a:lnTo>
                        <a:pt x="122" y="162"/>
                      </a:lnTo>
                      <a:lnTo>
                        <a:pt x="108" y="168"/>
                      </a:lnTo>
                      <a:lnTo>
                        <a:pt x="48" y="168"/>
                      </a:lnTo>
                      <a:lnTo>
                        <a:pt x="36" y="162"/>
                      </a:lnTo>
                      <a:lnTo>
                        <a:pt x="14" y="146"/>
                      </a:lnTo>
                      <a:lnTo>
                        <a:pt x="5" y="125"/>
                      </a:lnTo>
                      <a:lnTo>
                        <a:pt x="0" y="103"/>
                      </a:lnTo>
                      <a:lnTo>
                        <a:pt x="0" y="69"/>
                      </a:lnTo>
                      <a:lnTo>
                        <a:pt x="5" y="43"/>
                      </a:lnTo>
                      <a:lnTo>
                        <a:pt x="14" y="23"/>
                      </a:lnTo>
                      <a:lnTo>
                        <a:pt x="36" y="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654440" y="6576840"/>
                  <a:ext cx="33480" cy="106560"/>
                </a:xfrm>
                <a:custGeom>
                  <a:avLst/>
                  <a:gdLst/>
                  <a:ahLst/>
                  <a:rect l="l" t="t" r="r" b="b"/>
                  <a:pathLst>
                    <a:path w="43" h="134">
                      <a:moveTo>
                        <a:pt x="14" y="0"/>
                      </a:moveTo>
                      <a:lnTo>
                        <a:pt x="4" y="12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3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3"/>
                      </a:lnTo>
                      <a:lnTo>
                        <a:pt x="43" y="112"/>
                      </a:lnTo>
                      <a:lnTo>
                        <a:pt x="43" y="22"/>
                      </a:lnTo>
                      <a:lnTo>
                        <a:pt x="39" y="12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741920" y="6562800"/>
                <a:ext cx="241200" cy="129960"/>
                <a:chOff x="4741920" y="6562800"/>
                <a:chExt cx="241200" cy="129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7419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3" h="165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95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5" y="146"/>
                      </a:lnTo>
                      <a:lnTo>
                        <a:pt x="136" y="121"/>
                      </a:lnTo>
                      <a:lnTo>
                        <a:pt x="153" y="121"/>
                      </a:lnTo>
                      <a:lnTo>
                        <a:pt x="153" y="165"/>
                      </a:lnTo>
                      <a:lnTo>
                        <a:pt x="3" y="165"/>
                      </a:lnTo>
                      <a:lnTo>
                        <a:pt x="3" y="155"/>
                      </a:lnTo>
                      <a:lnTo>
                        <a:pt x="18" y="155"/>
                      </a:lnTo>
                      <a:lnTo>
                        <a:pt x="18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8625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1" h="165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6" y="146"/>
                      </a:lnTo>
                      <a:lnTo>
                        <a:pt x="135" y="121"/>
                      </a:lnTo>
                      <a:lnTo>
                        <a:pt x="151" y="121"/>
                      </a:lnTo>
                      <a:lnTo>
                        <a:pt x="151" y="165"/>
                      </a:lnTo>
                      <a:lnTo>
                        <a:pt x="2" y="165"/>
                      </a:lnTo>
                      <a:lnTo>
                        <a:pt x="2" y="155"/>
                      </a:lnTo>
                      <a:lnTo>
                        <a:pt x="17" y="155"/>
                      </a:lnTo>
                      <a:lnTo>
                        <a:pt x="17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979880" y="6564240"/>
                <a:ext cx="176400" cy="130320"/>
                <a:chOff x="4979880" y="6564240"/>
                <a:chExt cx="176400" cy="1303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979880" y="6564240"/>
                  <a:ext cx="176400" cy="130320"/>
                </a:xfrm>
                <a:custGeom>
                  <a:avLst/>
                  <a:gdLst/>
                  <a:ahLst/>
                  <a:rect l="l" t="t" r="r" b="b"/>
                  <a:pathLst>
                    <a:path w="221" h="164">
                      <a:moveTo>
                        <a:pt x="130" y="0"/>
                      </a:moveTo>
                      <a:lnTo>
                        <a:pt x="205" y="151"/>
                      </a:lnTo>
                      <a:lnTo>
                        <a:pt x="221" y="151"/>
                      </a:lnTo>
                      <a:lnTo>
                        <a:pt x="221" y="164"/>
                      </a:lnTo>
                      <a:lnTo>
                        <a:pt x="102" y="164"/>
                      </a:lnTo>
                      <a:lnTo>
                        <a:pt x="102" y="151"/>
                      </a:lnTo>
                      <a:lnTo>
                        <a:pt x="116" y="151"/>
                      </a:lnTo>
                      <a:lnTo>
                        <a:pt x="99" y="104"/>
                      </a:lnTo>
                      <a:lnTo>
                        <a:pt x="56" y="103"/>
                      </a:lnTo>
                      <a:lnTo>
                        <a:pt x="36" y="151"/>
                      </a:lnTo>
                      <a:lnTo>
                        <a:pt x="59" y="151"/>
                      </a:lnTo>
                      <a:lnTo>
                        <a:pt x="59" y="164"/>
                      </a:lnTo>
                      <a:lnTo>
                        <a:pt x="0" y="164"/>
                      </a:lnTo>
                      <a:lnTo>
                        <a:pt x="0" y="151"/>
                      </a:lnTo>
                      <a:lnTo>
                        <a:pt x="16" y="151"/>
                      </a:lnTo>
                      <a:lnTo>
                        <a:pt x="75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29200" y="6597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17" y="0"/>
                      </a:moveTo>
                      <a:lnTo>
                        <a:pt x="0" y="45"/>
                      </a:lnTo>
                      <a:lnTo>
                        <a:pt x="33" y="4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444920" y="6567480"/>
                <a:ext cx="149400" cy="128520"/>
                <a:chOff x="4444920" y="6567480"/>
                <a:chExt cx="149400" cy="12852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4444920" y="6567480"/>
                  <a:ext cx="149400" cy="128520"/>
                </a:xfrm>
                <a:custGeom>
                  <a:avLst/>
                  <a:gdLst/>
                  <a:ahLst/>
                  <a:rect l="l" t="t" r="r" b="b"/>
                  <a:pathLst>
                    <a:path w="189" h="162">
                      <a:moveTo>
                        <a:pt x="74" y="0"/>
                      </a:moveTo>
                      <a:lnTo>
                        <a:pt x="138" y="0"/>
                      </a:lnTo>
                      <a:lnTo>
                        <a:pt x="152" y="7"/>
                      </a:lnTo>
                      <a:lnTo>
                        <a:pt x="176" y="23"/>
                      </a:lnTo>
                      <a:lnTo>
                        <a:pt x="184" y="42"/>
                      </a:lnTo>
                      <a:lnTo>
                        <a:pt x="189" y="67"/>
                      </a:lnTo>
                      <a:lnTo>
                        <a:pt x="189" y="93"/>
                      </a:lnTo>
                      <a:lnTo>
                        <a:pt x="184" y="118"/>
                      </a:lnTo>
                      <a:lnTo>
                        <a:pt x="176" y="137"/>
                      </a:lnTo>
                      <a:lnTo>
                        <a:pt x="147" y="157"/>
                      </a:lnTo>
                      <a:lnTo>
                        <a:pt x="134" y="162"/>
                      </a:lnTo>
                      <a:lnTo>
                        <a:pt x="74" y="162"/>
                      </a:lnTo>
                      <a:lnTo>
                        <a:pt x="0" y="162"/>
                      </a:lnTo>
                      <a:lnTo>
                        <a:pt x="2" y="147"/>
                      </a:lnTo>
                      <a:lnTo>
                        <a:pt x="24" y="147"/>
                      </a:lnTo>
                      <a:lnTo>
                        <a:pt x="24" y="99"/>
                      </a:lnTo>
                      <a:lnTo>
                        <a:pt x="24" y="67"/>
                      </a:lnTo>
                      <a:lnTo>
                        <a:pt x="24" y="42"/>
                      </a:lnTo>
                      <a:lnTo>
                        <a:pt x="24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510080" y="6583320"/>
                  <a:ext cx="36360" cy="100080"/>
                </a:xfrm>
                <a:custGeom>
                  <a:avLst/>
                  <a:gdLst/>
                  <a:ahLst/>
                  <a:rect l="l" t="t" r="r" b="b"/>
                  <a:pathLst>
                    <a:path w="44" h="127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127"/>
                      </a:lnTo>
                      <a:lnTo>
                        <a:pt x="15" y="127"/>
                      </a:lnTo>
                      <a:lnTo>
                        <a:pt x="31" y="127"/>
                      </a:lnTo>
                      <a:lnTo>
                        <a:pt x="41" y="117"/>
                      </a:lnTo>
                      <a:lnTo>
                        <a:pt x="44" y="106"/>
                      </a:lnTo>
                      <a:lnTo>
                        <a:pt x="44" y="21"/>
                      </a:lnTo>
                      <a:lnTo>
                        <a:pt x="41" y="10"/>
                      </a:lnTo>
                      <a:lnTo>
                        <a:pt x="3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"/>
            <p:cNvGrpSpPr/>
            <p:nvPr/>
          </p:nvGrpSpPr>
          <p:grpSpPr>
            <a:xfrm>
              <a:off x="3592440" y="5500800"/>
              <a:ext cx="2098800" cy="115920"/>
              <a:chOff x="3592440" y="5500800"/>
              <a:chExt cx="2098800" cy="11592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3592440" y="5500800"/>
                <a:ext cx="231840" cy="115920"/>
                <a:chOff x="3592440" y="5500800"/>
                <a:chExt cx="231840" cy="1159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59244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6" y="147"/>
                      </a:lnTo>
                      <a:lnTo>
                        <a:pt x="26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66552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9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7"/>
                      </a:lnTo>
                      <a:lnTo>
                        <a:pt x="72" y="57"/>
                      </a:lnTo>
                      <a:lnTo>
                        <a:pt x="72" y="0"/>
                      </a:lnTo>
                      <a:lnTo>
                        <a:pt x="109" y="0"/>
                      </a:lnTo>
                      <a:lnTo>
                        <a:pt x="109" y="147"/>
                      </a:lnTo>
                      <a:lnTo>
                        <a:pt x="72" y="147"/>
                      </a:lnTo>
                      <a:lnTo>
                        <a:pt x="72" y="85"/>
                      </a:lnTo>
                      <a:lnTo>
                        <a:pt x="36" y="85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76092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1" y="85"/>
                      </a:lnTo>
                      <a:lnTo>
                        <a:pt x="41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3875040" y="5500800"/>
                <a:ext cx="452520" cy="115920"/>
                <a:chOff x="3875040" y="5500800"/>
                <a:chExt cx="452520" cy="1159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3875040" y="5500800"/>
                  <a:ext cx="77760" cy="115920"/>
                </a:xfrm>
                <a:custGeom>
                  <a:avLst/>
                  <a:gdLst/>
                  <a:ahLst/>
                  <a:rect l="l" t="t" r="r" b="b"/>
                  <a:pathLst>
                    <a:path w="98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118"/>
                      </a:lnTo>
                      <a:lnTo>
                        <a:pt x="62" y="118"/>
                      </a:lnTo>
                      <a:lnTo>
                        <a:pt x="62" y="0"/>
                      </a:lnTo>
                      <a:lnTo>
                        <a:pt x="98" y="0"/>
                      </a:lnTo>
                      <a:lnTo>
                        <a:pt x="98" y="127"/>
                      </a:lnTo>
                      <a:lnTo>
                        <a:pt x="72" y="147"/>
                      </a:lnTo>
                      <a:lnTo>
                        <a:pt x="26" y="147"/>
                      </a:lnTo>
                      <a:lnTo>
                        <a:pt x="0" y="1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96396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67" y="69"/>
                      </a:lnTo>
                      <a:lnTo>
                        <a:pt x="67" y="0"/>
                      </a:lnTo>
                      <a:lnTo>
                        <a:pt x="106" y="0"/>
                      </a:lnTo>
                      <a:lnTo>
                        <a:pt x="106" y="147"/>
                      </a:lnTo>
                      <a:lnTo>
                        <a:pt x="67" y="147"/>
                      </a:lnTo>
                      <a:lnTo>
                        <a:pt x="40" y="76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060800" y="5500800"/>
                  <a:ext cx="2844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09896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3" y="29"/>
                      </a:lnTo>
                      <a:lnTo>
                        <a:pt x="63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17528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48000" y="5500800"/>
                  <a:ext cx="79560" cy="115920"/>
                </a:xfrm>
                <a:custGeom>
                  <a:avLst/>
                  <a:gdLst/>
                  <a:ahLst/>
                  <a:rect l="l" t="t" r="r" b="b"/>
                  <a:pathLst>
                    <a:path w="99" h="14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99" y="20"/>
                      </a:lnTo>
                      <a:lnTo>
                        <a:pt x="99" y="127"/>
                      </a:lnTo>
                      <a:lnTo>
                        <a:pt x="76" y="147"/>
                      </a:lnTo>
                      <a:lnTo>
                        <a:pt x="0" y="147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5" y="118"/>
                      </a:lnTo>
                      <a:lnTo>
                        <a:pt x="58" y="118"/>
                      </a:lnTo>
                      <a:lnTo>
                        <a:pt x="58" y="28"/>
                      </a:lnTo>
                      <a:lnTo>
                        <a:pt x="35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386240" y="5500800"/>
                <a:ext cx="457200" cy="115920"/>
                <a:chOff x="4386240" y="5500800"/>
                <a:chExt cx="457200" cy="1159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38624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3" y="20"/>
                      </a:lnTo>
                      <a:lnTo>
                        <a:pt x="93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7" y="61"/>
                      </a:lnTo>
                      <a:lnTo>
                        <a:pt x="65" y="61"/>
                      </a:lnTo>
                      <a:lnTo>
                        <a:pt x="93" y="82"/>
                      </a:lnTo>
                      <a:lnTo>
                        <a:pt x="93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1" y="102"/>
                      </a:lnTo>
                      <a:lnTo>
                        <a:pt x="31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68680" y="5500800"/>
                  <a:ext cx="6696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27720" y="5500800"/>
                  <a:ext cx="9180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6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1160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3" h="147">
                      <a:moveTo>
                        <a:pt x="0" y="0"/>
                      </a:moveTo>
                      <a:lnTo>
                        <a:pt x="83" y="0"/>
                      </a:lnTo>
                      <a:lnTo>
                        <a:pt x="83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69116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76892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5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5" y="20"/>
                      </a:lnTo>
                      <a:lnTo>
                        <a:pt x="95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8" y="61"/>
                      </a:lnTo>
                      <a:lnTo>
                        <a:pt x="65" y="61"/>
                      </a:lnTo>
                      <a:lnTo>
                        <a:pt x="95" y="82"/>
                      </a:lnTo>
                      <a:lnTo>
                        <a:pt x="95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2" y="102"/>
                      </a:lnTo>
                      <a:lnTo>
                        <a:pt x="32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4892760" y="5500800"/>
                <a:ext cx="160200" cy="115920"/>
                <a:chOff x="4892760" y="5500800"/>
                <a:chExt cx="160200" cy="1159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892760" y="5500800"/>
                  <a:ext cx="81000" cy="115920"/>
                </a:xfrm>
                <a:custGeom>
                  <a:avLst/>
                  <a:gdLst/>
                  <a:ahLst/>
                  <a:rect l="l" t="t" r="r" b="b"/>
                  <a:pathLst>
                    <a:path w="102" h="147">
                      <a:moveTo>
                        <a:pt x="26" y="0"/>
                      </a:moveTo>
                      <a:lnTo>
                        <a:pt x="75" y="0"/>
                      </a:lnTo>
                      <a:lnTo>
                        <a:pt x="102" y="24"/>
                      </a:lnTo>
                      <a:lnTo>
                        <a:pt x="102" y="122"/>
                      </a:lnTo>
                      <a:lnTo>
                        <a:pt x="75" y="147"/>
                      </a:lnTo>
                      <a:lnTo>
                        <a:pt x="66" y="147"/>
                      </a:lnTo>
                      <a:lnTo>
                        <a:pt x="36" y="147"/>
                      </a:lnTo>
                      <a:lnTo>
                        <a:pt x="26" y="147"/>
                      </a:lnTo>
                      <a:lnTo>
                        <a:pt x="0" y="122"/>
                      </a:lnTo>
                      <a:lnTo>
                        <a:pt x="0" y="118"/>
                      </a:lnTo>
                      <a:lnTo>
                        <a:pt x="39" y="118"/>
                      </a:lnTo>
                      <a:lnTo>
                        <a:pt x="62" y="118"/>
                      </a:lnTo>
                      <a:lnTo>
                        <a:pt x="62" y="28"/>
                      </a:lnTo>
                      <a:lnTo>
                        <a:pt x="39" y="28"/>
                      </a:lnTo>
                      <a:lnTo>
                        <a:pt x="39" y="118"/>
                      </a:lnTo>
                      <a:lnTo>
                        <a:pt x="0" y="118"/>
                      </a:lnTo>
                      <a:lnTo>
                        <a:pt x="0" y="2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98960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7" y="57"/>
                      </a:lnTo>
                      <a:lnTo>
                        <a:pt x="77" y="85"/>
                      </a:lnTo>
                      <a:lnTo>
                        <a:pt x="41" y="85"/>
                      </a:lnTo>
                      <a:lnTo>
                        <a:pt x="41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091120" y="5500800"/>
                <a:ext cx="600120" cy="115920"/>
                <a:chOff x="5091120" y="5500800"/>
                <a:chExt cx="600120" cy="1159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9112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7" y="24"/>
                      </a:lnTo>
                      <a:lnTo>
                        <a:pt x="44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4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186520" y="5500800"/>
                  <a:ext cx="102960" cy="115920"/>
                </a:xfrm>
                <a:custGeom>
                  <a:avLst/>
                  <a:gdLst/>
                  <a:ahLst/>
                  <a:rect l="l" t="t" r="r" b="b"/>
                  <a:pathLst>
                    <a:path w="129" h="147">
                      <a:moveTo>
                        <a:pt x="0" y="147"/>
                      </a:moveTo>
                      <a:lnTo>
                        <a:pt x="37" y="147"/>
                      </a:lnTo>
                      <a:lnTo>
                        <a:pt x="37" y="69"/>
                      </a:lnTo>
                      <a:lnTo>
                        <a:pt x="55" y="147"/>
                      </a:lnTo>
                      <a:lnTo>
                        <a:pt x="74" y="147"/>
                      </a:lnTo>
                      <a:lnTo>
                        <a:pt x="93" y="69"/>
                      </a:lnTo>
                      <a:lnTo>
                        <a:pt x="93" y="147"/>
                      </a:lnTo>
                      <a:lnTo>
                        <a:pt x="129" y="147"/>
                      </a:lnTo>
                      <a:lnTo>
                        <a:pt x="129" y="0"/>
                      </a:lnTo>
                      <a:lnTo>
                        <a:pt x="79" y="0"/>
                      </a:lnTo>
                      <a:lnTo>
                        <a:pt x="65" y="69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30712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39" y="28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5"/>
                      </a:lnTo>
                      <a:lnTo>
                        <a:pt x="39" y="85"/>
                      </a:lnTo>
                      <a:lnTo>
                        <a:pt x="39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383080" y="5500800"/>
                  <a:ext cx="7488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93" y="16"/>
                      </a:lnTo>
                      <a:lnTo>
                        <a:pt x="93" y="57"/>
                      </a:lnTo>
                      <a:lnTo>
                        <a:pt x="71" y="73"/>
                      </a:lnTo>
                      <a:lnTo>
                        <a:pt x="93" y="90"/>
                      </a:lnTo>
                      <a:lnTo>
                        <a:pt x="93" y="147"/>
                      </a:lnTo>
                      <a:lnTo>
                        <a:pt x="58" y="147"/>
                      </a:lnTo>
                      <a:lnTo>
                        <a:pt x="58" y="90"/>
                      </a:lnTo>
                      <a:lnTo>
                        <a:pt x="58" y="61"/>
                      </a:lnTo>
                      <a:lnTo>
                        <a:pt x="36" y="61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61"/>
                      </a:lnTo>
                      <a:lnTo>
                        <a:pt x="58" y="90"/>
                      </a:lnTo>
                      <a:lnTo>
                        <a:pt x="36" y="90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472000" y="5500800"/>
                  <a:ext cx="2880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513400" y="5500800"/>
                  <a:ext cx="79200" cy="115920"/>
                </a:xfrm>
                <a:custGeom>
                  <a:avLst/>
                  <a:gdLst/>
                  <a:ahLst/>
                  <a:rect l="l" t="t" r="r" b="b"/>
                  <a:pathLst>
                    <a:path w="101" h="147">
                      <a:moveTo>
                        <a:pt x="28" y="0"/>
                      </a:moveTo>
                      <a:lnTo>
                        <a:pt x="73" y="0"/>
                      </a:lnTo>
                      <a:lnTo>
                        <a:pt x="101" y="20"/>
                      </a:lnTo>
                      <a:lnTo>
                        <a:pt x="101" y="57"/>
                      </a:lnTo>
                      <a:lnTo>
                        <a:pt x="65" y="57"/>
                      </a:lnTo>
                      <a:lnTo>
                        <a:pt x="65" y="28"/>
                      </a:lnTo>
                      <a:lnTo>
                        <a:pt x="36" y="28"/>
                      </a:lnTo>
                      <a:lnTo>
                        <a:pt x="36" y="118"/>
                      </a:lnTo>
                      <a:lnTo>
                        <a:pt x="65" y="118"/>
                      </a:lnTo>
                      <a:lnTo>
                        <a:pt x="65" y="85"/>
                      </a:lnTo>
                      <a:lnTo>
                        <a:pt x="101" y="85"/>
                      </a:lnTo>
                      <a:lnTo>
                        <a:pt x="101" y="127"/>
                      </a:lnTo>
                      <a:lnTo>
                        <a:pt x="73" y="147"/>
                      </a:lnTo>
                      <a:lnTo>
                        <a:pt x="28" y="147"/>
                      </a:lnTo>
                      <a:lnTo>
                        <a:pt x="0" y="127"/>
                      </a:lnTo>
                      <a:lnTo>
                        <a:pt x="0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0088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2820960" y="5265720"/>
            <a:ext cx="3651120" cy="1554120"/>
            <a:chOff x="2820960" y="5265720"/>
            <a:chExt cx="3651120" cy="1554120"/>
          </a:xfrm>
        </p:grpSpPr>
        <p:grpSp>
          <p:nvGrpSpPr>
            <p:cNvPr id="679" name=""/>
            <p:cNvGrpSpPr/>
            <p:nvPr/>
          </p:nvGrpSpPr>
          <p:grpSpPr>
            <a:xfrm>
              <a:off x="2820960" y="5265720"/>
              <a:ext cx="3651120" cy="1554120"/>
              <a:chOff x="2820960" y="5265720"/>
              <a:chExt cx="3651120" cy="1554120"/>
            </a:xfrm>
          </p:grpSpPr>
          <p:sp>
            <p:nvSpPr>
              <p:cNvPr id="680" name=""/>
              <p:cNvSpPr/>
              <p:nvPr/>
            </p:nvSpPr>
            <p:spPr>
              <a:xfrm>
                <a:off x="2820960" y="5265720"/>
                <a:ext cx="3651120" cy="1554120"/>
              </a:xfrm>
              <a:prstGeom prst="rect">
                <a:avLst/>
              </a:prstGeom>
              <a:solidFill>
                <a:srgbClr val="bfffb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03400" y="5348160"/>
                <a:ext cx="3484800" cy="138744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147840" y="5470560"/>
                <a:ext cx="2976840" cy="1128600"/>
              </a:xfrm>
              <a:prstGeom prst="rect">
                <a:avLst/>
              </a:prstGeom>
              <a:solidFill>
                <a:srgbClr val="bfffbf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154400" y="6384960"/>
              <a:ext cx="962280" cy="189000"/>
              <a:chOff x="4154400" y="6384960"/>
              <a:chExt cx="962280" cy="18900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154400" y="6384960"/>
                <a:ext cx="165240" cy="183960"/>
                <a:chOff x="4154400" y="6384960"/>
                <a:chExt cx="165240" cy="18396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160880" y="643428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9">
                      <a:moveTo>
                        <a:pt x="193" y="159"/>
                      </a:moveTo>
                      <a:lnTo>
                        <a:pt x="122" y="124"/>
                      </a:lnTo>
                      <a:lnTo>
                        <a:pt x="51" y="74"/>
                      </a:lnTo>
                      <a:lnTo>
                        <a:pt x="0" y="0"/>
                      </a:lnTo>
                      <a:lnTo>
                        <a:pt x="48" y="10"/>
                      </a:lnTo>
                      <a:lnTo>
                        <a:pt x="112" y="38"/>
                      </a:lnTo>
                      <a:lnTo>
                        <a:pt x="155" y="87"/>
                      </a:lnTo>
                      <a:lnTo>
                        <a:pt x="193" y="15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203720" y="6384960"/>
                  <a:ext cx="115920" cy="156960"/>
                </a:xfrm>
                <a:custGeom>
                  <a:avLst/>
                  <a:gdLst/>
                  <a:ahLst/>
                  <a:rect l="l" t="t" r="r" b="b"/>
                  <a:pathLst>
                    <a:path w="146" h="199">
                      <a:moveTo>
                        <a:pt x="146" y="199"/>
                      </a:moveTo>
                      <a:lnTo>
                        <a:pt x="85" y="144"/>
                      </a:lnTo>
                      <a:lnTo>
                        <a:pt x="45" y="95"/>
                      </a:lnTo>
                      <a:lnTo>
                        <a:pt x="24" y="51"/>
                      </a:lnTo>
                      <a:lnTo>
                        <a:pt x="0" y="0"/>
                      </a:lnTo>
                      <a:lnTo>
                        <a:pt x="49" y="25"/>
                      </a:lnTo>
                      <a:lnTo>
                        <a:pt x="87" y="55"/>
                      </a:lnTo>
                      <a:lnTo>
                        <a:pt x="120" y="99"/>
                      </a:lnTo>
                      <a:lnTo>
                        <a:pt x="143" y="149"/>
                      </a:lnTo>
                      <a:lnTo>
                        <a:pt x="146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154400" y="6505560"/>
                  <a:ext cx="146160" cy="6336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81"/>
                      </a:moveTo>
                      <a:lnTo>
                        <a:pt x="119" y="64"/>
                      </a:lnTo>
                      <a:lnTo>
                        <a:pt x="48" y="38"/>
                      </a:lnTo>
                      <a:lnTo>
                        <a:pt x="0" y="0"/>
                      </a:lnTo>
                      <a:lnTo>
                        <a:pt x="48" y="2"/>
                      </a:lnTo>
                      <a:lnTo>
                        <a:pt x="107" y="18"/>
                      </a:lnTo>
                      <a:lnTo>
                        <a:pt x="147" y="40"/>
                      </a:lnTo>
                      <a:lnTo>
                        <a:pt x="184" y="8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4950000" y="6388200"/>
                <a:ext cx="166680" cy="185760"/>
                <a:chOff x="4950000" y="6388200"/>
                <a:chExt cx="166680" cy="1857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4957920" y="643896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8">
                      <a:moveTo>
                        <a:pt x="0" y="158"/>
                      </a:moveTo>
                      <a:lnTo>
                        <a:pt x="70" y="123"/>
                      </a:lnTo>
                      <a:lnTo>
                        <a:pt x="142" y="73"/>
                      </a:lnTo>
                      <a:lnTo>
                        <a:pt x="193" y="0"/>
                      </a:lnTo>
                      <a:lnTo>
                        <a:pt x="145" y="9"/>
                      </a:lnTo>
                      <a:lnTo>
                        <a:pt x="82" y="37"/>
                      </a:lnTo>
                      <a:lnTo>
                        <a:pt x="39" y="86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950000" y="6388200"/>
                  <a:ext cx="115560" cy="156960"/>
                </a:xfrm>
                <a:custGeom>
                  <a:avLst/>
                  <a:gdLst/>
                  <a:ahLst/>
                  <a:rect l="l" t="t" r="r" b="b"/>
                  <a:pathLst>
                    <a:path w="147" h="199">
                      <a:moveTo>
                        <a:pt x="0" y="199"/>
                      </a:moveTo>
                      <a:lnTo>
                        <a:pt x="62" y="144"/>
                      </a:lnTo>
                      <a:lnTo>
                        <a:pt x="103" y="95"/>
                      </a:lnTo>
                      <a:lnTo>
                        <a:pt x="123" y="51"/>
                      </a:lnTo>
                      <a:lnTo>
                        <a:pt x="147" y="0"/>
                      </a:lnTo>
                      <a:lnTo>
                        <a:pt x="97" y="24"/>
                      </a:lnTo>
                      <a:lnTo>
                        <a:pt x="61" y="54"/>
                      </a:lnTo>
                      <a:lnTo>
                        <a:pt x="27" y="98"/>
                      </a:lnTo>
                      <a:lnTo>
                        <a:pt x="3" y="14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968720" y="6508800"/>
                  <a:ext cx="147960" cy="65160"/>
                </a:xfrm>
                <a:custGeom>
                  <a:avLst/>
                  <a:gdLst/>
                  <a:ahLst/>
                  <a:rect l="l" t="t" r="r" b="b"/>
                  <a:pathLst>
                    <a:path w="185" h="82">
                      <a:moveTo>
                        <a:pt x="0" y="82"/>
                      </a:moveTo>
                      <a:lnTo>
                        <a:pt x="67" y="65"/>
                      </a:lnTo>
                      <a:lnTo>
                        <a:pt x="136" y="40"/>
                      </a:lnTo>
                      <a:lnTo>
                        <a:pt x="185" y="0"/>
                      </a:lnTo>
                      <a:lnTo>
                        <a:pt x="136" y="4"/>
                      </a:lnTo>
                      <a:lnTo>
                        <a:pt x="79" y="19"/>
                      </a:lnTo>
                      <a:lnTo>
                        <a:pt x="38" y="41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3881520" y="5673600"/>
              <a:ext cx="1509480" cy="1051200"/>
              <a:chOff x="3881520" y="5673600"/>
              <a:chExt cx="1509480" cy="10512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4210200" y="5673600"/>
                <a:ext cx="839520" cy="1022400"/>
                <a:chOff x="4210200" y="5673600"/>
                <a:chExt cx="839520" cy="102240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4210200" y="5673600"/>
                  <a:ext cx="839520" cy="1022400"/>
                  <a:chOff x="4210200" y="5673600"/>
                  <a:chExt cx="839520" cy="1022400"/>
                </a:xfrm>
              </p:grpSpPr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4210200" y="5673600"/>
                    <a:ext cx="839520" cy="203400"/>
                    <a:chOff x="4210200" y="5673600"/>
                    <a:chExt cx="839520" cy="20340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42102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0" y="0"/>
                          </a:moveTo>
                          <a:lnTo>
                            <a:pt x="515" y="0"/>
                          </a:lnTo>
                          <a:lnTo>
                            <a:pt x="515" y="256"/>
                          </a:lnTo>
                          <a:lnTo>
                            <a:pt x="147" y="256"/>
                          </a:lnTo>
                          <a:lnTo>
                            <a:pt x="147" y="124"/>
                          </a:lnTo>
                          <a:lnTo>
                            <a:pt x="141" y="103"/>
                          </a:lnTo>
                          <a:lnTo>
                            <a:pt x="128" y="91"/>
                          </a:lnTo>
                          <a:lnTo>
                            <a:pt x="105" y="85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6404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515" y="0"/>
                          </a:moveTo>
                          <a:lnTo>
                            <a:pt x="0" y="0"/>
                          </a:lnTo>
                          <a:lnTo>
                            <a:pt x="0" y="256"/>
                          </a:lnTo>
                          <a:lnTo>
                            <a:pt x="368" y="256"/>
                          </a:lnTo>
                          <a:lnTo>
                            <a:pt x="368" y="124"/>
                          </a:lnTo>
                          <a:lnTo>
                            <a:pt x="374" y="103"/>
                          </a:lnTo>
                          <a:lnTo>
                            <a:pt x="387" y="91"/>
                          </a:lnTo>
                          <a:lnTo>
                            <a:pt x="410" y="85"/>
                          </a:lnTo>
                          <a:lnTo>
                            <a:pt x="515" y="85"/>
                          </a:lnTo>
                          <a:lnTo>
                            <a:pt x="515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8" name=""/>
                  <p:cNvSpPr/>
                  <p:nvPr/>
                </p:nvSpPr>
                <p:spPr>
                  <a:xfrm>
                    <a:off x="4233960" y="5675400"/>
                    <a:ext cx="806400" cy="102060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584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4249800" y="5710320"/>
                  <a:ext cx="750960" cy="890640"/>
                  <a:chOff x="4249800" y="5710320"/>
                  <a:chExt cx="750960" cy="89064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4745160" y="6232680"/>
                    <a:ext cx="25560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63">
                        <a:moveTo>
                          <a:pt x="0" y="0"/>
                        </a:moveTo>
                        <a:lnTo>
                          <a:pt x="67" y="28"/>
                        </a:lnTo>
                        <a:lnTo>
                          <a:pt x="74" y="92"/>
                        </a:lnTo>
                        <a:lnTo>
                          <a:pt x="158" y="125"/>
                        </a:lnTo>
                        <a:lnTo>
                          <a:pt x="265" y="147"/>
                        </a:lnTo>
                        <a:lnTo>
                          <a:pt x="323" y="176"/>
                        </a:lnTo>
                        <a:lnTo>
                          <a:pt x="316" y="202"/>
                        </a:lnTo>
                        <a:lnTo>
                          <a:pt x="301" y="240"/>
                        </a:lnTo>
                        <a:lnTo>
                          <a:pt x="280" y="281"/>
                        </a:lnTo>
                        <a:lnTo>
                          <a:pt x="261" y="315"/>
                        </a:lnTo>
                        <a:lnTo>
                          <a:pt x="241" y="345"/>
                        </a:lnTo>
                        <a:lnTo>
                          <a:pt x="219" y="383"/>
                        </a:lnTo>
                        <a:lnTo>
                          <a:pt x="181" y="425"/>
                        </a:lnTo>
                        <a:lnTo>
                          <a:pt x="149" y="463"/>
                        </a:lnTo>
                        <a:lnTo>
                          <a:pt x="46" y="128"/>
                        </a:lnTo>
                        <a:lnTo>
                          <a:pt x="4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505400" y="6186600"/>
                    <a:ext cx="36036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521">
                        <a:moveTo>
                          <a:pt x="452" y="521"/>
                        </a:moveTo>
                        <a:lnTo>
                          <a:pt x="251" y="521"/>
                        </a:lnTo>
                        <a:lnTo>
                          <a:pt x="165" y="521"/>
                        </a:lnTo>
                        <a:lnTo>
                          <a:pt x="165" y="423"/>
                        </a:lnTo>
                        <a:lnTo>
                          <a:pt x="126" y="299"/>
                        </a:lnTo>
                        <a:lnTo>
                          <a:pt x="80" y="174"/>
                        </a:lnTo>
                        <a:lnTo>
                          <a:pt x="87" y="100"/>
                        </a:lnTo>
                        <a:lnTo>
                          <a:pt x="29" y="59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lnTo>
                          <a:pt x="112" y="62"/>
                        </a:lnTo>
                        <a:lnTo>
                          <a:pt x="176" y="75"/>
                        </a:lnTo>
                        <a:lnTo>
                          <a:pt x="207" y="84"/>
                        </a:lnTo>
                        <a:lnTo>
                          <a:pt x="234" y="84"/>
                        </a:lnTo>
                        <a:lnTo>
                          <a:pt x="275" y="75"/>
                        </a:lnTo>
                        <a:lnTo>
                          <a:pt x="304" y="61"/>
                        </a:lnTo>
                        <a:lnTo>
                          <a:pt x="306" y="142"/>
                        </a:lnTo>
                        <a:lnTo>
                          <a:pt x="348" y="193"/>
                        </a:lnTo>
                        <a:lnTo>
                          <a:pt x="410" y="391"/>
                        </a:lnTo>
                        <a:lnTo>
                          <a:pt x="452" y="52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451400" y="5743440"/>
                    <a:ext cx="380880" cy="5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43">
                        <a:moveTo>
                          <a:pt x="52" y="504"/>
                        </a:moveTo>
                        <a:lnTo>
                          <a:pt x="45" y="430"/>
                        </a:lnTo>
                        <a:lnTo>
                          <a:pt x="13" y="347"/>
                        </a:lnTo>
                        <a:lnTo>
                          <a:pt x="0" y="218"/>
                        </a:lnTo>
                        <a:lnTo>
                          <a:pt x="62" y="84"/>
                        </a:lnTo>
                        <a:lnTo>
                          <a:pt x="142" y="29"/>
                        </a:lnTo>
                        <a:lnTo>
                          <a:pt x="243" y="4"/>
                        </a:lnTo>
                        <a:lnTo>
                          <a:pt x="332" y="0"/>
                        </a:lnTo>
                        <a:lnTo>
                          <a:pt x="404" y="42"/>
                        </a:lnTo>
                        <a:lnTo>
                          <a:pt x="462" y="144"/>
                        </a:lnTo>
                        <a:lnTo>
                          <a:pt x="478" y="231"/>
                        </a:lnTo>
                        <a:lnTo>
                          <a:pt x="475" y="345"/>
                        </a:lnTo>
                        <a:lnTo>
                          <a:pt x="465" y="430"/>
                        </a:lnTo>
                        <a:lnTo>
                          <a:pt x="458" y="470"/>
                        </a:lnTo>
                        <a:lnTo>
                          <a:pt x="446" y="502"/>
                        </a:lnTo>
                        <a:lnTo>
                          <a:pt x="423" y="536"/>
                        </a:lnTo>
                        <a:lnTo>
                          <a:pt x="397" y="553"/>
                        </a:lnTo>
                        <a:lnTo>
                          <a:pt x="368" y="563"/>
                        </a:lnTo>
                        <a:lnTo>
                          <a:pt x="371" y="621"/>
                        </a:lnTo>
                        <a:lnTo>
                          <a:pt x="346" y="634"/>
                        </a:lnTo>
                        <a:lnTo>
                          <a:pt x="310" y="643"/>
                        </a:lnTo>
                        <a:lnTo>
                          <a:pt x="245" y="640"/>
                        </a:lnTo>
                        <a:lnTo>
                          <a:pt x="194" y="621"/>
                        </a:lnTo>
                        <a:lnTo>
                          <a:pt x="117" y="589"/>
                        </a:lnTo>
                        <a:lnTo>
                          <a:pt x="68" y="559"/>
                        </a:lnTo>
                        <a:lnTo>
                          <a:pt x="52" y="504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451400" y="595152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443">
                        <a:moveTo>
                          <a:pt x="106" y="0"/>
                        </a:moveTo>
                        <a:lnTo>
                          <a:pt x="133" y="87"/>
                        </a:lnTo>
                        <a:lnTo>
                          <a:pt x="146" y="147"/>
                        </a:lnTo>
                        <a:lnTo>
                          <a:pt x="165" y="202"/>
                        </a:lnTo>
                        <a:lnTo>
                          <a:pt x="194" y="253"/>
                        </a:lnTo>
                        <a:lnTo>
                          <a:pt x="204" y="267"/>
                        </a:lnTo>
                        <a:lnTo>
                          <a:pt x="226" y="283"/>
                        </a:lnTo>
                        <a:lnTo>
                          <a:pt x="246" y="294"/>
                        </a:lnTo>
                        <a:lnTo>
                          <a:pt x="275" y="302"/>
                        </a:lnTo>
                        <a:lnTo>
                          <a:pt x="295" y="307"/>
                        </a:lnTo>
                        <a:lnTo>
                          <a:pt x="312" y="311"/>
                        </a:lnTo>
                        <a:lnTo>
                          <a:pt x="332" y="311"/>
                        </a:lnTo>
                        <a:lnTo>
                          <a:pt x="355" y="306"/>
                        </a:lnTo>
                        <a:lnTo>
                          <a:pt x="332" y="331"/>
                        </a:lnTo>
                        <a:lnTo>
                          <a:pt x="290" y="357"/>
                        </a:lnTo>
                        <a:lnTo>
                          <a:pt x="262" y="386"/>
                        </a:lnTo>
                        <a:lnTo>
                          <a:pt x="243" y="414"/>
                        </a:lnTo>
                        <a:lnTo>
                          <a:pt x="222" y="433"/>
                        </a:lnTo>
                        <a:lnTo>
                          <a:pt x="178" y="440"/>
                        </a:lnTo>
                        <a:lnTo>
                          <a:pt x="117" y="443"/>
                        </a:lnTo>
                        <a:lnTo>
                          <a:pt x="26" y="376"/>
                        </a:lnTo>
                        <a:lnTo>
                          <a:pt x="0" y="325"/>
                        </a:lnTo>
                        <a:lnTo>
                          <a:pt x="36" y="212"/>
                        </a:lnTo>
                        <a:lnTo>
                          <a:pt x="55" y="10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606920" y="5897520"/>
                    <a:ext cx="220680" cy="201600"/>
                    <a:chOff x="4606920" y="5897520"/>
                    <a:chExt cx="220680" cy="2016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686480" y="6078600"/>
                      <a:ext cx="91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25">
                          <a:moveTo>
                            <a:pt x="0" y="9"/>
                          </a:moveTo>
                          <a:lnTo>
                            <a:pt x="11" y="4"/>
                          </a:lnTo>
                          <a:lnTo>
                            <a:pt x="29" y="1"/>
                          </a:lnTo>
                          <a:lnTo>
                            <a:pt x="46" y="4"/>
                          </a:lnTo>
                          <a:lnTo>
                            <a:pt x="61" y="4"/>
                          </a:lnTo>
                          <a:lnTo>
                            <a:pt x="80" y="0"/>
                          </a:lnTo>
                          <a:lnTo>
                            <a:pt x="93" y="1"/>
                          </a:lnTo>
                          <a:lnTo>
                            <a:pt x="107" y="1"/>
                          </a:lnTo>
                          <a:lnTo>
                            <a:pt x="117" y="9"/>
                          </a:lnTo>
                          <a:lnTo>
                            <a:pt x="99" y="18"/>
                          </a:lnTo>
                          <a:lnTo>
                            <a:pt x="68" y="25"/>
                          </a:lnTo>
                          <a:lnTo>
                            <a:pt x="32" y="25"/>
                          </a:lnTo>
                          <a:lnTo>
                            <a:pt x="13" y="18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4687920" y="6029280"/>
                      <a:ext cx="763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7">
                          <a:moveTo>
                            <a:pt x="22" y="5"/>
                          </a:move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9" y="17"/>
                          </a:lnTo>
                          <a:lnTo>
                            <a:pt x="22" y="18"/>
                          </a:lnTo>
                          <a:lnTo>
                            <a:pt x="36" y="19"/>
                          </a:lnTo>
                          <a:lnTo>
                            <a:pt x="48" y="24"/>
                          </a:lnTo>
                          <a:lnTo>
                            <a:pt x="63" y="27"/>
                          </a:lnTo>
                          <a:lnTo>
                            <a:pt x="76" y="27"/>
                          </a:lnTo>
                          <a:lnTo>
                            <a:pt x="87" y="23"/>
                          </a:lnTo>
                          <a:lnTo>
                            <a:pt x="93" y="16"/>
                          </a:lnTo>
                          <a:lnTo>
                            <a:pt x="97" y="6"/>
                          </a:lnTo>
                          <a:lnTo>
                            <a:pt x="87" y="9"/>
                          </a:lnTo>
                          <a:lnTo>
                            <a:pt x="79" y="13"/>
                          </a:lnTo>
                          <a:lnTo>
                            <a:pt x="75" y="12"/>
                          </a:lnTo>
                          <a:lnTo>
                            <a:pt x="64" y="9"/>
                          </a:lnTo>
                          <a:lnTo>
                            <a:pt x="54" y="5"/>
                          </a:lnTo>
                          <a:lnTo>
                            <a:pt x="47" y="3"/>
                          </a:lnTo>
                          <a:lnTo>
                            <a:pt x="34" y="6"/>
                          </a:lnTo>
                          <a:lnTo>
                            <a:pt x="22" y="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606920" y="5897520"/>
                      <a:ext cx="12528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9">
                          <a:moveTo>
                            <a:pt x="0" y="29"/>
                          </a:moveTo>
                          <a:lnTo>
                            <a:pt x="19" y="14"/>
                          </a:lnTo>
                          <a:lnTo>
                            <a:pt x="43" y="5"/>
                          </a:lnTo>
                          <a:lnTo>
                            <a:pt x="69" y="0"/>
                          </a:lnTo>
                          <a:lnTo>
                            <a:pt x="99" y="3"/>
                          </a:lnTo>
                          <a:lnTo>
                            <a:pt x="120" y="14"/>
                          </a:lnTo>
                          <a:lnTo>
                            <a:pt x="136" y="34"/>
                          </a:lnTo>
                          <a:lnTo>
                            <a:pt x="145" y="77"/>
                          </a:lnTo>
                          <a:lnTo>
                            <a:pt x="153" y="117"/>
                          </a:lnTo>
                          <a:lnTo>
                            <a:pt x="158" y="159"/>
                          </a:lnTo>
                          <a:lnTo>
                            <a:pt x="142" y="151"/>
                          </a:lnTo>
                          <a:lnTo>
                            <a:pt x="127" y="145"/>
                          </a:lnTo>
                          <a:lnTo>
                            <a:pt x="106" y="152"/>
                          </a:lnTo>
                          <a:lnTo>
                            <a:pt x="117" y="108"/>
                          </a:lnTo>
                          <a:lnTo>
                            <a:pt x="126" y="66"/>
                          </a:lnTo>
                          <a:lnTo>
                            <a:pt x="123" y="43"/>
                          </a:lnTo>
                          <a:lnTo>
                            <a:pt x="105" y="23"/>
                          </a:lnTo>
                          <a:lnTo>
                            <a:pt x="59" y="18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4729320" y="5900760"/>
                      <a:ext cx="982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30">
                          <a:moveTo>
                            <a:pt x="0" y="30"/>
                          </a:moveTo>
                          <a:lnTo>
                            <a:pt x="25" y="9"/>
                          </a:lnTo>
                          <a:lnTo>
                            <a:pt x="48" y="0"/>
                          </a:lnTo>
                          <a:lnTo>
                            <a:pt x="80" y="1"/>
                          </a:lnTo>
                          <a:lnTo>
                            <a:pt x="110" y="13"/>
                          </a:lnTo>
                          <a:lnTo>
                            <a:pt x="125" y="28"/>
                          </a:lnTo>
                          <a:lnTo>
                            <a:pt x="121" y="30"/>
                          </a:lnTo>
                          <a:lnTo>
                            <a:pt x="95" y="21"/>
                          </a:lnTo>
                          <a:lnTo>
                            <a:pt x="61" y="13"/>
                          </a:lnTo>
                          <a:lnTo>
                            <a:pt x="24" y="25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635360" y="5927760"/>
                      <a:ext cx="57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0" y="10"/>
                          </a:moveTo>
                          <a:lnTo>
                            <a:pt x="12" y="6"/>
                          </a:lnTo>
                          <a:lnTo>
                            <a:pt x="31" y="1"/>
                          </a:lnTo>
                          <a:lnTo>
                            <a:pt x="44" y="0"/>
                          </a:lnTo>
                          <a:lnTo>
                            <a:pt x="62" y="7"/>
                          </a:lnTo>
                          <a:lnTo>
                            <a:pt x="73" y="14"/>
                          </a:lnTo>
                          <a:lnTo>
                            <a:pt x="56" y="22"/>
                          </a:lnTo>
                          <a:lnTo>
                            <a:pt x="36" y="23"/>
                          </a:lnTo>
                          <a:lnTo>
                            <a:pt x="14" y="21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46600" y="5925960"/>
                      <a:ext cx="58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73" y="11"/>
                          </a:moveTo>
                          <a:lnTo>
                            <a:pt x="62" y="6"/>
                          </a:lnTo>
                          <a:lnTo>
                            <a:pt x="42" y="0"/>
                          </a:lnTo>
                          <a:lnTo>
                            <a:pt x="29" y="0"/>
                          </a:lnTo>
                          <a:lnTo>
                            <a:pt x="11" y="9"/>
                          </a:lnTo>
                          <a:lnTo>
                            <a:pt x="0" y="15"/>
                          </a:lnTo>
                          <a:lnTo>
                            <a:pt x="18" y="22"/>
                          </a:lnTo>
                          <a:lnTo>
                            <a:pt x="37" y="23"/>
                          </a:lnTo>
                          <a:lnTo>
                            <a:pt x="57" y="21"/>
                          </a:lnTo>
                          <a:lnTo>
                            <a:pt x="73" y="11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1" name=""/>
                  <p:cNvSpPr/>
                  <p:nvPr/>
                </p:nvSpPr>
                <p:spPr>
                  <a:xfrm>
                    <a:off x="4332240" y="5710320"/>
                    <a:ext cx="576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526">
                        <a:moveTo>
                          <a:pt x="361" y="13"/>
                        </a:moveTo>
                        <a:lnTo>
                          <a:pt x="284" y="19"/>
                        </a:lnTo>
                        <a:lnTo>
                          <a:pt x="219" y="51"/>
                        </a:lnTo>
                        <a:lnTo>
                          <a:pt x="141" y="106"/>
                        </a:lnTo>
                        <a:lnTo>
                          <a:pt x="93" y="193"/>
                        </a:lnTo>
                        <a:lnTo>
                          <a:pt x="61" y="253"/>
                        </a:lnTo>
                        <a:lnTo>
                          <a:pt x="19" y="299"/>
                        </a:lnTo>
                        <a:lnTo>
                          <a:pt x="0" y="333"/>
                        </a:lnTo>
                        <a:lnTo>
                          <a:pt x="25" y="386"/>
                        </a:lnTo>
                        <a:lnTo>
                          <a:pt x="60" y="418"/>
                        </a:lnTo>
                        <a:lnTo>
                          <a:pt x="116" y="443"/>
                        </a:lnTo>
                        <a:lnTo>
                          <a:pt x="181" y="469"/>
                        </a:lnTo>
                        <a:lnTo>
                          <a:pt x="206" y="494"/>
                        </a:lnTo>
                        <a:lnTo>
                          <a:pt x="274" y="526"/>
                        </a:lnTo>
                        <a:lnTo>
                          <a:pt x="306" y="511"/>
                        </a:lnTo>
                        <a:lnTo>
                          <a:pt x="289" y="356"/>
                        </a:lnTo>
                        <a:lnTo>
                          <a:pt x="310" y="231"/>
                        </a:lnTo>
                        <a:lnTo>
                          <a:pt x="345" y="147"/>
                        </a:lnTo>
                        <a:lnTo>
                          <a:pt x="406" y="96"/>
                        </a:lnTo>
                        <a:lnTo>
                          <a:pt x="445" y="83"/>
                        </a:lnTo>
                        <a:lnTo>
                          <a:pt x="491" y="87"/>
                        </a:lnTo>
                        <a:lnTo>
                          <a:pt x="535" y="106"/>
                        </a:lnTo>
                        <a:lnTo>
                          <a:pt x="580" y="138"/>
                        </a:lnTo>
                        <a:lnTo>
                          <a:pt x="598" y="166"/>
                        </a:lnTo>
                        <a:lnTo>
                          <a:pt x="616" y="202"/>
                        </a:lnTo>
                        <a:lnTo>
                          <a:pt x="621" y="238"/>
                        </a:lnTo>
                        <a:lnTo>
                          <a:pt x="613" y="266"/>
                        </a:lnTo>
                        <a:lnTo>
                          <a:pt x="613" y="299"/>
                        </a:lnTo>
                        <a:lnTo>
                          <a:pt x="626" y="365"/>
                        </a:lnTo>
                        <a:lnTo>
                          <a:pt x="616" y="405"/>
                        </a:lnTo>
                        <a:lnTo>
                          <a:pt x="616" y="450"/>
                        </a:lnTo>
                        <a:lnTo>
                          <a:pt x="671" y="456"/>
                        </a:lnTo>
                        <a:lnTo>
                          <a:pt x="706" y="439"/>
                        </a:lnTo>
                        <a:lnTo>
                          <a:pt x="725" y="401"/>
                        </a:lnTo>
                        <a:lnTo>
                          <a:pt x="713" y="331"/>
                        </a:lnTo>
                        <a:lnTo>
                          <a:pt x="681" y="263"/>
                        </a:lnTo>
                        <a:lnTo>
                          <a:pt x="632" y="189"/>
                        </a:lnTo>
                        <a:lnTo>
                          <a:pt x="607" y="128"/>
                        </a:lnTo>
                        <a:lnTo>
                          <a:pt x="574" y="79"/>
                        </a:lnTo>
                        <a:lnTo>
                          <a:pt x="544" y="54"/>
                        </a:lnTo>
                        <a:lnTo>
                          <a:pt x="503" y="28"/>
                        </a:lnTo>
                        <a:lnTo>
                          <a:pt x="413" y="0"/>
                        </a:lnTo>
                        <a:lnTo>
                          <a:pt x="361" y="13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249800" y="6089760"/>
                    <a:ext cx="39672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42">
                        <a:moveTo>
                          <a:pt x="300" y="0"/>
                        </a:moveTo>
                        <a:lnTo>
                          <a:pt x="307" y="79"/>
                        </a:lnTo>
                        <a:lnTo>
                          <a:pt x="336" y="153"/>
                        </a:lnTo>
                        <a:lnTo>
                          <a:pt x="378" y="202"/>
                        </a:lnTo>
                        <a:lnTo>
                          <a:pt x="416" y="234"/>
                        </a:lnTo>
                        <a:lnTo>
                          <a:pt x="410" y="295"/>
                        </a:lnTo>
                        <a:lnTo>
                          <a:pt x="446" y="388"/>
                        </a:lnTo>
                        <a:lnTo>
                          <a:pt x="484" y="508"/>
                        </a:lnTo>
                        <a:lnTo>
                          <a:pt x="500" y="642"/>
                        </a:lnTo>
                        <a:lnTo>
                          <a:pt x="209" y="642"/>
                        </a:lnTo>
                        <a:lnTo>
                          <a:pt x="175" y="614"/>
                        </a:lnTo>
                        <a:lnTo>
                          <a:pt x="137" y="570"/>
                        </a:lnTo>
                        <a:lnTo>
                          <a:pt x="104" y="518"/>
                        </a:lnTo>
                        <a:lnTo>
                          <a:pt x="70" y="461"/>
                        </a:lnTo>
                        <a:lnTo>
                          <a:pt x="39" y="392"/>
                        </a:lnTo>
                        <a:lnTo>
                          <a:pt x="15" y="319"/>
                        </a:lnTo>
                        <a:lnTo>
                          <a:pt x="7" y="259"/>
                        </a:lnTo>
                        <a:lnTo>
                          <a:pt x="0" y="227"/>
                        </a:lnTo>
                        <a:lnTo>
                          <a:pt x="68" y="227"/>
                        </a:lnTo>
                        <a:lnTo>
                          <a:pt x="119" y="218"/>
                        </a:lnTo>
                        <a:lnTo>
                          <a:pt x="180" y="170"/>
                        </a:lnTo>
                        <a:lnTo>
                          <a:pt x="230" y="106"/>
                        </a:lnTo>
                        <a:lnTo>
                          <a:pt x="3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3" name=""/>
              <p:cNvSpPr/>
              <p:nvPr/>
            </p:nvSpPr>
            <p:spPr>
              <a:xfrm>
                <a:off x="3881520" y="6527880"/>
                <a:ext cx="1509480" cy="196920"/>
              </a:xfrm>
              <a:prstGeom prst="rect">
                <a:avLst/>
              </a:prstGeom>
              <a:solidFill>
                <a:srgbClr val="008000"/>
              </a:solidFill>
              <a:ln w="792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838680" y="5345280"/>
              <a:ext cx="1596960" cy="115560"/>
            </a:xfrm>
            <a:prstGeom prst="rect">
              <a:avLst/>
            </a:prstGeom>
            <a:solidFill>
              <a:srgbClr val="008000"/>
            </a:solidFill>
            <a:ln w="1584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927520" y="5349960"/>
              <a:ext cx="580680" cy="544320"/>
              <a:chOff x="2927520" y="5349960"/>
              <a:chExt cx="580680" cy="544320"/>
            </a:xfrm>
          </p:grpSpPr>
          <p:sp>
            <p:nvSpPr>
              <p:cNvPr id="716" name=""/>
              <p:cNvSpPr/>
              <p:nvPr/>
            </p:nvSpPr>
            <p:spPr>
              <a:xfrm>
                <a:off x="3289320" y="5397480"/>
                <a:ext cx="21888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9" y="259"/>
                    </a:moveTo>
                    <a:lnTo>
                      <a:pt x="17" y="220"/>
                    </a:lnTo>
                    <a:lnTo>
                      <a:pt x="6" y="176"/>
                    </a:lnTo>
                    <a:lnTo>
                      <a:pt x="0" y="121"/>
                    </a:lnTo>
                    <a:lnTo>
                      <a:pt x="13" y="64"/>
                    </a:lnTo>
                    <a:lnTo>
                      <a:pt x="37" y="0"/>
                    </a:lnTo>
                    <a:lnTo>
                      <a:pt x="71" y="58"/>
                    </a:lnTo>
                    <a:lnTo>
                      <a:pt x="90" y="102"/>
                    </a:lnTo>
                    <a:lnTo>
                      <a:pt x="97" y="156"/>
                    </a:lnTo>
                    <a:lnTo>
                      <a:pt x="92" y="216"/>
                    </a:lnTo>
                    <a:lnTo>
                      <a:pt x="84" y="262"/>
                    </a:lnTo>
                    <a:lnTo>
                      <a:pt x="73" y="291"/>
                    </a:lnTo>
                    <a:lnTo>
                      <a:pt x="94" y="262"/>
                    </a:lnTo>
                    <a:lnTo>
                      <a:pt x="130" y="227"/>
                    </a:lnTo>
                    <a:lnTo>
                      <a:pt x="166" y="205"/>
                    </a:lnTo>
                    <a:lnTo>
                      <a:pt x="197" y="189"/>
                    </a:lnTo>
                    <a:lnTo>
                      <a:pt x="240" y="180"/>
                    </a:lnTo>
                    <a:lnTo>
                      <a:pt x="275" y="174"/>
                    </a:lnTo>
                    <a:lnTo>
                      <a:pt x="260" y="215"/>
                    </a:lnTo>
                    <a:lnTo>
                      <a:pt x="243" y="260"/>
                    </a:lnTo>
                    <a:lnTo>
                      <a:pt x="208" y="297"/>
                    </a:lnTo>
                    <a:lnTo>
                      <a:pt x="179" y="319"/>
                    </a:lnTo>
                    <a:lnTo>
                      <a:pt x="130" y="334"/>
                    </a:lnTo>
                    <a:lnTo>
                      <a:pt x="86" y="339"/>
                    </a:lnTo>
                    <a:lnTo>
                      <a:pt x="136" y="364"/>
                    </a:lnTo>
                    <a:lnTo>
                      <a:pt x="171" y="389"/>
                    </a:lnTo>
                    <a:lnTo>
                      <a:pt x="188" y="415"/>
                    </a:lnTo>
                    <a:lnTo>
                      <a:pt x="205" y="445"/>
                    </a:lnTo>
                    <a:lnTo>
                      <a:pt x="207" y="472"/>
                    </a:lnTo>
                    <a:lnTo>
                      <a:pt x="215" y="515"/>
                    </a:lnTo>
                    <a:lnTo>
                      <a:pt x="156" y="495"/>
                    </a:lnTo>
                    <a:lnTo>
                      <a:pt x="118" y="470"/>
                    </a:lnTo>
                    <a:lnTo>
                      <a:pt x="99" y="442"/>
                    </a:lnTo>
                    <a:lnTo>
                      <a:pt x="71" y="388"/>
                    </a:lnTo>
                    <a:lnTo>
                      <a:pt x="94" y="439"/>
                    </a:lnTo>
                    <a:lnTo>
                      <a:pt x="103" y="491"/>
                    </a:lnTo>
                    <a:lnTo>
                      <a:pt x="108" y="527"/>
                    </a:lnTo>
                    <a:lnTo>
                      <a:pt x="102" y="576"/>
                    </a:lnTo>
                    <a:lnTo>
                      <a:pt x="100" y="613"/>
                    </a:lnTo>
                    <a:lnTo>
                      <a:pt x="48" y="566"/>
                    </a:lnTo>
                    <a:lnTo>
                      <a:pt x="21" y="507"/>
                    </a:lnTo>
                    <a:lnTo>
                      <a:pt x="12" y="442"/>
                    </a:lnTo>
                    <a:lnTo>
                      <a:pt x="27" y="377"/>
                    </a:lnTo>
                    <a:lnTo>
                      <a:pt x="27" y="324"/>
                    </a:lnTo>
                    <a:lnTo>
                      <a:pt x="29" y="295"/>
                    </a:lnTo>
                    <a:lnTo>
                      <a:pt x="29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27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7" h="279">
                    <a:moveTo>
                      <a:pt x="79" y="250"/>
                    </a:moveTo>
                    <a:lnTo>
                      <a:pt x="44" y="224"/>
                    </a:lnTo>
                    <a:lnTo>
                      <a:pt x="26" y="199"/>
                    </a:lnTo>
                    <a:lnTo>
                      <a:pt x="11" y="169"/>
                    </a:lnTo>
                    <a:lnTo>
                      <a:pt x="8" y="142"/>
                    </a:lnTo>
                    <a:lnTo>
                      <a:pt x="0" y="99"/>
                    </a:lnTo>
                    <a:lnTo>
                      <a:pt x="59" y="118"/>
                    </a:lnTo>
                    <a:lnTo>
                      <a:pt x="97" y="144"/>
                    </a:lnTo>
                    <a:lnTo>
                      <a:pt x="116" y="170"/>
                    </a:lnTo>
                    <a:lnTo>
                      <a:pt x="145" y="225"/>
                    </a:lnTo>
                    <a:lnTo>
                      <a:pt x="121" y="175"/>
                    </a:lnTo>
                    <a:lnTo>
                      <a:pt x="111" y="123"/>
                    </a:lnTo>
                    <a:lnTo>
                      <a:pt x="108" y="86"/>
                    </a:lnTo>
                    <a:lnTo>
                      <a:pt x="114" y="38"/>
                    </a:lnTo>
                    <a:lnTo>
                      <a:pt x="115" y="0"/>
                    </a:lnTo>
                    <a:lnTo>
                      <a:pt x="164" y="51"/>
                    </a:lnTo>
                    <a:lnTo>
                      <a:pt x="190" y="106"/>
                    </a:lnTo>
                    <a:lnTo>
                      <a:pt x="196" y="170"/>
                    </a:lnTo>
                    <a:lnTo>
                      <a:pt x="197" y="275"/>
                    </a:lnTo>
                    <a:lnTo>
                      <a:pt x="139" y="279"/>
                    </a:lnTo>
                    <a:lnTo>
                      <a:pt x="79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8620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05424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9" y="34"/>
                    </a:moveTo>
                    <a:lnTo>
                      <a:pt x="24" y="34"/>
                    </a:lnTo>
                    <a:lnTo>
                      <a:pt x="44" y="31"/>
                    </a:lnTo>
                    <a:lnTo>
                      <a:pt x="59" y="21"/>
                    </a:lnTo>
                    <a:lnTo>
                      <a:pt x="70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5" y="325"/>
                    </a:lnTo>
                    <a:lnTo>
                      <a:pt x="224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5" y="334"/>
                    </a:lnTo>
                    <a:lnTo>
                      <a:pt x="35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5" y="52"/>
                    </a:lnTo>
                    <a:lnTo>
                      <a:pt x="19" y="47"/>
                    </a:lnTo>
                    <a:lnTo>
                      <a:pt x="9" y="47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770440" y="5349960"/>
              <a:ext cx="581040" cy="544320"/>
              <a:chOff x="5770440" y="5349960"/>
              <a:chExt cx="581040" cy="544320"/>
            </a:xfrm>
          </p:grpSpPr>
          <p:sp>
            <p:nvSpPr>
              <p:cNvPr id="721" name=""/>
              <p:cNvSpPr/>
              <p:nvPr/>
            </p:nvSpPr>
            <p:spPr>
              <a:xfrm>
                <a:off x="5770440" y="5397480"/>
                <a:ext cx="21744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46" y="259"/>
                    </a:moveTo>
                    <a:lnTo>
                      <a:pt x="259" y="220"/>
                    </a:lnTo>
                    <a:lnTo>
                      <a:pt x="269" y="176"/>
                    </a:lnTo>
                    <a:lnTo>
                      <a:pt x="275" y="121"/>
                    </a:lnTo>
                    <a:lnTo>
                      <a:pt x="263" y="64"/>
                    </a:lnTo>
                    <a:lnTo>
                      <a:pt x="239" y="0"/>
                    </a:lnTo>
                    <a:lnTo>
                      <a:pt x="206" y="58"/>
                    </a:lnTo>
                    <a:lnTo>
                      <a:pt x="186" y="102"/>
                    </a:lnTo>
                    <a:lnTo>
                      <a:pt x="179" y="156"/>
                    </a:lnTo>
                    <a:lnTo>
                      <a:pt x="183" y="216"/>
                    </a:lnTo>
                    <a:lnTo>
                      <a:pt x="191" y="262"/>
                    </a:lnTo>
                    <a:lnTo>
                      <a:pt x="202" y="291"/>
                    </a:lnTo>
                    <a:lnTo>
                      <a:pt x="180" y="262"/>
                    </a:lnTo>
                    <a:lnTo>
                      <a:pt x="146" y="227"/>
                    </a:lnTo>
                    <a:lnTo>
                      <a:pt x="109" y="205"/>
                    </a:lnTo>
                    <a:lnTo>
                      <a:pt x="77" y="189"/>
                    </a:lnTo>
                    <a:lnTo>
                      <a:pt x="34" y="180"/>
                    </a:lnTo>
                    <a:lnTo>
                      <a:pt x="0" y="174"/>
                    </a:lnTo>
                    <a:lnTo>
                      <a:pt x="16" y="215"/>
                    </a:lnTo>
                    <a:lnTo>
                      <a:pt x="32" y="260"/>
                    </a:lnTo>
                    <a:lnTo>
                      <a:pt x="67" y="297"/>
                    </a:lnTo>
                    <a:lnTo>
                      <a:pt x="95" y="319"/>
                    </a:lnTo>
                    <a:lnTo>
                      <a:pt x="146" y="334"/>
                    </a:lnTo>
                    <a:lnTo>
                      <a:pt x="190" y="339"/>
                    </a:lnTo>
                    <a:lnTo>
                      <a:pt x="138" y="364"/>
                    </a:lnTo>
                    <a:lnTo>
                      <a:pt x="105" y="389"/>
                    </a:lnTo>
                    <a:lnTo>
                      <a:pt x="87" y="415"/>
                    </a:lnTo>
                    <a:lnTo>
                      <a:pt x="71" y="445"/>
                    </a:lnTo>
                    <a:lnTo>
                      <a:pt x="69" y="472"/>
                    </a:lnTo>
                    <a:lnTo>
                      <a:pt x="61" y="515"/>
                    </a:lnTo>
                    <a:lnTo>
                      <a:pt x="119" y="495"/>
                    </a:lnTo>
                    <a:lnTo>
                      <a:pt x="158" y="470"/>
                    </a:lnTo>
                    <a:lnTo>
                      <a:pt x="177" y="442"/>
                    </a:lnTo>
                    <a:lnTo>
                      <a:pt x="206" y="388"/>
                    </a:lnTo>
                    <a:lnTo>
                      <a:pt x="180" y="439"/>
                    </a:lnTo>
                    <a:lnTo>
                      <a:pt x="172" y="491"/>
                    </a:lnTo>
                    <a:lnTo>
                      <a:pt x="168" y="527"/>
                    </a:lnTo>
                    <a:lnTo>
                      <a:pt x="174" y="576"/>
                    </a:lnTo>
                    <a:lnTo>
                      <a:pt x="176" y="613"/>
                    </a:lnTo>
                    <a:lnTo>
                      <a:pt x="228" y="566"/>
                    </a:lnTo>
                    <a:lnTo>
                      <a:pt x="255" y="507"/>
                    </a:lnTo>
                    <a:lnTo>
                      <a:pt x="264" y="442"/>
                    </a:lnTo>
                    <a:lnTo>
                      <a:pt x="249" y="377"/>
                    </a:lnTo>
                    <a:lnTo>
                      <a:pt x="247" y="324"/>
                    </a:lnTo>
                    <a:lnTo>
                      <a:pt x="246" y="295"/>
                    </a:lnTo>
                    <a:lnTo>
                      <a:pt x="246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94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9" h="279">
                    <a:moveTo>
                      <a:pt x="120" y="250"/>
                    </a:moveTo>
                    <a:lnTo>
                      <a:pt x="155" y="224"/>
                    </a:lnTo>
                    <a:lnTo>
                      <a:pt x="172" y="199"/>
                    </a:lnTo>
                    <a:lnTo>
                      <a:pt x="188" y="169"/>
                    </a:lnTo>
                    <a:lnTo>
                      <a:pt x="189" y="142"/>
                    </a:lnTo>
                    <a:lnTo>
                      <a:pt x="199" y="99"/>
                    </a:lnTo>
                    <a:lnTo>
                      <a:pt x="139" y="118"/>
                    </a:lnTo>
                    <a:lnTo>
                      <a:pt x="102" y="144"/>
                    </a:lnTo>
                    <a:lnTo>
                      <a:pt x="83" y="170"/>
                    </a:lnTo>
                    <a:lnTo>
                      <a:pt x="53" y="225"/>
                    </a:lnTo>
                    <a:lnTo>
                      <a:pt x="78" y="175"/>
                    </a:lnTo>
                    <a:lnTo>
                      <a:pt x="87" y="123"/>
                    </a:lnTo>
                    <a:lnTo>
                      <a:pt x="91" y="86"/>
                    </a:lnTo>
                    <a:lnTo>
                      <a:pt x="84" y="38"/>
                    </a:lnTo>
                    <a:lnTo>
                      <a:pt x="83" y="0"/>
                    </a:lnTo>
                    <a:lnTo>
                      <a:pt x="34" y="51"/>
                    </a:lnTo>
                    <a:lnTo>
                      <a:pt x="9" y="106"/>
                    </a:lnTo>
                    <a:lnTo>
                      <a:pt x="2" y="170"/>
                    </a:lnTo>
                    <a:lnTo>
                      <a:pt x="0" y="275"/>
                    </a:lnTo>
                    <a:lnTo>
                      <a:pt x="60" y="279"/>
                    </a:lnTo>
                    <a:lnTo>
                      <a:pt x="120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96592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03576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8" y="34"/>
                    </a:moveTo>
                    <a:lnTo>
                      <a:pt x="23" y="34"/>
                    </a:lnTo>
                    <a:lnTo>
                      <a:pt x="44" y="31"/>
                    </a:lnTo>
                    <a:lnTo>
                      <a:pt x="58" y="21"/>
                    </a:lnTo>
                    <a:lnTo>
                      <a:pt x="69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4" y="325"/>
                    </a:lnTo>
                    <a:lnTo>
                      <a:pt x="223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4" y="334"/>
                    </a:lnTo>
                    <a:lnTo>
                      <a:pt x="34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4" y="52"/>
                    </a:lnTo>
                    <a:lnTo>
                      <a:pt x="19" y="47"/>
                    </a:lnTo>
                    <a:lnTo>
                      <a:pt x="8" y="4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2933640" y="6342120"/>
              <a:ext cx="31104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71800" y="6383160"/>
              <a:ext cx="236520" cy="27972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29040" y="6432480"/>
              <a:ext cx="120600" cy="179280"/>
            </a:xfrm>
            <a:custGeom>
              <a:avLst/>
              <a:gdLst/>
              <a:ahLst/>
              <a:rect l="l" t="t" r="r" b="b"/>
              <a:pathLst>
                <a:path w="152" h="225">
                  <a:moveTo>
                    <a:pt x="5" y="24"/>
                  </a:moveTo>
                  <a:lnTo>
                    <a:pt x="16" y="24"/>
                  </a:lnTo>
                  <a:lnTo>
                    <a:pt x="28" y="20"/>
                  </a:lnTo>
                  <a:lnTo>
                    <a:pt x="37" y="14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3" y="200"/>
                  </a:lnTo>
                  <a:lnTo>
                    <a:pt x="130" y="208"/>
                  </a:lnTo>
                  <a:lnTo>
                    <a:pt x="142" y="214"/>
                  </a:lnTo>
                  <a:lnTo>
                    <a:pt x="152" y="214"/>
                  </a:lnTo>
                  <a:lnTo>
                    <a:pt x="152" y="225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8" y="214"/>
                  </a:lnTo>
                  <a:lnTo>
                    <a:pt x="22" y="208"/>
                  </a:lnTo>
                  <a:lnTo>
                    <a:pt x="28" y="200"/>
                  </a:lnTo>
                  <a:lnTo>
                    <a:pt x="31" y="189"/>
                  </a:lnTo>
                  <a:lnTo>
                    <a:pt x="31" y="49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51600" y="6348240"/>
              <a:ext cx="30960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87960" y="6389640"/>
              <a:ext cx="236520" cy="279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45200" y="644040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5" y="23"/>
                  </a:moveTo>
                  <a:lnTo>
                    <a:pt x="16" y="23"/>
                  </a:lnTo>
                  <a:lnTo>
                    <a:pt x="28" y="21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51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4" y="201"/>
                  </a:lnTo>
                  <a:lnTo>
                    <a:pt x="131" y="208"/>
                  </a:lnTo>
                  <a:lnTo>
                    <a:pt x="144" y="214"/>
                  </a:lnTo>
                  <a:lnTo>
                    <a:pt x="152" y="214"/>
                  </a:lnTo>
                  <a:lnTo>
                    <a:pt x="152" y="22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9" y="214"/>
                  </a:lnTo>
                  <a:lnTo>
                    <a:pt x="22" y="208"/>
                  </a:lnTo>
                  <a:lnTo>
                    <a:pt x="28" y="201"/>
                  </a:lnTo>
                  <a:lnTo>
                    <a:pt x="31" y="189"/>
                  </a:lnTo>
                  <a:lnTo>
                    <a:pt x="31" y="48"/>
                  </a:lnTo>
                  <a:lnTo>
                    <a:pt x="28" y="41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3591000" y="5872320"/>
              <a:ext cx="328680" cy="325440"/>
              <a:chOff x="3591000" y="5872320"/>
              <a:chExt cx="328680" cy="325440"/>
            </a:xfrm>
          </p:grpSpPr>
          <p:sp>
            <p:nvSpPr>
              <p:cNvPr id="732" name=""/>
              <p:cNvSpPr/>
              <p:nvPr/>
            </p:nvSpPr>
            <p:spPr>
              <a:xfrm>
                <a:off x="3591000" y="5872320"/>
                <a:ext cx="328680" cy="325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56160" y="5935680"/>
                <a:ext cx="198360" cy="196920"/>
              </a:xfrm>
              <a:prstGeom prst="ellipse">
                <a:avLst/>
              </a:prstGeom>
              <a:solidFill>
                <a:srgbClr val="9fff9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5354640" y="5911920"/>
              <a:ext cx="328680" cy="326880"/>
              <a:chOff x="5354640" y="5911920"/>
              <a:chExt cx="328680" cy="326880"/>
            </a:xfrm>
          </p:grpSpPr>
          <p:sp>
            <p:nvSpPr>
              <p:cNvPr id="735" name=""/>
              <p:cNvSpPr/>
              <p:nvPr/>
            </p:nvSpPr>
            <p:spPr>
              <a:xfrm>
                <a:off x="5354640" y="5911920"/>
                <a:ext cx="328680" cy="326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18000" y="5975280"/>
                <a:ext cx="200160" cy="198360"/>
              </a:xfrm>
              <a:prstGeom prst="ellipse">
                <a:avLst/>
              </a:prstGeom>
              <a:solidFill>
                <a:srgbClr val="bfffb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3973680" y="6562800"/>
              <a:ext cx="1314360" cy="135000"/>
              <a:chOff x="3973680" y="6562800"/>
              <a:chExt cx="1314360" cy="13500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5154480" y="6562800"/>
                <a:ext cx="133560" cy="129960"/>
                <a:chOff x="5154480" y="6562800"/>
                <a:chExt cx="133560" cy="12996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5154480" y="6562800"/>
                  <a:ext cx="133560" cy="129960"/>
                </a:xfrm>
                <a:custGeom>
                  <a:avLst/>
                  <a:gdLst/>
                  <a:ahLst/>
                  <a:rect l="l" t="t" r="r" b="b"/>
                  <a:pathLst>
                    <a:path w="170" h="165">
                      <a:moveTo>
                        <a:pt x="0" y="0"/>
                      </a:moveTo>
                      <a:lnTo>
                        <a:pt x="115" y="0"/>
                      </a:lnTo>
                      <a:lnTo>
                        <a:pt x="134" y="6"/>
                      </a:lnTo>
                      <a:lnTo>
                        <a:pt x="146" y="16"/>
                      </a:lnTo>
                      <a:lnTo>
                        <a:pt x="152" y="32"/>
                      </a:lnTo>
                      <a:lnTo>
                        <a:pt x="152" y="62"/>
                      </a:lnTo>
                      <a:lnTo>
                        <a:pt x="144" y="79"/>
                      </a:lnTo>
                      <a:lnTo>
                        <a:pt x="130" y="88"/>
                      </a:lnTo>
                      <a:lnTo>
                        <a:pt x="115" y="92"/>
                      </a:lnTo>
                      <a:lnTo>
                        <a:pt x="130" y="99"/>
                      </a:lnTo>
                      <a:lnTo>
                        <a:pt x="144" y="107"/>
                      </a:lnTo>
                      <a:lnTo>
                        <a:pt x="152" y="124"/>
                      </a:lnTo>
                      <a:lnTo>
                        <a:pt x="158" y="140"/>
                      </a:lnTo>
                      <a:lnTo>
                        <a:pt x="160" y="154"/>
                      </a:lnTo>
                      <a:lnTo>
                        <a:pt x="170" y="154"/>
                      </a:lnTo>
                      <a:lnTo>
                        <a:pt x="170" y="165"/>
                      </a:lnTo>
                      <a:lnTo>
                        <a:pt x="104" y="165"/>
                      </a:lnTo>
                      <a:lnTo>
                        <a:pt x="104" y="154"/>
                      </a:lnTo>
                      <a:lnTo>
                        <a:pt x="115" y="154"/>
                      </a:lnTo>
                      <a:lnTo>
                        <a:pt x="113" y="137"/>
                      </a:lnTo>
                      <a:lnTo>
                        <a:pt x="105" y="124"/>
                      </a:lnTo>
                      <a:lnTo>
                        <a:pt x="96" y="111"/>
                      </a:lnTo>
                      <a:lnTo>
                        <a:pt x="86" y="100"/>
                      </a:lnTo>
                      <a:lnTo>
                        <a:pt x="71" y="92"/>
                      </a:lnTo>
                      <a:lnTo>
                        <a:pt x="71" y="154"/>
                      </a:lnTo>
                      <a:lnTo>
                        <a:pt x="86" y="154"/>
                      </a:lnTo>
                      <a:lnTo>
                        <a:pt x="86" y="165"/>
                      </a:lnTo>
                      <a:lnTo>
                        <a:pt x="2" y="165"/>
                      </a:lnTo>
                      <a:lnTo>
                        <a:pt x="2" y="154"/>
                      </a:lnTo>
                      <a:lnTo>
                        <a:pt x="19" y="154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210280" y="6583320"/>
                  <a:ext cx="23760" cy="33480"/>
                </a:xfrm>
                <a:custGeom>
                  <a:avLst/>
                  <a:gdLst/>
                  <a:ahLst/>
                  <a:rect l="l" t="t" r="r" b="b"/>
                  <a:pathLst>
                    <a:path w="30" h="40">
                      <a:moveTo>
                        <a:pt x="0" y="0"/>
                      </a:moveTo>
                      <a:lnTo>
                        <a:pt x="0" y="40"/>
                      </a:lnTo>
                      <a:lnTo>
                        <a:pt x="15" y="40"/>
                      </a:lnTo>
                      <a:lnTo>
                        <a:pt x="24" y="37"/>
                      </a:lnTo>
                      <a:lnTo>
                        <a:pt x="30" y="27"/>
                      </a:lnTo>
                      <a:lnTo>
                        <a:pt x="30" y="14"/>
                      </a:lnTo>
                      <a:lnTo>
                        <a:pt x="24" y="4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973680" y="6562800"/>
                <a:ext cx="129960" cy="135000"/>
                <a:chOff x="3973680" y="6562800"/>
                <a:chExt cx="129960" cy="1350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973680" y="6562800"/>
                  <a:ext cx="129960" cy="135000"/>
                </a:xfrm>
                <a:custGeom>
                  <a:avLst/>
                  <a:gdLst/>
                  <a:ahLst/>
                  <a:rect l="l" t="t" r="r" b="b"/>
                  <a:pathLst>
                    <a:path w="164" h="172">
                      <a:moveTo>
                        <a:pt x="49" y="0"/>
                      </a:moveTo>
                      <a:lnTo>
                        <a:pt x="112" y="0"/>
                      </a:lnTo>
                      <a:lnTo>
                        <a:pt x="127" y="6"/>
                      </a:lnTo>
                      <a:lnTo>
                        <a:pt x="149" y="24"/>
                      </a:lnTo>
                      <a:lnTo>
                        <a:pt x="159" y="44"/>
                      </a:lnTo>
                      <a:lnTo>
                        <a:pt x="164" y="70"/>
                      </a:lnTo>
                      <a:lnTo>
                        <a:pt x="164" y="99"/>
                      </a:lnTo>
                      <a:lnTo>
                        <a:pt x="159" y="125"/>
                      </a:lnTo>
                      <a:lnTo>
                        <a:pt x="149" y="146"/>
                      </a:lnTo>
                      <a:lnTo>
                        <a:pt x="122" y="165"/>
                      </a:lnTo>
                      <a:lnTo>
                        <a:pt x="109" y="172"/>
                      </a:lnTo>
                      <a:lnTo>
                        <a:pt x="49" y="172"/>
                      </a:lnTo>
                      <a:lnTo>
                        <a:pt x="36" y="165"/>
                      </a:lnTo>
                      <a:lnTo>
                        <a:pt x="12" y="148"/>
                      </a:lnTo>
                      <a:lnTo>
                        <a:pt x="3" y="129"/>
                      </a:lnTo>
                      <a:lnTo>
                        <a:pt x="0" y="105"/>
                      </a:lnTo>
                      <a:lnTo>
                        <a:pt x="0" y="70"/>
                      </a:lnTo>
                      <a:lnTo>
                        <a:pt x="3" y="44"/>
                      </a:lnTo>
                      <a:lnTo>
                        <a:pt x="12" y="24"/>
                      </a:lnTo>
                      <a:lnTo>
                        <a:pt x="36" y="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21200" y="6578640"/>
                  <a:ext cx="33120" cy="104760"/>
                </a:xfrm>
                <a:custGeom>
                  <a:avLst/>
                  <a:gdLst/>
                  <a:ahLst/>
                  <a:rect l="l" t="t" r="r" b="b"/>
                  <a:pathLst>
                    <a:path w="41" h="134">
                      <a:moveTo>
                        <a:pt x="14" y="0"/>
                      </a:move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4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4"/>
                      </a:lnTo>
                      <a:lnTo>
                        <a:pt x="41" y="112"/>
                      </a:lnTo>
                      <a:lnTo>
                        <a:pt x="41" y="22"/>
                      </a:lnTo>
                      <a:lnTo>
                        <a:pt x="39" y="11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108320" y="6567480"/>
                <a:ext cx="276480" cy="130320"/>
                <a:chOff x="4108320" y="6567480"/>
                <a:chExt cx="276480" cy="1303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108320" y="6567480"/>
                  <a:ext cx="147600" cy="130320"/>
                </a:xfrm>
                <a:custGeom>
                  <a:avLst/>
                  <a:gdLst/>
                  <a:ahLst/>
                  <a:rect l="l" t="t" r="r" b="b"/>
                  <a:pathLst>
                    <a:path w="187" h="166">
                      <a:moveTo>
                        <a:pt x="4" y="166"/>
                      </a:moveTo>
                      <a:lnTo>
                        <a:pt x="50" y="166"/>
                      </a:lnTo>
                      <a:lnTo>
                        <a:pt x="50" y="153"/>
                      </a:lnTo>
                      <a:lnTo>
                        <a:pt x="35" y="153"/>
                      </a:lnTo>
                      <a:lnTo>
                        <a:pt x="35" y="35"/>
                      </a:lnTo>
                      <a:lnTo>
                        <a:pt x="115" y="166"/>
                      </a:lnTo>
                      <a:lnTo>
                        <a:pt x="168" y="166"/>
                      </a:lnTo>
                      <a:lnTo>
                        <a:pt x="168" y="13"/>
                      </a:lnTo>
                      <a:lnTo>
                        <a:pt x="187" y="13"/>
                      </a:lnTo>
                      <a:lnTo>
                        <a:pt x="187" y="0"/>
                      </a:lnTo>
                      <a:lnTo>
                        <a:pt x="135" y="0"/>
                      </a:lnTo>
                      <a:lnTo>
                        <a:pt x="135" y="13"/>
                      </a:lnTo>
                      <a:lnTo>
                        <a:pt x="152" y="13"/>
                      </a:lnTo>
                      <a:lnTo>
                        <a:pt x="152" y="110"/>
                      </a:lnTo>
                      <a:lnTo>
                        <a:pt x="82" y="3"/>
                      </a:lnTo>
                      <a:lnTo>
                        <a:pt x="0" y="3"/>
                      </a:lnTo>
                      <a:lnTo>
                        <a:pt x="0" y="16"/>
                      </a:lnTo>
                      <a:lnTo>
                        <a:pt x="18" y="16"/>
                      </a:lnTo>
                      <a:lnTo>
                        <a:pt x="18" y="153"/>
                      </a:lnTo>
                      <a:lnTo>
                        <a:pt x="4" y="153"/>
                      </a:lnTo>
                      <a:lnTo>
                        <a:pt x="4" y="166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255920" y="6567480"/>
                  <a:ext cx="128880" cy="130320"/>
                </a:xfrm>
                <a:custGeom>
                  <a:avLst/>
                  <a:gdLst/>
                  <a:ahLst/>
                  <a:rect l="l" t="t" r="r" b="b"/>
                  <a:pathLst>
                    <a:path w="162" h="166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8" y="45"/>
                      </a:lnTo>
                      <a:lnTo>
                        <a:pt x="146" y="45"/>
                      </a:lnTo>
                      <a:lnTo>
                        <a:pt x="97" y="13"/>
                      </a:lnTo>
                      <a:lnTo>
                        <a:pt x="71" y="13"/>
                      </a:lnTo>
                      <a:lnTo>
                        <a:pt x="71" y="78"/>
                      </a:lnTo>
                      <a:lnTo>
                        <a:pt x="94" y="78"/>
                      </a:lnTo>
                      <a:lnTo>
                        <a:pt x="121" y="49"/>
                      </a:lnTo>
                      <a:lnTo>
                        <a:pt x="121" y="119"/>
                      </a:lnTo>
                      <a:lnTo>
                        <a:pt x="94" y="91"/>
                      </a:lnTo>
                      <a:lnTo>
                        <a:pt x="71" y="91"/>
                      </a:lnTo>
                      <a:lnTo>
                        <a:pt x="71" y="147"/>
                      </a:lnTo>
                      <a:lnTo>
                        <a:pt x="97" y="147"/>
                      </a:lnTo>
                      <a:lnTo>
                        <a:pt x="152" y="119"/>
                      </a:lnTo>
                      <a:lnTo>
                        <a:pt x="162" y="119"/>
                      </a:lnTo>
                      <a:lnTo>
                        <a:pt x="162" y="166"/>
                      </a:lnTo>
                      <a:lnTo>
                        <a:pt x="3" y="166"/>
                      </a:lnTo>
                      <a:lnTo>
                        <a:pt x="3" y="156"/>
                      </a:lnTo>
                      <a:lnTo>
                        <a:pt x="19" y="156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606920" y="6562800"/>
                <a:ext cx="128520" cy="133200"/>
                <a:chOff x="4606920" y="6562800"/>
                <a:chExt cx="128520" cy="1332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606920" y="6562800"/>
                  <a:ext cx="128520" cy="13320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48" y="0"/>
                      </a:moveTo>
                      <a:lnTo>
                        <a:pt x="112" y="0"/>
                      </a:lnTo>
                      <a:lnTo>
                        <a:pt x="124" y="6"/>
                      </a:lnTo>
                      <a:lnTo>
                        <a:pt x="147" y="23"/>
                      </a:lnTo>
                      <a:lnTo>
                        <a:pt x="157" y="43"/>
                      </a:lnTo>
                      <a:lnTo>
                        <a:pt x="161" y="69"/>
                      </a:lnTo>
                      <a:lnTo>
                        <a:pt x="161" y="95"/>
                      </a:lnTo>
                      <a:lnTo>
                        <a:pt x="157" y="122"/>
                      </a:lnTo>
                      <a:lnTo>
                        <a:pt x="147" y="143"/>
                      </a:lnTo>
                      <a:lnTo>
                        <a:pt x="122" y="162"/>
                      </a:lnTo>
                      <a:lnTo>
                        <a:pt x="108" y="168"/>
                      </a:lnTo>
                      <a:lnTo>
                        <a:pt x="48" y="168"/>
                      </a:lnTo>
                      <a:lnTo>
                        <a:pt x="36" y="162"/>
                      </a:lnTo>
                      <a:lnTo>
                        <a:pt x="14" y="146"/>
                      </a:lnTo>
                      <a:lnTo>
                        <a:pt x="5" y="125"/>
                      </a:lnTo>
                      <a:lnTo>
                        <a:pt x="0" y="103"/>
                      </a:lnTo>
                      <a:lnTo>
                        <a:pt x="0" y="69"/>
                      </a:lnTo>
                      <a:lnTo>
                        <a:pt x="5" y="43"/>
                      </a:lnTo>
                      <a:lnTo>
                        <a:pt x="14" y="23"/>
                      </a:lnTo>
                      <a:lnTo>
                        <a:pt x="36" y="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654440" y="6576840"/>
                  <a:ext cx="33480" cy="106560"/>
                </a:xfrm>
                <a:custGeom>
                  <a:avLst/>
                  <a:gdLst/>
                  <a:ahLst/>
                  <a:rect l="l" t="t" r="r" b="b"/>
                  <a:pathLst>
                    <a:path w="43" h="134">
                      <a:moveTo>
                        <a:pt x="14" y="0"/>
                      </a:moveTo>
                      <a:lnTo>
                        <a:pt x="4" y="12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3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3"/>
                      </a:lnTo>
                      <a:lnTo>
                        <a:pt x="43" y="112"/>
                      </a:lnTo>
                      <a:lnTo>
                        <a:pt x="43" y="22"/>
                      </a:lnTo>
                      <a:lnTo>
                        <a:pt x="39" y="12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741920" y="6562800"/>
                <a:ext cx="241200" cy="129960"/>
                <a:chOff x="4741920" y="6562800"/>
                <a:chExt cx="241200" cy="1299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47419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3" h="165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95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5" y="146"/>
                      </a:lnTo>
                      <a:lnTo>
                        <a:pt x="136" y="121"/>
                      </a:lnTo>
                      <a:lnTo>
                        <a:pt x="153" y="121"/>
                      </a:lnTo>
                      <a:lnTo>
                        <a:pt x="153" y="165"/>
                      </a:lnTo>
                      <a:lnTo>
                        <a:pt x="3" y="165"/>
                      </a:lnTo>
                      <a:lnTo>
                        <a:pt x="3" y="155"/>
                      </a:lnTo>
                      <a:lnTo>
                        <a:pt x="18" y="155"/>
                      </a:lnTo>
                      <a:lnTo>
                        <a:pt x="18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8625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1" h="165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6" y="146"/>
                      </a:lnTo>
                      <a:lnTo>
                        <a:pt x="135" y="121"/>
                      </a:lnTo>
                      <a:lnTo>
                        <a:pt x="151" y="121"/>
                      </a:lnTo>
                      <a:lnTo>
                        <a:pt x="151" y="165"/>
                      </a:lnTo>
                      <a:lnTo>
                        <a:pt x="2" y="165"/>
                      </a:lnTo>
                      <a:lnTo>
                        <a:pt x="2" y="155"/>
                      </a:lnTo>
                      <a:lnTo>
                        <a:pt x="17" y="155"/>
                      </a:lnTo>
                      <a:lnTo>
                        <a:pt x="17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4979880" y="6564240"/>
                <a:ext cx="176400" cy="130320"/>
                <a:chOff x="4979880" y="6564240"/>
                <a:chExt cx="176400" cy="13032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4979880" y="6564240"/>
                  <a:ext cx="176400" cy="130320"/>
                </a:xfrm>
                <a:custGeom>
                  <a:avLst/>
                  <a:gdLst/>
                  <a:ahLst/>
                  <a:rect l="l" t="t" r="r" b="b"/>
                  <a:pathLst>
                    <a:path w="221" h="164">
                      <a:moveTo>
                        <a:pt x="130" y="0"/>
                      </a:moveTo>
                      <a:lnTo>
                        <a:pt x="205" y="151"/>
                      </a:lnTo>
                      <a:lnTo>
                        <a:pt x="221" y="151"/>
                      </a:lnTo>
                      <a:lnTo>
                        <a:pt x="221" y="164"/>
                      </a:lnTo>
                      <a:lnTo>
                        <a:pt x="102" y="164"/>
                      </a:lnTo>
                      <a:lnTo>
                        <a:pt x="102" y="151"/>
                      </a:lnTo>
                      <a:lnTo>
                        <a:pt x="116" y="151"/>
                      </a:lnTo>
                      <a:lnTo>
                        <a:pt x="99" y="104"/>
                      </a:lnTo>
                      <a:lnTo>
                        <a:pt x="56" y="103"/>
                      </a:lnTo>
                      <a:lnTo>
                        <a:pt x="36" y="151"/>
                      </a:lnTo>
                      <a:lnTo>
                        <a:pt x="59" y="151"/>
                      </a:lnTo>
                      <a:lnTo>
                        <a:pt x="59" y="164"/>
                      </a:lnTo>
                      <a:lnTo>
                        <a:pt x="0" y="164"/>
                      </a:lnTo>
                      <a:lnTo>
                        <a:pt x="0" y="151"/>
                      </a:lnTo>
                      <a:lnTo>
                        <a:pt x="16" y="151"/>
                      </a:lnTo>
                      <a:lnTo>
                        <a:pt x="75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029200" y="6597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17" y="0"/>
                      </a:moveTo>
                      <a:lnTo>
                        <a:pt x="0" y="45"/>
                      </a:lnTo>
                      <a:lnTo>
                        <a:pt x="33" y="4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4444920" y="6567480"/>
                <a:ext cx="149400" cy="128520"/>
                <a:chOff x="4444920" y="6567480"/>
                <a:chExt cx="149400" cy="1285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444920" y="6567480"/>
                  <a:ext cx="149400" cy="128520"/>
                </a:xfrm>
                <a:custGeom>
                  <a:avLst/>
                  <a:gdLst/>
                  <a:ahLst/>
                  <a:rect l="l" t="t" r="r" b="b"/>
                  <a:pathLst>
                    <a:path w="189" h="162">
                      <a:moveTo>
                        <a:pt x="74" y="0"/>
                      </a:moveTo>
                      <a:lnTo>
                        <a:pt x="138" y="0"/>
                      </a:lnTo>
                      <a:lnTo>
                        <a:pt x="152" y="7"/>
                      </a:lnTo>
                      <a:lnTo>
                        <a:pt x="176" y="23"/>
                      </a:lnTo>
                      <a:lnTo>
                        <a:pt x="184" y="42"/>
                      </a:lnTo>
                      <a:lnTo>
                        <a:pt x="189" y="67"/>
                      </a:lnTo>
                      <a:lnTo>
                        <a:pt x="189" y="93"/>
                      </a:lnTo>
                      <a:lnTo>
                        <a:pt x="184" y="118"/>
                      </a:lnTo>
                      <a:lnTo>
                        <a:pt x="176" y="137"/>
                      </a:lnTo>
                      <a:lnTo>
                        <a:pt x="147" y="157"/>
                      </a:lnTo>
                      <a:lnTo>
                        <a:pt x="134" y="162"/>
                      </a:lnTo>
                      <a:lnTo>
                        <a:pt x="74" y="162"/>
                      </a:lnTo>
                      <a:lnTo>
                        <a:pt x="0" y="162"/>
                      </a:lnTo>
                      <a:lnTo>
                        <a:pt x="2" y="147"/>
                      </a:lnTo>
                      <a:lnTo>
                        <a:pt x="24" y="147"/>
                      </a:lnTo>
                      <a:lnTo>
                        <a:pt x="24" y="99"/>
                      </a:lnTo>
                      <a:lnTo>
                        <a:pt x="24" y="67"/>
                      </a:lnTo>
                      <a:lnTo>
                        <a:pt x="24" y="42"/>
                      </a:lnTo>
                      <a:lnTo>
                        <a:pt x="24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510080" y="6583320"/>
                  <a:ext cx="36360" cy="100080"/>
                </a:xfrm>
                <a:custGeom>
                  <a:avLst/>
                  <a:gdLst/>
                  <a:ahLst/>
                  <a:rect l="l" t="t" r="r" b="b"/>
                  <a:pathLst>
                    <a:path w="44" h="127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127"/>
                      </a:lnTo>
                      <a:lnTo>
                        <a:pt x="15" y="127"/>
                      </a:lnTo>
                      <a:lnTo>
                        <a:pt x="31" y="127"/>
                      </a:lnTo>
                      <a:lnTo>
                        <a:pt x="41" y="117"/>
                      </a:lnTo>
                      <a:lnTo>
                        <a:pt x="44" y="106"/>
                      </a:lnTo>
                      <a:lnTo>
                        <a:pt x="44" y="21"/>
                      </a:lnTo>
                      <a:lnTo>
                        <a:pt x="41" y="10"/>
                      </a:lnTo>
                      <a:lnTo>
                        <a:pt x="3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9" name=""/>
            <p:cNvGrpSpPr/>
            <p:nvPr/>
          </p:nvGrpSpPr>
          <p:grpSpPr>
            <a:xfrm>
              <a:off x="3592440" y="5500800"/>
              <a:ext cx="2098800" cy="115920"/>
              <a:chOff x="3592440" y="5500800"/>
              <a:chExt cx="2098800" cy="11592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3592440" y="5500800"/>
                <a:ext cx="231840" cy="115920"/>
                <a:chOff x="3592440" y="5500800"/>
                <a:chExt cx="231840" cy="1159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59244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6" y="147"/>
                      </a:lnTo>
                      <a:lnTo>
                        <a:pt x="26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66552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9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7"/>
                      </a:lnTo>
                      <a:lnTo>
                        <a:pt x="72" y="57"/>
                      </a:lnTo>
                      <a:lnTo>
                        <a:pt x="72" y="0"/>
                      </a:lnTo>
                      <a:lnTo>
                        <a:pt x="109" y="0"/>
                      </a:lnTo>
                      <a:lnTo>
                        <a:pt x="109" y="147"/>
                      </a:lnTo>
                      <a:lnTo>
                        <a:pt x="72" y="147"/>
                      </a:lnTo>
                      <a:lnTo>
                        <a:pt x="72" y="85"/>
                      </a:lnTo>
                      <a:lnTo>
                        <a:pt x="36" y="85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6092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1" y="85"/>
                      </a:lnTo>
                      <a:lnTo>
                        <a:pt x="41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3875040" y="5500800"/>
                <a:ext cx="452520" cy="115920"/>
                <a:chOff x="3875040" y="5500800"/>
                <a:chExt cx="452520" cy="1159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875040" y="5500800"/>
                  <a:ext cx="77760" cy="115920"/>
                </a:xfrm>
                <a:custGeom>
                  <a:avLst/>
                  <a:gdLst/>
                  <a:ahLst/>
                  <a:rect l="l" t="t" r="r" b="b"/>
                  <a:pathLst>
                    <a:path w="98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118"/>
                      </a:lnTo>
                      <a:lnTo>
                        <a:pt x="62" y="118"/>
                      </a:lnTo>
                      <a:lnTo>
                        <a:pt x="62" y="0"/>
                      </a:lnTo>
                      <a:lnTo>
                        <a:pt x="98" y="0"/>
                      </a:lnTo>
                      <a:lnTo>
                        <a:pt x="98" y="127"/>
                      </a:lnTo>
                      <a:lnTo>
                        <a:pt x="72" y="147"/>
                      </a:lnTo>
                      <a:lnTo>
                        <a:pt x="26" y="147"/>
                      </a:lnTo>
                      <a:lnTo>
                        <a:pt x="0" y="1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96396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67" y="69"/>
                      </a:lnTo>
                      <a:lnTo>
                        <a:pt x="67" y="0"/>
                      </a:lnTo>
                      <a:lnTo>
                        <a:pt x="106" y="0"/>
                      </a:lnTo>
                      <a:lnTo>
                        <a:pt x="106" y="147"/>
                      </a:lnTo>
                      <a:lnTo>
                        <a:pt x="67" y="147"/>
                      </a:lnTo>
                      <a:lnTo>
                        <a:pt x="40" y="76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060800" y="5500800"/>
                  <a:ext cx="2844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09896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3" y="29"/>
                      </a:lnTo>
                      <a:lnTo>
                        <a:pt x="63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17528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248000" y="5500800"/>
                  <a:ext cx="79560" cy="115920"/>
                </a:xfrm>
                <a:custGeom>
                  <a:avLst/>
                  <a:gdLst/>
                  <a:ahLst/>
                  <a:rect l="l" t="t" r="r" b="b"/>
                  <a:pathLst>
                    <a:path w="99" h="14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99" y="20"/>
                      </a:lnTo>
                      <a:lnTo>
                        <a:pt x="99" y="127"/>
                      </a:lnTo>
                      <a:lnTo>
                        <a:pt x="76" y="147"/>
                      </a:lnTo>
                      <a:lnTo>
                        <a:pt x="0" y="147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5" y="118"/>
                      </a:lnTo>
                      <a:lnTo>
                        <a:pt x="58" y="118"/>
                      </a:lnTo>
                      <a:lnTo>
                        <a:pt x="58" y="28"/>
                      </a:lnTo>
                      <a:lnTo>
                        <a:pt x="35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386240" y="5500800"/>
                <a:ext cx="457200" cy="115920"/>
                <a:chOff x="4386240" y="5500800"/>
                <a:chExt cx="457200" cy="1159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438624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3" y="20"/>
                      </a:lnTo>
                      <a:lnTo>
                        <a:pt x="93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7" y="61"/>
                      </a:lnTo>
                      <a:lnTo>
                        <a:pt x="65" y="61"/>
                      </a:lnTo>
                      <a:lnTo>
                        <a:pt x="93" y="82"/>
                      </a:lnTo>
                      <a:lnTo>
                        <a:pt x="93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1" y="102"/>
                      </a:lnTo>
                      <a:lnTo>
                        <a:pt x="31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468680" y="5500800"/>
                  <a:ext cx="6696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527720" y="5500800"/>
                  <a:ext cx="9180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6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61160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3" h="147">
                      <a:moveTo>
                        <a:pt x="0" y="0"/>
                      </a:moveTo>
                      <a:lnTo>
                        <a:pt x="83" y="0"/>
                      </a:lnTo>
                      <a:lnTo>
                        <a:pt x="83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69116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76892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5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5" y="20"/>
                      </a:lnTo>
                      <a:lnTo>
                        <a:pt x="95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8" y="61"/>
                      </a:lnTo>
                      <a:lnTo>
                        <a:pt x="65" y="61"/>
                      </a:lnTo>
                      <a:lnTo>
                        <a:pt x="95" y="82"/>
                      </a:lnTo>
                      <a:lnTo>
                        <a:pt x="95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2" y="102"/>
                      </a:lnTo>
                      <a:lnTo>
                        <a:pt x="32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892760" y="5500800"/>
                <a:ext cx="160200" cy="115920"/>
                <a:chOff x="4892760" y="5500800"/>
                <a:chExt cx="160200" cy="1159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892760" y="5500800"/>
                  <a:ext cx="81000" cy="115920"/>
                </a:xfrm>
                <a:custGeom>
                  <a:avLst/>
                  <a:gdLst/>
                  <a:ahLst/>
                  <a:rect l="l" t="t" r="r" b="b"/>
                  <a:pathLst>
                    <a:path w="102" h="147">
                      <a:moveTo>
                        <a:pt x="26" y="0"/>
                      </a:moveTo>
                      <a:lnTo>
                        <a:pt x="75" y="0"/>
                      </a:lnTo>
                      <a:lnTo>
                        <a:pt x="102" y="24"/>
                      </a:lnTo>
                      <a:lnTo>
                        <a:pt x="102" y="122"/>
                      </a:lnTo>
                      <a:lnTo>
                        <a:pt x="75" y="147"/>
                      </a:lnTo>
                      <a:lnTo>
                        <a:pt x="66" y="147"/>
                      </a:lnTo>
                      <a:lnTo>
                        <a:pt x="36" y="147"/>
                      </a:lnTo>
                      <a:lnTo>
                        <a:pt x="26" y="147"/>
                      </a:lnTo>
                      <a:lnTo>
                        <a:pt x="0" y="122"/>
                      </a:lnTo>
                      <a:lnTo>
                        <a:pt x="0" y="118"/>
                      </a:lnTo>
                      <a:lnTo>
                        <a:pt x="39" y="118"/>
                      </a:lnTo>
                      <a:lnTo>
                        <a:pt x="62" y="118"/>
                      </a:lnTo>
                      <a:lnTo>
                        <a:pt x="62" y="28"/>
                      </a:lnTo>
                      <a:lnTo>
                        <a:pt x="39" y="28"/>
                      </a:lnTo>
                      <a:lnTo>
                        <a:pt x="39" y="118"/>
                      </a:lnTo>
                      <a:lnTo>
                        <a:pt x="0" y="118"/>
                      </a:lnTo>
                      <a:lnTo>
                        <a:pt x="0" y="2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98960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7" y="57"/>
                      </a:lnTo>
                      <a:lnTo>
                        <a:pt x="77" y="85"/>
                      </a:lnTo>
                      <a:lnTo>
                        <a:pt x="41" y="85"/>
                      </a:lnTo>
                      <a:lnTo>
                        <a:pt x="41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091120" y="5500800"/>
                <a:ext cx="600120" cy="115920"/>
                <a:chOff x="5091120" y="5500800"/>
                <a:chExt cx="600120" cy="1159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9112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7" y="24"/>
                      </a:lnTo>
                      <a:lnTo>
                        <a:pt x="44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4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86520" y="5500800"/>
                  <a:ext cx="102960" cy="115920"/>
                </a:xfrm>
                <a:custGeom>
                  <a:avLst/>
                  <a:gdLst/>
                  <a:ahLst/>
                  <a:rect l="l" t="t" r="r" b="b"/>
                  <a:pathLst>
                    <a:path w="129" h="147">
                      <a:moveTo>
                        <a:pt x="0" y="147"/>
                      </a:moveTo>
                      <a:lnTo>
                        <a:pt x="37" y="147"/>
                      </a:lnTo>
                      <a:lnTo>
                        <a:pt x="37" y="69"/>
                      </a:lnTo>
                      <a:lnTo>
                        <a:pt x="55" y="147"/>
                      </a:lnTo>
                      <a:lnTo>
                        <a:pt x="74" y="147"/>
                      </a:lnTo>
                      <a:lnTo>
                        <a:pt x="93" y="69"/>
                      </a:lnTo>
                      <a:lnTo>
                        <a:pt x="93" y="147"/>
                      </a:lnTo>
                      <a:lnTo>
                        <a:pt x="129" y="147"/>
                      </a:lnTo>
                      <a:lnTo>
                        <a:pt x="129" y="0"/>
                      </a:lnTo>
                      <a:lnTo>
                        <a:pt x="79" y="0"/>
                      </a:lnTo>
                      <a:lnTo>
                        <a:pt x="65" y="69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0712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39" y="28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5"/>
                      </a:lnTo>
                      <a:lnTo>
                        <a:pt x="39" y="85"/>
                      </a:lnTo>
                      <a:lnTo>
                        <a:pt x="39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83080" y="5500800"/>
                  <a:ext cx="7488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93" y="16"/>
                      </a:lnTo>
                      <a:lnTo>
                        <a:pt x="93" y="57"/>
                      </a:lnTo>
                      <a:lnTo>
                        <a:pt x="71" y="73"/>
                      </a:lnTo>
                      <a:lnTo>
                        <a:pt x="93" y="90"/>
                      </a:lnTo>
                      <a:lnTo>
                        <a:pt x="93" y="147"/>
                      </a:lnTo>
                      <a:lnTo>
                        <a:pt x="58" y="147"/>
                      </a:lnTo>
                      <a:lnTo>
                        <a:pt x="58" y="90"/>
                      </a:lnTo>
                      <a:lnTo>
                        <a:pt x="58" y="61"/>
                      </a:lnTo>
                      <a:lnTo>
                        <a:pt x="36" y="61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61"/>
                      </a:lnTo>
                      <a:lnTo>
                        <a:pt x="58" y="90"/>
                      </a:lnTo>
                      <a:lnTo>
                        <a:pt x="36" y="90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472000" y="5500800"/>
                  <a:ext cx="2880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513400" y="5500800"/>
                  <a:ext cx="79200" cy="115920"/>
                </a:xfrm>
                <a:custGeom>
                  <a:avLst/>
                  <a:gdLst/>
                  <a:ahLst/>
                  <a:rect l="l" t="t" r="r" b="b"/>
                  <a:pathLst>
                    <a:path w="101" h="147">
                      <a:moveTo>
                        <a:pt x="28" y="0"/>
                      </a:moveTo>
                      <a:lnTo>
                        <a:pt x="73" y="0"/>
                      </a:lnTo>
                      <a:lnTo>
                        <a:pt x="101" y="20"/>
                      </a:lnTo>
                      <a:lnTo>
                        <a:pt x="101" y="57"/>
                      </a:lnTo>
                      <a:lnTo>
                        <a:pt x="65" y="57"/>
                      </a:lnTo>
                      <a:lnTo>
                        <a:pt x="65" y="28"/>
                      </a:lnTo>
                      <a:lnTo>
                        <a:pt x="36" y="28"/>
                      </a:lnTo>
                      <a:lnTo>
                        <a:pt x="36" y="118"/>
                      </a:lnTo>
                      <a:lnTo>
                        <a:pt x="65" y="118"/>
                      </a:lnTo>
                      <a:lnTo>
                        <a:pt x="65" y="85"/>
                      </a:lnTo>
                      <a:lnTo>
                        <a:pt x="101" y="85"/>
                      </a:lnTo>
                      <a:lnTo>
                        <a:pt x="101" y="127"/>
                      </a:lnTo>
                      <a:lnTo>
                        <a:pt x="73" y="147"/>
                      </a:lnTo>
                      <a:lnTo>
                        <a:pt x="28" y="147"/>
                      </a:lnTo>
                      <a:lnTo>
                        <a:pt x="0" y="127"/>
                      </a:lnTo>
                      <a:lnTo>
                        <a:pt x="0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60088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9" name=""/>
          <p:cNvGrpSpPr/>
          <p:nvPr/>
        </p:nvGrpSpPr>
        <p:grpSpPr>
          <a:xfrm>
            <a:off x="3727440" y="5479920"/>
            <a:ext cx="3041640" cy="1295640"/>
            <a:chOff x="3727440" y="5479920"/>
            <a:chExt cx="3041640" cy="1295640"/>
          </a:xfrm>
        </p:grpSpPr>
        <p:grpSp>
          <p:nvGrpSpPr>
            <p:cNvPr id="790" name=""/>
            <p:cNvGrpSpPr/>
            <p:nvPr/>
          </p:nvGrpSpPr>
          <p:grpSpPr>
            <a:xfrm>
              <a:off x="3727440" y="5479920"/>
              <a:ext cx="3041640" cy="1295640"/>
              <a:chOff x="3727440" y="5479920"/>
              <a:chExt cx="3041640" cy="1295640"/>
            </a:xfrm>
          </p:grpSpPr>
          <p:sp>
            <p:nvSpPr>
              <p:cNvPr id="791" name=""/>
              <p:cNvSpPr/>
              <p:nvPr/>
            </p:nvSpPr>
            <p:spPr>
              <a:xfrm>
                <a:off x="3727440" y="5479920"/>
                <a:ext cx="3041640" cy="1295640"/>
              </a:xfrm>
              <a:prstGeom prst="rect">
                <a:avLst/>
              </a:prstGeom>
              <a:solidFill>
                <a:srgbClr val="bfffb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95840" y="5548320"/>
                <a:ext cx="2903400" cy="11574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998880" y="5649840"/>
                <a:ext cx="2481120" cy="94140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4838760" y="6411960"/>
              <a:ext cx="799920" cy="156960"/>
              <a:chOff x="4838760" y="6411960"/>
              <a:chExt cx="799920" cy="15696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4838760" y="6411960"/>
                <a:ext cx="137880" cy="154080"/>
                <a:chOff x="4838760" y="6411960"/>
                <a:chExt cx="137880" cy="1540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4843440" y="645480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198">
                      <a:moveTo>
                        <a:pt x="241" y="198"/>
                      </a:moveTo>
                      <a:lnTo>
                        <a:pt x="153" y="154"/>
                      </a:lnTo>
                      <a:lnTo>
                        <a:pt x="63" y="92"/>
                      </a:lnTo>
                      <a:lnTo>
                        <a:pt x="0" y="0"/>
                      </a:lnTo>
                      <a:lnTo>
                        <a:pt x="60" y="11"/>
                      </a:lnTo>
                      <a:lnTo>
                        <a:pt x="139" y="47"/>
                      </a:lnTo>
                      <a:lnTo>
                        <a:pt x="193" y="108"/>
                      </a:lnTo>
                      <a:lnTo>
                        <a:pt x="241" y="19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879800" y="6411960"/>
                  <a:ext cx="96840" cy="131760"/>
                </a:xfrm>
                <a:custGeom>
                  <a:avLst/>
                  <a:gdLst/>
                  <a:ahLst/>
                  <a:rect l="l" t="t" r="r" b="b"/>
                  <a:pathLst>
                    <a:path w="183" h="248">
                      <a:moveTo>
                        <a:pt x="183" y="248"/>
                      </a:moveTo>
                      <a:lnTo>
                        <a:pt x="106" y="180"/>
                      </a:lnTo>
                      <a:lnTo>
                        <a:pt x="55" y="119"/>
                      </a:lnTo>
                      <a:lnTo>
                        <a:pt x="30" y="64"/>
                      </a:lnTo>
                      <a:lnTo>
                        <a:pt x="0" y="0"/>
                      </a:lnTo>
                      <a:lnTo>
                        <a:pt x="61" y="31"/>
                      </a:lnTo>
                      <a:lnTo>
                        <a:pt x="108" y="68"/>
                      </a:lnTo>
                      <a:lnTo>
                        <a:pt x="150" y="123"/>
                      </a:lnTo>
                      <a:lnTo>
                        <a:pt x="178" y="186"/>
                      </a:lnTo>
                      <a:lnTo>
                        <a:pt x="183" y="24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838760" y="6513480"/>
                  <a:ext cx="122040" cy="52560"/>
                </a:xfrm>
                <a:custGeom>
                  <a:avLst/>
                  <a:gdLst/>
                  <a:ahLst/>
                  <a:rect l="l" t="t" r="r" b="b"/>
                  <a:pathLst>
                    <a:path w="231" h="101">
                      <a:moveTo>
                        <a:pt x="231" y="101"/>
                      </a:moveTo>
                      <a:lnTo>
                        <a:pt x="148" y="81"/>
                      </a:lnTo>
                      <a:lnTo>
                        <a:pt x="60" y="48"/>
                      </a:lnTo>
                      <a:lnTo>
                        <a:pt x="0" y="0"/>
                      </a:lnTo>
                      <a:lnTo>
                        <a:pt x="60" y="3"/>
                      </a:lnTo>
                      <a:lnTo>
                        <a:pt x="133" y="23"/>
                      </a:lnTo>
                      <a:lnTo>
                        <a:pt x="184" y="51"/>
                      </a:lnTo>
                      <a:lnTo>
                        <a:pt x="231" y="10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500800" y="6415200"/>
                <a:ext cx="137880" cy="153720"/>
                <a:chOff x="5500800" y="6415200"/>
                <a:chExt cx="137880" cy="1537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506920" y="645804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197">
                      <a:moveTo>
                        <a:pt x="0" y="197"/>
                      </a:moveTo>
                      <a:lnTo>
                        <a:pt x="87" y="153"/>
                      </a:lnTo>
                      <a:lnTo>
                        <a:pt x="176" y="91"/>
                      </a:lnTo>
                      <a:lnTo>
                        <a:pt x="241" y="0"/>
                      </a:lnTo>
                      <a:lnTo>
                        <a:pt x="181" y="10"/>
                      </a:lnTo>
                      <a:lnTo>
                        <a:pt x="102" y="46"/>
                      </a:lnTo>
                      <a:lnTo>
                        <a:pt x="48" y="10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00800" y="6415200"/>
                  <a:ext cx="96840" cy="131760"/>
                </a:xfrm>
                <a:custGeom>
                  <a:avLst/>
                  <a:gdLst/>
                  <a:ahLst/>
                  <a:rect l="l" t="t" r="r" b="b"/>
                  <a:pathLst>
                    <a:path w="184" h="248">
                      <a:moveTo>
                        <a:pt x="0" y="248"/>
                      </a:moveTo>
                      <a:lnTo>
                        <a:pt x="78" y="180"/>
                      </a:lnTo>
                      <a:lnTo>
                        <a:pt x="129" y="119"/>
                      </a:lnTo>
                      <a:lnTo>
                        <a:pt x="154" y="64"/>
                      </a:lnTo>
                      <a:lnTo>
                        <a:pt x="184" y="0"/>
                      </a:lnTo>
                      <a:lnTo>
                        <a:pt x="121" y="29"/>
                      </a:lnTo>
                      <a:lnTo>
                        <a:pt x="76" y="67"/>
                      </a:lnTo>
                      <a:lnTo>
                        <a:pt x="34" y="122"/>
                      </a:lnTo>
                      <a:lnTo>
                        <a:pt x="5" y="186"/>
                      </a:lnTo>
                      <a:lnTo>
                        <a:pt x="0" y="24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16640" y="6515280"/>
                  <a:ext cx="122040" cy="53640"/>
                </a:xfrm>
                <a:custGeom>
                  <a:avLst/>
                  <a:gdLst/>
                  <a:ahLst/>
                  <a:rect l="l" t="t" r="r" b="b"/>
                  <a:pathLst>
                    <a:path w="232" h="102">
                      <a:moveTo>
                        <a:pt x="0" y="102"/>
                      </a:moveTo>
                      <a:lnTo>
                        <a:pt x="84" y="80"/>
                      </a:lnTo>
                      <a:lnTo>
                        <a:pt x="170" y="49"/>
                      </a:lnTo>
                      <a:lnTo>
                        <a:pt x="232" y="0"/>
                      </a:lnTo>
                      <a:lnTo>
                        <a:pt x="170" y="4"/>
                      </a:lnTo>
                      <a:lnTo>
                        <a:pt x="99" y="23"/>
                      </a:lnTo>
                      <a:lnTo>
                        <a:pt x="48" y="5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4611600" y="5819760"/>
              <a:ext cx="1257480" cy="876240"/>
              <a:chOff x="4611600" y="5819760"/>
              <a:chExt cx="1257480" cy="87624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4884840" y="5819760"/>
                <a:ext cx="698400" cy="852480"/>
                <a:chOff x="4884840" y="5819760"/>
                <a:chExt cx="698400" cy="852480"/>
              </a:xfrm>
            </p:grpSpPr>
            <p:grpSp>
              <p:nvGrpSpPr>
                <p:cNvPr id="805" name=""/>
                <p:cNvGrpSpPr/>
                <p:nvPr/>
              </p:nvGrpSpPr>
              <p:grpSpPr>
                <a:xfrm>
                  <a:off x="4884840" y="5819760"/>
                  <a:ext cx="698400" cy="852480"/>
                  <a:chOff x="4884840" y="5819760"/>
                  <a:chExt cx="698400" cy="852480"/>
                </a:xfrm>
              </p:grpSpPr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4884840" y="5819760"/>
                    <a:ext cx="698400" cy="169920"/>
                    <a:chOff x="4884840" y="5819760"/>
                    <a:chExt cx="698400" cy="16992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4884840" y="5819760"/>
                      <a:ext cx="34128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4" h="320">
                          <a:moveTo>
                            <a:pt x="0" y="0"/>
                          </a:moveTo>
                          <a:lnTo>
                            <a:pt x="644" y="0"/>
                          </a:lnTo>
                          <a:lnTo>
                            <a:pt x="644" y="320"/>
                          </a:lnTo>
                          <a:lnTo>
                            <a:pt x="184" y="320"/>
                          </a:lnTo>
                          <a:lnTo>
                            <a:pt x="184" y="155"/>
                          </a:lnTo>
                          <a:lnTo>
                            <a:pt x="176" y="128"/>
                          </a:lnTo>
                          <a:lnTo>
                            <a:pt x="160" y="113"/>
                          </a:lnTo>
                          <a:lnTo>
                            <a:pt x="131" y="106"/>
                          </a:lnTo>
                          <a:lnTo>
                            <a:pt x="0" y="1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243400" y="5819760"/>
                      <a:ext cx="33984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4" h="320">
                          <a:moveTo>
                            <a:pt x="644" y="0"/>
                          </a:moveTo>
                          <a:lnTo>
                            <a:pt x="0" y="0"/>
                          </a:lnTo>
                          <a:lnTo>
                            <a:pt x="0" y="320"/>
                          </a:lnTo>
                          <a:lnTo>
                            <a:pt x="460" y="320"/>
                          </a:lnTo>
                          <a:lnTo>
                            <a:pt x="460" y="155"/>
                          </a:lnTo>
                          <a:lnTo>
                            <a:pt x="468" y="128"/>
                          </a:lnTo>
                          <a:lnTo>
                            <a:pt x="484" y="113"/>
                          </a:lnTo>
                          <a:lnTo>
                            <a:pt x="512" y="106"/>
                          </a:lnTo>
                          <a:lnTo>
                            <a:pt x="644" y="106"/>
                          </a:lnTo>
                          <a:lnTo>
                            <a:pt x="644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9" name=""/>
                  <p:cNvSpPr/>
                  <p:nvPr/>
                </p:nvSpPr>
                <p:spPr>
                  <a:xfrm>
                    <a:off x="4903920" y="5821200"/>
                    <a:ext cx="671400" cy="85104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260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4917960" y="5850000"/>
                  <a:ext cx="625680" cy="743040"/>
                  <a:chOff x="4917960" y="5850000"/>
                  <a:chExt cx="625680" cy="74304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5329080" y="6286680"/>
                    <a:ext cx="21456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80">
                        <a:moveTo>
                          <a:pt x="0" y="0"/>
                        </a:moveTo>
                        <a:lnTo>
                          <a:pt x="84" y="36"/>
                        </a:lnTo>
                        <a:lnTo>
                          <a:pt x="93" y="116"/>
                        </a:lnTo>
                        <a:lnTo>
                          <a:pt x="197" y="157"/>
                        </a:lnTo>
                        <a:lnTo>
                          <a:pt x="330" y="185"/>
                        </a:lnTo>
                        <a:lnTo>
                          <a:pt x="404" y="221"/>
                        </a:lnTo>
                        <a:lnTo>
                          <a:pt x="395" y="253"/>
                        </a:lnTo>
                        <a:lnTo>
                          <a:pt x="375" y="301"/>
                        </a:lnTo>
                        <a:lnTo>
                          <a:pt x="350" y="352"/>
                        </a:lnTo>
                        <a:lnTo>
                          <a:pt x="326" y="395"/>
                        </a:lnTo>
                        <a:lnTo>
                          <a:pt x="301" y="432"/>
                        </a:lnTo>
                        <a:lnTo>
                          <a:pt x="274" y="480"/>
                        </a:lnTo>
                        <a:lnTo>
                          <a:pt x="226" y="532"/>
                        </a:lnTo>
                        <a:lnTo>
                          <a:pt x="185" y="580"/>
                        </a:lnTo>
                        <a:lnTo>
                          <a:pt x="57" y="161"/>
                        </a:lnTo>
                        <a:lnTo>
                          <a:pt x="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130720" y="6246720"/>
                    <a:ext cx="3002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651">
                        <a:moveTo>
                          <a:pt x="565" y="651"/>
                        </a:moveTo>
                        <a:lnTo>
                          <a:pt x="314" y="651"/>
                        </a:lnTo>
                        <a:lnTo>
                          <a:pt x="206" y="651"/>
                        </a:lnTo>
                        <a:lnTo>
                          <a:pt x="206" y="529"/>
                        </a:lnTo>
                        <a:lnTo>
                          <a:pt x="157" y="374"/>
                        </a:lnTo>
                        <a:lnTo>
                          <a:pt x="100" y="218"/>
                        </a:lnTo>
                        <a:lnTo>
                          <a:pt x="109" y="125"/>
                        </a:lnTo>
                        <a:lnTo>
                          <a:pt x="36" y="73"/>
                        </a:lnTo>
                        <a:lnTo>
                          <a:pt x="0" y="0"/>
                        </a:lnTo>
                        <a:lnTo>
                          <a:pt x="68" y="41"/>
                        </a:lnTo>
                        <a:lnTo>
                          <a:pt x="140" y="78"/>
                        </a:lnTo>
                        <a:lnTo>
                          <a:pt x="220" y="94"/>
                        </a:lnTo>
                        <a:lnTo>
                          <a:pt x="258" y="105"/>
                        </a:lnTo>
                        <a:lnTo>
                          <a:pt x="293" y="105"/>
                        </a:lnTo>
                        <a:lnTo>
                          <a:pt x="344" y="94"/>
                        </a:lnTo>
                        <a:lnTo>
                          <a:pt x="380" y="76"/>
                        </a:lnTo>
                        <a:lnTo>
                          <a:pt x="382" y="178"/>
                        </a:lnTo>
                        <a:lnTo>
                          <a:pt x="435" y="242"/>
                        </a:lnTo>
                        <a:lnTo>
                          <a:pt x="513" y="489"/>
                        </a:lnTo>
                        <a:lnTo>
                          <a:pt x="565" y="65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086440" y="5878440"/>
                    <a:ext cx="315720" cy="424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803">
                        <a:moveTo>
                          <a:pt x="66" y="630"/>
                        </a:moveTo>
                        <a:lnTo>
                          <a:pt x="57" y="538"/>
                        </a:lnTo>
                        <a:lnTo>
                          <a:pt x="17" y="433"/>
                        </a:lnTo>
                        <a:lnTo>
                          <a:pt x="0" y="272"/>
                        </a:lnTo>
                        <a:lnTo>
                          <a:pt x="78" y="104"/>
                        </a:lnTo>
                        <a:lnTo>
                          <a:pt x="178" y="36"/>
                        </a:lnTo>
                        <a:lnTo>
                          <a:pt x="304" y="4"/>
                        </a:lnTo>
                        <a:lnTo>
                          <a:pt x="416" y="0"/>
                        </a:lnTo>
                        <a:lnTo>
                          <a:pt x="506" y="52"/>
                        </a:lnTo>
                        <a:lnTo>
                          <a:pt x="578" y="180"/>
                        </a:lnTo>
                        <a:lnTo>
                          <a:pt x="599" y="289"/>
                        </a:lnTo>
                        <a:lnTo>
                          <a:pt x="594" y="430"/>
                        </a:lnTo>
                        <a:lnTo>
                          <a:pt x="582" y="538"/>
                        </a:lnTo>
                        <a:lnTo>
                          <a:pt x="573" y="587"/>
                        </a:lnTo>
                        <a:lnTo>
                          <a:pt x="558" y="627"/>
                        </a:lnTo>
                        <a:lnTo>
                          <a:pt x="530" y="670"/>
                        </a:lnTo>
                        <a:lnTo>
                          <a:pt x="497" y="691"/>
                        </a:lnTo>
                        <a:lnTo>
                          <a:pt x="461" y="703"/>
                        </a:lnTo>
                        <a:lnTo>
                          <a:pt x="464" y="776"/>
                        </a:lnTo>
                        <a:lnTo>
                          <a:pt x="433" y="792"/>
                        </a:lnTo>
                        <a:lnTo>
                          <a:pt x="388" y="803"/>
                        </a:lnTo>
                        <a:lnTo>
                          <a:pt x="307" y="800"/>
                        </a:lnTo>
                        <a:lnTo>
                          <a:pt x="243" y="776"/>
                        </a:lnTo>
                        <a:lnTo>
                          <a:pt x="147" y="736"/>
                        </a:lnTo>
                        <a:lnTo>
                          <a:pt x="86" y="698"/>
                        </a:lnTo>
                        <a:lnTo>
                          <a:pt x="66" y="63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086440" y="6051600"/>
                    <a:ext cx="23472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554">
                        <a:moveTo>
                          <a:pt x="134" y="0"/>
                        </a:moveTo>
                        <a:lnTo>
                          <a:pt x="166" y="109"/>
                        </a:lnTo>
                        <a:lnTo>
                          <a:pt x="183" y="185"/>
                        </a:lnTo>
                        <a:lnTo>
                          <a:pt x="207" y="253"/>
                        </a:lnTo>
                        <a:lnTo>
                          <a:pt x="243" y="317"/>
                        </a:lnTo>
                        <a:lnTo>
                          <a:pt x="256" y="334"/>
                        </a:lnTo>
                        <a:lnTo>
                          <a:pt x="283" y="354"/>
                        </a:lnTo>
                        <a:lnTo>
                          <a:pt x="308" y="368"/>
                        </a:lnTo>
                        <a:lnTo>
                          <a:pt x="344" y="378"/>
                        </a:lnTo>
                        <a:lnTo>
                          <a:pt x="370" y="384"/>
                        </a:lnTo>
                        <a:lnTo>
                          <a:pt x="391" y="389"/>
                        </a:lnTo>
                        <a:lnTo>
                          <a:pt x="416" y="389"/>
                        </a:lnTo>
                        <a:lnTo>
                          <a:pt x="445" y="383"/>
                        </a:lnTo>
                        <a:lnTo>
                          <a:pt x="416" y="414"/>
                        </a:lnTo>
                        <a:lnTo>
                          <a:pt x="364" y="447"/>
                        </a:lnTo>
                        <a:lnTo>
                          <a:pt x="328" y="483"/>
                        </a:lnTo>
                        <a:lnTo>
                          <a:pt x="304" y="518"/>
                        </a:lnTo>
                        <a:lnTo>
                          <a:pt x="279" y="542"/>
                        </a:lnTo>
                        <a:lnTo>
                          <a:pt x="223" y="551"/>
                        </a:lnTo>
                        <a:lnTo>
                          <a:pt x="147" y="554"/>
                        </a:lnTo>
                        <a:lnTo>
                          <a:pt x="33" y="471"/>
                        </a:lnTo>
                        <a:lnTo>
                          <a:pt x="0" y="407"/>
                        </a:lnTo>
                        <a:lnTo>
                          <a:pt x="45" y="265"/>
                        </a:lnTo>
                        <a:lnTo>
                          <a:pt x="69" y="125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5216400" y="6006960"/>
                    <a:ext cx="182520" cy="166680"/>
                    <a:chOff x="5216400" y="6006960"/>
                    <a:chExt cx="182520" cy="16668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5280120" y="6157800"/>
                      <a:ext cx="777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1">
                          <a:moveTo>
                            <a:pt x="0" y="10"/>
                          </a:moveTo>
                          <a:lnTo>
                            <a:pt x="14" y="4"/>
                          </a:lnTo>
                          <a:lnTo>
                            <a:pt x="36" y="1"/>
                          </a:lnTo>
                          <a:lnTo>
                            <a:pt x="57" y="4"/>
                          </a:lnTo>
                          <a:lnTo>
                            <a:pt x="77" y="4"/>
                          </a:lnTo>
                          <a:lnTo>
                            <a:pt x="100" y="0"/>
                          </a:lnTo>
                          <a:lnTo>
                            <a:pt x="117" y="1"/>
                          </a:lnTo>
                          <a:lnTo>
                            <a:pt x="133" y="1"/>
                          </a:lnTo>
                          <a:lnTo>
                            <a:pt x="147" y="10"/>
                          </a:lnTo>
                          <a:lnTo>
                            <a:pt x="124" y="22"/>
                          </a:lnTo>
                          <a:lnTo>
                            <a:pt x="86" y="31"/>
                          </a:lnTo>
                          <a:lnTo>
                            <a:pt x="41" y="31"/>
                          </a:lnTo>
                          <a:lnTo>
                            <a:pt x="17" y="22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5281560" y="6116760"/>
                      <a:ext cx="651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3">
                          <a:moveTo>
                            <a:pt x="27" y="6"/>
                          </a:moveTo>
                          <a:lnTo>
                            <a:pt x="8" y="0"/>
                          </a:lnTo>
                          <a:lnTo>
                            <a:pt x="3" y="0"/>
                          </a:lnTo>
                          <a:lnTo>
                            <a:pt x="0" y="8"/>
                          </a:lnTo>
                          <a:lnTo>
                            <a:pt x="0" y="15"/>
                          </a:lnTo>
                          <a:lnTo>
                            <a:pt x="11" y="21"/>
                          </a:lnTo>
                          <a:lnTo>
                            <a:pt x="27" y="22"/>
                          </a:lnTo>
                          <a:lnTo>
                            <a:pt x="45" y="24"/>
                          </a:lnTo>
                          <a:lnTo>
                            <a:pt x="60" y="30"/>
                          </a:lnTo>
                          <a:lnTo>
                            <a:pt x="78" y="33"/>
                          </a:lnTo>
                          <a:lnTo>
                            <a:pt x="95" y="33"/>
                          </a:lnTo>
                          <a:lnTo>
                            <a:pt x="108" y="28"/>
                          </a:lnTo>
                          <a:lnTo>
                            <a:pt x="115" y="20"/>
                          </a:lnTo>
                          <a:lnTo>
                            <a:pt x="121" y="8"/>
                          </a:lnTo>
                          <a:lnTo>
                            <a:pt x="108" y="11"/>
                          </a:lnTo>
                          <a:lnTo>
                            <a:pt x="99" y="17"/>
                          </a:lnTo>
                          <a:lnTo>
                            <a:pt x="93" y="15"/>
                          </a:lnTo>
                          <a:lnTo>
                            <a:pt x="80" y="11"/>
                          </a:lnTo>
                          <a:lnTo>
                            <a:pt x="68" y="6"/>
                          </a:lnTo>
                          <a:lnTo>
                            <a:pt x="59" y="3"/>
                          </a:lnTo>
                          <a:lnTo>
                            <a:pt x="42" y="8"/>
                          </a:lnTo>
                          <a:lnTo>
                            <a:pt x="27" y="6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5216400" y="6006960"/>
                      <a:ext cx="103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98">
                          <a:moveTo>
                            <a:pt x="0" y="35"/>
                          </a:moveTo>
                          <a:lnTo>
                            <a:pt x="24" y="16"/>
                          </a:lnTo>
                          <a:lnTo>
                            <a:pt x="54" y="6"/>
                          </a:lnTo>
                          <a:lnTo>
                            <a:pt x="86" y="0"/>
                          </a:lnTo>
                          <a:lnTo>
                            <a:pt x="124" y="3"/>
                          </a:lnTo>
                          <a:lnTo>
                            <a:pt x="149" y="16"/>
                          </a:lnTo>
                          <a:lnTo>
                            <a:pt x="170" y="41"/>
                          </a:lnTo>
                          <a:lnTo>
                            <a:pt x="181" y="95"/>
                          </a:lnTo>
                          <a:lnTo>
                            <a:pt x="191" y="146"/>
                          </a:lnTo>
                          <a:lnTo>
                            <a:pt x="197" y="198"/>
                          </a:lnTo>
                          <a:lnTo>
                            <a:pt x="178" y="187"/>
                          </a:lnTo>
                          <a:lnTo>
                            <a:pt x="158" y="180"/>
                          </a:lnTo>
                          <a:lnTo>
                            <a:pt x="133" y="189"/>
                          </a:lnTo>
                          <a:lnTo>
                            <a:pt x="146" y="134"/>
                          </a:lnTo>
                          <a:lnTo>
                            <a:pt x="157" y="82"/>
                          </a:lnTo>
                          <a:lnTo>
                            <a:pt x="154" y="53"/>
                          </a:lnTo>
                          <a:lnTo>
                            <a:pt x="131" y="28"/>
                          </a:lnTo>
                          <a:lnTo>
                            <a:pt x="73" y="22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5316480" y="6010200"/>
                      <a:ext cx="824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37">
                          <a:moveTo>
                            <a:pt x="0" y="37"/>
                          </a:moveTo>
                          <a:lnTo>
                            <a:pt x="31" y="10"/>
                          </a:lnTo>
                          <a:lnTo>
                            <a:pt x="60" y="0"/>
                          </a:lnTo>
                          <a:lnTo>
                            <a:pt x="100" y="1"/>
                          </a:lnTo>
                          <a:lnTo>
                            <a:pt x="138" y="16"/>
                          </a:lnTo>
                          <a:lnTo>
                            <a:pt x="156" y="34"/>
                          </a:lnTo>
                          <a:lnTo>
                            <a:pt x="151" y="37"/>
                          </a:lnTo>
                          <a:lnTo>
                            <a:pt x="118" y="25"/>
                          </a:lnTo>
                          <a:lnTo>
                            <a:pt x="76" y="16"/>
                          </a:lnTo>
                          <a:lnTo>
                            <a:pt x="30" y="31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5238720" y="6031080"/>
                      <a:ext cx="475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30">
                          <a:moveTo>
                            <a:pt x="0" y="14"/>
                          </a:moveTo>
                          <a:lnTo>
                            <a:pt x="15" y="8"/>
                          </a:lnTo>
                          <a:lnTo>
                            <a:pt x="39" y="2"/>
                          </a:lnTo>
                          <a:lnTo>
                            <a:pt x="55" y="0"/>
                          </a:lnTo>
                          <a:lnTo>
                            <a:pt x="78" y="9"/>
                          </a:lnTo>
                          <a:lnTo>
                            <a:pt x="91" y="18"/>
                          </a:lnTo>
                          <a:lnTo>
                            <a:pt x="70" y="29"/>
                          </a:lnTo>
                          <a:lnTo>
                            <a:pt x="45" y="30"/>
                          </a:lnTo>
                          <a:lnTo>
                            <a:pt x="18" y="27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5332320" y="6031080"/>
                      <a:ext cx="4788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8">
                          <a:moveTo>
                            <a:pt x="91" y="13"/>
                          </a:moveTo>
                          <a:lnTo>
                            <a:pt x="77" y="7"/>
                          </a:lnTo>
                          <a:lnTo>
                            <a:pt x="52" y="0"/>
                          </a:lnTo>
                          <a:lnTo>
                            <a:pt x="35" y="0"/>
                          </a:lnTo>
                          <a:lnTo>
                            <a:pt x="13" y="10"/>
                          </a:lnTo>
                          <a:lnTo>
                            <a:pt x="0" y="18"/>
                          </a:lnTo>
                          <a:lnTo>
                            <a:pt x="22" y="27"/>
                          </a:lnTo>
                          <a:lnTo>
                            <a:pt x="46" y="28"/>
                          </a:lnTo>
                          <a:lnTo>
                            <a:pt x="71" y="25"/>
                          </a:lnTo>
                          <a:lnTo>
                            <a:pt x="91" y="13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2" name=""/>
                  <p:cNvSpPr/>
                  <p:nvPr/>
                </p:nvSpPr>
                <p:spPr>
                  <a:xfrm>
                    <a:off x="4986360" y="5850000"/>
                    <a:ext cx="47952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658">
                        <a:moveTo>
                          <a:pt x="452" y="16"/>
                        </a:moveTo>
                        <a:lnTo>
                          <a:pt x="354" y="24"/>
                        </a:lnTo>
                        <a:lnTo>
                          <a:pt x="274" y="64"/>
                        </a:lnTo>
                        <a:lnTo>
                          <a:pt x="176" y="132"/>
                        </a:lnTo>
                        <a:lnTo>
                          <a:pt x="117" y="241"/>
                        </a:lnTo>
                        <a:lnTo>
                          <a:pt x="76" y="317"/>
                        </a:lnTo>
                        <a:lnTo>
                          <a:pt x="24" y="374"/>
                        </a:lnTo>
                        <a:lnTo>
                          <a:pt x="0" y="417"/>
                        </a:lnTo>
                        <a:lnTo>
                          <a:pt x="31" y="482"/>
                        </a:lnTo>
                        <a:lnTo>
                          <a:pt x="75" y="523"/>
                        </a:lnTo>
                        <a:lnTo>
                          <a:pt x="145" y="554"/>
                        </a:lnTo>
                        <a:lnTo>
                          <a:pt x="226" y="587"/>
                        </a:lnTo>
                        <a:lnTo>
                          <a:pt x="257" y="618"/>
                        </a:lnTo>
                        <a:lnTo>
                          <a:pt x="342" y="658"/>
                        </a:lnTo>
                        <a:lnTo>
                          <a:pt x="383" y="639"/>
                        </a:lnTo>
                        <a:lnTo>
                          <a:pt x="362" y="445"/>
                        </a:lnTo>
                        <a:lnTo>
                          <a:pt x="387" y="289"/>
                        </a:lnTo>
                        <a:lnTo>
                          <a:pt x="431" y="184"/>
                        </a:lnTo>
                        <a:lnTo>
                          <a:pt x="507" y="120"/>
                        </a:lnTo>
                        <a:lnTo>
                          <a:pt x="556" y="104"/>
                        </a:lnTo>
                        <a:lnTo>
                          <a:pt x="613" y="109"/>
                        </a:lnTo>
                        <a:lnTo>
                          <a:pt x="668" y="132"/>
                        </a:lnTo>
                        <a:lnTo>
                          <a:pt x="725" y="173"/>
                        </a:lnTo>
                        <a:lnTo>
                          <a:pt x="748" y="208"/>
                        </a:lnTo>
                        <a:lnTo>
                          <a:pt x="770" y="253"/>
                        </a:lnTo>
                        <a:lnTo>
                          <a:pt x="776" y="298"/>
                        </a:lnTo>
                        <a:lnTo>
                          <a:pt x="766" y="333"/>
                        </a:lnTo>
                        <a:lnTo>
                          <a:pt x="766" y="374"/>
                        </a:lnTo>
                        <a:lnTo>
                          <a:pt x="782" y="457"/>
                        </a:lnTo>
                        <a:lnTo>
                          <a:pt x="770" y="506"/>
                        </a:lnTo>
                        <a:lnTo>
                          <a:pt x="770" y="563"/>
                        </a:lnTo>
                        <a:lnTo>
                          <a:pt x="839" y="570"/>
                        </a:lnTo>
                        <a:lnTo>
                          <a:pt x="882" y="549"/>
                        </a:lnTo>
                        <a:lnTo>
                          <a:pt x="906" y="502"/>
                        </a:lnTo>
                        <a:lnTo>
                          <a:pt x="891" y="414"/>
                        </a:lnTo>
                        <a:lnTo>
                          <a:pt x="851" y="329"/>
                        </a:lnTo>
                        <a:lnTo>
                          <a:pt x="790" y="237"/>
                        </a:lnTo>
                        <a:lnTo>
                          <a:pt x="758" y="161"/>
                        </a:lnTo>
                        <a:lnTo>
                          <a:pt x="718" y="100"/>
                        </a:lnTo>
                        <a:lnTo>
                          <a:pt x="680" y="68"/>
                        </a:lnTo>
                        <a:lnTo>
                          <a:pt x="628" y="36"/>
                        </a:lnTo>
                        <a:lnTo>
                          <a:pt x="516" y="0"/>
                        </a:lnTo>
                        <a:lnTo>
                          <a:pt x="452" y="16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4917960" y="6167520"/>
                    <a:ext cx="33048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803">
                        <a:moveTo>
                          <a:pt x="375" y="0"/>
                        </a:moveTo>
                        <a:lnTo>
                          <a:pt x="384" y="100"/>
                        </a:lnTo>
                        <a:lnTo>
                          <a:pt x="420" y="193"/>
                        </a:lnTo>
                        <a:lnTo>
                          <a:pt x="472" y="254"/>
                        </a:lnTo>
                        <a:lnTo>
                          <a:pt x="520" y="294"/>
                        </a:lnTo>
                        <a:lnTo>
                          <a:pt x="513" y="370"/>
                        </a:lnTo>
                        <a:lnTo>
                          <a:pt x="558" y="486"/>
                        </a:lnTo>
                        <a:lnTo>
                          <a:pt x="606" y="636"/>
                        </a:lnTo>
                        <a:lnTo>
                          <a:pt x="625" y="803"/>
                        </a:lnTo>
                        <a:lnTo>
                          <a:pt x="262" y="803"/>
                        </a:lnTo>
                        <a:lnTo>
                          <a:pt x="218" y="769"/>
                        </a:lnTo>
                        <a:lnTo>
                          <a:pt x="172" y="714"/>
                        </a:lnTo>
                        <a:lnTo>
                          <a:pt x="130" y="648"/>
                        </a:lnTo>
                        <a:lnTo>
                          <a:pt x="88" y="577"/>
                        </a:lnTo>
                        <a:lnTo>
                          <a:pt x="49" y="490"/>
                        </a:lnTo>
                        <a:lnTo>
                          <a:pt x="19" y="400"/>
                        </a:lnTo>
                        <a:lnTo>
                          <a:pt x="9" y="325"/>
                        </a:lnTo>
                        <a:lnTo>
                          <a:pt x="0" y="285"/>
                        </a:lnTo>
                        <a:lnTo>
                          <a:pt x="85" y="285"/>
                        </a:lnTo>
                        <a:lnTo>
                          <a:pt x="149" y="273"/>
                        </a:lnTo>
                        <a:lnTo>
                          <a:pt x="226" y="213"/>
                        </a:lnTo>
                        <a:lnTo>
                          <a:pt x="287" y="133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4" name=""/>
              <p:cNvSpPr/>
              <p:nvPr/>
            </p:nvSpPr>
            <p:spPr>
              <a:xfrm>
                <a:off x="4611600" y="6532560"/>
                <a:ext cx="1257480" cy="163440"/>
              </a:xfrm>
              <a:prstGeom prst="rect">
                <a:avLst/>
              </a:prstGeom>
              <a:solidFill>
                <a:srgbClr val="008000"/>
              </a:solidFill>
              <a:ln w="648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575240" y="5546880"/>
              <a:ext cx="1330200" cy="968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816360" y="5551560"/>
              <a:ext cx="482760" cy="452520"/>
              <a:chOff x="3816360" y="5551560"/>
              <a:chExt cx="482760" cy="452520"/>
            </a:xfrm>
          </p:grpSpPr>
          <p:sp>
            <p:nvSpPr>
              <p:cNvPr id="827" name=""/>
              <p:cNvSpPr/>
              <p:nvPr/>
            </p:nvSpPr>
            <p:spPr>
              <a:xfrm>
                <a:off x="4118040" y="5589720"/>
                <a:ext cx="181080" cy="406440"/>
              </a:xfrm>
              <a:custGeom>
                <a:avLst/>
                <a:gdLst/>
                <a:ahLst/>
                <a:rect l="l" t="t" r="r" b="b"/>
                <a:pathLst>
                  <a:path w="344" h="766">
                    <a:moveTo>
                      <a:pt x="36" y="324"/>
                    </a:moveTo>
                    <a:lnTo>
                      <a:pt x="21" y="274"/>
                    </a:lnTo>
                    <a:lnTo>
                      <a:pt x="8" y="219"/>
                    </a:lnTo>
                    <a:lnTo>
                      <a:pt x="0" y="151"/>
                    </a:lnTo>
                    <a:lnTo>
                      <a:pt x="17" y="79"/>
                    </a:lnTo>
                    <a:lnTo>
                      <a:pt x="47" y="0"/>
                    </a:lnTo>
                    <a:lnTo>
                      <a:pt x="88" y="72"/>
                    </a:lnTo>
                    <a:lnTo>
                      <a:pt x="112" y="127"/>
                    </a:lnTo>
                    <a:lnTo>
                      <a:pt x="121" y="195"/>
                    </a:lnTo>
                    <a:lnTo>
                      <a:pt x="115" y="270"/>
                    </a:lnTo>
                    <a:lnTo>
                      <a:pt x="105" y="328"/>
                    </a:lnTo>
                    <a:lnTo>
                      <a:pt x="91" y="364"/>
                    </a:lnTo>
                    <a:lnTo>
                      <a:pt x="118" y="328"/>
                    </a:lnTo>
                    <a:lnTo>
                      <a:pt x="163" y="283"/>
                    </a:lnTo>
                    <a:lnTo>
                      <a:pt x="208" y="257"/>
                    </a:lnTo>
                    <a:lnTo>
                      <a:pt x="247" y="236"/>
                    </a:lnTo>
                    <a:lnTo>
                      <a:pt x="301" y="225"/>
                    </a:lnTo>
                    <a:lnTo>
                      <a:pt x="344" y="218"/>
                    </a:lnTo>
                    <a:lnTo>
                      <a:pt x="325" y="268"/>
                    </a:lnTo>
                    <a:lnTo>
                      <a:pt x="304" y="325"/>
                    </a:lnTo>
                    <a:lnTo>
                      <a:pt x="260" y="371"/>
                    </a:lnTo>
                    <a:lnTo>
                      <a:pt x="224" y="398"/>
                    </a:lnTo>
                    <a:lnTo>
                      <a:pt x="163" y="417"/>
                    </a:lnTo>
                    <a:lnTo>
                      <a:pt x="108" y="423"/>
                    </a:lnTo>
                    <a:lnTo>
                      <a:pt x="171" y="455"/>
                    </a:lnTo>
                    <a:lnTo>
                      <a:pt x="214" y="486"/>
                    </a:lnTo>
                    <a:lnTo>
                      <a:pt x="235" y="519"/>
                    </a:lnTo>
                    <a:lnTo>
                      <a:pt x="256" y="556"/>
                    </a:lnTo>
                    <a:lnTo>
                      <a:pt x="259" y="590"/>
                    </a:lnTo>
                    <a:lnTo>
                      <a:pt x="269" y="644"/>
                    </a:lnTo>
                    <a:lnTo>
                      <a:pt x="195" y="618"/>
                    </a:lnTo>
                    <a:lnTo>
                      <a:pt x="148" y="587"/>
                    </a:lnTo>
                    <a:lnTo>
                      <a:pt x="124" y="553"/>
                    </a:lnTo>
                    <a:lnTo>
                      <a:pt x="88" y="484"/>
                    </a:lnTo>
                    <a:lnTo>
                      <a:pt x="118" y="548"/>
                    </a:lnTo>
                    <a:lnTo>
                      <a:pt x="129" y="614"/>
                    </a:lnTo>
                    <a:lnTo>
                      <a:pt x="135" y="659"/>
                    </a:lnTo>
                    <a:lnTo>
                      <a:pt x="127" y="720"/>
                    </a:lnTo>
                    <a:lnTo>
                      <a:pt x="126" y="766"/>
                    </a:lnTo>
                    <a:lnTo>
                      <a:pt x="60" y="708"/>
                    </a:lnTo>
                    <a:lnTo>
                      <a:pt x="27" y="633"/>
                    </a:lnTo>
                    <a:lnTo>
                      <a:pt x="15" y="553"/>
                    </a:lnTo>
                    <a:lnTo>
                      <a:pt x="35" y="471"/>
                    </a:lnTo>
                    <a:lnTo>
                      <a:pt x="35" y="405"/>
                    </a:lnTo>
                    <a:lnTo>
                      <a:pt x="36" y="368"/>
                    </a:lnTo>
                    <a:lnTo>
                      <a:pt x="36" y="324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816360" y="5551560"/>
                <a:ext cx="130320" cy="183960"/>
              </a:xfrm>
              <a:custGeom>
                <a:avLst/>
                <a:gdLst/>
                <a:ahLst/>
                <a:rect l="l" t="t" r="r" b="b"/>
                <a:pathLst>
                  <a:path w="247" h="348">
                    <a:moveTo>
                      <a:pt x="99" y="313"/>
                    </a:moveTo>
                    <a:lnTo>
                      <a:pt x="56" y="280"/>
                    </a:lnTo>
                    <a:lnTo>
                      <a:pt x="33" y="249"/>
                    </a:lnTo>
                    <a:lnTo>
                      <a:pt x="14" y="211"/>
                    </a:lnTo>
                    <a:lnTo>
                      <a:pt x="11" y="177"/>
                    </a:lnTo>
                    <a:lnTo>
                      <a:pt x="0" y="124"/>
                    </a:lnTo>
                    <a:lnTo>
                      <a:pt x="74" y="147"/>
                    </a:lnTo>
                    <a:lnTo>
                      <a:pt x="122" y="180"/>
                    </a:lnTo>
                    <a:lnTo>
                      <a:pt x="145" y="213"/>
                    </a:lnTo>
                    <a:lnTo>
                      <a:pt x="181" y="281"/>
                    </a:lnTo>
                    <a:lnTo>
                      <a:pt x="151" y="219"/>
                    </a:lnTo>
                    <a:lnTo>
                      <a:pt x="139" y="153"/>
                    </a:lnTo>
                    <a:lnTo>
                      <a:pt x="135" y="107"/>
                    </a:lnTo>
                    <a:lnTo>
                      <a:pt x="142" y="48"/>
                    </a:lnTo>
                    <a:lnTo>
                      <a:pt x="144" y="0"/>
                    </a:lnTo>
                    <a:lnTo>
                      <a:pt x="205" y="64"/>
                    </a:lnTo>
                    <a:lnTo>
                      <a:pt x="238" y="132"/>
                    </a:lnTo>
                    <a:lnTo>
                      <a:pt x="246" y="213"/>
                    </a:lnTo>
                    <a:lnTo>
                      <a:pt x="247" y="344"/>
                    </a:lnTo>
                    <a:lnTo>
                      <a:pt x="174" y="348"/>
                    </a:lnTo>
                    <a:lnTo>
                      <a:pt x="99" y="313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863880" y="5594400"/>
                <a:ext cx="273240" cy="40968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21120" y="5661000"/>
                <a:ext cx="158760" cy="233280"/>
              </a:xfrm>
              <a:custGeom>
                <a:avLst/>
                <a:gdLst/>
                <a:ahLst/>
                <a:rect l="l" t="t" r="r" b="b"/>
                <a:pathLst>
                  <a:path w="299" h="441">
                    <a:moveTo>
                      <a:pt x="11" y="44"/>
                    </a:moveTo>
                    <a:lnTo>
                      <a:pt x="30" y="44"/>
                    </a:lnTo>
                    <a:lnTo>
                      <a:pt x="56" y="39"/>
                    </a:lnTo>
                    <a:lnTo>
                      <a:pt x="74" y="27"/>
                    </a:lnTo>
                    <a:lnTo>
                      <a:pt x="87" y="17"/>
                    </a:lnTo>
                    <a:lnTo>
                      <a:pt x="101" y="0"/>
                    </a:lnTo>
                    <a:lnTo>
                      <a:pt x="237" y="0"/>
                    </a:lnTo>
                    <a:lnTo>
                      <a:pt x="237" y="368"/>
                    </a:lnTo>
                    <a:lnTo>
                      <a:pt x="244" y="391"/>
                    </a:lnTo>
                    <a:lnTo>
                      <a:pt x="256" y="407"/>
                    </a:lnTo>
                    <a:lnTo>
                      <a:pt x="280" y="419"/>
                    </a:lnTo>
                    <a:lnTo>
                      <a:pt x="299" y="419"/>
                    </a:lnTo>
                    <a:lnTo>
                      <a:pt x="299" y="441"/>
                    </a:lnTo>
                    <a:lnTo>
                      <a:pt x="0" y="441"/>
                    </a:lnTo>
                    <a:lnTo>
                      <a:pt x="0" y="419"/>
                    </a:lnTo>
                    <a:lnTo>
                      <a:pt x="18" y="419"/>
                    </a:lnTo>
                    <a:lnTo>
                      <a:pt x="44" y="407"/>
                    </a:lnTo>
                    <a:lnTo>
                      <a:pt x="56" y="391"/>
                    </a:lnTo>
                    <a:lnTo>
                      <a:pt x="62" y="368"/>
                    </a:lnTo>
                    <a:lnTo>
                      <a:pt x="62" y="94"/>
                    </a:lnTo>
                    <a:lnTo>
                      <a:pt x="56" y="78"/>
                    </a:lnTo>
                    <a:lnTo>
                      <a:pt x="44" y="66"/>
                    </a:lnTo>
                    <a:lnTo>
                      <a:pt x="24" y="60"/>
                    </a:lnTo>
                    <a:lnTo>
                      <a:pt x="11" y="60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bfffbf"/>
              </a:solidFill>
              <a:ln w="1260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184800" y="5551560"/>
              <a:ext cx="484200" cy="452520"/>
              <a:chOff x="6184800" y="5551560"/>
              <a:chExt cx="484200" cy="452520"/>
            </a:xfrm>
          </p:grpSpPr>
          <p:sp>
            <p:nvSpPr>
              <p:cNvPr id="832" name=""/>
              <p:cNvSpPr/>
              <p:nvPr/>
            </p:nvSpPr>
            <p:spPr>
              <a:xfrm>
                <a:off x="6184800" y="5589720"/>
                <a:ext cx="181080" cy="406440"/>
              </a:xfrm>
              <a:custGeom>
                <a:avLst/>
                <a:gdLst/>
                <a:ahLst/>
                <a:rect l="l" t="t" r="r" b="b"/>
                <a:pathLst>
                  <a:path w="344" h="766">
                    <a:moveTo>
                      <a:pt x="308" y="324"/>
                    </a:moveTo>
                    <a:lnTo>
                      <a:pt x="324" y="274"/>
                    </a:lnTo>
                    <a:lnTo>
                      <a:pt x="336" y="219"/>
                    </a:lnTo>
                    <a:lnTo>
                      <a:pt x="344" y="151"/>
                    </a:lnTo>
                    <a:lnTo>
                      <a:pt x="329" y="79"/>
                    </a:lnTo>
                    <a:lnTo>
                      <a:pt x="299" y="0"/>
                    </a:lnTo>
                    <a:lnTo>
                      <a:pt x="257" y="72"/>
                    </a:lnTo>
                    <a:lnTo>
                      <a:pt x="233" y="127"/>
                    </a:lnTo>
                    <a:lnTo>
                      <a:pt x="224" y="195"/>
                    </a:lnTo>
                    <a:lnTo>
                      <a:pt x="229" y="270"/>
                    </a:lnTo>
                    <a:lnTo>
                      <a:pt x="239" y="328"/>
                    </a:lnTo>
                    <a:lnTo>
                      <a:pt x="253" y="364"/>
                    </a:lnTo>
                    <a:lnTo>
                      <a:pt x="226" y="328"/>
                    </a:lnTo>
                    <a:lnTo>
                      <a:pt x="182" y="283"/>
                    </a:lnTo>
                    <a:lnTo>
                      <a:pt x="136" y="257"/>
                    </a:lnTo>
                    <a:lnTo>
                      <a:pt x="97" y="236"/>
                    </a:lnTo>
                    <a:lnTo>
                      <a:pt x="43" y="225"/>
                    </a:lnTo>
                    <a:lnTo>
                      <a:pt x="0" y="218"/>
                    </a:lnTo>
                    <a:lnTo>
                      <a:pt x="21" y="268"/>
                    </a:lnTo>
                    <a:lnTo>
                      <a:pt x="40" y="325"/>
                    </a:lnTo>
                    <a:lnTo>
                      <a:pt x="84" y="371"/>
                    </a:lnTo>
                    <a:lnTo>
                      <a:pt x="120" y="398"/>
                    </a:lnTo>
                    <a:lnTo>
                      <a:pt x="182" y="417"/>
                    </a:lnTo>
                    <a:lnTo>
                      <a:pt x="238" y="423"/>
                    </a:lnTo>
                    <a:lnTo>
                      <a:pt x="173" y="455"/>
                    </a:lnTo>
                    <a:lnTo>
                      <a:pt x="132" y="486"/>
                    </a:lnTo>
                    <a:lnTo>
                      <a:pt x="109" y="519"/>
                    </a:lnTo>
                    <a:lnTo>
                      <a:pt x="90" y="556"/>
                    </a:lnTo>
                    <a:lnTo>
                      <a:pt x="87" y="590"/>
                    </a:lnTo>
                    <a:lnTo>
                      <a:pt x="76" y="644"/>
                    </a:lnTo>
                    <a:lnTo>
                      <a:pt x="150" y="618"/>
                    </a:lnTo>
                    <a:lnTo>
                      <a:pt x="197" y="587"/>
                    </a:lnTo>
                    <a:lnTo>
                      <a:pt x="221" y="553"/>
                    </a:lnTo>
                    <a:lnTo>
                      <a:pt x="257" y="484"/>
                    </a:lnTo>
                    <a:lnTo>
                      <a:pt x="226" y="548"/>
                    </a:lnTo>
                    <a:lnTo>
                      <a:pt x="215" y="614"/>
                    </a:lnTo>
                    <a:lnTo>
                      <a:pt x="211" y="659"/>
                    </a:lnTo>
                    <a:lnTo>
                      <a:pt x="218" y="720"/>
                    </a:lnTo>
                    <a:lnTo>
                      <a:pt x="220" y="766"/>
                    </a:lnTo>
                    <a:lnTo>
                      <a:pt x="286" y="708"/>
                    </a:lnTo>
                    <a:lnTo>
                      <a:pt x="318" y="633"/>
                    </a:lnTo>
                    <a:lnTo>
                      <a:pt x="330" y="553"/>
                    </a:lnTo>
                    <a:lnTo>
                      <a:pt x="311" y="471"/>
                    </a:lnTo>
                    <a:lnTo>
                      <a:pt x="310" y="405"/>
                    </a:lnTo>
                    <a:lnTo>
                      <a:pt x="308" y="368"/>
                    </a:lnTo>
                    <a:lnTo>
                      <a:pt x="308" y="324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537240" y="5551560"/>
                <a:ext cx="131760" cy="183960"/>
              </a:xfrm>
              <a:custGeom>
                <a:avLst/>
                <a:gdLst/>
                <a:ahLst/>
                <a:rect l="l" t="t" r="r" b="b"/>
                <a:pathLst>
                  <a:path w="248" h="348">
                    <a:moveTo>
                      <a:pt x="149" y="313"/>
                    </a:moveTo>
                    <a:lnTo>
                      <a:pt x="193" y="280"/>
                    </a:lnTo>
                    <a:lnTo>
                      <a:pt x="214" y="249"/>
                    </a:lnTo>
                    <a:lnTo>
                      <a:pt x="235" y="211"/>
                    </a:lnTo>
                    <a:lnTo>
                      <a:pt x="236" y="177"/>
                    </a:lnTo>
                    <a:lnTo>
                      <a:pt x="248" y="124"/>
                    </a:lnTo>
                    <a:lnTo>
                      <a:pt x="173" y="147"/>
                    </a:lnTo>
                    <a:lnTo>
                      <a:pt x="127" y="180"/>
                    </a:lnTo>
                    <a:lnTo>
                      <a:pt x="103" y="213"/>
                    </a:lnTo>
                    <a:lnTo>
                      <a:pt x="66" y="281"/>
                    </a:lnTo>
                    <a:lnTo>
                      <a:pt x="97" y="219"/>
                    </a:lnTo>
                    <a:lnTo>
                      <a:pt x="108" y="153"/>
                    </a:lnTo>
                    <a:lnTo>
                      <a:pt x="114" y="107"/>
                    </a:lnTo>
                    <a:lnTo>
                      <a:pt x="105" y="48"/>
                    </a:lnTo>
                    <a:lnTo>
                      <a:pt x="103" y="0"/>
                    </a:lnTo>
                    <a:lnTo>
                      <a:pt x="42" y="64"/>
                    </a:lnTo>
                    <a:lnTo>
                      <a:pt x="10" y="132"/>
                    </a:lnTo>
                    <a:lnTo>
                      <a:pt x="1" y="213"/>
                    </a:lnTo>
                    <a:lnTo>
                      <a:pt x="0" y="344"/>
                    </a:lnTo>
                    <a:lnTo>
                      <a:pt x="75" y="348"/>
                    </a:lnTo>
                    <a:lnTo>
                      <a:pt x="149" y="313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46800" y="5594400"/>
                <a:ext cx="273240" cy="40968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05480" y="5661000"/>
                <a:ext cx="157320" cy="233280"/>
              </a:xfrm>
              <a:custGeom>
                <a:avLst/>
                <a:gdLst/>
                <a:ahLst/>
                <a:rect l="l" t="t" r="r" b="b"/>
                <a:pathLst>
                  <a:path w="299" h="441">
                    <a:moveTo>
                      <a:pt x="11" y="44"/>
                    </a:moveTo>
                    <a:lnTo>
                      <a:pt x="30" y="44"/>
                    </a:lnTo>
                    <a:lnTo>
                      <a:pt x="56" y="39"/>
                    </a:lnTo>
                    <a:lnTo>
                      <a:pt x="73" y="27"/>
                    </a:lnTo>
                    <a:lnTo>
                      <a:pt x="87" y="17"/>
                    </a:lnTo>
                    <a:lnTo>
                      <a:pt x="100" y="0"/>
                    </a:lnTo>
                    <a:lnTo>
                      <a:pt x="236" y="0"/>
                    </a:lnTo>
                    <a:lnTo>
                      <a:pt x="236" y="368"/>
                    </a:lnTo>
                    <a:lnTo>
                      <a:pt x="244" y="391"/>
                    </a:lnTo>
                    <a:lnTo>
                      <a:pt x="256" y="407"/>
                    </a:lnTo>
                    <a:lnTo>
                      <a:pt x="280" y="419"/>
                    </a:lnTo>
                    <a:lnTo>
                      <a:pt x="299" y="419"/>
                    </a:lnTo>
                    <a:lnTo>
                      <a:pt x="299" y="441"/>
                    </a:lnTo>
                    <a:lnTo>
                      <a:pt x="0" y="441"/>
                    </a:lnTo>
                    <a:lnTo>
                      <a:pt x="0" y="419"/>
                    </a:lnTo>
                    <a:lnTo>
                      <a:pt x="18" y="419"/>
                    </a:lnTo>
                    <a:lnTo>
                      <a:pt x="44" y="407"/>
                    </a:lnTo>
                    <a:lnTo>
                      <a:pt x="56" y="391"/>
                    </a:lnTo>
                    <a:lnTo>
                      <a:pt x="61" y="368"/>
                    </a:lnTo>
                    <a:lnTo>
                      <a:pt x="61" y="94"/>
                    </a:lnTo>
                    <a:lnTo>
                      <a:pt x="56" y="78"/>
                    </a:lnTo>
                    <a:lnTo>
                      <a:pt x="44" y="66"/>
                    </a:lnTo>
                    <a:lnTo>
                      <a:pt x="24" y="60"/>
                    </a:lnTo>
                    <a:lnTo>
                      <a:pt x="11" y="60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bfffbf"/>
              </a:solidFill>
              <a:ln w="1260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3821040" y="6377040"/>
              <a:ext cx="258840" cy="2998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52720" y="6410160"/>
              <a:ext cx="196920" cy="2336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00600" y="6453360"/>
              <a:ext cx="100080" cy="147600"/>
            </a:xfrm>
            <a:custGeom>
              <a:avLst/>
              <a:gdLst/>
              <a:ahLst/>
              <a:rect l="l" t="t" r="r" b="b"/>
              <a:pathLst>
                <a:path w="190" h="281">
                  <a:moveTo>
                    <a:pt x="6" y="29"/>
                  </a:moveTo>
                  <a:lnTo>
                    <a:pt x="20" y="29"/>
                  </a:lnTo>
                  <a:lnTo>
                    <a:pt x="35" y="25"/>
                  </a:lnTo>
                  <a:lnTo>
                    <a:pt x="47" y="17"/>
                  </a:lnTo>
                  <a:lnTo>
                    <a:pt x="54" y="10"/>
                  </a:lnTo>
                  <a:lnTo>
                    <a:pt x="63" y="0"/>
                  </a:lnTo>
                  <a:lnTo>
                    <a:pt x="151" y="0"/>
                  </a:lnTo>
                  <a:lnTo>
                    <a:pt x="151" y="236"/>
                  </a:lnTo>
                  <a:lnTo>
                    <a:pt x="154" y="250"/>
                  </a:lnTo>
                  <a:lnTo>
                    <a:pt x="163" y="260"/>
                  </a:lnTo>
                  <a:lnTo>
                    <a:pt x="178" y="268"/>
                  </a:lnTo>
                  <a:lnTo>
                    <a:pt x="190" y="268"/>
                  </a:lnTo>
                  <a:lnTo>
                    <a:pt x="190" y="281"/>
                  </a:lnTo>
                  <a:lnTo>
                    <a:pt x="0" y="281"/>
                  </a:lnTo>
                  <a:lnTo>
                    <a:pt x="0" y="268"/>
                  </a:lnTo>
                  <a:lnTo>
                    <a:pt x="11" y="268"/>
                  </a:lnTo>
                  <a:lnTo>
                    <a:pt x="27" y="260"/>
                  </a:lnTo>
                  <a:lnTo>
                    <a:pt x="35" y="250"/>
                  </a:lnTo>
                  <a:lnTo>
                    <a:pt x="39" y="236"/>
                  </a:lnTo>
                  <a:lnTo>
                    <a:pt x="39" y="61"/>
                  </a:lnTo>
                  <a:lnTo>
                    <a:pt x="35" y="50"/>
                  </a:lnTo>
                  <a:lnTo>
                    <a:pt x="27" y="43"/>
                  </a:lnTo>
                  <a:lnTo>
                    <a:pt x="15" y="38"/>
                  </a:lnTo>
                  <a:lnTo>
                    <a:pt x="6" y="38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bfffbf"/>
            </a:solidFill>
            <a:ln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18440" y="6381720"/>
              <a:ext cx="258480" cy="301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48320" y="6416640"/>
              <a:ext cx="198720" cy="2332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97640" y="6458040"/>
              <a:ext cx="100080" cy="149040"/>
            </a:xfrm>
            <a:custGeom>
              <a:avLst/>
              <a:gdLst/>
              <a:ahLst/>
              <a:rect l="l" t="t" r="r" b="b"/>
              <a:pathLst>
                <a:path w="190" h="280">
                  <a:moveTo>
                    <a:pt x="6" y="29"/>
                  </a:moveTo>
                  <a:lnTo>
                    <a:pt x="19" y="29"/>
                  </a:lnTo>
                  <a:lnTo>
                    <a:pt x="34" y="26"/>
                  </a:lnTo>
                  <a:lnTo>
                    <a:pt x="46" y="17"/>
                  </a:lnTo>
                  <a:lnTo>
                    <a:pt x="53" y="11"/>
                  </a:lnTo>
                  <a:lnTo>
                    <a:pt x="62" y="0"/>
                  </a:lnTo>
                  <a:lnTo>
                    <a:pt x="151" y="0"/>
                  </a:lnTo>
                  <a:lnTo>
                    <a:pt x="151" y="236"/>
                  </a:lnTo>
                  <a:lnTo>
                    <a:pt x="154" y="251"/>
                  </a:lnTo>
                  <a:lnTo>
                    <a:pt x="163" y="260"/>
                  </a:lnTo>
                  <a:lnTo>
                    <a:pt x="179" y="267"/>
                  </a:lnTo>
                  <a:lnTo>
                    <a:pt x="190" y="267"/>
                  </a:lnTo>
                  <a:lnTo>
                    <a:pt x="190" y="280"/>
                  </a:lnTo>
                  <a:lnTo>
                    <a:pt x="0" y="280"/>
                  </a:lnTo>
                  <a:lnTo>
                    <a:pt x="0" y="267"/>
                  </a:lnTo>
                  <a:lnTo>
                    <a:pt x="10" y="267"/>
                  </a:lnTo>
                  <a:lnTo>
                    <a:pt x="27" y="260"/>
                  </a:lnTo>
                  <a:lnTo>
                    <a:pt x="34" y="251"/>
                  </a:lnTo>
                  <a:lnTo>
                    <a:pt x="39" y="236"/>
                  </a:lnTo>
                  <a:lnTo>
                    <a:pt x="39" y="60"/>
                  </a:lnTo>
                  <a:lnTo>
                    <a:pt x="34" y="51"/>
                  </a:lnTo>
                  <a:lnTo>
                    <a:pt x="27" y="42"/>
                  </a:lnTo>
                  <a:lnTo>
                    <a:pt x="15" y="39"/>
                  </a:lnTo>
                  <a:lnTo>
                    <a:pt x="6" y="3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bfffbf"/>
            </a:solidFill>
            <a:ln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4368960" y="5985000"/>
              <a:ext cx="274320" cy="271440"/>
              <a:chOff x="4368960" y="5985000"/>
              <a:chExt cx="274320" cy="271440"/>
            </a:xfrm>
          </p:grpSpPr>
          <p:sp>
            <p:nvSpPr>
              <p:cNvPr id="843" name=""/>
              <p:cNvSpPr/>
              <p:nvPr/>
            </p:nvSpPr>
            <p:spPr>
              <a:xfrm>
                <a:off x="4368960" y="5985000"/>
                <a:ext cx="274320" cy="271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22600" y="6039000"/>
                <a:ext cx="165240" cy="163440"/>
              </a:xfrm>
              <a:prstGeom prst="ellipse">
                <a:avLst/>
              </a:prstGeom>
              <a:solidFill>
                <a:srgbClr val="9fff9f"/>
              </a:solidFill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5837400" y="6018120"/>
              <a:ext cx="274320" cy="273240"/>
              <a:chOff x="5837400" y="6018120"/>
              <a:chExt cx="274320" cy="273240"/>
            </a:xfrm>
          </p:grpSpPr>
          <p:sp>
            <p:nvSpPr>
              <p:cNvPr id="846" name=""/>
              <p:cNvSpPr/>
              <p:nvPr/>
            </p:nvSpPr>
            <p:spPr>
              <a:xfrm>
                <a:off x="5837400" y="6018120"/>
                <a:ext cx="274320" cy="2732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91040" y="6072120"/>
                <a:ext cx="165240" cy="163440"/>
              </a:xfrm>
              <a:prstGeom prst="ellipse">
                <a:avLst/>
              </a:prstGeom>
              <a:solidFill>
                <a:srgbClr val="bfffbf"/>
              </a:solidFill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687920" y="6561000"/>
              <a:ext cx="1095480" cy="112680"/>
              <a:chOff x="4687920" y="6561000"/>
              <a:chExt cx="1095480" cy="11268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670720" y="6561000"/>
                <a:ext cx="112680" cy="108000"/>
                <a:chOff x="5670720" y="6561000"/>
                <a:chExt cx="112680" cy="1080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5670720" y="6561000"/>
                  <a:ext cx="112680" cy="108000"/>
                </a:xfrm>
                <a:custGeom>
                  <a:avLst/>
                  <a:gdLst/>
                  <a:ahLst/>
                  <a:rect l="l" t="t" r="r" b="b"/>
                  <a:pathLst>
                    <a:path w="212" h="205">
                      <a:moveTo>
                        <a:pt x="0" y="0"/>
                      </a:moveTo>
                      <a:lnTo>
                        <a:pt x="143" y="0"/>
                      </a:lnTo>
                      <a:lnTo>
                        <a:pt x="167" y="7"/>
                      </a:lnTo>
                      <a:lnTo>
                        <a:pt x="182" y="19"/>
                      </a:lnTo>
                      <a:lnTo>
                        <a:pt x="189" y="40"/>
                      </a:lnTo>
                      <a:lnTo>
                        <a:pt x="189" y="77"/>
                      </a:lnTo>
                      <a:lnTo>
                        <a:pt x="179" y="98"/>
                      </a:lnTo>
                      <a:lnTo>
                        <a:pt x="163" y="110"/>
                      </a:lnTo>
                      <a:lnTo>
                        <a:pt x="143" y="114"/>
                      </a:lnTo>
                      <a:lnTo>
                        <a:pt x="163" y="123"/>
                      </a:lnTo>
                      <a:lnTo>
                        <a:pt x="179" y="134"/>
                      </a:lnTo>
                      <a:lnTo>
                        <a:pt x="189" y="154"/>
                      </a:lnTo>
                      <a:lnTo>
                        <a:pt x="197" y="174"/>
                      </a:lnTo>
                      <a:lnTo>
                        <a:pt x="200" y="192"/>
                      </a:lnTo>
                      <a:lnTo>
                        <a:pt x="212" y="192"/>
                      </a:lnTo>
                      <a:lnTo>
                        <a:pt x="212" y="205"/>
                      </a:lnTo>
                      <a:lnTo>
                        <a:pt x="130" y="205"/>
                      </a:lnTo>
                      <a:lnTo>
                        <a:pt x="130" y="192"/>
                      </a:lnTo>
                      <a:lnTo>
                        <a:pt x="143" y="192"/>
                      </a:lnTo>
                      <a:lnTo>
                        <a:pt x="140" y="171"/>
                      </a:lnTo>
                      <a:lnTo>
                        <a:pt x="131" y="154"/>
                      </a:lnTo>
                      <a:lnTo>
                        <a:pt x="119" y="138"/>
                      </a:lnTo>
                      <a:lnTo>
                        <a:pt x="107" y="125"/>
                      </a:lnTo>
                      <a:lnTo>
                        <a:pt x="88" y="114"/>
                      </a:lnTo>
                      <a:lnTo>
                        <a:pt x="88" y="192"/>
                      </a:lnTo>
                      <a:lnTo>
                        <a:pt x="107" y="192"/>
                      </a:lnTo>
                      <a:lnTo>
                        <a:pt x="107" y="205"/>
                      </a:lnTo>
                      <a:lnTo>
                        <a:pt x="3" y="205"/>
                      </a:lnTo>
                      <a:lnTo>
                        <a:pt x="3" y="192"/>
                      </a:lnTo>
                      <a:lnTo>
                        <a:pt x="23" y="192"/>
                      </a:lnTo>
                      <a:lnTo>
                        <a:pt x="23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718240" y="6578640"/>
                  <a:ext cx="20520" cy="2700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20" y="50"/>
                      </a:lnTo>
                      <a:lnTo>
                        <a:pt x="30" y="46"/>
                      </a:lnTo>
                      <a:lnTo>
                        <a:pt x="38" y="34"/>
                      </a:lnTo>
                      <a:lnTo>
                        <a:pt x="38" y="18"/>
                      </a:lnTo>
                      <a:lnTo>
                        <a:pt x="30" y="6"/>
                      </a:lnTo>
                      <a:lnTo>
                        <a:pt x="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4687920" y="6561000"/>
                <a:ext cx="108000" cy="112680"/>
                <a:chOff x="4687920" y="6561000"/>
                <a:chExt cx="108000" cy="11268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687920" y="6561000"/>
                  <a:ext cx="108000" cy="112680"/>
                </a:xfrm>
                <a:custGeom>
                  <a:avLst/>
                  <a:gdLst/>
                  <a:ahLst/>
                  <a:rect l="l" t="t" r="r" b="b"/>
                  <a:pathLst>
                    <a:path w="205" h="214">
                      <a:moveTo>
                        <a:pt x="62" y="0"/>
                      </a:moveTo>
                      <a:lnTo>
                        <a:pt x="141" y="0"/>
                      </a:lnTo>
                      <a:lnTo>
                        <a:pt x="159" y="7"/>
                      </a:lnTo>
                      <a:lnTo>
                        <a:pt x="187" y="29"/>
                      </a:lnTo>
                      <a:lnTo>
                        <a:pt x="199" y="55"/>
                      </a:lnTo>
                      <a:lnTo>
                        <a:pt x="205" y="87"/>
                      </a:lnTo>
                      <a:lnTo>
                        <a:pt x="205" y="123"/>
                      </a:lnTo>
                      <a:lnTo>
                        <a:pt x="199" y="156"/>
                      </a:lnTo>
                      <a:lnTo>
                        <a:pt x="187" y="181"/>
                      </a:lnTo>
                      <a:lnTo>
                        <a:pt x="153" y="205"/>
                      </a:lnTo>
                      <a:lnTo>
                        <a:pt x="136" y="214"/>
                      </a:lnTo>
                      <a:lnTo>
                        <a:pt x="62" y="214"/>
                      </a:lnTo>
                      <a:lnTo>
                        <a:pt x="45" y="205"/>
                      </a:lnTo>
                      <a:lnTo>
                        <a:pt x="15" y="184"/>
                      </a:lnTo>
                      <a:lnTo>
                        <a:pt x="5" y="160"/>
                      </a:lnTo>
                      <a:lnTo>
                        <a:pt x="0" y="131"/>
                      </a:lnTo>
                      <a:lnTo>
                        <a:pt x="0" y="87"/>
                      </a:lnTo>
                      <a:lnTo>
                        <a:pt x="5" y="55"/>
                      </a:lnTo>
                      <a:lnTo>
                        <a:pt x="15" y="29"/>
                      </a:lnTo>
                      <a:lnTo>
                        <a:pt x="45" y="7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27520" y="6573960"/>
                  <a:ext cx="27000" cy="88920"/>
                </a:xfrm>
                <a:custGeom>
                  <a:avLst/>
                  <a:gdLst/>
                  <a:ahLst/>
                  <a:rect l="l" t="t" r="r" b="b"/>
                  <a:pathLst>
                    <a:path w="52" h="167">
                      <a:moveTo>
                        <a:pt x="18" y="0"/>
                      </a:moveTo>
                      <a:lnTo>
                        <a:pt x="6" y="13"/>
                      </a:lnTo>
                      <a:lnTo>
                        <a:pt x="0" y="27"/>
                      </a:lnTo>
                      <a:lnTo>
                        <a:pt x="0" y="140"/>
                      </a:lnTo>
                      <a:lnTo>
                        <a:pt x="6" y="155"/>
                      </a:lnTo>
                      <a:lnTo>
                        <a:pt x="18" y="167"/>
                      </a:lnTo>
                      <a:lnTo>
                        <a:pt x="37" y="167"/>
                      </a:lnTo>
                      <a:lnTo>
                        <a:pt x="49" y="155"/>
                      </a:lnTo>
                      <a:lnTo>
                        <a:pt x="52" y="140"/>
                      </a:lnTo>
                      <a:lnTo>
                        <a:pt x="52" y="27"/>
                      </a:lnTo>
                      <a:lnTo>
                        <a:pt x="49" y="13"/>
                      </a:lnTo>
                      <a:lnTo>
                        <a:pt x="37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4799160" y="6564240"/>
                <a:ext cx="230040" cy="109440"/>
                <a:chOff x="4799160" y="6564240"/>
                <a:chExt cx="230040" cy="1094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4799160" y="6564240"/>
                  <a:ext cx="123840" cy="109440"/>
                </a:xfrm>
                <a:custGeom>
                  <a:avLst/>
                  <a:gdLst/>
                  <a:ahLst/>
                  <a:rect l="l" t="t" r="r" b="b"/>
                  <a:pathLst>
                    <a:path w="233" h="207">
                      <a:moveTo>
                        <a:pt x="5" y="207"/>
                      </a:moveTo>
                      <a:lnTo>
                        <a:pt x="61" y="207"/>
                      </a:lnTo>
                      <a:lnTo>
                        <a:pt x="61" y="191"/>
                      </a:lnTo>
                      <a:lnTo>
                        <a:pt x="44" y="191"/>
                      </a:lnTo>
                      <a:lnTo>
                        <a:pt x="44" y="43"/>
                      </a:lnTo>
                      <a:lnTo>
                        <a:pt x="144" y="207"/>
                      </a:lnTo>
                      <a:lnTo>
                        <a:pt x="209" y="207"/>
                      </a:lnTo>
                      <a:lnTo>
                        <a:pt x="209" y="16"/>
                      </a:lnTo>
                      <a:lnTo>
                        <a:pt x="233" y="16"/>
                      </a:lnTo>
                      <a:lnTo>
                        <a:pt x="233" y="0"/>
                      </a:lnTo>
                      <a:lnTo>
                        <a:pt x="168" y="0"/>
                      </a:lnTo>
                      <a:lnTo>
                        <a:pt x="168" y="16"/>
                      </a:lnTo>
                      <a:lnTo>
                        <a:pt x="190" y="16"/>
                      </a:lnTo>
                      <a:lnTo>
                        <a:pt x="190" y="137"/>
                      </a:lnTo>
                      <a:lnTo>
                        <a:pt x="102" y="3"/>
                      </a:lnTo>
                      <a:lnTo>
                        <a:pt x="0" y="3"/>
                      </a:lnTo>
                      <a:lnTo>
                        <a:pt x="0" y="19"/>
                      </a:lnTo>
                      <a:lnTo>
                        <a:pt x="23" y="19"/>
                      </a:lnTo>
                      <a:lnTo>
                        <a:pt x="23" y="191"/>
                      </a:lnTo>
                      <a:lnTo>
                        <a:pt x="5" y="191"/>
                      </a:lnTo>
                      <a:lnTo>
                        <a:pt x="5" y="207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923000" y="6564240"/>
                  <a:ext cx="106200" cy="109440"/>
                </a:xfrm>
                <a:custGeom>
                  <a:avLst/>
                  <a:gdLst/>
                  <a:ahLst/>
                  <a:rect l="l" t="t" r="r" b="b"/>
                  <a:pathLst>
                    <a:path w="202" h="207">
                      <a:moveTo>
                        <a:pt x="0" y="0"/>
                      </a:moveTo>
                      <a:lnTo>
                        <a:pt x="198" y="0"/>
                      </a:lnTo>
                      <a:lnTo>
                        <a:pt x="198" y="57"/>
                      </a:lnTo>
                      <a:lnTo>
                        <a:pt x="183" y="57"/>
                      </a:lnTo>
                      <a:lnTo>
                        <a:pt x="122" y="16"/>
                      </a:lnTo>
                      <a:lnTo>
                        <a:pt x="89" y="16"/>
                      </a:lnTo>
                      <a:lnTo>
                        <a:pt x="89" y="97"/>
                      </a:lnTo>
                      <a:lnTo>
                        <a:pt x="117" y="97"/>
                      </a:lnTo>
                      <a:lnTo>
                        <a:pt x="151" y="61"/>
                      </a:lnTo>
                      <a:lnTo>
                        <a:pt x="151" y="149"/>
                      </a:lnTo>
                      <a:lnTo>
                        <a:pt x="117" y="113"/>
                      </a:lnTo>
                      <a:lnTo>
                        <a:pt x="89" y="113"/>
                      </a:lnTo>
                      <a:lnTo>
                        <a:pt x="89" y="183"/>
                      </a:lnTo>
                      <a:lnTo>
                        <a:pt x="122" y="183"/>
                      </a:lnTo>
                      <a:lnTo>
                        <a:pt x="190" y="149"/>
                      </a:lnTo>
                      <a:lnTo>
                        <a:pt x="202" y="149"/>
                      </a:lnTo>
                      <a:lnTo>
                        <a:pt x="202" y="207"/>
                      </a:lnTo>
                      <a:lnTo>
                        <a:pt x="3" y="207"/>
                      </a:lnTo>
                      <a:lnTo>
                        <a:pt x="3" y="195"/>
                      </a:lnTo>
                      <a:lnTo>
                        <a:pt x="24" y="195"/>
                      </a:lnTo>
                      <a:lnTo>
                        <a:pt x="24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5216400" y="6561000"/>
                <a:ext cx="106560" cy="111240"/>
                <a:chOff x="5216400" y="6561000"/>
                <a:chExt cx="106560" cy="1112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216400" y="6561000"/>
                  <a:ext cx="106560" cy="111240"/>
                </a:xfrm>
                <a:custGeom>
                  <a:avLst/>
                  <a:gdLst/>
                  <a:ahLst/>
                  <a:rect l="l" t="t" r="r" b="b"/>
                  <a:pathLst>
                    <a:path w="202" h="210">
                      <a:moveTo>
                        <a:pt x="60" y="0"/>
                      </a:moveTo>
                      <a:lnTo>
                        <a:pt x="140" y="0"/>
                      </a:lnTo>
                      <a:lnTo>
                        <a:pt x="155" y="7"/>
                      </a:lnTo>
                      <a:lnTo>
                        <a:pt x="184" y="28"/>
                      </a:lnTo>
                      <a:lnTo>
                        <a:pt x="196" y="53"/>
                      </a:lnTo>
                      <a:lnTo>
                        <a:pt x="202" y="86"/>
                      </a:lnTo>
                      <a:lnTo>
                        <a:pt x="202" y="119"/>
                      </a:lnTo>
                      <a:lnTo>
                        <a:pt x="196" y="151"/>
                      </a:lnTo>
                      <a:lnTo>
                        <a:pt x="184" y="178"/>
                      </a:lnTo>
                      <a:lnTo>
                        <a:pt x="152" y="202"/>
                      </a:lnTo>
                      <a:lnTo>
                        <a:pt x="134" y="210"/>
                      </a:lnTo>
                      <a:lnTo>
                        <a:pt x="60" y="210"/>
                      </a:lnTo>
                      <a:lnTo>
                        <a:pt x="45" y="202"/>
                      </a:lnTo>
                      <a:lnTo>
                        <a:pt x="18" y="181"/>
                      </a:lnTo>
                      <a:lnTo>
                        <a:pt x="6" y="156"/>
                      </a:lnTo>
                      <a:lnTo>
                        <a:pt x="0" y="128"/>
                      </a:lnTo>
                      <a:lnTo>
                        <a:pt x="0" y="86"/>
                      </a:lnTo>
                      <a:lnTo>
                        <a:pt x="6" y="53"/>
                      </a:lnTo>
                      <a:lnTo>
                        <a:pt x="18" y="28"/>
                      </a:lnTo>
                      <a:lnTo>
                        <a:pt x="45" y="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254560" y="6572160"/>
                  <a:ext cx="28800" cy="88920"/>
                </a:xfrm>
                <a:custGeom>
                  <a:avLst/>
                  <a:gdLst/>
                  <a:ahLst/>
                  <a:rect l="l" t="t" r="r" b="b"/>
                  <a:pathLst>
                    <a:path w="54" h="167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27"/>
                      </a:lnTo>
                      <a:lnTo>
                        <a:pt x="0" y="140"/>
                      </a:lnTo>
                      <a:lnTo>
                        <a:pt x="6" y="154"/>
                      </a:lnTo>
                      <a:lnTo>
                        <a:pt x="18" y="167"/>
                      </a:lnTo>
                      <a:lnTo>
                        <a:pt x="37" y="167"/>
                      </a:lnTo>
                      <a:lnTo>
                        <a:pt x="49" y="154"/>
                      </a:lnTo>
                      <a:lnTo>
                        <a:pt x="54" y="140"/>
                      </a:lnTo>
                      <a:lnTo>
                        <a:pt x="54" y="27"/>
                      </a:lnTo>
                      <a:lnTo>
                        <a:pt x="49" y="15"/>
                      </a:lnTo>
                      <a:lnTo>
                        <a:pt x="37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5327640" y="6561000"/>
                <a:ext cx="200160" cy="108000"/>
                <a:chOff x="5327640" y="6561000"/>
                <a:chExt cx="200160" cy="1080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327640" y="656100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191" h="205">
                      <a:moveTo>
                        <a:pt x="0" y="0"/>
                      </a:moveTo>
                      <a:lnTo>
                        <a:pt x="119" y="0"/>
                      </a:lnTo>
                      <a:lnTo>
                        <a:pt x="119" y="16"/>
                      </a:lnTo>
                      <a:lnTo>
                        <a:pt x="88" y="16"/>
                      </a:lnTo>
                      <a:lnTo>
                        <a:pt x="88" y="181"/>
                      </a:lnTo>
                      <a:lnTo>
                        <a:pt x="119" y="181"/>
                      </a:lnTo>
                      <a:lnTo>
                        <a:pt x="170" y="150"/>
                      </a:lnTo>
                      <a:lnTo>
                        <a:pt x="191" y="150"/>
                      </a:lnTo>
                      <a:lnTo>
                        <a:pt x="191" y="205"/>
                      </a:lnTo>
                      <a:lnTo>
                        <a:pt x="4" y="205"/>
                      </a:lnTo>
                      <a:lnTo>
                        <a:pt x="4" y="193"/>
                      </a:lnTo>
                      <a:lnTo>
                        <a:pt x="22" y="193"/>
                      </a:lnTo>
                      <a:lnTo>
                        <a:pt x="2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429160" y="6561000"/>
                  <a:ext cx="98640" cy="108000"/>
                </a:xfrm>
                <a:custGeom>
                  <a:avLst/>
                  <a:gdLst/>
                  <a:ahLst/>
                  <a:rect l="l" t="t" r="r" b="b"/>
                  <a:pathLst>
                    <a:path w="188" h="205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16"/>
                      </a:lnTo>
                      <a:lnTo>
                        <a:pt x="88" y="16"/>
                      </a:lnTo>
                      <a:lnTo>
                        <a:pt x="88" y="181"/>
                      </a:lnTo>
                      <a:lnTo>
                        <a:pt x="120" y="181"/>
                      </a:lnTo>
                      <a:lnTo>
                        <a:pt x="169" y="150"/>
                      </a:lnTo>
                      <a:lnTo>
                        <a:pt x="188" y="150"/>
                      </a:lnTo>
                      <a:lnTo>
                        <a:pt x="188" y="205"/>
                      </a:lnTo>
                      <a:lnTo>
                        <a:pt x="3" y="205"/>
                      </a:lnTo>
                      <a:lnTo>
                        <a:pt x="3" y="193"/>
                      </a:lnTo>
                      <a:lnTo>
                        <a:pt x="21" y="193"/>
                      </a:lnTo>
                      <a:lnTo>
                        <a:pt x="2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5526000" y="6562800"/>
                <a:ext cx="146160" cy="108000"/>
                <a:chOff x="5526000" y="6562800"/>
                <a:chExt cx="146160" cy="1080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5526000" y="6562800"/>
                  <a:ext cx="146160" cy="108000"/>
                </a:xfrm>
                <a:custGeom>
                  <a:avLst/>
                  <a:gdLst/>
                  <a:ahLst/>
                  <a:rect l="l" t="t" r="r" b="b"/>
                  <a:pathLst>
                    <a:path w="277" h="205">
                      <a:moveTo>
                        <a:pt x="163" y="0"/>
                      </a:moveTo>
                      <a:lnTo>
                        <a:pt x="256" y="189"/>
                      </a:lnTo>
                      <a:lnTo>
                        <a:pt x="277" y="189"/>
                      </a:lnTo>
                      <a:lnTo>
                        <a:pt x="277" y="205"/>
                      </a:lnTo>
                      <a:lnTo>
                        <a:pt x="127" y="205"/>
                      </a:lnTo>
                      <a:lnTo>
                        <a:pt x="127" y="189"/>
                      </a:lnTo>
                      <a:lnTo>
                        <a:pt x="145" y="189"/>
                      </a:lnTo>
                      <a:lnTo>
                        <a:pt x="124" y="131"/>
                      </a:lnTo>
                      <a:lnTo>
                        <a:pt x="70" y="129"/>
                      </a:lnTo>
                      <a:lnTo>
                        <a:pt x="45" y="189"/>
                      </a:lnTo>
                      <a:lnTo>
                        <a:pt x="73" y="189"/>
                      </a:lnTo>
                      <a:lnTo>
                        <a:pt x="73" y="205"/>
                      </a:lnTo>
                      <a:lnTo>
                        <a:pt x="0" y="205"/>
                      </a:lnTo>
                      <a:lnTo>
                        <a:pt x="0" y="189"/>
                      </a:lnTo>
                      <a:lnTo>
                        <a:pt x="19" y="189"/>
                      </a:lnTo>
                      <a:lnTo>
                        <a:pt x="94" y="0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567400" y="658980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40" h="55">
                      <a:moveTo>
                        <a:pt x="21" y="0"/>
                      </a:moveTo>
                      <a:lnTo>
                        <a:pt x="0" y="55"/>
                      </a:lnTo>
                      <a:lnTo>
                        <a:pt x="40" y="5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5079960" y="6564240"/>
                <a:ext cx="125280" cy="108000"/>
                <a:chOff x="5079960" y="6564240"/>
                <a:chExt cx="125280" cy="1080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5079960" y="6564240"/>
                  <a:ext cx="125280" cy="108000"/>
                </a:xfrm>
                <a:custGeom>
                  <a:avLst/>
                  <a:gdLst/>
                  <a:ahLst/>
                  <a:rect l="l" t="t" r="r" b="b"/>
                  <a:pathLst>
                    <a:path w="237" h="203">
                      <a:moveTo>
                        <a:pt x="93" y="0"/>
                      </a:moveTo>
                      <a:lnTo>
                        <a:pt x="172" y="0"/>
                      </a:lnTo>
                      <a:lnTo>
                        <a:pt x="190" y="9"/>
                      </a:lnTo>
                      <a:lnTo>
                        <a:pt x="220" y="28"/>
                      </a:lnTo>
                      <a:lnTo>
                        <a:pt x="231" y="52"/>
                      </a:lnTo>
                      <a:lnTo>
                        <a:pt x="237" y="83"/>
                      </a:lnTo>
                      <a:lnTo>
                        <a:pt x="237" y="116"/>
                      </a:lnTo>
                      <a:lnTo>
                        <a:pt x="231" y="147"/>
                      </a:lnTo>
                      <a:lnTo>
                        <a:pt x="220" y="171"/>
                      </a:lnTo>
                      <a:lnTo>
                        <a:pt x="184" y="197"/>
                      </a:lnTo>
                      <a:lnTo>
                        <a:pt x="168" y="203"/>
                      </a:lnTo>
                      <a:lnTo>
                        <a:pt x="93" y="203"/>
                      </a:lnTo>
                      <a:lnTo>
                        <a:pt x="0" y="203"/>
                      </a:lnTo>
                      <a:lnTo>
                        <a:pt x="3" y="183"/>
                      </a:lnTo>
                      <a:lnTo>
                        <a:pt x="30" y="183"/>
                      </a:lnTo>
                      <a:lnTo>
                        <a:pt x="30" y="124"/>
                      </a:lnTo>
                      <a:lnTo>
                        <a:pt x="30" y="83"/>
                      </a:lnTo>
                      <a:lnTo>
                        <a:pt x="30" y="52"/>
                      </a:lnTo>
                      <a:lnTo>
                        <a:pt x="30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135400" y="6576840"/>
                  <a:ext cx="28800" cy="84240"/>
                </a:xfrm>
                <a:custGeom>
                  <a:avLst/>
                  <a:gdLst/>
                  <a:ahLst/>
                  <a:rect l="l" t="t" r="r" b="b"/>
                  <a:pathLst>
                    <a:path w="55" h="158">
                      <a:moveTo>
                        <a:pt x="20" y="0"/>
                      </a:move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20" y="158"/>
                      </a:lnTo>
                      <a:lnTo>
                        <a:pt x="39" y="158"/>
                      </a:lnTo>
                      <a:lnTo>
                        <a:pt x="51" y="146"/>
                      </a:lnTo>
                      <a:lnTo>
                        <a:pt x="55" y="133"/>
                      </a:lnTo>
                      <a:lnTo>
                        <a:pt x="55" y="26"/>
                      </a:lnTo>
                      <a:lnTo>
                        <a:pt x="51" y="12"/>
                      </a:lnTo>
                      <a:lnTo>
                        <a:pt x="39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0" name=""/>
            <p:cNvGrpSpPr/>
            <p:nvPr/>
          </p:nvGrpSpPr>
          <p:grpSpPr>
            <a:xfrm>
              <a:off x="4370400" y="5676840"/>
              <a:ext cx="1747800" cy="96840"/>
              <a:chOff x="4370400" y="5676840"/>
              <a:chExt cx="1747800" cy="9684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4370400" y="5676840"/>
                <a:ext cx="193680" cy="96840"/>
                <a:chOff x="4370400" y="5676840"/>
                <a:chExt cx="193680" cy="9684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4370400" y="5676840"/>
                  <a:ext cx="55440" cy="96840"/>
                </a:xfrm>
                <a:custGeom>
                  <a:avLst/>
                  <a:gdLst/>
                  <a:ahLst/>
                  <a:rect l="l" t="t" r="r" b="b"/>
                  <a:pathLst>
                    <a:path w="104" h="183">
                      <a:moveTo>
                        <a:pt x="0" y="0"/>
                      </a:moveTo>
                      <a:lnTo>
                        <a:pt x="104" y="0"/>
                      </a:lnTo>
                      <a:lnTo>
                        <a:pt x="104" y="35"/>
                      </a:lnTo>
                      <a:lnTo>
                        <a:pt x="77" y="35"/>
                      </a:lnTo>
                      <a:lnTo>
                        <a:pt x="77" y="183"/>
                      </a:lnTo>
                      <a:lnTo>
                        <a:pt x="33" y="183"/>
                      </a:lnTo>
                      <a:lnTo>
                        <a:pt x="33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430880" y="5676840"/>
                  <a:ext cx="71280" cy="96840"/>
                </a:xfrm>
                <a:custGeom>
                  <a:avLst/>
                  <a:gdLst/>
                  <a:ahLst/>
                  <a:rect l="l" t="t" r="r" b="b"/>
                  <a:pathLst>
                    <a:path w="136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71"/>
                      </a:lnTo>
                      <a:lnTo>
                        <a:pt x="90" y="71"/>
                      </a:lnTo>
                      <a:lnTo>
                        <a:pt x="90" y="0"/>
                      </a:lnTo>
                      <a:lnTo>
                        <a:pt x="136" y="0"/>
                      </a:lnTo>
                      <a:lnTo>
                        <a:pt x="136" y="183"/>
                      </a:lnTo>
                      <a:lnTo>
                        <a:pt x="90" y="183"/>
                      </a:lnTo>
                      <a:lnTo>
                        <a:pt x="90" y="105"/>
                      </a:lnTo>
                      <a:lnTo>
                        <a:pt x="45" y="105"/>
                      </a:lnTo>
                      <a:lnTo>
                        <a:pt x="45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51008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183">
                      <a:moveTo>
                        <a:pt x="0" y="0"/>
                      </a:moveTo>
                      <a:lnTo>
                        <a:pt x="102" y="0"/>
                      </a:lnTo>
                      <a:lnTo>
                        <a:pt x="102" y="34"/>
                      </a:lnTo>
                      <a:lnTo>
                        <a:pt x="51" y="34"/>
                      </a:lnTo>
                      <a:lnTo>
                        <a:pt x="51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51" y="105"/>
                      </a:lnTo>
                      <a:lnTo>
                        <a:pt x="51" y="147"/>
                      </a:lnTo>
                      <a:lnTo>
                        <a:pt x="102" y="147"/>
                      </a:lnTo>
                      <a:lnTo>
                        <a:pt x="10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4605480" y="5676840"/>
                <a:ext cx="377640" cy="96840"/>
                <a:chOff x="4605480" y="5676840"/>
                <a:chExt cx="377640" cy="968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605480" y="5676840"/>
                  <a:ext cx="64800" cy="96840"/>
                </a:xfrm>
                <a:custGeom>
                  <a:avLst/>
                  <a:gdLst/>
                  <a:ahLst/>
                  <a:rect l="l" t="t" r="r" b="b"/>
                  <a:pathLst>
                    <a:path w="123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147"/>
                      </a:lnTo>
                      <a:lnTo>
                        <a:pt x="78" y="147"/>
                      </a:lnTo>
                      <a:lnTo>
                        <a:pt x="78" y="0"/>
                      </a:lnTo>
                      <a:lnTo>
                        <a:pt x="123" y="0"/>
                      </a:lnTo>
                      <a:lnTo>
                        <a:pt x="123" y="158"/>
                      </a:lnTo>
                      <a:lnTo>
                        <a:pt x="90" y="183"/>
                      </a:lnTo>
                      <a:lnTo>
                        <a:pt x="33" y="183"/>
                      </a:lnTo>
                      <a:lnTo>
                        <a:pt x="0" y="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680000" y="5676840"/>
                  <a:ext cx="69840" cy="96840"/>
                </a:xfrm>
                <a:custGeom>
                  <a:avLst/>
                  <a:gdLst/>
                  <a:ahLst/>
                  <a:rect l="l" t="t" r="r" b="b"/>
                  <a:pathLst>
                    <a:path w="133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84" y="86"/>
                      </a:lnTo>
                      <a:lnTo>
                        <a:pt x="84" y="0"/>
                      </a:lnTo>
                      <a:lnTo>
                        <a:pt x="133" y="0"/>
                      </a:lnTo>
                      <a:lnTo>
                        <a:pt x="133" y="183"/>
                      </a:lnTo>
                      <a:lnTo>
                        <a:pt x="84" y="183"/>
                      </a:lnTo>
                      <a:lnTo>
                        <a:pt x="51" y="95"/>
                      </a:lnTo>
                      <a:lnTo>
                        <a:pt x="51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761000" y="5676840"/>
                  <a:ext cx="23760" cy="968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791240" y="5676840"/>
                  <a:ext cx="56880" cy="96840"/>
                </a:xfrm>
                <a:custGeom>
                  <a:avLst/>
                  <a:gdLst/>
                  <a:ahLst/>
                  <a:rect l="l" t="t" r="r" b="b"/>
                  <a:pathLst>
                    <a:path w="106" h="183">
                      <a:moveTo>
                        <a:pt x="0" y="0"/>
                      </a:moveTo>
                      <a:lnTo>
                        <a:pt x="106" y="0"/>
                      </a:lnTo>
                      <a:lnTo>
                        <a:pt x="106" y="35"/>
                      </a:lnTo>
                      <a:lnTo>
                        <a:pt x="79" y="35"/>
                      </a:lnTo>
                      <a:lnTo>
                        <a:pt x="79" y="183"/>
                      </a:lnTo>
                      <a:lnTo>
                        <a:pt x="35" y="183"/>
                      </a:lnTo>
                      <a:lnTo>
                        <a:pt x="35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85460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49" y="34"/>
                      </a:lnTo>
                      <a:lnTo>
                        <a:pt x="49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49" y="105"/>
                      </a:lnTo>
                      <a:lnTo>
                        <a:pt x="49" y="147"/>
                      </a:lnTo>
                      <a:lnTo>
                        <a:pt x="100" y="147"/>
                      </a:lnTo>
                      <a:lnTo>
                        <a:pt x="100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916520" y="5676840"/>
                  <a:ext cx="66600" cy="968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25" y="25"/>
                      </a:lnTo>
                      <a:lnTo>
                        <a:pt x="125" y="158"/>
                      </a:lnTo>
                      <a:lnTo>
                        <a:pt x="96" y="183"/>
                      </a:lnTo>
                      <a:lnTo>
                        <a:pt x="0" y="183"/>
                      </a:lnTo>
                      <a:lnTo>
                        <a:pt x="0" y="34"/>
                      </a:lnTo>
                      <a:lnTo>
                        <a:pt x="45" y="34"/>
                      </a:lnTo>
                      <a:lnTo>
                        <a:pt x="45" y="147"/>
                      </a:lnTo>
                      <a:lnTo>
                        <a:pt x="74" y="147"/>
                      </a:lnTo>
                      <a:lnTo>
                        <a:pt x="74" y="34"/>
                      </a:lnTo>
                      <a:lnTo>
                        <a:pt x="45" y="34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5030640" y="5676840"/>
                <a:ext cx="381240" cy="96840"/>
                <a:chOff x="5030640" y="5676840"/>
                <a:chExt cx="381240" cy="968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503064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7" h="183">
                      <a:moveTo>
                        <a:pt x="29" y="0"/>
                      </a:moveTo>
                      <a:lnTo>
                        <a:pt x="90" y="0"/>
                      </a:lnTo>
                      <a:lnTo>
                        <a:pt x="117" y="25"/>
                      </a:lnTo>
                      <a:lnTo>
                        <a:pt x="117" y="61"/>
                      </a:lnTo>
                      <a:lnTo>
                        <a:pt x="74" y="61"/>
                      </a:lnTo>
                      <a:lnTo>
                        <a:pt x="74" y="35"/>
                      </a:lnTo>
                      <a:lnTo>
                        <a:pt x="45" y="35"/>
                      </a:lnTo>
                      <a:lnTo>
                        <a:pt x="45" y="76"/>
                      </a:lnTo>
                      <a:lnTo>
                        <a:pt x="84" y="76"/>
                      </a:lnTo>
                      <a:lnTo>
                        <a:pt x="81" y="76"/>
                      </a:lnTo>
                      <a:lnTo>
                        <a:pt x="117" y="102"/>
                      </a:lnTo>
                      <a:lnTo>
                        <a:pt x="117" y="158"/>
                      </a:lnTo>
                      <a:lnTo>
                        <a:pt x="90" y="183"/>
                      </a:lnTo>
                      <a:lnTo>
                        <a:pt x="29" y="183"/>
                      </a:lnTo>
                      <a:lnTo>
                        <a:pt x="0" y="158"/>
                      </a:lnTo>
                      <a:lnTo>
                        <a:pt x="0" y="126"/>
                      </a:lnTo>
                      <a:lnTo>
                        <a:pt x="39" y="126"/>
                      </a:lnTo>
                      <a:lnTo>
                        <a:pt x="39" y="147"/>
                      </a:lnTo>
                      <a:lnTo>
                        <a:pt x="74" y="147"/>
                      </a:lnTo>
                      <a:lnTo>
                        <a:pt x="74" y="111"/>
                      </a:lnTo>
                      <a:lnTo>
                        <a:pt x="35" y="111"/>
                      </a:lnTo>
                      <a:lnTo>
                        <a:pt x="0" y="86"/>
                      </a:lnTo>
                      <a:lnTo>
                        <a:pt x="0" y="2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100480" y="5676840"/>
                  <a:ext cx="55800" cy="96840"/>
                </a:xfrm>
                <a:custGeom>
                  <a:avLst/>
                  <a:gdLst/>
                  <a:ahLst/>
                  <a:rect l="l" t="t" r="r" b="b"/>
                  <a:pathLst>
                    <a:path w="105" h="183">
                      <a:moveTo>
                        <a:pt x="0" y="0"/>
                      </a:moveTo>
                      <a:lnTo>
                        <a:pt x="105" y="0"/>
                      </a:lnTo>
                      <a:lnTo>
                        <a:pt x="105" y="35"/>
                      </a:lnTo>
                      <a:lnTo>
                        <a:pt x="78" y="35"/>
                      </a:lnTo>
                      <a:lnTo>
                        <a:pt x="78" y="183"/>
                      </a:lnTo>
                      <a:lnTo>
                        <a:pt x="33" y="183"/>
                      </a:lnTo>
                      <a:lnTo>
                        <a:pt x="33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14980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4" h="183">
                      <a:moveTo>
                        <a:pt x="39" y="0"/>
                      </a:moveTo>
                      <a:lnTo>
                        <a:pt x="105" y="0"/>
                      </a:lnTo>
                      <a:lnTo>
                        <a:pt x="144" y="183"/>
                      </a:lnTo>
                      <a:lnTo>
                        <a:pt x="94" y="183"/>
                      </a:lnTo>
                      <a:lnTo>
                        <a:pt x="88" y="147"/>
                      </a:lnTo>
                      <a:lnTo>
                        <a:pt x="88" y="116"/>
                      </a:lnTo>
                      <a:lnTo>
                        <a:pt x="72" y="29"/>
                      </a:lnTo>
                      <a:lnTo>
                        <a:pt x="55" y="116"/>
                      </a:lnTo>
                      <a:lnTo>
                        <a:pt x="88" y="116"/>
                      </a:lnTo>
                      <a:lnTo>
                        <a:pt x="88" y="147"/>
                      </a:lnTo>
                      <a:lnTo>
                        <a:pt x="55" y="147"/>
                      </a:lnTo>
                      <a:lnTo>
                        <a:pt x="49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21964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4" h="183">
                      <a:moveTo>
                        <a:pt x="0" y="0"/>
                      </a:moveTo>
                      <a:lnTo>
                        <a:pt x="104" y="0"/>
                      </a:lnTo>
                      <a:lnTo>
                        <a:pt x="104" y="35"/>
                      </a:lnTo>
                      <a:lnTo>
                        <a:pt x="77" y="35"/>
                      </a:lnTo>
                      <a:lnTo>
                        <a:pt x="77" y="183"/>
                      </a:lnTo>
                      <a:lnTo>
                        <a:pt x="34" y="183"/>
                      </a:lnTo>
                      <a:lnTo>
                        <a:pt x="34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480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183">
                      <a:moveTo>
                        <a:pt x="0" y="0"/>
                      </a:moveTo>
                      <a:lnTo>
                        <a:pt x="102" y="0"/>
                      </a:lnTo>
                      <a:lnTo>
                        <a:pt x="102" y="34"/>
                      </a:lnTo>
                      <a:lnTo>
                        <a:pt x="50" y="34"/>
                      </a:lnTo>
                      <a:lnTo>
                        <a:pt x="50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50" y="105"/>
                      </a:lnTo>
                      <a:lnTo>
                        <a:pt x="50" y="147"/>
                      </a:lnTo>
                      <a:lnTo>
                        <a:pt x="102" y="147"/>
                      </a:lnTo>
                      <a:lnTo>
                        <a:pt x="10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34996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9" h="183">
                      <a:moveTo>
                        <a:pt x="29" y="0"/>
                      </a:moveTo>
                      <a:lnTo>
                        <a:pt x="90" y="0"/>
                      </a:lnTo>
                      <a:lnTo>
                        <a:pt x="119" y="25"/>
                      </a:lnTo>
                      <a:lnTo>
                        <a:pt x="119" y="61"/>
                      </a:lnTo>
                      <a:lnTo>
                        <a:pt x="74" y="61"/>
                      </a:lnTo>
                      <a:lnTo>
                        <a:pt x="74" y="35"/>
                      </a:lnTo>
                      <a:lnTo>
                        <a:pt x="45" y="35"/>
                      </a:lnTo>
                      <a:lnTo>
                        <a:pt x="45" y="76"/>
                      </a:lnTo>
                      <a:lnTo>
                        <a:pt x="86" y="76"/>
                      </a:lnTo>
                      <a:lnTo>
                        <a:pt x="81" y="76"/>
                      </a:lnTo>
                      <a:lnTo>
                        <a:pt x="119" y="102"/>
                      </a:lnTo>
                      <a:lnTo>
                        <a:pt x="119" y="158"/>
                      </a:lnTo>
                      <a:lnTo>
                        <a:pt x="90" y="183"/>
                      </a:lnTo>
                      <a:lnTo>
                        <a:pt x="29" y="183"/>
                      </a:lnTo>
                      <a:lnTo>
                        <a:pt x="0" y="158"/>
                      </a:lnTo>
                      <a:lnTo>
                        <a:pt x="0" y="126"/>
                      </a:lnTo>
                      <a:lnTo>
                        <a:pt x="41" y="126"/>
                      </a:lnTo>
                      <a:lnTo>
                        <a:pt x="41" y="147"/>
                      </a:lnTo>
                      <a:lnTo>
                        <a:pt x="74" y="147"/>
                      </a:lnTo>
                      <a:lnTo>
                        <a:pt x="74" y="111"/>
                      </a:lnTo>
                      <a:lnTo>
                        <a:pt x="35" y="111"/>
                      </a:lnTo>
                      <a:lnTo>
                        <a:pt x="0" y="86"/>
                      </a:lnTo>
                      <a:lnTo>
                        <a:pt x="0" y="2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452920" y="5676840"/>
                <a:ext cx="133560" cy="96840"/>
                <a:chOff x="5452920" y="5676840"/>
                <a:chExt cx="133560" cy="9684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452920" y="5676840"/>
                  <a:ext cx="66960" cy="96840"/>
                </a:xfrm>
                <a:custGeom>
                  <a:avLst/>
                  <a:gdLst/>
                  <a:ahLst/>
                  <a:rect l="l" t="t" r="r" b="b"/>
                  <a:pathLst>
                    <a:path w="127" h="183">
                      <a:moveTo>
                        <a:pt x="33" y="0"/>
                      </a:moveTo>
                      <a:lnTo>
                        <a:pt x="95" y="0"/>
                      </a:lnTo>
                      <a:lnTo>
                        <a:pt x="127" y="29"/>
                      </a:lnTo>
                      <a:lnTo>
                        <a:pt x="127" y="152"/>
                      </a:lnTo>
                      <a:lnTo>
                        <a:pt x="95" y="183"/>
                      </a:lnTo>
                      <a:lnTo>
                        <a:pt x="83" y="183"/>
                      </a:lnTo>
                      <a:lnTo>
                        <a:pt x="45" y="183"/>
                      </a:lnTo>
                      <a:lnTo>
                        <a:pt x="33" y="183"/>
                      </a:lnTo>
                      <a:lnTo>
                        <a:pt x="0" y="152"/>
                      </a:lnTo>
                      <a:lnTo>
                        <a:pt x="0" y="147"/>
                      </a:lnTo>
                      <a:lnTo>
                        <a:pt x="50" y="147"/>
                      </a:lnTo>
                      <a:lnTo>
                        <a:pt x="78" y="147"/>
                      </a:lnTo>
                      <a:lnTo>
                        <a:pt x="78" y="34"/>
                      </a:lnTo>
                      <a:lnTo>
                        <a:pt x="50" y="34"/>
                      </a:lnTo>
                      <a:lnTo>
                        <a:pt x="50" y="147"/>
                      </a:lnTo>
                      <a:lnTo>
                        <a:pt x="0" y="147"/>
                      </a:lnTo>
                      <a:lnTo>
                        <a:pt x="0" y="2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33920" y="567684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51" y="34"/>
                      </a:lnTo>
                      <a:lnTo>
                        <a:pt x="51" y="71"/>
                      </a:lnTo>
                      <a:lnTo>
                        <a:pt x="96" y="71"/>
                      </a:lnTo>
                      <a:lnTo>
                        <a:pt x="96" y="105"/>
                      </a:lnTo>
                      <a:lnTo>
                        <a:pt x="51" y="105"/>
                      </a:lnTo>
                      <a:lnTo>
                        <a:pt x="51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618160" y="5676840"/>
                <a:ext cx="500040" cy="96840"/>
                <a:chOff x="5618160" y="5676840"/>
                <a:chExt cx="500040" cy="968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61816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3" h="183">
                      <a:moveTo>
                        <a:pt x="39" y="0"/>
                      </a:moveTo>
                      <a:lnTo>
                        <a:pt x="104" y="0"/>
                      </a:lnTo>
                      <a:lnTo>
                        <a:pt x="143" y="183"/>
                      </a:lnTo>
                      <a:lnTo>
                        <a:pt x="94" y="183"/>
                      </a:lnTo>
                      <a:lnTo>
                        <a:pt x="88" y="147"/>
                      </a:lnTo>
                      <a:lnTo>
                        <a:pt x="88" y="116"/>
                      </a:lnTo>
                      <a:lnTo>
                        <a:pt x="72" y="29"/>
                      </a:lnTo>
                      <a:lnTo>
                        <a:pt x="55" y="116"/>
                      </a:lnTo>
                      <a:lnTo>
                        <a:pt x="88" y="116"/>
                      </a:lnTo>
                      <a:lnTo>
                        <a:pt x="88" y="147"/>
                      </a:lnTo>
                      <a:lnTo>
                        <a:pt x="55" y="147"/>
                      </a:lnTo>
                      <a:lnTo>
                        <a:pt x="49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99160" y="5676840"/>
                  <a:ext cx="84240" cy="96840"/>
                </a:xfrm>
                <a:custGeom>
                  <a:avLst/>
                  <a:gdLst/>
                  <a:ahLst/>
                  <a:rect l="l" t="t" r="r" b="b"/>
                  <a:pathLst>
                    <a:path w="161" h="183">
                      <a:moveTo>
                        <a:pt x="0" y="183"/>
                      </a:moveTo>
                      <a:lnTo>
                        <a:pt x="46" y="183"/>
                      </a:lnTo>
                      <a:lnTo>
                        <a:pt x="46" y="86"/>
                      </a:lnTo>
                      <a:lnTo>
                        <a:pt x="69" y="183"/>
                      </a:lnTo>
                      <a:lnTo>
                        <a:pt x="93" y="183"/>
                      </a:lnTo>
                      <a:lnTo>
                        <a:pt x="116" y="86"/>
                      </a:lnTo>
                      <a:lnTo>
                        <a:pt x="116" y="183"/>
                      </a:lnTo>
                      <a:lnTo>
                        <a:pt x="161" y="183"/>
                      </a:lnTo>
                      <a:lnTo>
                        <a:pt x="161" y="0"/>
                      </a:lnTo>
                      <a:lnTo>
                        <a:pt x="99" y="0"/>
                      </a:lnTo>
                      <a:lnTo>
                        <a:pt x="81" y="86"/>
                      </a:ln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799240" y="5676840"/>
                  <a:ext cx="5220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49" y="34"/>
                      </a:lnTo>
                      <a:lnTo>
                        <a:pt x="49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49" y="105"/>
                      </a:lnTo>
                      <a:lnTo>
                        <a:pt x="49" y="147"/>
                      </a:lnTo>
                      <a:lnTo>
                        <a:pt x="100" y="147"/>
                      </a:lnTo>
                      <a:lnTo>
                        <a:pt x="100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86260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7" h="183">
                      <a:moveTo>
                        <a:pt x="0" y="0"/>
                      </a:moveTo>
                      <a:lnTo>
                        <a:pt x="90" y="0"/>
                      </a:lnTo>
                      <a:lnTo>
                        <a:pt x="117" y="19"/>
                      </a:lnTo>
                      <a:lnTo>
                        <a:pt x="117" y="71"/>
                      </a:lnTo>
                      <a:lnTo>
                        <a:pt x="90" y="91"/>
                      </a:lnTo>
                      <a:lnTo>
                        <a:pt x="117" y="111"/>
                      </a:lnTo>
                      <a:lnTo>
                        <a:pt x="117" y="183"/>
                      </a:lnTo>
                      <a:lnTo>
                        <a:pt x="74" y="183"/>
                      </a:lnTo>
                      <a:lnTo>
                        <a:pt x="74" y="111"/>
                      </a:lnTo>
                      <a:lnTo>
                        <a:pt x="74" y="76"/>
                      </a:lnTo>
                      <a:lnTo>
                        <a:pt x="45" y="76"/>
                      </a:lnTo>
                      <a:lnTo>
                        <a:pt x="45" y="29"/>
                      </a:lnTo>
                      <a:lnTo>
                        <a:pt x="74" y="29"/>
                      </a:lnTo>
                      <a:lnTo>
                        <a:pt x="74" y="76"/>
                      </a:lnTo>
                      <a:lnTo>
                        <a:pt x="74" y="111"/>
                      </a:lnTo>
                      <a:lnTo>
                        <a:pt x="45" y="111"/>
                      </a:lnTo>
                      <a:lnTo>
                        <a:pt x="45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935680" y="5676840"/>
                  <a:ext cx="23760" cy="968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970600" y="5676840"/>
                  <a:ext cx="65160" cy="968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34" y="0"/>
                      </a:moveTo>
                      <a:lnTo>
                        <a:pt x="91" y="0"/>
                      </a:lnTo>
                      <a:lnTo>
                        <a:pt x="125" y="25"/>
                      </a:lnTo>
                      <a:lnTo>
                        <a:pt x="125" y="71"/>
                      </a:lnTo>
                      <a:lnTo>
                        <a:pt x="81" y="71"/>
                      </a:lnTo>
                      <a:lnTo>
                        <a:pt x="81" y="34"/>
                      </a:lnTo>
                      <a:lnTo>
                        <a:pt x="45" y="34"/>
                      </a:lnTo>
                      <a:lnTo>
                        <a:pt x="45" y="147"/>
                      </a:lnTo>
                      <a:lnTo>
                        <a:pt x="81" y="147"/>
                      </a:lnTo>
                      <a:lnTo>
                        <a:pt x="81" y="105"/>
                      </a:lnTo>
                      <a:lnTo>
                        <a:pt x="125" y="105"/>
                      </a:lnTo>
                      <a:lnTo>
                        <a:pt x="125" y="158"/>
                      </a:lnTo>
                      <a:lnTo>
                        <a:pt x="91" y="183"/>
                      </a:lnTo>
                      <a:lnTo>
                        <a:pt x="34" y="183"/>
                      </a:lnTo>
                      <a:lnTo>
                        <a:pt x="0" y="158"/>
                      </a:lnTo>
                      <a:lnTo>
                        <a:pt x="0" y="2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04188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4" h="183">
                      <a:moveTo>
                        <a:pt x="39" y="0"/>
                      </a:moveTo>
                      <a:lnTo>
                        <a:pt x="105" y="0"/>
                      </a:lnTo>
                      <a:lnTo>
                        <a:pt x="144" y="183"/>
                      </a:lnTo>
                      <a:lnTo>
                        <a:pt x="93" y="183"/>
                      </a:lnTo>
                      <a:lnTo>
                        <a:pt x="89" y="147"/>
                      </a:lnTo>
                      <a:lnTo>
                        <a:pt x="89" y="116"/>
                      </a:lnTo>
                      <a:lnTo>
                        <a:pt x="72" y="29"/>
                      </a:lnTo>
                      <a:lnTo>
                        <a:pt x="56" y="116"/>
                      </a:lnTo>
                      <a:lnTo>
                        <a:pt x="89" y="116"/>
                      </a:lnTo>
                      <a:lnTo>
                        <a:pt x="89" y="147"/>
                      </a:lnTo>
                      <a:lnTo>
                        <a:pt x="56" y="147"/>
                      </a:lnTo>
                      <a:lnTo>
                        <a:pt x="50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0" name=""/>
          <p:cNvSpPr/>
          <p:nvPr/>
        </p:nvSpPr>
        <p:spPr>
          <a:xfrm>
            <a:off x="457200" y="1523880"/>
            <a:ext cx="7772400" cy="35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s that the dollar maintains a relatively stable val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In countries with high inflation, this assumption may not be val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Dollar or</a:t>
            </a:r>
            <a:br>
              <a:rPr sz="4000"/>
            </a:b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Monetary Unit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2820960" y="5265720"/>
            <a:ext cx="3651120" cy="1554120"/>
            <a:chOff x="2820960" y="5265720"/>
            <a:chExt cx="3651120" cy="1554120"/>
          </a:xfrm>
        </p:grpSpPr>
        <p:grpSp>
          <p:nvGrpSpPr>
            <p:cNvPr id="903" name=""/>
            <p:cNvGrpSpPr/>
            <p:nvPr/>
          </p:nvGrpSpPr>
          <p:grpSpPr>
            <a:xfrm>
              <a:off x="2820960" y="5265720"/>
              <a:ext cx="3651120" cy="1554120"/>
              <a:chOff x="2820960" y="5265720"/>
              <a:chExt cx="3651120" cy="1554120"/>
            </a:xfrm>
          </p:grpSpPr>
          <p:sp>
            <p:nvSpPr>
              <p:cNvPr id="904" name=""/>
              <p:cNvSpPr/>
              <p:nvPr/>
            </p:nvSpPr>
            <p:spPr>
              <a:xfrm>
                <a:off x="2820960" y="5265720"/>
                <a:ext cx="3651120" cy="1554120"/>
              </a:xfrm>
              <a:prstGeom prst="rect">
                <a:avLst/>
              </a:prstGeom>
              <a:solidFill>
                <a:srgbClr val="bfffb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903400" y="5348160"/>
                <a:ext cx="3484800" cy="1387440"/>
              </a:xfrm>
              <a:prstGeom prst="rect">
                <a:avLst/>
              </a:prstGeom>
              <a:solidFill>
                <a:srgbClr val="008000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7840" y="5470560"/>
                <a:ext cx="2976840" cy="1128600"/>
              </a:xfrm>
              <a:prstGeom prst="rect">
                <a:avLst/>
              </a:prstGeom>
              <a:solidFill>
                <a:srgbClr val="bfffbf"/>
              </a:solidFill>
              <a:ln w="1584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4154400" y="6384960"/>
              <a:ext cx="962280" cy="189000"/>
              <a:chOff x="4154400" y="6384960"/>
              <a:chExt cx="962280" cy="1890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4154400" y="6384960"/>
                <a:ext cx="165240" cy="183960"/>
                <a:chOff x="4154400" y="6384960"/>
                <a:chExt cx="165240" cy="1839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160880" y="643428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9">
                      <a:moveTo>
                        <a:pt x="193" y="159"/>
                      </a:moveTo>
                      <a:lnTo>
                        <a:pt x="122" y="124"/>
                      </a:lnTo>
                      <a:lnTo>
                        <a:pt x="51" y="74"/>
                      </a:lnTo>
                      <a:lnTo>
                        <a:pt x="0" y="0"/>
                      </a:lnTo>
                      <a:lnTo>
                        <a:pt x="48" y="10"/>
                      </a:lnTo>
                      <a:lnTo>
                        <a:pt x="112" y="38"/>
                      </a:lnTo>
                      <a:lnTo>
                        <a:pt x="155" y="87"/>
                      </a:lnTo>
                      <a:lnTo>
                        <a:pt x="193" y="15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203720" y="6384960"/>
                  <a:ext cx="115920" cy="156960"/>
                </a:xfrm>
                <a:custGeom>
                  <a:avLst/>
                  <a:gdLst/>
                  <a:ahLst/>
                  <a:rect l="l" t="t" r="r" b="b"/>
                  <a:pathLst>
                    <a:path w="146" h="199">
                      <a:moveTo>
                        <a:pt x="146" y="199"/>
                      </a:moveTo>
                      <a:lnTo>
                        <a:pt x="85" y="144"/>
                      </a:lnTo>
                      <a:lnTo>
                        <a:pt x="45" y="95"/>
                      </a:lnTo>
                      <a:lnTo>
                        <a:pt x="24" y="51"/>
                      </a:lnTo>
                      <a:lnTo>
                        <a:pt x="0" y="0"/>
                      </a:lnTo>
                      <a:lnTo>
                        <a:pt x="49" y="25"/>
                      </a:lnTo>
                      <a:lnTo>
                        <a:pt x="87" y="55"/>
                      </a:lnTo>
                      <a:lnTo>
                        <a:pt x="120" y="99"/>
                      </a:lnTo>
                      <a:lnTo>
                        <a:pt x="143" y="149"/>
                      </a:lnTo>
                      <a:lnTo>
                        <a:pt x="146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154400" y="6505560"/>
                  <a:ext cx="146160" cy="6336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81"/>
                      </a:moveTo>
                      <a:lnTo>
                        <a:pt x="119" y="64"/>
                      </a:lnTo>
                      <a:lnTo>
                        <a:pt x="48" y="38"/>
                      </a:lnTo>
                      <a:lnTo>
                        <a:pt x="0" y="0"/>
                      </a:lnTo>
                      <a:lnTo>
                        <a:pt x="48" y="2"/>
                      </a:lnTo>
                      <a:lnTo>
                        <a:pt x="107" y="18"/>
                      </a:lnTo>
                      <a:lnTo>
                        <a:pt x="147" y="40"/>
                      </a:lnTo>
                      <a:lnTo>
                        <a:pt x="184" y="8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950000" y="6388200"/>
                <a:ext cx="166680" cy="185760"/>
                <a:chOff x="4950000" y="6388200"/>
                <a:chExt cx="166680" cy="18576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957920" y="6438960"/>
                  <a:ext cx="152280" cy="125280"/>
                </a:xfrm>
                <a:custGeom>
                  <a:avLst/>
                  <a:gdLst/>
                  <a:ahLst/>
                  <a:rect l="l" t="t" r="r" b="b"/>
                  <a:pathLst>
                    <a:path w="193" h="158">
                      <a:moveTo>
                        <a:pt x="0" y="158"/>
                      </a:moveTo>
                      <a:lnTo>
                        <a:pt x="70" y="123"/>
                      </a:lnTo>
                      <a:lnTo>
                        <a:pt x="142" y="73"/>
                      </a:lnTo>
                      <a:lnTo>
                        <a:pt x="193" y="0"/>
                      </a:lnTo>
                      <a:lnTo>
                        <a:pt x="145" y="9"/>
                      </a:lnTo>
                      <a:lnTo>
                        <a:pt x="82" y="37"/>
                      </a:lnTo>
                      <a:lnTo>
                        <a:pt x="39" y="86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50000" y="6388200"/>
                  <a:ext cx="115560" cy="156960"/>
                </a:xfrm>
                <a:custGeom>
                  <a:avLst/>
                  <a:gdLst/>
                  <a:ahLst/>
                  <a:rect l="l" t="t" r="r" b="b"/>
                  <a:pathLst>
                    <a:path w="147" h="199">
                      <a:moveTo>
                        <a:pt x="0" y="199"/>
                      </a:moveTo>
                      <a:lnTo>
                        <a:pt x="62" y="144"/>
                      </a:lnTo>
                      <a:lnTo>
                        <a:pt x="103" y="95"/>
                      </a:lnTo>
                      <a:lnTo>
                        <a:pt x="123" y="51"/>
                      </a:lnTo>
                      <a:lnTo>
                        <a:pt x="147" y="0"/>
                      </a:lnTo>
                      <a:lnTo>
                        <a:pt x="97" y="24"/>
                      </a:lnTo>
                      <a:lnTo>
                        <a:pt x="61" y="54"/>
                      </a:lnTo>
                      <a:lnTo>
                        <a:pt x="27" y="98"/>
                      </a:lnTo>
                      <a:lnTo>
                        <a:pt x="3" y="14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968720" y="6508800"/>
                  <a:ext cx="147960" cy="65160"/>
                </a:xfrm>
                <a:custGeom>
                  <a:avLst/>
                  <a:gdLst/>
                  <a:ahLst/>
                  <a:rect l="l" t="t" r="r" b="b"/>
                  <a:pathLst>
                    <a:path w="185" h="82">
                      <a:moveTo>
                        <a:pt x="0" y="82"/>
                      </a:moveTo>
                      <a:lnTo>
                        <a:pt x="67" y="65"/>
                      </a:lnTo>
                      <a:lnTo>
                        <a:pt x="136" y="40"/>
                      </a:lnTo>
                      <a:lnTo>
                        <a:pt x="185" y="0"/>
                      </a:lnTo>
                      <a:lnTo>
                        <a:pt x="136" y="4"/>
                      </a:lnTo>
                      <a:lnTo>
                        <a:pt x="79" y="19"/>
                      </a:lnTo>
                      <a:lnTo>
                        <a:pt x="38" y="41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6" name=""/>
            <p:cNvGrpSpPr/>
            <p:nvPr/>
          </p:nvGrpSpPr>
          <p:grpSpPr>
            <a:xfrm>
              <a:off x="3881520" y="5673600"/>
              <a:ext cx="1509480" cy="1051200"/>
              <a:chOff x="3881520" y="5673600"/>
              <a:chExt cx="1509480" cy="105120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4210200" y="5673600"/>
                <a:ext cx="839520" cy="1022400"/>
                <a:chOff x="4210200" y="5673600"/>
                <a:chExt cx="839520" cy="1022400"/>
              </a:xfrm>
            </p:grpSpPr>
            <p:grpSp>
              <p:nvGrpSpPr>
                <p:cNvPr id="918" name=""/>
                <p:cNvGrpSpPr/>
                <p:nvPr/>
              </p:nvGrpSpPr>
              <p:grpSpPr>
                <a:xfrm>
                  <a:off x="4210200" y="5673600"/>
                  <a:ext cx="839520" cy="1022400"/>
                  <a:chOff x="4210200" y="5673600"/>
                  <a:chExt cx="839520" cy="1022400"/>
                </a:xfrm>
              </p:grpSpPr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4210200" y="5673600"/>
                    <a:ext cx="839520" cy="203400"/>
                    <a:chOff x="4210200" y="5673600"/>
                    <a:chExt cx="839520" cy="203400"/>
                  </a:xfrm>
                </p:grpSpPr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2102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0" y="0"/>
                          </a:moveTo>
                          <a:lnTo>
                            <a:pt x="515" y="0"/>
                          </a:lnTo>
                          <a:lnTo>
                            <a:pt x="515" y="256"/>
                          </a:lnTo>
                          <a:lnTo>
                            <a:pt x="147" y="256"/>
                          </a:lnTo>
                          <a:lnTo>
                            <a:pt x="147" y="124"/>
                          </a:lnTo>
                          <a:lnTo>
                            <a:pt x="141" y="103"/>
                          </a:lnTo>
                          <a:lnTo>
                            <a:pt x="128" y="91"/>
                          </a:lnTo>
                          <a:lnTo>
                            <a:pt x="105" y="85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4640400" y="5673600"/>
                      <a:ext cx="40932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515" y="0"/>
                          </a:moveTo>
                          <a:lnTo>
                            <a:pt x="0" y="0"/>
                          </a:lnTo>
                          <a:lnTo>
                            <a:pt x="0" y="256"/>
                          </a:lnTo>
                          <a:lnTo>
                            <a:pt x="368" y="256"/>
                          </a:lnTo>
                          <a:lnTo>
                            <a:pt x="368" y="124"/>
                          </a:lnTo>
                          <a:lnTo>
                            <a:pt x="374" y="103"/>
                          </a:lnTo>
                          <a:lnTo>
                            <a:pt x="387" y="91"/>
                          </a:lnTo>
                          <a:lnTo>
                            <a:pt x="410" y="85"/>
                          </a:lnTo>
                          <a:lnTo>
                            <a:pt x="515" y="85"/>
                          </a:lnTo>
                          <a:lnTo>
                            <a:pt x="515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584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2" name=""/>
                  <p:cNvSpPr/>
                  <p:nvPr/>
                </p:nvSpPr>
                <p:spPr>
                  <a:xfrm>
                    <a:off x="4233960" y="5675400"/>
                    <a:ext cx="806400" cy="102060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584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4249800" y="5710320"/>
                  <a:ext cx="750960" cy="890640"/>
                  <a:chOff x="4249800" y="5710320"/>
                  <a:chExt cx="750960" cy="8906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4745160" y="6232680"/>
                    <a:ext cx="25560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63">
                        <a:moveTo>
                          <a:pt x="0" y="0"/>
                        </a:moveTo>
                        <a:lnTo>
                          <a:pt x="67" y="28"/>
                        </a:lnTo>
                        <a:lnTo>
                          <a:pt x="74" y="92"/>
                        </a:lnTo>
                        <a:lnTo>
                          <a:pt x="158" y="125"/>
                        </a:lnTo>
                        <a:lnTo>
                          <a:pt x="265" y="147"/>
                        </a:lnTo>
                        <a:lnTo>
                          <a:pt x="323" y="176"/>
                        </a:lnTo>
                        <a:lnTo>
                          <a:pt x="316" y="202"/>
                        </a:lnTo>
                        <a:lnTo>
                          <a:pt x="301" y="240"/>
                        </a:lnTo>
                        <a:lnTo>
                          <a:pt x="280" y="281"/>
                        </a:lnTo>
                        <a:lnTo>
                          <a:pt x="261" y="315"/>
                        </a:lnTo>
                        <a:lnTo>
                          <a:pt x="241" y="345"/>
                        </a:lnTo>
                        <a:lnTo>
                          <a:pt x="219" y="383"/>
                        </a:lnTo>
                        <a:lnTo>
                          <a:pt x="181" y="425"/>
                        </a:lnTo>
                        <a:lnTo>
                          <a:pt x="149" y="463"/>
                        </a:lnTo>
                        <a:lnTo>
                          <a:pt x="46" y="128"/>
                        </a:lnTo>
                        <a:lnTo>
                          <a:pt x="4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505400" y="6186600"/>
                    <a:ext cx="36036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521">
                        <a:moveTo>
                          <a:pt x="452" y="521"/>
                        </a:moveTo>
                        <a:lnTo>
                          <a:pt x="251" y="521"/>
                        </a:lnTo>
                        <a:lnTo>
                          <a:pt x="165" y="521"/>
                        </a:lnTo>
                        <a:lnTo>
                          <a:pt x="165" y="423"/>
                        </a:lnTo>
                        <a:lnTo>
                          <a:pt x="126" y="299"/>
                        </a:lnTo>
                        <a:lnTo>
                          <a:pt x="80" y="174"/>
                        </a:lnTo>
                        <a:lnTo>
                          <a:pt x="87" y="100"/>
                        </a:lnTo>
                        <a:lnTo>
                          <a:pt x="29" y="59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lnTo>
                          <a:pt x="112" y="62"/>
                        </a:lnTo>
                        <a:lnTo>
                          <a:pt x="176" y="75"/>
                        </a:lnTo>
                        <a:lnTo>
                          <a:pt x="207" y="84"/>
                        </a:lnTo>
                        <a:lnTo>
                          <a:pt x="234" y="84"/>
                        </a:lnTo>
                        <a:lnTo>
                          <a:pt x="275" y="75"/>
                        </a:lnTo>
                        <a:lnTo>
                          <a:pt x="304" y="61"/>
                        </a:lnTo>
                        <a:lnTo>
                          <a:pt x="306" y="142"/>
                        </a:lnTo>
                        <a:lnTo>
                          <a:pt x="348" y="193"/>
                        </a:lnTo>
                        <a:lnTo>
                          <a:pt x="410" y="391"/>
                        </a:lnTo>
                        <a:lnTo>
                          <a:pt x="452" y="52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1400" y="5743440"/>
                    <a:ext cx="380880" cy="5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43">
                        <a:moveTo>
                          <a:pt x="52" y="504"/>
                        </a:moveTo>
                        <a:lnTo>
                          <a:pt x="45" y="430"/>
                        </a:lnTo>
                        <a:lnTo>
                          <a:pt x="13" y="347"/>
                        </a:lnTo>
                        <a:lnTo>
                          <a:pt x="0" y="218"/>
                        </a:lnTo>
                        <a:lnTo>
                          <a:pt x="62" y="84"/>
                        </a:lnTo>
                        <a:lnTo>
                          <a:pt x="142" y="29"/>
                        </a:lnTo>
                        <a:lnTo>
                          <a:pt x="243" y="4"/>
                        </a:lnTo>
                        <a:lnTo>
                          <a:pt x="332" y="0"/>
                        </a:lnTo>
                        <a:lnTo>
                          <a:pt x="404" y="42"/>
                        </a:lnTo>
                        <a:lnTo>
                          <a:pt x="462" y="144"/>
                        </a:lnTo>
                        <a:lnTo>
                          <a:pt x="478" y="231"/>
                        </a:lnTo>
                        <a:lnTo>
                          <a:pt x="475" y="345"/>
                        </a:lnTo>
                        <a:lnTo>
                          <a:pt x="465" y="430"/>
                        </a:lnTo>
                        <a:lnTo>
                          <a:pt x="458" y="470"/>
                        </a:lnTo>
                        <a:lnTo>
                          <a:pt x="446" y="502"/>
                        </a:lnTo>
                        <a:lnTo>
                          <a:pt x="423" y="536"/>
                        </a:lnTo>
                        <a:lnTo>
                          <a:pt x="397" y="553"/>
                        </a:lnTo>
                        <a:lnTo>
                          <a:pt x="368" y="563"/>
                        </a:lnTo>
                        <a:lnTo>
                          <a:pt x="371" y="621"/>
                        </a:lnTo>
                        <a:lnTo>
                          <a:pt x="346" y="634"/>
                        </a:lnTo>
                        <a:lnTo>
                          <a:pt x="310" y="643"/>
                        </a:lnTo>
                        <a:lnTo>
                          <a:pt x="245" y="640"/>
                        </a:lnTo>
                        <a:lnTo>
                          <a:pt x="194" y="621"/>
                        </a:lnTo>
                        <a:lnTo>
                          <a:pt x="117" y="589"/>
                        </a:lnTo>
                        <a:lnTo>
                          <a:pt x="68" y="559"/>
                        </a:lnTo>
                        <a:lnTo>
                          <a:pt x="52" y="504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451400" y="5951520"/>
                    <a:ext cx="282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443">
                        <a:moveTo>
                          <a:pt x="106" y="0"/>
                        </a:moveTo>
                        <a:lnTo>
                          <a:pt x="133" y="87"/>
                        </a:lnTo>
                        <a:lnTo>
                          <a:pt x="146" y="147"/>
                        </a:lnTo>
                        <a:lnTo>
                          <a:pt x="165" y="202"/>
                        </a:lnTo>
                        <a:lnTo>
                          <a:pt x="194" y="253"/>
                        </a:lnTo>
                        <a:lnTo>
                          <a:pt x="204" y="267"/>
                        </a:lnTo>
                        <a:lnTo>
                          <a:pt x="226" y="283"/>
                        </a:lnTo>
                        <a:lnTo>
                          <a:pt x="246" y="294"/>
                        </a:lnTo>
                        <a:lnTo>
                          <a:pt x="275" y="302"/>
                        </a:lnTo>
                        <a:lnTo>
                          <a:pt x="295" y="307"/>
                        </a:lnTo>
                        <a:lnTo>
                          <a:pt x="312" y="311"/>
                        </a:lnTo>
                        <a:lnTo>
                          <a:pt x="332" y="311"/>
                        </a:lnTo>
                        <a:lnTo>
                          <a:pt x="355" y="306"/>
                        </a:lnTo>
                        <a:lnTo>
                          <a:pt x="332" y="331"/>
                        </a:lnTo>
                        <a:lnTo>
                          <a:pt x="290" y="357"/>
                        </a:lnTo>
                        <a:lnTo>
                          <a:pt x="262" y="386"/>
                        </a:lnTo>
                        <a:lnTo>
                          <a:pt x="243" y="414"/>
                        </a:lnTo>
                        <a:lnTo>
                          <a:pt x="222" y="433"/>
                        </a:lnTo>
                        <a:lnTo>
                          <a:pt x="178" y="440"/>
                        </a:lnTo>
                        <a:lnTo>
                          <a:pt x="117" y="443"/>
                        </a:lnTo>
                        <a:lnTo>
                          <a:pt x="26" y="376"/>
                        </a:lnTo>
                        <a:lnTo>
                          <a:pt x="0" y="325"/>
                        </a:lnTo>
                        <a:lnTo>
                          <a:pt x="36" y="212"/>
                        </a:lnTo>
                        <a:lnTo>
                          <a:pt x="55" y="10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4606920" y="5897520"/>
                    <a:ext cx="220680" cy="201600"/>
                    <a:chOff x="4606920" y="5897520"/>
                    <a:chExt cx="220680" cy="20160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4686480" y="6078600"/>
                      <a:ext cx="91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25">
                          <a:moveTo>
                            <a:pt x="0" y="9"/>
                          </a:moveTo>
                          <a:lnTo>
                            <a:pt x="11" y="4"/>
                          </a:lnTo>
                          <a:lnTo>
                            <a:pt x="29" y="1"/>
                          </a:lnTo>
                          <a:lnTo>
                            <a:pt x="46" y="4"/>
                          </a:lnTo>
                          <a:lnTo>
                            <a:pt x="61" y="4"/>
                          </a:lnTo>
                          <a:lnTo>
                            <a:pt x="80" y="0"/>
                          </a:lnTo>
                          <a:lnTo>
                            <a:pt x="93" y="1"/>
                          </a:lnTo>
                          <a:lnTo>
                            <a:pt x="107" y="1"/>
                          </a:lnTo>
                          <a:lnTo>
                            <a:pt x="117" y="9"/>
                          </a:lnTo>
                          <a:lnTo>
                            <a:pt x="99" y="18"/>
                          </a:lnTo>
                          <a:lnTo>
                            <a:pt x="68" y="25"/>
                          </a:lnTo>
                          <a:lnTo>
                            <a:pt x="32" y="25"/>
                          </a:lnTo>
                          <a:lnTo>
                            <a:pt x="13" y="18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4687920" y="6029280"/>
                      <a:ext cx="763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7">
                          <a:moveTo>
                            <a:pt x="22" y="5"/>
                          </a:move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9" y="17"/>
                          </a:lnTo>
                          <a:lnTo>
                            <a:pt x="22" y="18"/>
                          </a:lnTo>
                          <a:lnTo>
                            <a:pt x="36" y="19"/>
                          </a:lnTo>
                          <a:lnTo>
                            <a:pt x="48" y="24"/>
                          </a:lnTo>
                          <a:lnTo>
                            <a:pt x="63" y="27"/>
                          </a:lnTo>
                          <a:lnTo>
                            <a:pt x="76" y="27"/>
                          </a:lnTo>
                          <a:lnTo>
                            <a:pt x="87" y="23"/>
                          </a:lnTo>
                          <a:lnTo>
                            <a:pt x="93" y="16"/>
                          </a:lnTo>
                          <a:lnTo>
                            <a:pt x="97" y="6"/>
                          </a:lnTo>
                          <a:lnTo>
                            <a:pt x="87" y="9"/>
                          </a:lnTo>
                          <a:lnTo>
                            <a:pt x="79" y="13"/>
                          </a:lnTo>
                          <a:lnTo>
                            <a:pt x="75" y="12"/>
                          </a:lnTo>
                          <a:lnTo>
                            <a:pt x="64" y="9"/>
                          </a:lnTo>
                          <a:lnTo>
                            <a:pt x="54" y="5"/>
                          </a:lnTo>
                          <a:lnTo>
                            <a:pt x="47" y="3"/>
                          </a:lnTo>
                          <a:lnTo>
                            <a:pt x="34" y="6"/>
                          </a:lnTo>
                          <a:lnTo>
                            <a:pt x="22" y="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4606920" y="5897520"/>
                      <a:ext cx="12528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9">
                          <a:moveTo>
                            <a:pt x="0" y="29"/>
                          </a:moveTo>
                          <a:lnTo>
                            <a:pt x="19" y="14"/>
                          </a:lnTo>
                          <a:lnTo>
                            <a:pt x="43" y="5"/>
                          </a:lnTo>
                          <a:lnTo>
                            <a:pt x="69" y="0"/>
                          </a:lnTo>
                          <a:lnTo>
                            <a:pt x="99" y="3"/>
                          </a:lnTo>
                          <a:lnTo>
                            <a:pt x="120" y="14"/>
                          </a:lnTo>
                          <a:lnTo>
                            <a:pt x="136" y="34"/>
                          </a:lnTo>
                          <a:lnTo>
                            <a:pt x="145" y="77"/>
                          </a:lnTo>
                          <a:lnTo>
                            <a:pt x="153" y="117"/>
                          </a:lnTo>
                          <a:lnTo>
                            <a:pt x="158" y="159"/>
                          </a:lnTo>
                          <a:lnTo>
                            <a:pt x="142" y="151"/>
                          </a:lnTo>
                          <a:lnTo>
                            <a:pt x="127" y="145"/>
                          </a:lnTo>
                          <a:lnTo>
                            <a:pt x="106" y="152"/>
                          </a:lnTo>
                          <a:lnTo>
                            <a:pt x="117" y="108"/>
                          </a:lnTo>
                          <a:lnTo>
                            <a:pt x="126" y="66"/>
                          </a:lnTo>
                          <a:lnTo>
                            <a:pt x="123" y="43"/>
                          </a:lnTo>
                          <a:lnTo>
                            <a:pt x="105" y="23"/>
                          </a:lnTo>
                          <a:lnTo>
                            <a:pt x="59" y="18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4729320" y="5900760"/>
                      <a:ext cx="982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30">
                          <a:moveTo>
                            <a:pt x="0" y="30"/>
                          </a:moveTo>
                          <a:lnTo>
                            <a:pt x="25" y="9"/>
                          </a:lnTo>
                          <a:lnTo>
                            <a:pt x="48" y="0"/>
                          </a:lnTo>
                          <a:lnTo>
                            <a:pt x="80" y="1"/>
                          </a:lnTo>
                          <a:lnTo>
                            <a:pt x="110" y="13"/>
                          </a:lnTo>
                          <a:lnTo>
                            <a:pt x="125" y="28"/>
                          </a:lnTo>
                          <a:lnTo>
                            <a:pt x="121" y="30"/>
                          </a:lnTo>
                          <a:lnTo>
                            <a:pt x="95" y="21"/>
                          </a:lnTo>
                          <a:lnTo>
                            <a:pt x="61" y="13"/>
                          </a:lnTo>
                          <a:lnTo>
                            <a:pt x="24" y="25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635360" y="5927760"/>
                      <a:ext cx="57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0" y="10"/>
                          </a:moveTo>
                          <a:lnTo>
                            <a:pt x="12" y="6"/>
                          </a:lnTo>
                          <a:lnTo>
                            <a:pt x="31" y="1"/>
                          </a:lnTo>
                          <a:lnTo>
                            <a:pt x="44" y="0"/>
                          </a:lnTo>
                          <a:lnTo>
                            <a:pt x="62" y="7"/>
                          </a:lnTo>
                          <a:lnTo>
                            <a:pt x="73" y="14"/>
                          </a:lnTo>
                          <a:lnTo>
                            <a:pt x="56" y="22"/>
                          </a:lnTo>
                          <a:lnTo>
                            <a:pt x="36" y="23"/>
                          </a:lnTo>
                          <a:lnTo>
                            <a:pt x="14" y="21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746600" y="5925960"/>
                      <a:ext cx="586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3">
                          <a:moveTo>
                            <a:pt x="73" y="11"/>
                          </a:moveTo>
                          <a:lnTo>
                            <a:pt x="62" y="6"/>
                          </a:lnTo>
                          <a:lnTo>
                            <a:pt x="42" y="0"/>
                          </a:lnTo>
                          <a:lnTo>
                            <a:pt x="29" y="0"/>
                          </a:lnTo>
                          <a:lnTo>
                            <a:pt x="11" y="9"/>
                          </a:lnTo>
                          <a:lnTo>
                            <a:pt x="0" y="15"/>
                          </a:lnTo>
                          <a:lnTo>
                            <a:pt x="18" y="22"/>
                          </a:lnTo>
                          <a:lnTo>
                            <a:pt x="37" y="23"/>
                          </a:lnTo>
                          <a:lnTo>
                            <a:pt x="57" y="21"/>
                          </a:lnTo>
                          <a:lnTo>
                            <a:pt x="73" y="11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5" name=""/>
                  <p:cNvSpPr/>
                  <p:nvPr/>
                </p:nvSpPr>
                <p:spPr>
                  <a:xfrm>
                    <a:off x="4332240" y="5710320"/>
                    <a:ext cx="5763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5" h="526">
                        <a:moveTo>
                          <a:pt x="361" y="13"/>
                        </a:moveTo>
                        <a:lnTo>
                          <a:pt x="284" y="19"/>
                        </a:lnTo>
                        <a:lnTo>
                          <a:pt x="219" y="51"/>
                        </a:lnTo>
                        <a:lnTo>
                          <a:pt x="141" y="106"/>
                        </a:lnTo>
                        <a:lnTo>
                          <a:pt x="93" y="193"/>
                        </a:lnTo>
                        <a:lnTo>
                          <a:pt x="61" y="253"/>
                        </a:lnTo>
                        <a:lnTo>
                          <a:pt x="19" y="299"/>
                        </a:lnTo>
                        <a:lnTo>
                          <a:pt x="0" y="333"/>
                        </a:lnTo>
                        <a:lnTo>
                          <a:pt x="25" y="386"/>
                        </a:lnTo>
                        <a:lnTo>
                          <a:pt x="60" y="418"/>
                        </a:lnTo>
                        <a:lnTo>
                          <a:pt x="116" y="443"/>
                        </a:lnTo>
                        <a:lnTo>
                          <a:pt x="181" y="469"/>
                        </a:lnTo>
                        <a:lnTo>
                          <a:pt x="206" y="494"/>
                        </a:lnTo>
                        <a:lnTo>
                          <a:pt x="274" y="526"/>
                        </a:lnTo>
                        <a:lnTo>
                          <a:pt x="306" y="511"/>
                        </a:lnTo>
                        <a:lnTo>
                          <a:pt x="289" y="356"/>
                        </a:lnTo>
                        <a:lnTo>
                          <a:pt x="310" y="231"/>
                        </a:lnTo>
                        <a:lnTo>
                          <a:pt x="345" y="147"/>
                        </a:lnTo>
                        <a:lnTo>
                          <a:pt x="406" y="96"/>
                        </a:lnTo>
                        <a:lnTo>
                          <a:pt x="445" y="83"/>
                        </a:lnTo>
                        <a:lnTo>
                          <a:pt x="491" y="87"/>
                        </a:lnTo>
                        <a:lnTo>
                          <a:pt x="535" y="106"/>
                        </a:lnTo>
                        <a:lnTo>
                          <a:pt x="580" y="138"/>
                        </a:lnTo>
                        <a:lnTo>
                          <a:pt x="598" y="166"/>
                        </a:lnTo>
                        <a:lnTo>
                          <a:pt x="616" y="202"/>
                        </a:lnTo>
                        <a:lnTo>
                          <a:pt x="621" y="238"/>
                        </a:lnTo>
                        <a:lnTo>
                          <a:pt x="613" y="266"/>
                        </a:lnTo>
                        <a:lnTo>
                          <a:pt x="613" y="299"/>
                        </a:lnTo>
                        <a:lnTo>
                          <a:pt x="626" y="365"/>
                        </a:lnTo>
                        <a:lnTo>
                          <a:pt x="616" y="405"/>
                        </a:lnTo>
                        <a:lnTo>
                          <a:pt x="616" y="450"/>
                        </a:lnTo>
                        <a:lnTo>
                          <a:pt x="671" y="456"/>
                        </a:lnTo>
                        <a:lnTo>
                          <a:pt x="706" y="439"/>
                        </a:lnTo>
                        <a:lnTo>
                          <a:pt x="725" y="401"/>
                        </a:lnTo>
                        <a:lnTo>
                          <a:pt x="713" y="331"/>
                        </a:lnTo>
                        <a:lnTo>
                          <a:pt x="681" y="263"/>
                        </a:lnTo>
                        <a:lnTo>
                          <a:pt x="632" y="189"/>
                        </a:lnTo>
                        <a:lnTo>
                          <a:pt x="607" y="128"/>
                        </a:lnTo>
                        <a:lnTo>
                          <a:pt x="574" y="79"/>
                        </a:lnTo>
                        <a:lnTo>
                          <a:pt x="544" y="54"/>
                        </a:lnTo>
                        <a:lnTo>
                          <a:pt x="503" y="28"/>
                        </a:lnTo>
                        <a:lnTo>
                          <a:pt x="413" y="0"/>
                        </a:lnTo>
                        <a:lnTo>
                          <a:pt x="361" y="13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249800" y="6089760"/>
                    <a:ext cx="39672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42">
                        <a:moveTo>
                          <a:pt x="300" y="0"/>
                        </a:moveTo>
                        <a:lnTo>
                          <a:pt x="307" y="79"/>
                        </a:lnTo>
                        <a:lnTo>
                          <a:pt x="336" y="153"/>
                        </a:lnTo>
                        <a:lnTo>
                          <a:pt x="378" y="202"/>
                        </a:lnTo>
                        <a:lnTo>
                          <a:pt x="416" y="234"/>
                        </a:lnTo>
                        <a:lnTo>
                          <a:pt x="410" y="295"/>
                        </a:lnTo>
                        <a:lnTo>
                          <a:pt x="446" y="388"/>
                        </a:lnTo>
                        <a:lnTo>
                          <a:pt x="484" y="508"/>
                        </a:lnTo>
                        <a:lnTo>
                          <a:pt x="500" y="642"/>
                        </a:lnTo>
                        <a:lnTo>
                          <a:pt x="209" y="642"/>
                        </a:lnTo>
                        <a:lnTo>
                          <a:pt x="175" y="614"/>
                        </a:lnTo>
                        <a:lnTo>
                          <a:pt x="137" y="570"/>
                        </a:lnTo>
                        <a:lnTo>
                          <a:pt x="104" y="518"/>
                        </a:lnTo>
                        <a:lnTo>
                          <a:pt x="70" y="461"/>
                        </a:lnTo>
                        <a:lnTo>
                          <a:pt x="39" y="392"/>
                        </a:lnTo>
                        <a:lnTo>
                          <a:pt x="15" y="319"/>
                        </a:lnTo>
                        <a:lnTo>
                          <a:pt x="7" y="259"/>
                        </a:lnTo>
                        <a:lnTo>
                          <a:pt x="0" y="227"/>
                        </a:lnTo>
                        <a:lnTo>
                          <a:pt x="68" y="227"/>
                        </a:lnTo>
                        <a:lnTo>
                          <a:pt x="119" y="218"/>
                        </a:lnTo>
                        <a:lnTo>
                          <a:pt x="180" y="170"/>
                        </a:lnTo>
                        <a:lnTo>
                          <a:pt x="230" y="106"/>
                        </a:lnTo>
                        <a:lnTo>
                          <a:pt x="3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3881520" y="6527880"/>
                <a:ext cx="1509480" cy="196920"/>
              </a:xfrm>
              <a:prstGeom prst="rect">
                <a:avLst/>
              </a:prstGeom>
              <a:solidFill>
                <a:srgbClr val="008000"/>
              </a:solidFill>
              <a:ln w="792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3838680" y="5345280"/>
              <a:ext cx="1596960" cy="115560"/>
            </a:xfrm>
            <a:prstGeom prst="rect">
              <a:avLst/>
            </a:prstGeom>
            <a:solidFill>
              <a:srgbClr val="008000"/>
            </a:solidFill>
            <a:ln w="1584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927520" y="5349960"/>
              <a:ext cx="580680" cy="544320"/>
              <a:chOff x="2927520" y="5349960"/>
              <a:chExt cx="580680" cy="544320"/>
            </a:xfrm>
          </p:grpSpPr>
          <p:sp>
            <p:nvSpPr>
              <p:cNvPr id="940" name=""/>
              <p:cNvSpPr/>
              <p:nvPr/>
            </p:nvSpPr>
            <p:spPr>
              <a:xfrm>
                <a:off x="3289320" y="5397480"/>
                <a:ext cx="21888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9" y="259"/>
                    </a:moveTo>
                    <a:lnTo>
                      <a:pt x="17" y="220"/>
                    </a:lnTo>
                    <a:lnTo>
                      <a:pt x="6" y="176"/>
                    </a:lnTo>
                    <a:lnTo>
                      <a:pt x="0" y="121"/>
                    </a:lnTo>
                    <a:lnTo>
                      <a:pt x="13" y="64"/>
                    </a:lnTo>
                    <a:lnTo>
                      <a:pt x="37" y="0"/>
                    </a:lnTo>
                    <a:lnTo>
                      <a:pt x="71" y="58"/>
                    </a:lnTo>
                    <a:lnTo>
                      <a:pt x="90" y="102"/>
                    </a:lnTo>
                    <a:lnTo>
                      <a:pt x="97" y="156"/>
                    </a:lnTo>
                    <a:lnTo>
                      <a:pt x="92" y="216"/>
                    </a:lnTo>
                    <a:lnTo>
                      <a:pt x="84" y="262"/>
                    </a:lnTo>
                    <a:lnTo>
                      <a:pt x="73" y="291"/>
                    </a:lnTo>
                    <a:lnTo>
                      <a:pt x="94" y="262"/>
                    </a:lnTo>
                    <a:lnTo>
                      <a:pt x="130" y="227"/>
                    </a:lnTo>
                    <a:lnTo>
                      <a:pt x="166" y="205"/>
                    </a:lnTo>
                    <a:lnTo>
                      <a:pt x="197" y="189"/>
                    </a:lnTo>
                    <a:lnTo>
                      <a:pt x="240" y="180"/>
                    </a:lnTo>
                    <a:lnTo>
                      <a:pt x="275" y="174"/>
                    </a:lnTo>
                    <a:lnTo>
                      <a:pt x="260" y="215"/>
                    </a:lnTo>
                    <a:lnTo>
                      <a:pt x="243" y="260"/>
                    </a:lnTo>
                    <a:lnTo>
                      <a:pt x="208" y="297"/>
                    </a:lnTo>
                    <a:lnTo>
                      <a:pt x="179" y="319"/>
                    </a:lnTo>
                    <a:lnTo>
                      <a:pt x="130" y="334"/>
                    </a:lnTo>
                    <a:lnTo>
                      <a:pt x="86" y="339"/>
                    </a:lnTo>
                    <a:lnTo>
                      <a:pt x="136" y="364"/>
                    </a:lnTo>
                    <a:lnTo>
                      <a:pt x="171" y="389"/>
                    </a:lnTo>
                    <a:lnTo>
                      <a:pt x="188" y="415"/>
                    </a:lnTo>
                    <a:lnTo>
                      <a:pt x="205" y="445"/>
                    </a:lnTo>
                    <a:lnTo>
                      <a:pt x="207" y="472"/>
                    </a:lnTo>
                    <a:lnTo>
                      <a:pt x="215" y="515"/>
                    </a:lnTo>
                    <a:lnTo>
                      <a:pt x="156" y="495"/>
                    </a:lnTo>
                    <a:lnTo>
                      <a:pt x="118" y="470"/>
                    </a:lnTo>
                    <a:lnTo>
                      <a:pt x="99" y="442"/>
                    </a:lnTo>
                    <a:lnTo>
                      <a:pt x="71" y="388"/>
                    </a:lnTo>
                    <a:lnTo>
                      <a:pt x="94" y="439"/>
                    </a:lnTo>
                    <a:lnTo>
                      <a:pt x="103" y="491"/>
                    </a:lnTo>
                    <a:lnTo>
                      <a:pt x="108" y="527"/>
                    </a:lnTo>
                    <a:lnTo>
                      <a:pt x="102" y="576"/>
                    </a:lnTo>
                    <a:lnTo>
                      <a:pt x="100" y="613"/>
                    </a:lnTo>
                    <a:lnTo>
                      <a:pt x="48" y="566"/>
                    </a:lnTo>
                    <a:lnTo>
                      <a:pt x="21" y="507"/>
                    </a:lnTo>
                    <a:lnTo>
                      <a:pt x="12" y="442"/>
                    </a:lnTo>
                    <a:lnTo>
                      <a:pt x="27" y="377"/>
                    </a:lnTo>
                    <a:lnTo>
                      <a:pt x="27" y="324"/>
                    </a:lnTo>
                    <a:lnTo>
                      <a:pt x="29" y="295"/>
                    </a:lnTo>
                    <a:lnTo>
                      <a:pt x="29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927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7" h="279">
                    <a:moveTo>
                      <a:pt x="79" y="250"/>
                    </a:moveTo>
                    <a:lnTo>
                      <a:pt x="44" y="224"/>
                    </a:lnTo>
                    <a:lnTo>
                      <a:pt x="26" y="199"/>
                    </a:lnTo>
                    <a:lnTo>
                      <a:pt x="11" y="169"/>
                    </a:lnTo>
                    <a:lnTo>
                      <a:pt x="8" y="142"/>
                    </a:lnTo>
                    <a:lnTo>
                      <a:pt x="0" y="99"/>
                    </a:lnTo>
                    <a:lnTo>
                      <a:pt x="59" y="118"/>
                    </a:lnTo>
                    <a:lnTo>
                      <a:pt x="97" y="144"/>
                    </a:lnTo>
                    <a:lnTo>
                      <a:pt x="116" y="170"/>
                    </a:lnTo>
                    <a:lnTo>
                      <a:pt x="145" y="225"/>
                    </a:lnTo>
                    <a:lnTo>
                      <a:pt x="121" y="175"/>
                    </a:lnTo>
                    <a:lnTo>
                      <a:pt x="111" y="123"/>
                    </a:lnTo>
                    <a:lnTo>
                      <a:pt x="108" y="86"/>
                    </a:lnTo>
                    <a:lnTo>
                      <a:pt x="114" y="38"/>
                    </a:lnTo>
                    <a:lnTo>
                      <a:pt x="115" y="0"/>
                    </a:lnTo>
                    <a:lnTo>
                      <a:pt x="164" y="51"/>
                    </a:lnTo>
                    <a:lnTo>
                      <a:pt x="190" y="106"/>
                    </a:lnTo>
                    <a:lnTo>
                      <a:pt x="196" y="170"/>
                    </a:lnTo>
                    <a:lnTo>
                      <a:pt x="197" y="275"/>
                    </a:lnTo>
                    <a:lnTo>
                      <a:pt x="139" y="279"/>
                    </a:lnTo>
                    <a:lnTo>
                      <a:pt x="79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98620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5424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9" y="34"/>
                    </a:moveTo>
                    <a:lnTo>
                      <a:pt x="24" y="34"/>
                    </a:lnTo>
                    <a:lnTo>
                      <a:pt x="44" y="31"/>
                    </a:lnTo>
                    <a:lnTo>
                      <a:pt x="59" y="21"/>
                    </a:lnTo>
                    <a:lnTo>
                      <a:pt x="70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5" y="325"/>
                    </a:lnTo>
                    <a:lnTo>
                      <a:pt x="224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5" y="334"/>
                    </a:lnTo>
                    <a:lnTo>
                      <a:pt x="35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5" y="52"/>
                    </a:lnTo>
                    <a:lnTo>
                      <a:pt x="19" y="47"/>
                    </a:lnTo>
                    <a:lnTo>
                      <a:pt x="9" y="47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770440" y="5349960"/>
              <a:ext cx="581040" cy="544320"/>
              <a:chOff x="5770440" y="5349960"/>
              <a:chExt cx="581040" cy="544320"/>
            </a:xfrm>
          </p:grpSpPr>
          <p:sp>
            <p:nvSpPr>
              <p:cNvPr id="945" name=""/>
              <p:cNvSpPr/>
              <p:nvPr/>
            </p:nvSpPr>
            <p:spPr>
              <a:xfrm>
                <a:off x="5770440" y="5397480"/>
                <a:ext cx="217440" cy="485640"/>
              </a:xfrm>
              <a:custGeom>
                <a:avLst/>
                <a:gdLst/>
                <a:ahLst/>
                <a:rect l="l" t="t" r="r" b="b"/>
                <a:pathLst>
                  <a:path w="275" h="613">
                    <a:moveTo>
                      <a:pt x="246" y="259"/>
                    </a:moveTo>
                    <a:lnTo>
                      <a:pt x="259" y="220"/>
                    </a:lnTo>
                    <a:lnTo>
                      <a:pt x="269" y="176"/>
                    </a:lnTo>
                    <a:lnTo>
                      <a:pt x="275" y="121"/>
                    </a:lnTo>
                    <a:lnTo>
                      <a:pt x="263" y="64"/>
                    </a:lnTo>
                    <a:lnTo>
                      <a:pt x="239" y="0"/>
                    </a:lnTo>
                    <a:lnTo>
                      <a:pt x="206" y="58"/>
                    </a:lnTo>
                    <a:lnTo>
                      <a:pt x="186" y="102"/>
                    </a:lnTo>
                    <a:lnTo>
                      <a:pt x="179" y="156"/>
                    </a:lnTo>
                    <a:lnTo>
                      <a:pt x="183" y="216"/>
                    </a:lnTo>
                    <a:lnTo>
                      <a:pt x="191" y="262"/>
                    </a:lnTo>
                    <a:lnTo>
                      <a:pt x="202" y="291"/>
                    </a:lnTo>
                    <a:lnTo>
                      <a:pt x="180" y="262"/>
                    </a:lnTo>
                    <a:lnTo>
                      <a:pt x="146" y="227"/>
                    </a:lnTo>
                    <a:lnTo>
                      <a:pt x="109" y="205"/>
                    </a:lnTo>
                    <a:lnTo>
                      <a:pt x="77" y="189"/>
                    </a:lnTo>
                    <a:lnTo>
                      <a:pt x="34" y="180"/>
                    </a:lnTo>
                    <a:lnTo>
                      <a:pt x="0" y="174"/>
                    </a:lnTo>
                    <a:lnTo>
                      <a:pt x="16" y="215"/>
                    </a:lnTo>
                    <a:lnTo>
                      <a:pt x="32" y="260"/>
                    </a:lnTo>
                    <a:lnTo>
                      <a:pt x="67" y="297"/>
                    </a:lnTo>
                    <a:lnTo>
                      <a:pt x="95" y="319"/>
                    </a:lnTo>
                    <a:lnTo>
                      <a:pt x="146" y="334"/>
                    </a:lnTo>
                    <a:lnTo>
                      <a:pt x="190" y="339"/>
                    </a:lnTo>
                    <a:lnTo>
                      <a:pt x="138" y="364"/>
                    </a:lnTo>
                    <a:lnTo>
                      <a:pt x="105" y="389"/>
                    </a:lnTo>
                    <a:lnTo>
                      <a:pt x="87" y="415"/>
                    </a:lnTo>
                    <a:lnTo>
                      <a:pt x="71" y="445"/>
                    </a:lnTo>
                    <a:lnTo>
                      <a:pt x="69" y="472"/>
                    </a:lnTo>
                    <a:lnTo>
                      <a:pt x="61" y="515"/>
                    </a:lnTo>
                    <a:lnTo>
                      <a:pt x="119" y="495"/>
                    </a:lnTo>
                    <a:lnTo>
                      <a:pt x="158" y="470"/>
                    </a:lnTo>
                    <a:lnTo>
                      <a:pt x="177" y="442"/>
                    </a:lnTo>
                    <a:lnTo>
                      <a:pt x="206" y="388"/>
                    </a:lnTo>
                    <a:lnTo>
                      <a:pt x="180" y="439"/>
                    </a:lnTo>
                    <a:lnTo>
                      <a:pt x="172" y="491"/>
                    </a:lnTo>
                    <a:lnTo>
                      <a:pt x="168" y="527"/>
                    </a:lnTo>
                    <a:lnTo>
                      <a:pt x="174" y="576"/>
                    </a:lnTo>
                    <a:lnTo>
                      <a:pt x="176" y="613"/>
                    </a:lnTo>
                    <a:lnTo>
                      <a:pt x="228" y="566"/>
                    </a:lnTo>
                    <a:lnTo>
                      <a:pt x="255" y="507"/>
                    </a:lnTo>
                    <a:lnTo>
                      <a:pt x="264" y="442"/>
                    </a:lnTo>
                    <a:lnTo>
                      <a:pt x="249" y="377"/>
                    </a:lnTo>
                    <a:lnTo>
                      <a:pt x="247" y="324"/>
                    </a:lnTo>
                    <a:lnTo>
                      <a:pt x="246" y="295"/>
                    </a:lnTo>
                    <a:lnTo>
                      <a:pt x="246" y="259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194520" y="5349960"/>
                <a:ext cx="156960" cy="222120"/>
              </a:xfrm>
              <a:custGeom>
                <a:avLst/>
                <a:gdLst/>
                <a:ahLst/>
                <a:rect l="l" t="t" r="r" b="b"/>
                <a:pathLst>
                  <a:path w="199" h="279">
                    <a:moveTo>
                      <a:pt x="120" y="250"/>
                    </a:moveTo>
                    <a:lnTo>
                      <a:pt x="155" y="224"/>
                    </a:lnTo>
                    <a:lnTo>
                      <a:pt x="172" y="199"/>
                    </a:lnTo>
                    <a:lnTo>
                      <a:pt x="188" y="169"/>
                    </a:lnTo>
                    <a:lnTo>
                      <a:pt x="189" y="142"/>
                    </a:lnTo>
                    <a:lnTo>
                      <a:pt x="199" y="99"/>
                    </a:lnTo>
                    <a:lnTo>
                      <a:pt x="139" y="118"/>
                    </a:lnTo>
                    <a:lnTo>
                      <a:pt x="102" y="144"/>
                    </a:lnTo>
                    <a:lnTo>
                      <a:pt x="83" y="170"/>
                    </a:lnTo>
                    <a:lnTo>
                      <a:pt x="53" y="225"/>
                    </a:lnTo>
                    <a:lnTo>
                      <a:pt x="78" y="175"/>
                    </a:lnTo>
                    <a:lnTo>
                      <a:pt x="87" y="123"/>
                    </a:lnTo>
                    <a:lnTo>
                      <a:pt x="91" y="86"/>
                    </a:lnTo>
                    <a:lnTo>
                      <a:pt x="84" y="38"/>
                    </a:lnTo>
                    <a:lnTo>
                      <a:pt x="83" y="0"/>
                    </a:lnTo>
                    <a:lnTo>
                      <a:pt x="34" y="51"/>
                    </a:lnTo>
                    <a:lnTo>
                      <a:pt x="9" y="106"/>
                    </a:lnTo>
                    <a:lnTo>
                      <a:pt x="2" y="170"/>
                    </a:lnTo>
                    <a:lnTo>
                      <a:pt x="0" y="275"/>
                    </a:lnTo>
                    <a:lnTo>
                      <a:pt x="60" y="279"/>
                    </a:lnTo>
                    <a:lnTo>
                      <a:pt x="120" y="250"/>
                    </a:lnTo>
                    <a:close/>
                  </a:path>
                </a:pathLst>
              </a:custGeom>
              <a:solidFill>
                <a:srgbClr val="008000"/>
              </a:solidFill>
              <a:ln w="792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65920" y="5403960"/>
                <a:ext cx="326880" cy="490320"/>
              </a:xfrm>
              <a:prstGeom prst="ellipse">
                <a:avLst/>
              </a:prstGeom>
              <a:solidFill>
                <a:srgbClr val="008000"/>
              </a:solidFill>
              <a:ln w="1584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035760" y="5483160"/>
                <a:ext cx="189000" cy="2793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8" y="34"/>
                    </a:moveTo>
                    <a:lnTo>
                      <a:pt x="23" y="34"/>
                    </a:lnTo>
                    <a:lnTo>
                      <a:pt x="44" y="31"/>
                    </a:lnTo>
                    <a:lnTo>
                      <a:pt x="58" y="21"/>
                    </a:lnTo>
                    <a:lnTo>
                      <a:pt x="69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4" y="325"/>
                    </a:lnTo>
                    <a:lnTo>
                      <a:pt x="223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4" y="334"/>
                    </a:lnTo>
                    <a:lnTo>
                      <a:pt x="34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4" y="52"/>
                    </a:lnTo>
                    <a:lnTo>
                      <a:pt x="19" y="47"/>
                    </a:lnTo>
                    <a:lnTo>
                      <a:pt x="8" y="47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bfffbf"/>
              </a:solidFill>
              <a:ln w="1584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2933640" y="6342120"/>
              <a:ext cx="31104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71800" y="6383160"/>
              <a:ext cx="236520" cy="27972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29040" y="6432480"/>
              <a:ext cx="120600" cy="179280"/>
            </a:xfrm>
            <a:custGeom>
              <a:avLst/>
              <a:gdLst/>
              <a:ahLst/>
              <a:rect l="l" t="t" r="r" b="b"/>
              <a:pathLst>
                <a:path w="152" h="225">
                  <a:moveTo>
                    <a:pt x="5" y="24"/>
                  </a:moveTo>
                  <a:lnTo>
                    <a:pt x="16" y="24"/>
                  </a:lnTo>
                  <a:lnTo>
                    <a:pt x="28" y="20"/>
                  </a:lnTo>
                  <a:lnTo>
                    <a:pt x="37" y="14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3" y="200"/>
                  </a:lnTo>
                  <a:lnTo>
                    <a:pt x="130" y="208"/>
                  </a:lnTo>
                  <a:lnTo>
                    <a:pt x="142" y="214"/>
                  </a:lnTo>
                  <a:lnTo>
                    <a:pt x="152" y="214"/>
                  </a:lnTo>
                  <a:lnTo>
                    <a:pt x="152" y="225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8" y="214"/>
                  </a:lnTo>
                  <a:lnTo>
                    <a:pt x="22" y="208"/>
                  </a:lnTo>
                  <a:lnTo>
                    <a:pt x="28" y="200"/>
                  </a:lnTo>
                  <a:lnTo>
                    <a:pt x="31" y="189"/>
                  </a:lnTo>
                  <a:lnTo>
                    <a:pt x="31" y="49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51600" y="6348240"/>
              <a:ext cx="309600" cy="360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87960" y="6389640"/>
              <a:ext cx="236520" cy="27936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45200" y="644040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5" y="23"/>
                  </a:moveTo>
                  <a:lnTo>
                    <a:pt x="16" y="23"/>
                  </a:lnTo>
                  <a:lnTo>
                    <a:pt x="28" y="21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51" y="0"/>
                  </a:lnTo>
                  <a:lnTo>
                    <a:pt x="121" y="0"/>
                  </a:lnTo>
                  <a:lnTo>
                    <a:pt x="121" y="189"/>
                  </a:lnTo>
                  <a:lnTo>
                    <a:pt x="124" y="201"/>
                  </a:lnTo>
                  <a:lnTo>
                    <a:pt x="131" y="208"/>
                  </a:lnTo>
                  <a:lnTo>
                    <a:pt x="144" y="214"/>
                  </a:lnTo>
                  <a:lnTo>
                    <a:pt x="152" y="214"/>
                  </a:lnTo>
                  <a:lnTo>
                    <a:pt x="152" y="22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9" y="214"/>
                  </a:lnTo>
                  <a:lnTo>
                    <a:pt x="22" y="208"/>
                  </a:lnTo>
                  <a:lnTo>
                    <a:pt x="28" y="201"/>
                  </a:lnTo>
                  <a:lnTo>
                    <a:pt x="31" y="189"/>
                  </a:lnTo>
                  <a:lnTo>
                    <a:pt x="31" y="48"/>
                  </a:lnTo>
                  <a:lnTo>
                    <a:pt x="28" y="41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fffbf"/>
            </a:solidFill>
            <a:ln w="1584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3591000" y="5872320"/>
              <a:ext cx="328680" cy="325440"/>
              <a:chOff x="3591000" y="5872320"/>
              <a:chExt cx="328680" cy="325440"/>
            </a:xfrm>
          </p:grpSpPr>
          <p:sp>
            <p:nvSpPr>
              <p:cNvPr id="956" name=""/>
              <p:cNvSpPr/>
              <p:nvPr/>
            </p:nvSpPr>
            <p:spPr>
              <a:xfrm>
                <a:off x="3591000" y="5872320"/>
                <a:ext cx="328680" cy="325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56160" y="5935680"/>
                <a:ext cx="198360" cy="196920"/>
              </a:xfrm>
              <a:prstGeom prst="ellipse">
                <a:avLst/>
              </a:prstGeom>
              <a:solidFill>
                <a:srgbClr val="9fff9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5354640" y="5911920"/>
              <a:ext cx="328680" cy="326880"/>
              <a:chOff x="5354640" y="5911920"/>
              <a:chExt cx="328680" cy="326880"/>
            </a:xfrm>
          </p:grpSpPr>
          <p:sp>
            <p:nvSpPr>
              <p:cNvPr id="959" name=""/>
              <p:cNvSpPr/>
              <p:nvPr/>
            </p:nvSpPr>
            <p:spPr>
              <a:xfrm>
                <a:off x="5354640" y="5911920"/>
                <a:ext cx="328680" cy="326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418000" y="5975280"/>
                <a:ext cx="200160" cy="198360"/>
              </a:xfrm>
              <a:prstGeom prst="ellipse">
                <a:avLst/>
              </a:prstGeom>
              <a:solidFill>
                <a:srgbClr val="bfffbf"/>
              </a:solidFill>
              <a:ln w="79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3973680" y="6562800"/>
              <a:ext cx="1314360" cy="135000"/>
              <a:chOff x="3973680" y="6562800"/>
              <a:chExt cx="1314360" cy="13500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5154480" y="6562800"/>
                <a:ext cx="133560" cy="129960"/>
                <a:chOff x="5154480" y="6562800"/>
                <a:chExt cx="133560" cy="1299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5154480" y="6562800"/>
                  <a:ext cx="133560" cy="129960"/>
                </a:xfrm>
                <a:custGeom>
                  <a:avLst/>
                  <a:gdLst/>
                  <a:ahLst/>
                  <a:rect l="l" t="t" r="r" b="b"/>
                  <a:pathLst>
                    <a:path w="170" h="165">
                      <a:moveTo>
                        <a:pt x="0" y="0"/>
                      </a:moveTo>
                      <a:lnTo>
                        <a:pt x="115" y="0"/>
                      </a:lnTo>
                      <a:lnTo>
                        <a:pt x="134" y="6"/>
                      </a:lnTo>
                      <a:lnTo>
                        <a:pt x="146" y="16"/>
                      </a:lnTo>
                      <a:lnTo>
                        <a:pt x="152" y="32"/>
                      </a:lnTo>
                      <a:lnTo>
                        <a:pt x="152" y="62"/>
                      </a:lnTo>
                      <a:lnTo>
                        <a:pt x="144" y="79"/>
                      </a:lnTo>
                      <a:lnTo>
                        <a:pt x="130" y="88"/>
                      </a:lnTo>
                      <a:lnTo>
                        <a:pt x="115" y="92"/>
                      </a:lnTo>
                      <a:lnTo>
                        <a:pt x="130" y="99"/>
                      </a:lnTo>
                      <a:lnTo>
                        <a:pt x="144" y="107"/>
                      </a:lnTo>
                      <a:lnTo>
                        <a:pt x="152" y="124"/>
                      </a:lnTo>
                      <a:lnTo>
                        <a:pt x="158" y="140"/>
                      </a:lnTo>
                      <a:lnTo>
                        <a:pt x="160" y="154"/>
                      </a:lnTo>
                      <a:lnTo>
                        <a:pt x="170" y="154"/>
                      </a:lnTo>
                      <a:lnTo>
                        <a:pt x="170" y="165"/>
                      </a:lnTo>
                      <a:lnTo>
                        <a:pt x="104" y="165"/>
                      </a:lnTo>
                      <a:lnTo>
                        <a:pt x="104" y="154"/>
                      </a:lnTo>
                      <a:lnTo>
                        <a:pt x="115" y="154"/>
                      </a:lnTo>
                      <a:lnTo>
                        <a:pt x="113" y="137"/>
                      </a:lnTo>
                      <a:lnTo>
                        <a:pt x="105" y="124"/>
                      </a:lnTo>
                      <a:lnTo>
                        <a:pt x="96" y="111"/>
                      </a:lnTo>
                      <a:lnTo>
                        <a:pt x="86" y="100"/>
                      </a:lnTo>
                      <a:lnTo>
                        <a:pt x="71" y="92"/>
                      </a:lnTo>
                      <a:lnTo>
                        <a:pt x="71" y="154"/>
                      </a:lnTo>
                      <a:lnTo>
                        <a:pt x="86" y="154"/>
                      </a:lnTo>
                      <a:lnTo>
                        <a:pt x="86" y="165"/>
                      </a:lnTo>
                      <a:lnTo>
                        <a:pt x="2" y="165"/>
                      </a:lnTo>
                      <a:lnTo>
                        <a:pt x="2" y="154"/>
                      </a:lnTo>
                      <a:lnTo>
                        <a:pt x="19" y="154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10280" y="6583320"/>
                  <a:ext cx="23760" cy="33480"/>
                </a:xfrm>
                <a:custGeom>
                  <a:avLst/>
                  <a:gdLst/>
                  <a:ahLst/>
                  <a:rect l="l" t="t" r="r" b="b"/>
                  <a:pathLst>
                    <a:path w="30" h="40">
                      <a:moveTo>
                        <a:pt x="0" y="0"/>
                      </a:moveTo>
                      <a:lnTo>
                        <a:pt x="0" y="40"/>
                      </a:lnTo>
                      <a:lnTo>
                        <a:pt x="15" y="40"/>
                      </a:lnTo>
                      <a:lnTo>
                        <a:pt x="24" y="37"/>
                      </a:lnTo>
                      <a:lnTo>
                        <a:pt x="30" y="27"/>
                      </a:lnTo>
                      <a:lnTo>
                        <a:pt x="30" y="14"/>
                      </a:lnTo>
                      <a:lnTo>
                        <a:pt x="24" y="4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973680" y="6562800"/>
                <a:ext cx="129960" cy="135000"/>
                <a:chOff x="3973680" y="6562800"/>
                <a:chExt cx="129960" cy="1350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973680" y="6562800"/>
                  <a:ext cx="129960" cy="135000"/>
                </a:xfrm>
                <a:custGeom>
                  <a:avLst/>
                  <a:gdLst/>
                  <a:ahLst/>
                  <a:rect l="l" t="t" r="r" b="b"/>
                  <a:pathLst>
                    <a:path w="164" h="172">
                      <a:moveTo>
                        <a:pt x="49" y="0"/>
                      </a:moveTo>
                      <a:lnTo>
                        <a:pt x="112" y="0"/>
                      </a:lnTo>
                      <a:lnTo>
                        <a:pt x="127" y="6"/>
                      </a:lnTo>
                      <a:lnTo>
                        <a:pt x="149" y="24"/>
                      </a:lnTo>
                      <a:lnTo>
                        <a:pt x="159" y="44"/>
                      </a:lnTo>
                      <a:lnTo>
                        <a:pt x="164" y="70"/>
                      </a:lnTo>
                      <a:lnTo>
                        <a:pt x="164" y="99"/>
                      </a:lnTo>
                      <a:lnTo>
                        <a:pt x="159" y="125"/>
                      </a:lnTo>
                      <a:lnTo>
                        <a:pt x="149" y="146"/>
                      </a:lnTo>
                      <a:lnTo>
                        <a:pt x="122" y="165"/>
                      </a:lnTo>
                      <a:lnTo>
                        <a:pt x="109" y="172"/>
                      </a:lnTo>
                      <a:lnTo>
                        <a:pt x="49" y="172"/>
                      </a:lnTo>
                      <a:lnTo>
                        <a:pt x="36" y="165"/>
                      </a:lnTo>
                      <a:lnTo>
                        <a:pt x="12" y="148"/>
                      </a:lnTo>
                      <a:lnTo>
                        <a:pt x="3" y="129"/>
                      </a:lnTo>
                      <a:lnTo>
                        <a:pt x="0" y="105"/>
                      </a:lnTo>
                      <a:lnTo>
                        <a:pt x="0" y="70"/>
                      </a:lnTo>
                      <a:lnTo>
                        <a:pt x="3" y="44"/>
                      </a:lnTo>
                      <a:lnTo>
                        <a:pt x="12" y="24"/>
                      </a:lnTo>
                      <a:lnTo>
                        <a:pt x="36" y="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021200" y="6578640"/>
                  <a:ext cx="33120" cy="104760"/>
                </a:xfrm>
                <a:custGeom>
                  <a:avLst/>
                  <a:gdLst/>
                  <a:ahLst/>
                  <a:rect l="l" t="t" r="r" b="b"/>
                  <a:pathLst>
                    <a:path w="41" h="134">
                      <a:moveTo>
                        <a:pt x="14" y="0"/>
                      </a:move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4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4"/>
                      </a:lnTo>
                      <a:lnTo>
                        <a:pt x="41" y="112"/>
                      </a:lnTo>
                      <a:lnTo>
                        <a:pt x="41" y="22"/>
                      </a:lnTo>
                      <a:lnTo>
                        <a:pt x="39" y="11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4108320" y="6567480"/>
                <a:ext cx="276480" cy="130320"/>
                <a:chOff x="4108320" y="6567480"/>
                <a:chExt cx="276480" cy="13032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4108320" y="6567480"/>
                  <a:ext cx="147600" cy="130320"/>
                </a:xfrm>
                <a:custGeom>
                  <a:avLst/>
                  <a:gdLst/>
                  <a:ahLst/>
                  <a:rect l="l" t="t" r="r" b="b"/>
                  <a:pathLst>
                    <a:path w="187" h="166">
                      <a:moveTo>
                        <a:pt x="4" y="166"/>
                      </a:moveTo>
                      <a:lnTo>
                        <a:pt x="50" y="166"/>
                      </a:lnTo>
                      <a:lnTo>
                        <a:pt x="50" y="153"/>
                      </a:lnTo>
                      <a:lnTo>
                        <a:pt x="35" y="153"/>
                      </a:lnTo>
                      <a:lnTo>
                        <a:pt x="35" y="35"/>
                      </a:lnTo>
                      <a:lnTo>
                        <a:pt x="115" y="166"/>
                      </a:lnTo>
                      <a:lnTo>
                        <a:pt x="168" y="166"/>
                      </a:lnTo>
                      <a:lnTo>
                        <a:pt x="168" y="13"/>
                      </a:lnTo>
                      <a:lnTo>
                        <a:pt x="187" y="13"/>
                      </a:lnTo>
                      <a:lnTo>
                        <a:pt x="187" y="0"/>
                      </a:lnTo>
                      <a:lnTo>
                        <a:pt x="135" y="0"/>
                      </a:lnTo>
                      <a:lnTo>
                        <a:pt x="135" y="13"/>
                      </a:lnTo>
                      <a:lnTo>
                        <a:pt x="152" y="13"/>
                      </a:lnTo>
                      <a:lnTo>
                        <a:pt x="152" y="110"/>
                      </a:lnTo>
                      <a:lnTo>
                        <a:pt x="82" y="3"/>
                      </a:lnTo>
                      <a:lnTo>
                        <a:pt x="0" y="3"/>
                      </a:lnTo>
                      <a:lnTo>
                        <a:pt x="0" y="16"/>
                      </a:lnTo>
                      <a:lnTo>
                        <a:pt x="18" y="16"/>
                      </a:lnTo>
                      <a:lnTo>
                        <a:pt x="18" y="153"/>
                      </a:lnTo>
                      <a:lnTo>
                        <a:pt x="4" y="153"/>
                      </a:lnTo>
                      <a:lnTo>
                        <a:pt x="4" y="166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55920" y="6567480"/>
                  <a:ext cx="128880" cy="130320"/>
                </a:xfrm>
                <a:custGeom>
                  <a:avLst/>
                  <a:gdLst/>
                  <a:ahLst/>
                  <a:rect l="l" t="t" r="r" b="b"/>
                  <a:pathLst>
                    <a:path w="162" h="166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8" y="45"/>
                      </a:lnTo>
                      <a:lnTo>
                        <a:pt x="146" y="45"/>
                      </a:lnTo>
                      <a:lnTo>
                        <a:pt x="97" y="13"/>
                      </a:lnTo>
                      <a:lnTo>
                        <a:pt x="71" y="13"/>
                      </a:lnTo>
                      <a:lnTo>
                        <a:pt x="71" y="78"/>
                      </a:lnTo>
                      <a:lnTo>
                        <a:pt x="94" y="78"/>
                      </a:lnTo>
                      <a:lnTo>
                        <a:pt x="121" y="49"/>
                      </a:lnTo>
                      <a:lnTo>
                        <a:pt x="121" y="119"/>
                      </a:lnTo>
                      <a:lnTo>
                        <a:pt x="94" y="91"/>
                      </a:lnTo>
                      <a:lnTo>
                        <a:pt x="71" y="91"/>
                      </a:lnTo>
                      <a:lnTo>
                        <a:pt x="71" y="147"/>
                      </a:lnTo>
                      <a:lnTo>
                        <a:pt x="97" y="147"/>
                      </a:lnTo>
                      <a:lnTo>
                        <a:pt x="152" y="119"/>
                      </a:lnTo>
                      <a:lnTo>
                        <a:pt x="162" y="119"/>
                      </a:lnTo>
                      <a:lnTo>
                        <a:pt x="162" y="166"/>
                      </a:lnTo>
                      <a:lnTo>
                        <a:pt x="3" y="166"/>
                      </a:lnTo>
                      <a:lnTo>
                        <a:pt x="3" y="156"/>
                      </a:lnTo>
                      <a:lnTo>
                        <a:pt x="19" y="156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4606920" y="6562800"/>
                <a:ext cx="128520" cy="133200"/>
                <a:chOff x="4606920" y="6562800"/>
                <a:chExt cx="128520" cy="133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4606920" y="6562800"/>
                  <a:ext cx="128520" cy="13320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48" y="0"/>
                      </a:moveTo>
                      <a:lnTo>
                        <a:pt x="112" y="0"/>
                      </a:lnTo>
                      <a:lnTo>
                        <a:pt x="124" y="6"/>
                      </a:lnTo>
                      <a:lnTo>
                        <a:pt x="147" y="23"/>
                      </a:lnTo>
                      <a:lnTo>
                        <a:pt x="157" y="43"/>
                      </a:lnTo>
                      <a:lnTo>
                        <a:pt x="161" y="69"/>
                      </a:lnTo>
                      <a:lnTo>
                        <a:pt x="161" y="95"/>
                      </a:lnTo>
                      <a:lnTo>
                        <a:pt x="157" y="122"/>
                      </a:lnTo>
                      <a:lnTo>
                        <a:pt x="147" y="143"/>
                      </a:lnTo>
                      <a:lnTo>
                        <a:pt x="122" y="162"/>
                      </a:lnTo>
                      <a:lnTo>
                        <a:pt x="108" y="168"/>
                      </a:lnTo>
                      <a:lnTo>
                        <a:pt x="48" y="168"/>
                      </a:lnTo>
                      <a:lnTo>
                        <a:pt x="36" y="162"/>
                      </a:lnTo>
                      <a:lnTo>
                        <a:pt x="14" y="146"/>
                      </a:lnTo>
                      <a:lnTo>
                        <a:pt x="5" y="125"/>
                      </a:lnTo>
                      <a:lnTo>
                        <a:pt x="0" y="103"/>
                      </a:lnTo>
                      <a:lnTo>
                        <a:pt x="0" y="69"/>
                      </a:lnTo>
                      <a:lnTo>
                        <a:pt x="5" y="43"/>
                      </a:lnTo>
                      <a:lnTo>
                        <a:pt x="14" y="23"/>
                      </a:lnTo>
                      <a:lnTo>
                        <a:pt x="36" y="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654440" y="6576840"/>
                  <a:ext cx="33480" cy="106560"/>
                </a:xfrm>
                <a:custGeom>
                  <a:avLst/>
                  <a:gdLst/>
                  <a:ahLst/>
                  <a:rect l="l" t="t" r="r" b="b"/>
                  <a:pathLst>
                    <a:path w="43" h="134">
                      <a:moveTo>
                        <a:pt x="14" y="0"/>
                      </a:moveTo>
                      <a:lnTo>
                        <a:pt x="4" y="12"/>
                      </a:lnTo>
                      <a:lnTo>
                        <a:pt x="0" y="22"/>
                      </a:lnTo>
                      <a:lnTo>
                        <a:pt x="0" y="112"/>
                      </a:lnTo>
                      <a:lnTo>
                        <a:pt x="4" y="123"/>
                      </a:lnTo>
                      <a:lnTo>
                        <a:pt x="14" y="134"/>
                      </a:lnTo>
                      <a:lnTo>
                        <a:pt x="29" y="134"/>
                      </a:lnTo>
                      <a:lnTo>
                        <a:pt x="39" y="123"/>
                      </a:lnTo>
                      <a:lnTo>
                        <a:pt x="43" y="112"/>
                      </a:lnTo>
                      <a:lnTo>
                        <a:pt x="43" y="22"/>
                      </a:lnTo>
                      <a:lnTo>
                        <a:pt x="39" y="12"/>
                      </a:lnTo>
                      <a:lnTo>
                        <a:pt x="2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4741920" y="6562800"/>
                <a:ext cx="241200" cy="129960"/>
                <a:chOff x="4741920" y="6562800"/>
                <a:chExt cx="241200" cy="1299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7419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3" h="165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95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5" y="146"/>
                      </a:lnTo>
                      <a:lnTo>
                        <a:pt x="136" y="121"/>
                      </a:lnTo>
                      <a:lnTo>
                        <a:pt x="153" y="121"/>
                      </a:lnTo>
                      <a:lnTo>
                        <a:pt x="153" y="165"/>
                      </a:lnTo>
                      <a:lnTo>
                        <a:pt x="3" y="165"/>
                      </a:lnTo>
                      <a:lnTo>
                        <a:pt x="3" y="155"/>
                      </a:lnTo>
                      <a:lnTo>
                        <a:pt x="18" y="155"/>
                      </a:lnTo>
                      <a:lnTo>
                        <a:pt x="18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862520" y="6562800"/>
                  <a:ext cx="120600" cy="129960"/>
                </a:xfrm>
                <a:custGeom>
                  <a:avLst/>
                  <a:gdLst/>
                  <a:ahLst/>
                  <a:rect l="l" t="t" r="r" b="b"/>
                  <a:pathLst>
                    <a:path w="151" h="165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6"/>
                      </a:lnTo>
                      <a:lnTo>
                        <a:pt x="96" y="146"/>
                      </a:lnTo>
                      <a:lnTo>
                        <a:pt x="135" y="121"/>
                      </a:lnTo>
                      <a:lnTo>
                        <a:pt x="151" y="121"/>
                      </a:lnTo>
                      <a:lnTo>
                        <a:pt x="151" y="165"/>
                      </a:lnTo>
                      <a:lnTo>
                        <a:pt x="2" y="165"/>
                      </a:lnTo>
                      <a:lnTo>
                        <a:pt x="2" y="155"/>
                      </a:lnTo>
                      <a:lnTo>
                        <a:pt x="17" y="155"/>
                      </a:lnTo>
                      <a:lnTo>
                        <a:pt x="17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979880" y="6564240"/>
                <a:ext cx="176400" cy="130320"/>
                <a:chOff x="4979880" y="6564240"/>
                <a:chExt cx="176400" cy="1303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979880" y="6564240"/>
                  <a:ext cx="176400" cy="130320"/>
                </a:xfrm>
                <a:custGeom>
                  <a:avLst/>
                  <a:gdLst/>
                  <a:ahLst/>
                  <a:rect l="l" t="t" r="r" b="b"/>
                  <a:pathLst>
                    <a:path w="221" h="164">
                      <a:moveTo>
                        <a:pt x="130" y="0"/>
                      </a:moveTo>
                      <a:lnTo>
                        <a:pt x="205" y="151"/>
                      </a:lnTo>
                      <a:lnTo>
                        <a:pt x="221" y="151"/>
                      </a:lnTo>
                      <a:lnTo>
                        <a:pt x="221" y="164"/>
                      </a:lnTo>
                      <a:lnTo>
                        <a:pt x="102" y="164"/>
                      </a:lnTo>
                      <a:lnTo>
                        <a:pt x="102" y="151"/>
                      </a:lnTo>
                      <a:lnTo>
                        <a:pt x="116" y="151"/>
                      </a:lnTo>
                      <a:lnTo>
                        <a:pt x="99" y="104"/>
                      </a:lnTo>
                      <a:lnTo>
                        <a:pt x="56" y="103"/>
                      </a:lnTo>
                      <a:lnTo>
                        <a:pt x="36" y="151"/>
                      </a:lnTo>
                      <a:lnTo>
                        <a:pt x="59" y="151"/>
                      </a:lnTo>
                      <a:lnTo>
                        <a:pt x="59" y="164"/>
                      </a:lnTo>
                      <a:lnTo>
                        <a:pt x="0" y="164"/>
                      </a:lnTo>
                      <a:lnTo>
                        <a:pt x="0" y="151"/>
                      </a:lnTo>
                      <a:lnTo>
                        <a:pt x="16" y="151"/>
                      </a:lnTo>
                      <a:lnTo>
                        <a:pt x="75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29200" y="6597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17" y="0"/>
                      </a:moveTo>
                      <a:lnTo>
                        <a:pt x="0" y="45"/>
                      </a:lnTo>
                      <a:lnTo>
                        <a:pt x="33" y="4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4444920" y="6567480"/>
                <a:ext cx="149400" cy="128520"/>
                <a:chOff x="4444920" y="6567480"/>
                <a:chExt cx="149400" cy="1285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4444920" y="6567480"/>
                  <a:ext cx="149400" cy="128520"/>
                </a:xfrm>
                <a:custGeom>
                  <a:avLst/>
                  <a:gdLst/>
                  <a:ahLst/>
                  <a:rect l="l" t="t" r="r" b="b"/>
                  <a:pathLst>
                    <a:path w="189" h="162">
                      <a:moveTo>
                        <a:pt x="74" y="0"/>
                      </a:moveTo>
                      <a:lnTo>
                        <a:pt x="138" y="0"/>
                      </a:lnTo>
                      <a:lnTo>
                        <a:pt x="152" y="7"/>
                      </a:lnTo>
                      <a:lnTo>
                        <a:pt x="176" y="23"/>
                      </a:lnTo>
                      <a:lnTo>
                        <a:pt x="184" y="42"/>
                      </a:lnTo>
                      <a:lnTo>
                        <a:pt x="189" y="67"/>
                      </a:lnTo>
                      <a:lnTo>
                        <a:pt x="189" y="93"/>
                      </a:lnTo>
                      <a:lnTo>
                        <a:pt x="184" y="118"/>
                      </a:lnTo>
                      <a:lnTo>
                        <a:pt x="176" y="137"/>
                      </a:lnTo>
                      <a:lnTo>
                        <a:pt x="147" y="157"/>
                      </a:lnTo>
                      <a:lnTo>
                        <a:pt x="134" y="162"/>
                      </a:lnTo>
                      <a:lnTo>
                        <a:pt x="74" y="162"/>
                      </a:lnTo>
                      <a:lnTo>
                        <a:pt x="0" y="162"/>
                      </a:lnTo>
                      <a:lnTo>
                        <a:pt x="2" y="147"/>
                      </a:lnTo>
                      <a:lnTo>
                        <a:pt x="24" y="147"/>
                      </a:lnTo>
                      <a:lnTo>
                        <a:pt x="24" y="99"/>
                      </a:lnTo>
                      <a:lnTo>
                        <a:pt x="24" y="67"/>
                      </a:lnTo>
                      <a:lnTo>
                        <a:pt x="24" y="42"/>
                      </a:lnTo>
                      <a:lnTo>
                        <a:pt x="24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510080" y="6583320"/>
                  <a:ext cx="36360" cy="100080"/>
                </a:xfrm>
                <a:custGeom>
                  <a:avLst/>
                  <a:gdLst/>
                  <a:ahLst/>
                  <a:rect l="l" t="t" r="r" b="b"/>
                  <a:pathLst>
                    <a:path w="44" h="127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127"/>
                      </a:lnTo>
                      <a:lnTo>
                        <a:pt x="15" y="127"/>
                      </a:lnTo>
                      <a:lnTo>
                        <a:pt x="31" y="127"/>
                      </a:lnTo>
                      <a:lnTo>
                        <a:pt x="41" y="117"/>
                      </a:lnTo>
                      <a:lnTo>
                        <a:pt x="44" y="106"/>
                      </a:lnTo>
                      <a:lnTo>
                        <a:pt x="44" y="21"/>
                      </a:lnTo>
                      <a:lnTo>
                        <a:pt x="41" y="10"/>
                      </a:lnTo>
                      <a:lnTo>
                        <a:pt x="3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3592440" y="5500800"/>
              <a:ext cx="2098800" cy="115920"/>
              <a:chOff x="3592440" y="5500800"/>
              <a:chExt cx="2098800" cy="1159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3592440" y="5500800"/>
                <a:ext cx="231840" cy="115920"/>
                <a:chOff x="3592440" y="5500800"/>
                <a:chExt cx="231840" cy="1159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359244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6" y="147"/>
                      </a:lnTo>
                      <a:lnTo>
                        <a:pt x="26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66552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9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7"/>
                      </a:lnTo>
                      <a:lnTo>
                        <a:pt x="72" y="57"/>
                      </a:lnTo>
                      <a:lnTo>
                        <a:pt x="72" y="0"/>
                      </a:lnTo>
                      <a:lnTo>
                        <a:pt x="109" y="0"/>
                      </a:lnTo>
                      <a:lnTo>
                        <a:pt x="109" y="147"/>
                      </a:lnTo>
                      <a:lnTo>
                        <a:pt x="72" y="147"/>
                      </a:lnTo>
                      <a:lnTo>
                        <a:pt x="72" y="85"/>
                      </a:lnTo>
                      <a:lnTo>
                        <a:pt x="36" y="85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76092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1" y="85"/>
                      </a:lnTo>
                      <a:lnTo>
                        <a:pt x="41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3875040" y="5500800"/>
                <a:ext cx="452520" cy="115920"/>
                <a:chOff x="3875040" y="5500800"/>
                <a:chExt cx="452520" cy="1159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3875040" y="5500800"/>
                  <a:ext cx="77760" cy="115920"/>
                </a:xfrm>
                <a:custGeom>
                  <a:avLst/>
                  <a:gdLst/>
                  <a:ahLst/>
                  <a:rect l="l" t="t" r="r" b="b"/>
                  <a:pathLst>
                    <a:path w="98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118"/>
                      </a:lnTo>
                      <a:lnTo>
                        <a:pt x="62" y="118"/>
                      </a:lnTo>
                      <a:lnTo>
                        <a:pt x="62" y="0"/>
                      </a:lnTo>
                      <a:lnTo>
                        <a:pt x="98" y="0"/>
                      </a:lnTo>
                      <a:lnTo>
                        <a:pt x="98" y="127"/>
                      </a:lnTo>
                      <a:lnTo>
                        <a:pt x="72" y="147"/>
                      </a:lnTo>
                      <a:lnTo>
                        <a:pt x="26" y="147"/>
                      </a:lnTo>
                      <a:lnTo>
                        <a:pt x="0" y="1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963960" y="5500800"/>
                  <a:ext cx="8568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4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67" y="69"/>
                      </a:lnTo>
                      <a:lnTo>
                        <a:pt x="67" y="0"/>
                      </a:lnTo>
                      <a:lnTo>
                        <a:pt x="106" y="0"/>
                      </a:lnTo>
                      <a:lnTo>
                        <a:pt x="106" y="147"/>
                      </a:lnTo>
                      <a:lnTo>
                        <a:pt x="67" y="147"/>
                      </a:lnTo>
                      <a:lnTo>
                        <a:pt x="40" y="76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60800" y="5500800"/>
                  <a:ext cx="2844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9896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3" y="29"/>
                      </a:lnTo>
                      <a:lnTo>
                        <a:pt x="63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7528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248000" y="5500800"/>
                  <a:ext cx="79560" cy="115920"/>
                </a:xfrm>
                <a:custGeom>
                  <a:avLst/>
                  <a:gdLst/>
                  <a:ahLst/>
                  <a:rect l="l" t="t" r="r" b="b"/>
                  <a:pathLst>
                    <a:path w="99" h="14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99" y="20"/>
                      </a:lnTo>
                      <a:lnTo>
                        <a:pt x="99" y="127"/>
                      </a:lnTo>
                      <a:lnTo>
                        <a:pt x="76" y="147"/>
                      </a:lnTo>
                      <a:lnTo>
                        <a:pt x="0" y="147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5" y="118"/>
                      </a:lnTo>
                      <a:lnTo>
                        <a:pt x="58" y="118"/>
                      </a:lnTo>
                      <a:lnTo>
                        <a:pt x="58" y="28"/>
                      </a:lnTo>
                      <a:lnTo>
                        <a:pt x="35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4386240" y="5500800"/>
                <a:ext cx="457200" cy="115920"/>
                <a:chOff x="4386240" y="5500800"/>
                <a:chExt cx="457200" cy="1159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438624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3" y="20"/>
                      </a:lnTo>
                      <a:lnTo>
                        <a:pt x="93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7" y="61"/>
                      </a:lnTo>
                      <a:lnTo>
                        <a:pt x="65" y="61"/>
                      </a:lnTo>
                      <a:lnTo>
                        <a:pt x="93" y="82"/>
                      </a:lnTo>
                      <a:lnTo>
                        <a:pt x="93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1" y="102"/>
                      </a:lnTo>
                      <a:lnTo>
                        <a:pt x="31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468680" y="5500800"/>
                  <a:ext cx="66960" cy="11592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527720" y="5500800"/>
                  <a:ext cx="9180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6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611600" y="5500800"/>
                  <a:ext cx="66600" cy="115920"/>
                </a:xfrm>
                <a:custGeom>
                  <a:avLst/>
                  <a:gdLst/>
                  <a:ahLst/>
                  <a:rect l="l" t="t" r="r" b="b"/>
                  <a:pathLst>
                    <a:path w="83" h="147">
                      <a:moveTo>
                        <a:pt x="0" y="0"/>
                      </a:moveTo>
                      <a:lnTo>
                        <a:pt x="83" y="0"/>
                      </a:lnTo>
                      <a:lnTo>
                        <a:pt x="83" y="29"/>
                      </a:lnTo>
                      <a:lnTo>
                        <a:pt x="62" y="29"/>
                      </a:lnTo>
                      <a:lnTo>
                        <a:pt x="62" y="147"/>
                      </a:lnTo>
                      <a:lnTo>
                        <a:pt x="27" y="147"/>
                      </a:lnTo>
                      <a:lnTo>
                        <a:pt x="27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69116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2" h="147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28"/>
                      </a:lnTo>
                      <a:lnTo>
                        <a:pt x="40" y="28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5"/>
                      </a:lnTo>
                      <a:lnTo>
                        <a:pt x="40" y="85"/>
                      </a:lnTo>
                      <a:lnTo>
                        <a:pt x="40" y="118"/>
                      </a:lnTo>
                      <a:lnTo>
                        <a:pt x="82" y="118"/>
                      </a:lnTo>
                      <a:lnTo>
                        <a:pt x="82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768920" y="5500800"/>
                  <a:ext cx="74520" cy="115920"/>
                </a:xfrm>
                <a:custGeom>
                  <a:avLst/>
                  <a:gdLst/>
                  <a:ahLst/>
                  <a:rect l="l" t="t" r="r" b="b"/>
                  <a:pathLst>
                    <a:path w="95" h="147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5" y="20"/>
                      </a:lnTo>
                      <a:lnTo>
                        <a:pt x="95" y="49"/>
                      </a:lnTo>
                      <a:lnTo>
                        <a:pt x="59" y="49"/>
                      </a:lnTo>
                      <a:lnTo>
                        <a:pt x="59" y="29"/>
                      </a:lnTo>
                      <a:lnTo>
                        <a:pt x="36" y="29"/>
                      </a:lnTo>
                      <a:lnTo>
                        <a:pt x="36" y="61"/>
                      </a:lnTo>
                      <a:lnTo>
                        <a:pt x="68" y="61"/>
                      </a:lnTo>
                      <a:lnTo>
                        <a:pt x="65" y="61"/>
                      </a:lnTo>
                      <a:lnTo>
                        <a:pt x="95" y="82"/>
                      </a:lnTo>
                      <a:lnTo>
                        <a:pt x="95" y="127"/>
                      </a:lnTo>
                      <a:lnTo>
                        <a:pt x="72" y="147"/>
                      </a:lnTo>
                      <a:lnTo>
                        <a:pt x="23" y="147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32" y="102"/>
                      </a:lnTo>
                      <a:lnTo>
                        <a:pt x="32" y="118"/>
                      </a:lnTo>
                      <a:lnTo>
                        <a:pt x="59" y="118"/>
                      </a:lnTo>
                      <a:lnTo>
                        <a:pt x="59" y="90"/>
                      </a:lnTo>
                      <a:lnTo>
                        <a:pt x="28" y="90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4892760" y="5500800"/>
                <a:ext cx="160200" cy="115920"/>
                <a:chOff x="4892760" y="5500800"/>
                <a:chExt cx="160200" cy="11592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892760" y="5500800"/>
                  <a:ext cx="81000" cy="115920"/>
                </a:xfrm>
                <a:custGeom>
                  <a:avLst/>
                  <a:gdLst/>
                  <a:ahLst/>
                  <a:rect l="l" t="t" r="r" b="b"/>
                  <a:pathLst>
                    <a:path w="102" h="147">
                      <a:moveTo>
                        <a:pt x="26" y="0"/>
                      </a:moveTo>
                      <a:lnTo>
                        <a:pt x="75" y="0"/>
                      </a:lnTo>
                      <a:lnTo>
                        <a:pt x="102" y="24"/>
                      </a:lnTo>
                      <a:lnTo>
                        <a:pt x="102" y="122"/>
                      </a:lnTo>
                      <a:lnTo>
                        <a:pt x="75" y="147"/>
                      </a:lnTo>
                      <a:lnTo>
                        <a:pt x="66" y="147"/>
                      </a:lnTo>
                      <a:lnTo>
                        <a:pt x="36" y="147"/>
                      </a:lnTo>
                      <a:lnTo>
                        <a:pt x="26" y="147"/>
                      </a:lnTo>
                      <a:lnTo>
                        <a:pt x="0" y="122"/>
                      </a:lnTo>
                      <a:lnTo>
                        <a:pt x="0" y="118"/>
                      </a:lnTo>
                      <a:lnTo>
                        <a:pt x="39" y="118"/>
                      </a:lnTo>
                      <a:lnTo>
                        <a:pt x="62" y="118"/>
                      </a:lnTo>
                      <a:lnTo>
                        <a:pt x="62" y="28"/>
                      </a:lnTo>
                      <a:lnTo>
                        <a:pt x="39" y="28"/>
                      </a:lnTo>
                      <a:lnTo>
                        <a:pt x="39" y="118"/>
                      </a:lnTo>
                      <a:lnTo>
                        <a:pt x="0" y="118"/>
                      </a:lnTo>
                      <a:lnTo>
                        <a:pt x="0" y="2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989600" y="5500800"/>
                  <a:ext cx="633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41" y="28"/>
                      </a:lnTo>
                      <a:lnTo>
                        <a:pt x="41" y="57"/>
                      </a:lnTo>
                      <a:lnTo>
                        <a:pt x="77" y="57"/>
                      </a:lnTo>
                      <a:lnTo>
                        <a:pt x="77" y="85"/>
                      </a:lnTo>
                      <a:lnTo>
                        <a:pt x="41" y="85"/>
                      </a:lnTo>
                      <a:lnTo>
                        <a:pt x="41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5091120" y="5500800"/>
                <a:ext cx="600120" cy="115920"/>
                <a:chOff x="5091120" y="5500800"/>
                <a:chExt cx="600120" cy="1159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509112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7" y="24"/>
                      </a:lnTo>
                      <a:lnTo>
                        <a:pt x="44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4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186520" y="5500800"/>
                  <a:ext cx="102960" cy="115920"/>
                </a:xfrm>
                <a:custGeom>
                  <a:avLst/>
                  <a:gdLst/>
                  <a:ahLst/>
                  <a:rect l="l" t="t" r="r" b="b"/>
                  <a:pathLst>
                    <a:path w="129" h="147">
                      <a:moveTo>
                        <a:pt x="0" y="147"/>
                      </a:moveTo>
                      <a:lnTo>
                        <a:pt x="37" y="147"/>
                      </a:lnTo>
                      <a:lnTo>
                        <a:pt x="37" y="69"/>
                      </a:lnTo>
                      <a:lnTo>
                        <a:pt x="55" y="147"/>
                      </a:lnTo>
                      <a:lnTo>
                        <a:pt x="74" y="147"/>
                      </a:lnTo>
                      <a:lnTo>
                        <a:pt x="93" y="69"/>
                      </a:lnTo>
                      <a:lnTo>
                        <a:pt x="93" y="147"/>
                      </a:lnTo>
                      <a:lnTo>
                        <a:pt x="129" y="147"/>
                      </a:lnTo>
                      <a:lnTo>
                        <a:pt x="129" y="0"/>
                      </a:lnTo>
                      <a:lnTo>
                        <a:pt x="79" y="0"/>
                      </a:lnTo>
                      <a:lnTo>
                        <a:pt x="65" y="69"/>
                      </a:lnTo>
                      <a:lnTo>
                        <a:pt x="51" y="0"/>
                      </a:lnTo>
                      <a:lnTo>
                        <a:pt x="0" y="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307120" y="5500800"/>
                  <a:ext cx="65160" cy="115920"/>
                </a:xfrm>
                <a:custGeom>
                  <a:avLst/>
                  <a:gdLst/>
                  <a:ahLst/>
                  <a:rect l="l" t="t" r="r" b="b"/>
                  <a:pathLst>
                    <a:path w="80" h="147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8"/>
                      </a:lnTo>
                      <a:lnTo>
                        <a:pt x="39" y="28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5"/>
                      </a:lnTo>
                      <a:lnTo>
                        <a:pt x="39" y="85"/>
                      </a:lnTo>
                      <a:lnTo>
                        <a:pt x="39" y="118"/>
                      </a:lnTo>
                      <a:lnTo>
                        <a:pt x="80" y="118"/>
                      </a:lnTo>
                      <a:lnTo>
                        <a:pt x="80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83080" y="5500800"/>
                  <a:ext cx="74880" cy="115920"/>
                </a:xfrm>
                <a:custGeom>
                  <a:avLst/>
                  <a:gdLst/>
                  <a:ahLst/>
                  <a:rect l="l" t="t" r="r" b="b"/>
                  <a:pathLst>
                    <a:path w="93" h="147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93" y="16"/>
                      </a:lnTo>
                      <a:lnTo>
                        <a:pt x="93" y="57"/>
                      </a:lnTo>
                      <a:lnTo>
                        <a:pt x="71" y="73"/>
                      </a:lnTo>
                      <a:lnTo>
                        <a:pt x="93" y="90"/>
                      </a:lnTo>
                      <a:lnTo>
                        <a:pt x="93" y="147"/>
                      </a:lnTo>
                      <a:lnTo>
                        <a:pt x="58" y="147"/>
                      </a:lnTo>
                      <a:lnTo>
                        <a:pt x="58" y="90"/>
                      </a:lnTo>
                      <a:lnTo>
                        <a:pt x="58" y="61"/>
                      </a:lnTo>
                      <a:lnTo>
                        <a:pt x="36" y="61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61"/>
                      </a:lnTo>
                      <a:lnTo>
                        <a:pt x="58" y="90"/>
                      </a:lnTo>
                      <a:lnTo>
                        <a:pt x="36" y="90"/>
                      </a:lnTo>
                      <a:lnTo>
                        <a:pt x="36" y="147"/>
                      </a:lnTo>
                      <a:lnTo>
                        <a:pt x="0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472000" y="5500800"/>
                  <a:ext cx="28800" cy="115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513400" y="5500800"/>
                  <a:ext cx="79200" cy="115920"/>
                </a:xfrm>
                <a:custGeom>
                  <a:avLst/>
                  <a:gdLst/>
                  <a:ahLst/>
                  <a:rect l="l" t="t" r="r" b="b"/>
                  <a:pathLst>
                    <a:path w="101" h="147">
                      <a:moveTo>
                        <a:pt x="28" y="0"/>
                      </a:moveTo>
                      <a:lnTo>
                        <a:pt x="73" y="0"/>
                      </a:lnTo>
                      <a:lnTo>
                        <a:pt x="101" y="20"/>
                      </a:lnTo>
                      <a:lnTo>
                        <a:pt x="101" y="57"/>
                      </a:lnTo>
                      <a:lnTo>
                        <a:pt x="65" y="57"/>
                      </a:lnTo>
                      <a:lnTo>
                        <a:pt x="65" y="28"/>
                      </a:lnTo>
                      <a:lnTo>
                        <a:pt x="36" y="28"/>
                      </a:lnTo>
                      <a:lnTo>
                        <a:pt x="36" y="118"/>
                      </a:lnTo>
                      <a:lnTo>
                        <a:pt x="65" y="118"/>
                      </a:lnTo>
                      <a:lnTo>
                        <a:pt x="65" y="85"/>
                      </a:lnTo>
                      <a:lnTo>
                        <a:pt x="101" y="85"/>
                      </a:lnTo>
                      <a:lnTo>
                        <a:pt x="101" y="127"/>
                      </a:lnTo>
                      <a:lnTo>
                        <a:pt x="73" y="147"/>
                      </a:lnTo>
                      <a:lnTo>
                        <a:pt x="28" y="147"/>
                      </a:lnTo>
                      <a:lnTo>
                        <a:pt x="0" y="127"/>
                      </a:lnTo>
                      <a:lnTo>
                        <a:pt x="0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600880" y="5500800"/>
                  <a:ext cx="90360" cy="115920"/>
                </a:xfrm>
                <a:custGeom>
                  <a:avLst/>
                  <a:gdLst/>
                  <a:ahLst/>
                  <a:rect l="l" t="t" r="r" b="b"/>
                  <a:pathLst>
                    <a:path w="115" h="147">
                      <a:moveTo>
                        <a:pt x="32" y="0"/>
                      </a:moveTo>
                      <a:lnTo>
                        <a:pt x="84" y="0"/>
                      </a:lnTo>
                      <a:lnTo>
                        <a:pt x="115" y="147"/>
                      </a:lnTo>
                      <a:lnTo>
                        <a:pt x="75" y="147"/>
                      </a:lnTo>
                      <a:lnTo>
                        <a:pt x="71" y="118"/>
                      </a:lnTo>
                      <a:lnTo>
                        <a:pt x="71" y="93"/>
                      </a:lnTo>
                      <a:lnTo>
                        <a:pt x="58" y="24"/>
                      </a:lnTo>
                      <a:lnTo>
                        <a:pt x="45" y="93"/>
                      </a:lnTo>
                      <a:lnTo>
                        <a:pt x="71" y="93"/>
                      </a:lnTo>
                      <a:lnTo>
                        <a:pt x="71" y="118"/>
                      </a:lnTo>
                      <a:lnTo>
                        <a:pt x="45" y="118"/>
                      </a:lnTo>
                      <a:lnTo>
                        <a:pt x="40" y="147"/>
                      </a:lnTo>
                      <a:lnTo>
                        <a:pt x="0" y="147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3" name=""/>
          <p:cNvGrpSpPr/>
          <p:nvPr/>
        </p:nvGrpSpPr>
        <p:grpSpPr>
          <a:xfrm>
            <a:off x="3727440" y="5479920"/>
            <a:ext cx="3041640" cy="1295640"/>
            <a:chOff x="3727440" y="5479920"/>
            <a:chExt cx="3041640" cy="1295640"/>
          </a:xfrm>
        </p:grpSpPr>
        <p:grpSp>
          <p:nvGrpSpPr>
            <p:cNvPr id="1014" name=""/>
            <p:cNvGrpSpPr/>
            <p:nvPr/>
          </p:nvGrpSpPr>
          <p:grpSpPr>
            <a:xfrm>
              <a:off x="3727440" y="5479920"/>
              <a:ext cx="3041640" cy="1295640"/>
              <a:chOff x="3727440" y="5479920"/>
              <a:chExt cx="3041640" cy="12956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727440" y="5479920"/>
                <a:ext cx="3041640" cy="1295640"/>
              </a:xfrm>
              <a:prstGeom prst="rect">
                <a:avLst/>
              </a:prstGeom>
              <a:solidFill>
                <a:srgbClr val="bfffb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795840" y="5548320"/>
                <a:ext cx="2903400" cy="11574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98880" y="5649840"/>
                <a:ext cx="2481120" cy="94140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4838760" y="6411960"/>
              <a:ext cx="799920" cy="156960"/>
              <a:chOff x="4838760" y="6411960"/>
              <a:chExt cx="799920" cy="15696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4838760" y="6411960"/>
                <a:ext cx="137880" cy="154080"/>
                <a:chOff x="4838760" y="6411960"/>
                <a:chExt cx="137880" cy="154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4843440" y="645480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198">
                      <a:moveTo>
                        <a:pt x="241" y="198"/>
                      </a:moveTo>
                      <a:lnTo>
                        <a:pt x="153" y="154"/>
                      </a:lnTo>
                      <a:lnTo>
                        <a:pt x="63" y="92"/>
                      </a:lnTo>
                      <a:lnTo>
                        <a:pt x="0" y="0"/>
                      </a:lnTo>
                      <a:lnTo>
                        <a:pt x="60" y="11"/>
                      </a:lnTo>
                      <a:lnTo>
                        <a:pt x="139" y="47"/>
                      </a:lnTo>
                      <a:lnTo>
                        <a:pt x="193" y="108"/>
                      </a:lnTo>
                      <a:lnTo>
                        <a:pt x="241" y="19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879800" y="6411960"/>
                  <a:ext cx="96840" cy="131760"/>
                </a:xfrm>
                <a:custGeom>
                  <a:avLst/>
                  <a:gdLst/>
                  <a:ahLst/>
                  <a:rect l="l" t="t" r="r" b="b"/>
                  <a:pathLst>
                    <a:path w="183" h="248">
                      <a:moveTo>
                        <a:pt x="183" y="248"/>
                      </a:moveTo>
                      <a:lnTo>
                        <a:pt x="106" y="180"/>
                      </a:lnTo>
                      <a:lnTo>
                        <a:pt x="55" y="119"/>
                      </a:lnTo>
                      <a:lnTo>
                        <a:pt x="30" y="64"/>
                      </a:lnTo>
                      <a:lnTo>
                        <a:pt x="0" y="0"/>
                      </a:lnTo>
                      <a:lnTo>
                        <a:pt x="61" y="31"/>
                      </a:lnTo>
                      <a:lnTo>
                        <a:pt x="108" y="68"/>
                      </a:lnTo>
                      <a:lnTo>
                        <a:pt x="150" y="123"/>
                      </a:lnTo>
                      <a:lnTo>
                        <a:pt x="178" y="186"/>
                      </a:lnTo>
                      <a:lnTo>
                        <a:pt x="183" y="24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838760" y="6513480"/>
                  <a:ext cx="122040" cy="52560"/>
                </a:xfrm>
                <a:custGeom>
                  <a:avLst/>
                  <a:gdLst/>
                  <a:ahLst/>
                  <a:rect l="l" t="t" r="r" b="b"/>
                  <a:pathLst>
                    <a:path w="231" h="101">
                      <a:moveTo>
                        <a:pt x="231" y="101"/>
                      </a:moveTo>
                      <a:lnTo>
                        <a:pt x="148" y="81"/>
                      </a:lnTo>
                      <a:lnTo>
                        <a:pt x="60" y="48"/>
                      </a:lnTo>
                      <a:lnTo>
                        <a:pt x="0" y="0"/>
                      </a:lnTo>
                      <a:lnTo>
                        <a:pt x="60" y="3"/>
                      </a:lnTo>
                      <a:lnTo>
                        <a:pt x="133" y="23"/>
                      </a:lnTo>
                      <a:lnTo>
                        <a:pt x="184" y="51"/>
                      </a:lnTo>
                      <a:lnTo>
                        <a:pt x="231" y="10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5500800" y="6415200"/>
                <a:ext cx="137880" cy="153720"/>
                <a:chOff x="5500800" y="6415200"/>
                <a:chExt cx="137880" cy="15372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5506920" y="645804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241" h="197">
                      <a:moveTo>
                        <a:pt x="0" y="197"/>
                      </a:moveTo>
                      <a:lnTo>
                        <a:pt x="87" y="153"/>
                      </a:lnTo>
                      <a:lnTo>
                        <a:pt x="176" y="91"/>
                      </a:lnTo>
                      <a:lnTo>
                        <a:pt x="241" y="0"/>
                      </a:lnTo>
                      <a:lnTo>
                        <a:pt x="181" y="10"/>
                      </a:lnTo>
                      <a:lnTo>
                        <a:pt x="102" y="46"/>
                      </a:lnTo>
                      <a:lnTo>
                        <a:pt x="48" y="10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500800" y="6415200"/>
                  <a:ext cx="96840" cy="131760"/>
                </a:xfrm>
                <a:custGeom>
                  <a:avLst/>
                  <a:gdLst/>
                  <a:ahLst/>
                  <a:rect l="l" t="t" r="r" b="b"/>
                  <a:pathLst>
                    <a:path w="184" h="248">
                      <a:moveTo>
                        <a:pt x="0" y="248"/>
                      </a:moveTo>
                      <a:lnTo>
                        <a:pt x="78" y="180"/>
                      </a:lnTo>
                      <a:lnTo>
                        <a:pt x="129" y="119"/>
                      </a:lnTo>
                      <a:lnTo>
                        <a:pt x="154" y="64"/>
                      </a:lnTo>
                      <a:lnTo>
                        <a:pt x="184" y="0"/>
                      </a:lnTo>
                      <a:lnTo>
                        <a:pt x="121" y="29"/>
                      </a:lnTo>
                      <a:lnTo>
                        <a:pt x="76" y="67"/>
                      </a:lnTo>
                      <a:lnTo>
                        <a:pt x="34" y="122"/>
                      </a:lnTo>
                      <a:lnTo>
                        <a:pt x="5" y="186"/>
                      </a:lnTo>
                      <a:lnTo>
                        <a:pt x="0" y="24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516640" y="6515280"/>
                  <a:ext cx="122040" cy="53640"/>
                </a:xfrm>
                <a:custGeom>
                  <a:avLst/>
                  <a:gdLst/>
                  <a:ahLst/>
                  <a:rect l="l" t="t" r="r" b="b"/>
                  <a:pathLst>
                    <a:path w="232" h="102">
                      <a:moveTo>
                        <a:pt x="0" y="102"/>
                      </a:moveTo>
                      <a:lnTo>
                        <a:pt x="84" y="80"/>
                      </a:lnTo>
                      <a:lnTo>
                        <a:pt x="170" y="49"/>
                      </a:lnTo>
                      <a:lnTo>
                        <a:pt x="232" y="0"/>
                      </a:lnTo>
                      <a:lnTo>
                        <a:pt x="170" y="4"/>
                      </a:lnTo>
                      <a:lnTo>
                        <a:pt x="99" y="23"/>
                      </a:lnTo>
                      <a:lnTo>
                        <a:pt x="48" y="5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7" name=""/>
            <p:cNvGrpSpPr/>
            <p:nvPr/>
          </p:nvGrpSpPr>
          <p:grpSpPr>
            <a:xfrm>
              <a:off x="4611600" y="5819760"/>
              <a:ext cx="1257480" cy="876240"/>
              <a:chOff x="4611600" y="5819760"/>
              <a:chExt cx="1257480" cy="87624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4884840" y="5819760"/>
                <a:ext cx="698400" cy="852480"/>
                <a:chOff x="4884840" y="5819760"/>
                <a:chExt cx="698400" cy="85248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4884840" y="5819760"/>
                  <a:ext cx="698400" cy="852480"/>
                  <a:chOff x="4884840" y="5819760"/>
                  <a:chExt cx="698400" cy="85248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884840" y="5819760"/>
                    <a:ext cx="698400" cy="169920"/>
                    <a:chOff x="4884840" y="5819760"/>
                    <a:chExt cx="698400" cy="16992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4884840" y="5819760"/>
                      <a:ext cx="34128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4" h="320">
                          <a:moveTo>
                            <a:pt x="0" y="0"/>
                          </a:moveTo>
                          <a:lnTo>
                            <a:pt x="644" y="0"/>
                          </a:lnTo>
                          <a:lnTo>
                            <a:pt x="644" y="320"/>
                          </a:lnTo>
                          <a:lnTo>
                            <a:pt x="184" y="320"/>
                          </a:lnTo>
                          <a:lnTo>
                            <a:pt x="184" y="155"/>
                          </a:lnTo>
                          <a:lnTo>
                            <a:pt x="176" y="128"/>
                          </a:lnTo>
                          <a:lnTo>
                            <a:pt x="160" y="113"/>
                          </a:lnTo>
                          <a:lnTo>
                            <a:pt x="131" y="106"/>
                          </a:lnTo>
                          <a:lnTo>
                            <a:pt x="0" y="1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5243400" y="5819760"/>
                      <a:ext cx="33984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4" h="320">
                          <a:moveTo>
                            <a:pt x="644" y="0"/>
                          </a:moveTo>
                          <a:lnTo>
                            <a:pt x="0" y="0"/>
                          </a:lnTo>
                          <a:lnTo>
                            <a:pt x="0" y="320"/>
                          </a:lnTo>
                          <a:lnTo>
                            <a:pt x="460" y="320"/>
                          </a:lnTo>
                          <a:lnTo>
                            <a:pt x="460" y="155"/>
                          </a:lnTo>
                          <a:lnTo>
                            <a:pt x="468" y="128"/>
                          </a:lnTo>
                          <a:lnTo>
                            <a:pt x="484" y="113"/>
                          </a:lnTo>
                          <a:lnTo>
                            <a:pt x="512" y="106"/>
                          </a:lnTo>
                          <a:lnTo>
                            <a:pt x="644" y="106"/>
                          </a:lnTo>
                          <a:lnTo>
                            <a:pt x="644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1260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3" name=""/>
                  <p:cNvSpPr/>
                  <p:nvPr/>
                </p:nvSpPr>
                <p:spPr>
                  <a:xfrm>
                    <a:off x="4903920" y="5821200"/>
                    <a:ext cx="671400" cy="85104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1260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4917960" y="5850000"/>
                  <a:ext cx="625680" cy="743040"/>
                  <a:chOff x="4917960" y="5850000"/>
                  <a:chExt cx="625680" cy="74304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>
                    <a:off x="5329080" y="6286680"/>
                    <a:ext cx="21456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80">
                        <a:moveTo>
                          <a:pt x="0" y="0"/>
                        </a:moveTo>
                        <a:lnTo>
                          <a:pt x="84" y="36"/>
                        </a:lnTo>
                        <a:lnTo>
                          <a:pt x="93" y="116"/>
                        </a:lnTo>
                        <a:lnTo>
                          <a:pt x="197" y="157"/>
                        </a:lnTo>
                        <a:lnTo>
                          <a:pt x="330" y="185"/>
                        </a:lnTo>
                        <a:lnTo>
                          <a:pt x="404" y="221"/>
                        </a:lnTo>
                        <a:lnTo>
                          <a:pt x="395" y="253"/>
                        </a:lnTo>
                        <a:lnTo>
                          <a:pt x="375" y="301"/>
                        </a:lnTo>
                        <a:lnTo>
                          <a:pt x="350" y="352"/>
                        </a:lnTo>
                        <a:lnTo>
                          <a:pt x="326" y="395"/>
                        </a:lnTo>
                        <a:lnTo>
                          <a:pt x="301" y="432"/>
                        </a:lnTo>
                        <a:lnTo>
                          <a:pt x="274" y="480"/>
                        </a:lnTo>
                        <a:lnTo>
                          <a:pt x="226" y="532"/>
                        </a:lnTo>
                        <a:lnTo>
                          <a:pt x="185" y="580"/>
                        </a:lnTo>
                        <a:lnTo>
                          <a:pt x="57" y="161"/>
                        </a:lnTo>
                        <a:lnTo>
                          <a:pt x="5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130720" y="6246720"/>
                    <a:ext cx="30024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651">
                        <a:moveTo>
                          <a:pt x="565" y="651"/>
                        </a:moveTo>
                        <a:lnTo>
                          <a:pt x="314" y="651"/>
                        </a:lnTo>
                        <a:lnTo>
                          <a:pt x="206" y="651"/>
                        </a:lnTo>
                        <a:lnTo>
                          <a:pt x="206" y="529"/>
                        </a:lnTo>
                        <a:lnTo>
                          <a:pt x="157" y="374"/>
                        </a:lnTo>
                        <a:lnTo>
                          <a:pt x="100" y="218"/>
                        </a:lnTo>
                        <a:lnTo>
                          <a:pt x="109" y="125"/>
                        </a:lnTo>
                        <a:lnTo>
                          <a:pt x="36" y="73"/>
                        </a:lnTo>
                        <a:lnTo>
                          <a:pt x="0" y="0"/>
                        </a:lnTo>
                        <a:lnTo>
                          <a:pt x="68" y="41"/>
                        </a:lnTo>
                        <a:lnTo>
                          <a:pt x="140" y="78"/>
                        </a:lnTo>
                        <a:lnTo>
                          <a:pt x="220" y="94"/>
                        </a:lnTo>
                        <a:lnTo>
                          <a:pt x="258" y="105"/>
                        </a:lnTo>
                        <a:lnTo>
                          <a:pt x="293" y="105"/>
                        </a:lnTo>
                        <a:lnTo>
                          <a:pt x="344" y="94"/>
                        </a:lnTo>
                        <a:lnTo>
                          <a:pt x="380" y="76"/>
                        </a:lnTo>
                        <a:lnTo>
                          <a:pt x="382" y="178"/>
                        </a:lnTo>
                        <a:lnTo>
                          <a:pt x="435" y="242"/>
                        </a:lnTo>
                        <a:lnTo>
                          <a:pt x="513" y="489"/>
                        </a:lnTo>
                        <a:lnTo>
                          <a:pt x="565" y="651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086440" y="5878440"/>
                    <a:ext cx="315720" cy="424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803">
                        <a:moveTo>
                          <a:pt x="66" y="630"/>
                        </a:moveTo>
                        <a:lnTo>
                          <a:pt x="57" y="538"/>
                        </a:lnTo>
                        <a:lnTo>
                          <a:pt x="17" y="433"/>
                        </a:lnTo>
                        <a:lnTo>
                          <a:pt x="0" y="272"/>
                        </a:lnTo>
                        <a:lnTo>
                          <a:pt x="78" y="104"/>
                        </a:lnTo>
                        <a:lnTo>
                          <a:pt x="178" y="36"/>
                        </a:lnTo>
                        <a:lnTo>
                          <a:pt x="304" y="4"/>
                        </a:lnTo>
                        <a:lnTo>
                          <a:pt x="416" y="0"/>
                        </a:lnTo>
                        <a:lnTo>
                          <a:pt x="506" y="52"/>
                        </a:lnTo>
                        <a:lnTo>
                          <a:pt x="578" y="180"/>
                        </a:lnTo>
                        <a:lnTo>
                          <a:pt x="599" y="289"/>
                        </a:lnTo>
                        <a:lnTo>
                          <a:pt x="594" y="430"/>
                        </a:lnTo>
                        <a:lnTo>
                          <a:pt x="582" y="538"/>
                        </a:lnTo>
                        <a:lnTo>
                          <a:pt x="573" y="587"/>
                        </a:lnTo>
                        <a:lnTo>
                          <a:pt x="558" y="627"/>
                        </a:lnTo>
                        <a:lnTo>
                          <a:pt x="530" y="670"/>
                        </a:lnTo>
                        <a:lnTo>
                          <a:pt x="497" y="691"/>
                        </a:lnTo>
                        <a:lnTo>
                          <a:pt x="461" y="703"/>
                        </a:lnTo>
                        <a:lnTo>
                          <a:pt x="464" y="776"/>
                        </a:lnTo>
                        <a:lnTo>
                          <a:pt x="433" y="792"/>
                        </a:lnTo>
                        <a:lnTo>
                          <a:pt x="388" y="803"/>
                        </a:lnTo>
                        <a:lnTo>
                          <a:pt x="307" y="800"/>
                        </a:lnTo>
                        <a:lnTo>
                          <a:pt x="243" y="776"/>
                        </a:lnTo>
                        <a:lnTo>
                          <a:pt x="147" y="736"/>
                        </a:lnTo>
                        <a:lnTo>
                          <a:pt x="86" y="698"/>
                        </a:lnTo>
                        <a:lnTo>
                          <a:pt x="66" y="63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086440" y="6051600"/>
                    <a:ext cx="23472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554">
                        <a:moveTo>
                          <a:pt x="134" y="0"/>
                        </a:moveTo>
                        <a:lnTo>
                          <a:pt x="166" y="109"/>
                        </a:lnTo>
                        <a:lnTo>
                          <a:pt x="183" y="185"/>
                        </a:lnTo>
                        <a:lnTo>
                          <a:pt x="207" y="253"/>
                        </a:lnTo>
                        <a:lnTo>
                          <a:pt x="243" y="317"/>
                        </a:lnTo>
                        <a:lnTo>
                          <a:pt x="256" y="334"/>
                        </a:lnTo>
                        <a:lnTo>
                          <a:pt x="283" y="354"/>
                        </a:lnTo>
                        <a:lnTo>
                          <a:pt x="308" y="368"/>
                        </a:lnTo>
                        <a:lnTo>
                          <a:pt x="344" y="378"/>
                        </a:lnTo>
                        <a:lnTo>
                          <a:pt x="370" y="384"/>
                        </a:lnTo>
                        <a:lnTo>
                          <a:pt x="391" y="389"/>
                        </a:lnTo>
                        <a:lnTo>
                          <a:pt x="416" y="389"/>
                        </a:lnTo>
                        <a:lnTo>
                          <a:pt x="445" y="383"/>
                        </a:lnTo>
                        <a:lnTo>
                          <a:pt x="416" y="414"/>
                        </a:lnTo>
                        <a:lnTo>
                          <a:pt x="364" y="447"/>
                        </a:lnTo>
                        <a:lnTo>
                          <a:pt x="328" y="483"/>
                        </a:lnTo>
                        <a:lnTo>
                          <a:pt x="304" y="518"/>
                        </a:lnTo>
                        <a:lnTo>
                          <a:pt x="279" y="542"/>
                        </a:lnTo>
                        <a:lnTo>
                          <a:pt x="223" y="551"/>
                        </a:lnTo>
                        <a:lnTo>
                          <a:pt x="147" y="554"/>
                        </a:lnTo>
                        <a:lnTo>
                          <a:pt x="33" y="471"/>
                        </a:lnTo>
                        <a:lnTo>
                          <a:pt x="0" y="407"/>
                        </a:lnTo>
                        <a:lnTo>
                          <a:pt x="45" y="265"/>
                        </a:lnTo>
                        <a:lnTo>
                          <a:pt x="69" y="125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5216400" y="6006960"/>
                    <a:ext cx="182520" cy="166680"/>
                    <a:chOff x="5216400" y="6006960"/>
                    <a:chExt cx="182520" cy="16668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5280120" y="6157800"/>
                      <a:ext cx="777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31">
                          <a:moveTo>
                            <a:pt x="0" y="10"/>
                          </a:moveTo>
                          <a:lnTo>
                            <a:pt x="14" y="4"/>
                          </a:lnTo>
                          <a:lnTo>
                            <a:pt x="36" y="1"/>
                          </a:lnTo>
                          <a:lnTo>
                            <a:pt x="57" y="4"/>
                          </a:lnTo>
                          <a:lnTo>
                            <a:pt x="77" y="4"/>
                          </a:lnTo>
                          <a:lnTo>
                            <a:pt x="100" y="0"/>
                          </a:lnTo>
                          <a:lnTo>
                            <a:pt x="117" y="1"/>
                          </a:lnTo>
                          <a:lnTo>
                            <a:pt x="133" y="1"/>
                          </a:lnTo>
                          <a:lnTo>
                            <a:pt x="147" y="10"/>
                          </a:lnTo>
                          <a:lnTo>
                            <a:pt x="124" y="22"/>
                          </a:lnTo>
                          <a:lnTo>
                            <a:pt x="86" y="31"/>
                          </a:lnTo>
                          <a:lnTo>
                            <a:pt x="41" y="31"/>
                          </a:lnTo>
                          <a:lnTo>
                            <a:pt x="17" y="22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5281560" y="6116760"/>
                      <a:ext cx="651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33">
                          <a:moveTo>
                            <a:pt x="27" y="6"/>
                          </a:moveTo>
                          <a:lnTo>
                            <a:pt x="8" y="0"/>
                          </a:lnTo>
                          <a:lnTo>
                            <a:pt x="3" y="0"/>
                          </a:lnTo>
                          <a:lnTo>
                            <a:pt x="0" y="8"/>
                          </a:lnTo>
                          <a:lnTo>
                            <a:pt x="0" y="15"/>
                          </a:lnTo>
                          <a:lnTo>
                            <a:pt x="11" y="21"/>
                          </a:lnTo>
                          <a:lnTo>
                            <a:pt x="27" y="22"/>
                          </a:lnTo>
                          <a:lnTo>
                            <a:pt x="45" y="24"/>
                          </a:lnTo>
                          <a:lnTo>
                            <a:pt x="60" y="30"/>
                          </a:lnTo>
                          <a:lnTo>
                            <a:pt x="78" y="33"/>
                          </a:lnTo>
                          <a:lnTo>
                            <a:pt x="95" y="33"/>
                          </a:lnTo>
                          <a:lnTo>
                            <a:pt x="108" y="28"/>
                          </a:lnTo>
                          <a:lnTo>
                            <a:pt x="115" y="20"/>
                          </a:lnTo>
                          <a:lnTo>
                            <a:pt x="121" y="8"/>
                          </a:lnTo>
                          <a:lnTo>
                            <a:pt x="108" y="11"/>
                          </a:lnTo>
                          <a:lnTo>
                            <a:pt x="99" y="17"/>
                          </a:lnTo>
                          <a:lnTo>
                            <a:pt x="93" y="15"/>
                          </a:lnTo>
                          <a:lnTo>
                            <a:pt x="80" y="11"/>
                          </a:lnTo>
                          <a:lnTo>
                            <a:pt x="68" y="6"/>
                          </a:lnTo>
                          <a:lnTo>
                            <a:pt x="59" y="3"/>
                          </a:lnTo>
                          <a:lnTo>
                            <a:pt x="42" y="8"/>
                          </a:lnTo>
                          <a:lnTo>
                            <a:pt x="27" y="6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5216400" y="6006960"/>
                      <a:ext cx="1033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98">
                          <a:moveTo>
                            <a:pt x="0" y="35"/>
                          </a:moveTo>
                          <a:lnTo>
                            <a:pt x="24" y="16"/>
                          </a:lnTo>
                          <a:lnTo>
                            <a:pt x="54" y="6"/>
                          </a:lnTo>
                          <a:lnTo>
                            <a:pt x="86" y="0"/>
                          </a:lnTo>
                          <a:lnTo>
                            <a:pt x="124" y="3"/>
                          </a:lnTo>
                          <a:lnTo>
                            <a:pt x="149" y="16"/>
                          </a:lnTo>
                          <a:lnTo>
                            <a:pt x="170" y="41"/>
                          </a:lnTo>
                          <a:lnTo>
                            <a:pt x="181" y="95"/>
                          </a:lnTo>
                          <a:lnTo>
                            <a:pt x="191" y="146"/>
                          </a:lnTo>
                          <a:lnTo>
                            <a:pt x="197" y="198"/>
                          </a:lnTo>
                          <a:lnTo>
                            <a:pt x="178" y="187"/>
                          </a:lnTo>
                          <a:lnTo>
                            <a:pt x="158" y="180"/>
                          </a:lnTo>
                          <a:lnTo>
                            <a:pt x="133" y="189"/>
                          </a:lnTo>
                          <a:lnTo>
                            <a:pt x="146" y="134"/>
                          </a:lnTo>
                          <a:lnTo>
                            <a:pt x="157" y="82"/>
                          </a:lnTo>
                          <a:lnTo>
                            <a:pt x="154" y="53"/>
                          </a:lnTo>
                          <a:lnTo>
                            <a:pt x="131" y="28"/>
                          </a:lnTo>
                          <a:lnTo>
                            <a:pt x="73" y="22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5316480" y="6010200"/>
                      <a:ext cx="824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37">
                          <a:moveTo>
                            <a:pt x="0" y="37"/>
                          </a:moveTo>
                          <a:lnTo>
                            <a:pt x="31" y="10"/>
                          </a:lnTo>
                          <a:lnTo>
                            <a:pt x="60" y="0"/>
                          </a:lnTo>
                          <a:lnTo>
                            <a:pt x="100" y="1"/>
                          </a:lnTo>
                          <a:lnTo>
                            <a:pt x="138" y="16"/>
                          </a:lnTo>
                          <a:lnTo>
                            <a:pt x="156" y="34"/>
                          </a:lnTo>
                          <a:lnTo>
                            <a:pt x="151" y="37"/>
                          </a:lnTo>
                          <a:lnTo>
                            <a:pt x="118" y="25"/>
                          </a:lnTo>
                          <a:lnTo>
                            <a:pt x="76" y="16"/>
                          </a:lnTo>
                          <a:lnTo>
                            <a:pt x="30" y="31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5238720" y="6031080"/>
                      <a:ext cx="475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30">
                          <a:moveTo>
                            <a:pt x="0" y="14"/>
                          </a:moveTo>
                          <a:lnTo>
                            <a:pt x="15" y="8"/>
                          </a:lnTo>
                          <a:lnTo>
                            <a:pt x="39" y="2"/>
                          </a:lnTo>
                          <a:lnTo>
                            <a:pt x="55" y="0"/>
                          </a:lnTo>
                          <a:lnTo>
                            <a:pt x="78" y="9"/>
                          </a:lnTo>
                          <a:lnTo>
                            <a:pt x="91" y="18"/>
                          </a:lnTo>
                          <a:lnTo>
                            <a:pt x="70" y="29"/>
                          </a:lnTo>
                          <a:lnTo>
                            <a:pt x="45" y="30"/>
                          </a:lnTo>
                          <a:lnTo>
                            <a:pt x="18" y="27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5332320" y="6031080"/>
                      <a:ext cx="4788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8">
                          <a:moveTo>
                            <a:pt x="91" y="13"/>
                          </a:moveTo>
                          <a:lnTo>
                            <a:pt x="77" y="7"/>
                          </a:lnTo>
                          <a:lnTo>
                            <a:pt x="52" y="0"/>
                          </a:lnTo>
                          <a:lnTo>
                            <a:pt x="35" y="0"/>
                          </a:lnTo>
                          <a:lnTo>
                            <a:pt x="13" y="10"/>
                          </a:lnTo>
                          <a:lnTo>
                            <a:pt x="0" y="18"/>
                          </a:lnTo>
                          <a:lnTo>
                            <a:pt x="22" y="27"/>
                          </a:lnTo>
                          <a:lnTo>
                            <a:pt x="46" y="28"/>
                          </a:lnTo>
                          <a:lnTo>
                            <a:pt x="71" y="25"/>
                          </a:lnTo>
                          <a:lnTo>
                            <a:pt x="91" y="13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6" name=""/>
                  <p:cNvSpPr/>
                  <p:nvPr/>
                </p:nvSpPr>
                <p:spPr>
                  <a:xfrm>
                    <a:off x="4986360" y="5850000"/>
                    <a:ext cx="47952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658">
                        <a:moveTo>
                          <a:pt x="452" y="16"/>
                        </a:moveTo>
                        <a:lnTo>
                          <a:pt x="354" y="24"/>
                        </a:lnTo>
                        <a:lnTo>
                          <a:pt x="274" y="64"/>
                        </a:lnTo>
                        <a:lnTo>
                          <a:pt x="176" y="132"/>
                        </a:lnTo>
                        <a:lnTo>
                          <a:pt x="117" y="241"/>
                        </a:lnTo>
                        <a:lnTo>
                          <a:pt x="76" y="317"/>
                        </a:lnTo>
                        <a:lnTo>
                          <a:pt x="24" y="374"/>
                        </a:lnTo>
                        <a:lnTo>
                          <a:pt x="0" y="417"/>
                        </a:lnTo>
                        <a:lnTo>
                          <a:pt x="31" y="482"/>
                        </a:lnTo>
                        <a:lnTo>
                          <a:pt x="75" y="523"/>
                        </a:lnTo>
                        <a:lnTo>
                          <a:pt x="145" y="554"/>
                        </a:lnTo>
                        <a:lnTo>
                          <a:pt x="226" y="587"/>
                        </a:lnTo>
                        <a:lnTo>
                          <a:pt x="257" y="618"/>
                        </a:lnTo>
                        <a:lnTo>
                          <a:pt x="342" y="658"/>
                        </a:lnTo>
                        <a:lnTo>
                          <a:pt x="383" y="639"/>
                        </a:lnTo>
                        <a:lnTo>
                          <a:pt x="362" y="445"/>
                        </a:lnTo>
                        <a:lnTo>
                          <a:pt x="387" y="289"/>
                        </a:lnTo>
                        <a:lnTo>
                          <a:pt x="431" y="184"/>
                        </a:lnTo>
                        <a:lnTo>
                          <a:pt x="507" y="120"/>
                        </a:lnTo>
                        <a:lnTo>
                          <a:pt x="556" y="104"/>
                        </a:lnTo>
                        <a:lnTo>
                          <a:pt x="613" y="109"/>
                        </a:lnTo>
                        <a:lnTo>
                          <a:pt x="668" y="132"/>
                        </a:lnTo>
                        <a:lnTo>
                          <a:pt x="725" y="173"/>
                        </a:lnTo>
                        <a:lnTo>
                          <a:pt x="748" y="208"/>
                        </a:lnTo>
                        <a:lnTo>
                          <a:pt x="770" y="253"/>
                        </a:lnTo>
                        <a:lnTo>
                          <a:pt x="776" y="298"/>
                        </a:lnTo>
                        <a:lnTo>
                          <a:pt x="766" y="333"/>
                        </a:lnTo>
                        <a:lnTo>
                          <a:pt x="766" y="374"/>
                        </a:lnTo>
                        <a:lnTo>
                          <a:pt x="782" y="457"/>
                        </a:lnTo>
                        <a:lnTo>
                          <a:pt x="770" y="506"/>
                        </a:lnTo>
                        <a:lnTo>
                          <a:pt x="770" y="563"/>
                        </a:lnTo>
                        <a:lnTo>
                          <a:pt x="839" y="570"/>
                        </a:lnTo>
                        <a:lnTo>
                          <a:pt x="882" y="549"/>
                        </a:lnTo>
                        <a:lnTo>
                          <a:pt x="906" y="502"/>
                        </a:lnTo>
                        <a:lnTo>
                          <a:pt x="891" y="414"/>
                        </a:lnTo>
                        <a:lnTo>
                          <a:pt x="851" y="329"/>
                        </a:lnTo>
                        <a:lnTo>
                          <a:pt x="790" y="237"/>
                        </a:lnTo>
                        <a:lnTo>
                          <a:pt x="758" y="161"/>
                        </a:lnTo>
                        <a:lnTo>
                          <a:pt x="718" y="100"/>
                        </a:lnTo>
                        <a:lnTo>
                          <a:pt x="680" y="68"/>
                        </a:lnTo>
                        <a:lnTo>
                          <a:pt x="628" y="36"/>
                        </a:lnTo>
                        <a:lnTo>
                          <a:pt x="516" y="0"/>
                        </a:lnTo>
                        <a:lnTo>
                          <a:pt x="452" y="16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4917960" y="6167520"/>
                    <a:ext cx="33048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803">
                        <a:moveTo>
                          <a:pt x="375" y="0"/>
                        </a:moveTo>
                        <a:lnTo>
                          <a:pt x="384" y="100"/>
                        </a:lnTo>
                        <a:lnTo>
                          <a:pt x="420" y="193"/>
                        </a:lnTo>
                        <a:lnTo>
                          <a:pt x="472" y="254"/>
                        </a:lnTo>
                        <a:lnTo>
                          <a:pt x="520" y="294"/>
                        </a:lnTo>
                        <a:lnTo>
                          <a:pt x="513" y="370"/>
                        </a:lnTo>
                        <a:lnTo>
                          <a:pt x="558" y="486"/>
                        </a:lnTo>
                        <a:lnTo>
                          <a:pt x="606" y="636"/>
                        </a:lnTo>
                        <a:lnTo>
                          <a:pt x="625" y="803"/>
                        </a:lnTo>
                        <a:lnTo>
                          <a:pt x="262" y="803"/>
                        </a:lnTo>
                        <a:lnTo>
                          <a:pt x="218" y="769"/>
                        </a:lnTo>
                        <a:lnTo>
                          <a:pt x="172" y="714"/>
                        </a:lnTo>
                        <a:lnTo>
                          <a:pt x="130" y="648"/>
                        </a:lnTo>
                        <a:lnTo>
                          <a:pt x="88" y="577"/>
                        </a:lnTo>
                        <a:lnTo>
                          <a:pt x="49" y="490"/>
                        </a:lnTo>
                        <a:lnTo>
                          <a:pt x="19" y="400"/>
                        </a:lnTo>
                        <a:lnTo>
                          <a:pt x="9" y="325"/>
                        </a:lnTo>
                        <a:lnTo>
                          <a:pt x="0" y="285"/>
                        </a:lnTo>
                        <a:lnTo>
                          <a:pt x="85" y="285"/>
                        </a:lnTo>
                        <a:lnTo>
                          <a:pt x="149" y="273"/>
                        </a:lnTo>
                        <a:lnTo>
                          <a:pt x="226" y="213"/>
                        </a:lnTo>
                        <a:lnTo>
                          <a:pt x="287" y="133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48" name=""/>
              <p:cNvSpPr/>
              <p:nvPr/>
            </p:nvSpPr>
            <p:spPr>
              <a:xfrm>
                <a:off x="4611600" y="6532560"/>
                <a:ext cx="1257480" cy="163440"/>
              </a:xfrm>
              <a:prstGeom prst="rect">
                <a:avLst/>
              </a:prstGeom>
              <a:solidFill>
                <a:srgbClr val="008000"/>
              </a:solidFill>
              <a:ln w="648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4575240" y="5546880"/>
              <a:ext cx="1330200" cy="968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3816360" y="5551560"/>
              <a:ext cx="482760" cy="452520"/>
              <a:chOff x="3816360" y="5551560"/>
              <a:chExt cx="482760" cy="452520"/>
            </a:xfrm>
          </p:grpSpPr>
          <p:sp>
            <p:nvSpPr>
              <p:cNvPr id="1051" name=""/>
              <p:cNvSpPr/>
              <p:nvPr/>
            </p:nvSpPr>
            <p:spPr>
              <a:xfrm>
                <a:off x="4118040" y="5589720"/>
                <a:ext cx="181080" cy="406440"/>
              </a:xfrm>
              <a:custGeom>
                <a:avLst/>
                <a:gdLst/>
                <a:ahLst/>
                <a:rect l="l" t="t" r="r" b="b"/>
                <a:pathLst>
                  <a:path w="344" h="766">
                    <a:moveTo>
                      <a:pt x="36" y="324"/>
                    </a:moveTo>
                    <a:lnTo>
                      <a:pt x="21" y="274"/>
                    </a:lnTo>
                    <a:lnTo>
                      <a:pt x="8" y="219"/>
                    </a:lnTo>
                    <a:lnTo>
                      <a:pt x="0" y="151"/>
                    </a:lnTo>
                    <a:lnTo>
                      <a:pt x="17" y="79"/>
                    </a:lnTo>
                    <a:lnTo>
                      <a:pt x="47" y="0"/>
                    </a:lnTo>
                    <a:lnTo>
                      <a:pt x="88" y="72"/>
                    </a:lnTo>
                    <a:lnTo>
                      <a:pt x="112" y="127"/>
                    </a:lnTo>
                    <a:lnTo>
                      <a:pt x="121" y="195"/>
                    </a:lnTo>
                    <a:lnTo>
                      <a:pt x="115" y="270"/>
                    </a:lnTo>
                    <a:lnTo>
                      <a:pt x="105" y="328"/>
                    </a:lnTo>
                    <a:lnTo>
                      <a:pt x="91" y="364"/>
                    </a:lnTo>
                    <a:lnTo>
                      <a:pt x="118" y="328"/>
                    </a:lnTo>
                    <a:lnTo>
                      <a:pt x="163" y="283"/>
                    </a:lnTo>
                    <a:lnTo>
                      <a:pt x="208" y="257"/>
                    </a:lnTo>
                    <a:lnTo>
                      <a:pt x="247" y="236"/>
                    </a:lnTo>
                    <a:lnTo>
                      <a:pt x="301" y="225"/>
                    </a:lnTo>
                    <a:lnTo>
                      <a:pt x="344" y="218"/>
                    </a:lnTo>
                    <a:lnTo>
                      <a:pt x="325" y="268"/>
                    </a:lnTo>
                    <a:lnTo>
                      <a:pt x="304" y="325"/>
                    </a:lnTo>
                    <a:lnTo>
                      <a:pt x="260" y="371"/>
                    </a:lnTo>
                    <a:lnTo>
                      <a:pt x="224" y="398"/>
                    </a:lnTo>
                    <a:lnTo>
                      <a:pt x="163" y="417"/>
                    </a:lnTo>
                    <a:lnTo>
                      <a:pt x="108" y="423"/>
                    </a:lnTo>
                    <a:lnTo>
                      <a:pt x="171" y="455"/>
                    </a:lnTo>
                    <a:lnTo>
                      <a:pt x="214" y="486"/>
                    </a:lnTo>
                    <a:lnTo>
                      <a:pt x="235" y="519"/>
                    </a:lnTo>
                    <a:lnTo>
                      <a:pt x="256" y="556"/>
                    </a:lnTo>
                    <a:lnTo>
                      <a:pt x="259" y="590"/>
                    </a:lnTo>
                    <a:lnTo>
                      <a:pt x="269" y="644"/>
                    </a:lnTo>
                    <a:lnTo>
                      <a:pt x="195" y="618"/>
                    </a:lnTo>
                    <a:lnTo>
                      <a:pt x="148" y="587"/>
                    </a:lnTo>
                    <a:lnTo>
                      <a:pt x="124" y="553"/>
                    </a:lnTo>
                    <a:lnTo>
                      <a:pt x="88" y="484"/>
                    </a:lnTo>
                    <a:lnTo>
                      <a:pt x="118" y="548"/>
                    </a:lnTo>
                    <a:lnTo>
                      <a:pt x="129" y="614"/>
                    </a:lnTo>
                    <a:lnTo>
                      <a:pt x="135" y="659"/>
                    </a:lnTo>
                    <a:lnTo>
                      <a:pt x="127" y="720"/>
                    </a:lnTo>
                    <a:lnTo>
                      <a:pt x="126" y="766"/>
                    </a:lnTo>
                    <a:lnTo>
                      <a:pt x="60" y="708"/>
                    </a:lnTo>
                    <a:lnTo>
                      <a:pt x="27" y="633"/>
                    </a:lnTo>
                    <a:lnTo>
                      <a:pt x="15" y="553"/>
                    </a:lnTo>
                    <a:lnTo>
                      <a:pt x="35" y="471"/>
                    </a:lnTo>
                    <a:lnTo>
                      <a:pt x="35" y="405"/>
                    </a:lnTo>
                    <a:lnTo>
                      <a:pt x="36" y="368"/>
                    </a:lnTo>
                    <a:lnTo>
                      <a:pt x="36" y="324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816360" y="5551560"/>
                <a:ext cx="130320" cy="183960"/>
              </a:xfrm>
              <a:custGeom>
                <a:avLst/>
                <a:gdLst/>
                <a:ahLst/>
                <a:rect l="l" t="t" r="r" b="b"/>
                <a:pathLst>
                  <a:path w="247" h="348">
                    <a:moveTo>
                      <a:pt x="99" y="313"/>
                    </a:moveTo>
                    <a:lnTo>
                      <a:pt x="56" y="280"/>
                    </a:lnTo>
                    <a:lnTo>
                      <a:pt x="33" y="249"/>
                    </a:lnTo>
                    <a:lnTo>
                      <a:pt x="14" y="211"/>
                    </a:lnTo>
                    <a:lnTo>
                      <a:pt x="11" y="177"/>
                    </a:lnTo>
                    <a:lnTo>
                      <a:pt x="0" y="124"/>
                    </a:lnTo>
                    <a:lnTo>
                      <a:pt x="74" y="147"/>
                    </a:lnTo>
                    <a:lnTo>
                      <a:pt x="122" y="180"/>
                    </a:lnTo>
                    <a:lnTo>
                      <a:pt x="145" y="213"/>
                    </a:lnTo>
                    <a:lnTo>
                      <a:pt x="181" y="281"/>
                    </a:lnTo>
                    <a:lnTo>
                      <a:pt x="151" y="219"/>
                    </a:lnTo>
                    <a:lnTo>
                      <a:pt x="139" y="153"/>
                    </a:lnTo>
                    <a:lnTo>
                      <a:pt x="135" y="107"/>
                    </a:lnTo>
                    <a:lnTo>
                      <a:pt x="142" y="48"/>
                    </a:lnTo>
                    <a:lnTo>
                      <a:pt x="144" y="0"/>
                    </a:lnTo>
                    <a:lnTo>
                      <a:pt x="205" y="64"/>
                    </a:lnTo>
                    <a:lnTo>
                      <a:pt x="238" y="132"/>
                    </a:lnTo>
                    <a:lnTo>
                      <a:pt x="246" y="213"/>
                    </a:lnTo>
                    <a:lnTo>
                      <a:pt x="247" y="344"/>
                    </a:lnTo>
                    <a:lnTo>
                      <a:pt x="174" y="348"/>
                    </a:lnTo>
                    <a:lnTo>
                      <a:pt x="99" y="313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863880" y="5594400"/>
                <a:ext cx="273240" cy="40968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921120" y="5661000"/>
                <a:ext cx="158760" cy="233280"/>
              </a:xfrm>
              <a:custGeom>
                <a:avLst/>
                <a:gdLst/>
                <a:ahLst/>
                <a:rect l="l" t="t" r="r" b="b"/>
                <a:pathLst>
                  <a:path w="299" h="441">
                    <a:moveTo>
                      <a:pt x="11" y="44"/>
                    </a:moveTo>
                    <a:lnTo>
                      <a:pt x="30" y="44"/>
                    </a:lnTo>
                    <a:lnTo>
                      <a:pt x="56" y="39"/>
                    </a:lnTo>
                    <a:lnTo>
                      <a:pt x="74" y="27"/>
                    </a:lnTo>
                    <a:lnTo>
                      <a:pt x="87" y="17"/>
                    </a:lnTo>
                    <a:lnTo>
                      <a:pt x="101" y="0"/>
                    </a:lnTo>
                    <a:lnTo>
                      <a:pt x="237" y="0"/>
                    </a:lnTo>
                    <a:lnTo>
                      <a:pt x="237" y="368"/>
                    </a:lnTo>
                    <a:lnTo>
                      <a:pt x="244" y="391"/>
                    </a:lnTo>
                    <a:lnTo>
                      <a:pt x="256" y="407"/>
                    </a:lnTo>
                    <a:lnTo>
                      <a:pt x="280" y="419"/>
                    </a:lnTo>
                    <a:lnTo>
                      <a:pt x="299" y="419"/>
                    </a:lnTo>
                    <a:lnTo>
                      <a:pt x="299" y="441"/>
                    </a:lnTo>
                    <a:lnTo>
                      <a:pt x="0" y="441"/>
                    </a:lnTo>
                    <a:lnTo>
                      <a:pt x="0" y="419"/>
                    </a:lnTo>
                    <a:lnTo>
                      <a:pt x="18" y="419"/>
                    </a:lnTo>
                    <a:lnTo>
                      <a:pt x="44" y="407"/>
                    </a:lnTo>
                    <a:lnTo>
                      <a:pt x="56" y="391"/>
                    </a:lnTo>
                    <a:lnTo>
                      <a:pt x="62" y="368"/>
                    </a:lnTo>
                    <a:lnTo>
                      <a:pt x="62" y="94"/>
                    </a:lnTo>
                    <a:lnTo>
                      <a:pt x="56" y="78"/>
                    </a:lnTo>
                    <a:lnTo>
                      <a:pt x="44" y="66"/>
                    </a:lnTo>
                    <a:lnTo>
                      <a:pt x="24" y="60"/>
                    </a:lnTo>
                    <a:lnTo>
                      <a:pt x="11" y="60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bfffbf"/>
              </a:solidFill>
              <a:ln w="1260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184800" y="5551560"/>
              <a:ext cx="484200" cy="452520"/>
              <a:chOff x="6184800" y="5551560"/>
              <a:chExt cx="484200" cy="4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6184800" y="5589720"/>
                <a:ext cx="181080" cy="406440"/>
              </a:xfrm>
              <a:custGeom>
                <a:avLst/>
                <a:gdLst/>
                <a:ahLst/>
                <a:rect l="l" t="t" r="r" b="b"/>
                <a:pathLst>
                  <a:path w="344" h="766">
                    <a:moveTo>
                      <a:pt x="308" y="324"/>
                    </a:moveTo>
                    <a:lnTo>
                      <a:pt x="324" y="274"/>
                    </a:lnTo>
                    <a:lnTo>
                      <a:pt x="336" y="219"/>
                    </a:lnTo>
                    <a:lnTo>
                      <a:pt x="344" y="151"/>
                    </a:lnTo>
                    <a:lnTo>
                      <a:pt x="329" y="79"/>
                    </a:lnTo>
                    <a:lnTo>
                      <a:pt x="299" y="0"/>
                    </a:lnTo>
                    <a:lnTo>
                      <a:pt x="257" y="72"/>
                    </a:lnTo>
                    <a:lnTo>
                      <a:pt x="233" y="127"/>
                    </a:lnTo>
                    <a:lnTo>
                      <a:pt x="224" y="195"/>
                    </a:lnTo>
                    <a:lnTo>
                      <a:pt x="229" y="270"/>
                    </a:lnTo>
                    <a:lnTo>
                      <a:pt x="239" y="328"/>
                    </a:lnTo>
                    <a:lnTo>
                      <a:pt x="253" y="364"/>
                    </a:lnTo>
                    <a:lnTo>
                      <a:pt x="226" y="328"/>
                    </a:lnTo>
                    <a:lnTo>
                      <a:pt x="182" y="283"/>
                    </a:lnTo>
                    <a:lnTo>
                      <a:pt x="136" y="257"/>
                    </a:lnTo>
                    <a:lnTo>
                      <a:pt x="97" y="236"/>
                    </a:lnTo>
                    <a:lnTo>
                      <a:pt x="43" y="225"/>
                    </a:lnTo>
                    <a:lnTo>
                      <a:pt x="0" y="218"/>
                    </a:lnTo>
                    <a:lnTo>
                      <a:pt x="21" y="268"/>
                    </a:lnTo>
                    <a:lnTo>
                      <a:pt x="40" y="325"/>
                    </a:lnTo>
                    <a:lnTo>
                      <a:pt x="84" y="371"/>
                    </a:lnTo>
                    <a:lnTo>
                      <a:pt x="120" y="398"/>
                    </a:lnTo>
                    <a:lnTo>
                      <a:pt x="182" y="417"/>
                    </a:lnTo>
                    <a:lnTo>
                      <a:pt x="238" y="423"/>
                    </a:lnTo>
                    <a:lnTo>
                      <a:pt x="173" y="455"/>
                    </a:lnTo>
                    <a:lnTo>
                      <a:pt x="132" y="486"/>
                    </a:lnTo>
                    <a:lnTo>
                      <a:pt x="109" y="519"/>
                    </a:lnTo>
                    <a:lnTo>
                      <a:pt x="90" y="556"/>
                    </a:lnTo>
                    <a:lnTo>
                      <a:pt x="87" y="590"/>
                    </a:lnTo>
                    <a:lnTo>
                      <a:pt x="76" y="644"/>
                    </a:lnTo>
                    <a:lnTo>
                      <a:pt x="150" y="618"/>
                    </a:lnTo>
                    <a:lnTo>
                      <a:pt x="197" y="587"/>
                    </a:lnTo>
                    <a:lnTo>
                      <a:pt x="221" y="553"/>
                    </a:lnTo>
                    <a:lnTo>
                      <a:pt x="257" y="484"/>
                    </a:lnTo>
                    <a:lnTo>
                      <a:pt x="226" y="548"/>
                    </a:lnTo>
                    <a:lnTo>
                      <a:pt x="215" y="614"/>
                    </a:lnTo>
                    <a:lnTo>
                      <a:pt x="211" y="659"/>
                    </a:lnTo>
                    <a:lnTo>
                      <a:pt x="218" y="720"/>
                    </a:lnTo>
                    <a:lnTo>
                      <a:pt x="220" y="766"/>
                    </a:lnTo>
                    <a:lnTo>
                      <a:pt x="286" y="708"/>
                    </a:lnTo>
                    <a:lnTo>
                      <a:pt x="318" y="633"/>
                    </a:lnTo>
                    <a:lnTo>
                      <a:pt x="330" y="553"/>
                    </a:lnTo>
                    <a:lnTo>
                      <a:pt x="311" y="471"/>
                    </a:lnTo>
                    <a:lnTo>
                      <a:pt x="310" y="405"/>
                    </a:lnTo>
                    <a:lnTo>
                      <a:pt x="308" y="368"/>
                    </a:lnTo>
                    <a:lnTo>
                      <a:pt x="308" y="324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537240" y="5551560"/>
                <a:ext cx="131760" cy="183960"/>
              </a:xfrm>
              <a:custGeom>
                <a:avLst/>
                <a:gdLst/>
                <a:ahLst/>
                <a:rect l="l" t="t" r="r" b="b"/>
                <a:pathLst>
                  <a:path w="248" h="348">
                    <a:moveTo>
                      <a:pt x="149" y="313"/>
                    </a:moveTo>
                    <a:lnTo>
                      <a:pt x="193" y="280"/>
                    </a:lnTo>
                    <a:lnTo>
                      <a:pt x="214" y="249"/>
                    </a:lnTo>
                    <a:lnTo>
                      <a:pt x="235" y="211"/>
                    </a:lnTo>
                    <a:lnTo>
                      <a:pt x="236" y="177"/>
                    </a:lnTo>
                    <a:lnTo>
                      <a:pt x="248" y="124"/>
                    </a:lnTo>
                    <a:lnTo>
                      <a:pt x="173" y="147"/>
                    </a:lnTo>
                    <a:lnTo>
                      <a:pt x="127" y="180"/>
                    </a:lnTo>
                    <a:lnTo>
                      <a:pt x="103" y="213"/>
                    </a:lnTo>
                    <a:lnTo>
                      <a:pt x="66" y="281"/>
                    </a:lnTo>
                    <a:lnTo>
                      <a:pt x="97" y="219"/>
                    </a:lnTo>
                    <a:lnTo>
                      <a:pt x="108" y="153"/>
                    </a:lnTo>
                    <a:lnTo>
                      <a:pt x="114" y="107"/>
                    </a:lnTo>
                    <a:lnTo>
                      <a:pt x="105" y="48"/>
                    </a:lnTo>
                    <a:lnTo>
                      <a:pt x="103" y="0"/>
                    </a:lnTo>
                    <a:lnTo>
                      <a:pt x="42" y="64"/>
                    </a:lnTo>
                    <a:lnTo>
                      <a:pt x="10" y="132"/>
                    </a:lnTo>
                    <a:lnTo>
                      <a:pt x="1" y="213"/>
                    </a:lnTo>
                    <a:lnTo>
                      <a:pt x="0" y="344"/>
                    </a:lnTo>
                    <a:lnTo>
                      <a:pt x="75" y="348"/>
                    </a:lnTo>
                    <a:lnTo>
                      <a:pt x="149" y="313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346800" y="5594400"/>
                <a:ext cx="273240" cy="409680"/>
              </a:xfrm>
              <a:prstGeom prst="ellipse">
                <a:avLst/>
              </a:prstGeom>
              <a:solidFill>
                <a:srgbClr val="008000"/>
              </a:solidFill>
              <a:ln w="1260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05480" y="5661000"/>
                <a:ext cx="157320" cy="233280"/>
              </a:xfrm>
              <a:custGeom>
                <a:avLst/>
                <a:gdLst/>
                <a:ahLst/>
                <a:rect l="l" t="t" r="r" b="b"/>
                <a:pathLst>
                  <a:path w="299" h="441">
                    <a:moveTo>
                      <a:pt x="11" y="44"/>
                    </a:moveTo>
                    <a:lnTo>
                      <a:pt x="30" y="44"/>
                    </a:lnTo>
                    <a:lnTo>
                      <a:pt x="56" y="39"/>
                    </a:lnTo>
                    <a:lnTo>
                      <a:pt x="73" y="27"/>
                    </a:lnTo>
                    <a:lnTo>
                      <a:pt x="87" y="17"/>
                    </a:lnTo>
                    <a:lnTo>
                      <a:pt x="100" y="0"/>
                    </a:lnTo>
                    <a:lnTo>
                      <a:pt x="236" y="0"/>
                    </a:lnTo>
                    <a:lnTo>
                      <a:pt x="236" y="368"/>
                    </a:lnTo>
                    <a:lnTo>
                      <a:pt x="244" y="391"/>
                    </a:lnTo>
                    <a:lnTo>
                      <a:pt x="256" y="407"/>
                    </a:lnTo>
                    <a:lnTo>
                      <a:pt x="280" y="419"/>
                    </a:lnTo>
                    <a:lnTo>
                      <a:pt x="299" y="419"/>
                    </a:lnTo>
                    <a:lnTo>
                      <a:pt x="299" y="441"/>
                    </a:lnTo>
                    <a:lnTo>
                      <a:pt x="0" y="441"/>
                    </a:lnTo>
                    <a:lnTo>
                      <a:pt x="0" y="419"/>
                    </a:lnTo>
                    <a:lnTo>
                      <a:pt x="18" y="419"/>
                    </a:lnTo>
                    <a:lnTo>
                      <a:pt x="44" y="407"/>
                    </a:lnTo>
                    <a:lnTo>
                      <a:pt x="56" y="391"/>
                    </a:lnTo>
                    <a:lnTo>
                      <a:pt x="61" y="368"/>
                    </a:lnTo>
                    <a:lnTo>
                      <a:pt x="61" y="94"/>
                    </a:lnTo>
                    <a:lnTo>
                      <a:pt x="56" y="78"/>
                    </a:lnTo>
                    <a:lnTo>
                      <a:pt x="44" y="66"/>
                    </a:lnTo>
                    <a:lnTo>
                      <a:pt x="24" y="60"/>
                    </a:lnTo>
                    <a:lnTo>
                      <a:pt x="11" y="60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bfffbf"/>
              </a:solidFill>
              <a:ln w="1260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821040" y="6377040"/>
              <a:ext cx="258840" cy="2998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852720" y="6410160"/>
              <a:ext cx="196920" cy="2336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00600" y="6453360"/>
              <a:ext cx="100080" cy="147600"/>
            </a:xfrm>
            <a:custGeom>
              <a:avLst/>
              <a:gdLst/>
              <a:ahLst/>
              <a:rect l="l" t="t" r="r" b="b"/>
              <a:pathLst>
                <a:path w="190" h="281">
                  <a:moveTo>
                    <a:pt x="6" y="29"/>
                  </a:moveTo>
                  <a:lnTo>
                    <a:pt x="20" y="29"/>
                  </a:lnTo>
                  <a:lnTo>
                    <a:pt x="35" y="25"/>
                  </a:lnTo>
                  <a:lnTo>
                    <a:pt x="47" y="17"/>
                  </a:lnTo>
                  <a:lnTo>
                    <a:pt x="54" y="10"/>
                  </a:lnTo>
                  <a:lnTo>
                    <a:pt x="63" y="0"/>
                  </a:lnTo>
                  <a:lnTo>
                    <a:pt x="151" y="0"/>
                  </a:lnTo>
                  <a:lnTo>
                    <a:pt x="151" y="236"/>
                  </a:lnTo>
                  <a:lnTo>
                    <a:pt x="154" y="250"/>
                  </a:lnTo>
                  <a:lnTo>
                    <a:pt x="163" y="260"/>
                  </a:lnTo>
                  <a:lnTo>
                    <a:pt x="178" y="268"/>
                  </a:lnTo>
                  <a:lnTo>
                    <a:pt x="190" y="268"/>
                  </a:lnTo>
                  <a:lnTo>
                    <a:pt x="190" y="281"/>
                  </a:lnTo>
                  <a:lnTo>
                    <a:pt x="0" y="281"/>
                  </a:lnTo>
                  <a:lnTo>
                    <a:pt x="0" y="268"/>
                  </a:lnTo>
                  <a:lnTo>
                    <a:pt x="11" y="268"/>
                  </a:lnTo>
                  <a:lnTo>
                    <a:pt x="27" y="260"/>
                  </a:lnTo>
                  <a:lnTo>
                    <a:pt x="35" y="250"/>
                  </a:lnTo>
                  <a:lnTo>
                    <a:pt x="39" y="236"/>
                  </a:lnTo>
                  <a:lnTo>
                    <a:pt x="39" y="61"/>
                  </a:lnTo>
                  <a:lnTo>
                    <a:pt x="35" y="50"/>
                  </a:lnTo>
                  <a:lnTo>
                    <a:pt x="27" y="43"/>
                  </a:lnTo>
                  <a:lnTo>
                    <a:pt x="15" y="38"/>
                  </a:lnTo>
                  <a:lnTo>
                    <a:pt x="6" y="38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bfffbf"/>
            </a:solidFill>
            <a:ln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18440" y="6381720"/>
              <a:ext cx="258480" cy="301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48320" y="6416640"/>
              <a:ext cx="198720" cy="2332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97640" y="6458040"/>
              <a:ext cx="100080" cy="149040"/>
            </a:xfrm>
            <a:custGeom>
              <a:avLst/>
              <a:gdLst/>
              <a:ahLst/>
              <a:rect l="l" t="t" r="r" b="b"/>
              <a:pathLst>
                <a:path w="190" h="280">
                  <a:moveTo>
                    <a:pt x="6" y="29"/>
                  </a:moveTo>
                  <a:lnTo>
                    <a:pt x="19" y="29"/>
                  </a:lnTo>
                  <a:lnTo>
                    <a:pt x="34" y="26"/>
                  </a:lnTo>
                  <a:lnTo>
                    <a:pt x="46" y="17"/>
                  </a:lnTo>
                  <a:lnTo>
                    <a:pt x="53" y="11"/>
                  </a:lnTo>
                  <a:lnTo>
                    <a:pt x="62" y="0"/>
                  </a:lnTo>
                  <a:lnTo>
                    <a:pt x="151" y="0"/>
                  </a:lnTo>
                  <a:lnTo>
                    <a:pt x="151" y="236"/>
                  </a:lnTo>
                  <a:lnTo>
                    <a:pt x="154" y="251"/>
                  </a:lnTo>
                  <a:lnTo>
                    <a:pt x="163" y="260"/>
                  </a:lnTo>
                  <a:lnTo>
                    <a:pt x="179" y="267"/>
                  </a:lnTo>
                  <a:lnTo>
                    <a:pt x="190" y="267"/>
                  </a:lnTo>
                  <a:lnTo>
                    <a:pt x="190" y="280"/>
                  </a:lnTo>
                  <a:lnTo>
                    <a:pt x="0" y="280"/>
                  </a:lnTo>
                  <a:lnTo>
                    <a:pt x="0" y="267"/>
                  </a:lnTo>
                  <a:lnTo>
                    <a:pt x="10" y="267"/>
                  </a:lnTo>
                  <a:lnTo>
                    <a:pt x="27" y="260"/>
                  </a:lnTo>
                  <a:lnTo>
                    <a:pt x="34" y="251"/>
                  </a:lnTo>
                  <a:lnTo>
                    <a:pt x="39" y="236"/>
                  </a:lnTo>
                  <a:lnTo>
                    <a:pt x="39" y="60"/>
                  </a:lnTo>
                  <a:lnTo>
                    <a:pt x="34" y="51"/>
                  </a:lnTo>
                  <a:lnTo>
                    <a:pt x="27" y="42"/>
                  </a:lnTo>
                  <a:lnTo>
                    <a:pt x="15" y="39"/>
                  </a:lnTo>
                  <a:lnTo>
                    <a:pt x="6" y="3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bfffbf"/>
            </a:solidFill>
            <a:ln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4368960" y="5985000"/>
              <a:ext cx="274320" cy="271440"/>
              <a:chOff x="4368960" y="5985000"/>
              <a:chExt cx="274320" cy="271440"/>
            </a:xfrm>
          </p:grpSpPr>
          <p:sp>
            <p:nvSpPr>
              <p:cNvPr id="1067" name=""/>
              <p:cNvSpPr/>
              <p:nvPr/>
            </p:nvSpPr>
            <p:spPr>
              <a:xfrm>
                <a:off x="4368960" y="5985000"/>
                <a:ext cx="274320" cy="271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422600" y="6039000"/>
                <a:ext cx="165240" cy="163440"/>
              </a:xfrm>
              <a:prstGeom prst="ellipse">
                <a:avLst/>
              </a:prstGeom>
              <a:solidFill>
                <a:srgbClr val="9fff9f"/>
              </a:solidFill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837400" y="6018120"/>
              <a:ext cx="274320" cy="273240"/>
              <a:chOff x="5837400" y="6018120"/>
              <a:chExt cx="274320" cy="273240"/>
            </a:xfrm>
          </p:grpSpPr>
          <p:sp>
            <p:nvSpPr>
              <p:cNvPr id="1070" name=""/>
              <p:cNvSpPr/>
              <p:nvPr/>
            </p:nvSpPr>
            <p:spPr>
              <a:xfrm>
                <a:off x="5837400" y="6018120"/>
                <a:ext cx="274320" cy="2732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91040" y="6072120"/>
                <a:ext cx="165240" cy="163440"/>
              </a:xfrm>
              <a:prstGeom prst="ellipse">
                <a:avLst/>
              </a:prstGeom>
              <a:solidFill>
                <a:srgbClr val="bfffbf"/>
              </a:solidFill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687920" y="6561000"/>
              <a:ext cx="1095480" cy="112680"/>
              <a:chOff x="4687920" y="6561000"/>
              <a:chExt cx="1095480" cy="11268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5670720" y="6561000"/>
                <a:ext cx="112680" cy="108000"/>
                <a:chOff x="5670720" y="6561000"/>
                <a:chExt cx="112680" cy="10800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5670720" y="6561000"/>
                  <a:ext cx="112680" cy="108000"/>
                </a:xfrm>
                <a:custGeom>
                  <a:avLst/>
                  <a:gdLst/>
                  <a:ahLst/>
                  <a:rect l="l" t="t" r="r" b="b"/>
                  <a:pathLst>
                    <a:path w="212" h="205">
                      <a:moveTo>
                        <a:pt x="0" y="0"/>
                      </a:moveTo>
                      <a:lnTo>
                        <a:pt x="143" y="0"/>
                      </a:lnTo>
                      <a:lnTo>
                        <a:pt x="167" y="7"/>
                      </a:lnTo>
                      <a:lnTo>
                        <a:pt x="182" y="19"/>
                      </a:lnTo>
                      <a:lnTo>
                        <a:pt x="189" y="40"/>
                      </a:lnTo>
                      <a:lnTo>
                        <a:pt x="189" y="77"/>
                      </a:lnTo>
                      <a:lnTo>
                        <a:pt x="179" y="98"/>
                      </a:lnTo>
                      <a:lnTo>
                        <a:pt x="163" y="110"/>
                      </a:lnTo>
                      <a:lnTo>
                        <a:pt x="143" y="114"/>
                      </a:lnTo>
                      <a:lnTo>
                        <a:pt x="163" y="123"/>
                      </a:lnTo>
                      <a:lnTo>
                        <a:pt x="179" y="134"/>
                      </a:lnTo>
                      <a:lnTo>
                        <a:pt x="189" y="154"/>
                      </a:lnTo>
                      <a:lnTo>
                        <a:pt x="197" y="174"/>
                      </a:lnTo>
                      <a:lnTo>
                        <a:pt x="200" y="192"/>
                      </a:lnTo>
                      <a:lnTo>
                        <a:pt x="212" y="192"/>
                      </a:lnTo>
                      <a:lnTo>
                        <a:pt x="212" y="205"/>
                      </a:lnTo>
                      <a:lnTo>
                        <a:pt x="130" y="205"/>
                      </a:lnTo>
                      <a:lnTo>
                        <a:pt x="130" y="192"/>
                      </a:lnTo>
                      <a:lnTo>
                        <a:pt x="143" y="192"/>
                      </a:lnTo>
                      <a:lnTo>
                        <a:pt x="140" y="171"/>
                      </a:lnTo>
                      <a:lnTo>
                        <a:pt x="131" y="154"/>
                      </a:lnTo>
                      <a:lnTo>
                        <a:pt x="119" y="138"/>
                      </a:lnTo>
                      <a:lnTo>
                        <a:pt x="107" y="125"/>
                      </a:lnTo>
                      <a:lnTo>
                        <a:pt x="88" y="114"/>
                      </a:lnTo>
                      <a:lnTo>
                        <a:pt x="88" y="192"/>
                      </a:lnTo>
                      <a:lnTo>
                        <a:pt x="107" y="192"/>
                      </a:lnTo>
                      <a:lnTo>
                        <a:pt x="107" y="205"/>
                      </a:lnTo>
                      <a:lnTo>
                        <a:pt x="3" y="205"/>
                      </a:lnTo>
                      <a:lnTo>
                        <a:pt x="3" y="192"/>
                      </a:lnTo>
                      <a:lnTo>
                        <a:pt x="23" y="192"/>
                      </a:lnTo>
                      <a:lnTo>
                        <a:pt x="23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718240" y="6578640"/>
                  <a:ext cx="20520" cy="2700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20" y="50"/>
                      </a:lnTo>
                      <a:lnTo>
                        <a:pt x="30" y="46"/>
                      </a:lnTo>
                      <a:lnTo>
                        <a:pt x="38" y="34"/>
                      </a:lnTo>
                      <a:lnTo>
                        <a:pt x="38" y="18"/>
                      </a:lnTo>
                      <a:lnTo>
                        <a:pt x="30" y="6"/>
                      </a:lnTo>
                      <a:lnTo>
                        <a:pt x="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4687920" y="6561000"/>
                <a:ext cx="108000" cy="112680"/>
                <a:chOff x="4687920" y="6561000"/>
                <a:chExt cx="108000" cy="1126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87920" y="6561000"/>
                  <a:ext cx="108000" cy="112680"/>
                </a:xfrm>
                <a:custGeom>
                  <a:avLst/>
                  <a:gdLst/>
                  <a:ahLst/>
                  <a:rect l="l" t="t" r="r" b="b"/>
                  <a:pathLst>
                    <a:path w="205" h="214">
                      <a:moveTo>
                        <a:pt x="62" y="0"/>
                      </a:moveTo>
                      <a:lnTo>
                        <a:pt x="141" y="0"/>
                      </a:lnTo>
                      <a:lnTo>
                        <a:pt x="159" y="7"/>
                      </a:lnTo>
                      <a:lnTo>
                        <a:pt x="187" y="29"/>
                      </a:lnTo>
                      <a:lnTo>
                        <a:pt x="199" y="55"/>
                      </a:lnTo>
                      <a:lnTo>
                        <a:pt x="205" y="87"/>
                      </a:lnTo>
                      <a:lnTo>
                        <a:pt x="205" y="123"/>
                      </a:lnTo>
                      <a:lnTo>
                        <a:pt x="199" y="156"/>
                      </a:lnTo>
                      <a:lnTo>
                        <a:pt x="187" y="181"/>
                      </a:lnTo>
                      <a:lnTo>
                        <a:pt x="153" y="205"/>
                      </a:lnTo>
                      <a:lnTo>
                        <a:pt x="136" y="214"/>
                      </a:lnTo>
                      <a:lnTo>
                        <a:pt x="62" y="214"/>
                      </a:lnTo>
                      <a:lnTo>
                        <a:pt x="45" y="205"/>
                      </a:lnTo>
                      <a:lnTo>
                        <a:pt x="15" y="184"/>
                      </a:lnTo>
                      <a:lnTo>
                        <a:pt x="5" y="160"/>
                      </a:lnTo>
                      <a:lnTo>
                        <a:pt x="0" y="131"/>
                      </a:lnTo>
                      <a:lnTo>
                        <a:pt x="0" y="87"/>
                      </a:lnTo>
                      <a:lnTo>
                        <a:pt x="5" y="55"/>
                      </a:lnTo>
                      <a:lnTo>
                        <a:pt x="15" y="29"/>
                      </a:lnTo>
                      <a:lnTo>
                        <a:pt x="45" y="7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727520" y="6573960"/>
                  <a:ext cx="27000" cy="88920"/>
                </a:xfrm>
                <a:custGeom>
                  <a:avLst/>
                  <a:gdLst/>
                  <a:ahLst/>
                  <a:rect l="l" t="t" r="r" b="b"/>
                  <a:pathLst>
                    <a:path w="52" h="167">
                      <a:moveTo>
                        <a:pt x="18" y="0"/>
                      </a:moveTo>
                      <a:lnTo>
                        <a:pt x="6" y="13"/>
                      </a:lnTo>
                      <a:lnTo>
                        <a:pt x="0" y="27"/>
                      </a:lnTo>
                      <a:lnTo>
                        <a:pt x="0" y="140"/>
                      </a:lnTo>
                      <a:lnTo>
                        <a:pt x="6" y="155"/>
                      </a:lnTo>
                      <a:lnTo>
                        <a:pt x="18" y="167"/>
                      </a:lnTo>
                      <a:lnTo>
                        <a:pt x="37" y="167"/>
                      </a:lnTo>
                      <a:lnTo>
                        <a:pt x="49" y="155"/>
                      </a:lnTo>
                      <a:lnTo>
                        <a:pt x="52" y="140"/>
                      </a:lnTo>
                      <a:lnTo>
                        <a:pt x="52" y="27"/>
                      </a:lnTo>
                      <a:lnTo>
                        <a:pt x="49" y="13"/>
                      </a:lnTo>
                      <a:lnTo>
                        <a:pt x="37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4799160" y="6564240"/>
                <a:ext cx="230040" cy="109440"/>
                <a:chOff x="4799160" y="6564240"/>
                <a:chExt cx="230040" cy="10944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4799160" y="6564240"/>
                  <a:ext cx="123840" cy="109440"/>
                </a:xfrm>
                <a:custGeom>
                  <a:avLst/>
                  <a:gdLst/>
                  <a:ahLst/>
                  <a:rect l="l" t="t" r="r" b="b"/>
                  <a:pathLst>
                    <a:path w="233" h="207">
                      <a:moveTo>
                        <a:pt x="5" y="207"/>
                      </a:moveTo>
                      <a:lnTo>
                        <a:pt x="61" y="207"/>
                      </a:lnTo>
                      <a:lnTo>
                        <a:pt x="61" y="191"/>
                      </a:lnTo>
                      <a:lnTo>
                        <a:pt x="44" y="191"/>
                      </a:lnTo>
                      <a:lnTo>
                        <a:pt x="44" y="43"/>
                      </a:lnTo>
                      <a:lnTo>
                        <a:pt x="144" y="207"/>
                      </a:lnTo>
                      <a:lnTo>
                        <a:pt x="209" y="207"/>
                      </a:lnTo>
                      <a:lnTo>
                        <a:pt x="209" y="16"/>
                      </a:lnTo>
                      <a:lnTo>
                        <a:pt x="233" y="16"/>
                      </a:lnTo>
                      <a:lnTo>
                        <a:pt x="233" y="0"/>
                      </a:lnTo>
                      <a:lnTo>
                        <a:pt x="168" y="0"/>
                      </a:lnTo>
                      <a:lnTo>
                        <a:pt x="168" y="16"/>
                      </a:lnTo>
                      <a:lnTo>
                        <a:pt x="190" y="16"/>
                      </a:lnTo>
                      <a:lnTo>
                        <a:pt x="190" y="137"/>
                      </a:lnTo>
                      <a:lnTo>
                        <a:pt x="102" y="3"/>
                      </a:lnTo>
                      <a:lnTo>
                        <a:pt x="0" y="3"/>
                      </a:lnTo>
                      <a:lnTo>
                        <a:pt x="0" y="19"/>
                      </a:lnTo>
                      <a:lnTo>
                        <a:pt x="23" y="19"/>
                      </a:lnTo>
                      <a:lnTo>
                        <a:pt x="23" y="191"/>
                      </a:lnTo>
                      <a:lnTo>
                        <a:pt x="5" y="191"/>
                      </a:lnTo>
                      <a:lnTo>
                        <a:pt x="5" y="207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923000" y="6564240"/>
                  <a:ext cx="106200" cy="109440"/>
                </a:xfrm>
                <a:custGeom>
                  <a:avLst/>
                  <a:gdLst/>
                  <a:ahLst/>
                  <a:rect l="l" t="t" r="r" b="b"/>
                  <a:pathLst>
                    <a:path w="202" h="207">
                      <a:moveTo>
                        <a:pt x="0" y="0"/>
                      </a:moveTo>
                      <a:lnTo>
                        <a:pt x="198" y="0"/>
                      </a:lnTo>
                      <a:lnTo>
                        <a:pt x="198" y="57"/>
                      </a:lnTo>
                      <a:lnTo>
                        <a:pt x="183" y="57"/>
                      </a:lnTo>
                      <a:lnTo>
                        <a:pt x="122" y="16"/>
                      </a:lnTo>
                      <a:lnTo>
                        <a:pt x="89" y="16"/>
                      </a:lnTo>
                      <a:lnTo>
                        <a:pt x="89" y="97"/>
                      </a:lnTo>
                      <a:lnTo>
                        <a:pt x="117" y="97"/>
                      </a:lnTo>
                      <a:lnTo>
                        <a:pt x="151" y="61"/>
                      </a:lnTo>
                      <a:lnTo>
                        <a:pt x="151" y="149"/>
                      </a:lnTo>
                      <a:lnTo>
                        <a:pt x="117" y="113"/>
                      </a:lnTo>
                      <a:lnTo>
                        <a:pt x="89" y="113"/>
                      </a:lnTo>
                      <a:lnTo>
                        <a:pt x="89" y="183"/>
                      </a:lnTo>
                      <a:lnTo>
                        <a:pt x="122" y="183"/>
                      </a:lnTo>
                      <a:lnTo>
                        <a:pt x="190" y="149"/>
                      </a:lnTo>
                      <a:lnTo>
                        <a:pt x="202" y="149"/>
                      </a:lnTo>
                      <a:lnTo>
                        <a:pt x="202" y="207"/>
                      </a:lnTo>
                      <a:lnTo>
                        <a:pt x="3" y="207"/>
                      </a:lnTo>
                      <a:lnTo>
                        <a:pt x="3" y="195"/>
                      </a:lnTo>
                      <a:lnTo>
                        <a:pt x="24" y="195"/>
                      </a:lnTo>
                      <a:lnTo>
                        <a:pt x="24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216400" y="6561000"/>
                <a:ext cx="106560" cy="111240"/>
                <a:chOff x="5216400" y="6561000"/>
                <a:chExt cx="106560" cy="11124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216400" y="6561000"/>
                  <a:ext cx="106560" cy="111240"/>
                </a:xfrm>
                <a:custGeom>
                  <a:avLst/>
                  <a:gdLst/>
                  <a:ahLst/>
                  <a:rect l="l" t="t" r="r" b="b"/>
                  <a:pathLst>
                    <a:path w="202" h="210">
                      <a:moveTo>
                        <a:pt x="60" y="0"/>
                      </a:moveTo>
                      <a:lnTo>
                        <a:pt x="140" y="0"/>
                      </a:lnTo>
                      <a:lnTo>
                        <a:pt x="155" y="7"/>
                      </a:lnTo>
                      <a:lnTo>
                        <a:pt x="184" y="28"/>
                      </a:lnTo>
                      <a:lnTo>
                        <a:pt x="196" y="53"/>
                      </a:lnTo>
                      <a:lnTo>
                        <a:pt x="202" y="86"/>
                      </a:lnTo>
                      <a:lnTo>
                        <a:pt x="202" y="119"/>
                      </a:lnTo>
                      <a:lnTo>
                        <a:pt x="196" y="151"/>
                      </a:lnTo>
                      <a:lnTo>
                        <a:pt x="184" y="178"/>
                      </a:lnTo>
                      <a:lnTo>
                        <a:pt x="152" y="202"/>
                      </a:lnTo>
                      <a:lnTo>
                        <a:pt x="134" y="210"/>
                      </a:lnTo>
                      <a:lnTo>
                        <a:pt x="60" y="210"/>
                      </a:lnTo>
                      <a:lnTo>
                        <a:pt x="45" y="202"/>
                      </a:lnTo>
                      <a:lnTo>
                        <a:pt x="18" y="181"/>
                      </a:lnTo>
                      <a:lnTo>
                        <a:pt x="6" y="156"/>
                      </a:lnTo>
                      <a:lnTo>
                        <a:pt x="0" y="128"/>
                      </a:lnTo>
                      <a:lnTo>
                        <a:pt x="0" y="86"/>
                      </a:lnTo>
                      <a:lnTo>
                        <a:pt x="6" y="53"/>
                      </a:lnTo>
                      <a:lnTo>
                        <a:pt x="18" y="28"/>
                      </a:lnTo>
                      <a:lnTo>
                        <a:pt x="45" y="7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254560" y="6572160"/>
                  <a:ext cx="28800" cy="88920"/>
                </a:xfrm>
                <a:custGeom>
                  <a:avLst/>
                  <a:gdLst/>
                  <a:ahLst/>
                  <a:rect l="l" t="t" r="r" b="b"/>
                  <a:pathLst>
                    <a:path w="54" h="167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27"/>
                      </a:lnTo>
                      <a:lnTo>
                        <a:pt x="0" y="140"/>
                      </a:lnTo>
                      <a:lnTo>
                        <a:pt x="6" y="154"/>
                      </a:lnTo>
                      <a:lnTo>
                        <a:pt x="18" y="167"/>
                      </a:lnTo>
                      <a:lnTo>
                        <a:pt x="37" y="167"/>
                      </a:lnTo>
                      <a:lnTo>
                        <a:pt x="49" y="154"/>
                      </a:lnTo>
                      <a:lnTo>
                        <a:pt x="54" y="140"/>
                      </a:lnTo>
                      <a:lnTo>
                        <a:pt x="54" y="27"/>
                      </a:lnTo>
                      <a:lnTo>
                        <a:pt x="49" y="15"/>
                      </a:lnTo>
                      <a:lnTo>
                        <a:pt x="37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5327640" y="6561000"/>
                <a:ext cx="200160" cy="108000"/>
                <a:chOff x="5327640" y="6561000"/>
                <a:chExt cx="200160" cy="1080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327640" y="656100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191" h="205">
                      <a:moveTo>
                        <a:pt x="0" y="0"/>
                      </a:moveTo>
                      <a:lnTo>
                        <a:pt x="119" y="0"/>
                      </a:lnTo>
                      <a:lnTo>
                        <a:pt x="119" y="16"/>
                      </a:lnTo>
                      <a:lnTo>
                        <a:pt x="88" y="16"/>
                      </a:lnTo>
                      <a:lnTo>
                        <a:pt x="88" y="181"/>
                      </a:lnTo>
                      <a:lnTo>
                        <a:pt x="119" y="181"/>
                      </a:lnTo>
                      <a:lnTo>
                        <a:pt x="170" y="150"/>
                      </a:lnTo>
                      <a:lnTo>
                        <a:pt x="191" y="150"/>
                      </a:lnTo>
                      <a:lnTo>
                        <a:pt x="191" y="205"/>
                      </a:lnTo>
                      <a:lnTo>
                        <a:pt x="4" y="205"/>
                      </a:lnTo>
                      <a:lnTo>
                        <a:pt x="4" y="193"/>
                      </a:lnTo>
                      <a:lnTo>
                        <a:pt x="22" y="193"/>
                      </a:lnTo>
                      <a:lnTo>
                        <a:pt x="2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429160" y="6561000"/>
                  <a:ext cx="98640" cy="108000"/>
                </a:xfrm>
                <a:custGeom>
                  <a:avLst/>
                  <a:gdLst/>
                  <a:ahLst/>
                  <a:rect l="l" t="t" r="r" b="b"/>
                  <a:pathLst>
                    <a:path w="188" h="205">
                      <a:moveTo>
                        <a:pt x="0" y="0"/>
                      </a:moveTo>
                      <a:lnTo>
                        <a:pt x="120" y="0"/>
                      </a:lnTo>
                      <a:lnTo>
                        <a:pt x="120" y="16"/>
                      </a:lnTo>
                      <a:lnTo>
                        <a:pt x="88" y="16"/>
                      </a:lnTo>
                      <a:lnTo>
                        <a:pt x="88" y="181"/>
                      </a:lnTo>
                      <a:lnTo>
                        <a:pt x="120" y="181"/>
                      </a:lnTo>
                      <a:lnTo>
                        <a:pt x="169" y="150"/>
                      </a:lnTo>
                      <a:lnTo>
                        <a:pt x="188" y="150"/>
                      </a:lnTo>
                      <a:lnTo>
                        <a:pt x="188" y="205"/>
                      </a:lnTo>
                      <a:lnTo>
                        <a:pt x="3" y="205"/>
                      </a:lnTo>
                      <a:lnTo>
                        <a:pt x="3" y="193"/>
                      </a:lnTo>
                      <a:lnTo>
                        <a:pt x="21" y="193"/>
                      </a:lnTo>
                      <a:lnTo>
                        <a:pt x="2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5526000" y="6562800"/>
                <a:ext cx="146160" cy="108000"/>
                <a:chOff x="5526000" y="6562800"/>
                <a:chExt cx="146160" cy="10800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5526000" y="6562800"/>
                  <a:ext cx="146160" cy="108000"/>
                </a:xfrm>
                <a:custGeom>
                  <a:avLst/>
                  <a:gdLst/>
                  <a:ahLst/>
                  <a:rect l="l" t="t" r="r" b="b"/>
                  <a:pathLst>
                    <a:path w="277" h="205">
                      <a:moveTo>
                        <a:pt x="163" y="0"/>
                      </a:moveTo>
                      <a:lnTo>
                        <a:pt x="256" y="189"/>
                      </a:lnTo>
                      <a:lnTo>
                        <a:pt x="277" y="189"/>
                      </a:lnTo>
                      <a:lnTo>
                        <a:pt x="277" y="205"/>
                      </a:lnTo>
                      <a:lnTo>
                        <a:pt x="127" y="205"/>
                      </a:lnTo>
                      <a:lnTo>
                        <a:pt x="127" y="189"/>
                      </a:lnTo>
                      <a:lnTo>
                        <a:pt x="145" y="189"/>
                      </a:lnTo>
                      <a:lnTo>
                        <a:pt x="124" y="131"/>
                      </a:lnTo>
                      <a:lnTo>
                        <a:pt x="70" y="129"/>
                      </a:lnTo>
                      <a:lnTo>
                        <a:pt x="45" y="189"/>
                      </a:lnTo>
                      <a:lnTo>
                        <a:pt x="73" y="189"/>
                      </a:lnTo>
                      <a:lnTo>
                        <a:pt x="73" y="205"/>
                      </a:lnTo>
                      <a:lnTo>
                        <a:pt x="0" y="205"/>
                      </a:lnTo>
                      <a:lnTo>
                        <a:pt x="0" y="189"/>
                      </a:lnTo>
                      <a:lnTo>
                        <a:pt x="19" y="189"/>
                      </a:lnTo>
                      <a:lnTo>
                        <a:pt x="94" y="0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567400" y="658980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40" h="55">
                      <a:moveTo>
                        <a:pt x="21" y="0"/>
                      </a:moveTo>
                      <a:lnTo>
                        <a:pt x="0" y="55"/>
                      </a:lnTo>
                      <a:lnTo>
                        <a:pt x="40" y="5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5079960" y="6564240"/>
                <a:ext cx="125280" cy="108000"/>
                <a:chOff x="5079960" y="6564240"/>
                <a:chExt cx="125280" cy="10800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5079960" y="6564240"/>
                  <a:ext cx="125280" cy="108000"/>
                </a:xfrm>
                <a:custGeom>
                  <a:avLst/>
                  <a:gdLst/>
                  <a:ahLst/>
                  <a:rect l="l" t="t" r="r" b="b"/>
                  <a:pathLst>
                    <a:path w="237" h="203">
                      <a:moveTo>
                        <a:pt x="93" y="0"/>
                      </a:moveTo>
                      <a:lnTo>
                        <a:pt x="172" y="0"/>
                      </a:lnTo>
                      <a:lnTo>
                        <a:pt x="190" y="9"/>
                      </a:lnTo>
                      <a:lnTo>
                        <a:pt x="220" y="28"/>
                      </a:lnTo>
                      <a:lnTo>
                        <a:pt x="231" y="52"/>
                      </a:lnTo>
                      <a:lnTo>
                        <a:pt x="237" y="83"/>
                      </a:lnTo>
                      <a:lnTo>
                        <a:pt x="237" y="116"/>
                      </a:lnTo>
                      <a:lnTo>
                        <a:pt x="231" y="147"/>
                      </a:lnTo>
                      <a:lnTo>
                        <a:pt x="220" y="171"/>
                      </a:lnTo>
                      <a:lnTo>
                        <a:pt x="184" y="197"/>
                      </a:lnTo>
                      <a:lnTo>
                        <a:pt x="168" y="203"/>
                      </a:lnTo>
                      <a:lnTo>
                        <a:pt x="93" y="203"/>
                      </a:lnTo>
                      <a:lnTo>
                        <a:pt x="0" y="203"/>
                      </a:lnTo>
                      <a:lnTo>
                        <a:pt x="3" y="183"/>
                      </a:lnTo>
                      <a:lnTo>
                        <a:pt x="30" y="183"/>
                      </a:lnTo>
                      <a:lnTo>
                        <a:pt x="30" y="124"/>
                      </a:lnTo>
                      <a:lnTo>
                        <a:pt x="30" y="83"/>
                      </a:lnTo>
                      <a:lnTo>
                        <a:pt x="30" y="52"/>
                      </a:lnTo>
                      <a:lnTo>
                        <a:pt x="30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135400" y="6576840"/>
                  <a:ext cx="28800" cy="84240"/>
                </a:xfrm>
                <a:custGeom>
                  <a:avLst/>
                  <a:gdLst/>
                  <a:ahLst/>
                  <a:rect l="l" t="t" r="r" b="b"/>
                  <a:pathLst>
                    <a:path w="55" h="158">
                      <a:moveTo>
                        <a:pt x="20" y="0"/>
                      </a:move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20" y="158"/>
                      </a:lnTo>
                      <a:lnTo>
                        <a:pt x="39" y="158"/>
                      </a:lnTo>
                      <a:lnTo>
                        <a:pt x="51" y="146"/>
                      </a:lnTo>
                      <a:lnTo>
                        <a:pt x="55" y="133"/>
                      </a:lnTo>
                      <a:lnTo>
                        <a:pt x="55" y="26"/>
                      </a:lnTo>
                      <a:lnTo>
                        <a:pt x="51" y="12"/>
                      </a:lnTo>
                      <a:lnTo>
                        <a:pt x="39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4370400" y="5676840"/>
              <a:ext cx="1747800" cy="96840"/>
              <a:chOff x="4370400" y="5676840"/>
              <a:chExt cx="1747800" cy="9684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4370400" y="5676840"/>
                <a:ext cx="193680" cy="96840"/>
                <a:chOff x="4370400" y="5676840"/>
                <a:chExt cx="193680" cy="9684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370400" y="5676840"/>
                  <a:ext cx="55440" cy="96840"/>
                </a:xfrm>
                <a:custGeom>
                  <a:avLst/>
                  <a:gdLst/>
                  <a:ahLst/>
                  <a:rect l="l" t="t" r="r" b="b"/>
                  <a:pathLst>
                    <a:path w="104" h="183">
                      <a:moveTo>
                        <a:pt x="0" y="0"/>
                      </a:moveTo>
                      <a:lnTo>
                        <a:pt x="104" y="0"/>
                      </a:lnTo>
                      <a:lnTo>
                        <a:pt x="104" y="35"/>
                      </a:lnTo>
                      <a:lnTo>
                        <a:pt x="77" y="35"/>
                      </a:lnTo>
                      <a:lnTo>
                        <a:pt x="77" y="183"/>
                      </a:lnTo>
                      <a:lnTo>
                        <a:pt x="33" y="183"/>
                      </a:lnTo>
                      <a:lnTo>
                        <a:pt x="33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5676840"/>
                  <a:ext cx="71280" cy="96840"/>
                </a:xfrm>
                <a:custGeom>
                  <a:avLst/>
                  <a:gdLst/>
                  <a:ahLst/>
                  <a:rect l="l" t="t" r="r" b="b"/>
                  <a:pathLst>
                    <a:path w="136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71"/>
                      </a:lnTo>
                      <a:lnTo>
                        <a:pt x="90" y="71"/>
                      </a:lnTo>
                      <a:lnTo>
                        <a:pt x="90" y="0"/>
                      </a:lnTo>
                      <a:lnTo>
                        <a:pt x="136" y="0"/>
                      </a:lnTo>
                      <a:lnTo>
                        <a:pt x="136" y="183"/>
                      </a:lnTo>
                      <a:lnTo>
                        <a:pt x="90" y="183"/>
                      </a:lnTo>
                      <a:lnTo>
                        <a:pt x="90" y="105"/>
                      </a:lnTo>
                      <a:lnTo>
                        <a:pt x="45" y="105"/>
                      </a:lnTo>
                      <a:lnTo>
                        <a:pt x="45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51008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183">
                      <a:moveTo>
                        <a:pt x="0" y="0"/>
                      </a:moveTo>
                      <a:lnTo>
                        <a:pt x="102" y="0"/>
                      </a:lnTo>
                      <a:lnTo>
                        <a:pt x="102" y="34"/>
                      </a:lnTo>
                      <a:lnTo>
                        <a:pt x="51" y="34"/>
                      </a:lnTo>
                      <a:lnTo>
                        <a:pt x="51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51" y="105"/>
                      </a:lnTo>
                      <a:lnTo>
                        <a:pt x="51" y="147"/>
                      </a:lnTo>
                      <a:lnTo>
                        <a:pt x="102" y="147"/>
                      </a:lnTo>
                      <a:lnTo>
                        <a:pt x="10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605480" y="5676840"/>
                <a:ext cx="377640" cy="96840"/>
                <a:chOff x="4605480" y="5676840"/>
                <a:chExt cx="377640" cy="968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605480" y="5676840"/>
                  <a:ext cx="64800" cy="96840"/>
                </a:xfrm>
                <a:custGeom>
                  <a:avLst/>
                  <a:gdLst/>
                  <a:ahLst/>
                  <a:rect l="l" t="t" r="r" b="b"/>
                  <a:pathLst>
                    <a:path w="123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147"/>
                      </a:lnTo>
                      <a:lnTo>
                        <a:pt x="78" y="147"/>
                      </a:lnTo>
                      <a:lnTo>
                        <a:pt x="78" y="0"/>
                      </a:lnTo>
                      <a:lnTo>
                        <a:pt x="123" y="0"/>
                      </a:lnTo>
                      <a:lnTo>
                        <a:pt x="123" y="158"/>
                      </a:lnTo>
                      <a:lnTo>
                        <a:pt x="90" y="183"/>
                      </a:lnTo>
                      <a:lnTo>
                        <a:pt x="33" y="183"/>
                      </a:lnTo>
                      <a:lnTo>
                        <a:pt x="0" y="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680000" y="5676840"/>
                  <a:ext cx="69840" cy="96840"/>
                </a:xfrm>
                <a:custGeom>
                  <a:avLst/>
                  <a:gdLst/>
                  <a:ahLst/>
                  <a:rect l="l" t="t" r="r" b="b"/>
                  <a:pathLst>
                    <a:path w="133" h="183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84" y="86"/>
                      </a:lnTo>
                      <a:lnTo>
                        <a:pt x="84" y="0"/>
                      </a:lnTo>
                      <a:lnTo>
                        <a:pt x="133" y="0"/>
                      </a:lnTo>
                      <a:lnTo>
                        <a:pt x="133" y="183"/>
                      </a:lnTo>
                      <a:lnTo>
                        <a:pt x="84" y="183"/>
                      </a:lnTo>
                      <a:lnTo>
                        <a:pt x="51" y="95"/>
                      </a:lnTo>
                      <a:lnTo>
                        <a:pt x="51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761000" y="5676840"/>
                  <a:ext cx="23760" cy="968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791240" y="5676840"/>
                  <a:ext cx="56880" cy="96840"/>
                </a:xfrm>
                <a:custGeom>
                  <a:avLst/>
                  <a:gdLst/>
                  <a:ahLst/>
                  <a:rect l="l" t="t" r="r" b="b"/>
                  <a:pathLst>
                    <a:path w="106" h="183">
                      <a:moveTo>
                        <a:pt x="0" y="0"/>
                      </a:moveTo>
                      <a:lnTo>
                        <a:pt x="106" y="0"/>
                      </a:lnTo>
                      <a:lnTo>
                        <a:pt x="106" y="35"/>
                      </a:lnTo>
                      <a:lnTo>
                        <a:pt x="79" y="35"/>
                      </a:lnTo>
                      <a:lnTo>
                        <a:pt x="79" y="183"/>
                      </a:lnTo>
                      <a:lnTo>
                        <a:pt x="35" y="183"/>
                      </a:lnTo>
                      <a:lnTo>
                        <a:pt x="35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85460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49" y="34"/>
                      </a:lnTo>
                      <a:lnTo>
                        <a:pt x="49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49" y="105"/>
                      </a:lnTo>
                      <a:lnTo>
                        <a:pt x="49" y="147"/>
                      </a:lnTo>
                      <a:lnTo>
                        <a:pt x="100" y="147"/>
                      </a:lnTo>
                      <a:lnTo>
                        <a:pt x="100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916520" y="5676840"/>
                  <a:ext cx="66600" cy="968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25" y="25"/>
                      </a:lnTo>
                      <a:lnTo>
                        <a:pt x="125" y="158"/>
                      </a:lnTo>
                      <a:lnTo>
                        <a:pt x="96" y="183"/>
                      </a:lnTo>
                      <a:lnTo>
                        <a:pt x="0" y="183"/>
                      </a:lnTo>
                      <a:lnTo>
                        <a:pt x="0" y="34"/>
                      </a:lnTo>
                      <a:lnTo>
                        <a:pt x="45" y="34"/>
                      </a:lnTo>
                      <a:lnTo>
                        <a:pt x="45" y="147"/>
                      </a:lnTo>
                      <a:lnTo>
                        <a:pt x="74" y="147"/>
                      </a:lnTo>
                      <a:lnTo>
                        <a:pt x="74" y="34"/>
                      </a:lnTo>
                      <a:lnTo>
                        <a:pt x="45" y="34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030640" y="5676840"/>
                <a:ext cx="381240" cy="96840"/>
                <a:chOff x="5030640" y="5676840"/>
                <a:chExt cx="381240" cy="9684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03064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7" h="183">
                      <a:moveTo>
                        <a:pt x="29" y="0"/>
                      </a:moveTo>
                      <a:lnTo>
                        <a:pt x="90" y="0"/>
                      </a:lnTo>
                      <a:lnTo>
                        <a:pt x="117" y="25"/>
                      </a:lnTo>
                      <a:lnTo>
                        <a:pt x="117" y="61"/>
                      </a:lnTo>
                      <a:lnTo>
                        <a:pt x="74" y="61"/>
                      </a:lnTo>
                      <a:lnTo>
                        <a:pt x="74" y="35"/>
                      </a:lnTo>
                      <a:lnTo>
                        <a:pt x="45" y="35"/>
                      </a:lnTo>
                      <a:lnTo>
                        <a:pt x="45" y="76"/>
                      </a:lnTo>
                      <a:lnTo>
                        <a:pt x="84" y="76"/>
                      </a:lnTo>
                      <a:lnTo>
                        <a:pt x="81" y="76"/>
                      </a:lnTo>
                      <a:lnTo>
                        <a:pt x="117" y="102"/>
                      </a:lnTo>
                      <a:lnTo>
                        <a:pt x="117" y="158"/>
                      </a:lnTo>
                      <a:lnTo>
                        <a:pt x="90" y="183"/>
                      </a:lnTo>
                      <a:lnTo>
                        <a:pt x="29" y="183"/>
                      </a:lnTo>
                      <a:lnTo>
                        <a:pt x="0" y="158"/>
                      </a:lnTo>
                      <a:lnTo>
                        <a:pt x="0" y="126"/>
                      </a:lnTo>
                      <a:lnTo>
                        <a:pt x="39" y="126"/>
                      </a:lnTo>
                      <a:lnTo>
                        <a:pt x="39" y="147"/>
                      </a:lnTo>
                      <a:lnTo>
                        <a:pt x="74" y="147"/>
                      </a:lnTo>
                      <a:lnTo>
                        <a:pt x="74" y="111"/>
                      </a:lnTo>
                      <a:lnTo>
                        <a:pt x="35" y="111"/>
                      </a:lnTo>
                      <a:lnTo>
                        <a:pt x="0" y="86"/>
                      </a:lnTo>
                      <a:lnTo>
                        <a:pt x="0" y="2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100480" y="5676840"/>
                  <a:ext cx="55800" cy="96840"/>
                </a:xfrm>
                <a:custGeom>
                  <a:avLst/>
                  <a:gdLst/>
                  <a:ahLst/>
                  <a:rect l="l" t="t" r="r" b="b"/>
                  <a:pathLst>
                    <a:path w="105" h="183">
                      <a:moveTo>
                        <a:pt x="0" y="0"/>
                      </a:moveTo>
                      <a:lnTo>
                        <a:pt x="105" y="0"/>
                      </a:lnTo>
                      <a:lnTo>
                        <a:pt x="105" y="35"/>
                      </a:lnTo>
                      <a:lnTo>
                        <a:pt x="78" y="35"/>
                      </a:lnTo>
                      <a:lnTo>
                        <a:pt x="78" y="183"/>
                      </a:lnTo>
                      <a:lnTo>
                        <a:pt x="33" y="183"/>
                      </a:lnTo>
                      <a:lnTo>
                        <a:pt x="33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14980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4" h="183">
                      <a:moveTo>
                        <a:pt x="39" y="0"/>
                      </a:moveTo>
                      <a:lnTo>
                        <a:pt x="105" y="0"/>
                      </a:lnTo>
                      <a:lnTo>
                        <a:pt x="144" y="183"/>
                      </a:lnTo>
                      <a:lnTo>
                        <a:pt x="94" y="183"/>
                      </a:lnTo>
                      <a:lnTo>
                        <a:pt x="88" y="147"/>
                      </a:lnTo>
                      <a:lnTo>
                        <a:pt x="88" y="116"/>
                      </a:lnTo>
                      <a:lnTo>
                        <a:pt x="72" y="29"/>
                      </a:lnTo>
                      <a:lnTo>
                        <a:pt x="55" y="116"/>
                      </a:lnTo>
                      <a:lnTo>
                        <a:pt x="88" y="116"/>
                      </a:lnTo>
                      <a:lnTo>
                        <a:pt x="88" y="147"/>
                      </a:lnTo>
                      <a:lnTo>
                        <a:pt x="55" y="147"/>
                      </a:lnTo>
                      <a:lnTo>
                        <a:pt x="49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21964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4" h="183">
                      <a:moveTo>
                        <a:pt x="0" y="0"/>
                      </a:moveTo>
                      <a:lnTo>
                        <a:pt x="104" y="0"/>
                      </a:lnTo>
                      <a:lnTo>
                        <a:pt x="104" y="35"/>
                      </a:lnTo>
                      <a:lnTo>
                        <a:pt x="77" y="35"/>
                      </a:lnTo>
                      <a:lnTo>
                        <a:pt x="77" y="183"/>
                      </a:lnTo>
                      <a:lnTo>
                        <a:pt x="34" y="183"/>
                      </a:lnTo>
                      <a:lnTo>
                        <a:pt x="34" y="35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284800" y="5676840"/>
                  <a:ext cx="54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183">
                      <a:moveTo>
                        <a:pt x="0" y="0"/>
                      </a:moveTo>
                      <a:lnTo>
                        <a:pt x="102" y="0"/>
                      </a:lnTo>
                      <a:lnTo>
                        <a:pt x="102" y="34"/>
                      </a:lnTo>
                      <a:lnTo>
                        <a:pt x="50" y="34"/>
                      </a:lnTo>
                      <a:lnTo>
                        <a:pt x="50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50" y="105"/>
                      </a:lnTo>
                      <a:lnTo>
                        <a:pt x="50" y="147"/>
                      </a:lnTo>
                      <a:lnTo>
                        <a:pt x="102" y="147"/>
                      </a:lnTo>
                      <a:lnTo>
                        <a:pt x="102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34996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9" h="183">
                      <a:moveTo>
                        <a:pt x="29" y="0"/>
                      </a:moveTo>
                      <a:lnTo>
                        <a:pt x="90" y="0"/>
                      </a:lnTo>
                      <a:lnTo>
                        <a:pt x="119" y="25"/>
                      </a:lnTo>
                      <a:lnTo>
                        <a:pt x="119" y="61"/>
                      </a:lnTo>
                      <a:lnTo>
                        <a:pt x="74" y="61"/>
                      </a:lnTo>
                      <a:lnTo>
                        <a:pt x="74" y="35"/>
                      </a:lnTo>
                      <a:lnTo>
                        <a:pt x="45" y="35"/>
                      </a:lnTo>
                      <a:lnTo>
                        <a:pt x="45" y="76"/>
                      </a:lnTo>
                      <a:lnTo>
                        <a:pt x="86" y="76"/>
                      </a:lnTo>
                      <a:lnTo>
                        <a:pt x="81" y="76"/>
                      </a:lnTo>
                      <a:lnTo>
                        <a:pt x="119" y="102"/>
                      </a:lnTo>
                      <a:lnTo>
                        <a:pt x="119" y="158"/>
                      </a:lnTo>
                      <a:lnTo>
                        <a:pt x="90" y="183"/>
                      </a:lnTo>
                      <a:lnTo>
                        <a:pt x="29" y="183"/>
                      </a:lnTo>
                      <a:lnTo>
                        <a:pt x="0" y="158"/>
                      </a:lnTo>
                      <a:lnTo>
                        <a:pt x="0" y="126"/>
                      </a:lnTo>
                      <a:lnTo>
                        <a:pt x="41" y="126"/>
                      </a:lnTo>
                      <a:lnTo>
                        <a:pt x="41" y="147"/>
                      </a:lnTo>
                      <a:lnTo>
                        <a:pt x="74" y="147"/>
                      </a:lnTo>
                      <a:lnTo>
                        <a:pt x="74" y="111"/>
                      </a:lnTo>
                      <a:lnTo>
                        <a:pt x="35" y="111"/>
                      </a:lnTo>
                      <a:lnTo>
                        <a:pt x="0" y="86"/>
                      </a:lnTo>
                      <a:lnTo>
                        <a:pt x="0" y="2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5452920" y="5676840"/>
                <a:ext cx="133560" cy="96840"/>
                <a:chOff x="5452920" y="5676840"/>
                <a:chExt cx="133560" cy="9684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452920" y="5676840"/>
                  <a:ext cx="66960" cy="96840"/>
                </a:xfrm>
                <a:custGeom>
                  <a:avLst/>
                  <a:gdLst/>
                  <a:ahLst/>
                  <a:rect l="l" t="t" r="r" b="b"/>
                  <a:pathLst>
                    <a:path w="127" h="183">
                      <a:moveTo>
                        <a:pt x="33" y="0"/>
                      </a:moveTo>
                      <a:lnTo>
                        <a:pt x="95" y="0"/>
                      </a:lnTo>
                      <a:lnTo>
                        <a:pt x="127" y="29"/>
                      </a:lnTo>
                      <a:lnTo>
                        <a:pt x="127" y="152"/>
                      </a:lnTo>
                      <a:lnTo>
                        <a:pt x="95" y="183"/>
                      </a:lnTo>
                      <a:lnTo>
                        <a:pt x="83" y="183"/>
                      </a:lnTo>
                      <a:lnTo>
                        <a:pt x="45" y="183"/>
                      </a:lnTo>
                      <a:lnTo>
                        <a:pt x="33" y="183"/>
                      </a:lnTo>
                      <a:lnTo>
                        <a:pt x="0" y="152"/>
                      </a:lnTo>
                      <a:lnTo>
                        <a:pt x="0" y="147"/>
                      </a:lnTo>
                      <a:lnTo>
                        <a:pt x="50" y="147"/>
                      </a:lnTo>
                      <a:lnTo>
                        <a:pt x="78" y="147"/>
                      </a:lnTo>
                      <a:lnTo>
                        <a:pt x="78" y="34"/>
                      </a:lnTo>
                      <a:lnTo>
                        <a:pt x="50" y="34"/>
                      </a:lnTo>
                      <a:lnTo>
                        <a:pt x="50" y="147"/>
                      </a:lnTo>
                      <a:lnTo>
                        <a:pt x="0" y="147"/>
                      </a:lnTo>
                      <a:lnTo>
                        <a:pt x="0" y="2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533920" y="567684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51" y="34"/>
                      </a:lnTo>
                      <a:lnTo>
                        <a:pt x="51" y="71"/>
                      </a:lnTo>
                      <a:lnTo>
                        <a:pt x="96" y="71"/>
                      </a:lnTo>
                      <a:lnTo>
                        <a:pt x="96" y="105"/>
                      </a:lnTo>
                      <a:lnTo>
                        <a:pt x="51" y="105"/>
                      </a:lnTo>
                      <a:lnTo>
                        <a:pt x="51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618160" y="5676840"/>
                <a:ext cx="500040" cy="96840"/>
                <a:chOff x="5618160" y="5676840"/>
                <a:chExt cx="500040" cy="9684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61816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3" h="183">
                      <a:moveTo>
                        <a:pt x="39" y="0"/>
                      </a:moveTo>
                      <a:lnTo>
                        <a:pt x="104" y="0"/>
                      </a:lnTo>
                      <a:lnTo>
                        <a:pt x="143" y="183"/>
                      </a:lnTo>
                      <a:lnTo>
                        <a:pt x="94" y="183"/>
                      </a:lnTo>
                      <a:lnTo>
                        <a:pt x="88" y="147"/>
                      </a:lnTo>
                      <a:lnTo>
                        <a:pt x="88" y="116"/>
                      </a:lnTo>
                      <a:lnTo>
                        <a:pt x="72" y="29"/>
                      </a:lnTo>
                      <a:lnTo>
                        <a:pt x="55" y="116"/>
                      </a:lnTo>
                      <a:lnTo>
                        <a:pt x="88" y="116"/>
                      </a:lnTo>
                      <a:lnTo>
                        <a:pt x="88" y="147"/>
                      </a:lnTo>
                      <a:lnTo>
                        <a:pt x="55" y="147"/>
                      </a:lnTo>
                      <a:lnTo>
                        <a:pt x="49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699160" y="5676840"/>
                  <a:ext cx="84240" cy="96840"/>
                </a:xfrm>
                <a:custGeom>
                  <a:avLst/>
                  <a:gdLst/>
                  <a:ahLst/>
                  <a:rect l="l" t="t" r="r" b="b"/>
                  <a:pathLst>
                    <a:path w="161" h="183">
                      <a:moveTo>
                        <a:pt x="0" y="183"/>
                      </a:moveTo>
                      <a:lnTo>
                        <a:pt x="46" y="183"/>
                      </a:lnTo>
                      <a:lnTo>
                        <a:pt x="46" y="86"/>
                      </a:lnTo>
                      <a:lnTo>
                        <a:pt x="69" y="183"/>
                      </a:lnTo>
                      <a:lnTo>
                        <a:pt x="93" y="183"/>
                      </a:lnTo>
                      <a:lnTo>
                        <a:pt x="116" y="86"/>
                      </a:lnTo>
                      <a:lnTo>
                        <a:pt x="116" y="183"/>
                      </a:lnTo>
                      <a:lnTo>
                        <a:pt x="161" y="183"/>
                      </a:lnTo>
                      <a:lnTo>
                        <a:pt x="161" y="0"/>
                      </a:lnTo>
                      <a:lnTo>
                        <a:pt x="99" y="0"/>
                      </a:lnTo>
                      <a:lnTo>
                        <a:pt x="81" y="86"/>
                      </a:ln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99240" y="5676840"/>
                  <a:ext cx="52200" cy="96840"/>
                </a:xfrm>
                <a:custGeom>
                  <a:avLst/>
                  <a:gdLst/>
                  <a:ahLst/>
                  <a:rect l="l" t="t" r="r" b="b"/>
                  <a:pathLst>
                    <a:path w="100" h="183">
                      <a:moveTo>
                        <a:pt x="0" y="0"/>
                      </a:moveTo>
                      <a:lnTo>
                        <a:pt x="100" y="0"/>
                      </a:lnTo>
                      <a:lnTo>
                        <a:pt x="100" y="34"/>
                      </a:lnTo>
                      <a:lnTo>
                        <a:pt x="49" y="34"/>
                      </a:lnTo>
                      <a:lnTo>
                        <a:pt x="49" y="71"/>
                      </a:lnTo>
                      <a:lnTo>
                        <a:pt x="94" y="71"/>
                      </a:lnTo>
                      <a:lnTo>
                        <a:pt x="94" y="105"/>
                      </a:lnTo>
                      <a:lnTo>
                        <a:pt x="49" y="105"/>
                      </a:lnTo>
                      <a:lnTo>
                        <a:pt x="49" y="147"/>
                      </a:lnTo>
                      <a:lnTo>
                        <a:pt x="100" y="147"/>
                      </a:lnTo>
                      <a:lnTo>
                        <a:pt x="100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862600" y="567684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117" h="183">
                      <a:moveTo>
                        <a:pt x="0" y="0"/>
                      </a:moveTo>
                      <a:lnTo>
                        <a:pt x="90" y="0"/>
                      </a:lnTo>
                      <a:lnTo>
                        <a:pt x="117" y="19"/>
                      </a:lnTo>
                      <a:lnTo>
                        <a:pt x="117" y="71"/>
                      </a:lnTo>
                      <a:lnTo>
                        <a:pt x="90" y="91"/>
                      </a:lnTo>
                      <a:lnTo>
                        <a:pt x="117" y="111"/>
                      </a:lnTo>
                      <a:lnTo>
                        <a:pt x="117" y="183"/>
                      </a:lnTo>
                      <a:lnTo>
                        <a:pt x="74" y="183"/>
                      </a:lnTo>
                      <a:lnTo>
                        <a:pt x="74" y="111"/>
                      </a:lnTo>
                      <a:lnTo>
                        <a:pt x="74" y="76"/>
                      </a:lnTo>
                      <a:lnTo>
                        <a:pt x="45" y="76"/>
                      </a:lnTo>
                      <a:lnTo>
                        <a:pt x="45" y="29"/>
                      </a:lnTo>
                      <a:lnTo>
                        <a:pt x="74" y="29"/>
                      </a:lnTo>
                      <a:lnTo>
                        <a:pt x="74" y="76"/>
                      </a:lnTo>
                      <a:lnTo>
                        <a:pt x="74" y="111"/>
                      </a:lnTo>
                      <a:lnTo>
                        <a:pt x="45" y="111"/>
                      </a:lnTo>
                      <a:lnTo>
                        <a:pt x="45" y="183"/>
                      </a:lnTo>
                      <a:lnTo>
                        <a:pt x="0" y="1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935680" y="5676840"/>
                  <a:ext cx="23760" cy="968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970600" y="5676840"/>
                  <a:ext cx="65160" cy="968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34" y="0"/>
                      </a:moveTo>
                      <a:lnTo>
                        <a:pt x="91" y="0"/>
                      </a:lnTo>
                      <a:lnTo>
                        <a:pt x="125" y="25"/>
                      </a:lnTo>
                      <a:lnTo>
                        <a:pt x="125" y="71"/>
                      </a:lnTo>
                      <a:lnTo>
                        <a:pt x="81" y="71"/>
                      </a:lnTo>
                      <a:lnTo>
                        <a:pt x="81" y="34"/>
                      </a:lnTo>
                      <a:lnTo>
                        <a:pt x="45" y="34"/>
                      </a:lnTo>
                      <a:lnTo>
                        <a:pt x="45" y="147"/>
                      </a:lnTo>
                      <a:lnTo>
                        <a:pt x="81" y="147"/>
                      </a:lnTo>
                      <a:lnTo>
                        <a:pt x="81" y="105"/>
                      </a:lnTo>
                      <a:lnTo>
                        <a:pt x="125" y="105"/>
                      </a:lnTo>
                      <a:lnTo>
                        <a:pt x="125" y="158"/>
                      </a:lnTo>
                      <a:lnTo>
                        <a:pt x="91" y="183"/>
                      </a:lnTo>
                      <a:lnTo>
                        <a:pt x="34" y="183"/>
                      </a:lnTo>
                      <a:lnTo>
                        <a:pt x="0" y="158"/>
                      </a:lnTo>
                      <a:lnTo>
                        <a:pt x="0" y="2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041880" y="5676840"/>
                  <a:ext cx="76320" cy="96840"/>
                </a:xfrm>
                <a:custGeom>
                  <a:avLst/>
                  <a:gdLst/>
                  <a:ahLst/>
                  <a:rect l="l" t="t" r="r" b="b"/>
                  <a:pathLst>
                    <a:path w="144" h="183">
                      <a:moveTo>
                        <a:pt x="39" y="0"/>
                      </a:moveTo>
                      <a:lnTo>
                        <a:pt x="105" y="0"/>
                      </a:lnTo>
                      <a:lnTo>
                        <a:pt x="144" y="183"/>
                      </a:lnTo>
                      <a:lnTo>
                        <a:pt x="93" y="183"/>
                      </a:lnTo>
                      <a:lnTo>
                        <a:pt x="89" y="147"/>
                      </a:lnTo>
                      <a:lnTo>
                        <a:pt x="89" y="116"/>
                      </a:lnTo>
                      <a:lnTo>
                        <a:pt x="72" y="29"/>
                      </a:lnTo>
                      <a:lnTo>
                        <a:pt x="56" y="116"/>
                      </a:lnTo>
                      <a:lnTo>
                        <a:pt x="89" y="116"/>
                      </a:lnTo>
                      <a:lnTo>
                        <a:pt x="89" y="147"/>
                      </a:lnTo>
                      <a:lnTo>
                        <a:pt x="56" y="147"/>
                      </a:lnTo>
                      <a:lnTo>
                        <a:pt x="50" y="183"/>
                      </a:lnTo>
                      <a:lnTo>
                        <a:pt x="0" y="18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24" name=""/>
          <p:cNvSpPr/>
          <p:nvPr/>
        </p:nvSpPr>
        <p:spPr>
          <a:xfrm>
            <a:off x="457200" y="1523880"/>
            <a:ext cx="7772400" cy="35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s that the dollar maintains a relatively stable val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In countries with high inflation, this assumption may not be val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ccountants do not adjust the accounts for the changing value of the dollar (i.e., infl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Dollar or</a:t>
            </a:r>
            <a:br>
              <a:rPr sz="4000"/>
            </a:b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able Monetary Unit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126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4648320" y="5670720"/>
            <a:ext cx="2430360" cy="1035000"/>
            <a:chOff x="4648320" y="5670720"/>
            <a:chExt cx="2430360" cy="1035000"/>
          </a:xfrm>
        </p:grpSpPr>
        <p:grpSp>
          <p:nvGrpSpPr>
            <p:cNvPr id="1128" name=""/>
            <p:cNvGrpSpPr/>
            <p:nvPr/>
          </p:nvGrpSpPr>
          <p:grpSpPr>
            <a:xfrm>
              <a:off x="4648320" y="5670720"/>
              <a:ext cx="2430360" cy="1035000"/>
              <a:chOff x="4648320" y="5670720"/>
              <a:chExt cx="2430360" cy="1035000"/>
            </a:xfrm>
          </p:grpSpPr>
          <p:sp>
            <p:nvSpPr>
              <p:cNvPr id="1129" name=""/>
              <p:cNvSpPr/>
              <p:nvPr/>
            </p:nvSpPr>
            <p:spPr>
              <a:xfrm>
                <a:off x="4648320" y="5670720"/>
                <a:ext cx="2430360" cy="1035000"/>
              </a:xfrm>
              <a:prstGeom prst="rect">
                <a:avLst/>
              </a:prstGeom>
              <a:solidFill>
                <a:srgbClr val="bfffb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02320" y="5724720"/>
                <a:ext cx="2320920" cy="9255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865760" y="5807160"/>
                <a:ext cx="1981080" cy="750960"/>
              </a:xfrm>
              <a:prstGeom prst="rect">
                <a:avLst/>
              </a:prstGeom>
              <a:solidFill>
                <a:srgbClr val="bfffbf"/>
              </a:solidFill>
              <a:ln w="9360">
                <a:solidFill>
                  <a:srgbClr val="d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5535720" y="6415200"/>
              <a:ext cx="639720" cy="125280"/>
              <a:chOff x="5535720" y="6415200"/>
              <a:chExt cx="639720" cy="12528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5535720" y="6415200"/>
                <a:ext cx="109440" cy="123840"/>
                <a:chOff x="5535720" y="6415200"/>
                <a:chExt cx="109440" cy="123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5540400" y="6448680"/>
                  <a:ext cx="101520" cy="83880"/>
                </a:xfrm>
                <a:custGeom>
                  <a:avLst/>
                  <a:gdLst/>
                  <a:ahLst/>
                  <a:rect l="l" t="t" r="r" b="b"/>
                  <a:pathLst>
                    <a:path w="192" h="158">
                      <a:moveTo>
                        <a:pt x="192" y="158"/>
                      </a:moveTo>
                      <a:lnTo>
                        <a:pt x="122" y="124"/>
                      </a:lnTo>
                      <a:lnTo>
                        <a:pt x="50" y="74"/>
                      </a:lnTo>
                      <a:lnTo>
                        <a:pt x="0" y="0"/>
                      </a:lnTo>
                      <a:lnTo>
                        <a:pt x="48" y="10"/>
                      </a:lnTo>
                      <a:lnTo>
                        <a:pt x="111" y="38"/>
                      </a:lnTo>
                      <a:lnTo>
                        <a:pt x="154" y="87"/>
                      </a:lnTo>
                      <a:lnTo>
                        <a:pt x="192" y="158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569200" y="641520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145" h="199">
                      <a:moveTo>
                        <a:pt x="145" y="199"/>
                      </a:moveTo>
                      <a:lnTo>
                        <a:pt x="85" y="144"/>
                      </a:lnTo>
                      <a:lnTo>
                        <a:pt x="44" y="95"/>
                      </a:lnTo>
                      <a:lnTo>
                        <a:pt x="24" y="51"/>
                      </a:lnTo>
                      <a:lnTo>
                        <a:pt x="0" y="0"/>
                      </a:lnTo>
                      <a:lnTo>
                        <a:pt x="49" y="25"/>
                      </a:lnTo>
                      <a:lnTo>
                        <a:pt x="86" y="55"/>
                      </a:lnTo>
                      <a:lnTo>
                        <a:pt x="119" y="99"/>
                      </a:lnTo>
                      <a:lnTo>
                        <a:pt x="142" y="149"/>
                      </a:lnTo>
                      <a:lnTo>
                        <a:pt x="145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535720" y="6496200"/>
                  <a:ext cx="98280" cy="4284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81"/>
                      </a:moveTo>
                      <a:lnTo>
                        <a:pt x="118" y="65"/>
                      </a:lnTo>
                      <a:lnTo>
                        <a:pt x="47" y="39"/>
                      </a:lnTo>
                      <a:lnTo>
                        <a:pt x="0" y="0"/>
                      </a:lnTo>
                      <a:lnTo>
                        <a:pt x="47" y="3"/>
                      </a:lnTo>
                      <a:lnTo>
                        <a:pt x="106" y="18"/>
                      </a:lnTo>
                      <a:lnTo>
                        <a:pt x="147" y="41"/>
                      </a:lnTo>
                      <a:lnTo>
                        <a:pt x="184" y="81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066000" y="6418440"/>
                <a:ext cx="109440" cy="122040"/>
                <a:chOff x="6066000" y="6418440"/>
                <a:chExt cx="109440" cy="1220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070680" y="6451560"/>
                  <a:ext cx="101520" cy="82800"/>
                </a:xfrm>
                <a:custGeom>
                  <a:avLst/>
                  <a:gdLst/>
                  <a:ahLst/>
                  <a:rect l="l" t="t" r="r" b="b"/>
                  <a:pathLst>
                    <a:path w="193" h="157">
                      <a:moveTo>
                        <a:pt x="0" y="157"/>
                      </a:moveTo>
                      <a:lnTo>
                        <a:pt x="70" y="123"/>
                      </a:lnTo>
                      <a:lnTo>
                        <a:pt x="141" y="73"/>
                      </a:lnTo>
                      <a:lnTo>
                        <a:pt x="193" y="0"/>
                      </a:lnTo>
                      <a:lnTo>
                        <a:pt x="145" y="9"/>
                      </a:lnTo>
                      <a:lnTo>
                        <a:pt x="81" y="37"/>
                      </a:lnTo>
                      <a:lnTo>
                        <a:pt x="38" y="86"/>
                      </a:lnTo>
                      <a:lnTo>
                        <a:pt x="0" y="157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066000" y="6418440"/>
                  <a:ext cx="77760" cy="104760"/>
                </a:xfrm>
                <a:custGeom>
                  <a:avLst/>
                  <a:gdLst/>
                  <a:ahLst/>
                  <a:rect l="l" t="t" r="r" b="b"/>
                  <a:pathLst>
                    <a:path w="147" h="199">
                      <a:moveTo>
                        <a:pt x="0" y="199"/>
                      </a:moveTo>
                      <a:lnTo>
                        <a:pt x="62" y="144"/>
                      </a:lnTo>
                      <a:lnTo>
                        <a:pt x="102" y="95"/>
                      </a:lnTo>
                      <a:lnTo>
                        <a:pt x="123" y="51"/>
                      </a:lnTo>
                      <a:lnTo>
                        <a:pt x="147" y="0"/>
                      </a:lnTo>
                      <a:lnTo>
                        <a:pt x="96" y="24"/>
                      </a:lnTo>
                      <a:lnTo>
                        <a:pt x="61" y="54"/>
                      </a:lnTo>
                      <a:lnTo>
                        <a:pt x="27" y="98"/>
                      </a:lnTo>
                      <a:lnTo>
                        <a:pt x="3" y="14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078600" y="6497640"/>
                  <a:ext cx="96840" cy="42840"/>
                </a:xfrm>
                <a:custGeom>
                  <a:avLst/>
                  <a:gdLst/>
                  <a:ahLst/>
                  <a:rect l="l" t="t" r="r" b="b"/>
                  <a:pathLst>
                    <a:path w="185" h="82">
                      <a:moveTo>
                        <a:pt x="0" y="82"/>
                      </a:moveTo>
                      <a:lnTo>
                        <a:pt x="66" y="64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lnTo>
                        <a:pt x="136" y="4"/>
                      </a:lnTo>
                      <a:lnTo>
                        <a:pt x="78" y="19"/>
                      </a:lnTo>
                      <a:lnTo>
                        <a:pt x="38" y="4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1" name=""/>
            <p:cNvGrpSpPr/>
            <p:nvPr/>
          </p:nvGrpSpPr>
          <p:grpSpPr>
            <a:xfrm>
              <a:off x="5353200" y="5942160"/>
              <a:ext cx="1006560" cy="700200"/>
              <a:chOff x="5353200" y="5942160"/>
              <a:chExt cx="1006560" cy="700200"/>
            </a:xfrm>
          </p:grpSpPr>
          <p:grpSp>
            <p:nvGrpSpPr>
              <p:cNvPr id="1142" name=""/>
              <p:cNvGrpSpPr/>
              <p:nvPr/>
            </p:nvGrpSpPr>
            <p:grpSpPr>
              <a:xfrm>
                <a:off x="5573880" y="5942160"/>
                <a:ext cx="557280" cy="681120"/>
                <a:chOff x="5573880" y="5942160"/>
                <a:chExt cx="557280" cy="681120"/>
              </a:xfrm>
            </p:grpSpPr>
            <p:grpSp>
              <p:nvGrpSpPr>
                <p:cNvPr id="1143" name=""/>
                <p:cNvGrpSpPr/>
                <p:nvPr/>
              </p:nvGrpSpPr>
              <p:grpSpPr>
                <a:xfrm>
                  <a:off x="5573880" y="5942160"/>
                  <a:ext cx="557280" cy="681120"/>
                  <a:chOff x="5573880" y="5942160"/>
                  <a:chExt cx="557280" cy="681120"/>
                </a:xfrm>
              </p:grpSpPr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573880" y="5942160"/>
                    <a:ext cx="557280" cy="136440"/>
                    <a:chOff x="5573880" y="5942160"/>
                    <a:chExt cx="557280" cy="13644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5573880" y="5942160"/>
                      <a:ext cx="27144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0" y="0"/>
                          </a:moveTo>
                          <a:lnTo>
                            <a:pt x="515" y="0"/>
                          </a:lnTo>
                          <a:lnTo>
                            <a:pt x="515" y="256"/>
                          </a:lnTo>
                          <a:lnTo>
                            <a:pt x="147" y="256"/>
                          </a:lnTo>
                          <a:lnTo>
                            <a:pt x="147" y="124"/>
                          </a:lnTo>
                          <a:lnTo>
                            <a:pt x="141" y="102"/>
                          </a:lnTo>
                          <a:lnTo>
                            <a:pt x="128" y="91"/>
                          </a:lnTo>
                          <a:lnTo>
                            <a:pt x="105" y="85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936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5859720" y="5942160"/>
                      <a:ext cx="27144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256">
                          <a:moveTo>
                            <a:pt x="515" y="0"/>
                          </a:moveTo>
                          <a:lnTo>
                            <a:pt x="0" y="0"/>
                          </a:lnTo>
                          <a:lnTo>
                            <a:pt x="0" y="256"/>
                          </a:lnTo>
                          <a:lnTo>
                            <a:pt x="368" y="256"/>
                          </a:lnTo>
                          <a:lnTo>
                            <a:pt x="368" y="124"/>
                          </a:lnTo>
                          <a:lnTo>
                            <a:pt x="374" y="102"/>
                          </a:lnTo>
                          <a:lnTo>
                            <a:pt x="387" y="91"/>
                          </a:lnTo>
                          <a:lnTo>
                            <a:pt x="410" y="85"/>
                          </a:lnTo>
                          <a:lnTo>
                            <a:pt x="515" y="85"/>
                          </a:lnTo>
                          <a:lnTo>
                            <a:pt x="515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9360">
                      <a:solidFill>
                        <a:srgbClr val="3f5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7" name=""/>
                  <p:cNvSpPr/>
                  <p:nvPr/>
                </p:nvSpPr>
                <p:spPr>
                  <a:xfrm>
                    <a:off x="5588280" y="5943600"/>
                    <a:ext cx="537840" cy="679680"/>
                  </a:xfrm>
                  <a:prstGeom prst="ellipse">
                    <a:avLst/>
                  </a:prstGeom>
                  <a:solidFill>
                    <a:srgbClr val="3f5f00"/>
                  </a:solidFill>
                  <a:ln w="9360">
                    <a:solidFill>
                      <a:srgbClr val="dfffb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599080" y="5965920"/>
                  <a:ext cx="500040" cy="593640"/>
                  <a:chOff x="5599080" y="5965920"/>
                  <a:chExt cx="500040" cy="59364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929560" y="6315120"/>
                    <a:ext cx="1695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463">
                        <a:moveTo>
                          <a:pt x="0" y="0"/>
                        </a:moveTo>
                        <a:lnTo>
                          <a:pt x="66" y="29"/>
                        </a:lnTo>
                        <a:lnTo>
                          <a:pt x="74" y="93"/>
                        </a:lnTo>
                        <a:lnTo>
                          <a:pt x="157" y="125"/>
                        </a:lnTo>
                        <a:lnTo>
                          <a:pt x="264" y="147"/>
                        </a:lnTo>
                        <a:lnTo>
                          <a:pt x="322" y="176"/>
                        </a:lnTo>
                        <a:lnTo>
                          <a:pt x="315" y="202"/>
                        </a:lnTo>
                        <a:lnTo>
                          <a:pt x="299" y="240"/>
                        </a:lnTo>
                        <a:lnTo>
                          <a:pt x="279" y="281"/>
                        </a:lnTo>
                        <a:lnTo>
                          <a:pt x="260" y="315"/>
                        </a:lnTo>
                        <a:lnTo>
                          <a:pt x="240" y="345"/>
                        </a:lnTo>
                        <a:lnTo>
                          <a:pt x="218" y="383"/>
                        </a:lnTo>
                        <a:lnTo>
                          <a:pt x="180" y="425"/>
                        </a:lnTo>
                        <a:lnTo>
                          <a:pt x="148" y="463"/>
                        </a:lnTo>
                        <a:lnTo>
                          <a:pt x="45" y="128"/>
                        </a:lnTo>
                        <a:lnTo>
                          <a:pt x="3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770800" y="6283440"/>
                    <a:ext cx="23796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19">
                        <a:moveTo>
                          <a:pt x="451" y="519"/>
                        </a:moveTo>
                        <a:lnTo>
                          <a:pt x="251" y="519"/>
                        </a:lnTo>
                        <a:lnTo>
                          <a:pt x="165" y="519"/>
                        </a:lnTo>
                        <a:lnTo>
                          <a:pt x="165" y="422"/>
                        </a:lnTo>
                        <a:lnTo>
                          <a:pt x="125" y="298"/>
                        </a:lnTo>
                        <a:lnTo>
                          <a:pt x="80" y="173"/>
                        </a:lnTo>
                        <a:lnTo>
                          <a:pt x="87" y="100"/>
                        </a:lnTo>
                        <a:lnTo>
                          <a:pt x="28" y="58"/>
                        </a:lnTo>
                        <a:lnTo>
                          <a:pt x="0" y="0"/>
                        </a:lnTo>
                        <a:lnTo>
                          <a:pt x="55" y="32"/>
                        </a:lnTo>
                        <a:lnTo>
                          <a:pt x="112" y="62"/>
                        </a:lnTo>
                        <a:lnTo>
                          <a:pt x="175" y="75"/>
                        </a:lnTo>
                        <a:lnTo>
                          <a:pt x="206" y="83"/>
                        </a:lnTo>
                        <a:lnTo>
                          <a:pt x="234" y="83"/>
                        </a:lnTo>
                        <a:lnTo>
                          <a:pt x="274" y="75"/>
                        </a:lnTo>
                        <a:lnTo>
                          <a:pt x="303" y="60"/>
                        </a:lnTo>
                        <a:lnTo>
                          <a:pt x="306" y="141"/>
                        </a:lnTo>
                        <a:lnTo>
                          <a:pt x="347" y="192"/>
                        </a:lnTo>
                        <a:lnTo>
                          <a:pt x="410" y="390"/>
                        </a:lnTo>
                        <a:lnTo>
                          <a:pt x="451" y="519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734080" y="5988240"/>
                    <a:ext cx="25236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41">
                        <a:moveTo>
                          <a:pt x="52" y="503"/>
                        </a:moveTo>
                        <a:lnTo>
                          <a:pt x="45" y="429"/>
                        </a:lnTo>
                        <a:lnTo>
                          <a:pt x="13" y="346"/>
                        </a:lnTo>
                        <a:lnTo>
                          <a:pt x="0" y="218"/>
                        </a:lnTo>
                        <a:lnTo>
                          <a:pt x="62" y="83"/>
                        </a:lnTo>
                        <a:lnTo>
                          <a:pt x="142" y="29"/>
                        </a:lnTo>
                        <a:lnTo>
                          <a:pt x="242" y="4"/>
                        </a:lnTo>
                        <a:lnTo>
                          <a:pt x="332" y="0"/>
                        </a:lnTo>
                        <a:lnTo>
                          <a:pt x="403" y="42"/>
                        </a:lnTo>
                        <a:lnTo>
                          <a:pt x="461" y="144"/>
                        </a:lnTo>
                        <a:lnTo>
                          <a:pt x="478" y="231"/>
                        </a:lnTo>
                        <a:lnTo>
                          <a:pt x="474" y="344"/>
                        </a:lnTo>
                        <a:lnTo>
                          <a:pt x="464" y="429"/>
                        </a:lnTo>
                        <a:lnTo>
                          <a:pt x="457" y="469"/>
                        </a:lnTo>
                        <a:lnTo>
                          <a:pt x="445" y="501"/>
                        </a:lnTo>
                        <a:lnTo>
                          <a:pt x="423" y="535"/>
                        </a:lnTo>
                        <a:lnTo>
                          <a:pt x="396" y="552"/>
                        </a:lnTo>
                        <a:lnTo>
                          <a:pt x="368" y="561"/>
                        </a:lnTo>
                        <a:lnTo>
                          <a:pt x="370" y="620"/>
                        </a:lnTo>
                        <a:lnTo>
                          <a:pt x="345" y="633"/>
                        </a:lnTo>
                        <a:lnTo>
                          <a:pt x="309" y="641"/>
                        </a:lnTo>
                        <a:lnTo>
                          <a:pt x="245" y="639"/>
                        </a:lnTo>
                        <a:lnTo>
                          <a:pt x="193" y="620"/>
                        </a:lnTo>
                        <a:lnTo>
                          <a:pt x="117" y="587"/>
                        </a:lnTo>
                        <a:lnTo>
                          <a:pt x="68" y="558"/>
                        </a:lnTo>
                        <a:lnTo>
                          <a:pt x="52" y="503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734080" y="6127920"/>
                    <a:ext cx="18756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442">
                        <a:moveTo>
                          <a:pt x="106" y="0"/>
                        </a:moveTo>
                        <a:lnTo>
                          <a:pt x="132" y="87"/>
                        </a:lnTo>
                        <a:lnTo>
                          <a:pt x="145" y="147"/>
                        </a:lnTo>
                        <a:lnTo>
                          <a:pt x="164" y="202"/>
                        </a:lnTo>
                        <a:lnTo>
                          <a:pt x="193" y="253"/>
                        </a:lnTo>
                        <a:lnTo>
                          <a:pt x="204" y="266"/>
                        </a:lnTo>
                        <a:lnTo>
                          <a:pt x="225" y="283"/>
                        </a:lnTo>
                        <a:lnTo>
                          <a:pt x="246" y="294"/>
                        </a:lnTo>
                        <a:lnTo>
                          <a:pt x="274" y="302"/>
                        </a:lnTo>
                        <a:lnTo>
                          <a:pt x="295" y="307"/>
                        </a:lnTo>
                        <a:lnTo>
                          <a:pt x="311" y="310"/>
                        </a:lnTo>
                        <a:lnTo>
                          <a:pt x="332" y="310"/>
                        </a:lnTo>
                        <a:lnTo>
                          <a:pt x="354" y="305"/>
                        </a:lnTo>
                        <a:lnTo>
                          <a:pt x="332" y="330"/>
                        </a:lnTo>
                        <a:lnTo>
                          <a:pt x="290" y="357"/>
                        </a:lnTo>
                        <a:lnTo>
                          <a:pt x="261" y="385"/>
                        </a:lnTo>
                        <a:lnTo>
                          <a:pt x="242" y="414"/>
                        </a:lnTo>
                        <a:lnTo>
                          <a:pt x="222" y="433"/>
                        </a:lnTo>
                        <a:lnTo>
                          <a:pt x="178" y="440"/>
                        </a:lnTo>
                        <a:lnTo>
                          <a:pt x="117" y="442"/>
                        </a:lnTo>
                        <a:lnTo>
                          <a:pt x="26" y="376"/>
                        </a:lnTo>
                        <a:lnTo>
                          <a:pt x="0" y="324"/>
                        </a:lnTo>
                        <a:lnTo>
                          <a:pt x="35" y="212"/>
                        </a:lnTo>
                        <a:lnTo>
                          <a:pt x="55" y="100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837400" y="6091200"/>
                    <a:ext cx="147600" cy="133560"/>
                    <a:chOff x="5837400" y="6091200"/>
                    <a:chExt cx="147600" cy="1335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5889600" y="6212160"/>
                      <a:ext cx="61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25">
                          <a:moveTo>
                            <a:pt x="0" y="9"/>
                          </a:moveTo>
                          <a:lnTo>
                            <a:pt x="11" y="4"/>
                          </a:lnTo>
                          <a:lnTo>
                            <a:pt x="29" y="1"/>
                          </a:lnTo>
                          <a:lnTo>
                            <a:pt x="46" y="4"/>
                          </a:lnTo>
                          <a:lnTo>
                            <a:pt x="61" y="4"/>
                          </a:lnTo>
                          <a:lnTo>
                            <a:pt x="81" y="0"/>
                          </a:lnTo>
                          <a:lnTo>
                            <a:pt x="94" y="1"/>
                          </a:lnTo>
                          <a:lnTo>
                            <a:pt x="107" y="1"/>
                          </a:lnTo>
                          <a:lnTo>
                            <a:pt x="118" y="9"/>
                          </a:lnTo>
                          <a:lnTo>
                            <a:pt x="100" y="18"/>
                          </a:lnTo>
                          <a:lnTo>
                            <a:pt x="69" y="25"/>
                          </a:lnTo>
                          <a:lnTo>
                            <a:pt x="33" y="25"/>
                          </a:lnTo>
                          <a:lnTo>
                            <a:pt x="14" y="18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5891400" y="6178680"/>
                      <a:ext cx="507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7">
                          <a:moveTo>
                            <a:pt x="21" y="5"/>
                          </a:move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lnTo>
                            <a:pt x="0" y="12"/>
                          </a:lnTo>
                          <a:lnTo>
                            <a:pt x="8" y="17"/>
                          </a:lnTo>
                          <a:lnTo>
                            <a:pt x="21" y="18"/>
                          </a:lnTo>
                          <a:lnTo>
                            <a:pt x="36" y="19"/>
                          </a:lnTo>
                          <a:lnTo>
                            <a:pt x="48" y="24"/>
                          </a:lnTo>
                          <a:lnTo>
                            <a:pt x="62" y="27"/>
                          </a:lnTo>
                          <a:lnTo>
                            <a:pt x="75" y="27"/>
                          </a:lnTo>
                          <a:lnTo>
                            <a:pt x="86" y="23"/>
                          </a:lnTo>
                          <a:lnTo>
                            <a:pt x="92" y="16"/>
                          </a:lnTo>
                          <a:lnTo>
                            <a:pt x="97" y="6"/>
                          </a:lnTo>
                          <a:lnTo>
                            <a:pt x="86" y="9"/>
                          </a:lnTo>
                          <a:lnTo>
                            <a:pt x="79" y="13"/>
                          </a:lnTo>
                          <a:lnTo>
                            <a:pt x="74" y="12"/>
                          </a:lnTo>
                          <a:lnTo>
                            <a:pt x="63" y="9"/>
                          </a:lnTo>
                          <a:lnTo>
                            <a:pt x="54" y="5"/>
                          </a:lnTo>
                          <a:lnTo>
                            <a:pt x="46" y="3"/>
                          </a:lnTo>
                          <a:lnTo>
                            <a:pt x="33" y="6"/>
                          </a:lnTo>
                          <a:lnTo>
                            <a:pt x="21" y="5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5837400" y="6091200"/>
                      <a:ext cx="8424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58">
                          <a:moveTo>
                            <a:pt x="0" y="28"/>
                          </a:moveTo>
                          <a:lnTo>
                            <a:pt x="19" y="13"/>
                          </a:lnTo>
                          <a:lnTo>
                            <a:pt x="43" y="5"/>
                          </a:lnTo>
                          <a:lnTo>
                            <a:pt x="69" y="0"/>
                          </a:lnTo>
                          <a:lnTo>
                            <a:pt x="99" y="2"/>
                          </a:lnTo>
                          <a:lnTo>
                            <a:pt x="119" y="13"/>
                          </a:lnTo>
                          <a:lnTo>
                            <a:pt x="136" y="33"/>
                          </a:lnTo>
                          <a:lnTo>
                            <a:pt x="144" y="76"/>
                          </a:lnTo>
                          <a:lnTo>
                            <a:pt x="152" y="116"/>
                          </a:lnTo>
                          <a:lnTo>
                            <a:pt x="157" y="158"/>
                          </a:lnTo>
                          <a:lnTo>
                            <a:pt x="142" y="150"/>
                          </a:lnTo>
                          <a:lnTo>
                            <a:pt x="126" y="144"/>
                          </a:lnTo>
                          <a:lnTo>
                            <a:pt x="106" y="151"/>
                          </a:lnTo>
                          <a:lnTo>
                            <a:pt x="117" y="107"/>
                          </a:lnTo>
                          <a:lnTo>
                            <a:pt x="125" y="65"/>
                          </a:lnTo>
                          <a:lnTo>
                            <a:pt x="123" y="43"/>
                          </a:lnTo>
                          <a:lnTo>
                            <a:pt x="105" y="22"/>
                          </a:lnTo>
                          <a:lnTo>
                            <a:pt x="58" y="18"/>
                          </a:lnTo>
                          <a:lnTo>
                            <a:pt x="0" y="28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5918400" y="6094440"/>
                      <a:ext cx="666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29">
                          <a:moveTo>
                            <a:pt x="0" y="29"/>
                          </a:moveTo>
                          <a:lnTo>
                            <a:pt x="26" y="8"/>
                          </a:lnTo>
                          <a:lnTo>
                            <a:pt x="48" y="0"/>
                          </a:lnTo>
                          <a:lnTo>
                            <a:pt x="81" y="1"/>
                          </a:lnTo>
                          <a:lnTo>
                            <a:pt x="110" y="13"/>
                          </a:lnTo>
                          <a:lnTo>
                            <a:pt x="125" y="27"/>
                          </a:lnTo>
                          <a:lnTo>
                            <a:pt x="121" y="29"/>
                          </a:lnTo>
                          <a:lnTo>
                            <a:pt x="95" y="20"/>
                          </a:lnTo>
                          <a:lnTo>
                            <a:pt x="61" y="13"/>
                          </a:lnTo>
                          <a:lnTo>
                            <a:pt x="24" y="25"/>
                          </a:lnTo>
                          <a:lnTo>
                            <a:pt x="0" y="29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5856480" y="6112080"/>
                      <a:ext cx="381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4">
                          <a:moveTo>
                            <a:pt x="0" y="11"/>
                          </a:moveTo>
                          <a:lnTo>
                            <a:pt x="12" y="6"/>
                          </a:lnTo>
                          <a:lnTo>
                            <a:pt x="31" y="1"/>
                          </a:lnTo>
                          <a:lnTo>
                            <a:pt x="44" y="0"/>
                          </a:lnTo>
                          <a:lnTo>
                            <a:pt x="62" y="7"/>
                          </a:lnTo>
                          <a:lnTo>
                            <a:pt x="73" y="14"/>
                          </a:lnTo>
                          <a:lnTo>
                            <a:pt x="56" y="23"/>
                          </a:lnTo>
                          <a:lnTo>
                            <a:pt x="36" y="24"/>
                          </a:lnTo>
                          <a:lnTo>
                            <a:pt x="15" y="21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5931000" y="6110280"/>
                      <a:ext cx="381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22">
                          <a:moveTo>
                            <a:pt x="73" y="10"/>
                          </a:moveTo>
                          <a:lnTo>
                            <a:pt x="62" y="6"/>
                          </a:lnTo>
                          <a:lnTo>
                            <a:pt x="42" y="0"/>
                          </a:lnTo>
                          <a:lnTo>
                            <a:pt x="29" y="0"/>
                          </a:lnTo>
                          <a:lnTo>
                            <a:pt x="11" y="8"/>
                          </a:lnTo>
                          <a:lnTo>
                            <a:pt x="0" y="14"/>
                          </a:lnTo>
                          <a:lnTo>
                            <a:pt x="18" y="21"/>
                          </a:lnTo>
                          <a:lnTo>
                            <a:pt x="37" y="22"/>
                          </a:lnTo>
                          <a:lnTo>
                            <a:pt x="58" y="20"/>
                          </a:lnTo>
                          <a:lnTo>
                            <a:pt x="73" y="10"/>
                          </a:lnTo>
                          <a:close/>
                        </a:path>
                      </a:pathLst>
                    </a:cu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5654880" y="5965920"/>
                    <a:ext cx="3823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4" h="526">
                        <a:moveTo>
                          <a:pt x="361" y="13"/>
                        </a:moveTo>
                        <a:lnTo>
                          <a:pt x="283" y="19"/>
                        </a:lnTo>
                        <a:lnTo>
                          <a:pt x="219" y="52"/>
                        </a:lnTo>
                        <a:lnTo>
                          <a:pt x="141" y="106"/>
                        </a:lnTo>
                        <a:lnTo>
                          <a:pt x="93" y="193"/>
                        </a:lnTo>
                        <a:lnTo>
                          <a:pt x="61" y="254"/>
                        </a:lnTo>
                        <a:lnTo>
                          <a:pt x="19" y="299"/>
                        </a:lnTo>
                        <a:lnTo>
                          <a:pt x="0" y="333"/>
                        </a:lnTo>
                        <a:lnTo>
                          <a:pt x="25" y="386"/>
                        </a:lnTo>
                        <a:lnTo>
                          <a:pt x="60" y="418"/>
                        </a:lnTo>
                        <a:lnTo>
                          <a:pt x="116" y="443"/>
                        </a:lnTo>
                        <a:lnTo>
                          <a:pt x="180" y="469"/>
                        </a:lnTo>
                        <a:lnTo>
                          <a:pt x="206" y="494"/>
                        </a:lnTo>
                        <a:lnTo>
                          <a:pt x="274" y="526"/>
                        </a:lnTo>
                        <a:lnTo>
                          <a:pt x="306" y="511"/>
                        </a:lnTo>
                        <a:lnTo>
                          <a:pt x="289" y="356"/>
                        </a:lnTo>
                        <a:lnTo>
                          <a:pt x="309" y="231"/>
                        </a:lnTo>
                        <a:lnTo>
                          <a:pt x="344" y="148"/>
                        </a:lnTo>
                        <a:lnTo>
                          <a:pt x="405" y="97"/>
                        </a:lnTo>
                        <a:lnTo>
                          <a:pt x="444" y="84"/>
                        </a:lnTo>
                        <a:lnTo>
                          <a:pt x="490" y="87"/>
                        </a:lnTo>
                        <a:lnTo>
                          <a:pt x="534" y="106"/>
                        </a:lnTo>
                        <a:lnTo>
                          <a:pt x="580" y="138"/>
                        </a:lnTo>
                        <a:lnTo>
                          <a:pt x="597" y="167"/>
                        </a:lnTo>
                        <a:lnTo>
                          <a:pt x="615" y="203"/>
                        </a:lnTo>
                        <a:lnTo>
                          <a:pt x="620" y="238"/>
                        </a:lnTo>
                        <a:lnTo>
                          <a:pt x="612" y="267"/>
                        </a:lnTo>
                        <a:lnTo>
                          <a:pt x="612" y="299"/>
                        </a:lnTo>
                        <a:lnTo>
                          <a:pt x="625" y="365"/>
                        </a:lnTo>
                        <a:lnTo>
                          <a:pt x="615" y="405"/>
                        </a:lnTo>
                        <a:lnTo>
                          <a:pt x="615" y="450"/>
                        </a:lnTo>
                        <a:lnTo>
                          <a:pt x="670" y="456"/>
                        </a:lnTo>
                        <a:lnTo>
                          <a:pt x="705" y="439"/>
                        </a:lnTo>
                        <a:lnTo>
                          <a:pt x="724" y="401"/>
                        </a:lnTo>
                        <a:lnTo>
                          <a:pt x="712" y="331"/>
                        </a:lnTo>
                        <a:lnTo>
                          <a:pt x="680" y="263"/>
                        </a:lnTo>
                        <a:lnTo>
                          <a:pt x="631" y="189"/>
                        </a:lnTo>
                        <a:lnTo>
                          <a:pt x="606" y="129"/>
                        </a:lnTo>
                        <a:lnTo>
                          <a:pt x="574" y="80"/>
                        </a:lnTo>
                        <a:lnTo>
                          <a:pt x="544" y="55"/>
                        </a:lnTo>
                        <a:lnTo>
                          <a:pt x="502" y="29"/>
                        </a:lnTo>
                        <a:lnTo>
                          <a:pt x="412" y="0"/>
                        </a:lnTo>
                        <a:lnTo>
                          <a:pt x="361" y="13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6220080"/>
                    <a:ext cx="26532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41">
                        <a:moveTo>
                          <a:pt x="300" y="0"/>
                        </a:moveTo>
                        <a:lnTo>
                          <a:pt x="307" y="80"/>
                        </a:lnTo>
                        <a:lnTo>
                          <a:pt x="336" y="154"/>
                        </a:lnTo>
                        <a:lnTo>
                          <a:pt x="378" y="203"/>
                        </a:lnTo>
                        <a:lnTo>
                          <a:pt x="416" y="235"/>
                        </a:lnTo>
                        <a:lnTo>
                          <a:pt x="410" y="295"/>
                        </a:lnTo>
                        <a:lnTo>
                          <a:pt x="446" y="388"/>
                        </a:lnTo>
                        <a:lnTo>
                          <a:pt x="484" y="508"/>
                        </a:lnTo>
                        <a:lnTo>
                          <a:pt x="500" y="641"/>
                        </a:lnTo>
                        <a:lnTo>
                          <a:pt x="209" y="641"/>
                        </a:lnTo>
                        <a:lnTo>
                          <a:pt x="174" y="614"/>
                        </a:lnTo>
                        <a:lnTo>
                          <a:pt x="137" y="570"/>
                        </a:lnTo>
                        <a:lnTo>
                          <a:pt x="104" y="518"/>
                        </a:lnTo>
                        <a:lnTo>
                          <a:pt x="71" y="461"/>
                        </a:lnTo>
                        <a:lnTo>
                          <a:pt x="39" y="392"/>
                        </a:lnTo>
                        <a:lnTo>
                          <a:pt x="16" y="319"/>
                        </a:lnTo>
                        <a:lnTo>
                          <a:pt x="7" y="260"/>
                        </a:lnTo>
                        <a:lnTo>
                          <a:pt x="0" y="228"/>
                        </a:lnTo>
                        <a:lnTo>
                          <a:pt x="68" y="228"/>
                        </a:lnTo>
                        <a:lnTo>
                          <a:pt x="120" y="218"/>
                        </a:lnTo>
                        <a:lnTo>
                          <a:pt x="180" y="171"/>
                        </a:lnTo>
                        <a:lnTo>
                          <a:pt x="229" y="106"/>
                        </a:lnTo>
                        <a:lnTo>
                          <a:pt x="30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2" name=""/>
              <p:cNvSpPr/>
              <p:nvPr/>
            </p:nvSpPr>
            <p:spPr>
              <a:xfrm>
                <a:off x="5353200" y="6510600"/>
                <a:ext cx="1006560" cy="131760"/>
              </a:xfrm>
              <a:prstGeom prst="rect">
                <a:avLst/>
              </a:prstGeom>
              <a:solidFill>
                <a:srgbClr val="008000"/>
              </a:solidFill>
              <a:ln w="4680">
                <a:solidFill>
                  <a:srgbClr val="bff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5324760" y="5722920"/>
              <a:ext cx="1064880" cy="777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4719600" y="5727960"/>
              <a:ext cx="385920" cy="361800"/>
              <a:chOff x="4719600" y="5727960"/>
              <a:chExt cx="385920" cy="361800"/>
            </a:xfrm>
          </p:grpSpPr>
          <p:sp>
            <p:nvSpPr>
              <p:cNvPr id="1165" name=""/>
              <p:cNvSpPr/>
              <p:nvPr/>
            </p:nvSpPr>
            <p:spPr>
              <a:xfrm>
                <a:off x="4959360" y="5759640"/>
                <a:ext cx="146160" cy="322200"/>
              </a:xfrm>
              <a:custGeom>
                <a:avLst/>
                <a:gdLst/>
                <a:ahLst/>
                <a:rect l="l" t="t" r="r" b="b"/>
                <a:pathLst>
                  <a:path w="275" h="611">
                    <a:moveTo>
                      <a:pt x="29" y="258"/>
                    </a:moveTo>
                    <a:lnTo>
                      <a:pt x="17" y="219"/>
                    </a:lnTo>
                    <a:lnTo>
                      <a:pt x="6" y="175"/>
                    </a:lnTo>
                    <a:lnTo>
                      <a:pt x="0" y="120"/>
                    </a:lnTo>
                    <a:lnTo>
                      <a:pt x="13" y="63"/>
                    </a:lnTo>
                    <a:lnTo>
                      <a:pt x="37" y="0"/>
                    </a:lnTo>
                    <a:lnTo>
                      <a:pt x="71" y="57"/>
                    </a:lnTo>
                    <a:lnTo>
                      <a:pt x="90" y="101"/>
                    </a:lnTo>
                    <a:lnTo>
                      <a:pt x="97" y="156"/>
                    </a:lnTo>
                    <a:lnTo>
                      <a:pt x="92" y="215"/>
                    </a:lnTo>
                    <a:lnTo>
                      <a:pt x="84" y="262"/>
                    </a:lnTo>
                    <a:lnTo>
                      <a:pt x="73" y="290"/>
                    </a:lnTo>
                    <a:lnTo>
                      <a:pt x="94" y="262"/>
                    </a:lnTo>
                    <a:lnTo>
                      <a:pt x="130" y="226"/>
                    </a:lnTo>
                    <a:lnTo>
                      <a:pt x="166" y="205"/>
                    </a:lnTo>
                    <a:lnTo>
                      <a:pt x="197" y="188"/>
                    </a:lnTo>
                    <a:lnTo>
                      <a:pt x="240" y="180"/>
                    </a:lnTo>
                    <a:lnTo>
                      <a:pt x="275" y="174"/>
                    </a:lnTo>
                    <a:lnTo>
                      <a:pt x="259" y="214"/>
                    </a:lnTo>
                    <a:lnTo>
                      <a:pt x="243" y="259"/>
                    </a:lnTo>
                    <a:lnTo>
                      <a:pt x="208" y="296"/>
                    </a:lnTo>
                    <a:lnTo>
                      <a:pt x="179" y="318"/>
                    </a:lnTo>
                    <a:lnTo>
                      <a:pt x="130" y="333"/>
                    </a:lnTo>
                    <a:lnTo>
                      <a:pt x="86" y="338"/>
                    </a:lnTo>
                    <a:lnTo>
                      <a:pt x="136" y="363"/>
                    </a:lnTo>
                    <a:lnTo>
                      <a:pt x="171" y="388"/>
                    </a:lnTo>
                    <a:lnTo>
                      <a:pt x="188" y="414"/>
                    </a:lnTo>
                    <a:lnTo>
                      <a:pt x="204" y="444"/>
                    </a:lnTo>
                    <a:lnTo>
                      <a:pt x="207" y="471"/>
                    </a:lnTo>
                    <a:lnTo>
                      <a:pt x="215" y="514"/>
                    </a:lnTo>
                    <a:lnTo>
                      <a:pt x="155" y="493"/>
                    </a:lnTo>
                    <a:lnTo>
                      <a:pt x="118" y="469"/>
                    </a:lnTo>
                    <a:lnTo>
                      <a:pt x="99" y="441"/>
                    </a:lnTo>
                    <a:lnTo>
                      <a:pt x="71" y="386"/>
                    </a:lnTo>
                    <a:lnTo>
                      <a:pt x="94" y="438"/>
                    </a:lnTo>
                    <a:lnTo>
                      <a:pt x="103" y="490"/>
                    </a:lnTo>
                    <a:lnTo>
                      <a:pt x="108" y="526"/>
                    </a:lnTo>
                    <a:lnTo>
                      <a:pt x="102" y="574"/>
                    </a:lnTo>
                    <a:lnTo>
                      <a:pt x="100" y="611"/>
                    </a:lnTo>
                    <a:lnTo>
                      <a:pt x="48" y="565"/>
                    </a:lnTo>
                    <a:lnTo>
                      <a:pt x="22" y="505"/>
                    </a:lnTo>
                    <a:lnTo>
                      <a:pt x="12" y="441"/>
                    </a:lnTo>
                    <a:lnTo>
                      <a:pt x="28" y="376"/>
                    </a:lnTo>
                    <a:lnTo>
                      <a:pt x="28" y="323"/>
                    </a:lnTo>
                    <a:lnTo>
                      <a:pt x="29" y="294"/>
                    </a:lnTo>
                    <a:lnTo>
                      <a:pt x="29" y="258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719600" y="5727960"/>
                <a:ext cx="103320" cy="147600"/>
              </a:xfrm>
              <a:custGeom>
                <a:avLst/>
                <a:gdLst/>
                <a:ahLst/>
                <a:rect l="l" t="t" r="r" b="b"/>
                <a:pathLst>
                  <a:path w="197" h="278">
                    <a:moveTo>
                      <a:pt x="79" y="249"/>
                    </a:moveTo>
                    <a:lnTo>
                      <a:pt x="44" y="223"/>
                    </a:lnTo>
                    <a:lnTo>
                      <a:pt x="26" y="198"/>
                    </a:lnTo>
                    <a:lnTo>
                      <a:pt x="11" y="168"/>
                    </a:lnTo>
                    <a:lnTo>
                      <a:pt x="8" y="141"/>
                    </a:lnTo>
                    <a:lnTo>
                      <a:pt x="0" y="98"/>
                    </a:lnTo>
                    <a:lnTo>
                      <a:pt x="58" y="117"/>
                    </a:lnTo>
                    <a:lnTo>
                      <a:pt x="97" y="143"/>
                    </a:lnTo>
                    <a:lnTo>
                      <a:pt x="116" y="170"/>
                    </a:lnTo>
                    <a:lnTo>
                      <a:pt x="144" y="224"/>
                    </a:lnTo>
                    <a:lnTo>
                      <a:pt x="120" y="174"/>
                    </a:lnTo>
                    <a:lnTo>
                      <a:pt x="111" y="122"/>
                    </a:lnTo>
                    <a:lnTo>
                      <a:pt x="107" y="85"/>
                    </a:lnTo>
                    <a:lnTo>
                      <a:pt x="113" y="38"/>
                    </a:lnTo>
                    <a:lnTo>
                      <a:pt x="114" y="0"/>
                    </a:lnTo>
                    <a:lnTo>
                      <a:pt x="163" y="51"/>
                    </a:lnTo>
                    <a:lnTo>
                      <a:pt x="190" y="105"/>
                    </a:lnTo>
                    <a:lnTo>
                      <a:pt x="196" y="170"/>
                    </a:lnTo>
                    <a:lnTo>
                      <a:pt x="197" y="274"/>
                    </a:lnTo>
                    <a:lnTo>
                      <a:pt x="138" y="278"/>
                    </a:lnTo>
                    <a:lnTo>
                      <a:pt x="79" y="249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757760" y="5762880"/>
                <a:ext cx="217440" cy="3268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03840" y="5815080"/>
                <a:ext cx="125280" cy="1875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8" y="35"/>
                    </a:moveTo>
                    <a:lnTo>
                      <a:pt x="24" y="35"/>
                    </a:lnTo>
                    <a:lnTo>
                      <a:pt x="44" y="31"/>
                    </a:lnTo>
                    <a:lnTo>
                      <a:pt x="58" y="21"/>
                    </a:lnTo>
                    <a:lnTo>
                      <a:pt x="69" y="13"/>
                    </a:lnTo>
                    <a:lnTo>
                      <a:pt x="80" y="0"/>
                    </a:lnTo>
                    <a:lnTo>
                      <a:pt x="188" y="0"/>
                    </a:lnTo>
                    <a:lnTo>
                      <a:pt x="188" y="294"/>
                    </a:lnTo>
                    <a:lnTo>
                      <a:pt x="194" y="312"/>
                    </a:lnTo>
                    <a:lnTo>
                      <a:pt x="204" y="325"/>
                    </a:lnTo>
                    <a:lnTo>
                      <a:pt x="223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4" y="334"/>
                    </a:lnTo>
                    <a:lnTo>
                      <a:pt x="34" y="325"/>
                    </a:lnTo>
                    <a:lnTo>
                      <a:pt x="44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4" y="62"/>
                    </a:lnTo>
                    <a:lnTo>
                      <a:pt x="34" y="52"/>
                    </a:lnTo>
                    <a:lnTo>
                      <a:pt x="19" y="48"/>
                    </a:lnTo>
                    <a:lnTo>
                      <a:pt x="8" y="48"/>
                    </a:lnTo>
                    <a:lnTo>
                      <a:pt x="8" y="35"/>
                    </a:lnTo>
                    <a:close/>
                  </a:path>
                </a:pathLst>
              </a:custGeom>
              <a:solidFill>
                <a:srgbClr val="bfffbf"/>
              </a:solidFill>
              <a:ln w="936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6612120" y="5727960"/>
              <a:ext cx="385560" cy="361800"/>
              <a:chOff x="6612120" y="5727960"/>
              <a:chExt cx="385560" cy="361800"/>
            </a:xfrm>
          </p:grpSpPr>
          <p:sp>
            <p:nvSpPr>
              <p:cNvPr id="1170" name=""/>
              <p:cNvSpPr/>
              <p:nvPr/>
            </p:nvSpPr>
            <p:spPr>
              <a:xfrm>
                <a:off x="6612120" y="5759640"/>
                <a:ext cx="144360" cy="322200"/>
              </a:xfrm>
              <a:custGeom>
                <a:avLst/>
                <a:gdLst/>
                <a:ahLst/>
                <a:rect l="l" t="t" r="r" b="b"/>
                <a:pathLst>
                  <a:path w="275" h="611">
                    <a:moveTo>
                      <a:pt x="246" y="258"/>
                    </a:moveTo>
                    <a:lnTo>
                      <a:pt x="259" y="219"/>
                    </a:lnTo>
                    <a:lnTo>
                      <a:pt x="269" y="175"/>
                    </a:lnTo>
                    <a:lnTo>
                      <a:pt x="275" y="120"/>
                    </a:lnTo>
                    <a:lnTo>
                      <a:pt x="263" y="63"/>
                    </a:lnTo>
                    <a:lnTo>
                      <a:pt x="239" y="0"/>
                    </a:lnTo>
                    <a:lnTo>
                      <a:pt x="206" y="57"/>
                    </a:lnTo>
                    <a:lnTo>
                      <a:pt x="186" y="101"/>
                    </a:lnTo>
                    <a:lnTo>
                      <a:pt x="179" y="156"/>
                    </a:lnTo>
                    <a:lnTo>
                      <a:pt x="183" y="215"/>
                    </a:lnTo>
                    <a:lnTo>
                      <a:pt x="191" y="262"/>
                    </a:lnTo>
                    <a:lnTo>
                      <a:pt x="202" y="290"/>
                    </a:lnTo>
                    <a:lnTo>
                      <a:pt x="180" y="262"/>
                    </a:lnTo>
                    <a:lnTo>
                      <a:pt x="146" y="226"/>
                    </a:lnTo>
                    <a:lnTo>
                      <a:pt x="109" y="205"/>
                    </a:lnTo>
                    <a:lnTo>
                      <a:pt x="78" y="188"/>
                    </a:lnTo>
                    <a:lnTo>
                      <a:pt x="35" y="180"/>
                    </a:lnTo>
                    <a:lnTo>
                      <a:pt x="0" y="174"/>
                    </a:lnTo>
                    <a:lnTo>
                      <a:pt x="17" y="214"/>
                    </a:lnTo>
                    <a:lnTo>
                      <a:pt x="32" y="259"/>
                    </a:lnTo>
                    <a:lnTo>
                      <a:pt x="67" y="296"/>
                    </a:lnTo>
                    <a:lnTo>
                      <a:pt x="96" y="318"/>
                    </a:lnTo>
                    <a:lnTo>
                      <a:pt x="146" y="333"/>
                    </a:lnTo>
                    <a:lnTo>
                      <a:pt x="190" y="338"/>
                    </a:lnTo>
                    <a:lnTo>
                      <a:pt x="139" y="363"/>
                    </a:lnTo>
                    <a:lnTo>
                      <a:pt x="105" y="388"/>
                    </a:lnTo>
                    <a:lnTo>
                      <a:pt x="87" y="414"/>
                    </a:lnTo>
                    <a:lnTo>
                      <a:pt x="72" y="444"/>
                    </a:lnTo>
                    <a:lnTo>
                      <a:pt x="69" y="471"/>
                    </a:lnTo>
                    <a:lnTo>
                      <a:pt x="61" y="514"/>
                    </a:lnTo>
                    <a:lnTo>
                      <a:pt x="120" y="493"/>
                    </a:lnTo>
                    <a:lnTo>
                      <a:pt x="158" y="469"/>
                    </a:lnTo>
                    <a:lnTo>
                      <a:pt x="177" y="441"/>
                    </a:lnTo>
                    <a:lnTo>
                      <a:pt x="206" y="386"/>
                    </a:lnTo>
                    <a:lnTo>
                      <a:pt x="180" y="438"/>
                    </a:lnTo>
                    <a:lnTo>
                      <a:pt x="172" y="490"/>
                    </a:lnTo>
                    <a:lnTo>
                      <a:pt x="169" y="526"/>
                    </a:lnTo>
                    <a:lnTo>
                      <a:pt x="174" y="574"/>
                    </a:lnTo>
                    <a:lnTo>
                      <a:pt x="176" y="611"/>
                    </a:lnTo>
                    <a:lnTo>
                      <a:pt x="228" y="565"/>
                    </a:lnTo>
                    <a:lnTo>
                      <a:pt x="255" y="505"/>
                    </a:lnTo>
                    <a:lnTo>
                      <a:pt x="264" y="441"/>
                    </a:lnTo>
                    <a:lnTo>
                      <a:pt x="249" y="376"/>
                    </a:lnTo>
                    <a:lnTo>
                      <a:pt x="247" y="323"/>
                    </a:lnTo>
                    <a:lnTo>
                      <a:pt x="246" y="294"/>
                    </a:lnTo>
                    <a:lnTo>
                      <a:pt x="246" y="258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892920" y="5727960"/>
                <a:ext cx="104760" cy="147600"/>
              </a:xfrm>
              <a:custGeom>
                <a:avLst/>
                <a:gdLst/>
                <a:ahLst/>
                <a:rect l="l" t="t" r="r" b="b"/>
                <a:pathLst>
                  <a:path w="198" h="278">
                    <a:moveTo>
                      <a:pt x="119" y="249"/>
                    </a:moveTo>
                    <a:lnTo>
                      <a:pt x="154" y="223"/>
                    </a:lnTo>
                    <a:lnTo>
                      <a:pt x="171" y="198"/>
                    </a:lnTo>
                    <a:lnTo>
                      <a:pt x="188" y="168"/>
                    </a:lnTo>
                    <a:lnTo>
                      <a:pt x="189" y="141"/>
                    </a:lnTo>
                    <a:lnTo>
                      <a:pt x="198" y="98"/>
                    </a:lnTo>
                    <a:lnTo>
                      <a:pt x="139" y="117"/>
                    </a:lnTo>
                    <a:lnTo>
                      <a:pt x="102" y="143"/>
                    </a:lnTo>
                    <a:lnTo>
                      <a:pt x="82" y="170"/>
                    </a:lnTo>
                    <a:lnTo>
                      <a:pt x="53" y="224"/>
                    </a:lnTo>
                    <a:lnTo>
                      <a:pt x="78" y="174"/>
                    </a:lnTo>
                    <a:lnTo>
                      <a:pt x="86" y="122"/>
                    </a:lnTo>
                    <a:lnTo>
                      <a:pt x="91" y="85"/>
                    </a:lnTo>
                    <a:lnTo>
                      <a:pt x="84" y="38"/>
                    </a:lnTo>
                    <a:lnTo>
                      <a:pt x="82" y="0"/>
                    </a:lnTo>
                    <a:lnTo>
                      <a:pt x="33" y="51"/>
                    </a:lnTo>
                    <a:lnTo>
                      <a:pt x="8" y="105"/>
                    </a:lnTo>
                    <a:lnTo>
                      <a:pt x="1" y="170"/>
                    </a:lnTo>
                    <a:lnTo>
                      <a:pt x="0" y="274"/>
                    </a:lnTo>
                    <a:lnTo>
                      <a:pt x="60" y="278"/>
                    </a:lnTo>
                    <a:lnTo>
                      <a:pt x="119" y="249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bff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740640" y="5762880"/>
                <a:ext cx="219240" cy="3268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9ff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788160" y="5815080"/>
                <a:ext cx="125640" cy="187560"/>
              </a:xfrm>
              <a:custGeom>
                <a:avLst/>
                <a:gdLst/>
                <a:ahLst/>
                <a:rect l="l" t="t" r="r" b="b"/>
                <a:pathLst>
                  <a:path w="239" h="352">
                    <a:moveTo>
                      <a:pt x="9" y="35"/>
                    </a:moveTo>
                    <a:lnTo>
                      <a:pt x="24" y="35"/>
                    </a:lnTo>
                    <a:lnTo>
                      <a:pt x="45" y="31"/>
                    </a:lnTo>
                    <a:lnTo>
                      <a:pt x="59" y="21"/>
                    </a:lnTo>
                    <a:lnTo>
                      <a:pt x="70" y="13"/>
                    </a:lnTo>
                    <a:lnTo>
                      <a:pt x="80" y="0"/>
                    </a:lnTo>
                    <a:lnTo>
                      <a:pt x="189" y="0"/>
                    </a:lnTo>
                    <a:lnTo>
                      <a:pt x="189" y="294"/>
                    </a:lnTo>
                    <a:lnTo>
                      <a:pt x="195" y="312"/>
                    </a:lnTo>
                    <a:lnTo>
                      <a:pt x="205" y="325"/>
                    </a:lnTo>
                    <a:lnTo>
                      <a:pt x="224" y="334"/>
                    </a:lnTo>
                    <a:lnTo>
                      <a:pt x="239" y="334"/>
                    </a:lnTo>
                    <a:lnTo>
                      <a:pt x="239" y="352"/>
                    </a:lnTo>
                    <a:lnTo>
                      <a:pt x="0" y="352"/>
                    </a:lnTo>
                    <a:lnTo>
                      <a:pt x="0" y="334"/>
                    </a:lnTo>
                    <a:lnTo>
                      <a:pt x="15" y="334"/>
                    </a:lnTo>
                    <a:lnTo>
                      <a:pt x="35" y="325"/>
                    </a:lnTo>
                    <a:lnTo>
                      <a:pt x="45" y="312"/>
                    </a:lnTo>
                    <a:lnTo>
                      <a:pt x="49" y="294"/>
                    </a:lnTo>
                    <a:lnTo>
                      <a:pt x="49" y="75"/>
                    </a:lnTo>
                    <a:lnTo>
                      <a:pt x="45" y="62"/>
                    </a:lnTo>
                    <a:lnTo>
                      <a:pt x="35" y="52"/>
                    </a:lnTo>
                    <a:lnTo>
                      <a:pt x="20" y="48"/>
                    </a:lnTo>
                    <a:lnTo>
                      <a:pt x="9" y="48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bfffbf"/>
              </a:solidFill>
              <a:ln w="936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4722840" y="6386760"/>
              <a:ext cx="208080" cy="24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48400" y="6413760"/>
              <a:ext cx="158760" cy="187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86560" y="6446880"/>
              <a:ext cx="81000" cy="119160"/>
            </a:xfrm>
            <a:custGeom>
              <a:avLst/>
              <a:gdLst/>
              <a:ahLst/>
              <a:rect l="l" t="t" r="r" b="b"/>
              <a:pathLst>
                <a:path w="151" h="225">
                  <a:moveTo>
                    <a:pt x="4" y="24"/>
                  </a:moveTo>
                  <a:lnTo>
                    <a:pt x="15" y="24"/>
                  </a:lnTo>
                  <a:lnTo>
                    <a:pt x="27" y="20"/>
                  </a:lnTo>
                  <a:lnTo>
                    <a:pt x="37" y="14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120" y="0"/>
                  </a:lnTo>
                  <a:lnTo>
                    <a:pt x="120" y="189"/>
                  </a:lnTo>
                  <a:lnTo>
                    <a:pt x="123" y="200"/>
                  </a:lnTo>
                  <a:lnTo>
                    <a:pt x="130" y="208"/>
                  </a:lnTo>
                  <a:lnTo>
                    <a:pt x="142" y="214"/>
                  </a:lnTo>
                  <a:lnTo>
                    <a:pt x="151" y="214"/>
                  </a:lnTo>
                  <a:lnTo>
                    <a:pt x="151" y="225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8" y="214"/>
                  </a:lnTo>
                  <a:lnTo>
                    <a:pt x="21" y="208"/>
                  </a:lnTo>
                  <a:lnTo>
                    <a:pt x="27" y="200"/>
                  </a:lnTo>
                  <a:lnTo>
                    <a:pt x="31" y="189"/>
                  </a:lnTo>
                  <a:lnTo>
                    <a:pt x="31" y="49"/>
                  </a:lnTo>
                  <a:lnTo>
                    <a:pt x="27" y="40"/>
                  </a:lnTo>
                  <a:lnTo>
                    <a:pt x="21" y="34"/>
                  </a:lnTo>
                  <a:lnTo>
                    <a:pt x="12" y="31"/>
                  </a:lnTo>
                  <a:lnTo>
                    <a:pt x="4" y="31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fffbf"/>
            </a:solidFill>
            <a:ln w="936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97880" y="6391440"/>
              <a:ext cx="207720" cy="24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23080" y="6418440"/>
              <a:ext cx="157320" cy="187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861240" y="6451560"/>
              <a:ext cx="81000" cy="11916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5" y="23"/>
                  </a:moveTo>
                  <a:lnTo>
                    <a:pt x="16" y="23"/>
                  </a:lnTo>
                  <a:lnTo>
                    <a:pt x="27" y="21"/>
                  </a:lnTo>
                  <a:lnTo>
                    <a:pt x="37" y="14"/>
                  </a:lnTo>
                  <a:lnTo>
                    <a:pt x="43" y="9"/>
                  </a:lnTo>
                  <a:lnTo>
                    <a:pt x="50" y="0"/>
                  </a:lnTo>
                  <a:lnTo>
                    <a:pt x="121" y="0"/>
                  </a:lnTo>
                  <a:lnTo>
                    <a:pt x="121" y="188"/>
                  </a:lnTo>
                  <a:lnTo>
                    <a:pt x="123" y="200"/>
                  </a:lnTo>
                  <a:lnTo>
                    <a:pt x="130" y="207"/>
                  </a:lnTo>
                  <a:lnTo>
                    <a:pt x="143" y="213"/>
                  </a:lnTo>
                  <a:lnTo>
                    <a:pt x="152" y="213"/>
                  </a:lnTo>
                  <a:lnTo>
                    <a:pt x="152" y="224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22" y="207"/>
                  </a:lnTo>
                  <a:lnTo>
                    <a:pt x="27" y="200"/>
                  </a:lnTo>
                  <a:lnTo>
                    <a:pt x="31" y="188"/>
                  </a:lnTo>
                  <a:lnTo>
                    <a:pt x="31" y="48"/>
                  </a:lnTo>
                  <a:lnTo>
                    <a:pt x="27" y="41"/>
                  </a:lnTo>
                  <a:lnTo>
                    <a:pt x="22" y="34"/>
                  </a:lnTo>
                  <a:lnTo>
                    <a:pt x="12" y="31"/>
                  </a:lnTo>
                  <a:lnTo>
                    <a:pt x="5" y="31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bfffbf"/>
            </a:solidFill>
            <a:ln w="936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5160960" y="6073920"/>
              <a:ext cx="219240" cy="217440"/>
              <a:chOff x="5160960" y="6073920"/>
              <a:chExt cx="219240" cy="217440"/>
            </a:xfrm>
          </p:grpSpPr>
          <p:sp>
            <p:nvSpPr>
              <p:cNvPr id="1181" name=""/>
              <p:cNvSpPr/>
              <p:nvPr/>
            </p:nvSpPr>
            <p:spPr>
              <a:xfrm>
                <a:off x="5160960" y="6073920"/>
                <a:ext cx="219240" cy="217440"/>
              </a:xfrm>
              <a:prstGeom prst="ellipse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202360" y="6116760"/>
                <a:ext cx="135000" cy="131760"/>
              </a:xfrm>
              <a:prstGeom prst="ellipse">
                <a:avLst/>
              </a:prstGeom>
              <a:solidFill>
                <a:srgbClr val="9fff9f"/>
              </a:solidFill>
              <a:ln w="4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334200" y="6100920"/>
              <a:ext cx="219240" cy="217440"/>
              <a:chOff x="6334200" y="6100920"/>
              <a:chExt cx="219240" cy="217440"/>
            </a:xfrm>
          </p:grpSpPr>
          <p:sp>
            <p:nvSpPr>
              <p:cNvPr id="1184" name=""/>
              <p:cNvSpPr/>
              <p:nvPr/>
            </p:nvSpPr>
            <p:spPr>
              <a:xfrm>
                <a:off x="6334200" y="6100920"/>
                <a:ext cx="219240" cy="2174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77040" y="6143760"/>
                <a:ext cx="133560" cy="131760"/>
              </a:xfrm>
              <a:prstGeom prst="ellipse">
                <a:avLst/>
              </a:prstGeom>
              <a:solidFill>
                <a:srgbClr val="bfffbf"/>
              </a:solidFill>
              <a:ln w="46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416560" y="6534360"/>
              <a:ext cx="874800" cy="90360"/>
              <a:chOff x="5416560" y="6534360"/>
              <a:chExt cx="874800" cy="90360"/>
            </a:xfrm>
          </p:grpSpPr>
          <p:grpSp>
            <p:nvGrpSpPr>
              <p:cNvPr id="1187" name=""/>
              <p:cNvGrpSpPr/>
              <p:nvPr/>
            </p:nvGrpSpPr>
            <p:grpSpPr>
              <a:xfrm>
                <a:off x="6201000" y="6534360"/>
                <a:ext cx="90360" cy="85680"/>
                <a:chOff x="6201000" y="6534360"/>
                <a:chExt cx="90360" cy="856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6201000" y="6534360"/>
                  <a:ext cx="90360" cy="85680"/>
                </a:xfrm>
                <a:custGeom>
                  <a:avLst/>
                  <a:gdLst/>
                  <a:ahLst/>
                  <a:rect l="l" t="t" r="r" b="b"/>
                  <a:pathLst>
                    <a:path w="169" h="164">
                      <a:moveTo>
                        <a:pt x="0" y="0"/>
                      </a:moveTo>
                      <a:lnTo>
                        <a:pt x="114" y="0"/>
                      </a:lnTo>
                      <a:lnTo>
                        <a:pt x="133" y="6"/>
                      </a:lnTo>
                      <a:lnTo>
                        <a:pt x="145" y="15"/>
                      </a:lnTo>
                      <a:lnTo>
                        <a:pt x="151" y="32"/>
                      </a:lnTo>
                      <a:lnTo>
                        <a:pt x="151" y="62"/>
                      </a:lnTo>
                      <a:lnTo>
                        <a:pt x="143" y="78"/>
                      </a:lnTo>
                      <a:lnTo>
                        <a:pt x="130" y="88"/>
                      </a:lnTo>
                      <a:lnTo>
                        <a:pt x="114" y="91"/>
                      </a:lnTo>
                      <a:lnTo>
                        <a:pt x="130" y="99"/>
                      </a:lnTo>
                      <a:lnTo>
                        <a:pt x="143" y="107"/>
                      </a:lnTo>
                      <a:lnTo>
                        <a:pt x="151" y="124"/>
                      </a:lnTo>
                      <a:lnTo>
                        <a:pt x="157" y="139"/>
                      </a:lnTo>
                      <a:lnTo>
                        <a:pt x="160" y="153"/>
                      </a:lnTo>
                      <a:lnTo>
                        <a:pt x="169" y="153"/>
                      </a:lnTo>
                      <a:lnTo>
                        <a:pt x="169" y="164"/>
                      </a:lnTo>
                      <a:lnTo>
                        <a:pt x="104" y="164"/>
                      </a:lnTo>
                      <a:lnTo>
                        <a:pt x="104" y="153"/>
                      </a:lnTo>
                      <a:lnTo>
                        <a:pt x="114" y="153"/>
                      </a:lnTo>
                      <a:lnTo>
                        <a:pt x="112" y="137"/>
                      </a:lnTo>
                      <a:lnTo>
                        <a:pt x="105" y="124"/>
                      </a:lnTo>
                      <a:lnTo>
                        <a:pt x="95" y="110"/>
                      </a:lnTo>
                      <a:lnTo>
                        <a:pt x="86" y="100"/>
                      </a:lnTo>
                      <a:lnTo>
                        <a:pt x="70" y="91"/>
                      </a:lnTo>
                      <a:lnTo>
                        <a:pt x="70" y="153"/>
                      </a:lnTo>
                      <a:lnTo>
                        <a:pt x="86" y="153"/>
                      </a:lnTo>
                      <a:lnTo>
                        <a:pt x="86" y="164"/>
                      </a:lnTo>
                      <a:lnTo>
                        <a:pt x="2" y="164"/>
                      </a:lnTo>
                      <a:lnTo>
                        <a:pt x="2" y="153"/>
                      </a:lnTo>
                      <a:lnTo>
                        <a:pt x="19" y="153"/>
                      </a:lnTo>
                      <a:lnTo>
                        <a:pt x="19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239160" y="654840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30" h="41">
                      <a:moveTo>
                        <a:pt x="0" y="0"/>
                      </a:moveTo>
                      <a:lnTo>
                        <a:pt x="0" y="41"/>
                      </a:lnTo>
                      <a:lnTo>
                        <a:pt x="16" y="41"/>
                      </a:lnTo>
                      <a:lnTo>
                        <a:pt x="24" y="37"/>
                      </a:lnTo>
                      <a:lnTo>
                        <a:pt x="30" y="28"/>
                      </a:lnTo>
                      <a:lnTo>
                        <a:pt x="30" y="14"/>
                      </a:lnTo>
                      <a:lnTo>
                        <a:pt x="2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5416560" y="6534360"/>
                <a:ext cx="85680" cy="90360"/>
                <a:chOff x="5416560" y="6534360"/>
                <a:chExt cx="85680" cy="903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5416560" y="6534360"/>
                  <a:ext cx="85680" cy="90360"/>
                </a:xfrm>
                <a:custGeom>
                  <a:avLst/>
                  <a:gdLst/>
                  <a:ahLst/>
                  <a:rect l="l" t="t" r="r" b="b"/>
                  <a:pathLst>
                    <a:path w="163" h="171">
                      <a:moveTo>
                        <a:pt x="49" y="0"/>
                      </a:moveTo>
                      <a:lnTo>
                        <a:pt x="112" y="0"/>
                      </a:lnTo>
                      <a:lnTo>
                        <a:pt x="126" y="6"/>
                      </a:lnTo>
                      <a:lnTo>
                        <a:pt x="149" y="24"/>
                      </a:lnTo>
                      <a:lnTo>
                        <a:pt x="158" y="44"/>
                      </a:lnTo>
                      <a:lnTo>
                        <a:pt x="163" y="70"/>
                      </a:lnTo>
                      <a:lnTo>
                        <a:pt x="163" y="99"/>
                      </a:lnTo>
                      <a:lnTo>
                        <a:pt x="158" y="125"/>
                      </a:lnTo>
                      <a:lnTo>
                        <a:pt x="149" y="145"/>
                      </a:lnTo>
                      <a:lnTo>
                        <a:pt x="121" y="164"/>
                      </a:lnTo>
                      <a:lnTo>
                        <a:pt x="108" y="171"/>
                      </a:lnTo>
                      <a:lnTo>
                        <a:pt x="49" y="171"/>
                      </a:lnTo>
                      <a:lnTo>
                        <a:pt x="35" y="164"/>
                      </a:lnTo>
                      <a:lnTo>
                        <a:pt x="11" y="147"/>
                      </a:lnTo>
                      <a:lnTo>
                        <a:pt x="3" y="128"/>
                      </a:lnTo>
                      <a:lnTo>
                        <a:pt x="0" y="104"/>
                      </a:lnTo>
                      <a:lnTo>
                        <a:pt x="0" y="70"/>
                      </a:lnTo>
                      <a:lnTo>
                        <a:pt x="3" y="44"/>
                      </a:lnTo>
                      <a:lnTo>
                        <a:pt x="11" y="24"/>
                      </a:lnTo>
                      <a:lnTo>
                        <a:pt x="35" y="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446800" y="6543720"/>
                  <a:ext cx="22320" cy="71640"/>
                </a:xfrm>
                <a:custGeom>
                  <a:avLst/>
                  <a:gdLst/>
                  <a:ahLst/>
                  <a:rect l="l" t="t" r="r" b="b"/>
                  <a:pathLst>
                    <a:path w="42" h="133">
                      <a:moveTo>
                        <a:pt x="15" y="0"/>
                      </a:moveTo>
                      <a:lnTo>
                        <a:pt x="5" y="11"/>
                      </a:lnTo>
                      <a:lnTo>
                        <a:pt x="0" y="21"/>
                      </a:lnTo>
                      <a:lnTo>
                        <a:pt x="0" y="112"/>
                      </a:lnTo>
                      <a:lnTo>
                        <a:pt x="5" y="124"/>
                      </a:lnTo>
                      <a:lnTo>
                        <a:pt x="15" y="133"/>
                      </a:lnTo>
                      <a:lnTo>
                        <a:pt x="30" y="133"/>
                      </a:lnTo>
                      <a:lnTo>
                        <a:pt x="40" y="124"/>
                      </a:lnTo>
                      <a:lnTo>
                        <a:pt x="42" y="112"/>
                      </a:lnTo>
                      <a:lnTo>
                        <a:pt x="42" y="21"/>
                      </a:lnTo>
                      <a:lnTo>
                        <a:pt x="40" y="11"/>
                      </a:lnTo>
                      <a:lnTo>
                        <a:pt x="30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5505480" y="6537600"/>
                <a:ext cx="184320" cy="87120"/>
                <a:chOff x="5505480" y="6537600"/>
                <a:chExt cx="184320" cy="871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5505480" y="6537600"/>
                  <a:ext cx="98640" cy="87120"/>
                </a:xfrm>
                <a:custGeom>
                  <a:avLst/>
                  <a:gdLst/>
                  <a:ahLst/>
                  <a:rect l="l" t="t" r="r" b="b"/>
                  <a:pathLst>
                    <a:path w="186" h="165">
                      <a:moveTo>
                        <a:pt x="4" y="165"/>
                      </a:moveTo>
                      <a:lnTo>
                        <a:pt x="49" y="165"/>
                      </a:lnTo>
                      <a:lnTo>
                        <a:pt x="49" y="152"/>
                      </a:lnTo>
                      <a:lnTo>
                        <a:pt x="35" y="152"/>
                      </a:lnTo>
                      <a:lnTo>
                        <a:pt x="35" y="34"/>
                      </a:lnTo>
                      <a:lnTo>
                        <a:pt x="115" y="165"/>
                      </a:lnTo>
                      <a:lnTo>
                        <a:pt x="167" y="165"/>
                      </a:lnTo>
                      <a:lnTo>
                        <a:pt x="167" y="13"/>
                      </a:lnTo>
                      <a:lnTo>
                        <a:pt x="186" y="13"/>
                      </a:lnTo>
                      <a:lnTo>
                        <a:pt x="186" y="0"/>
                      </a:lnTo>
                      <a:lnTo>
                        <a:pt x="134" y="0"/>
                      </a:lnTo>
                      <a:lnTo>
                        <a:pt x="134" y="13"/>
                      </a:lnTo>
                      <a:lnTo>
                        <a:pt x="152" y="13"/>
                      </a:lnTo>
                      <a:lnTo>
                        <a:pt x="152" y="109"/>
                      </a:lnTo>
                      <a:lnTo>
                        <a:pt x="81" y="2"/>
                      </a:lnTo>
                      <a:lnTo>
                        <a:pt x="0" y="2"/>
                      </a:lnTo>
                      <a:lnTo>
                        <a:pt x="0" y="15"/>
                      </a:lnTo>
                      <a:lnTo>
                        <a:pt x="18" y="15"/>
                      </a:lnTo>
                      <a:lnTo>
                        <a:pt x="18" y="152"/>
                      </a:lnTo>
                      <a:lnTo>
                        <a:pt x="4" y="152"/>
                      </a:lnTo>
                      <a:lnTo>
                        <a:pt x="4" y="165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604120" y="6537600"/>
                  <a:ext cx="856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165">
                      <a:moveTo>
                        <a:pt x="0" y="0"/>
                      </a:moveTo>
                      <a:lnTo>
                        <a:pt x="158" y="0"/>
                      </a:lnTo>
                      <a:lnTo>
                        <a:pt x="158" y="45"/>
                      </a:lnTo>
                      <a:lnTo>
                        <a:pt x="146" y="45"/>
                      </a:lnTo>
                      <a:lnTo>
                        <a:pt x="97" y="13"/>
                      </a:lnTo>
                      <a:lnTo>
                        <a:pt x="71" y="13"/>
                      </a:lnTo>
                      <a:lnTo>
                        <a:pt x="71" y="77"/>
                      </a:lnTo>
                      <a:lnTo>
                        <a:pt x="94" y="77"/>
                      </a:lnTo>
                      <a:lnTo>
                        <a:pt x="121" y="49"/>
                      </a:lnTo>
                      <a:lnTo>
                        <a:pt x="121" y="119"/>
                      </a:lnTo>
                      <a:lnTo>
                        <a:pt x="94" y="90"/>
                      </a:lnTo>
                      <a:lnTo>
                        <a:pt x="71" y="90"/>
                      </a:lnTo>
                      <a:lnTo>
                        <a:pt x="71" y="146"/>
                      </a:lnTo>
                      <a:lnTo>
                        <a:pt x="97" y="146"/>
                      </a:lnTo>
                      <a:lnTo>
                        <a:pt x="152" y="119"/>
                      </a:lnTo>
                      <a:lnTo>
                        <a:pt x="162" y="119"/>
                      </a:lnTo>
                      <a:lnTo>
                        <a:pt x="162" y="165"/>
                      </a:lnTo>
                      <a:lnTo>
                        <a:pt x="3" y="165"/>
                      </a:lnTo>
                      <a:lnTo>
                        <a:pt x="3" y="156"/>
                      </a:lnTo>
                      <a:lnTo>
                        <a:pt x="20" y="156"/>
                      </a:lnTo>
                      <a:lnTo>
                        <a:pt x="2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5837400" y="6534360"/>
                <a:ext cx="85680" cy="88920"/>
                <a:chOff x="5837400" y="6534360"/>
                <a:chExt cx="85680" cy="88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837400" y="6534360"/>
                  <a:ext cx="85680" cy="8892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47" y="0"/>
                      </a:moveTo>
                      <a:lnTo>
                        <a:pt x="112" y="0"/>
                      </a:lnTo>
                      <a:lnTo>
                        <a:pt x="124" y="6"/>
                      </a:lnTo>
                      <a:lnTo>
                        <a:pt x="146" y="22"/>
                      </a:lnTo>
                      <a:lnTo>
                        <a:pt x="156" y="43"/>
                      </a:lnTo>
                      <a:lnTo>
                        <a:pt x="161" y="69"/>
                      </a:lnTo>
                      <a:lnTo>
                        <a:pt x="161" y="95"/>
                      </a:lnTo>
                      <a:lnTo>
                        <a:pt x="156" y="121"/>
                      </a:lnTo>
                      <a:lnTo>
                        <a:pt x="146" y="143"/>
                      </a:lnTo>
                      <a:lnTo>
                        <a:pt x="121" y="162"/>
                      </a:lnTo>
                      <a:lnTo>
                        <a:pt x="107" y="168"/>
                      </a:lnTo>
                      <a:lnTo>
                        <a:pt x="47" y="168"/>
                      </a:lnTo>
                      <a:lnTo>
                        <a:pt x="35" y="162"/>
                      </a:lnTo>
                      <a:lnTo>
                        <a:pt x="14" y="145"/>
                      </a:lnTo>
                      <a:lnTo>
                        <a:pt x="4" y="125"/>
                      </a:lnTo>
                      <a:lnTo>
                        <a:pt x="0" y="102"/>
                      </a:lnTo>
                      <a:lnTo>
                        <a:pt x="0" y="69"/>
                      </a:lnTo>
                      <a:lnTo>
                        <a:pt x="4" y="43"/>
                      </a:lnTo>
                      <a:lnTo>
                        <a:pt x="14" y="22"/>
                      </a:lnTo>
                      <a:lnTo>
                        <a:pt x="35" y="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869080" y="6543720"/>
                  <a:ext cx="22320" cy="69840"/>
                </a:xfrm>
                <a:custGeom>
                  <a:avLst/>
                  <a:gdLst/>
                  <a:ahLst/>
                  <a:rect l="l" t="t" r="r" b="b"/>
                  <a:pathLst>
                    <a:path w="43" h="133">
                      <a:moveTo>
                        <a:pt x="14" y="0"/>
                      </a:move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0" y="112"/>
                      </a:lnTo>
                      <a:lnTo>
                        <a:pt x="5" y="122"/>
                      </a:lnTo>
                      <a:lnTo>
                        <a:pt x="14" y="133"/>
                      </a:lnTo>
                      <a:lnTo>
                        <a:pt x="30" y="133"/>
                      </a:lnTo>
                      <a:lnTo>
                        <a:pt x="39" y="122"/>
                      </a:lnTo>
                      <a:lnTo>
                        <a:pt x="43" y="112"/>
                      </a:lnTo>
                      <a:lnTo>
                        <a:pt x="43" y="21"/>
                      </a:lnTo>
                      <a:lnTo>
                        <a:pt x="39" y="12"/>
                      </a:lnTo>
                      <a:lnTo>
                        <a:pt x="3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5926320" y="6534360"/>
                <a:ext cx="160200" cy="85680"/>
                <a:chOff x="5926320" y="6534360"/>
                <a:chExt cx="160200" cy="85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5926320" y="653436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153" h="164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5"/>
                      </a:lnTo>
                      <a:lnTo>
                        <a:pt x="96" y="145"/>
                      </a:lnTo>
                      <a:lnTo>
                        <a:pt x="136" y="120"/>
                      </a:lnTo>
                      <a:lnTo>
                        <a:pt x="153" y="120"/>
                      </a:lnTo>
                      <a:lnTo>
                        <a:pt x="153" y="164"/>
                      </a:lnTo>
                      <a:lnTo>
                        <a:pt x="4" y="164"/>
                      </a:lnTo>
                      <a:lnTo>
                        <a:pt x="4" y="154"/>
                      </a:lnTo>
                      <a:lnTo>
                        <a:pt x="18" y="154"/>
                      </a:lnTo>
                      <a:lnTo>
                        <a:pt x="18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007320" y="6534360"/>
                  <a:ext cx="79200" cy="85680"/>
                </a:xfrm>
                <a:custGeom>
                  <a:avLst/>
                  <a:gdLst/>
                  <a:ahLst/>
                  <a:rect l="l" t="t" r="r" b="b"/>
                  <a:pathLst>
                    <a:path w="150" h="164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96" y="13"/>
                      </a:lnTo>
                      <a:lnTo>
                        <a:pt x="70" y="13"/>
                      </a:lnTo>
                      <a:lnTo>
                        <a:pt x="70" y="145"/>
                      </a:lnTo>
                      <a:lnTo>
                        <a:pt x="96" y="145"/>
                      </a:lnTo>
                      <a:lnTo>
                        <a:pt x="135" y="120"/>
                      </a:lnTo>
                      <a:lnTo>
                        <a:pt x="150" y="120"/>
                      </a:lnTo>
                      <a:lnTo>
                        <a:pt x="150" y="164"/>
                      </a:lnTo>
                      <a:lnTo>
                        <a:pt x="2" y="164"/>
                      </a:lnTo>
                      <a:lnTo>
                        <a:pt x="2" y="154"/>
                      </a:lnTo>
                      <a:lnTo>
                        <a:pt x="17" y="154"/>
                      </a:lnTo>
                      <a:lnTo>
                        <a:pt x="17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6085080" y="6534360"/>
                <a:ext cx="117360" cy="87120"/>
                <a:chOff x="6085080" y="6534360"/>
                <a:chExt cx="117360" cy="8712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6085080" y="6534360"/>
                  <a:ext cx="117360" cy="87120"/>
                </a:xfrm>
                <a:custGeom>
                  <a:avLst/>
                  <a:gdLst/>
                  <a:ahLst/>
                  <a:rect l="l" t="t" r="r" b="b"/>
                  <a:pathLst>
                    <a:path w="221" h="164">
                      <a:moveTo>
                        <a:pt x="130" y="0"/>
                      </a:moveTo>
                      <a:lnTo>
                        <a:pt x="204" y="151"/>
                      </a:lnTo>
                      <a:lnTo>
                        <a:pt x="221" y="151"/>
                      </a:lnTo>
                      <a:lnTo>
                        <a:pt x="221" y="164"/>
                      </a:lnTo>
                      <a:lnTo>
                        <a:pt x="101" y="164"/>
                      </a:lnTo>
                      <a:lnTo>
                        <a:pt x="101" y="151"/>
                      </a:lnTo>
                      <a:lnTo>
                        <a:pt x="116" y="151"/>
                      </a:lnTo>
                      <a:lnTo>
                        <a:pt x="99" y="105"/>
                      </a:lnTo>
                      <a:lnTo>
                        <a:pt x="56" y="104"/>
                      </a:lnTo>
                      <a:lnTo>
                        <a:pt x="36" y="151"/>
                      </a:lnTo>
                      <a:lnTo>
                        <a:pt x="58" y="151"/>
                      </a:lnTo>
                      <a:lnTo>
                        <a:pt x="58" y="164"/>
                      </a:lnTo>
                      <a:lnTo>
                        <a:pt x="0" y="164"/>
                      </a:lnTo>
                      <a:lnTo>
                        <a:pt x="0" y="151"/>
                      </a:lnTo>
                      <a:lnTo>
                        <a:pt x="15" y="151"/>
                      </a:lnTo>
                      <a:lnTo>
                        <a:pt x="75" y="0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118200" y="6558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7" y="0"/>
                      </a:moveTo>
                      <a:lnTo>
                        <a:pt x="0" y="44"/>
                      </a:lnTo>
                      <a:lnTo>
                        <a:pt x="32" y="4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5729400" y="6537600"/>
                <a:ext cx="100080" cy="85680"/>
                <a:chOff x="5729400" y="6537600"/>
                <a:chExt cx="100080" cy="8568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5729400" y="6537600"/>
                  <a:ext cx="100080" cy="85680"/>
                </a:xfrm>
                <a:custGeom>
                  <a:avLst/>
                  <a:gdLst/>
                  <a:ahLst/>
                  <a:rect l="l" t="t" r="r" b="b"/>
                  <a:pathLst>
                    <a:path w="189" h="162">
                      <a:moveTo>
                        <a:pt x="74" y="0"/>
                      </a:moveTo>
                      <a:lnTo>
                        <a:pt x="137" y="0"/>
                      </a:lnTo>
                      <a:lnTo>
                        <a:pt x="152" y="7"/>
                      </a:lnTo>
                      <a:lnTo>
                        <a:pt x="176" y="22"/>
                      </a:lnTo>
                      <a:lnTo>
                        <a:pt x="184" y="41"/>
                      </a:lnTo>
                      <a:lnTo>
                        <a:pt x="189" y="66"/>
                      </a:lnTo>
                      <a:lnTo>
                        <a:pt x="189" y="93"/>
                      </a:lnTo>
                      <a:lnTo>
                        <a:pt x="184" y="118"/>
                      </a:lnTo>
                      <a:lnTo>
                        <a:pt x="176" y="137"/>
                      </a:lnTo>
                      <a:lnTo>
                        <a:pt x="147" y="157"/>
                      </a:lnTo>
                      <a:lnTo>
                        <a:pt x="134" y="162"/>
                      </a:lnTo>
                      <a:lnTo>
                        <a:pt x="74" y="162"/>
                      </a:lnTo>
                      <a:lnTo>
                        <a:pt x="0" y="162"/>
                      </a:lnTo>
                      <a:lnTo>
                        <a:pt x="2" y="146"/>
                      </a:lnTo>
                      <a:lnTo>
                        <a:pt x="24" y="146"/>
                      </a:lnTo>
                      <a:lnTo>
                        <a:pt x="24" y="98"/>
                      </a:lnTo>
                      <a:lnTo>
                        <a:pt x="24" y="66"/>
                      </a:lnTo>
                      <a:lnTo>
                        <a:pt x="24" y="41"/>
                      </a:lnTo>
                      <a:lnTo>
                        <a:pt x="24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773680" y="6546960"/>
                  <a:ext cx="22320" cy="6660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126"/>
                      </a:lnTo>
                      <a:lnTo>
                        <a:pt x="15" y="126"/>
                      </a:lnTo>
                      <a:lnTo>
                        <a:pt x="31" y="126"/>
                      </a:lnTo>
                      <a:lnTo>
                        <a:pt x="40" y="117"/>
                      </a:lnTo>
                      <a:lnTo>
                        <a:pt x="44" y="106"/>
                      </a:lnTo>
                      <a:lnTo>
                        <a:pt x="44" y="20"/>
                      </a:lnTo>
                      <a:lnTo>
                        <a:pt x="40" y="10"/>
                      </a:lnTo>
                      <a:lnTo>
                        <a:pt x="31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"/>
            <p:cNvGrpSpPr/>
            <p:nvPr/>
          </p:nvGrpSpPr>
          <p:grpSpPr>
            <a:xfrm>
              <a:off x="5162760" y="5827680"/>
              <a:ext cx="1396800" cy="78120"/>
              <a:chOff x="5162760" y="5827680"/>
              <a:chExt cx="1396800" cy="78120"/>
            </a:xfrm>
          </p:grpSpPr>
          <p:grpSp>
            <p:nvGrpSpPr>
              <p:cNvPr id="1209" name=""/>
              <p:cNvGrpSpPr/>
              <p:nvPr/>
            </p:nvGrpSpPr>
            <p:grpSpPr>
              <a:xfrm>
                <a:off x="5162760" y="5827680"/>
                <a:ext cx="153720" cy="78120"/>
                <a:chOff x="5162760" y="5827680"/>
                <a:chExt cx="153720" cy="7812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5162760" y="5827680"/>
                  <a:ext cx="44280" cy="78120"/>
                </a:xfrm>
                <a:custGeom>
                  <a:avLst/>
                  <a:gdLst/>
                  <a:ahLst/>
                  <a:rect l="l" t="t" r="r" b="b"/>
                  <a:pathLst>
                    <a:path w="84" h="146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8"/>
                      </a:lnTo>
                      <a:lnTo>
                        <a:pt x="63" y="28"/>
                      </a:lnTo>
                      <a:lnTo>
                        <a:pt x="63" y="146"/>
                      </a:lnTo>
                      <a:lnTo>
                        <a:pt x="27" y="146"/>
                      </a:lnTo>
                      <a:lnTo>
                        <a:pt x="27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210280" y="5827680"/>
                  <a:ext cx="57240" cy="78120"/>
                </a:xfrm>
                <a:custGeom>
                  <a:avLst/>
                  <a:gdLst/>
                  <a:ahLst/>
                  <a:rect l="l" t="t" r="r" b="b"/>
                  <a:pathLst>
                    <a:path w="109" h="146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57"/>
                      </a:lnTo>
                      <a:lnTo>
                        <a:pt x="72" y="57"/>
                      </a:lnTo>
                      <a:lnTo>
                        <a:pt x="72" y="0"/>
                      </a:lnTo>
                      <a:lnTo>
                        <a:pt x="109" y="0"/>
                      </a:lnTo>
                      <a:lnTo>
                        <a:pt x="109" y="146"/>
                      </a:lnTo>
                      <a:lnTo>
                        <a:pt x="72" y="146"/>
                      </a:lnTo>
                      <a:lnTo>
                        <a:pt x="72" y="84"/>
                      </a:lnTo>
                      <a:lnTo>
                        <a:pt x="36" y="84"/>
                      </a:lnTo>
                      <a:lnTo>
                        <a:pt x="36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5273640" y="5827680"/>
                  <a:ext cx="42840" cy="78120"/>
                </a:xfrm>
                <a:custGeom>
                  <a:avLst/>
                  <a:gdLst/>
                  <a:ahLst/>
                  <a:rect l="l" t="t" r="r" b="b"/>
                  <a:pathLst>
                    <a:path w="81" h="146">
                      <a:moveTo>
                        <a:pt x="0" y="0"/>
                      </a:moveTo>
                      <a:lnTo>
                        <a:pt x="81" y="0"/>
                      </a:lnTo>
                      <a:lnTo>
                        <a:pt x="81" y="27"/>
                      </a:lnTo>
                      <a:lnTo>
                        <a:pt x="40" y="27"/>
                      </a:lnTo>
                      <a:lnTo>
                        <a:pt x="40" y="57"/>
                      </a:lnTo>
                      <a:lnTo>
                        <a:pt x="75" y="57"/>
                      </a:lnTo>
                      <a:lnTo>
                        <a:pt x="75" y="84"/>
                      </a:lnTo>
                      <a:lnTo>
                        <a:pt x="40" y="84"/>
                      </a:lnTo>
                      <a:lnTo>
                        <a:pt x="40" y="117"/>
                      </a:lnTo>
                      <a:lnTo>
                        <a:pt x="81" y="117"/>
                      </a:lnTo>
                      <a:lnTo>
                        <a:pt x="81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5349960" y="5827680"/>
                <a:ext cx="301680" cy="78120"/>
                <a:chOff x="5349960" y="5827680"/>
                <a:chExt cx="301680" cy="7812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5349960" y="5827680"/>
                  <a:ext cx="50760" cy="78120"/>
                </a:xfrm>
                <a:custGeom>
                  <a:avLst/>
                  <a:gdLst/>
                  <a:ahLst/>
                  <a:rect l="l" t="t" r="r" b="b"/>
                  <a:pathLst>
                    <a:path w="98" h="146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117"/>
                      </a:lnTo>
                      <a:lnTo>
                        <a:pt x="62" y="117"/>
                      </a:lnTo>
                      <a:lnTo>
                        <a:pt x="62" y="0"/>
                      </a:lnTo>
                      <a:lnTo>
                        <a:pt x="98" y="0"/>
                      </a:lnTo>
                      <a:lnTo>
                        <a:pt x="98" y="126"/>
                      </a:lnTo>
                      <a:lnTo>
                        <a:pt x="72" y="146"/>
                      </a:lnTo>
                      <a:lnTo>
                        <a:pt x="26" y="146"/>
                      </a:lnTo>
                      <a:lnTo>
                        <a:pt x="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5410440" y="5827680"/>
                  <a:ext cx="55440" cy="78120"/>
                </a:xfrm>
                <a:custGeom>
                  <a:avLst/>
                  <a:gdLst/>
                  <a:ahLst/>
                  <a:rect l="l" t="t" r="r" b="b"/>
                  <a:pathLst>
                    <a:path w="106" h="146">
                      <a:moveTo>
                        <a:pt x="0" y="0"/>
                      </a:moveTo>
                      <a:lnTo>
                        <a:pt x="35" y="0"/>
                      </a:lnTo>
                      <a:lnTo>
                        <a:pt x="66" y="69"/>
                      </a:lnTo>
                      <a:lnTo>
                        <a:pt x="66" y="0"/>
                      </a:lnTo>
                      <a:lnTo>
                        <a:pt x="106" y="0"/>
                      </a:lnTo>
                      <a:lnTo>
                        <a:pt x="106" y="146"/>
                      </a:lnTo>
                      <a:lnTo>
                        <a:pt x="66" y="146"/>
                      </a:lnTo>
                      <a:lnTo>
                        <a:pt x="40" y="76"/>
                      </a:lnTo>
                      <a:lnTo>
                        <a:pt x="40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5473800" y="5827680"/>
                  <a:ext cx="19080" cy="781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5499360" y="5827680"/>
                  <a:ext cx="44280" cy="78120"/>
                </a:xfrm>
                <a:custGeom>
                  <a:avLst/>
                  <a:gdLst/>
                  <a:ahLst/>
                  <a:rect l="l" t="t" r="r" b="b"/>
                  <a:pathLst>
                    <a:path w="85" h="146">
                      <a:moveTo>
                        <a:pt x="0" y="0"/>
                      </a:moveTo>
                      <a:lnTo>
                        <a:pt x="85" y="0"/>
                      </a:lnTo>
                      <a:lnTo>
                        <a:pt x="85" y="28"/>
                      </a:lnTo>
                      <a:lnTo>
                        <a:pt x="63" y="28"/>
                      </a:lnTo>
                      <a:lnTo>
                        <a:pt x="63" y="146"/>
                      </a:lnTo>
                      <a:lnTo>
                        <a:pt x="28" y="146"/>
                      </a:lnTo>
                      <a:lnTo>
                        <a:pt x="28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550120" y="5827680"/>
                  <a:ext cx="41040" cy="7812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7"/>
                      </a:lnTo>
                      <a:lnTo>
                        <a:pt x="39" y="27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4"/>
                      </a:lnTo>
                      <a:lnTo>
                        <a:pt x="39" y="84"/>
                      </a:lnTo>
                      <a:lnTo>
                        <a:pt x="39" y="117"/>
                      </a:lnTo>
                      <a:lnTo>
                        <a:pt x="80" y="117"/>
                      </a:lnTo>
                      <a:lnTo>
                        <a:pt x="80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599080" y="5827680"/>
                  <a:ext cx="52560" cy="78120"/>
                </a:xfrm>
                <a:custGeom>
                  <a:avLst/>
                  <a:gdLst/>
                  <a:ahLst/>
                  <a:rect l="l" t="t" r="r" b="b"/>
                  <a:pathLst>
                    <a:path w="99" h="146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99" y="20"/>
                      </a:lnTo>
                      <a:lnTo>
                        <a:pt x="99" y="126"/>
                      </a:lnTo>
                      <a:lnTo>
                        <a:pt x="76" y="146"/>
                      </a:lnTo>
                      <a:lnTo>
                        <a:pt x="0" y="146"/>
                      </a:lnTo>
                      <a:lnTo>
                        <a:pt x="0" y="27"/>
                      </a:lnTo>
                      <a:lnTo>
                        <a:pt x="36" y="27"/>
                      </a:lnTo>
                      <a:lnTo>
                        <a:pt x="36" y="117"/>
                      </a:lnTo>
                      <a:lnTo>
                        <a:pt x="58" y="117"/>
                      </a:lnTo>
                      <a:lnTo>
                        <a:pt x="58" y="27"/>
                      </a:lnTo>
                      <a:lnTo>
                        <a:pt x="36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689800" y="5827680"/>
                <a:ext cx="304560" cy="78120"/>
                <a:chOff x="5689800" y="5827680"/>
                <a:chExt cx="304560" cy="781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689800" y="5827680"/>
                  <a:ext cx="48960" cy="78120"/>
                </a:xfrm>
                <a:custGeom>
                  <a:avLst/>
                  <a:gdLst/>
                  <a:ahLst/>
                  <a:rect l="l" t="t" r="r" b="b"/>
                  <a:pathLst>
                    <a:path w="93" h="146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3" y="20"/>
                      </a:lnTo>
                      <a:lnTo>
                        <a:pt x="93" y="48"/>
                      </a:lnTo>
                      <a:lnTo>
                        <a:pt x="59" y="48"/>
                      </a:lnTo>
                      <a:lnTo>
                        <a:pt x="59" y="28"/>
                      </a:lnTo>
                      <a:lnTo>
                        <a:pt x="36" y="28"/>
                      </a:lnTo>
                      <a:lnTo>
                        <a:pt x="36" y="60"/>
                      </a:lnTo>
                      <a:lnTo>
                        <a:pt x="67" y="60"/>
                      </a:lnTo>
                      <a:lnTo>
                        <a:pt x="65" y="60"/>
                      </a:lnTo>
                      <a:lnTo>
                        <a:pt x="93" y="82"/>
                      </a:lnTo>
                      <a:lnTo>
                        <a:pt x="93" y="126"/>
                      </a:lnTo>
                      <a:lnTo>
                        <a:pt x="72" y="146"/>
                      </a:lnTo>
                      <a:lnTo>
                        <a:pt x="23" y="146"/>
                      </a:lnTo>
                      <a:lnTo>
                        <a:pt x="0" y="126"/>
                      </a:lnTo>
                      <a:lnTo>
                        <a:pt x="0" y="101"/>
                      </a:lnTo>
                      <a:lnTo>
                        <a:pt x="31" y="101"/>
                      </a:lnTo>
                      <a:lnTo>
                        <a:pt x="31" y="117"/>
                      </a:lnTo>
                      <a:lnTo>
                        <a:pt x="59" y="117"/>
                      </a:lnTo>
                      <a:lnTo>
                        <a:pt x="59" y="89"/>
                      </a:lnTo>
                      <a:lnTo>
                        <a:pt x="28" y="89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745240" y="5827680"/>
                  <a:ext cx="44640" cy="78120"/>
                </a:xfrm>
                <a:custGeom>
                  <a:avLst/>
                  <a:gdLst/>
                  <a:ahLst/>
                  <a:rect l="l" t="t" r="r" b="b"/>
                  <a:pathLst>
                    <a:path w="84" h="146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8"/>
                      </a:lnTo>
                      <a:lnTo>
                        <a:pt x="62" y="28"/>
                      </a:lnTo>
                      <a:lnTo>
                        <a:pt x="62" y="146"/>
                      </a:lnTo>
                      <a:lnTo>
                        <a:pt x="26" y="146"/>
                      </a:lnTo>
                      <a:lnTo>
                        <a:pt x="26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784840" y="5827680"/>
                  <a:ext cx="60480" cy="78120"/>
                </a:xfrm>
                <a:custGeom>
                  <a:avLst/>
                  <a:gdLst/>
                  <a:ahLst/>
                  <a:rect l="l" t="t" r="r" b="b"/>
                  <a:pathLst>
                    <a:path w="115" h="146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6"/>
                      </a:lnTo>
                      <a:lnTo>
                        <a:pt x="75" y="146"/>
                      </a:lnTo>
                      <a:lnTo>
                        <a:pt x="71" y="117"/>
                      </a:lnTo>
                      <a:lnTo>
                        <a:pt x="71" y="92"/>
                      </a:lnTo>
                      <a:lnTo>
                        <a:pt x="57" y="23"/>
                      </a:lnTo>
                      <a:lnTo>
                        <a:pt x="44" y="92"/>
                      </a:lnTo>
                      <a:lnTo>
                        <a:pt x="71" y="92"/>
                      </a:lnTo>
                      <a:lnTo>
                        <a:pt x="71" y="117"/>
                      </a:lnTo>
                      <a:lnTo>
                        <a:pt x="44" y="117"/>
                      </a:lnTo>
                      <a:lnTo>
                        <a:pt x="40" y="146"/>
                      </a:lnTo>
                      <a:lnTo>
                        <a:pt x="0" y="14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840640" y="5827680"/>
                  <a:ext cx="44280" cy="78120"/>
                </a:xfrm>
                <a:custGeom>
                  <a:avLst/>
                  <a:gdLst/>
                  <a:ahLst/>
                  <a:rect l="l" t="t" r="r" b="b"/>
                  <a:pathLst>
                    <a:path w="84" h="146">
                      <a:moveTo>
                        <a:pt x="0" y="0"/>
                      </a:moveTo>
                      <a:lnTo>
                        <a:pt x="84" y="0"/>
                      </a:lnTo>
                      <a:lnTo>
                        <a:pt x="84" y="28"/>
                      </a:lnTo>
                      <a:lnTo>
                        <a:pt x="62" y="28"/>
                      </a:lnTo>
                      <a:lnTo>
                        <a:pt x="62" y="146"/>
                      </a:lnTo>
                      <a:lnTo>
                        <a:pt x="28" y="146"/>
                      </a:lnTo>
                      <a:lnTo>
                        <a:pt x="28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892840" y="5827680"/>
                  <a:ext cx="42840" cy="78120"/>
                </a:xfrm>
                <a:custGeom>
                  <a:avLst/>
                  <a:gdLst/>
                  <a:ahLst/>
                  <a:rect l="l" t="t" r="r" b="b"/>
                  <a:pathLst>
                    <a:path w="81" h="146">
                      <a:moveTo>
                        <a:pt x="0" y="0"/>
                      </a:moveTo>
                      <a:lnTo>
                        <a:pt x="81" y="0"/>
                      </a:lnTo>
                      <a:lnTo>
                        <a:pt x="81" y="27"/>
                      </a:lnTo>
                      <a:lnTo>
                        <a:pt x="39" y="27"/>
                      </a:lnTo>
                      <a:lnTo>
                        <a:pt x="39" y="57"/>
                      </a:lnTo>
                      <a:lnTo>
                        <a:pt x="75" y="57"/>
                      </a:lnTo>
                      <a:lnTo>
                        <a:pt x="75" y="84"/>
                      </a:lnTo>
                      <a:lnTo>
                        <a:pt x="39" y="84"/>
                      </a:lnTo>
                      <a:lnTo>
                        <a:pt x="39" y="117"/>
                      </a:lnTo>
                      <a:lnTo>
                        <a:pt x="81" y="117"/>
                      </a:lnTo>
                      <a:lnTo>
                        <a:pt x="81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943600" y="5827680"/>
                  <a:ext cx="50760" cy="78120"/>
                </a:xfrm>
                <a:custGeom>
                  <a:avLst/>
                  <a:gdLst/>
                  <a:ahLst/>
                  <a:rect l="l" t="t" r="r" b="b"/>
                  <a:pathLst>
                    <a:path w="95" h="146">
                      <a:moveTo>
                        <a:pt x="23" y="0"/>
                      </a:moveTo>
                      <a:lnTo>
                        <a:pt x="72" y="0"/>
                      </a:lnTo>
                      <a:lnTo>
                        <a:pt x="95" y="20"/>
                      </a:lnTo>
                      <a:lnTo>
                        <a:pt x="95" y="48"/>
                      </a:lnTo>
                      <a:lnTo>
                        <a:pt x="59" y="48"/>
                      </a:lnTo>
                      <a:lnTo>
                        <a:pt x="59" y="28"/>
                      </a:lnTo>
                      <a:lnTo>
                        <a:pt x="36" y="28"/>
                      </a:lnTo>
                      <a:lnTo>
                        <a:pt x="36" y="60"/>
                      </a:lnTo>
                      <a:lnTo>
                        <a:pt x="69" y="60"/>
                      </a:lnTo>
                      <a:lnTo>
                        <a:pt x="65" y="60"/>
                      </a:lnTo>
                      <a:lnTo>
                        <a:pt x="95" y="82"/>
                      </a:lnTo>
                      <a:lnTo>
                        <a:pt x="95" y="126"/>
                      </a:lnTo>
                      <a:lnTo>
                        <a:pt x="72" y="146"/>
                      </a:lnTo>
                      <a:lnTo>
                        <a:pt x="23" y="146"/>
                      </a:lnTo>
                      <a:lnTo>
                        <a:pt x="0" y="126"/>
                      </a:lnTo>
                      <a:lnTo>
                        <a:pt x="0" y="101"/>
                      </a:lnTo>
                      <a:lnTo>
                        <a:pt x="33" y="101"/>
                      </a:lnTo>
                      <a:lnTo>
                        <a:pt x="33" y="117"/>
                      </a:lnTo>
                      <a:lnTo>
                        <a:pt x="59" y="117"/>
                      </a:lnTo>
                      <a:lnTo>
                        <a:pt x="59" y="89"/>
                      </a:lnTo>
                      <a:lnTo>
                        <a:pt x="28" y="89"/>
                      </a:lnTo>
                      <a:lnTo>
                        <a:pt x="0" y="69"/>
                      </a:lnTo>
                      <a:lnTo>
                        <a:pt x="0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6027840" y="5827680"/>
                <a:ext cx="106200" cy="78120"/>
                <a:chOff x="6027840" y="5827680"/>
                <a:chExt cx="106200" cy="7812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6027840" y="5827680"/>
                  <a:ext cx="54000" cy="78120"/>
                </a:xfrm>
                <a:custGeom>
                  <a:avLst/>
                  <a:gdLst/>
                  <a:ahLst/>
                  <a:rect l="l" t="t" r="r" b="b"/>
                  <a:pathLst>
                    <a:path w="102" h="146">
                      <a:moveTo>
                        <a:pt x="26" y="0"/>
                      </a:moveTo>
                      <a:lnTo>
                        <a:pt x="75" y="0"/>
                      </a:lnTo>
                      <a:lnTo>
                        <a:pt x="102" y="23"/>
                      </a:lnTo>
                      <a:lnTo>
                        <a:pt x="102" y="121"/>
                      </a:lnTo>
                      <a:lnTo>
                        <a:pt x="75" y="146"/>
                      </a:lnTo>
                      <a:lnTo>
                        <a:pt x="66" y="146"/>
                      </a:lnTo>
                      <a:lnTo>
                        <a:pt x="36" y="146"/>
                      </a:lnTo>
                      <a:lnTo>
                        <a:pt x="26" y="146"/>
                      </a:lnTo>
                      <a:lnTo>
                        <a:pt x="0" y="121"/>
                      </a:lnTo>
                      <a:lnTo>
                        <a:pt x="0" y="117"/>
                      </a:lnTo>
                      <a:lnTo>
                        <a:pt x="39" y="117"/>
                      </a:lnTo>
                      <a:lnTo>
                        <a:pt x="62" y="117"/>
                      </a:lnTo>
                      <a:lnTo>
                        <a:pt x="62" y="27"/>
                      </a:lnTo>
                      <a:lnTo>
                        <a:pt x="39" y="27"/>
                      </a:lnTo>
                      <a:lnTo>
                        <a:pt x="39" y="117"/>
                      </a:lnTo>
                      <a:lnTo>
                        <a:pt x="0" y="117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091200" y="5827680"/>
                  <a:ext cx="42840" cy="7812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7"/>
                      </a:lnTo>
                      <a:lnTo>
                        <a:pt x="40" y="27"/>
                      </a:lnTo>
                      <a:lnTo>
                        <a:pt x="40" y="57"/>
                      </a:lnTo>
                      <a:lnTo>
                        <a:pt x="76" y="57"/>
                      </a:lnTo>
                      <a:lnTo>
                        <a:pt x="76" y="84"/>
                      </a:lnTo>
                      <a:lnTo>
                        <a:pt x="40" y="84"/>
                      </a:lnTo>
                      <a:lnTo>
                        <a:pt x="40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6159600" y="5827680"/>
                <a:ext cx="399960" cy="78120"/>
                <a:chOff x="6159600" y="5827680"/>
                <a:chExt cx="399960" cy="7812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6159600" y="5827680"/>
                  <a:ext cx="60480" cy="78120"/>
                </a:xfrm>
                <a:custGeom>
                  <a:avLst/>
                  <a:gdLst/>
                  <a:ahLst/>
                  <a:rect l="l" t="t" r="r" b="b"/>
                  <a:pathLst>
                    <a:path w="114" h="146">
                      <a:moveTo>
                        <a:pt x="31" y="0"/>
                      </a:moveTo>
                      <a:lnTo>
                        <a:pt x="83" y="0"/>
                      </a:lnTo>
                      <a:lnTo>
                        <a:pt x="114" y="146"/>
                      </a:lnTo>
                      <a:lnTo>
                        <a:pt x="75" y="146"/>
                      </a:lnTo>
                      <a:lnTo>
                        <a:pt x="70" y="117"/>
                      </a:lnTo>
                      <a:lnTo>
                        <a:pt x="70" y="92"/>
                      </a:lnTo>
                      <a:lnTo>
                        <a:pt x="57" y="23"/>
                      </a:lnTo>
                      <a:lnTo>
                        <a:pt x="44" y="92"/>
                      </a:lnTo>
                      <a:lnTo>
                        <a:pt x="70" y="92"/>
                      </a:lnTo>
                      <a:lnTo>
                        <a:pt x="70" y="117"/>
                      </a:lnTo>
                      <a:lnTo>
                        <a:pt x="44" y="117"/>
                      </a:lnTo>
                      <a:lnTo>
                        <a:pt x="39" y="146"/>
                      </a:lnTo>
                      <a:lnTo>
                        <a:pt x="0" y="14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222960" y="5827680"/>
                  <a:ext cx="68400" cy="78120"/>
                </a:xfrm>
                <a:custGeom>
                  <a:avLst/>
                  <a:gdLst/>
                  <a:ahLst/>
                  <a:rect l="l" t="t" r="r" b="b"/>
                  <a:pathLst>
                    <a:path w="129" h="146">
                      <a:moveTo>
                        <a:pt x="0" y="146"/>
                      </a:moveTo>
                      <a:lnTo>
                        <a:pt x="37" y="146"/>
                      </a:lnTo>
                      <a:lnTo>
                        <a:pt x="37" y="69"/>
                      </a:lnTo>
                      <a:lnTo>
                        <a:pt x="55" y="146"/>
                      </a:lnTo>
                      <a:lnTo>
                        <a:pt x="74" y="146"/>
                      </a:lnTo>
                      <a:lnTo>
                        <a:pt x="94" y="69"/>
                      </a:lnTo>
                      <a:lnTo>
                        <a:pt x="94" y="146"/>
                      </a:lnTo>
                      <a:lnTo>
                        <a:pt x="129" y="146"/>
                      </a:lnTo>
                      <a:lnTo>
                        <a:pt x="129" y="0"/>
                      </a:lnTo>
                      <a:lnTo>
                        <a:pt x="79" y="0"/>
                      </a:lnTo>
                      <a:lnTo>
                        <a:pt x="65" y="69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303960" y="58276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27"/>
                      </a:lnTo>
                      <a:lnTo>
                        <a:pt x="40" y="27"/>
                      </a:lnTo>
                      <a:lnTo>
                        <a:pt x="40" y="57"/>
                      </a:lnTo>
                      <a:lnTo>
                        <a:pt x="75" y="57"/>
                      </a:lnTo>
                      <a:lnTo>
                        <a:pt x="75" y="84"/>
                      </a:lnTo>
                      <a:lnTo>
                        <a:pt x="40" y="84"/>
                      </a:lnTo>
                      <a:lnTo>
                        <a:pt x="40" y="117"/>
                      </a:lnTo>
                      <a:lnTo>
                        <a:pt x="80" y="117"/>
                      </a:lnTo>
                      <a:lnTo>
                        <a:pt x="80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354720" y="5827680"/>
                  <a:ext cx="49320" cy="78120"/>
                </a:xfrm>
                <a:custGeom>
                  <a:avLst/>
                  <a:gdLst/>
                  <a:ahLst/>
                  <a:rect l="l" t="t" r="r" b="b"/>
                  <a:pathLst>
                    <a:path w="93" h="146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93" y="15"/>
                      </a:lnTo>
                      <a:lnTo>
                        <a:pt x="93" y="57"/>
                      </a:lnTo>
                      <a:lnTo>
                        <a:pt x="71" y="72"/>
                      </a:lnTo>
                      <a:lnTo>
                        <a:pt x="93" y="89"/>
                      </a:lnTo>
                      <a:lnTo>
                        <a:pt x="93" y="146"/>
                      </a:lnTo>
                      <a:lnTo>
                        <a:pt x="58" y="146"/>
                      </a:lnTo>
                      <a:lnTo>
                        <a:pt x="58" y="89"/>
                      </a:lnTo>
                      <a:lnTo>
                        <a:pt x="58" y="60"/>
                      </a:lnTo>
                      <a:lnTo>
                        <a:pt x="36" y="60"/>
                      </a:lnTo>
                      <a:lnTo>
                        <a:pt x="36" y="23"/>
                      </a:lnTo>
                      <a:lnTo>
                        <a:pt x="58" y="23"/>
                      </a:lnTo>
                      <a:lnTo>
                        <a:pt x="58" y="60"/>
                      </a:lnTo>
                      <a:lnTo>
                        <a:pt x="58" y="89"/>
                      </a:lnTo>
                      <a:lnTo>
                        <a:pt x="36" y="89"/>
                      </a:lnTo>
                      <a:lnTo>
                        <a:pt x="36" y="146"/>
                      </a:lnTo>
                      <a:lnTo>
                        <a:pt x="0" y="1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413760" y="5827680"/>
                  <a:ext cx="19080" cy="781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40760" y="5827680"/>
                  <a:ext cx="52200" cy="78120"/>
                </a:xfrm>
                <a:custGeom>
                  <a:avLst/>
                  <a:gdLst/>
                  <a:ahLst/>
                  <a:rect l="l" t="t" r="r" b="b"/>
                  <a:pathLst>
                    <a:path w="101" h="146">
                      <a:moveTo>
                        <a:pt x="28" y="0"/>
                      </a:moveTo>
                      <a:lnTo>
                        <a:pt x="73" y="0"/>
                      </a:lnTo>
                      <a:lnTo>
                        <a:pt x="101" y="20"/>
                      </a:lnTo>
                      <a:lnTo>
                        <a:pt x="101" y="57"/>
                      </a:lnTo>
                      <a:lnTo>
                        <a:pt x="65" y="57"/>
                      </a:lnTo>
                      <a:lnTo>
                        <a:pt x="65" y="27"/>
                      </a:lnTo>
                      <a:lnTo>
                        <a:pt x="36" y="27"/>
                      </a:lnTo>
                      <a:lnTo>
                        <a:pt x="36" y="117"/>
                      </a:lnTo>
                      <a:lnTo>
                        <a:pt x="65" y="117"/>
                      </a:lnTo>
                      <a:lnTo>
                        <a:pt x="65" y="84"/>
                      </a:lnTo>
                      <a:lnTo>
                        <a:pt x="101" y="84"/>
                      </a:lnTo>
                      <a:lnTo>
                        <a:pt x="101" y="126"/>
                      </a:lnTo>
                      <a:lnTo>
                        <a:pt x="73" y="146"/>
                      </a:lnTo>
                      <a:lnTo>
                        <a:pt x="28" y="146"/>
                      </a:lnTo>
                      <a:lnTo>
                        <a:pt x="0" y="126"/>
                      </a:lnTo>
                      <a:lnTo>
                        <a:pt x="0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97640" y="5827680"/>
                  <a:ext cx="61920" cy="78120"/>
                </a:xfrm>
                <a:custGeom>
                  <a:avLst/>
                  <a:gdLst/>
                  <a:ahLst/>
                  <a:rect l="l" t="t" r="r" b="b"/>
                  <a:pathLst>
                    <a:path w="115" h="146">
                      <a:moveTo>
                        <a:pt x="31" y="0"/>
                      </a:moveTo>
                      <a:lnTo>
                        <a:pt x="84" y="0"/>
                      </a:lnTo>
                      <a:lnTo>
                        <a:pt x="115" y="146"/>
                      </a:lnTo>
                      <a:lnTo>
                        <a:pt x="74" y="146"/>
                      </a:lnTo>
                      <a:lnTo>
                        <a:pt x="71" y="117"/>
                      </a:lnTo>
                      <a:lnTo>
                        <a:pt x="71" y="92"/>
                      </a:lnTo>
                      <a:lnTo>
                        <a:pt x="58" y="23"/>
                      </a:lnTo>
                      <a:lnTo>
                        <a:pt x="44" y="92"/>
                      </a:lnTo>
                      <a:lnTo>
                        <a:pt x="71" y="92"/>
                      </a:lnTo>
                      <a:lnTo>
                        <a:pt x="71" y="117"/>
                      </a:lnTo>
                      <a:lnTo>
                        <a:pt x="44" y="117"/>
                      </a:lnTo>
                      <a:lnTo>
                        <a:pt x="40" y="146"/>
                      </a:lnTo>
                      <a:lnTo>
                        <a:pt x="0" y="14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304920" y="1828800"/>
            <a:ext cx="8534160" cy="44197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ntinuous business activity is divided into arbitrary time periods as exemplified by this tim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activity is best reported in annual, quarterly or monthly peri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Periodicity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812880" y="3708360"/>
            <a:ext cx="7264080" cy="711360"/>
            <a:chOff x="812880" y="3708360"/>
            <a:chExt cx="7264080" cy="711360"/>
          </a:xfrm>
        </p:grpSpPr>
        <p:sp>
          <p:nvSpPr>
            <p:cNvPr id="1241" name=""/>
            <p:cNvSpPr/>
            <p:nvPr/>
          </p:nvSpPr>
          <p:spPr>
            <a:xfrm>
              <a:off x="812880" y="4064040"/>
              <a:ext cx="7264080" cy="0"/>
            </a:xfrm>
            <a:prstGeom prst="line">
              <a:avLst/>
            </a:prstGeom>
            <a:ln w="7632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396800" y="3708360"/>
              <a:ext cx="0" cy="711360"/>
            </a:xfrm>
            <a:prstGeom prst="line">
              <a:avLst/>
            </a:prstGeom>
            <a:ln w="7632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207040" y="3708360"/>
              <a:ext cx="0" cy="711360"/>
            </a:xfrm>
            <a:prstGeom prst="line">
              <a:avLst/>
            </a:prstGeom>
            <a:ln w="7632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88120" y="3708360"/>
              <a:ext cx="0" cy="711360"/>
            </a:xfrm>
            <a:prstGeom prst="line">
              <a:avLst/>
            </a:prstGeom>
            <a:ln w="7632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25600" y="3708360"/>
              <a:ext cx="0" cy="711360"/>
            </a:xfrm>
            <a:prstGeom prst="line">
              <a:avLst/>
            </a:prstGeom>
            <a:ln w="7632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849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ubstance Over For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The substance of a transaction or economic event is more important </a:t>
            </a:r>
            <a:br>
              <a:rPr sz="2800"/>
            </a:b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than its legal form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Other Basic 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Other Basic 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ubstance Over For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The substance of a transaction or economic event is more important than its legal form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1"/>
          <a:stretch/>
        </p:blipFill>
        <p:spPr>
          <a:xfrm>
            <a:off x="5292720" y="3267000"/>
            <a:ext cx="3409920" cy="350532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/>
          <p:nvPr/>
        </p:nvSpPr>
        <p:spPr>
          <a:xfrm>
            <a:off x="1440" y="3546360"/>
            <a:ext cx="5173920" cy="32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.g., next semester, we will study that even though parent and subsidiary companies ar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</a:rPr>
              <a:t>legally separate entitie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, GAAP says that a set of consolidated financial statements must be prepared as if they were one company, i.e.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</a:rPr>
              <a:t>on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economic ent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304920" y="1600200"/>
            <a:ext cx="8534160" cy="4876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79f"/>
                </a:solidFill>
                <a:uFillTx/>
                <a:latin typeface="Arial"/>
              </a:rPr>
              <a:t>Consist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e00"/>
                </a:solidFill>
                <a:latin typeface="Arial"/>
              </a:rPr>
              <a:t>Requires that a company use the same accounting principles from one period to the next. It does </a:t>
            </a:r>
            <a:r>
              <a:rPr b="1" lang="en-US" sz="3200" spc="-1" strike="noStrike" u="sng">
                <a:solidFill>
                  <a:srgbClr val="4c2e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4c2e00"/>
                </a:solidFill>
                <a:latin typeface="Arial"/>
              </a:rPr>
              <a:t> require that all companies use the same princip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e00"/>
                </a:solidFill>
                <a:latin typeface="Arial"/>
              </a:rPr>
              <a:t>A change from one acceptable accounting principle to another must be disclosed in the </a:t>
            </a:r>
            <a:r>
              <a:rPr b="1" lang="en-US" sz="3200" spc="-1" strike="noStrike">
                <a:solidFill>
                  <a:srgbClr val="247c18"/>
                </a:solidFill>
                <a:latin typeface="Arial"/>
              </a:rPr>
              <a:t>notes </a:t>
            </a:r>
            <a:r>
              <a:rPr b="1" lang="en-US" sz="3200" spc="-1" strike="noStrike">
                <a:solidFill>
                  <a:srgbClr val="4c2e00"/>
                </a:solidFill>
                <a:latin typeface="Arial"/>
              </a:rPr>
              <a:t>to the financial stat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Other Basic 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9640" y="1682280"/>
            <a:ext cx="8172720" cy="4946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ouble-Entry Bookkeep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 transaction will have both a debit effect and a credit effect on the primary financial statements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debits mu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tal credits.</a:t>
            </a:r>
            <a:br>
              <a:rPr sz="2800"/>
            </a:b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rticula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imary financial statements are fundamentally related to each oth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shown on page 19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Other Basic 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Accounting Theory Defined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95520" y="5904000"/>
            <a:ext cx="2395440" cy="877680"/>
            <a:chOff x="3395520" y="5904000"/>
            <a:chExt cx="2395440" cy="877680"/>
          </a:xfrm>
        </p:grpSpPr>
        <p:graphicFrame>
          <p:nvGraphicFramePr>
            <p:cNvPr id="121" name=""/>
            <p:cNvGraphicFramePr/>
            <p:nvPr/>
          </p:nvGraphicFramePr>
          <p:xfrm>
            <a:off x="3395520" y="5904000"/>
            <a:ext cx="2395440" cy="87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95520" y="5904000"/>
                      <a:ext cx="239544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4614480" y="6095880"/>
              <a:ext cx="987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1600" y="1523880"/>
            <a:ext cx="6305400" cy="43243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6942240" y="4276800"/>
            <a:ext cx="2128680" cy="2249280"/>
            <a:chOff x="6942240" y="4276800"/>
            <a:chExt cx="2128680" cy="2249280"/>
          </a:xfrm>
        </p:grpSpPr>
        <p:sp>
          <p:nvSpPr>
            <p:cNvPr id="126" name=""/>
            <p:cNvSpPr/>
            <p:nvPr/>
          </p:nvSpPr>
          <p:spPr>
            <a:xfrm>
              <a:off x="7997760" y="4498920"/>
              <a:ext cx="465120" cy="357120"/>
            </a:xfrm>
            <a:custGeom>
              <a:avLst/>
              <a:gdLst/>
              <a:ahLst/>
              <a:rect l="l" t="t" r="r" b="b"/>
              <a:pathLst>
                <a:path w="586" h="449">
                  <a:moveTo>
                    <a:pt x="0" y="141"/>
                  </a:moveTo>
                  <a:lnTo>
                    <a:pt x="113" y="256"/>
                  </a:lnTo>
                  <a:lnTo>
                    <a:pt x="121" y="331"/>
                  </a:lnTo>
                  <a:lnTo>
                    <a:pt x="130" y="449"/>
                  </a:lnTo>
                  <a:lnTo>
                    <a:pt x="161" y="449"/>
                  </a:lnTo>
                  <a:lnTo>
                    <a:pt x="194" y="414"/>
                  </a:lnTo>
                  <a:lnTo>
                    <a:pt x="210" y="347"/>
                  </a:lnTo>
                  <a:lnTo>
                    <a:pt x="210" y="248"/>
                  </a:lnTo>
                  <a:lnTo>
                    <a:pt x="218" y="305"/>
                  </a:lnTo>
                  <a:lnTo>
                    <a:pt x="225" y="339"/>
                  </a:lnTo>
                  <a:lnTo>
                    <a:pt x="235" y="372"/>
                  </a:lnTo>
                  <a:lnTo>
                    <a:pt x="266" y="372"/>
                  </a:lnTo>
                  <a:lnTo>
                    <a:pt x="299" y="339"/>
                  </a:lnTo>
                  <a:lnTo>
                    <a:pt x="299" y="298"/>
                  </a:lnTo>
                  <a:lnTo>
                    <a:pt x="322" y="238"/>
                  </a:lnTo>
                  <a:lnTo>
                    <a:pt x="330" y="281"/>
                  </a:lnTo>
                  <a:lnTo>
                    <a:pt x="346" y="323"/>
                  </a:lnTo>
                  <a:lnTo>
                    <a:pt x="387" y="305"/>
                  </a:lnTo>
                  <a:lnTo>
                    <a:pt x="401" y="272"/>
                  </a:lnTo>
                  <a:lnTo>
                    <a:pt x="401" y="298"/>
                  </a:lnTo>
                  <a:lnTo>
                    <a:pt x="451" y="272"/>
                  </a:lnTo>
                  <a:lnTo>
                    <a:pt x="473" y="214"/>
                  </a:lnTo>
                  <a:lnTo>
                    <a:pt x="459" y="305"/>
                  </a:lnTo>
                  <a:lnTo>
                    <a:pt x="451" y="339"/>
                  </a:lnTo>
                  <a:lnTo>
                    <a:pt x="481" y="347"/>
                  </a:lnTo>
                  <a:lnTo>
                    <a:pt x="490" y="389"/>
                  </a:lnTo>
                  <a:lnTo>
                    <a:pt x="537" y="381"/>
                  </a:lnTo>
                  <a:lnTo>
                    <a:pt x="569" y="305"/>
                  </a:lnTo>
                  <a:lnTo>
                    <a:pt x="586" y="214"/>
                  </a:lnTo>
                  <a:lnTo>
                    <a:pt x="569" y="134"/>
                  </a:lnTo>
                  <a:lnTo>
                    <a:pt x="522" y="67"/>
                  </a:lnTo>
                  <a:lnTo>
                    <a:pt x="464" y="15"/>
                  </a:lnTo>
                  <a:lnTo>
                    <a:pt x="434" y="58"/>
                  </a:lnTo>
                  <a:lnTo>
                    <a:pt x="395" y="25"/>
                  </a:lnTo>
                  <a:lnTo>
                    <a:pt x="370" y="7"/>
                  </a:lnTo>
                  <a:lnTo>
                    <a:pt x="354" y="25"/>
                  </a:lnTo>
                  <a:lnTo>
                    <a:pt x="313" y="15"/>
                  </a:lnTo>
                  <a:lnTo>
                    <a:pt x="305" y="58"/>
                  </a:lnTo>
                  <a:lnTo>
                    <a:pt x="290" y="33"/>
                  </a:lnTo>
                  <a:lnTo>
                    <a:pt x="249" y="25"/>
                  </a:lnTo>
                  <a:lnTo>
                    <a:pt x="210" y="0"/>
                  </a:lnTo>
                  <a:lnTo>
                    <a:pt x="194" y="33"/>
                  </a:lnTo>
                  <a:lnTo>
                    <a:pt x="170" y="15"/>
                  </a:lnTo>
                  <a:lnTo>
                    <a:pt x="138" y="7"/>
                  </a:lnTo>
                  <a:lnTo>
                    <a:pt x="113" y="15"/>
                  </a:lnTo>
                  <a:lnTo>
                    <a:pt x="106" y="67"/>
                  </a:lnTo>
                  <a:lnTo>
                    <a:pt x="113" y="74"/>
                  </a:lnTo>
                  <a:lnTo>
                    <a:pt x="89" y="74"/>
                  </a:lnTo>
                  <a:lnTo>
                    <a:pt x="8" y="67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b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283520" y="4276800"/>
              <a:ext cx="1787400" cy="2125440"/>
              <a:chOff x="7283520" y="4276800"/>
              <a:chExt cx="1787400" cy="2125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8093160" y="5253120"/>
                <a:ext cx="977760" cy="1149120"/>
                <a:chOff x="8093160" y="5253120"/>
                <a:chExt cx="977760" cy="11491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8093160" y="5253120"/>
                  <a:ext cx="977760" cy="1149120"/>
                </a:xfrm>
                <a:custGeom>
                  <a:avLst/>
                  <a:gdLst/>
                  <a:ahLst/>
                  <a:rect l="l" t="t" r="r" b="b"/>
                  <a:pathLst>
                    <a:path w="1232" h="1448">
                      <a:moveTo>
                        <a:pt x="0" y="0"/>
                      </a:moveTo>
                      <a:lnTo>
                        <a:pt x="133" y="112"/>
                      </a:lnTo>
                      <a:lnTo>
                        <a:pt x="157" y="192"/>
                      </a:lnTo>
                      <a:lnTo>
                        <a:pt x="306" y="693"/>
                      </a:lnTo>
                      <a:lnTo>
                        <a:pt x="360" y="821"/>
                      </a:lnTo>
                      <a:lnTo>
                        <a:pt x="401" y="885"/>
                      </a:lnTo>
                      <a:lnTo>
                        <a:pt x="457" y="951"/>
                      </a:lnTo>
                      <a:lnTo>
                        <a:pt x="521" y="1023"/>
                      </a:lnTo>
                      <a:lnTo>
                        <a:pt x="553" y="1143"/>
                      </a:lnTo>
                      <a:lnTo>
                        <a:pt x="587" y="1224"/>
                      </a:lnTo>
                      <a:lnTo>
                        <a:pt x="683" y="1238"/>
                      </a:lnTo>
                      <a:lnTo>
                        <a:pt x="770" y="1303"/>
                      </a:lnTo>
                      <a:lnTo>
                        <a:pt x="825" y="1359"/>
                      </a:lnTo>
                      <a:lnTo>
                        <a:pt x="882" y="1448"/>
                      </a:lnTo>
                      <a:lnTo>
                        <a:pt x="1232" y="1448"/>
                      </a:lnTo>
                      <a:lnTo>
                        <a:pt x="1160" y="1404"/>
                      </a:lnTo>
                      <a:lnTo>
                        <a:pt x="1107" y="1360"/>
                      </a:lnTo>
                      <a:lnTo>
                        <a:pt x="1072" y="1320"/>
                      </a:lnTo>
                      <a:lnTo>
                        <a:pt x="1038" y="1262"/>
                      </a:lnTo>
                      <a:lnTo>
                        <a:pt x="989" y="1205"/>
                      </a:lnTo>
                      <a:lnTo>
                        <a:pt x="941" y="1181"/>
                      </a:lnTo>
                      <a:lnTo>
                        <a:pt x="890" y="1179"/>
                      </a:lnTo>
                      <a:lnTo>
                        <a:pt x="833" y="1198"/>
                      </a:lnTo>
                      <a:lnTo>
                        <a:pt x="814" y="1140"/>
                      </a:lnTo>
                      <a:lnTo>
                        <a:pt x="791" y="1080"/>
                      </a:lnTo>
                      <a:lnTo>
                        <a:pt x="761" y="1039"/>
                      </a:lnTo>
                      <a:lnTo>
                        <a:pt x="709" y="1002"/>
                      </a:lnTo>
                      <a:lnTo>
                        <a:pt x="650" y="975"/>
                      </a:lnTo>
                      <a:lnTo>
                        <a:pt x="616" y="922"/>
                      </a:lnTo>
                      <a:lnTo>
                        <a:pt x="601" y="870"/>
                      </a:lnTo>
                      <a:lnTo>
                        <a:pt x="576" y="803"/>
                      </a:lnTo>
                      <a:lnTo>
                        <a:pt x="542" y="752"/>
                      </a:lnTo>
                      <a:lnTo>
                        <a:pt x="511" y="693"/>
                      </a:lnTo>
                      <a:lnTo>
                        <a:pt x="492" y="610"/>
                      </a:lnTo>
                      <a:lnTo>
                        <a:pt x="458" y="540"/>
                      </a:lnTo>
                      <a:lnTo>
                        <a:pt x="416" y="491"/>
                      </a:lnTo>
                      <a:lnTo>
                        <a:pt x="355" y="436"/>
                      </a:lnTo>
                      <a:lnTo>
                        <a:pt x="289" y="396"/>
                      </a:lnTo>
                      <a:lnTo>
                        <a:pt x="192" y="265"/>
                      </a:lnTo>
                      <a:lnTo>
                        <a:pt x="262" y="315"/>
                      </a:lnTo>
                      <a:lnTo>
                        <a:pt x="465" y="373"/>
                      </a:lnTo>
                      <a:lnTo>
                        <a:pt x="407" y="312"/>
                      </a:lnTo>
                      <a:lnTo>
                        <a:pt x="348" y="228"/>
                      </a:lnTo>
                      <a:lnTo>
                        <a:pt x="274" y="152"/>
                      </a:lnTo>
                      <a:lnTo>
                        <a:pt x="188" y="100"/>
                      </a:lnTo>
                      <a:lnTo>
                        <a:pt x="7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194680" y="5311800"/>
                  <a:ext cx="77760" cy="12528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0" y="0"/>
                      </a:moveTo>
                      <a:lnTo>
                        <a:pt x="41" y="23"/>
                      </a:lnTo>
                      <a:lnTo>
                        <a:pt x="73" y="43"/>
                      </a:lnTo>
                      <a:lnTo>
                        <a:pt x="97" y="84"/>
                      </a:lnTo>
                      <a:lnTo>
                        <a:pt x="60" y="93"/>
                      </a:lnTo>
                      <a:lnTo>
                        <a:pt x="52" y="157"/>
                      </a:lnTo>
                      <a:lnTo>
                        <a:pt x="50" y="136"/>
                      </a:lnTo>
                      <a:lnTo>
                        <a:pt x="33" y="88"/>
                      </a:lnTo>
                      <a:lnTo>
                        <a:pt x="20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283520" y="4276800"/>
                <a:ext cx="1165320" cy="1224000"/>
                <a:chOff x="7283520" y="4276800"/>
                <a:chExt cx="1165320" cy="1224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16640" y="4276800"/>
                  <a:ext cx="1111320" cy="1224000"/>
                </a:xfrm>
                <a:custGeom>
                  <a:avLst/>
                  <a:gdLst/>
                  <a:ahLst/>
                  <a:rect l="l" t="t" r="r" b="b"/>
                  <a:pathLst>
                    <a:path w="1400" h="1542">
                      <a:moveTo>
                        <a:pt x="152" y="938"/>
                      </a:moveTo>
                      <a:lnTo>
                        <a:pt x="193" y="1069"/>
                      </a:lnTo>
                      <a:lnTo>
                        <a:pt x="262" y="1166"/>
                      </a:lnTo>
                      <a:lnTo>
                        <a:pt x="383" y="1242"/>
                      </a:lnTo>
                      <a:lnTo>
                        <a:pt x="506" y="1275"/>
                      </a:lnTo>
                      <a:lnTo>
                        <a:pt x="514" y="1314"/>
                      </a:lnTo>
                      <a:lnTo>
                        <a:pt x="1160" y="1542"/>
                      </a:lnTo>
                      <a:lnTo>
                        <a:pt x="1129" y="1411"/>
                      </a:lnTo>
                      <a:lnTo>
                        <a:pt x="1084" y="1290"/>
                      </a:lnTo>
                      <a:lnTo>
                        <a:pt x="1044" y="1226"/>
                      </a:lnTo>
                      <a:lnTo>
                        <a:pt x="1036" y="1146"/>
                      </a:lnTo>
                      <a:lnTo>
                        <a:pt x="1057" y="1018"/>
                      </a:lnTo>
                      <a:lnTo>
                        <a:pt x="1090" y="938"/>
                      </a:lnTo>
                      <a:lnTo>
                        <a:pt x="1133" y="873"/>
                      </a:lnTo>
                      <a:lnTo>
                        <a:pt x="1205" y="833"/>
                      </a:lnTo>
                      <a:lnTo>
                        <a:pt x="1265" y="772"/>
                      </a:lnTo>
                      <a:lnTo>
                        <a:pt x="1323" y="683"/>
                      </a:lnTo>
                      <a:lnTo>
                        <a:pt x="1356" y="611"/>
                      </a:lnTo>
                      <a:lnTo>
                        <a:pt x="1396" y="500"/>
                      </a:lnTo>
                      <a:lnTo>
                        <a:pt x="1400" y="383"/>
                      </a:lnTo>
                      <a:lnTo>
                        <a:pt x="1349" y="295"/>
                      </a:lnTo>
                      <a:lnTo>
                        <a:pt x="1265" y="216"/>
                      </a:lnTo>
                      <a:lnTo>
                        <a:pt x="1149" y="131"/>
                      </a:lnTo>
                      <a:lnTo>
                        <a:pt x="1036" y="75"/>
                      </a:lnTo>
                      <a:lnTo>
                        <a:pt x="907" y="38"/>
                      </a:lnTo>
                      <a:lnTo>
                        <a:pt x="799" y="14"/>
                      </a:lnTo>
                      <a:lnTo>
                        <a:pt x="682" y="0"/>
                      </a:lnTo>
                      <a:lnTo>
                        <a:pt x="565" y="2"/>
                      </a:lnTo>
                      <a:lnTo>
                        <a:pt x="456" y="23"/>
                      </a:lnTo>
                      <a:lnTo>
                        <a:pt x="362" y="55"/>
                      </a:lnTo>
                      <a:lnTo>
                        <a:pt x="282" y="102"/>
                      </a:lnTo>
                      <a:lnTo>
                        <a:pt x="189" y="162"/>
                      </a:lnTo>
                      <a:lnTo>
                        <a:pt x="104" y="240"/>
                      </a:lnTo>
                      <a:lnTo>
                        <a:pt x="24" y="345"/>
                      </a:lnTo>
                      <a:lnTo>
                        <a:pt x="0" y="441"/>
                      </a:lnTo>
                      <a:lnTo>
                        <a:pt x="8" y="551"/>
                      </a:lnTo>
                      <a:lnTo>
                        <a:pt x="49" y="639"/>
                      </a:lnTo>
                      <a:lnTo>
                        <a:pt x="97" y="696"/>
                      </a:lnTo>
                      <a:lnTo>
                        <a:pt x="129" y="785"/>
                      </a:lnTo>
                      <a:lnTo>
                        <a:pt x="152" y="93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431120" y="4300560"/>
                  <a:ext cx="1017720" cy="873000"/>
                  <a:chOff x="7431120" y="4300560"/>
                  <a:chExt cx="1017720" cy="87300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7431120" y="4486320"/>
                    <a:ext cx="1017720" cy="687240"/>
                    <a:chOff x="7431120" y="4486320"/>
                    <a:chExt cx="1017720" cy="68724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7431120" y="4951440"/>
                      <a:ext cx="357120" cy="222120"/>
                      <a:chOff x="7431120" y="4951440"/>
                      <a:chExt cx="357120" cy="22212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7448400" y="4951440"/>
                        <a:ext cx="33984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279">
                            <a:moveTo>
                              <a:pt x="0" y="80"/>
                            </a:moveTo>
                            <a:lnTo>
                              <a:pt x="123" y="8"/>
                            </a:lnTo>
                            <a:lnTo>
                              <a:pt x="202" y="0"/>
                            </a:lnTo>
                            <a:lnTo>
                              <a:pt x="305" y="33"/>
                            </a:lnTo>
                            <a:lnTo>
                              <a:pt x="379" y="88"/>
                            </a:lnTo>
                            <a:lnTo>
                              <a:pt x="426" y="127"/>
                            </a:lnTo>
                            <a:lnTo>
                              <a:pt x="426" y="158"/>
                            </a:lnTo>
                            <a:lnTo>
                              <a:pt x="393" y="174"/>
                            </a:lnTo>
                            <a:lnTo>
                              <a:pt x="338" y="135"/>
                            </a:lnTo>
                            <a:lnTo>
                              <a:pt x="257" y="94"/>
                            </a:lnTo>
                            <a:lnTo>
                              <a:pt x="329" y="143"/>
                            </a:lnTo>
                            <a:lnTo>
                              <a:pt x="346" y="174"/>
                            </a:lnTo>
                            <a:lnTo>
                              <a:pt x="346" y="199"/>
                            </a:lnTo>
                            <a:lnTo>
                              <a:pt x="298" y="199"/>
                            </a:lnTo>
                            <a:lnTo>
                              <a:pt x="274" y="199"/>
                            </a:lnTo>
                            <a:lnTo>
                              <a:pt x="257" y="168"/>
                            </a:lnTo>
                            <a:lnTo>
                              <a:pt x="243" y="127"/>
                            </a:lnTo>
                            <a:lnTo>
                              <a:pt x="187" y="94"/>
                            </a:lnTo>
                            <a:lnTo>
                              <a:pt x="211" y="151"/>
                            </a:lnTo>
                            <a:lnTo>
                              <a:pt x="225" y="183"/>
                            </a:lnTo>
                            <a:lnTo>
                              <a:pt x="225" y="199"/>
                            </a:lnTo>
                            <a:lnTo>
                              <a:pt x="211" y="223"/>
                            </a:lnTo>
                            <a:lnTo>
                              <a:pt x="187" y="223"/>
                            </a:lnTo>
                            <a:lnTo>
                              <a:pt x="155" y="199"/>
                            </a:lnTo>
                            <a:lnTo>
                              <a:pt x="106" y="158"/>
                            </a:lnTo>
                            <a:lnTo>
                              <a:pt x="106" y="183"/>
                            </a:lnTo>
                            <a:lnTo>
                              <a:pt x="114" y="215"/>
                            </a:lnTo>
                            <a:lnTo>
                              <a:pt x="114" y="223"/>
                            </a:lnTo>
                            <a:lnTo>
                              <a:pt x="90" y="215"/>
                            </a:lnTo>
                            <a:lnTo>
                              <a:pt x="66" y="199"/>
                            </a:lnTo>
                            <a:lnTo>
                              <a:pt x="66" y="232"/>
                            </a:lnTo>
                            <a:lnTo>
                              <a:pt x="59" y="263"/>
                            </a:lnTo>
                            <a:lnTo>
                              <a:pt x="17" y="279"/>
                            </a:lnTo>
                            <a:lnTo>
                              <a:pt x="0" y="271"/>
                            </a:lnTo>
                            <a:lnTo>
                              <a:pt x="0" y="232"/>
                            </a:lnTo>
                            <a:lnTo>
                              <a:pt x="0" y="183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b070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7431120" y="4951440"/>
                        <a:ext cx="33804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279">
                            <a:moveTo>
                              <a:pt x="0" y="80"/>
                            </a:moveTo>
                            <a:lnTo>
                              <a:pt x="122" y="8"/>
                            </a:lnTo>
                            <a:lnTo>
                              <a:pt x="202" y="0"/>
                            </a:lnTo>
                            <a:lnTo>
                              <a:pt x="306" y="33"/>
                            </a:lnTo>
                            <a:lnTo>
                              <a:pt x="377" y="88"/>
                            </a:lnTo>
                            <a:lnTo>
                              <a:pt x="426" y="127"/>
                            </a:lnTo>
                            <a:lnTo>
                              <a:pt x="426" y="158"/>
                            </a:lnTo>
                            <a:lnTo>
                              <a:pt x="394" y="174"/>
                            </a:lnTo>
                            <a:lnTo>
                              <a:pt x="339" y="135"/>
                            </a:lnTo>
                            <a:lnTo>
                              <a:pt x="259" y="94"/>
                            </a:lnTo>
                            <a:lnTo>
                              <a:pt x="329" y="143"/>
                            </a:lnTo>
                            <a:lnTo>
                              <a:pt x="345" y="174"/>
                            </a:lnTo>
                            <a:lnTo>
                              <a:pt x="345" y="199"/>
                            </a:lnTo>
                            <a:lnTo>
                              <a:pt x="298" y="199"/>
                            </a:lnTo>
                            <a:lnTo>
                              <a:pt x="276" y="199"/>
                            </a:lnTo>
                            <a:lnTo>
                              <a:pt x="259" y="168"/>
                            </a:lnTo>
                            <a:lnTo>
                              <a:pt x="243" y="127"/>
                            </a:lnTo>
                            <a:lnTo>
                              <a:pt x="185" y="94"/>
                            </a:lnTo>
                            <a:lnTo>
                              <a:pt x="211" y="151"/>
                            </a:lnTo>
                            <a:lnTo>
                              <a:pt x="226" y="183"/>
                            </a:lnTo>
                            <a:lnTo>
                              <a:pt x="226" y="199"/>
                            </a:lnTo>
                            <a:lnTo>
                              <a:pt x="211" y="223"/>
                            </a:lnTo>
                            <a:lnTo>
                              <a:pt x="185" y="223"/>
                            </a:lnTo>
                            <a:lnTo>
                              <a:pt x="154" y="199"/>
                            </a:lnTo>
                            <a:lnTo>
                              <a:pt x="107" y="158"/>
                            </a:lnTo>
                            <a:lnTo>
                              <a:pt x="107" y="183"/>
                            </a:lnTo>
                            <a:lnTo>
                              <a:pt x="114" y="215"/>
                            </a:lnTo>
                            <a:lnTo>
                              <a:pt x="114" y="223"/>
                            </a:lnTo>
                            <a:lnTo>
                              <a:pt x="90" y="215"/>
                            </a:lnTo>
                            <a:lnTo>
                              <a:pt x="66" y="199"/>
                            </a:lnTo>
                            <a:lnTo>
                              <a:pt x="66" y="232"/>
                            </a:lnTo>
                            <a:lnTo>
                              <a:pt x="58" y="263"/>
                            </a:lnTo>
                            <a:lnTo>
                              <a:pt x="17" y="279"/>
                            </a:lnTo>
                            <a:lnTo>
                              <a:pt x="0" y="271"/>
                            </a:lnTo>
                            <a:lnTo>
                              <a:pt x="0" y="232"/>
                            </a:lnTo>
                            <a:lnTo>
                              <a:pt x="0" y="183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978680" y="4486320"/>
                      <a:ext cx="47016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3" h="448">
                          <a:moveTo>
                            <a:pt x="0" y="140"/>
                          </a:moveTo>
                          <a:lnTo>
                            <a:pt x="114" y="256"/>
                          </a:lnTo>
                          <a:lnTo>
                            <a:pt x="122" y="330"/>
                          </a:lnTo>
                          <a:lnTo>
                            <a:pt x="131" y="448"/>
                          </a:lnTo>
                          <a:lnTo>
                            <a:pt x="164" y="448"/>
                          </a:lnTo>
                          <a:lnTo>
                            <a:pt x="197" y="413"/>
                          </a:lnTo>
                          <a:lnTo>
                            <a:pt x="211" y="346"/>
                          </a:lnTo>
                          <a:lnTo>
                            <a:pt x="211" y="248"/>
                          </a:lnTo>
                          <a:lnTo>
                            <a:pt x="221" y="304"/>
                          </a:lnTo>
                          <a:lnTo>
                            <a:pt x="228" y="338"/>
                          </a:lnTo>
                          <a:lnTo>
                            <a:pt x="236" y="371"/>
                          </a:lnTo>
                          <a:lnTo>
                            <a:pt x="269" y="371"/>
                          </a:lnTo>
                          <a:lnTo>
                            <a:pt x="302" y="338"/>
                          </a:lnTo>
                          <a:lnTo>
                            <a:pt x="302" y="297"/>
                          </a:lnTo>
                          <a:lnTo>
                            <a:pt x="327" y="237"/>
                          </a:lnTo>
                          <a:lnTo>
                            <a:pt x="333" y="280"/>
                          </a:lnTo>
                          <a:lnTo>
                            <a:pt x="352" y="322"/>
                          </a:lnTo>
                          <a:lnTo>
                            <a:pt x="392" y="304"/>
                          </a:lnTo>
                          <a:lnTo>
                            <a:pt x="407" y="271"/>
                          </a:lnTo>
                          <a:lnTo>
                            <a:pt x="407" y="297"/>
                          </a:lnTo>
                          <a:lnTo>
                            <a:pt x="458" y="271"/>
                          </a:lnTo>
                          <a:lnTo>
                            <a:pt x="481" y="214"/>
                          </a:lnTo>
                          <a:lnTo>
                            <a:pt x="464" y="304"/>
                          </a:lnTo>
                          <a:lnTo>
                            <a:pt x="458" y="338"/>
                          </a:lnTo>
                          <a:lnTo>
                            <a:pt x="489" y="346"/>
                          </a:lnTo>
                          <a:lnTo>
                            <a:pt x="495" y="388"/>
                          </a:lnTo>
                          <a:lnTo>
                            <a:pt x="546" y="380"/>
                          </a:lnTo>
                          <a:lnTo>
                            <a:pt x="577" y="304"/>
                          </a:lnTo>
                          <a:lnTo>
                            <a:pt x="593" y="214"/>
                          </a:lnTo>
                          <a:lnTo>
                            <a:pt x="577" y="134"/>
                          </a:lnTo>
                          <a:lnTo>
                            <a:pt x="527" y="67"/>
                          </a:lnTo>
                          <a:lnTo>
                            <a:pt x="472" y="14"/>
                          </a:lnTo>
                          <a:lnTo>
                            <a:pt x="439" y="57"/>
                          </a:lnTo>
                          <a:lnTo>
                            <a:pt x="399" y="25"/>
                          </a:lnTo>
                          <a:lnTo>
                            <a:pt x="375" y="6"/>
                          </a:lnTo>
                          <a:lnTo>
                            <a:pt x="360" y="25"/>
                          </a:lnTo>
                          <a:lnTo>
                            <a:pt x="318" y="14"/>
                          </a:lnTo>
                          <a:lnTo>
                            <a:pt x="310" y="57"/>
                          </a:lnTo>
                          <a:lnTo>
                            <a:pt x="294" y="33"/>
                          </a:lnTo>
                          <a:lnTo>
                            <a:pt x="253" y="25"/>
                          </a:lnTo>
                          <a:lnTo>
                            <a:pt x="211" y="0"/>
                          </a:lnTo>
                          <a:lnTo>
                            <a:pt x="197" y="33"/>
                          </a:lnTo>
                          <a:lnTo>
                            <a:pt x="172" y="14"/>
                          </a:lnTo>
                          <a:lnTo>
                            <a:pt x="138" y="6"/>
                          </a:lnTo>
                          <a:lnTo>
                            <a:pt x="114" y="14"/>
                          </a:lnTo>
                          <a:lnTo>
                            <a:pt x="106" y="67"/>
                          </a:lnTo>
                          <a:lnTo>
                            <a:pt x="114" y="73"/>
                          </a:lnTo>
                          <a:lnTo>
                            <a:pt x="91" y="73"/>
                          </a:lnTo>
                          <a:lnTo>
                            <a:pt x="7" y="67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7569360" y="4300560"/>
                    <a:ext cx="574560" cy="141120"/>
                    <a:chOff x="7569360" y="4300560"/>
                    <a:chExt cx="574560" cy="1411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569360" y="4325760"/>
                      <a:ext cx="52380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1" h="129">
                          <a:moveTo>
                            <a:pt x="0" y="6"/>
                          </a:moveTo>
                          <a:lnTo>
                            <a:pt x="84" y="0"/>
                          </a:lnTo>
                          <a:lnTo>
                            <a:pt x="170" y="21"/>
                          </a:lnTo>
                          <a:lnTo>
                            <a:pt x="234" y="45"/>
                          </a:lnTo>
                          <a:lnTo>
                            <a:pt x="328" y="86"/>
                          </a:lnTo>
                          <a:lnTo>
                            <a:pt x="407" y="105"/>
                          </a:lnTo>
                          <a:lnTo>
                            <a:pt x="480" y="95"/>
                          </a:lnTo>
                          <a:lnTo>
                            <a:pt x="557" y="105"/>
                          </a:lnTo>
                          <a:lnTo>
                            <a:pt x="616" y="109"/>
                          </a:lnTo>
                          <a:lnTo>
                            <a:pt x="661" y="129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8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78800" y="4300560"/>
                      <a:ext cx="4651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8" h="177">
                          <a:moveTo>
                            <a:pt x="0" y="0"/>
                          </a:moveTo>
                          <a:lnTo>
                            <a:pt x="45" y="29"/>
                          </a:lnTo>
                          <a:lnTo>
                            <a:pt x="118" y="52"/>
                          </a:lnTo>
                          <a:lnTo>
                            <a:pt x="170" y="68"/>
                          </a:lnTo>
                          <a:lnTo>
                            <a:pt x="230" y="76"/>
                          </a:lnTo>
                          <a:lnTo>
                            <a:pt x="288" y="62"/>
                          </a:lnTo>
                          <a:lnTo>
                            <a:pt x="383" y="76"/>
                          </a:lnTo>
                          <a:lnTo>
                            <a:pt x="447" y="89"/>
                          </a:lnTo>
                          <a:lnTo>
                            <a:pt x="505" y="96"/>
                          </a:lnTo>
                          <a:lnTo>
                            <a:pt x="569" y="126"/>
                          </a:lnTo>
                          <a:lnTo>
                            <a:pt x="588" y="17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8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283520" y="4626000"/>
                  <a:ext cx="417600" cy="404640"/>
                  <a:chOff x="7283520" y="4626000"/>
                  <a:chExt cx="417600" cy="40464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7283520" y="4626000"/>
                    <a:ext cx="190440" cy="196920"/>
                    <a:chOff x="7283520" y="4626000"/>
                    <a:chExt cx="190440" cy="19692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319880" y="4662360"/>
                      <a:ext cx="142920" cy="16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202">
                          <a:moveTo>
                            <a:pt x="163" y="0"/>
                          </a:moveTo>
                          <a:lnTo>
                            <a:pt x="28" y="97"/>
                          </a:lnTo>
                          <a:lnTo>
                            <a:pt x="0" y="138"/>
                          </a:lnTo>
                          <a:lnTo>
                            <a:pt x="11" y="177"/>
                          </a:lnTo>
                          <a:lnTo>
                            <a:pt x="34" y="202"/>
                          </a:lnTo>
                          <a:lnTo>
                            <a:pt x="80" y="189"/>
                          </a:lnTo>
                          <a:lnTo>
                            <a:pt x="180" y="86"/>
                          </a:lnTo>
                          <a:lnTo>
                            <a:pt x="163" y="0"/>
                          </a:lnTo>
                          <a:close/>
                        </a:path>
                      </a:pathLst>
                    </a:custGeom>
                    <a:solidFill>
                      <a:srgbClr val="f0f0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367760" y="4762440"/>
                      <a:ext cx="48960" cy="49320"/>
                    </a:xfrm>
                    <a:prstGeom prst="ellipse">
                      <a:avLst/>
                    </a:prstGeom>
                    <a:solidFill>
                      <a:srgbClr val="009080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283520" y="4626000"/>
                      <a:ext cx="190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" h="183">
                          <a:moveTo>
                            <a:pt x="233" y="19"/>
                          </a:moveTo>
                          <a:lnTo>
                            <a:pt x="221" y="5"/>
                          </a:lnTo>
                          <a:lnTo>
                            <a:pt x="209" y="0"/>
                          </a:lnTo>
                          <a:lnTo>
                            <a:pt x="196" y="2"/>
                          </a:lnTo>
                          <a:lnTo>
                            <a:pt x="183" y="11"/>
                          </a:lnTo>
                          <a:lnTo>
                            <a:pt x="7" y="126"/>
                          </a:lnTo>
                          <a:lnTo>
                            <a:pt x="2" y="137"/>
                          </a:lnTo>
                          <a:lnTo>
                            <a:pt x="0" y="152"/>
                          </a:lnTo>
                          <a:lnTo>
                            <a:pt x="5" y="167"/>
                          </a:lnTo>
                          <a:lnTo>
                            <a:pt x="15" y="179"/>
                          </a:lnTo>
                          <a:lnTo>
                            <a:pt x="27" y="183"/>
                          </a:lnTo>
                          <a:lnTo>
                            <a:pt x="44" y="179"/>
                          </a:lnTo>
                          <a:lnTo>
                            <a:pt x="229" y="58"/>
                          </a:lnTo>
                          <a:lnTo>
                            <a:pt x="238" y="47"/>
                          </a:lnTo>
                          <a:lnTo>
                            <a:pt x="239" y="36"/>
                          </a:lnTo>
                          <a:lnTo>
                            <a:pt x="233" y="19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316640" y="4629240"/>
                    <a:ext cx="384480" cy="401400"/>
                    <a:chOff x="7316640" y="4629240"/>
                    <a:chExt cx="384480" cy="4014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7316640" y="4707000"/>
                      <a:ext cx="3366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" h="406">
                          <a:moveTo>
                            <a:pt x="218" y="0"/>
                          </a:moveTo>
                          <a:lnTo>
                            <a:pt x="121" y="89"/>
                          </a:lnTo>
                          <a:lnTo>
                            <a:pt x="37" y="186"/>
                          </a:lnTo>
                          <a:lnTo>
                            <a:pt x="0" y="266"/>
                          </a:lnTo>
                          <a:lnTo>
                            <a:pt x="12" y="334"/>
                          </a:lnTo>
                          <a:lnTo>
                            <a:pt x="49" y="379"/>
                          </a:lnTo>
                          <a:lnTo>
                            <a:pt x="104" y="395"/>
                          </a:lnTo>
                          <a:lnTo>
                            <a:pt x="198" y="406"/>
                          </a:lnTo>
                          <a:lnTo>
                            <a:pt x="302" y="354"/>
                          </a:lnTo>
                          <a:lnTo>
                            <a:pt x="355" y="354"/>
                          </a:lnTo>
                          <a:lnTo>
                            <a:pt x="399" y="334"/>
                          </a:lnTo>
                          <a:lnTo>
                            <a:pt x="422" y="299"/>
                          </a:lnTo>
                          <a:lnTo>
                            <a:pt x="425" y="25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7505640" y="4629240"/>
                      <a:ext cx="195480" cy="220680"/>
                      <a:chOff x="7505640" y="4629240"/>
                      <a:chExt cx="195480" cy="22068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7515360" y="4662360"/>
                        <a:ext cx="16668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235">
                            <a:moveTo>
                              <a:pt x="47" y="0"/>
                            </a:moveTo>
                            <a:lnTo>
                              <a:pt x="174" y="74"/>
                            </a:lnTo>
                            <a:lnTo>
                              <a:pt x="199" y="113"/>
                            </a:lnTo>
                            <a:lnTo>
                              <a:pt x="211" y="153"/>
                            </a:lnTo>
                            <a:lnTo>
                              <a:pt x="205" y="202"/>
                            </a:lnTo>
                            <a:lnTo>
                              <a:pt x="182" y="227"/>
                            </a:lnTo>
                            <a:lnTo>
                              <a:pt x="136" y="235"/>
                            </a:lnTo>
                            <a:lnTo>
                              <a:pt x="83" y="218"/>
                            </a:lnTo>
                            <a:lnTo>
                              <a:pt x="40" y="177"/>
                            </a:lnTo>
                            <a:lnTo>
                              <a:pt x="7" y="129"/>
                            </a:lnTo>
                            <a:lnTo>
                              <a:pt x="0" y="88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7564320" y="4782960"/>
                        <a:ext cx="47880" cy="46080"/>
                      </a:xfrm>
                      <a:prstGeom prst="ellipse">
                        <a:avLst/>
                      </a:prstGeom>
                      <a:solidFill>
                        <a:srgbClr val="009080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505640" y="4629240"/>
                        <a:ext cx="1954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167">
                            <a:moveTo>
                              <a:pt x="6" y="17"/>
                            </a:moveTo>
                            <a:lnTo>
                              <a:pt x="18" y="7"/>
                            </a:lnTo>
                            <a:lnTo>
                              <a:pt x="30" y="0"/>
                            </a:lnTo>
                            <a:lnTo>
                              <a:pt x="43" y="3"/>
                            </a:lnTo>
                            <a:lnTo>
                              <a:pt x="56" y="11"/>
                            </a:lnTo>
                            <a:lnTo>
                              <a:pt x="238" y="116"/>
                            </a:lnTo>
                            <a:lnTo>
                              <a:pt x="242" y="125"/>
                            </a:lnTo>
                            <a:lnTo>
                              <a:pt x="246" y="139"/>
                            </a:lnTo>
                            <a:lnTo>
                              <a:pt x="241" y="152"/>
                            </a:lnTo>
                            <a:lnTo>
                              <a:pt x="229" y="163"/>
                            </a:lnTo>
                            <a:lnTo>
                              <a:pt x="217" y="167"/>
                            </a:lnTo>
                            <a:lnTo>
                              <a:pt x="203" y="164"/>
                            </a:lnTo>
                            <a:lnTo>
                              <a:pt x="10" y="53"/>
                            </a:lnTo>
                            <a:lnTo>
                              <a:pt x="2" y="43"/>
                            </a:lnTo>
                            <a:lnTo>
                              <a:pt x="0" y="33"/>
                            </a:lnTo>
                            <a:lnTo>
                              <a:pt x="6" y="17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53" name=""/>
            <p:cNvGrpSpPr/>
            <p:nvPr/>
          </p:nvGrpSpPr>
          <p:grpSpPr>
            <a:xfrm>
              <a:off x="6942240" y="5030640"/>
              <a:ext cx="1896840" cy="1495440"/>
              <a:chOff x="6942240" y="5030640"/>
              <a:chExt cx="1896840" cy="14954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6942240" y="5256360"/>
                <a:ext cx="1896840" cy="1164960"/>
                <a:chOff x="6942240" y="5256360"/>
                <a:chExt cx="1896840" cy="1164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942240" y="5256360"/>
                  <a:ext cx="1896840" cy="1164960"/>
                </a:xfrm>
                <a:custGeom>
                  <a:avLst/>
                  <a:gdLst/>
                  <a:ahLst/>
                  <a:rect l="l" t="t" r="r" b="b"/>
                  <a:pathLst>
                    <a:path w="2389" h="1468">
                      <a:moveTo>
                        <a:pt x="874" y="8"/>
                      </a:moveTo>
                      <a:lnTo>
                        <a:pt x="1561" y="152"/>
                      </a:lnTo>
                      <a:lnTo>
                        <a:pt x="1748" y="618"/>
                      </a:lnTo>
                      <a:lnTo>
                        <a:pt x="1799" y="673"/>
                      </a:lnTo>
                      <a:lnTo>
                        <a:pt x="1835" y="745"/>
                      </a:lnTo>
                      <a:lnTo>
                        <a:pt x="1884" y="825"/>
                      </a:lnTo>
                      <a:lnTo>
                        <a:pt x="1922" y="885"/>
                      </a:lnTo>
                      <a:lnTo>
                        <a:pt x="1996" y="947"/>
                      </a:lnTo>
                      <a:lnTo>
                        <a:pt x="2038" y="1027"/>
                      </a:lnTo>
                      <a:lnTo>
                        <a:pt x="2064" y="1100"/>
                      </a:lnTo>
                      <a:lnTo>
                        <a:pt x="2069" y="1179"/>
                      </a:lnTo>
                      <a:lnTo>
                        <a:pt x="2137" y="1194"/>
                      </a:lnTo>
                      <a:lnTo>
                        <a:pt x="2203" y="1220"/>
                      </a:lnTo>
                      <a:lnTo>
                        <a:pt x="2275" y="1260"/>
                      </a:lnTo>
                      <a:lnTo>
                        <a:pt x="2326" y="1316"/>
                      </a:lnTo>
                      <a:lnTo>
                        <a:pt x="2358" y="1380"/>
                      </a:lnTo>
                      <a:lnTo>
                        <a:pt x="2389" y="1468"/>
                      </a:lnTo>
                      <a:lnTo>
                        <a:pt x="891" y="1468"/>
                      </a:lnTo>
                      <a:lnTo>
                        <a:pt x="850" y="1413"/>
                      </a:lnTo>
                      <a:lnTo>
                        <a:pt x="833" y="1363"/>
                      </a:lnTo>
                      <a:lnTo>
                        <a:pt x="821" y="1284"/>
                      </a:lnTo>
                      <a:lnTo>
                        <a:pt x="800" y="1203"/>
                      </a:lnTo>
                      <a:lnTo>
                        <a:pt x="737" y="1131"/>
                      </a:lnTo>
                      <a:lnTo>
                        <a:pt x="681" y="1156"/>
                      </a:lnTo>
                      <a:lnTo>
                        <a:pt x="623" y="1203"/>
                      </a:lnTo>
                      <a:lnTo>
                        <a:pt x="568" y="1243"/>
                      </a:lnTo>
                      <a:lnTo>
                        <a:pt x="514" y="1322"/>
                      </a:lnTo>
                      <a:lnTo>
                        <a:pt x="471" y="1427"/>
                      </a:lnTo>
                      <a:lnTo>
                        <a:pt x="377" y="1400"/>
                      </a:lnTo>
                      <a:lnTo>
                        <a:pt x="62" y="1427"/>
                      </a:lnTo>
                      <a:lnTo>
                        <a:pt x="31" y="1376"/>
                      </a:lnTo>
                      <a:lnTo>
                        <a:pt x="3" y="1275"/>
                      </a:lnTo>
                      <a:lnTo>
                        <a:pt x="0" y="1170"/>
                      </a:lnTo>
                      <a:lnTo>
                        <a:pt x="24" y="1060"/>
                      </a:lnTo>
                      <a:lnTo>
                        <a:pt x="71" y="960"/>
                      </a:lnTo>
                      <a:lnTo>
                        <a:pt x="153" y="874"/>
                      </a:lnTo>
                      <a:lnTo>
                        <a:pt x="252" y="817"/>
                      </a:lnTo>
                      <a:lnTo>
                        <a:pt x="240" y="716"/>
                      </a:lnTo>
                      <a:lnTo>
                        <a:pt x="264" y="634"/>
                      </a:lnTo>
                      <a:lnTo>
                        <a:pt x="299" y="534"/>
                      </a:lnTo>
                      <a:lnTo>
                        <a:pt x="352" y="454"/>
                      </a:lnTo>
                      <a:lnTo>
                        <a:pt x="408" y="409"/>
                      </a:lnTo>
                      <a:lnTo>
                        <a:pt x="491" y="373"/>
                      </a:lnTo>
                      <a:lnTo>
                        <a:pt x="551" y="353"/>
                      </a:lnTo>
                      <a:lnTo>
                        <a:pt x="615" y="257"/>
                      </a:lnTo>
                      <a:lnTo>
                        <a:pt x="608" y="96"/>
                      </a:lnTo>
                      <a:lnTo>
                        <a:pt x="664" y="24"/>
                      </a:lnTo>
                      <a:lnTo>
                        <a:pt x="737" y="0"/>
                      </a:lnTo>
                      <a:lnTo>
                        <a:pt x="874" y="8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12080" y="6040440"/>
                  <a:ext cx="75960" cy="214200"/>
                </a:xfrm>
                <a:custGeom>
                  <a:avLst/>
                  <a:gdLst/>
                  <a:ahLst/>
                  <a:rect l="l" t="t" r="r" b="b"/>
                  <a:pathLst>
                    <a:path w="96" h="270">
                      <a:moveTo>
                        <a:pt x="96" y="0"/>
                      </a:moveTo>
                      <a:lnTo>
                        <a:pt x="7" y="95"/>
                      </a:lnTo>
                      <a:lnTo>
                        <a:pt x="0" y="174"/>
                      </a:lnTo>
                      <a:lnTo>
                        <a:pt x="7" y="246"/>
                      </a:lnTo>
                      <a:lnTo>
                        <a:pt x="24" y="270"/>
                      </a:lnTo>
                    </a:path>
                  </a:pathLst>
                </a:custGeom>
                <a:noFill/>
                <a:ln w="7920">
                  <a:solidFill>
                    <a:srgbClr val="002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478640" y="5943600"/>
                  <a:ext cx="174600" cy="237960"/>
                </a:xfrm>
                <a:custGeom>
                  <a:avLst/>
                  <a:gdLst/>
                  <a:ahLst/>
                  <a:rect l="l" t="t" r="r" b="b"/>
                  <a:pathLst>
                    <a:path w="219" h="300">
                      <a:moveTo>
                        <a:pt x="0" y="217"/>
                      </a:moveTo>
                      <a:lnTo>
                        <a:pt x="35" y="233"/>
                      </a:lnTo>
                      <a:lnTo>
                        <a:pt x="56" y="250"/>
                      </a:lnTo>
                      <a:lnTo>
                        <a:pt x="28" y="261"/>
                      </a:lnTo>
                      <a:lnTo>
                        <a:pt x="64" y="273"/>
                      </a:lnTo>
                      <a:lnTo>
                        <a:pt x="100" y="300"/>
                      </a:lnTo>
                      <a:lnTo>
                        <a:pt x="92" y="227"/>
                      </a:lnTo>
                      <a:lnTo>
                        <a:pt x="149" y="153"/>
                      </a:lnTo>
                      <a:lnTo>
                        <a:pt x="187" y="126"/>
                      </a:lnTo>
                      <a:lnTo>
                        <a:pt x="219" y="112"/>
                      </a:lnTo>
                      <a:lnTo>
                        <a:pt x="193" y="112"/>
                      </a:lnTo>
                      <a:lnTo>
                        <a:pt x="136" y="126"/>
                      </a:lnTo>
                      <a:lnTo>
                        <a:pt x="96" y="158"/>
                      </a:lnTo>
                      <a:lnTo>
                        <a:pt x="105" y="112"/>
                      </a:lnTo>
                      <a:lnTo>
                        <a:pt x="140" y="48"/>
                      </a:lnTo>
                      <a:lnTo>
                        <a:pt x="185" y="0"/>
                      </a:lnTo>
                      <a:lnTo>
                        <a:pt x="140" y="23"/>
                      </a:lnTo>
                      <a:lnTo>
                        <a:pt x="85" y="77"/>
                      </a:lnTo>
                      <a:lnTo>
                        <a:pt x="64" y="145"/>
                      </a:lnTo>
                      <a:lnTo>
                        <a:pt x="64" y="206"/>
                      </a:lnTo>
                      <a:lnTo>
                        <a:pt x="64" y="237"/>
                      </a:lnTo>
                      <a:lnTo>
                        <a:pt x="45" y="210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142040" y="5886360"/>
                  <a:ext cx="69840" cy="22320"/>
                </a:xfrm>
                <a:custGeom>
                  <a:avLst/>
                  <a:gdLst/>
                  <a:ahLst/>
                  <a:rect l="l" t="t" r="r" b="b"/>
                  <a:pathLst>
                    <a:path w="88" h="27">
                      <a:moveTo>
                        <a:pt x="0" y="27"/>
                      </a:moveTo>
                      <a:lnTo>
                        <a:pt x="28" y="23"/>
                      </a:lnTo>
                      <a:lnTo>
                        <a:pt x="53" y="3"/>
                      </a:lnTo>
                      <a:lnTo>
                        <a:pt x="88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15360" y="5372280"/>
                  <a:ext cx="847440" cy="512640"/>
                </a:xfrm>
                <a:custGeom>
                  <a:avLst/>
                  <a:gdLst/>
                  <a:ahLst/>
                  <a:rect l="l" t="t" r="r" b="b"/>
                  <a:pathLst>
                    <a:path w="1068" h="645">
                      <a:moveTo>
                        <a:pt x="0" y="21"/>
                      </a:moveTo>
                      <a:lnTo>
                        <a:pt x="19" y="68"/>
                      </a:lnTo>
                      <a:lnTo>
                        <a:pt x="68" y="113"/>
                      </a:lnTo>
                      <a:lnTo>
                        <a:pt x="115" y="128"/>
                      </a:lnTo>
                      <a:lnTo>
                        <a:pt x="182" y="144"/>
                      </a:lnTo>
                      <a:lnTo>
                        <a:pt x="236" y="160"/>
                      </a:lnTo>
                      <a:lnTo>
                        <a:pt x="323" y="177"/>
                      </a:lnTo>
                      <a:lnTo>
                        <a:pt x="423" y="197"/>
                      </a:lnTo>
                      <a:lnTo>
                        <a:pt x="512" y="224"/>
                      </a:lnTo>
                      <a:lnTo>
                        <a:pt x="570" y="248"/>
                      </a:lnTo>
                      <a:lnTo>
                        <a:pt x="637" y="292"/>
                      </a:lnTo>
                      <a:lnTo>
                        <a:pt x="684" y="353"/>
                      </a:lnTo>
                      <a:lnTo>
                        <a:pt x="729" y="445"/>
                      </a:lnTo>
                      <a:lnTo>
                        <a:pt x="760" y="544"/>
                      </a:lnTo>
                      <a:lnTo>
                        <a:pt x="777" y="645"/>
                      </a:lnTo>
                      <a:lnTo>
                        <a:pt x="793" y="577"/>
                      </a:lnTo>
                      <a:lnTo>
                        <a:pt x="810" y="519"/>
                      </a:lnTo>
                      <a:lnTo>
                        <a:pt x="822" y="435"/>
                      </a:lnTo>
                      <a:lnTo>
                        <a:pt x="824" y="345"/>
                      </a:lnTo>
                      <a:lnTo>
                        <a:pt x="835" y="261"/>
                      </a:lnTo>
                      <a:lnTo>
                        <a:pt x="836" y="153"/>
                      </a:lnTo>
                      <a:lnTo>
                        <a:pt x="898" y="229"/>
                      </a:lnTo>
                      <a:lnTo>
                        <a:pt x="925" y="302"/>
                      </a:lnTo>
                      <a:lnTo>
                        <a:pt x="950" y="366"/>
                      </a:lnTo>
                      <a:lnTo>
                        <a:pt x="966" y="428"/>
                      </a:lnTo>
                      <a:lnTo>
                        <a:pt x="974" y="466"/>
                      </a:lnTo>
                      <a:lnTo>
                        <a:pt x="1068" y="539"/>
                      </a:lnTo>
                      <a:lnTo>
                        <a:pt x="991" y="454"/>
                      </a:lnTo>
                      <a:lnTo>
                        <a:pt x="974" y="389"/>
                      </a:lnTo>
                      <a:lnTo>
                        <a:pt x="930" y="252"/>
                      </a:lnTo>
                      <a:lnTo>
                        <a:pt x="845" y="128"/>
                      </a:lnTo>
                      <a:lnTo>
                        <a:pt x="802" y="55"/>
                      </a:lnTo>
                      <a:lnTo>
                        <a:pt x="742" y="60"/>
                      </a:lnTo>
                      <a:lnTo>
                        <a:pt x="693" y="60"/>
                      </a:lnTo>
                      <a:lnTo>
                        <a:pt x="625" y="60"/>
                      </a:lnTo>
                      <a:lnTo>
                        <a:pt x="548" y="48"/>
                      </a:lnTo>
                      <a:lnTo>
                        <a:pt x="479" y="48"/>
                      </a:lnTo>
                      <a:lnTo>
                        <a:pt x="428" y="24"/>
                      </a:lnTo>
                      <a:lnTo>
                        <a:pt x="347" y="4"/>
                      </a:lnTo>
                      <a:lnTo>
                        <a:pt x="236" y="0"/>
                      </a:lnTo>
                      <a:lnTo>
                        <a:pt x="83" y="12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20a0"/>
                </a:solidFill>
                <a:ln w="7920">
                  <a:solidFill>
                    <a:srgbClr val="002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07440" y="5295960"/>
                  <a:ext cx="914400" cy="592200"/>
                </a:xfrm>
                <a:custGeom>
                  <a:avLst/>
                  <a:gdLst/>
                  <a:ahLst/>
                  <a:rect l="l" t="t" r="r" b="b"/>
                  <a:pathLst>
                    <a:path w="1151" h="746">
                      <a:moveTo>
                        <a:pt x="0" y="21"/>
                      </a:moveTo>
                      <a:lnTo>
                        <a:pt x="21" y="68"/>
                      </a:lnTo>
                      <a:lnTo>
                        <a:pt x="70" y="114"/>
                      </a:lnTo>
                      <a:lnTo>
                        <a:pt x="118" y="128"/>
                      </a:lnTo>
                      <a:lnTo>
                        <a:pt x="184" y="145"/>
                      </a:lnTo>
                      <a:lnTo>
                        <a:pt x="236" y="161"/>
                      </a:lnTo>
                      <a:lnTo>
                        <a:pt x="324" y="178"/>
                      </a:lnTo>
                      <a:lnTo>
                        <a:pt x="425" y="197"/>
                      </a:lnTo>
                      <a:lnTo>
                        <a:pt x="513" y="225"/>
                      </a:lnTo>
                      <a:lnTo>
                        <a:pt x="569" y="257"/>
                      </a:lnTo>
                      <a:lnTo>
                        <a:pt x="628" y="313"/>
                      </a:lnTo>
                      <a:lnTo>
                        <a:pt x="682" y="366"/>
                      </a:lnTo>
                      <a:lnTo>
                        <a:pt x="731" y="446"/>
                      </a:lnTo>
                      <a:lnTo>
                        <a:pt x="767" y="542"/>
                      </a:lnTo>
                      <a:lnTo>
                        <a:pt x="791" y="650"/>
                      </a:lnTo>
                      <a:lnTo>
                        <a:pt x="812" y="574"/>
                      </a:lnTo>
                      <a:lnTo>
                        <a:pt x="824" y="507"/>
                      </a:lnTo>
                      <a:lnTo>
                        <a:pt x="825" y="426"/>
                      </a:lnTo>
                      <a:lnTo>
                        <a:pt x="839" y="334"/>
                      </a:lnTo>
                      <a:lnTo>
                        <a:pt x="836" y="257"/>
                      </a:lnTo>
                      <a:lnTo>
                        <a:pt x="853" y="241"/>
                      </a:lnTo>
                      <a:lnTo>
                        <a:pt x="880" y="274"/>
                      </a:lnTo>
                      <a:lnTo>
                        <a:pt x="923" y="321"/>
                      </a:lnTo>
                      <a:lnTo>
                        <a:pt x="1001" y="538"/>
                      </a:lnTo>
                      <a:lnTo>
                        <a:pt x="1091" y="658"/>
                      </a:lnTo>
                      <a:lnTo>
                        <a:pt x="1151" y="746"/>
                      </a:lnTo>
                      <a:lnTo>
                        <a:pt x="1087" y="626"/>
                      </a:lnTo>
                      <a:lnTo>
                        <a:pt x="1045" y="587"/>
                      </a:lnTo>
                      <a:lnTo>
                        <a:pt x="976" y="389"/>
                      </a:lnTo>
                      <a:lnTo>
                        <a:pt x="931" y="253"/>
                      </a:lnTo>
                      <a:lnTo>
                        <a:pt x="849" y="128"/>
                      </a:lnTo>
                      <a:lnTo>
                        <a:pt x="803" y="56"/>
                      </a:lnTo>
                      <a:lnTo>
                        <a:pt x="744" y="60"/>
                      </a:lnTo>
                      <a:lnTo>
                        <a:pt x="694" y="60"/>
                      </a:lnTo>
                      <a:lnTo>
                        <a:pt x="626" y="60"/>
                      </a:lnTo>
                      <a:lnTo>
                        <a:pt x="550" y="50"/>
                      </a:lnTo>
                      <a:lnTo>
                        <a:pt x="482" y="50"/>
                      </a:lnTo>
                      <a:lnTo>
                        <a:pt x="429" y="23"/>
                      </a:lnTo>
                      <a:lnTo>
                        <a:pt x="349" y="4"/>
                      </a:lnTo>
                      <a:lnTo>
                        <a:pt x="236" y="0"/>
                      </a:lnTo>
                      <a:lnTo>
                        <a:pt x="86" y="13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4080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996240" y="5030640"/>
                <a:ext cx="928440" cy="1495440"/>
              </a:xfrm>
              <a:custGeom>
                <a:avLst/>
                <a:gdLst/>
                <a:ahLst/>
                <a:rect l="l" t="t" r="r" b="b"/>
                <a:pathLst>
                  <a:path w="1171" h="1885">
                    <a:moveTo>
                      <a:pt x="516" y="1451"/>
                    </a:moveTo>
                    <a:lnTo>
                      <a:pt x="602" y="1320"/>
                    </a:lnTo>
                    <a:lnTo>
                      <a:pt x="635" y="1232"/>
                    </a:lnTo>
                    <a:lnTo>
                      <a:pt x="678" y="1086"/>
                    </a:lnTo>
                    <a:lnTo>
                      <a:pt x="706" y="950"/>
                    </a:lnTo>
                    <a:lnTo>
                      <a:pt x="731" y="806"/>
                    </a:lnTo>
                    <a:lnTo>
                      <a:pt x="727" y="710"/>
                    </a:lnTo>
                    <a:lnTo>
                      <a:pt x="719" y="622"/>
                    </a:lnTo>
                    <a:lnTo>
                      <a:pt x="763" y="606"/>
                    </a:lnTo>
                    <a:lnTo>
                      <a:pt x="801" y="580"/>
                    </a:lnTo>
                    <a:lnTo>
                      <a:pt x="828" y="541"/>
                    </a:lnTo>
                    <a:lnTo>
                      <a:pt x="850" y="490"/>
                    </a:lnTo>
                    <a:lnTo>
                      <a:pt x="859" y="450"/>
                    </a:lnTo>
                    <a:lnTo>
                      <a:pt x="860" y="424"/>
                    </a:lnTo>
                    <a:lnTo>
                      <a:pt x="879" y="441"/>
                    </a:lnTo>
                    <a:lnTo>
                      <a:pt x="898" y="450"/>
                    </a:lnTo>
                    <a:lnTo>
                      <a:pt x="926" y="459"/>
                    </a:lnTo>
                    <a:lnTo>
                      <a:pt x="959" y="454"/>
                    </a:lnTo>
                    <a:lnTo>
                      <a:pt x="927" y="470"/>
                    </a:lnTo>
                    <a:lnTo>
                      <a:pt x="922" y="498"/>
                    </a:lnTo>
                    <a:lnTo>
                      <a:pt x="935" y="518"/>
                    </a:lnTo>
                    <a:lnTo>
                      <a:pt x="964" y="524"/>
                    </a:lnTo>
                    <a:lnTo>
                      <a:pt x="998" y="507"/>
                    </a:lnTo>
                    <a:lnTo>
                      <a:pt x="1018" y="471"/>
                    </a:lnTo>
                    <a:lnTo>
                      <a:pt x="1006" y="419"/>
                    </a:lnTo>
                    <a:lnTo>
                      <a:pt x="982" y="381"/>
                    </a:lnTo>
                    <a:lnTo>
                      <a:pt x="891" y="326"/>
                    </a:lnTo>
                    <a:lnTo>
                      <a:pt x="1010" y="360"/>
                    </a:lnTo>
                    <a:lnTo>
                      <a:pt x="1070" y="429"/>
                    </a:lnTo>
                    <a:lnTo>
                      <a:pt x="1096" y="437"/>
                    </a:lnTo>
                    <a:lnTo>
                      <a:pt x="1119" y="423"/>
                    </a:lnTo>
                    <a:lnTo>
                      <a:pt x="1127" y="390"/>
                    </a:lnTo>
                    <a:lnTo>
                      <a:pt x="1111" y="357"/>
                    </a:lnTo>
                    <a:lnTo>
                      <a:pt x="1070" y="309"/>
                    </a:lnTo>
                    <a:lnTo>
                      <a:pt x="998" y="268"/>
                    </a:lnTo>
                    <a:lnTo>
                      <a:pt x="905" y="240"/>
                    </a:lnTo>
                    <a:lnTo>
                      <a:pt x="989" y="238"/>
                    </a:lnTo>
                    <a:lnTo>
                      <a:pt x="1057" y="272"/>
                    </a:lnTo>
                    <a:lnTo>
                      <a:pt x="1127" y="326"/>
                    </a:lnTo>
                    <a:lnTo>
                      <a:pt x="1150" y="326"/>
                    </a:lnTo>
                    <a:lnTo>
                      <a:pt x="1171" y="303"/>
                    </a:lnTo>
                    <a:lnTo>
                      <a:pt x="1167" y="268"/>
                    </a:lnTo>
                    <a:lnTo>
                      <a:pt x="1129" y="227"/>
                    </a:lnTo>
                    <a:lnTo>
                      <a:pt x="1085" y="197"/>
                    </a:lnTo>
                    <a:lnTo>
                      <a:pt x="1005" y="158"/>
                    </a:lnTo>
                    <a:lnTo>
                      <a:pt x="942" y="153"/>
                    </a:lnTo>
                    <a:lnTo>
                      <a:pt x="860" y="172"/>
                    </a:lnTo>
                    <a:lnTo>
                      <a:pt x="910" y="139"/>
                    </a:lnTo>
                    <a:lnTo>
                      <a:pt x="964" y="136"/>
                    </a:lnTo>
                    <a:lnTo>
                      <a:pt x="1022" y="139"/>
                    </a:lnTo>
                    <a:lnTo>
                      <a:pt x="1047" y="167"/>
                    </a:lnTo>
                    <a:lnTo>
                      <a:pt x="1098" y="193"/>
                    </a:lnTo>
                    <a:lnTo>
                      <a:pt x="1138" y="193"/>
                    </a:lnTo>
                    <a:lnTo>
                      <a:pt x="1150" y="172"/>
                    </a:lnTo>
                    <a:lnTo>
                      <a:pt x="1148" y="143"/>
                    </a:lnTo>
                    <a:lnTo>
                      <a:pt x="1121" y="116"/>
                    </a:lnTo>
                    <a:lnTo>
                      <a:pt x="1053" y="69"/>
                    </a:lnTo>
                    <a:lnTo>
                      <a:pt x="982" y="44"/>
                    </a:lnTo>
                    <a:lnTo>
                      <a:pt x="881" y="48"/>
                    </a:lnTo>
                    <a:lnTo>
                      <a:pt x="787" y="69"/>
                    </a:lnTo>
                    <a:lnTo>
                      <a:pt x="719" y="103"/>
                    </a:lnTo>
                    <a:lnTo>
                      <a:pt x="655" y="139"/>
                    </a:lnTo>
                    <a:lnTo>
                      <a:pt x="614" y="79"/>
                    </a:lnTo>
                    <a:lnTo>
                      <a:pt x="572" y="15"/>
                    </a:lnTo>
                    <a:lnTo>
                      <a:pt x="521" y="0"/>
                    </a:lnTo>
                    <a:lnTo>
                      <a:pt x="468" y="7"/>
                    </a:lnTo>
                    <a:lnTo>
                      <a:pt x="443" y="36"/>
                    </a:lnTo>
                    <a:lnTo>
                      <a:pt x="484" y="75"/>
                    </a:lnTo>
                    <a:lnTo>
                      <a:pt x="508" y="116"/>
                    </a:lnTo>
                    <a:lnTo>
                      <a:pt x="516" y="156"/>
                    </a:lnTo>
                    <a:lnTo>
                      <a:pt x="529" y="229"/>
                    </a:lnTo>
                    <a:lnTo>
                      <a:pt x="516" y="277"/>
                    </a:lnTo>
                    <a:lnTo>
                      <a:pt x="501" y="322"/>
                    </a:lnTo>
                    <a:lnTo>
                      <a:pt x="476" y="357"/>
                    </a:lnTo>
                    <a:lnTo>
                      <a:pt x="464" y="400"/>
                    </a:lnTo>
                    <a:lnTo>
                      <a:pt x="464" y="461"/>
                    </a:lnTo>
                    <a:lnTo>
                      <a:pt x="476" y="525"/>
                    </a:lnTo>
                    <a:lnTo>
                      <a:pt x="492" y="574"/>
                    </a:lnTo>
                    <a:lnTo>
                      <a:pt x="468" y="677"/>
                    </a:lnTo>
                    <a:lnTo>
                      <a:pt x="437" y="790"/>
                    </a:lnTo>
                    <a:lnTo>
                      <a:pt x="404" y="879"/>
                    </a:lnTo>
                    <a:lnTo>
                      <a:pt x="374" y="966"/>
                    </a:lnTo>
                    <a:lnTo>
                      <a:pt x="341" y="1022"/>
                    </a:lnTo>
                    <a:lnTo>
                      <a:pt x="302" y="1082"/>
                    </a:lnTo>
                    <a:lnTo>
                      <a:pt x="246" y="1134"/>
                    </a:lnTo>
                    <a:lnTo>
                      <a:pt x="168" y="1191"/>
                    </a:lnTo>
                    <a:lnTo>
                      <a:pt x="104" y="1281"/>
                    </a:lnTo>
                    <a:lnTo>
                      <a:pt x="45" y="1397"/>
                    </a:lnTo>
                    <a:lnTo>
                      <a:pt x="21" y="1479"/>
                    </a:lnTo>
                    <a:lnTo>
                      <a:pt x="4" y="1539"/>
                    </a:lnTo>
                    <a:lnTo>
                      <a:pt x="4" y="1597"/>
                    </a:lnTo>
                    <a:lnTo>
                      <a:pt x="0" y="1657"/>
                    </a:lnTo>
                    <a:lnTo>
                      <a:pt x="4" y="1729"/>
                    </a:lnTo>
                    <a:lnTo>
                      <a:pt x="25" y="1796"/>
                    </a:lnTo>
                    <a:lnTo>
                      <a:pt x="59" y="1838"/>
                    </a:lnTo>
                    <a:lnTo>
                      <a:pt x="92" y="1862"/>
                    </a:lnTo>
                    <a:lnTo>
                      <a:pt x="133" y="1879"/>
                    </a:lnTo>
                    <a:lnTo>
                      <a:pt x="197" y="1885"/>
                    </a:lnTo>
                    <a:lnTo>
                      <a:pt x="249" y="1871"/>
                    </a:lnTo>
                    <a:lnTo>
                      <a:pt x="297" y="1822"/>
                    </a:lnTo>
                    <a:lnTo>
                      <a:pt x="329" y="1757"/>
                    </a:lnTo>
                    <a:lnTo>
                      <a:pt x="341" y="1681"/>
                    </a:lnTo>
                    <a:lnTo>
                      <a:pt x="392" y="1603"/>
                    </a:lnTo>
                    <a:lnTo>
                      <a:pt x="453" y="1536"/>
                    </a:lnTo>
                    <a:lnTo>
                      <a:pt x="516" y="1451"/>
                    </a:lnTo>
                    <a:close/>
                  </a:path>
                </a:pathLst>
              </a:custGeom>
              <a:solidFill>
                <a:srgbClr val="e0a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8226360" y="4740120"/>
              <a:ext cx="196920" cy="217800"/>
              <a:chOff x="8226360" y="4740120"/>
              <a:chExt cx="196920" cy="217800"/>
            </a:xfrm>
          </p:grpSpPr>
          <p:sp>
            <p:nvSpPr>
              <p:cNvPr id="163" name=""/>
              <p:cNvSpPr/>
              <p:nvPr/>
            </p:nvSpPr>
            <p:spPr>
              <a:xfrm>
                <a:off x="8244000" y="4740120"/>
                <a:ext cx="179280" cy="217800"/>
              </a:xfrm>
              <a:custGeom>
                <a:avLst/>
                <a:gdLst/>
                <a:ahLst/>
                <a:rect l="l" t="t" r="r" b="b"/>
                <a:pathLst>
                  <a:path w="227" h="275">
                    <a:moveTo>
                      <a:pt x="0" y="239"/>
                    </a:moveTo>
                    <a:lnTo>
                      <a:pt x="53" y="275"/>
                    </a:lnTo>
                    <a:lnTo>
                      <a:pt x="122" y="259"/>
                    </a:lnTo>
                    <a:lnTo>
                      <a:pt x="194" y="181"/>
                    </a:lnTo>
                    <a:lnTo>
                      <a:pt x="227" y="100"/>
                    </a:lnTo>
                    <a:lnTo>
                      <a:pt x="210" y="28"/>
                    </a:lnTo>
                    <a:lnTo>
                      <a:pt x="148" y="0"/>
                    </a:lnTo>
                    <a:lnTo>
                      <a:pt x="92" y="24"/>
                    </a:lnTo>
                    <a:lnTo>
                      <a:pt x="50" y="56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e0a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26360" y="4745160"/>
                <a:ext cx="189000" cy="207720"/>
              </a:xfrm>
              <a:custGeom>
                <a:avLst/>
                <a:gdLst/>
                <a:ahLst/>
                <a:rect l="l" t="t" r="r" b="b"/>
                <a:pathLst>
                  <a:path w="238" h="262">
                    <a:moveTo>
                      <a:pt x="0" y="228"/>
                    </a:moveTo>
                    <a:lnTo>
                      <a:pt x="55" y="262"/>
                    </a:lnTo>
                    <a:lnTo>
                      <a:pt x="127" y="248"/>
                    </a:lnTo>
                    <a:lnTo>
                      <a:pt x="204" y="173"/>
                    </a:lnTo>
                    <a:lnTo>
                      <a:pt x="238" y="96"/>
                    </a:lnTo>
                    <a:lnTo>
                      <a:pt x="219" y="26"/>
                    </a:lnTo>
                    <a:lnTo>
                      <a:pt x="155" y="0"/>
                    </a:lnTo>
                    <a:lnTo>
                      <a:pt x="96" y="22"/>
                    </a:lnTo>
                    <a:lnTo>
                      <a:pt x="53" y="52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645240" y="2071800"/>
            <a:ext cx="1650960" cy="4157640"/>
            <a:chOff x="6645240" y="2071800"/>
            <a:chExt cx="1650960" cy="4157640"/>
          </a:xfrm>
        </p:grpSpPr>
        <p:grpSp>
          <p:nvGrpSpPr>
            <p:cNvPr id="1258" name=""/>
            <p:cNvGrpSpPr/>
            <p:nvPr/>
          </p:nvGrpSpPr>
          <p:grpSpPr>
            <a:xfrm>
              <a:off x="6931080" y="2071800"/>
              <a:ext cx="1365120" cy="1936800"/>
              <a:chOff x="6931080" y="2071800"/>
              <a:chExt cx="1365120" cy="193680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6931080" y="2071800"/>
                <a:ext cx="1365120" cy="1936800"/>
                <a:chOff x="6931080" y="2071800"/>
                <a:chExt cx="1365120" cy="1936800"/>
              </a:xfrm>
            </p:grpSpPr>
            <p:grpSp>
              <p:nvGrpSpPr>
                <p:cNvPr id="1260" name=""/>
                <p:cNvGrpSpPr/>
                <p:nvPr/>
              </p:nvGrpSpPr>
              <p:grpSpPr>
                <a:xfrm>
                  <a:off x="6931080" y="2165400"/>
                  <a:ext cx="1245960" cy="1843200"/>
                  <a:chOff x="6931080" y="2165400"/>
                  <a:chExt cx="1245960" cy="184320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6931080" y="2165400"/>
                    <a:ext cx="1245960" cy="18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5" h="1161">
                        <a:moveTo>
                          <a:pt x="664" y="650"/>
                        </a:moveTo>
                        <a:lnTo>
                          <a:pt x="689" y="567"/>
                        </a:lnTo>
                        <a:lnTo>
                          <a:pt x="721" y="508"/>
                        </a:lnTo>
                        <a:lnTo>
                          <a:pt x="742" y="453"/>
                        </a:lnTo>
                        <a:lnTo>
                          <a:pt x="764" y="391"/>
                        </a:lnTo>
                        <a:lnTo>
                          <a:pt x="779" y="302"/>
                        </a:lnTo>
                        <a:lnTo>
                          <a:pt x="785" y="241"/>
                        </a:lnTo>
                        <a:lnTo>
                          <a:pt x="782" y="172"/>
                        </a:lnTo>
                        <a:lnTo>
                          <a:pt x="758" y="107"/>
                        </a:lnTo>
                        <a:lnTo>
                          <a:pt x="730" y="60"/>
                        </a:lnTo>
                        <a:lnTo>
                          <a:pt x="694" y="25"/>
                        </a:lnTo>
                        <a:lnTo>
                          <a:pt x="638" y="5"/>
                        </a:lnTo>
                        <a:lnTo>
                          <a:pt x="589" y="0"/>
                        </a:lnTo>
                        <a:lnTo>
                          <a:pt x="541" y="9"/>
                        </a:lnTo>
                        <a:lnTo>
                          <a:pt x="504" y="27"/>
                        </a:lnTo>
                        <a:lnTo>
                          <a:pt x="479" y="49"/>
                        </a:lnTo>
                        <a:lnTo>
                          <a:pt x="475" y="75"/>
                        </a:lnTo>
                        <a:lnTo>
                          <a:pt x="460" y="95"/>
                        </a:lnTo>
                        <a:lnTo>
                          <a:pt x="436" y="134"/>
                        </a:lnTo>
                        <a:lnTo>
                          <a:pt x="421" y="173"/>
                        </a:lnTo>
                        <a:lnTo>
                          <a:pt x="403" y="216"/>
                        </a:lnTo>
                        <a:lnTo>
                          <a:pt x="385" y="240"/>
                        </a:lnTo>
                        <a:lnTo>
                          <a:pt x="345" y="255"/>
                        </a:lnTo>
                        <a:lnTo>
                          <a:pt x="304" y="251"/>
                        </a:lnTo>
                        <a:lnTo>
                          <a:pt x="259" y="236"/>
                        </a:lnTo>
                        <a:lnTo>
                          <a:pt x="213" y="224"/>
                        </a:lnTo>
                        <a:lnTo>
                          <a:pt x="152" y="212"/>
                        </a:lnTo>
                        <a:lnTo>
                          <a:pt x="103" y="208"/>
                        </a:lnTo>
                        <a:lnTo>
                          <a:pt x="74" y="213"/>
                        </a:lnTo>
                        <a:lnTo>
                          <a:pt x="47" y="224"/>
                        </a:lnTo>
                        <a:lnTo>
                          <a:pt x="21" y="249"/>
                        </a:lnTo>
                        <a:lnTo>
                          <a:pt x="6" y="279"/>
                        </a:lnTo>
                        <a:lnTo>
                          <a:pt x="0" y="320"/>
                        </a:lnTo>
                        <a:lnTo>
                          <a:pt x="6" y="361"/>
                        </a:lnTo>
                        <a:lnTo>
                          <a:pt x="21" y="388"/>
                        </a:lnTo>
                        <a:lnTo>
                          <a:pt x="39" y="406"/>
                        </a:lnTo>
                        <a:lnTo>
                          <a:pt x="72" y="425"/>
                        </a:lnTo>
                        <a:lnTo>
                          <a:pt x="133" y="441"/>
                        </a:lnTo>
                        <a:lnTo>
                          <a:pt x="183" y="453"/>
                        </a:lnTo>
                        <a:lnTo>
                          <a:pt x="247" y="465"/>
                        </a:lnTo>
                        <a:lnTo>
                          <a:pt x="292" y="469"/>
                        </a:lnTo>
                        <a:lnTo>
                          <a:pt x="310" y="465"/>
                        </a:lnTo>
                        <a:lnTo>
                          <a:pt x="316" y="498"/>
                        </a:lnTo>
                        <a:lnTo>
                          <a:pt x="310" y="531"/>
                        </a:lnTo>
                        <a:lnTo>
                          <a:pt x="351" y="547"/>
                        </a:lnTo>
                        <a:lnTo>
                          <a:pt x="394" y="539"/>
                        </a:lnTo>
                        <a:lnTo>
                          <a:pt x="391" y="563"/>
                        </a:lnTo>
                        <a:lnTo>
                          <a:pt x="388" y="585"/>
                        </a:lnTo>
                        <a:lnTo>
                          <a:pt x="386" y="608"/>
                        </a:lnTo>
                        <a:lnTo>
                          <a:pt x="385" y="627"/>
                        </a:lnTo>
                        <a:lnTo>
                          <a:pt x="340" y="634"/>
                        </a:lnTo>
                        <a:lnTo>
                          <a:pt x="301" y="619"/>
                        </a:lnTo>
                        <a:lnTo>
                          <a:pt x="283" y="676"/>
                        </a:lnTo>
                        <a:lnTo>
                          <a:pt x="267" y="754"/>
                        </a:lnTo>
                        <a:lnTo>
                          <a:pt x="256" y="819"/>
                        </a:lnTo>
                        <a:lnTo>
                          <a:pt x="247" y="907"/>
                        </a:lnTo>
                        <a:lnTo>
                          <a:pt x="242" y="974"/>
                        </a:lnTo>
                        <a:lnTo>
                          <a:pt x="244" y="1040"/>
                        </a:lnTo>
                        <a:lnTo>
                          <a:pt x="250" y="1088"/>
                        </a:lnTo>
                        <a:lnTo>
                          <a:pt x="265" y="1133"/>
                        </a:lnTo>
                        <a:lnTo>
                          <a:pt x="280" y="1157"/>
                        </a:lnTo>
                        <a:lnTo>
                          <a:pt x="304" y="1161"/>
                        </a:lnTo>
                        <a:lnTo>
                          <a:pt x="340" y="1153"/>
                        </a:lnTo>
                        <a:lnTo>
                          <a:pt x="376" y="1149"/>
                        </a:lnTo>
                        <a:lnTo>
                          <a:pt x="409" y="1135"/>
                        </a:lnTo>
                        <a:lnTo>
                          <a:pt x="438" y="1114"/>
                        </a:lnTo>
                        <a:lnTo>
                          <a:pt x="460" y="1080"/>
                        </a:lnTo>
                        <a:lnTo>
                          <a:pt x="479" y="1044"/>
                        </a:lnTo>
                        <a:lnTo>
                          <a:pt x="493" y="1008"/>
                        </a:lnTo>
                        <a:lnTo>
                          <a:pt x="503" y="973"/>
                        </a:lnTo>
                        <a:lnTo>
                          <a:pt x="517" y="926"/>
                        </a:lnTo>
                        <a:lnTo>
                          <a:pt x="538" y="891"/>
                        </a:lnTo>
                        <a:lnTo>
                          <a:pt x="562" y="860"/>
                        </a:lnTo>
                        <a:lnTo>
                          <a:pt x="587" y="825"/>
                        </a:lnTo>
                        <a:lnTo>
                          <a:pt x="606" y="795"/>
                        </a:lnTo>
                        <a:lnTo>
                          <a:pt x="625" y="756"/>
                        </a:lnTo>
                        <a:lnTo>
                          <a:pt x="642" y="709"/>
                        </a:lnTo>
                        <a:lnTo>
                          <a:pt x="664" y="65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7418520" y="2828880"/>
                    <a:ext cx="204480" cy="511200"/>
                    <a:chOff x="7418520" y="2828880"/>
                    <a:chExt cx="204480" cy="51120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7547040" y="2841480"/>
                      <a:ext cx="7596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14">
                          <a:moveTo>
                            <a:pt x="20" y="314"/>
                          </a:moveTo>
                          <a:lnTo>
                            <a:pt x="9" y="271"/>
                          </a:lnTo>
                          <a:lnTo>
                            <a:pt x="3" y="228"/>
                          </a:lnTo>
                          <a:lnTo>
                            <a:pt x="0" y="184"/>
                          </a:lnTo>
                          <a:lnTo>
                            <a:pt x="3" y="129"/>
                          </a:lnTo>
                          <a:lnTo>
                            <a:pt x="14" y="78"/>
                          </a:lnTo>
                          <a:lnTo>
                            <a:pt x="30" y="35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7418520" y="2828880"/>
                      <a:ext cx="936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5">
                          <a:moveTo>
                            <a:pt x="0" y="55"/>
                          </a:moveTo>
                          <a:lnTo>
                            <a:pt x="27" y="51"/>
                          </a:lnTo>
                          <a:lnTo>
                            <a:pt x="54" y="38"/>
                          </a:lnTo>
                          <a:lnTo>
                            <a:pt x="59" y="12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7640640" y="2071800"/>
                  <a:ext cx="655560" cy="974520"/>
                  <a:chOff x="7640640" y="2071800"/>
                  <a:chExt cx="655560" cy="97452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7640640" y="2071800"/>
                    <a:ext cx="655560" cy="9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614">
                        <a:moveTo>
                          <a:pt x="0" y="93"/>
                        </a:moveTo>
                        <a:lnTo>
                          <a:pt x="15" y="69"/>
                        </a:lnTo>
                        <a:lnTo>
                          <a:pt x="40" y="52"/>
                        </a:lnTo>
                        <a:lnTo>
                          <a:pt x="72" y="48"/>
                        </a:lnTo>
                        <a:lnTo>
                          <a:pt x="91" y="29"/>
                        </a:lnTo>
                        <a:lnTo>
                          <a:pt x="111" y="13"/>
                        </a:lnTo>
                        <a:lnTo>
                          <a:pt x="127" y="4"/>
                        </a:lnTo>
                        <a:lnTo>
                          <a:pt x="147" y="0"/>
                        </a:lnTo>
                        <a:lnTo>
                          <a:pt x="164" y="1"/>
                        </a:lnTo>
                        <a:lnTo>
                          <a:pt x="184" y="18"/>
                        </a:lnTo>
                        <a:lnTo>
                          <a:pt x="205" y="31"/>
                        </a:lnTo>
                        <a:lnTo>
                          <a:pt x="233" y="38"/>
                        </a:lnTo>
                        <a:lnTo>
                          <a:pt x="254" y="34"/>
                        </a:lnTo>
                        <a:lnTo>
                          <a:pt x="276" y="30"/>
                        </a:lnTo>
                        <a:lnTo>
                          <a:pt x="298" y="37"/>
                        </a:lnTo>
                        <a:lnTo>
                          <a:pt x="317" y="47"/>
                        </a:lnTo>
                        <a:lnTo>
                          <a:pt x="339" y="60"/>
                        </a:lnTo>
                        <a:lnTo>
                          <a:pt x="358" y="76"/>
                        </a:lnTo>
                        <a:lnTo>
                          <a:pt x="382" y="100"/>
                        </a:lnTo>
                        <a:lnTo>
                          <a:pt x="404" y="132"/>
                        </a:lnTo>
                        <a:lnTo>
                          <a:pt x="411" y="179"/>
                        </a:lnTo>
                        <a:lnTo>
                          <a:pt x="413" y="244"/>
                        </a:lnTo>
                        <a:lnTo>
                          <a:pt x="408" y="313"/>
                        </a:lnTo>
                        <a:lnTo>
                          <a:pt x="395" y="365"/>
                        </a:lnTo>
                        <a:lnTo>
                          <a:pt x="392" y="401"/>
                        </a:lnTo>
                        <a:lnTo>
                          <a:pt x="386" y="431"/>
                        </a:lnTo>
                        <a:lnTo>
                          <a:pt x="368" y="446"/>
                        </a:lnTo>
                        <a:lnTo>
                          <a:pt x="350" y="451"/>
                        </a:lnTo>
                        <a:lnTo>
                          <a:pt x="335" y="469"/>
                        </a:lnTo>
                        <a:lnTo>
                          <a:pt x="326" y="493"/>
                        </a:lnTo>
                        <a:lnTo>
                          <a:pt x="323" y="528"/>
                        </a:lnTo>
                        <a:lnTo>
                          <a:pt x="314" y="559"/>
                        </a:lnTo>
                        <a:lnTo>
                          <a:pt x="295" y="581"/>
                        </a:lnTo>
                        <a:lnTo>
                          <a:pt x="265" y="600"/>
                        </a:lnTo>
                        <a:lnTo>
                          <a:pt x="238" y="609"/>
                        </a:lnTo>
                        <a:lnTo>
                          <a:pt x="211" y="614"/>
                        </a:lnTo>
                        <a:lnTo>
                          <a:pt x="192" y="610"/>
                        </a:lnTo>
                        <a:lnTo>
                          <a:pt x="181" y="602"/>
                        </a:lnTo>
                        <a:lnTo>
                          <a:pt x="175" y="584"/>
                        </a:lnTo>
                        <a:lnTo>
                          <a:pt x="175" y="560"/>
                        </a:lnTo>
                        <a:lnTo>
                          <a:pt x="184" y="541"/>
                        </a:lnTo>
                        <a:lnTo>
                          <a:pt x="190" y="517"/>
                        </a:lnTo>
                        <a:lnTo>
                          <a:pt x="187" y="493"/>
                        </a:lnTo>
                        <a:lnTo>
                          <a:pt x="171" y="480"/>
                        </a:lnTo>
                        <a:lnTo>
                          <a:pt x="153" y="477"/>
                        </a:lnTo>
                        <a:lnTo>
                          <a:pt x="114" y="490"/>
                        </a:lnTo>
                        <a:lnTo>
                          <a:pt x="99" y="474"/>
                        </a:lnTo>
                        <a:lnTo>
                          <a:pt x="82" y="467"/>
                        </a:lnTo>
                        <a:lnTo>
                          <a:pt x="103" y="451"/>
                        </a:lnTo>
                        <a:lnTo>
                          <a:pt x="124" y="431"/>
                        </a:lnTo>
                        <a:lnTo>
                          <a:pt x="135" y="412"/>
                        </a:lnTo>
                        <a:lnTo>
                          <a:pt x="141" y="391"/>
                        </a:lnTo>
                        <a:lnTo>
                          <a:pt x="140" y="374"/>
                        </a:lnTo>
                        <a:lnTo>
                          <a:pt x="136" y="358"/>
                        </a:lnTo>
                        <a:lnTo>
                          <a:pt x="123" y="336"/>
                        </a:lnTo>
                        <a:lnTo>
                          <a:pt x="111" y="310"/>
                        </a:lnTo>
                        <a:lnTo>
                          <a:pt x="108" y="288"/>
                        </a:lnTo>
                        <a:lnTo>
                          <a:pt x="108" y="263"/>
                        </a:lnTo>
                        <a:lnTo>
                          <a:pt x="112" y="244"/>
                        </a:lnTo>
                        <a:lnTo>
                          <a:pt x="123" y="232"/>
                        </a:lnTo>
                        <a:lnTo>
                          <a:pt x="141" y="218"/>
                        </a:lnTo>
                        <a:lnTo>
                          <a:pt x="161" y="206"/>
                        </a:lnTo>
                        <a:lnTo>
                          <a:pt x="176" y="194"/>
                        </a:lnTo>
                        <a:lnTo>
                          <a:pt x="191" y="181"/>
                        </a:lnTo>
                        <a:lnTo>
                          <a:pt x="202" y="162"/>
                        </a:lnTo>
                        <a:lnTo>
                          <a:pt x="193" y="162"/>
                        </a:lnTo>
                        <a:lnTo>
                          <a:pt x="184" y="150"/>
                        </a:lnTo>
                        <a:lnTo>
                          <a:pt x="181" y="142"/>
                        </a:lnTo>
                        <a:lnTo>
                          <a:pt x="179" y="134"/>
                        </a:lnTo>
                        <a:lnTo>
                          <a:pt x="172" y="138"/>
                        </a:lnTo>
                        <a:lnTo>
                          <a:pt x="150" y="140"/>
                        </a:lnTo>
                        <a:lnTo>
                          <a:pt x="130" y="143"/>
                        </a:lnTo>
                        <a:lnTo>
                          <a:pt x="113" y="142"/>
                        </a:lnTo>
                        <a:lnTo>
                          <a:pt x="93" y="138"/>
                        </a:lnTo>
                        <a:lnTo>
                          <a:pt x="80" y="133"/>
                        </a:lnTo>
                        <a:lnTo>
                          <a:pt x="68" y="123"/>
                        </a:lnTo>
                        <a:lnTo>
                          <a:pt x="56" y="111"/>
                        </a:lnTo>
                        <a:lnTo>
                          <a:pt x="44" y="100"/>
                        </a:lnTo>
                        <a:lnTo>
                          <a:pt x="22" y="99"/>
                        </a:lnTo>
                        <a:lnTo>
                          <a:pt x="0" y="93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7659720" y="2174760"/>
                    <a:ext cx="338040" cy="674640"/>
                    <a:chOff x="7659720" y="2174760"/>
                    <a:chExt cx="338040" cy="67464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>
                      <a:off x="7945560" y="2262240"/>
                      <a:ext cx="522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9">
                          <a:moveTo>
                            <a:pt x="0" y="44"/>
                          </a:moveTo>
                          <a:lnTo>
                            <a:pt x="20" y="34"/>
                          </a:lnTo>
                          <a:lnTo>
                            <a:pt x="27" y="17"/>
                          </a:lnTo>
                          <a:lnTo>
                            <a:pt x="30" y="0"/>
                          </a:lnTo>
                          <a:lnTo>
                            <a:pt x="32" y="23"/>
                          </a:lnTo>
                          <a:lnTo>
                            <a:pt x="25" y="42"/>
                          </a:lnTo>
                          <a:lnTo>
                            <a:pt x="15" y="48"/>
                          </a:lnTo>
                          <a:lnTo>
                            <a:pt x="25" y="55"/>
                          </a:lnTo>
                          <a:lnTo>
                            <a:pt x="33" y="55"/>
                          </a:lnTo>
                          <a:lnTo>
                            <a:pt x="25" y="59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7861320" y="2676600"/>
                      <a:ext cx="25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9">
                          <a:moveTo>
                            <a:pt x="0" y="7"/>
                          </a:moveTo>
                          <a:lnTo>
                            <a:pt x="9" y="6"/>
                          </a:lnTo>
                          <a:lnTo>
                            <a:pt x="16" y="0"/>
                          </a:lnTo>
                          <a:lnTo>
                            <a:pt x="14" y="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7835760" y="2697120"/>
                      <a:ext cx="860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50">
                          <a:moveTo>
                            <a:pt x="13" y="0"/>
                          </a:moveTo>
                          <a:lnTo>
                            <a:pt x="23" y="18"/>
                          </a:lnTo>
                          <a:lnTo>
                            <a:pt x="39" y="24"/>
                          </a:lnTo>
                          <a:lnTo>
                            <a:pt x="54" y="27"/>
                          </a:lnTo>
                          <a:lnTo>
                            <a:pt x="39" y="31"/>
                          </a:lnTo>
                          <a:lnTo>
                            <a:pt x="26" y="28"/>
                          </a:lnTo>
                          <a:lnTo>
                            <a:pt x="18" y="24"/>
                          </a:lnTo>
                          <a:lnTo>
                            <a:pt x="13" y="40"/>
                          </a:lnTo>
                          <a:lnTo>
                            <a:pt x="0" y="50"/>
                          </a:lnTo>
                          <a:lnTo>
                            <a:pt x="7" y="37"/>
                          </a:lnTo>
                          <a:lnTo>
                            <a:pt x="10" y="28"/>
                          </a:lnTo>
                          <a:lnTo>
                            <a:pt x="7" y="18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7880400" y="2797200"/>
                      <a:ext cx="6804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20"/>
                          </a:moveTo>
                          <a:lnTo>
                            <a:pt x="22" y="17"/>
                          </a:lnTo>
                          <a:lnTo>
                            <a:pt x="33" y="8"/>
                          </a:lnTo>
                          <a:lnTo>
                            <a:pt x="38" y="0"/>
                          </a:lnTo>
                          <a:lnTo>
                            <a:pt x="33" y="14"/>
                          </a:lnTo>
                          <a:lnTo>
                            <a:pt x="30" y="20"/>
                          </a:lnTo>
                          <a:lnTo>
                            <a:pt x="35" y="25"/>
                          </a:lnTo>
                          <a:lnTo>
                            <a:pt x="43" y="27"/>
                          </a:lnTo>
                          <a:lnTo>
                            <a:pt x="33" y="32"/>
                          </a:lnTo>
                          <a:lnTo>
                            <a:pt x="28" y="33"/>
                          </a:lnTo>
                          <a:lnTo>
                            <a:pt x="23" y="32"/>
                          </a:lnTo>
                          <a:lnTo>
                            <a:pt x="18" y="25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>
                      <a:off x="7659720" y="2174760"/>
                      <a:ext cx="684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7">
                          <a:moveTo>
                            <a:pt x="0" y="13"/>
                          </a:moveTo>
                          <a:lnTo>
                            <a:pt x="19" y="16"/>
                          </a:lnTo>
                          <a:lnTo>
                            <a:pt x="25" y="21"/>
                          </a:lnTo>
                          <a:lnTo>
                            <a:pt x="27" y="33"/>
                          </a:lnTo>
                          <a:lnTo>
                            <a:pt x="33" y="37"/>
                          </a:lnTo>
                          <a:lnTo>
                            <a:pt x="40" y="33"/>
                          </a:lnTo>
                          <a:lnTo>
                            <a:pt x="43" y="16"/>
                          </a:lnTo>
                          <a:lnTo>
                            <a:pt x="40" y="0"/>
                          </a:lnTo>
                          <a:lnTo>
                            <a:pt x="34" y="0"/>
                          </a:lnTo>
                          <a:lnTo>
                            <a:pt x="35" y="8"/>
                          </a:lnTo>
                          <a:lnTo>
                            <a:pt x="34" y="20"/>
                          </a:lnTo>
                          <a:lnTo>
                            <a:pt x="26" y="9"/>
                          </a:lnTo>
                          <a:lnTo>
                            <a:pt x="16" y="7"/>
                          </a:lnTo>
                          <a:lnTo>
                            <a:pt x="0" y="13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>
                      <a:off x="7713720" y="2241720"/>
                      <a:ext cx="5544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6">
                          <a:moveTo>
                            <a:pt x="0" y="0"/>
                          </a:moveTo>
                          <a:lnTo>
                            <a:pt x="16" y="14"/>
                          </a:lnTo>
                          <a:lnTo>
                            <a:pt x="27" y="16"/>
                          </a:lnTo>
                          <a:lnTo>
                            <a:pt x="35" y="8"/>
                          </a:lnTo>
                          <a:lnTo>
                            <a:pt x="23" y="9"/>
                          </a:lnTo>
                          <a:lnTo>
                            <a:pt x="14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74" name=""/>
              <p:cNvGrpSpPr/>
              <p:nvPr/>
            </p:nvGrpSpPr>
            <p:grpSpPr>
              <a:xfrm>
                <a:off x="7591320" y="2392200"/>
                <a:ext cx="147600" cy="189000"/>
                <a:chOff x="7591320" y="2392200"/>
                <a:chExt cx="147600" cy="18900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7650000" y="2392200"/>
                  <a:ext cx="88920" cy="81000"/>
                </a:xfrm>
                <a:custGeom>
                  <a:avLst/>
                  <a:gdLst/>
                  <a:ahLst/>
                  <a:rect l="l" t="t" r="r" b="b"/>
                  <a:pathLst>
                    <a:path w="56" h="51">
                      <a:moveTo>
                        <a:pt x="0" y="0"/>
                      </a:moveTo>
                      <a:lnTo>
                        <a:pt x="17" y="1"/>
                      </a:lnTo>
                      <a:lnTo>
                        <a:pt x="38" y="11"/>
                      </a:lnTo>
                      <a:lnTo>
                        <a:pt x="50" y="27"/>
                      </a:lnTo>
                      <a:lnTo>
                        <a:pt x="56" y="51"/>
                      </a:lnTo>
                    </a:path>
                  </a:pathLst>
                </a:custGeom>
                <a:noFill/>
                <a:ln w="49320">
                  <a:solidFill>
                    <a:srgbClr val="a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591320" y="2454120"/>
                  <a:ext cx="8280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52" y="0"/>
                      </a:moveTo>
                      <a:lnTo>
                        <a:pt x="41" y="1"/>
                      </a:lnTo>
                      <a:lnTo>
                        <a:pt x="27" y="11"/>
                      </a:lnTo>
                      <a:lnTo>
                        <a:pt x="15" y="25"/>
                      </a:lnTo>
                      <a:lnTo>
                        <a:pt x="5" y="43"/>
                      </a:lnTo>
                      <a:lnTo>
                        <a:pt x="0" y="64"/>
                      </a:lnTo>
                      <a:lnTo>
                        <a:pt x="1" y="80"/>
                      </a:lnTo>
                      <a:lnTo>
                        <a:pt x="12" y="78"/>
                      </a:lnTo>
                      <a:lnTo>
                        <a:pt x="26" y="72"/>
                      </a:lnTo>
                      <a:lnTo>
                        <a:pt x="40" y="59"/>
                      </a:lnTo>
                      <a:lnTo>
                        <a:pt x="47" y="42"/>
                      </a:lnTo>
                      <a:lnTo>
                        <a:pt x="52" y="17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7" name=""/>
            <p:cNvGrpSpPr/>
            <p:nvPr/>
          </p:nvGrpSpPr>
          <p:grpSpPr>
            <a:xfrm>
              <a:off x="6645240" y="3530520"/>
              <a:ext cx="1027080" cy="2698920"/>
              <a:chOff x="6645240" y="3530520"/>
              <a:chExt cx="1027080" cy="2698920"/>
            </a:xfrm>
          </p:grpSpPr>
          <p:grpSp>
            <p:nvGrpSpPr>
              <p:cNvPr id="1278" name=""/>
              <p:cNvGrpSpPr/>
              <p:nvPr/>
            </p:nvGrpSpPr>
            <p:grpSpPr>
              <a:xfrm>
                <a:off x="6953400" y="4773600"/>
                <a:ext cx="718920" cy="1455840"/>
                <a:chOff x="6953400" y="4773600"/>
                <a:chExt cx="718920" cy="145584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6953400" y="5859360"/>
                  <a:ext cx="718920" cy="370080"/>
                  <a:chOff x="6953400" y="5859360"/>
                  <a:chExt cx="718920" cy="3700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6953400" y="6100920"/>
                    <a:ext cx="3762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77">
                        <a:moveTo>
                          <a:pt x="215" y="0"/>
                        </a:moveTo>
                        <a:lnTo>
                          <a:pt x="132" y="8"/>
                        </a:lnTo>
                        <a:lnTo>
                          <a:pt x="94" y="33"/>
                        </a:lnTo>
                        <a:lnTo>
                          <a:pt x="70" y="38"/>
                        </a:lnTo>
                        <a:lnTo>
                          <a:pt x="46" y="43"/>
                        </a:lnTo>
                        <a:lnTo>
                          <a:pt x="6" y="60"/>
                        </a:lnTo>
                        <a:lnTo>
                          <a:pt x="0" y="66"/>
                        </a:lnTo>
                        <a:lnTo>
                          <a:pt x="0" y="77"/>
                        </a:lnTo>
                        <a:lnTo>
                          <a:pt x="105" y="77"/>
                        </a:lnTo>
                        <a:lnTo>
                          <a:pt x="194" y="53"/>
                        </a:lnTo>
                        <a:lnTo>
                          <a:pt x="199" y="64"/>
                        </a:lnTo>
                        <a:lnTo>
                          <a:pt x="233" y="63"/>
                        </a:lnTo>
                        <a:lnTo>
                          <a:pt x="236" y="54"/>
                        </a:lnTo>
                        <a:lnTo>
                          <a:pt x="237" y="38"/>
                        </a:lnTo>
                        <a:lnTo>
                          <a:pt x="235" y="24"/>
                        </a:lnTo>
                        <a:lnTo>
                          <a:pt x="229" y="8"/>
                        </a:lnTo>
                        <a:lnTo>
                          <a:pt x="215" y="0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392960" y="5859360"/>
                    <a:ext cx="279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33">
                        <a:moveTo>
                          <a:pt x="81" y="85"/>
                        </a:moveTo>
                        <a:lnTo>
                          <a:pt x="58" y="78"/>
                        </a:lnTo>
                        <a:lnTo>
                          <a:pt x="48" y="126"/>
                        </a:lnTo>
                        <a:lnTo>
                          <a:pt x="8" y="190"/>
                        </a:lnTo>
                        <a:lnTo>
                          <a:pt x="1" y="214"/>
                        </a:lnTo>
                        <a:lnTo>
                          <a:pt x="0" y="228"/>
                        </a:lnTo>
                        <a:lnTo>
                          <a:pt x="6" y="233"/>
                        </a:lnTo>
                        <a:lnTo>
                          <a:pt x="93" y="145"/>
                        </a:lnTo>
                        <a:lnTo>
                          <a:pt x="139" y="78"/>
                        </a:lnTo>
                        <a:lnTo>
                          <a:pt x="146" y="86"/>
                        </a:lnTo>
                        <a:lnTo>
                          <a:pt x="176" y="52"/>
                        </a:lnTo>
                        <a:lnTo>
                          <a:pt x="176" y="31"/>
                        </a:lnTo>
                        <a:lnTo>
                          <a:pt x="172" y="17"/>
                        </a:lnTo>
                        <a:lnTo>
                          <a:pt x="161" y="7"/>
                        </a:lnTo>
                        <a:lnTo>
                          <a:pt x="147" y="0"/>
                        </a:lnTo>
                        <a:lnTo>
                          <a:pt x="81" y="85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2" name=""/>
                <p:cNvGrpSpPr/>
                <p:nvPr/>
              </p:nvGrpSpPr>
              <p:grpSpPr>
                <a:xfrm>
                  <a:off x="7008840" y="4773600"/>
                  <a:ext cx="649440" cy="1359000"/>
                  <a:chOff x="7008840" y="4773600"/>
                  <a:chExt cx="649440" cy="13590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7008840" y="4773600"/>
                    <a:ext cx="649440" cy="13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856">
                        <a:moveTo>
                          <a:pt x="36" y="0"/>
                        </a:moveTo>
                        <a:lnTo>
                          <a:pt x="120" y="34"/>
                        </a:lnTo>
                        <a:lnTo>
                          <a:pt x="156" y="42"/>
                        </a:lnTo>
                        <a:lnTo>
                          <a:pt x="190" y="72"/>
                        </a:lnTo>
                        <a:lnTo>
                          <a:pt x="232" y="107"/>
                        </a:lnTo>
                        <a:lnTo>
                          <a:pt x="271" y="118"/>
                        </a:lnTo>
                        <a:lnTo>
                          <a:pt x="304" y="134"/>
                        </a:lnTo>
                        <a:lnTo>
                          <a:pt x="322" y="181"/>
                        </a:lnTo>
                        <a:lnTo>
                          <a:pt x="330" y="210"/>
                        </a:lnTo>
                        <a:lnTo>
                          <a:pt x="335" y="237"/>
                        </a:lnTo>
                        <a:lnTo>
                          <a:pt x="332" y="268"/>
                        </a:lnTo>
                        <a:lnTo>
                          <a:pt x="327" y="311"/>
                        </a:lnTo>
                        <a:lnTo>
                          <a:pt x="329" y="369"/>
                        </a:lnTo>
                        <a:lnTo>
                          <a:pt x="333" y="448"/>
                        </a:lnTo>
                        <a:lnTo>
                          <a:pt x="345" y="517"/>
                        </a:lnTo>
                        <a:lnTo>
                          <a:pt x="357" y="581"/>
                        </a:lnTo>
                        <a:lnTo>
                          <a:pt x="383" y="638"/>
                        </a:lnTo>
                        <a:lnTo>
                          <a:pt x="409" y="680"/>
                        </a:lnTo>
                        <a:lnTo>
                          <a:pt x="371" y="717"/>
                        </a:lnTo>
                        <a:lnTo>
                          <a:pt x="342" y="756"/>
                        </a:lnTo>
                        <a:lnTo>
                          <a:pt x="298" y="796"/>
                        </a:lnTo>
                        <a:lnTo>
                          <a:pt x="283" y="769"/>
                        </a:lnTo>
                        <a:lnTo>
                          <a:pt x="275" y="718"/>
                        </a:lnTo>
                        <a:lnTo>
                          <a:pt x="257" y="674"/>
                        </a:lnTo>
                        <a:lnTo>
                          <a:pt x="241" y="623"/>
                        </a:lnTo>
                        <a:lnTo>
                          <a:pt x="227" y="580"/>
                        </a:lnTo>
                        <a:lnTo>
                          <a:pt x="208" y="533"/>
                        </a:lnTo>
                        <a:lnTo>
                          <a:pt x="203" y="491"/>
                        </a:lnTo>
                        <a:lnTo>
                          <a:pt x="199" y="452"/>
                        </a:lnTo>
                        <a:lnTo>
                          <a:pt x="192" y="413"/>
                        </a:lnTo>
                        <a:lnTo>
                          <a:pt x="186" y="363"/>
                        </a:lnTo>
                        <a:lnTo>
                          <a:pt x="166" y="229"/>
                        </a:lnTo>
                        <a:lnTo>
                          <a:pt x="162" y="307"/>
                        </a:lnTo>
                        <a:lnTo>
                          <a:pt x="181" y="430"/>
                        </a:lnTo>
                        <a:lnTo>
                          <a:pt x="184" y="506"/>
                        </a:lnTo>
                        <a:lnTo>
                          <a:pt x="187" y="560"/>
                        </a:lnTo>
                        <a:lnTo>
                          <a:pt x="193" y="607"/>
                        </a:lnTo>
                        <a:lnTo>
                          <a:pt x="199" y="674"/>
                        </a:lnTo>
                        <a:lnTo>
                          <a:pt x="202" y="752"/>
                        </a:lnTo>
                        <a:lnTo>
                          <a:pt x="199" y="818"/>
                        </a:lnTo>
                        <a:lnTo>
                          <a:pt x="190" y="842"/>
                        </a:lnTo>
                        <a:lnTo>
                          <a:pt x="163" y="842"/>
                        </a:lnTo>
                        <a:lnTo>
                          <a:pt x="134" y="839"/>
                        </a:lnTo>
                        <a:lnTo>
                          <a:pt x="101" y="850"/>
                        </a:lnTo>
                        <a:lnTo>
                          <a:pt x="71" y="856"/>
                        </a:lnTo>
                        <a:lnTo>
                          <a:pt x="60" y="847"/>
                        </a:lnTo>
                        <a:lnTo>
                          <a:pt x="56" y="797"/>
                        </a:lnTo>
                        <a:lnTo>
                          <a:pt x="63" y="722"/>
                        </a:lnTo>
                        <a:lnTo>
                          <a:pt x="67" y="642"/>
                        </a:lnTo>
                        <a:lnTo>
                          <a:pt x="71" y="590"/>
                        </a:lnTo>
                        <a:lnTo>
                          <a:pt x="64" y="558"/>
                        </a:lnTo>
                        <a:lnTo>
                          <a:pt x="58" y="524"/>
                        </a:lnTo>
                        <a:lnTo>
                          <a:pt x="49" y="465"/>
                        </a:lnTo>
                        <a:lnTo>
                          <a:pt x="38" y="412"/>
                        </a:lnTo>
                        <a:lnTo>
                          <a:pt x="16" y="332"/>
                        </a:lnTo>
                        <a:lnTo>
                          <a:pt x="8" y="301"/>
                        </a:lnTo>
                        <a:lnTo>
                          <a:pt x="2" y="261"/>
                        </a:lnTo>
                        <a:lnTo>
                          <a:pt x="1" y="233"/>
                        </a:lnTo>
                        <a:lnTo>
                          <a:pt x="0" y="198"/>
                        </a:lnTo>
                        <a:lnTo>
                          <a:pt x="2" y="158"/>
                        </a:lnTo>
                        <a:lnTo>
                          <a:pt x="7" y="111"/>
                        </a:lnTo>
                        <a:lnTo>
                          <a:pt x="16" y="57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7031160" y="4815000"/>
                    <a:ext cx="512640" cy="928440"/>
                    <a:chOff x="7031160" y="4815000"/>
                    <a:chExt cx="512640" cy="92844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7031160" y="4815000"/>
                      <a:ext cx="484200" cy="23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151">
                          <a:moveTo>
                            <a:pt x="12" y="0"/>
                          </a:moveTo>
                          <a:lnTo>
                            <a:pt x="148" y="34"/>
                          </a:lnTo>
                          <a:lnTo>
                            <a:pt x="305" y="145"/>
                          </a:lnTo>
                          <a:lnTo>
                            <a:pt x="298" y="151"/>
                          </a:lnTo>
                          <a:lnTo>
                            <a:pt x="279" y="139"/>
                          </a:lnTo>
                          <a:lnTo>
                            <a:pt x="269" y="129"/>
                          </a:lnTo>
                          <a:lnTo>
                            <a:pt x="248" y="119"/>
                          </a:lnTo>
                          <a:lnTo>
                            <a:pt x="233" y="117"/>
                          </a:lnTo>
                          <a:lnTo>
                            <a:pt x="222" y="117"/>
                          </a:lnTo>
                          <a:lnTo>
                            <a:pt x="205" y="115"/>
                          </a:lnTo>
                          <a:lnTo>
                            <a:pt x="185" y="111"/>
                          </a:lnTo>
                          <a:lnTo>
                            <a:pt x="169" y="100"/>
                          </a:lnTo>
                          <a:lnTo>
                            <a:pt x="160" y="91"/>
                          </a:lnTo>
                          <a:lnTo>
                            <a:pt x="152" y="78"/>
                          </a:lnTo>
                          <a:lnTo>
                            <a:pt x="139" y="60"/>
                          </a:lnTo>
                          <a:lnTo>
                            <a:pt x="127" y="55"/>
                          </a:lnTo>
                          <a:lnTo>
                            <a:pt x="109" y="47"/>
                          </a:lnTo>
                          <a:lnTo>
                            <a:pt x="92" y="47"/>
                          </a:lnTo>
                          <a:lnTo>
                            <a:pt x="73" y="51"/>
                          </a:lnTo>
                          <a:lnTo>
                            <a:pt x="56" y="55"/>
                          </a:lnTo>
                          <a:lnTo>
                            <a:pt x="38" y="47"/>
                          </a:lnTo>
                          <a:lnTo>
                            <a:pt x="18" y="46"/>
                          </a:lnTo>
                          <a:lnTo>
                            <a:pt x="0" y="57"/>
                          </a:lnTo>
                          <a:lnTo>
                            <a:pt x="4" y="34"/>
                          </a:lnTo>
                          <a:lnTo>
                            <a:pt x="9" y="17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606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7115040" y="5667480"/>
                      <a:ext cx="52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1">
                          <a:moveTo>
                            <a:pt x="0" y="21"/>
                          </a:moveTo>
                          <a:lnTo>
                            <a:pt x="17" y="18"/>
                          </a:lnTo>
                          <a:lnTo>
                            <a:pt x="24" y="12"/>
                          </a:lnTo>
                          <a:lnTo>
                            <a:pt x="33" y="0"/>
                          </a:lnTo>
                          <a:lnTo>
                            <a:pt x="16" y="15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00606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7" name=""/>
                    <p:cNvGrpSpPr/>
                    <p:nvPr/>
                  </p:nvGrpSpPr>
                  <p:grpSpPr>
                    <a:xfrm>
                      <a:off x="7504200" y="5519880"/>
                      <a:ext cx="39600" cy="109440"/>
                      <a:chOff x="7504200" y="5519880"/>
                      <a:chExt cx="39600" cy="109440"/>
                    </a:xfrm>
                  </p:grpSpPr>
                  <p:sp>
                    <p:nvSpPr>
                      <p:cNvPr id="1288" name=""/>
                      <p:cNvSpPr/>
                      <p:nvPr/>
                    </p:nvSpPr>
                    <p:spPr>
                      <a:xfrm>
                        <a:off x="7504200" y="5519880"/>
                        <a:ext cx="3636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2">
                            <a:moveTo>
                              <a:pt x="23" y="0"/>
                            </a:moveTo>
                            <a:lnTo>
                              <a:pt x="15" y="32"/>
                            </a:lnTo>
                            <a:lnTo>
                              <a:pt x="9" y="37"/>
                            </a:lnTo>
                            <a:lnTo>
                              <a:pt x="0" y="42"/>
                            </a:lnTo>
                            <a:lnTo>
                              <a:pt x="12" y="28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00606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9" name=""/>
                      <p:cNvSpPr/>
                      <p:nvPr/>
                    </p:nvSpPr>
                    <p:spPr>
                      <a:xfrm>
                        <a:off x="7515360" y="5526000"/>
                        <a:ext cx="284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65">
                            <a:moveTo>
                              <a:pt x="16" y="0"/>
                            </a:moveTo>
                            <a:lnTo>
                              <a:pt x="15" y="28"/>
                            </a:lnTo>
                            <a:lnTo>
                              <a:pt x="15" y="42"/>
                            </a:lnTo>
                            <a:lnTo>
                              <a:pt x="8" y="56"/>
                            </a:lnTo>
                            <a:lnTo>
                              <a:pt x="0" y="65"/>
                            </a:lnTo>
                            <a:lnTo>
                              <a:pt x="14" y="56"/>
                            </a:lnTo>
                            <a:lnTo>
                              <a:pt x="18" y="38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606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7116840" y="5710320"/>
                      <a:ext cx="522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1">
                          <a:moveTo>
                            <a:pt x="0" y="2"/>
                          </a:moveTo>
                          <a:lnTo>
                            <a:pt x="10" y="2"/>
                          </a:lnTo>
                          <a:lnTo>
                            <a:pt x="24" y="4"/>
                          </a:lnTo>
                          <a:lnTo>
                            <a:pt x="30" y="7"/>
                          </a:lnTo>
                          <a:lnTo>
                            <a:pt x="30" y="21"/>
                          </a:lnTo>
                          <a:lnTo>
                            <a:pt x="33" y="4"/>
                          </a:lnTo>
                          <a:lnTo>
                            <a:pt x="28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606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91" name=""/>
              <p:cNvGrpSpPr/>
              <p:nvPr/>
            </p:nvGrpSpPr>
            <p:grpSpPr>
              <a:xfrm>
                <a:off x="6645240" y="3530520"/>
                <a:ext cx="1014480" cy="1524240"/>
                <a:chOff x="6645240" y="3530520"/>
                <a:chExt cx="1014480" cy="1524240"/>
              </a:xfrm>
            </p:grpSpPr>
            <p:grpSp>
              <p:nvGrpSpPr>
                <p:cNvPr id="1292" name=""/>
                <p:cNvGrpSpPr/>
                <p:nvPr/>
              </p:nvGrpSpPr>
              <p:grpSpPr>
                <a:xfrm>
                  <a:off x="6645240" y="3530520"/>
                  <a:ext cx="304920" cy="525600"/>
                  <a:chOff x="6645240" y="3530520"/>
                  <a:chExt cx="304920" cy="52560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6645240" y="3530520"/>
                    <a:ext cx="304920" cy="52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31">
                        <a:moveTo>
                          <a:pt x="16" y="2"/>
                        </a:moveTo>
                        <a:lnTo>
                          <a:pt x="54" y="35"/>
                        </a:lnTo>
                        <a:lnTo>
                          <a:pt x="76" y="57"/>
                        </a:lnTo>
                        <a:lnTo>
                          <a:pt x="106" y="94"/>
                        </a:lnTo>
                        <a:lnTo>
                          <a:pt x="123" y="91"/>
                        </a:lnTo>
                        <a:lnTo>
                          <a:pt x="140" y="95"/>
                        </a:lnTo>
                        <a:lnTo>
                          <a:pt x="151" y="105"/>
                        </a:lnTo>
                        <a:lnTo>
                          <a:pt x="161" y="122"/>
                        </a:lnTo>
                        <a:lnTo>
                          <a:pt x="173" y="143"/>
                        </a:lnTo>
                        <a:lnTo>
                          <a:pt x="188" y="159"/>
                        </a:lnTo>
                        <a:lnTo>
                          <a:pt x="192" y="184"/>
                        </a:lnTo>
                        <a:lnTo>
                          <a:pt x="174" y="221"/>
                        </a:lnTo>
                        <a:lnTo>
                          <a:pt x="169" y="256"/>
                        </a:lnTo>
                        <a:lnTo>
                          <a:pt x="157" y="292"/>
                        </a:lnTo>
                        <a:lnTo>
                          <a:pt x="142" y="315"/>
                        </a:lnTo>
                        <a:lnTo>
                          <a:pt x="127" y="331"/>
                        </a:lnTo>
                        <a:lnTo>
                          <a:pt x="108" y="331"/>
                        </a:lnTo>
                        <a:lnTo>
                          <a:pt x="74" y="313"/>
                        </a:lnTo>
                        <a:lnTo>
                          <a:pt x="52" y="293"/>
                        </a:lnTo>
                        <a:lnTo>
                          <a:pt x="37" y="272"/>
                        </a:lnTo>
                        <a:lnTo>
                          <a:pt x="28" y="254"/>
                        </a:lnTo>
                        <a:lnTo>
                          <a:pt x="25" y="237"/>
                        </a:lnTo>
                        <a:lnTo>
                          <a:pt x="28" y="224"/>
                        </a:lnTo>
                        <a:lnTo>
                          <a:pt x="34" y="216"/>
                        </a:lnTo>
                        <a:lnTo>
                          <a:pt x="35" y="204"/>
                        </a:lnTo>
                        <a:lnTo>
                          <a:pt x="39" y="193"/>
                        </a:lnTo>
                        <a:lnTo>
                          <a:pt x="46" y="189"/>
                        </a:lnTo>
                        <a:lnTo>
                          <a:pt x="54" y="187"/>
                        </a:lnTo>
                        <a:lnTo>
                          <a:pt x="54" y="172"/>
                        </a:lnTo>
                        <a:lnTo>
                          <a:pt x="60" y="157"/>
                        </a:lnTo>
                        <a:lnTo>
                          <a:pt x="67" y="151"/>
                        </a:lnTo>
                        <a:lnTo>
                          <a:pt x="84" y="141"/>
                        </a:lnTo>
                        <a:lnTo>
                          <a:pt x="72" y="133"/>
                        </a:lnTo>
                        <a:lnTo>
                          <a:pt x="55" y="113"/>
                        </a:lnTo>
                        <a:lnTo>
                          <a:pt x="38" y="91"/>
                        </a:lnTo>
                        <a:lnTo>
                          <a:pt x="20" y="65"/>
                        </a:lnTo>
                        <a:lnTo>
                          <a:pt x="3" y="34"/>
                        </a:lnTo>
                        <a:lnTo>
                          <a:pt x="0" y="22"/>
                        </a:lnTo>
                        <a:lnTo>
                          <a:pt x="0" y="10"/>
                        </a:lnTo>
                        <a:lnTo>
                          <a:pt x="3" y="4"/>
                        </a:lnTo>
                        <a:lnTo>
                          <a:pt x="10" y="0"/>
                        </a:lnTo>
                        <a:lnTo>
                          <a:pt x="16" y="2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4" name=""/>
                  <p:cNvGrpSpPr/>
                  <p:nvPr/>
                </p:nvGrpSpPr>
                <p:grpSpPr>
                  <a:xfrm>
                    <a:off x="6694560" y="3673440"/>
                    <a:ext cx="198360" cy="227160"/>
                    <a:chOff x="6694560" y="3673440"/>
                    <a:chExt cx="198360" cy="227160"/>
                  </a:xfrm>
                </p:grpSpPr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694560" y="3875040"/>
                      <a:ext cx="36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6">
                          <a:moveTo>
                            <a:pt x="0" y="0"/>
                          </a:moveTo>
                          <a:lnTo>
                            <a:pt x="9" y="2"/>
                          </a:lnTo>
                          <a:lnTo>
                            <a:pt x="17" y="7"/>
                          </a:lnTo>
                          <a:lnTo>
                            <a:pt x="23" y="16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726240" y="3819600"/>
                      <a:ext cx="316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4" y="7"/>
                          </a:lnTo>
                          <a:lnTo>
                            <a:pt x="18" y="15"/>
                          </a:lnTo>
                          <a:lnTo>
                            <a:pt x="20" y="24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756480" y="3763800"/>
                      <a:ext cx="381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0"/>
                          </a:moveTo>
                          <a:lnTo>
                            <a:pt x="9" y="3"/>
                          </a:lnTo>
                          <a:lnTo>
                            <a:pt x="19" y="10"/>
                          </a:lnTo>
                          <a:lnTo>
                            <a:pt x="24" y="23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6810480" y="3673440"/>
                      <a:ext cx="824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8">
                          <a:moveTo>
                            <a:pt x="0" y="0"/>
                          </a:moveTo>
                          <a:lnTo>
                            <a:pt x="13" y="5"/>
                          </a:lnTo>
                          <a:lnTo>
                            <a:pt x="25" y="11"/>
                          </a:lnTo>
                          <a:lnTo>
                            <a:pt x="34" y="24"/>
                          </a:lnTo>
                          <a:lnTo>
                            <a:pt x="40" y="40"/>
                          </a:lnTo>
                          <a:lnTo>
                            <a:pt x="52" y="48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6846840" y="3816360"/>
                  <a:ext cx="812880" cy="1238400"/>
                  <a:chOff x="6846840" y="3816360"/>
                  <a:chExt cx="812880" cy="1238400"/>
                </a:xfrm>
              </p:grpSpPr>
              <p:grpSp>
                <p:nvGrpSpPr>
                  <p:cNvPr id="1300" name=""/>
                  <p:cNvGrpSpPr/>
                  <p:nvPr/>
                </p:nvGrpSpPr>
                <p:grpSpPr>
                  <a:xfrm>
                    <a:off x="6846840" y="3816360"/>
                    <a:ext cx="804960" cy="357120"/>
                    <a:chOff x="6846840" y="3816360"/>
                    <a:chExt cx="804960" cy="357120"/>
                  </a:xfrm>
                </p:grpSpPr>
                <p:grpSp>
                  <p:nvGrpSpPr>
                    <p:cNvPr id="1301" name=""/>
                    <p:cNvGrpSpPr/>
                    <p:nvPr/>
                  </p:nvGrpSpPr>
                  <p:grpSpPr>
                    <a:xfrm>
                      <a:off x="7297560" y="3932280"/>
                      <a:ext cx="354240" cy="241200"/>
                      <a:chOff x="7297560" y="3932280"/>
                      <a:chExt cx="354240" cy="241200"/>
                    </a:xfrm>
                  </p:grpSpPr>
                  <p:sp>
                    <p:nvSpPr>
                      <p:cNvPr id="1302" name=""/>
                      <p:cNvSpPr/>
                      <p:nvPr/>
                    </p:nvSpPr>
                    <p:spPr>
                      <a:xfrm>
                        <a:off x="7332840" y="3932280"/>
                        <a:ext cx="31896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52">
                            <a:moveTo>
                              <a:pt x="0" y="152"/>
                            </a:moveTo>
                            <a:lnTo>
                              <a:pt x="18" y="46"/>
                            </a:lnTo>
                            <a:lnTo>
                              <a:pt x="69" y="26"/>
                            </a:lnTo>
                            <a:lnTo>
                              <a:pt x="132" y="9"/>
                            </a:lnTo>
                            <a:lnTo>
                              <a:pt x="201" y="0"/>
                            </a:lnTo>
                            <a:lnTo>
                              <a:pt x="156" y="139"/>
                            </a:lnTo>
                            <a:lnTo>
                              <a:pt x="99" y="119"/>
                            </a:lnTo>
                            <a:lnTo>
                              <a:pt x="0" y="152"/>
                            </a:lnTo>
                            <a:close/>
                          </a:path>
                        </a:pathLst>
                      </a:custGeom>
                      <a:solidFill>
                        <a:srgbClr val="e0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3" name=""/>
                      <p:cNvSpPr/>
                      <p:nvPr/>
                    </p:nvSpPr>
                    <p:spPr>
                      <a:xfrm>
                        <a:off x="7297560" y="4010040"/>
                        <a:ext cx="7812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73">
                            <a:moveTo>
                              <a:pt x="0" y="48"/>
                            </a:moveTo>
                            <a:lnTo>
                              <a:pt x="9" y="17"/>
                            </a:lnTo>
                            <a:lnTo>
                              <a:pt x="40" y="0"/>
                            </a:lnTo>
                            <a:lnTo>
                              <a:pt x="49" y="48"/>
                            </a:lnTo>
                            <a:lnTo>
                              <a:pt x="31" y="73"/>
                            </a:lnTo>
                            <a:lnTo>
                              <a:pt x="0" y="48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7361280" y="4092480"/>
                        <a:ext cx="190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4">
                            <a:moveTo>
                              <a:pt x="8" y="0"/>
                            </a:moveTo>
                            <a:lnTo>
                              <a:pt x="12" y="24"/>
                            </a:lnTo>
                            <a:lnTo>
                              <a:pt x="0" y="12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c0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05" name=""/>
                    <p:cNvGrpSpPr/>
                    <p:nvPr/>
                  </p:nvGrpSpPr>
                  <p:grpSpPr>
                    <a:xfrm>
                      <a:off x="6846840" y="3816360"/>
                      <a:ext cx="217440" cy="331920"/>
                      <a:chOff x="6846840" y="3816360"/>
                      <a:chExt cx="217440" cy="331920"/>
                    </a:xfrm>
                  </p:grpSpPr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6846840" y="3816360"/>
                        <a:ext cx="217440" cy="33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7" h="209">
                            <a:moveTo>
                              <a:pt x="0" y="162"/>
                            </a:moveTo>
                            <a:lnTo>
                              <a:pt x="23" y="131"/>
                            </a:lnTo>
                            <a:lnTo>
                              <a:pt x="42" y="87"/>
                            </a:lnTo>
                            <a:lnTo>
                              <a:pt x="56" y="28"/>
                            </a:lnTo>
                            <a:lnTo>
                              <a:pt x="69" y="0"/>
                            </a:lnTo>
                            <a:lnTo>
                              <a:pt x="85" y="15"/>
                            </a:lnTo>
                            <a:lnTo>
                              <a:pt x="109" y="35"/>
                            </a:lnTo>
                            <a:lnTo>
                              <a:pt x="137" y="44"/>
                            </a:lnTo>
                            <a:lnTo>
                              <a:pt x="95" y="100"/>
                            </a:lnTo>
                            <a:lnTo>
                              <a:pt x="83" y="126"/>
                            </a:lnTo>
                            <a:lnTo>
                              <a:pt x="77" y="157"/>
                            </a:lnTo>
                            <a:lnTo>
                              <a:pt x="62" y="181"/>
                            </a:lnTo>
                            <a:lnTo>
                              <a:pt x="55" y="209"/>
                            </a:lnTo>
                            <a:lnTo>
                              <a:pt x="42" y="190"/>
                            </a:lnTo>
                            <a:lnTo>
                              <a:pt x="25" y="173"/>
                            </a:lnTo>
                            <a:lnTo>
                              <a:pt x="0" y="162"/>
                            </a:lnTo>
                            <a:close/>
                          </a:path>
                        </a:pathLst>
                      </a:custGeom>
                      <a:solidFill>
                        <a:srgbClr val="e0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>
                        <a:off x="6969240" y="3859200"/>
                        <a:ext cx="2520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5">
                            <a:moveTo>
                              <a:pt x="10" y="0"/>
                            </a:moveTo>
                            <a:lnTo>
                              <a:pt x="0" y="18"/>
                            </a:lnTo>
                            <a:lnTo>
                              <a:pt x="7" y="25"/>
                            </a:lnTo>
                            <a:lnTo>
                              <a:pt x="16" y="6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6912000" y="3875040"/>
                    <a:ext cx="747720" cy="1179720"/>
                    <a:chOff x="6912000" y="3875040"/>
                    <a:chExt cx="747720" cy="117972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6912000" y="3881520"/>
                      <a:ext cx="747720" cy="117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1" h="739">
                          <a:moveTo>
                            <a:pt x="36" y="189"/>
                          </a:moveTo>
                          <a:lnTo>
                            <a:pt x="6" y="164"/>
                          </a:lnTo>
                          <a:lnTo>
                            <a:pt x="15" y="137"/>
                          </a:lnTo>
                          <a:lnTo>
                            <a:pt x="34" y="95"/>
                          </a:lnTo>
                          <a:lnTo>
                            <a:pt x="68" y="42"/>
                          </a:lnTo>
                          <a:lnTo>
                            <a:pt x="97" y="0"/>
                          </a:lnTo>
                          <a:lnTo>
                            <a:pt x="121" y="25"/>
                          </a:lnTo>
                          <a:lnTo>
                            <a:pt x="159" y="73"/>
                          </a:lnTo>
                          <a:lnTo>
                            <a:pt x="190" y="97"/>
                          </a:lnTo>
                          <a:lnTo>
                            <a:pt x="232" y="114"/>
                          </a:lnTo>
                          <a:lnTo>
                            <a:pt x="266" y="141"/>
                          </a:lnTo>
                          <a:lnTo>
                            <a:pt x="301" y="168"/>
                          </a:lnTo>
                          <a:lnTo>
                            <a:pt x="337" y="149"/>
                          </a:lnTo>
                          <a:lnTo>
                            <a:pt x="373" y="133"/>
                          </a:lnTo>
                          <a:lnTo>
                            <a:pt x="405" y="129"/>
                          </a:lnTo>
                          <a:lnTo>
                            <a:pt x="433" y="138"/>
                          </a:lnTo>
                          <a:lnTo>
                            <a:pt x="457" y="159"/>
                          </a:lnTo>
                          <a:lnTo>
                            <a:pt x="468" y="181"/>
                          </a:lnTo>
                          <a:lnTo>
                            <a:pt x="471" y="202"/>
                          </a:lnTo>
                          <a:lnTo>
                            <a:pt x="467" y="228"/>
                          </a:lnTo>
                          <a:lnTo>
                            <a:pt x="457" y="261"/>
                          </a:lnTo>
                          <a:lnTo>
                            <a:pt x="445" y="299"/>
                          </a:lnTo>
                          <a:lnTo>
                            <a:pt x="435" y="335"/>
                          </a:lnTo>
                          <a:lnTo>
                            <a:pt x="427" y="377"/>
                          </a:lnTo>
                          <a:lnTo>
                            <a:pt x="429" y="421"/>
                          </a:lnTo>
                          <a:lnTo>
                            <a:pt x="427" y="479"/>
                          </a:lnTo>
                          <a:lnTo>
                            <a:pt x="421" y="540"/>
                          </a:lnTo>
                          <a:lnTo>
                            <a:pt x="409" y="592"/>
                          </a:lnTo>
                          <a:lnTo>
                            <a:pt x="400" y="622"/>
                          </a:lnTo>
                          <a:lnTo>
                            <a:pt x="391" y="665"/>
                          </a:lnTo>
                          <a:lnTo>
                            <a:pt x="386" y="739"/>
                          </a:lnTo>
                          <a:lnTo>
                            <a:pt x="362" y="716"/>
                          </a:lnTo>
                          <a:lnTo>
                            <a:pt x="326" y="695"/>
                          </a:lnTo>
                          <a:lnTo>
                            <a:pt x="298" y="692"/>
                          </a:lnTo>
                          <a:lnTo>
                            <a:pt x="271" y="680"/>
                          </a:lnTo>
                          <a:lnTo>
                            <a:pt x="232" y="641"/>
                          </a:lnTo>
                          <a:lnTo>
                            <a:pt x="178" y="622"/>
                          </a:lnTo>
                          <a:lnTo>
                            <a:pt x="140" y="627"/>
                          </a:lnTo>
                          <a:lnTo>
                            <a:pt x="106" y="613"/>
                          </a:lnTo>
                          <a:lnTo>
                            <a:pt x="79" y="588"/>
                          </a:lnTo>
                          <a:lnTo>
                            <a:pt x="62" y="576"/>
                          </a:lnTo>
                          <a:lnTo>
                            <a:pt x="32" y="565"/>
                          </a:lnTo>
                          <a:lnTo>
                            <a:pt x="0" y="558"/>
                          </a:lnTo>
                          <a:lnTo>
                            <a:pt x="30" y="488"/>
                          </a:lnTo>
                          <a:lnTo>
                            <a:pt x="57" y="445"/>
                          </a:lnTo>
                          <a:lnTo>
                            <a:pt x="81" y="400"/>
                          </a:lnTo>
                          <a:lnTo>
                            <a:pt x="103" y="369"/>
                          </a:lnTo>
                          <a:lnTo>
                            <a:pt x="124" y="342"/>
                          </a:lnTo>
                          <a:lnTo>
                            <a:pt x="133" y="307"/>
                          </a:lnTo>
                          <a:lnTo>
                            <a:pt x="117" y="279"/>
                          </a:lnTo>
                          <a:lnTo>
                            <a:pt x="97" y="260"/>
                          </a:lnTo>
                          <a:lnTo>
                            <a:pt x="62" y="227"/>
                          </a:lnTo>
                          <a:lnTo>
                            <a:pt x="36" y="189"/>
                          </a:lnTo>
                          <a:close/>
                        </a:path>
                      </a:pathLst>
                    </a:custGeom>
                    <a:solidFill>
                      <a:srgbClr val="80ffe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10" name=""/>
                    <p:cNvGrpSpPr/>
                    <p:nvPr/>
                  </p:nvGrpSpPr>
                  <p:grpSpPr>
                    <a:xfrm>
                      <a:off x="6927840" y="3875040"/>
                      <a:ext cx="665280" cy="687600"/>
                      <a:chOff x="6927840" y="3875040"/>
                      <a:chExt cx="665280" cy="687600"/>
                    </a:xfrm>
                  </p:grpSpPr>
                  <p:sp>
                    <p:nvSpPr>
                      <p:cNvPr id="1311" name=""/>
                      <p:cNvSpPr/>
                      <p:nvPr/>
                    </p:nvSpPr>
                    <p:spPr>
                      <a:xfrm>
                        <a:off x="7115040" y="4373640"/>
                        <a:ext cx="90720" cy="18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19">
                            <a:moveTo>
                              <a:pt x="0" y="0"/>
                            </a:moveTo>
                            <a:lnTo>
                              <a:pt x="17" y="17"/>
                            </a:lnTo>
                            <a:lnTo>
                              <a:pt x="31" y="32"/>
                            </a:lnTo>
                            <a:lnTo>
                              <a:pt x="42" y="50"/>
                            </a:lnTo>
                            <a:lnTo>
                              <a:pt x="47" y="69"/>
                            </a:lnTo>
                            <a:lnTo>
                              <a:pt x="57" y="119"/>
                            </a:lnTo>
                            <a:lnTo>
                              <a:pt x="53" y="69"/>
                            </a:lnTo>
                            <a:lnTo>
                              <a:pt x="50" y="33"/>
                            </a:lnTo>
                            <a:lnTo>
                              <a:pt x="34" y="25"/>
                            </a:lnTo>
                            <a:lnTo>
                              <a:pt x="14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2" name=""/>
                      <p:cNvSpPr/>
                      <p:nvPr/>
                    </p:nvSpPr>
                    <p:spPr>
                      <a:xfrm>
                        <a:off x="7358040" y="4116240"/>
                        <a:ext cx="66600" cy="11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70">
                            <a:moveTo>
                              <a:pt x="0" y="0"/>
                            </a:moveTo>
                            <a:lnTo>
                              <a:pt x="7" y="10"/>
                            </a:lnTo>
                            <a:lnTo>
                              <a:pt x="16" y="19"/>
                            </a:lnTo>
                            <a:lnTo>
                              <a:pt x="21" y="31"/>
                            </a:lnTo>
                            <a:lnTo>
                              <a:pt x="21" y="45"/>
                            </a:lnTo>
                            <a:lnTo>
                              <a:pt x="18" y="70"/>
                            </a:lnTo>
                            <a:lnTo>
                              <a:pt x="27" y="39"/>
                            </a:lnTo>
                            <a:lnTo>
                              <a:pt x="29" y="20"/>
                            </a:lnTo>
                            <a:lnTo>
                              <a:pt x="33" y="10"/>
                            </a:lnTo>
                            <a:lnTo>
                              <a:pt x="42" y="0"/>
                            </a:lnTo>
                            <a:lnTo>
                              <a:pt x="23" y="10"/>
                            </a:lnTo>
                            <a:lnTo>
                              <a:pt x="18" y="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3" name=""/>
                      <p:cNvSpPr/>
                      <p:nvPr/>
                    </p:nvSpPr>
                    <p:spPr>
                      <a:xfrm>
                        <a:off x="7467480" y="4410000"/>
                        <a:ext cx="125640" cy="13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82">
                            <a:moveTo>
                              <a:pt x="79" y="17"/>
                            </a:moveTo>
                            <a:lnTo>
                              <a:pt x="73" y="24"/>
                            </a:lnTo>
                            <a:lnTo>
                              <a:pt x="62" y="28"/>
                            </a:lnTo>
                            <a:lnTo>
                              <a:pt x="53" y="24"/>
                            </a:lnTo>
                            <a:lnTo>
                              <a:pt x="41" y="14"/>
                            </a:lnTo>
                            <a:lnTo>
                              <a:pt x="19" y="2"/>
                            </a:lnTo>
                            <a:lnTo>
                              <a:pt x="0" y="0"/>
                            </a:lnTo>
                            <a:lnTo>
                              <a:pt x="21" y="6"/>
                            </a:lnTo>
                            <a:lnTo>
                              <a:pt x="33" y="17"/>
                            </a:lnTo>
                            <a:lnTo>
                              <a:pt x="41" y="27"/>
                            </a:lnTo>
                            <a:lnTo>
                              <a:pt x="53" y="33"/>
                            </a:lnTo>
                            <a:lnTo>
                              <a:pt x="64" y="39"/>
                            </a:lnTo>
                            <a:lnTo>
                              <a:pt x="60" y="48"/>
                            </a:lnTo>
                            <a:lnTo>
                              <a:pt x="51" y="52"/>
                            </a:lnTo>
                            <a:lnTo>
                              <a:pt x="39" y="53"/>
                            </a:lnTo>
                            <a:lnTo>
                              <a:pt x="27" y="57"/>
                            </a:lnTo>
                            <a:lnTo>
                              <a:pt x="19" y="63"/>
                            </a:lnTo>
                            <a:lnTo>
                              <a:pt x="33" y="61"/>
                            </a:lnTo>
                            <a:lnTo>
                              <a:pt x="46" y="60"/>
                            </a:lnTo>
                            <a:lnTo>
                              <a:pt x="55" y="61"/>
                            </a:lnTo>
                            <a:lnTo>
                              <a:pt x="62" y="57"/>
                            </a:lnTo>
                            <a:lnTo>
                              <a:pt x="68" y="50"/>
                            </a:lnTo>
                            <a:lnTo>
                              <a:pt x="70" y="61"/>
                            </a:lnTo>
                            <a:lnTo>
                              <a:pt x="66" y="73"/>
                            </a:lnTo>
                            <a:lnTo>
                              <a:pt x="55" y="82"/>
                            </a:lnTo>
                            <a:lnTo>
                              <a:pt x="69" y="74"/>
                            </a:lnTo>
                            <a:lnTo>
                              <a:pt x="76" y="66"/>
                            </a:lnTo>
                            <a:lnTo>
                              <a:pt x="75" y="43"/>
                            </a:lnTo>
                            <a:lnTo>
                              <a:pt x="79" y="17"/>
                            </a:lnTo>
                            <a:close/>
                          </a:path>
                        </a:pathLst>
                      </a:custGeom>
                      <a:solidFill>
                        <a:srgbClr val="00c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" name=""/>
                      <p:cNvSpPr/>
                      <p:nvPr/>
                    </p:nvSpPr>
                    <p:spPr>
                      <a:xfrm>
                        <a:off x="7148520" y="4024440"/>
                        <a:ext cx="6048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4">
                            <a:moveTo>
                              <a:pt x="38" y="3"/>
                            </a:moveTo>
                            <a:lnTo>
                              <a:pt x="21" y="5"/>
                            </a:lnTo>
                            <a:lnTo>
                              <a:pt x="0" y="24"/>
                            </a:lnTo>
                            <a:lnTo>
                              <a:pt x="10" y="11"/>
                            </a:lnTo>
                            <a:lnTo>
                              <a:pt x="21" y="0"/>
                            </a:lnTo>
                            <a:lnTo>
                              <a:pt x="38" y="3"/>
                            </a:lnTo>
                            <a:close/>
                          </a:path>
                        </a:pathLst>
                      </a:custGeom>
                      <a:solidFill>
                        <a:srgbClr val="00c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6927840" y="3875040"/>
                        <a:ext cx="131760" cy="24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52">
                            <a:moveTo>
                              <a:pt x="0" y="152"/>
                            </a:moveTo>
                            <a:lnTo>
                              <a:pt x="10" y="127"/>
                            </a:lnTo>
                            <a:lnTo>
                              <a:pt x="17" y="114"/>
                            </a:lnTo>
                            <a:lnTo>
                              <a:pt x="25" y="96"/>
                            </a:lnTo>
                            <a:lnTo>
                              <a:pt x="34" y="81"/>
                            </a:lnTo>
                            <a:lnTo>
                              <a:pt x="44" y="66"/>
                            </a:lnTo>
                            <a:lnTo>
                              <a:pt x="52" y="54"/>
                            </a:lnTo>
                            <a:lnTo>
                              <a:pt x="64" y="37"/>
                            </a:lnTo>
                            <a:lnTo>
                              <a:pt x="73" y="21"/>
                            </a:lnTo>
                            <a:lnTo>
                              <a:pt x="83" y="11"/>
                            </a:lnTo>
                            <a:lnTo>
                              <a:pt x="82" y="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481720" y="1604880"/>
            <a:ext cx="3438360" cy="222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ransactions are recorded at their historical  cost at the time of the trans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320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change-Price or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81720" y="1833480"/>
            <a:ext cx="3438360" cy="2648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69"/>
                </a:solidFill>
                <a:latin typeface="Arial"/>
              </a:rPr>
              <a:t>The most important principle. It provides the basis for accrual acco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481720" y="2747880"/>
            <a:ext cx="3438360" cy="320472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enues are recorded when they are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Arial"/>
              </a:rPr>
              <a:t>earn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.e., realized). When does this happ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en title pa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Exceptions to </a:t>
            </a:r>
            <a:br>
              <a:rPr sz="4000"/>
            </a:b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Revenue Recognition Principle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387600" y="5913360"/>
            <a:ext cx="2405160" cy="854280"/>
            <a:chOff x="3387600" y="5913360"/>
            <a:chExt cx="2405160" cy="854280"/>
          </a:xfrm>
        </p:grpSpPr>
        <p:sp>
          <p:nvSpPr>
            <p:cNvPr id="1329" name=""/>
            <p:cNvSpPr/>
            <p:nvPr/>
          </p:nvSpPr>
          <p:spPr>
            <a:xfrm>
              <a:off x="3387600" y="6076800"/>
              <a:ext cx="2401920" cy="690840"/>
            </a:xfrm>
            <a:custGeom>
              <a:avLst/>
              <a:gdLst/>
              <a:ahLst/>
              <a:rect l="l" t="t" r="r" b="b"/>
              <a:pathLst>
                <a:path w="7566" h="2171">
                  <a:moveTo>
                    <a:pt x="0" y="2170"/>
                  </a:moveTo>
                  <a:lnTo>
                    <a:pt x="3059" y="2074"/>
                  </a:lnTo>
                  <a:lnTo>
                    <a:pt x="3054" y="2085"/>
                  </a:lnTo>
                  <a:lnTo>
                    <a:pt x="3058" y="2094"/>
                  </a:lnTo>
                  <a:lnTo>
                    <a:pt x="3068" y="2104"/>
                  </a:lnTo>
                  <a:lnTo>
                    <a:pt x="3088" y="2112"/>
                  </a:lnTo>
                  <a:lnTo>
                    <a:pt x="3113" y="2121"/>
                  </a:lnTo>
                  <a:lnTo>
                    <a:pt x="3145" y="2128"/>
                  </a:lnTo>
                  <a:lnTo>
                    <a:pt x="3183" y="2136"/>
                  </a:lnTo>
                  <a:lnTo>
                    <a:pt x="3225" y="2142"/>
                  </a:lnTo>
                  <a:lnTo>
                    <a:pt x="3273" y="2148"/>
                  </a:lnTo>
                  <a:lnTo>
                    <a:pt x="3325" y="2153"/>
                  </a:lnTo>
                  <a:lnTo>
                    <a:pt x="3379" y="2157"/>
                  </a:lnTo>
                  <a:lnTo>
                    <a:pt x="3436" y="2161"/>
                  </a:lnTo>
                  <a:lnTo>
                    <a:pt x="3496" y="2165"/>
                  </a:lnTo>
                  <a:lnTo>
                    <a:pt x="3558" y="2168"/>
                  </a:lnTo>
                  <a:lnTo>
                    <a:pt x="3620" y="2169"/>
                  </a:lnTo>
                  <a:lnTo>
                    <a:pt x="3684" y="2170"/>
                  </a:lnTo>
                  <a:lnTo>
                    <a:pt x="3747" y="2171"/>
                  </a:lnTo>
                  <a:lnTo>
                    <a:pt x="3810" y="2170"/>
                  </a:lnTo>
                  <a:lnTo>
                    <a:pt x="3872" y="2169"/>
                  </a:lnTo>
                  <a:lnTo>
                    <a:pt x="3932" y="2167"/>
                  </a:lnTo>
                  <a:lnTo>
                    <a:pt x="3989" y="2165"/>
                  </a:lnTo>
                  <a:lnTo>
                    <a:pt x="4044" y="2160"/>
                  </a:lnTo>
                  <a:lnTo>
                    <a:pt x="4096" y="2156"/>
                  </a:lnTo>
                  <a:lnTo>
                    <a:pt x="4142" y="2151"/>
                  </a:lnTo>
                  <a:lnTo>
                    <a:pt x="4185" y="2144"/>
                  </a:lnTo>
                  <a:lnTo>
                    <a:pt x="4223" y="2137"/>
                  </a:lnTo>
                  <a:lnTo>
                    <a:pt x="4255" y="2129"/>
                  </a:lnTo>
                  <a:lnTo>
                    <a:pt x="4281" y="2120"/>
                  </a:lnTo>
                  <a:lnTo>
                    <a:pt x="4300" y="2110"/>
                  </a:lnTo>
                  <a:lnTo>
                    <a:pt x="4311" y="2098"/>
                  </a:lnTo>
                  <a:lnTo>
                    <a:pt x="4315" y="2087"/>
                  </a:lnTo>
                  <a:lnTo>
                    <a:pt x="4310" y="2074"/>
                  </a:lnTo>
                  <a:lnTo>
                    <a:pt x="7566" y="2170"/>
                  </a:lnTo>
                  <a:lnTo>
                    <a:pt x="6156" y="0"/>
                  </a:lnTo>
                  <a:lnTo>
                    <a:pt x="1154" y="0"/>
                  </a:lnTo>
                  <a:lnTo>
                    <a:pt x="0" y="2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87600" y="6735600"/>
              <a:ext cx="971640" cy="32040"/>
            </a:xfrm>
            <a:custGeom>
              <a:avLst/>
              <a:gdLst/>
              <a:ahLst/>
              <a:rect l="l" t="t" r="r" b="b"/>
              <a:pathLst>
                <a:path w="3060" h="98">
                  <a:moveTo>
                    <a:pt x="3060" y="2"/>
                  </a:moveTo>
                  <a:lnTo>
                    <a:pt x="3059" y="0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3059" y="2"/>
                  </a:lnTo>
                  <a:lnTo>
                    <a:pt x="3058" y="0"/>
                  </a:lnTo>
                  <a:lnTo>
                    <a:pt x="306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57800" y="6735600"/>
              <a:ext cx="399960" cy="32040"/>
            </a:xfrm>
            <a:custGeom>
              <a:avLst/>
              <a:gdLst/>
              <a:ahLst/>
              <a:rect l="l" t="t" r="r" b="b"/>
              <a:pathLst>
                <a:path w="1264" h="99">
                  <a:moveTo>
                    <a:pt x="1257" y="0"/>
                  </a:moveTo>
                  <a:lnTo>
                    <a:pt x="1256" y="2"/>
                  </a:lnTo>
                  <a:lnTo>
                    <a:pt x="1259" y="14"/>
                  </a:lnTo>
                  <a:lnTo>
                    <a:pt x="1257" y="24"/>
                  </a:lnTo>
                  <a:lnTo>
                    <a:pt x="1246" y="36"/>
                  </a:lnTo>
                  <a:lnTo>
                    <a:pt x="1227" y="46"/>
                  </a:lnTo>
                  <a:lnTo>
                    <a:pt x="1202" y="55"/>
                  </a:lnTo>
                  <a:lnTo>
                    <a:pt x="1170" y="63"/>
                  </a:lnTo>
                  <a:lnTo>
                    <a:pt x="1132" y="70"/>
                  </a:lnTo>
                  <a:lnTo>
                    <a:pt x="1089" y="77"/>
                  </a:lnTo>
                  <a:lnTo>
                    <a:pt x="1043" y="82"/>
                  </a:lnTo>
                  <a:lnTo>
                    <a:pt x="991" y="86"/>
                  </a:lnTo>
                  <a:lnTo>
                    <a:pt x="936" y="91"/>
                  </a:lnTo>
                  <a:lnTo>
                    <a:pt x="879" y="93"/>
                  </a:lnTo>
                  <a:lnTo>
                    <a:pt x="819" y="95"/>
                  </a:lnTo>
                  <a:lnTo>
                    <a:pt x="757" y="96"/>
                  </a:lnTo>
                  <a:lnTo>
                    <a:pt x="694" y="97"/>
                  </a:lnTo>
                  <a:lnTo>
                    <a:pt x="631" y="96"/>
                  </a:lnTo>
                  <a:lnTo>
                    <a:pt x="567" y="95"/>
                  </a:lnTo>
                  <a:lnTo>
                    <a:pt x="505" y="94"/>
                  </a:lnTo>
                  <a:lnTo>
                    <a:pt x="443" y="91"/>
                  </a:lnTo>
                  <a:lnTo>
                    <a:pt x="383" y="87"/>
                  </a:lnTo>
                  <a:lnTo>
                    <a:pt x="326" y="83"/>
                  </a:lnTo>
                  <a:lnTo>
                    <a:pt x="272" y="79"/>
                  </a:lnTo>
                  <a:lnTo>
                    <a:pt x="220" y="73"/>
                  </a:lnTo>
                  <a:lnTo>
                    <a:pt x="172" y="68"/>
                  </a:lnTo>
                  <a:lnTo>
                    <a:pt x="130" y="62"/>
                  </a:lnTo>
                  <a:lnTo>
                    <a:pt x="92" y="54"/>
                  </a:lnTo>
                  <a:lnTo>
                    <a:pt x="60" y="47"/>
                  </a:lnTo>
                  <a:lnTo>
                    <a:pt x="36" y="38"/>
                  </a:lnTo>
                  <a:lnTo>
                    <a:pt x="17" y="30"/>
                  </a:lnTo>
                  <a:lnTo>
                    <a:pt x="6" y="20"/>
                  </a:lnTo>
                  <a:lnTo>
                    <a:pt x="2" y="12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12"/>
                  </a:lnTo>
                  <a:lnTo>
                    <a:pt x="3" y="22"/>
                  </a:lnTo>
                  <a:lnTo>
                    <a:pt x="14" y="32"/>
                  </a:lnTo>
                  <a:lnTo>
                    <a:pt x="33" y="40"/>
                  </a:lnTo>
                  <a:lnTo>
                    <a:pt x="60" y="49"/>
                  </a:lnTo>
                  <a:lnTo>
                    <a:pt x="92" y="56"/>
                  </a:lnTo>
                  <a:lnTo>
                    <a:pt x="130" y="64"/>
                  </a:lnTo>
                  <a:lnTo>
                    <a:pt x="172" y="70"/>
                  </a:lnTo>
                  <a:lnTo>
                    <a:pt x="220" y="76"/>
                  </a:lnTo>
                  <a:lnTo>
                    <a:pt x="272" y="81"/>
                  </a:lnTo>
                  <a:lnTo>
                    <a:pt x="326" y="85"/>
                  </a:lnTo>
                  <a:lnTo>
                    <a:pt x="383" y="89"/>
                  </a:lnTo>
                  <a:lnTo>
                    <a:pt x="443" y="93"/>
                  </a:lnTo>
                  <a:lnTo>
                    <a:pt x="505" y="96"/>
                  </a:lnTo>
                  <a:lnTo>
                    <a:pt x="567" y="97"/>
                  </a:lnTo>
                  <a:lnTo>
                    <a:pt x="631" y="98"/>
                  </a:lnTo>
                  <a:lnTo>
                    <a:pt x="694" y="99"/>
                  </a:lnTo>
                  <a:lnTo>
                    <a:pt x="757" y="98"/>
                  </a:lnTo>
                  <a:lnTo>
                    <a:pt x="819" y="97"/>
                  </a:lnTo>
                  <a:lnTo>
                    <a:pt x="879" y="95"/>
                  </a:lnTo>
                  <a:lnTo>
                    <a:pt x="936" y="93"/>
                  </a:lnTo>
                  <a:lnTo>
                    <a:pt x="991" y="88"/>
                  </a:lnTo>
                  <a:lnTo>
                    <a:pt x="1043" y="84"/>
                  </a:lnTo>
                  <a:lnTo>
                    <a:pt x="1089" y="79"/>
                  </a:lnTo>
                  <a:lnTo>
                    <a:pt x="1132" y="72"/>
                  </a:lnTo>
                  <a:lnTo>
                    <a:pt x="1170" y="65"/>
                  </a:lnTo>
                  <a:lnTo>
                    <a:pt x="1202" y="57"/>
                  </a:lnTo>
                  <a:lnTo>
                    <a:pt x="1229" y="48"/>
                  </a:lnTo>
                  <a:lnTo>
                    <a:pt x="1249" y="38"/>
                  </a:lnTo>
                  <a:lnTo>
                    <a:pt x="1259" y="26"/>
                  </a:lnTo>
                  <a:lnTo>
                    <a:pt x="1264" y="14"/>
                  </a:lnTo>
                  <a:lnTo>
                    <a:pt x="1258" y="0"/>
                  </a:lnTo>
                  <a:lnTo>
                    <a:pt x="1257" y="2"/>
                  </a:lnTo>
                  <a:lnTo>
                    <a:pt x="1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756320" y="6735600"/>
              <a:ext cx="1035000" cy="32040"/>
            </a:xfrm>
            <a:custGeom>
              <a:avLst/>
              <a:gdLst/>
              <a:ahLst/>
              <a:rect l="l" t="t" r="r" b="b"/>
              <a:pathLst>
                <a:path w="3258" h="98">
                  <a:moveTo>
                    <a:pt x="3255" y="98"/>
                  </a:moveTo>
                  <a:lnTo>
                    <a:pt x="3256" y="96"/>
                  </a:lnTo>
                  <a:lnTo>
                    <a:pt x="0" y="0"/>
                  </a:lnTo>
                  <a:lnTo>
                    <a:pt x="0" y="2"/>
                  </a:lnTo>
                  <a:lnTo>
                    <a:pt x="3256" y="98"/>
                  </a:lnTo>
                  <a:lnTo>
                    <a:pt x="3258" y="96"/>
                  </a:lnTo>
                  <a:lnTo>
                    <a:pt x="325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42040" y="6076800"/>
              <a:ext cx="449280" cy="690840"/>
            </a:xfrm>
            <a:custGeom>
              <a:avLst/>
              <a:gdLst/>
              <a:ahLst/>
              <a:rect l="l" t="t" r="r" b="b"/>
              <a:pathLst>
                <a:path w="1413" h="2173">
                  <a:moveTo>
                    <a:pt x="1" y="4"/>
                  </a:moveTo>
                  <a:lnTo>
                    <a:pt x="0" y="3"/>
                  </a:lnTo>
                  <a:lnTo>
                    <a:pt x="1410" y="2173"/>
                  </a:lnTo>
                  <a:lnTo>
                    <a:pt x="1413" y="217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54440" y="6076800"/>
              <a:ext cx="1587600" cy="1800"/>
            </a:xfrm>
            <a:custGeom>
              <a:avLst/>
              <a:gdLst/>
              <a:ahLst/>
              <a:rect l="l" t="t" r="r" b="b"/>
              <a:pathLst>
                <a:path w="5003" h="4">
                  <a:moveTo>
                    <a:pt x="2" y="3"/>
                  </a:moveTo>
                  <a:lnTo>
                    <a:pt x="1" y="4"/>
                  </a:lnTo>
                  <a:lnTo>
                    <a:pt x="5003" y="4"/>
                  </a:lnTo>
                  <a:lnTo>
                    <a:pt x="500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87600" y="6076800"/>
              <a:ext cx="366840" cy="690840"/>
            </a:xfrm>
            <a:custGeom>
              <a:avLst/>
              <a:gdLst/>
              <a:ahLst/>
              <a:rect l="l" t="t" r="r" b="b"/>
              <a:pathLst>
                <a:path w="1156" h="2172">
                  <a:moveTo>
                    <a:pt x="1" y="2170"/>
                  </a:moveTo>
                  <a:lnTo>
                    <a:pt x="2" y="2172"/>
                  </a:lnTo>
                  <a:lnTo>
                    <a:pt x="1156" y="2"/>
                  </a:lnTo>
                  <a:lnTo>
                    <a:pt x="1154" y="0"/>
                  </a:lnTo>
                  <a:lnTo>
                    <a:pt x="0" y="2170"/>
                  </a:lnTo>
                  <a:lnTo>
                    <a:pt x="1" y="2172"/>
                  </a:lnTo>
                  <a:lnTo>
                    <a:pt x="1" y="2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389400" y="6062760"/>
              <a:ext cx="2401920" cy="689040"/>
            </a:xfrm>
            <a:custGeom>
              <a:avLst/>
              <a:gdLst/>
              <a:ahLst/>
              <a:rect l="l" t="t" r="r" b="b"/>
              <a:pathLst>
                <a:path w="7566" h="2171">
                  <a:moveTo>
                    <a:pt x="0" y="2170"/>
                  </a:moveTo>
                  <a:lnTo>
                    <a:pt x="3058" y="2074"/>
                  </a:lnTo>
                  <a:lnTo>
                    <a:pt x="3054" y="2084"/>
                  </a:lnTo>
                  <a:lnTo>
                    <a:pt x="3057" y="2094"/>
                  </a:lnTo>
                  <a:lnTo>
                    <a:pt x="3068" y="2104"/>
                  </a:lnTo>
                  <a:lnTo>
                    <a:pt x="3087" y="2112"/>
                  </a:lnTo>
                  <a:lnTo>
                    <a:pt x="3112" y="2121"/>
                  </a:lnTo>
                  <a:lnTo>
                    <a:pt x="3145" y="2128"/>
                  </a:lnTo>
                  <a:lnTo>
                    <a:pt x="3183" y="2136"/>
                  </a:lnTo>
                  <a:lnTo>
                    <a:pt x="3225" y="2142"/>
                  </a:lnTo>
                  <a:lnTo>
                    <a:pt x="3273" y="2147"/>
                  </a:lnTo>
                  <a:lnTo>
                    <a:pt x="3324" y="2153"/>
                  </a:lnTo>
                  <a:lnTo>
                    <a:pt x="3378" y="2157"/>
                  </a:lnTo>
                  <a:lnTo>
                    <a:pt x="3436" y="2161"/>
                  </a:lnTo>
                  <a:lnTo>
                    <a:pt x="3495" y="2164"/>
                  </a:lnTo>
                  <a:lnTo>
                    <a:pt x="3558" y="2168"/>
                  </a:lnTo>
                  <a:lnTo>
                    <a:pt x="3620" y="2169"/>
                  </a:lnTo>
                  <a:lnTo>
                    <a:pt x="3683" y="2170"/>
                  </a:lnTo>
                  <a:lnTo>
                    <a:pt x="3747" y="2171"/>
                  </a:lnTo>
                  <a:lnTo>
                    <a:pt x="3809" y="2170"/>
                  </a:lnTo>
                  <a:lnTo>
                    <a:pt x="3871" y="2169"/>
                  </a:lnTo>
                  <a:lnTo>
                    <a:pt x="3931" y="2167"/>
                  </a:lnTo>
                  <a:lnTo>
                    <a:pt x="3989" y="2164"/>
                  </a:lnTo>
                  <a:lnTo>
                    <a:pt x="4044" y="2160"/>
                  </a:lnTo>
                  <a:lnTo>
                    <a:pt x="4095" y="2156"/>
                  </a:lnTo>
                  <a:lnTo>
                    <a:pt x="4142" y="2151"/>
                  </a:lnTo>
                  <a:lnTo>
                    <a:pt x="4185" y="2144"/>
                  </a:lnTo>
                  <a:lnTo>
                    <a:pt x="4222" y="2137"/>
                  </a:lnTo>
                  <a:lnTo>
                    <a:pt x="4254" y="2129"/>
                  </a:lnTo>
                  <a:lnTo>
                    <a:pt x="4281" y="2120"/>
                  </a:lnTo>
                  <a:lnTo>
                    <a:pt x="4300" y="2110"/>
                  </a:lnTo>
                  <a:lnTo>
                    <a:pt x="4311" y="2098"/>
                  </a:lnTo>
                  <a:lnTo>
                    <a:pt x="4314" y="2087"/>
                  </a:lnTo>
                  <a:lnTo>
                    <a:pt x="4310" y="2074"/>
                  </a:lnTo>
                  <a:lnTo>
                    <a:pt x="7566" y="2170"/>
                  </a:lnTo>
                  <a:lnTo>
                    <a:pt x="6156" y="0"/>
                  </a:lnTo>
                  <a:lnTo>
                    <a:pt x="1154" y="0"/>
                  </a:lnTo>
                  <a:lnTo>
                    <a:pt x="0" y="21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389400" y="6718320"/>
              <a:ext cx="973080" cy="34920"/>
            </a:xfrm>
            <a:custGeom>
              <a:avLst/>
              <a:gdLst/>
              <a:ahLst/>
              <a:rect l="l" t="t" r="r" b="b"/>
              <a:pathLst>
                <a:path w="3064" h="107">
                  <a:moveTo>
                    <a:pt x="3063" y="9"/>
                  </a:moveTo>
                  <a:lnTo>
                    <a:pt x="3058" y="0"/>
                  </a:lnTo>
                  <a:lnTo>
                    <a:pt x="0" y="96"/>
                  </a:lnTo>
                  <a:lnTo>
                    <a:pt x="0" y="107"/>
                  </a:lnTo>
                  <a:lnTo>
                    <a:pt x="3058" y="11"/>
                  </a:lnTo>
                  <a:lnTo>
                    <a:pt x="3054" y="3"/>
                  </a:lnTo>
                  <a:lnTo>
                    <a:pt x="3058" y="11"/>
                  </a:lnTo>
                  <a:lnTo>
                    <a:pt x="3062" y="9"/>
                  </a:lnTo>
                  <a:lnTo>
                    <a:pt x="3064" y="6"/>
                  </a:lnTo>
                  <a:lnTo>
                    <a:pt x="3062" y="3"/>
                  </a:lnTo>
                  <a:lnTo>
                    <a:pt x="3058" y="0"/>
                  </a:lnTo>
                  <a:lnTo>
                    <a:pt x="30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56000" y="6718320"/>
              <a:ext cx="405000" cy="34920"/>
            </a:xfrm>
            <a:custGeom>
              <a:avLst/>
              <a:gdLst/>
              <a:ahLst/>
              <a:rect l="l" t="t" r="r" b="b"/>
              <a:pathLst>
                <a:path w="1272" h="108">
                  <a:moveTo>
                    <a:pt x="1262" y="0"/>
                  </a:moveTo>
                  <a:lnTo>
                    <a:pt x="1257" y="9"/>
                  </a:lnTo>
                  <a:lnTo>
                    <a:pt x="1260" y="19"/>
                  </a:lnTo>
                  <a:lnTo>
                    <a:pt x="1258" y="28"/>
                  </a:lnTo>
                  <a:lnTo>
                    <a:pt x="1248" y="38"/>
                  </a:lnTo>
                  <a:lnTo>
                    <a:pt x="1230" y="46"/>
                  </a:lnTo>
                  <a:lnTo>
                    <a:pt x="1204" y="56"/>
                  </a:lnTo>
                  <a:lnTo>
                    <a:pt x="1173" y="63"/>
                  </a:lnTo>
                  <a:lnTo>
                    <a:pt x="1136" y="71"/>
                  </a:lnTo>
                  <a:lnTo>
                    <a:pt x="1093" y="77"/>
                  </a:lnTo>
                  <a:lnTo>
                    <a:pt x="1046" y="83"/>
                  </a:lnTo>
                  <a:lnTo>
                    <a:pt x="996" y="87"/>
                  </a:lnTo>
                  <a:lnTo>
                    <a:pt x="941" y="91"/>
                  </a:lnTo>
                  <a:lnTo>
                    <a:pt x="883" y="93"/>
                  </a:lnTo>
                  <a:lnTo>
                    <a:pt x="823" y="95"/>
                  </a:lnTo>
                  <a:lnTo>
                    <a:pt x="761" y="96"/>
                  </a:lnTo>
                  <a:lnTo>
                    <a:pt x="699" y="98"/>
                  </a:lnTo>
                  <a:lnTo>
                    <a:pt x="635" y="96"/>
                  </a:lnTo>
                  <a:lnTo>
                    <a:pt x="572" y="95"/>
                  </a:lnTo>
                  <a:lnTo>
                    <a:pt x="510" y="94"/>
                  </a:lnTo>
                  <a:lnTo>
                    <a:pt x="447" y="91"/>
                  </a:lnTo>
                  <a:lnTo>
                    <a:pt x="388" y="88"/>
                  </a:lnTo>
                  <a:lnTo>
                    <a:pt x="330" y="84"/>
                  </a:lnTo>
                  <a:lnTo>
                    <a:pt x="277" y="79"/>
                  </a:lnTo>
                  <a:lnTo>
                    <a:pt x="226" y="74"/>
                  </a:lnTo>
                  <a:lnTo>
                    <a:pt x="178" y="69"/>
                  </a:lnTo>
                  <a:lnTo>
                    <a:pt x="136" y="62"/>
                  </a:lnTo>
                  <a:lnTo>
                    <a:pt x="98" y="55"/>
                  </a:lnTo>
                  <a:lnTo>
                    <a:pt x="66" y="47"/>
                  </a:lnTo>
                  <a:lnTo>
                    <a:pt x="42" y="39"/>
                  </a:lnTo>
                  <a:lnTo>
                    <a:pt x="24" y="31"/>
                  </a:lnTo>
                  <a:lnTo>
                    <a:pt x="14" y="23"/>
                  </a:lnTo>
                  <a:lnTo>
                    <a:pt x="12" y="16"/>
                  </a:lnTo>
                  <a:lnTo>
                    <a:pt x="15" y="9"/>
                  </a:lnTo>
                  <a:lnTo>
                    <a:pt x="6" y="3"/>
                  </a:lnTo>
                  <a:lnTo>
                    <a:pt x="0" y="16"/>
                  </a:lnTo>
                  <a:lnTo>
                    <a:pt x="4" y="29"/>
                  </a:lnTo>
                  <a:lnTo>
                    <a:pt x="16" y="40"/>
                  </a:lnTo>
                  <a:lnTo>
                    <a:pt x="37" y="50"/>
                  </a:lnTo>
                  <a:lnTo>
                    <a:pt x="63" y="58"/>
                  </a:lnTo>
                  <a:lnTo>
                    <a:pt x="95" y="66"/>
                  </a:lnTo>
                  <a:lnTo>
                    <a:pt x="134" y="73"/>
                  </a:lnTo>
                  <a:lnTo>
                    <a:pt x="176" y="79"/>
                  </a:lnTo>
                  <a:lnTo>
                    <a:pt x="224" y="85"/>
                  </a:lnTo>
                  <a:lnTo>
                    <a:pt x="275" y="90"/>
                  </a:lnTo>
                  <a:lnTo>
                    <a:pt x="330" y="94"/>
                  </a:lnTo>
                  <a:lnTo>
                    <a:pt x="388" y="99"/>
                  </a:lnTo>
                  <a:lnTo>
                    <a:pt x="447" y="102"/>
                  </a:lnTo>
                  <a:lnTo>
                    <a:pt x="510" y="105"/>
                  </a:lnTo>
                  <a:lnTo>
                    <a:pt x="572" y="106"/>
                  </a:lnTo>
                  <a:lnTo>
                    <a:pt x="635" y="107"/>
                  </a:lnTo>
                  <a:lnTo>
                    <a:pt x="699" y="108"/>
                  </a:lnTo>
                  <a:lnTo>
                    <a:pt x="761" y="107"/>
                  </a:lnTo>
                  <a:lnTo>
                    <a:pt x="823" y="106"/>
                  </a:lnTo>
                  <a:lnTo>
                    <a:pt x="883" y="104"/>
                  </a:lnTo>
                  <a:lnTo>
                    <a:pt x="941" y="102"/>
                  </a:lnTo>
                  <a:lnTo>
                    <a:pt x="996" y="98"/>
                  </a:lnTo>
                  <a:lnTo>
                    <a:pt x="1048" y="93"/>
                  </a:lnTo>
                  <a:lnTo>
                    <a:pt x="1095" y="88"/>
                  </a:lnTo>
                  <a:lnTo>
                    <a:pt x="1138" y="82"/>
                  </a:lnTo>
                  <a:lnTo>
                    <a:pt x="1175" y="74"/>
                  </a:lnTo>
                  <a:lnTo>
                    <a:pt x="1209" y="67"/>
                  </a:lnTo>
                  <a:lnTo>
                    <a:pt x="1235" y="57"/>
                  </a:lnTo>
                  <a:lnTo>
                    <a:pt x="1256" y="46"/>
                  </a:lnTo>
                  <a:lnTo>
                    <a:pt x="1268" y="32"/>
                  </a:lnTo>
                  <a:lnTo>
                    <a:pt x="1272" y="19"/>
                  </a:lnTo>
                  <a:lnTo>
                    <a:pt x="1266" y="3"/>
                  </a:lnTo>
                  <a:lnTo>
                    <a:pt x="1262" y="11"/>
                  </a:lnTo>
                  <a:lnTo>
                    <a:pt x="1266" y="3"/>
                  </a:lnTo>
                  <a:lnTo>
                    <a:pt x="1263" y="0"/>
                  </a:lnTo>
                  <a:lnTo>
                    <a:pt x="1258" y="1"/>
                  </a:lnTo>
                  <a:lnTo>
                    <a:pt x="1256" y="5"/>
                  </a:lnTo>
                  <a:lnTo>
                    <a:pt x="1257" y="9"/>
                  </a:lnTo>
                  <a:lnTo>
                    <a:pt x="12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57760" y="6718320"/>
              <a:ext cx="1035000" cy="34920"/>
            </a:xfrm>
            <a:custGeom>
              <a:avLst/>
              <a:gdLst/>
              <a:ahLst/>
              <a:rect l="l" t="t" r="r" b="b"/>
              <a:pathLst>
                <a:path w="3262" h="107">
                  <a:moveTo>
                    <a:pt x="3251" y="105"/>
                  </a:moveTo>
                  <a:lnTo>
                    <a:pt x="3256" y="9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256" y="107"/>
                  </a:lnTo>
                  <a:lnTo>
                    <a:pt x="3261" y="99"/>
                  </a:lnTo>
                  <a:lnTo>
                    <a:pt x="3256" y="107"/>
                  </a:lnTo>
                  <a:lnTo>
                    <a:pt x="3260" y="105"/>
                  </a:lnTo>
                  <a:lnTo>
                    <a:pt x="3262" y="102"/>
                  </a:lnTo>
                  <a:lnTo>
                    <a:pt x="3260" y="99"/>
                  </a:lnTo>
                  <a:lnTo>
                    <a:pt x="3256" y="96"/>
                  </a:lnTo>
                  <a:lnTo>
                    <a:pt x="325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42040" y="6060960"/>
              <a:ext cx="450720" cy="690840"/>
            </a:xfrm>
            <a:custGeom>
              <a:avLst/>
              <a:gdLst/>
              <a:ahLst/>
              <a:rect l="l" t="t" r="r" b="b"/>
              <a:pathLst>
                <a:path w="1420" h="2178">
                  <a:moveTo>
                    <a:pt x="5" y="10"/>
                  </a:moveTo>
                  <a:lnTo>
                    <a:pt x="0" y="8"/>
                  </a:lnTo>
                  <a:lnTo>
                    <a:pt x="1410" y="2178"/>
                  </a:lnTo>
                  <a:lnTo>
                    <a:pt x="1420" y="2172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53000" y="6060960"/>
              <a:ext cx="1590480" cy="3240"/>
            </a:xfrm>
            <a:custGeom>
              <a:avLst/>
              <a:gdLst/>
              <a:ahLst/>
              <a:rect l="l" t="t" r="r" b="b"/>
              <a:pathLst>
                <a:path w="5008" h="10">
                  <a:moveTo>
                    <a:pt x="12" y="7"/>
                  </a:moveTo>
                  <a:lnTo>
                    <a:pt x="6" y="10"/>
                  </a:lnTo>
                  <a:lnTo>
                    <a:pt x="5008" y="10"/>
                  </a:lnTo>
                  <a:lnTo>
                    <a:pt x="5008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6" y="1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387600" y="6060960"/>
              <a:ext cx="370080" cy="692280"/>
            </a:xfrm>
            <a:custGeom>
              <a:avLst/>
              <a:gdLst/>
              <a:ahLst/>
              <a:rect l="l" t="t" r="r" b="b"/>
              <a:pathLst>
                <a:path w="1166" h="2177">
                  <a:moveTo>
                    <a:pt x="6" y="2166"/>
                  </a:moveTo>
                  <a:lnTo>
                    <a:pt x="12" y="2174"/>
                  </a:lnTo>
                  <a:lnTo>
                    <a:pt x="1166" y="4"/>
                  </a:lnTo>
                  <a:lnTo>
                    <a:pt x="1154" y="0"/>
                  </a:lnTo>
                  <a:lnTo>
                    <a:pt x="0" y="2170"/>
                  </a:lnTo>
                  <a:lnTo>
                    <a:pt x="6" y="2177"/>
                  </a:lnTo>
                  <a:lnTo>
                    <a:pt x="0" y="2170"/>
                  </a:lnTo>
                  <a:lnTo>
                    <a:pt x="0" y="2174"/>
                  </a:lnTo>
                  <a:lnTo>
                    <a:pt x="4" y="2176"/>
                  </a:lnTo>
                  <a:lnTo>
                    <a:pt x="8" y="2177"/>
                  </a:lnTo>
                  <a:lnTo>
                    <a:pt x="12" y="2174"/>
                  </a:lnTo>
                  <a:lnTo>
                    <a:pt x="6" y="2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84440" y="6070680"/>
              <a:ext cx="1079640" cy="650880"/>
            </a:xfrm>
            <a:custGeom>
              <a:avLst/>
              <a:gdLst/>
              <a:ahLst/>
              <a:rect l="l" t="t" r="r" b="b"/>
              <a:pathLst>
                <a:path w="3401" h="2047">
                  <a:moveTo>
                    <a:pt x="3401" y="1835"/>
                  </a:moveTo>
                  <a:lnTo>
                    <a:pt x="3293" y="1810"/>
                  </a:lnTo>
                  <a:lnTo>
                    <a:pt x="3186" y="1787"/>
                  </a:lnTo>
                  <a:lnTo>
                    <a:pt x="3081" y="1767"/>
                  </a:lnTo>
                  <a:lnTo>
                    <a:pt x="2976" y="1750"/>
                  </a:lnTo>
                  <a:lnTo>
                    <a:pt x="2871" y="1736"/>
                  </a:lnTo>
                  <a:lnTo>
                    <a:pt x="2767" y="1724"/>
                  </a:lnTo>
                  <a:lnTo>
                    <a:pt x="2663" y="1715"/>
                  </a:lnTo>
                  <a:lnTo>
                    <a:pt x="2560" y="1708"/>
                  </a:lnTo>
                  <a:lnTo>
                    <a:pt x="2457" y="1703"/>
                  </a:lnTo>
                  <a:lnTo>
                    <a:pt x="2355" y="1701"/>
                  </a:lnTo>
                  <a:lnTo>
                    <a:pt x="2254" y="1700"/>
                  </a:lnTo>
                  <a:lnTo>
                    <a:pt x="2152" y="1701"/>
                  </a:lnTo>
                  <a:lnTo>
                    <a:pt x="2050" y="1704"/>
                  </a:lnTo>
                  <a:lnTo>
                    <a:pt x="1950" y="1709"/>
                  </a:lnTo>
                  <a:lnTo>
                    <a:pt x="1849" y="1716"/>
                  </a:lnTo>
                  <a:lnTo>
                    <a:pt x="1750" y="1723"/>
                  </a:lnTo>
                  <a:lnTo>
                    <a:pt x="1649" y="1733"/>
                  </a:lnTo>
                  <a:lnTo>
                    <a:pt x="1550" y="1744"/>
                  </a:lnTo>
                  <a:lnTo>
                    <a:pt x="1450" y="1755"/>
                  </a:lnTo>
                  <a:lnTo>
                    <a:pt x="1351" y="1768"/>
                  </a:lnTo>
                  <a:lnTo>
                    <a:pt x="1252" y="1782"/>
                  </a:lnTo>
                  <a:lnTo>
                    <a:pt x="1152" y="1796"/>
                  </a:lnTo>
                  <a:lnTo>
                    <a:pt x="1054" y="1812"/>
                  </a:lnTo>
                  <a:lnTo>
                    <a:pt x="955" y="1828"/>
                  </a:lnTo>
                  <a:lnTo>
                    <a:pt x="856" y="1844"/>
                  </a:lnTo>
                  <a:lnTo>
                    <a:pt x="757" y="1861"/>
                  </a:lnTo>
                  <a:lnTo>
                    <a:pt x="659" y="1878"/>
                  </a:lnTo>
                  <a:lnTo>
                    <a:pt x="560" y="1896"/>
                  </a:lnTo>
                  <a:lnTo>
                    <a:pt x="460" y="1914"/>
                  </a:lnTo>
                  <a:lnTo>
                    <a:pt x="362" y="1932"/>
                  </a:lnTo>
                  <a:lnTo>
                    <a:pt x="263" y="1950"/>
                  </a:lnTo>
                  <a:lnTo>
                    <a:pt x="163" y="1967"/>
                  </a:lnTo>
                  <a:lnTo>
                    <a:pt x="1104" y="0"/>
                  </a:lnTo>
                  <a:lnTo>
                    <a:pt x="0" y="2045"/>
                  </a:lnTo>
                  <a:lnTo>
                    <a:pt x="97" y="2047"/>
                  </a:lnTo>
                  <a:lnTo>
                    <a:pt x="193" y="2047"/>
                  </a:lnTo>
                  <a:lnTo>
                    <a:pt x="290" y="2047"/>
                  </a:lnTo>
                  <a:lnTo>
                    <a:pt x="387" y="2046"/>
                  </a:lnTo>
                  <a:lnTo>
                    <a:pt x="484" y="2043"/>
                  </a:lnTo>
                  <a:lnTo>
                    <a:pt x="581" y="2039"/>
                  </a:lnTo>
                  <a:lnTo>
                    <a:pt x="678" y="2035"/>
                  </a:lnTo>
                  <a:lnTo>
                    <a:pt x="775" y="2031"/>
                  </a:lnTo>
                  <a:lnTo>
                    <a:pt x="872" y="2025"/>
                  </a:lnTo>
                  <a:lnTo>
                    <a:pt x="969" y="2019"/>
                  </a:lnTo>
                  <a:lnTo>
                    <a:pt x="1066" y="2014"/>
                  </a:lnTo>
                  <a:lnTo>
                    <a:pt x="1163" y="2007"/>
                  </a:lnTo>
                  <a:lnTo>
                    <a:pt x="1260" y="2000"/>
                  </a:lnTo>
                  <a:lnTo>
                    <a:pt x="1356" y="1993"/>
                  </a:lnTo>
                  <a:lnTo>
                    <a:pt x="1453" y="1987"/>
                  </a:lnTo>
                  <a:lnTo>
                    <a:pt x="1548" y="1980"/>
                  </a:lnTo>
                  <a:lnTo>
                    <a:pt x="1644" y="1973"/>
                  </a:lnTo>
                  <a:lnTo>
                    <a:pt x="1739" y="1968"/>
                  </a:lnTo>
                  <a:lnTo>
                    <a:pt x="1833" y="1961"/>
                  </a:lnTo>
                  <a:lnTo>
                    <a:pt x="1928" y="1956"/>
                  </a:lnTo>
                  <a:lnTo>
                    <a:pt x="2023" y="1952"/>
                  </a:lnTo>
                  <a:lnTo>
                    <a:pt x="2116" y="1948"/>
                  </a:lnTo>
                  <a:lnTo>
                    <a:pt x="2209" y="1944"/>
                  </a:lnTo>
                  <a:lnTo>
                    <a:pt x="2302" y="1942"/>
                  </a:lnTo>
                  <a:lnTo>
                    <a:pt x="2394" y="1941"/>
                  </a:lnTo>
                  <a:lnTo>
                    <a:pt x="2485" y="1941"/>
                  </a:lnTo>
                  <a:lnTo>
                    <a:pt x="2576" y="1941"/>
                  </a:lnTo>
                  <a:lnTo>
                    <a:pt x="2665" y="1943"/>
                  </a:lnTo>
                  <a:lnTo>
                    <a:pt x="2755" y="1948"/>
                  </a:lnTo>
                  <a:lnTo>
                    <a:pt x="2844" y="1952"/>
                  </a:lnTo>
                  <a:lnTo>
                    <a:pt x="2931" y="1958"/>
                  </a:lnTo>
                  <a:lnTo>
                    <a:pt x="3019" y="1967"/>
                  </a:lnTo>
                  <a:lnTo>
                    <a:pt x="3401" y="18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37000" y="6610320"/>
              <a:ext cx="1027080" cy="85680"/>
            </a:xfrm>
            <a:custGeom>
              <a:avLst/>
              <a:gdLst/>
              <a:ahLst/>
              <a:rect l="l" t="t" r="r" b="b"/>
              <a:pathLst>
                <a:path w="3239" h="270">
                  <a:moveTo>
                    <a:pt x="0" y="268"/>
                  </a:moveTo>
                  <a:lnTo>
                    <a:pt x="1" y="270"/>
                  </a:lnTo>
                  <a:lnTo>
                    <a:pt x="101" y="253"/>
                  </a:lnTo>
                  <a:lnTo>
                    <a:pt x="200" y="235"/>
                  </a:lnTo>
                  <a:lnTo>
                    <a:pt x="298" y="218"/>
                  </a:lnTo>
                  <a:lnTo>
                    <a:pt x="398" y="199"/>
                  </a:lnTo>
                  <a:lnTo>
                    <a:pt x="497" y="181"/>
                  </a:lnTo>
                  <a:lnTo>
                    <a:pt x="595" y="164"/>
                  </a:lnTo>
                  <a:lnTo>
                    <a:pt x="694" y="147"/>
                  </a:lnTo>
                  <a:lnTo>
                    <a:pt x="793" y="131"/>
                  </a:lnTo>
                  <a:lnTo>
                    <a:pt x="892" y="115"/>
                  </a:lnTo>
                  <a:lnTo>
                    <a:pt x="990" y="99"/>
                  </a:lnTo>
                  <a:lnTo>
                    <a:pt x="1090" y="85"/>
                  </a:lnTo>
                  <a:lnTo>
                    <a:pt x="1189" y="71"/>
                  </a:lnTo>
                  <a:lnTo>
                    <a:pt x="1288" y="58"/>
                  </a:lnTo>
                  <a:lnTo>
                    <a:pt x="1388" y="47"/>
                  </a:lnTo>
                  <a:lnTo>
                    <a:pt x="1487" y="36"/>
                  </a:lnTo>
                  <a:lnTo>
                    <a:pt x="1588" y="26"/>
                  </a:lnTo>
                  <a:lnTo>
                    <a:pt x="1687" y="19"/>
                  </a:lnTo>
                  <a:lnTo>
                    <a:pt x="1788" y="12"/>
                  </a:lnTo>
                  <a:lnTo>
                    <a:pt x="1888" y="7"/>
                  </a:lnTo>
                  <a:lnTo>
                    <a:pt x="1990" y="4"/>
                  </a:lnTo>
                  <a:lnTo>
                    <a:pt x="2092" y="4"/>
                  </a:lnTo>
                  <a:lnTo>
                    <a:pt x="2193" y="5"/>
                  </a:lnTo>
                  <a:lnTo>
                    <a:pt x="2295" y="6"/>
                  </a:lnTo>
                  <a:lnTo>
                    <a:pt x="2398" y="11"/>
                  </a:lnTo>
                  <a:lnTo>
                    <a:pt x="2501" y="18"/>
                  </a:lnTo>
                  <a:lnTo>
                    <a:pt x="2605" y="27"/>
                  </a:lnTo>
                  <a:lnTo>
                    <a:pt x="2709" y="39"/>
                  </a:lnTo>
                  <a:lnTo>
                    <a:pt x="2814" y="53"/>
                  </a:lnTo>
                  <a:lnTo>
                    <a:pt x="2919" y="70"/>
                  </a:lnTo>
                  <a:lnTo>
                    <a:pt x="3024" y="90"/>
                  </a:lnTo>
                  <a:lnTo>
                    <a:pt x="3131" y="113"/>
                  </a:lnTo>
                  <a:lnTo>
                    <a:pt x="3239" y="138"/>
                  </a:lnTo>
                  <a:lnTo>
                    <a:pt x="3239" y="136"/>
                  </a:lnTo>
                  <a:lnTo>
                    <a:pt x="3131" y="111"/>
                  </a:lnTo>
                  <a:lnTo>
                    <a:pt x="3024" y="88"/>
                  </a:lnTo>
                  <a:lnTo>
                    <a:pt x="2919" y="68"/>
                  </a:lnTo>
                  <a:lnTo>
                    <a:pt x="2814" y="51"/>
                  </a:lnTo>
                  <a:lnTo>
                    <a:pt x="2709" y="37"/>
                  </a:lnTo>
                  <a:lnTo>
                    <a:pt x="2605" y="25"/>
                  </a:lnTo>
                  <a:lnTo>
                    <a:pt x="2501" y="16"/>
                  </a:lnTo>
                  <a:lnTo>
                    <a:pt x="2398" y="9"/>
                  </a:lnTo>
                  <a:lnTo>
                    <a:pt x="2295" y="4"/>
                  </a:lnTo>
                  <a:lnTo>
                    <a:pt x="2193" y="1"/>
                  </a:lnTo>
                  <a:lnTo>
                    <a:pt x="2092" y="0"/>
                  </a:lnTo>
                  <a:lnTo>
                    <a:pt x="1990" y="2"/>
                  </a:lnTo>
                  <a:lnTo>
                    <a:pt x="1888" y="5"/>
                  </a:lnTo>
                  <a:lnTo>
                    <a:pt x="1788" y="10"/>
                  </a:lnTo>
                  <a:lnTo>
                    <a:pt x="1687" y="17"/>
                  </a:lnTo>
                  <a:lnTo>
                    <a:pt x="1588" y="24"/>
                  </a:lnTo>
                  <a:lnTo>
                    <a:pt x="1487" y="34"/>
                  </a:lnTo>
                  <a:lnTo>
                    <a:pt x="1388" y="45"/>
                  </a:lnTo>
                  <a:lnTo>
                    <a:pt x="1288" y="56"/>
                  </a:lnTo>
                  <a:lnTo>
                    <a:pt x="1189" y="69"/>
                  </a:lnTo>
                  <a:lnTo>
                    <a:pt x="1090" y="83"/>
                  </a:lnTo>
                  <a:lnTo>
                    <a:pt x="990" y="97"/>
                  </a:lnTo>
                  <a:lnTo>
                    <a:pt x="892" y="113"/>
                  </a:lnTo>
                  <a:lnTo>
                    <a:pt x="793" y="129"/>
                  </a:lnTo>
                  <a:lnTo>
                    <a:pt x="694" y="145"/>
                  </a:lnTo>
                  <a:lnTo>
                    <a:pt x="595" y="162"/>
                  </a:lnTo>
                  <a:lnTo>
                    <a:pt x="497" y="179"/>
                  </a:lnTo>
                  <a:lnTo>
                    <a:pt x="398" y="197"/>
                  </a:lnTo>
                  <a:lnTo>
                    <a:pt x="298" y="215"/>
                  </a:lnTo>
                  <a:lnTo>
                    <a:pt x="200" y="232"/>
                  </a:lnTo>
                  <a:lnTo>
                    <a:pt x="101" y="251"/>
                  </a:lnTo>
                  <a:lnTo>
                    <a:pt x="1" y="268"/>
                  </a:lnTo>
                  <a:lnTo>
                    <a:pt x="3" y="27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537000" y="6070680"/>
              <a:ext cx="298440" cy="625320"/>
            </a:xfrm>
            <a:custGeom>
              <a:avLst/>
              <a:gdLst/>
              <a:ahLst/>
              <a:rect l="l" t="t" r="r" b="b"/>
              <a:pathLst>
                <a:path w="944" h="1969">
                  <a:moveTo>
                    <a:pt x="944" y="2"/>
                  </a:moveTo>
                  <a:lnTo>
                    <a:pt x="941" y="0"/>
                  </a:lnTo>
                  <a:lnTo>
                    <a:pt x="0" y="1967"/>
                  </a:lnTo>
                  <a:lnTo>
                    <a:pt x="3" y="1969"/>
                  </a:lnTo>
                  <a:lnTo>
                    <a:pt x="944" y="2"/>
                  </a:lnTo>
                  <a:lnTo>
                    <a:pt x="941" y="0"/>
                  </a:lnTo>
                  <a:lnTo>
                    <a:pt x="94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484440" y="6070680"/>
              <a:ext cx="351000" cy="650880"/>
            </a:xfrm>
            <a:custGeom>
              <a:avLst/>
              <a:gdLst/>
              <a:ahLst/>
              <a:rect l="l" t="t" r="r" b="b"/>
              <a:pathLst>
                <a:path w="1107" h="2047">
                  <a:moveTo>
                    <a:pt x="1" y="2045"/>
                  </a:moveTo>
                  <a:lnTo>
                    <a:pt x="3" y="2047"/>
                  </a:lnTo>
                  <a:lnTo>
                    <a:pt x="1107" y="2"/>
                  </a:lnTo>
                  <a:lnTo>
                    <a:pt x="1104" y="0"/>
                  </a:lnTo>
                  <a:lnTo>
                    <a:pt x="0" y="2045"/>
                  </a:lnTo>
                  <a:lnTo>
                    <a:pt x="1" y="2047"/>
                  </a:lnTo>
                  <a:lnTo>
                    <a:pt x="1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484440" y="6686640"/>
              <a:ext cx="959040" cy="34920"/>
            </a:xfrm>
            <a:custGeom>
              <a:avLst/>
              <a:gdLst/>
              <a:ahLst/>
              <a:rect l="l" t="t" r="r" b="b"/>
              <a:pathLst>
                <a:path w="3020" h="108">
                  <a:moveTo>
                    <a:pt x="3017" y="26"/>
                  </a:moveTo>
                  <a:lnTo>
                    <a:pt x="3019" y="26"/>
                  </a:lnTo>
                  <a:lnTo>
                    <a:pt x="2931" y="17"/>
                  </a:lnTo>
                  <a:lnTo>
                    <a:pt x="2844" y="11"/>
                  </a:lnTo>
                  <a:lnTo>
                    <a:pt x="2755" y="6"/>
                  </a:lnTo>
                  <a:lnTo>
                    <a:pt x="2665" y="2"/>
                  </a:lnTo>
                  <a:lnTo>
                    <a:pt x="2576" y="0"/>
                  </a:lnTo>
                  <a:lnTo>
                    <a:pt x="2485" y="0"/>
                  </a:lnTo>
                  <a:lnTo>
                    <a:pt x="2394" y="0"/>
                  </a:lnTo>
                  <a:lnTo>
                    <a:pt x="2302" y="1"/>
                  </a:lnTo>
                  <a:lnTo>
                    <a:pt x="2209" y="3"/>
                  </a:lnTo>
                  <a:lnTo>
                    <a:pt x="2116" y="6"/>
                  </a:lnTo>
                  <a:lnTo>
                    <a:pt x="2023" y="11"/>
                  </a:lnTo>
                  <a:lnTo>
                    <a:pt x="1928" y="15"/>
                  </a:lnTo>
                  <a:lnTo>
                    <a:pt x="1833" y="20"/>
                  </a:lnTo>
                  <a:lnTo>
                    <a:pt x="1739" y="27"/>
                  </a:lnTo>
                  <a:lnTo>
                    <a:pt x="1644" y="32"/>
                  </a:lnTo>
                  <a:lnTo>
                    <a:pt x="1548" y="39"/>
                  </a:lnTo>
                  <a:lnTo>
                    <a:pt x="1453" y="46"/>
                  </a:lnTo>
                  <a:lnTo>
                    <a:pt x="1356" y="52"/>
                  </a:lnTo>
                  <a:lnTo>
                    <a:pt x="1260" y="59"/>
                  </a:lnTo>
                  <a:lnTo>
                    <a:pt x="1163" y="66"/>
                  </a:lnTo>
                  <a:lnTo>
                    <a:pt x="1066" y="73"/>
                  </a:lnTo>
                  <a:lnTo>
                    <a:pt x="969" y="78"/>
                  </a:lnTo>
                  <a:lnTo>
                    <a:pt x="872" y="84"/>
                  </a:lnTo>
                  <a:lnTo>
                    <a:pt x="775" y="90"/>
                  </a:lnTo>
                  <a:lnTo>
                    <a:pt x="678" y="94"/>
                  </a:lnTo>
                  <a:lnTo>
                    <a:pt x="581" y="98"/>
                  </a:lnTo>
                  <a:lnTo>
                    <a:pt x="484" y="102"/>
                  </a:lnTo>
                  <a:lnTo>
                    <a:pt x="387" y="105"/>
                  </a:lnTo>
                  <a:lnTo>
                    <a:pt x="290" y="106"/>
                  </a:lnTo>
                  <a:lnTo>
                    <a:pt x="193" y="106"/>
                  </a:lnTo>
                  <a:lnTo>
                    <a:pt x="97" y="106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97" y="108"/>
                  </a:lnTo>
                  <a:lnTo>
                    <a:pt x="193" y="108"/>
                  </a:lnTo>
                  <a:lnTo>
                    <a:pt x="290" y="108"/>
                  </a:lnTo>
                  <a:lnTo>
                    <a:pt x="387" y="107"/>
                  </a:lnTo>
                  <a:lnTo>
                    <a:pt x="484" y="104"/>
                  </a:lnTo>
                  <a:lnTo>
                    <a:pt x="581" y="100"/>
                  </a:lnTo>
                  <a:lnTo>
                    <a:pt x="678" y="96"/>
                  </a:lnTo>
                  <a:lnTo>
                    <a:pt x="775" y="92"/>
                  </a:lnTo>
                  <a:lnTo>
                    <a:pt x="872" y="87"/>
                  </a:lnTo>
                  <a:lnTo>
                    <a:pt x="969" y="80"/>
                  </a:lnTo>
                  <a:lnTo>
                    <a:pt x="1066" y="75"/>
                  </a:lnTo>
                  <a:lnTo>
                    <a:pt x="1163" y="68"/>
                  </a:lnTo>
                  <a:lnTo>
                    <a:pt x="1260" y="61"/>
                  </a:lnTo>
                  <a:lnTo>
                    <a:pt x="1356" y="55"/>
                  </a:lnTo>
                  <a:lnTo>
                    <a:pt x="1453" y="48"/>
                  </a:lnTo>
                  <a:lnTo>
                    <a:pt x="1548" y="41"/>
                  </a:lnTo>
                  <a:lnTo>
                    <a:pt x="1644" y="34"/>
                  </a:lnTo>
                  <a:lnTo>
                    <a:pt x="1739" y="29"/>
                  </a:lnTo>
                  <a:lnTo>
                    <a:pt x="1833" y="22"/>
                  </a:lnTo>
                  <a:lnTo>
                    <a:pt x="1928" y="17"/>
                  </a:lnTo>
                  <a:lnTo>
                    <a:pt x="2023" y="13"/>
                  </a:lnTo>
                  <a:lnTo>
                    <a:pt x="2116" y="9"/>
                  </a:lnTo>
                  <a:lnTo>
                    <a:pt x="2209" y="5"/>
                  </a:lnTo>
                  <a:lnTo>
                    <a:pt x="2302" y="3"/>
                  </a:lnTo>
                  <a:lnTo>
                    <a:pt x="2394" y="2"/>
                  </a:lnTo>
                  <a:lnTo>
                    <a:pt x="2485" y="2"/>
                  </a:lnTo>
                  <a:lnTo>
                    <a:pt x="2576" y="2"/>
                  </a:lnTo>
                  <a:lnTo>
                    <a:pt x="2665" y="4"/>
                  </a:lnTo>
                  <a:lnTo>
                    <a:pt x="2755" y="9"/>
                  </a:lnTo>
                  <a:lnTo>
                    <a:pt x="2844" y="13"/>
                  </a:lnTo>
                  <a:lnTo>
                    <a:pt x="2931" y="19"/>
                  </a:lnTo>
                  <a:lnTo>
                    <a:pt x="3019" y="28"/>
                  </a:lnTo>
                  <a:lnTo>
                    <a:pt x="3020" y="28"/>
                  </a:lnTo>
                  <a:lnTo>
                    <a:pt x="30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443480" y="6653160"/>
              <a:ext cx="122040" cy="42840"/>
            </a:xfrm>
            <a:custGeom>
              <a:avLst/>
              <a:gdLst/>
              <a:ahLst/>
              <a:rect l="l" t="t" r="r" b="b"/>
              <a:pathLst>
                <a:path w="385" h="134">
                  <a:moveTo>
                    <a:pt x="384" y="2"/>
                  </a:moveTo>
                  <a:lnTo>
                    <a:pt x="382" y="0"/>
                  </a:lnTo>
                  <a:lnTo>
                    <a:pt x="0" y="132"/>
                  </a:lnTo>
                  <a:lnTo>
                    <a:pt x="3" y="134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3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84440" y="5986440"/>
              <a:ext cx="2160720" cy="735120"/>
            </a:xfrm>
            <a:custGeom>
              <a:avLst/>
              <a:gdLst/>
              <a:ahLst/>
              <a:rect l="l" t="t" r="r" b="b"/>
              <a:pathLst>
                <a:path w="6803" h="2314">
                  <a:moveTo>
                    <a:pt x="6803" y="2313"/>
                  </a:moveTo>
                  <a:lnTo>
                    <a:pt x="6694" y="2314"/>
                  </a:lnTo>
                  <a:lnTo>
                    <a:pt x="6588" y="2313"/>
                  </a:lnTo>
                  <a:lnTo>
                    <a:pt x="6482" y="2312"/>
                  </a:lnTo>
                  <a:lnTo>
                    <a:pt x="6377" y="2310"/>
                  </a:lnTo>
                  <a:lnTo>
                    <a:pt x="6274" y="2307"/>
                  </a:lnTo>
                  <a:lnTo>
                    <a:pt x="6172" y="2303"/>
                  </a:lnTo>
                  <a:lnTo>
                    <a:pt x="6072" y="2299"/>
                  </a:lnTo>
                  <a:lnTo>
                    <a:pt x="5971" y="2295"/>
                  </a:lnTo>
                  <a:lnTo>
                    <a:pt x="5873" y="2289"/>
                  </a:lnTo>
                  <a:lnTo>
                    <a:pt x="5775" y="2284"/>
                  </a:lnTo>
                  <a:lnTo>
                    <a:pt x="5678" y="2279"/>
                  </a:lnTo>
                  <a:lnTo>
                    <a:pt x="5582" y="2272"/>
                  </a:lnTo>
                  <a:lnTo>
                    <a:pt x="5486" y="2266"/>
                  </a:lnTo>
                  <a:lnTo>
                    <a:pt x="5393" y="2260"/>
                  </a:lnTo>
                  <a:lnTo>
                    <a:pt x="5298" y="2254"/>
                  </a:lnTo>
                  <a:lnTo>
                    <a:pt x="5206" y="2248"/>
                  </a:lnTo>
                  <a:lnTo>
                    <a:pt x="5114" y="2242"/>
                  </a:lnTo>
                  <a:lnTo>
                    <a:pt x="5023" y="2237"/>
                  </a:lnTo>
                  <a:lnTo>
                    <a:pt x="4932" y="2232"/>
                  </a:lnTo>
                  <a:lnTo>
                    <a:pt x="4841" y="2227"/>
                  </a:lnTo>
                  <a:lnTo>
                    <a:pt x="4751" y="2223"/>
                  </a:lnTo>
                  <a:lnTo>
                    <a:pt x="4662" y="2220"/>
                  </a:lnTo>
                  <a:lnTo>
                    <a:pt x="4574" y="2217"/>
                  </a:lnTo>
                  <a:lnTo>
                    <a:pt x="4485" y="2215"/>
                  </a:lnTo>
                  <a:lnTo>
                    <a:pt x="4397" y="2213"/>
                  </a:lnTo>
                  <a:lnTo>
                    <a:pt x="4309" y="2213"/>
                  </a:lnTo>
                  <a:lnTo>
                    <a:pt x="4221" y="2213"/>
                  </a:lnTo>
                  <a:lnTo>
                    <a:pt x="4133" y="2216"/>
                  </a:lnTo>
                  <a:lnTo>
                    <a:pt x="4046" y="2219"/>
                  </a:lnTo>
                  <a:lnTo>
                    <a:pt x="3960" y="2222"/>
                  </a:lnTo>
                  <a:lnTo>
                    <a:pt x="3872" y="2228"/>
                  </a:lnTo>
                  <a:lnTo>
                    <a:pt x="3785" y="2235"/>
                  </a:lnTo>
                  <a:lnTo>
                    <a:pt x="3402" y="2103"/>
                  </a:lnTo>
                  <a:lnTo>
                    <a:pt x="3402" y="266"/>
                  </a:lnTo>
                  <a:lnTo>
                    <a:pt x="3490" y="221"/>
                  </a:lnTo>
                  <a:lnTo>
                    <a:pt x="3578" y="181"/>
                  </a:lnTo>
                  <a:lnTo>
                    <a:pt x="3665" y="146"/>
                  </a:lnTo>
                  <a:lnTo>
                    <a:pt x="3751" y="115"/>
                  </a:lnTo>
                  <a:lnTo>
                    <a:pt x="3838" y="88"/>
                  </a:lnTo>
                  <a:lnTo>
                    <a:pt x="3924" y="66"/>
                  </a:lnTo>
                  <a:lnTo>
                    <a:pt x="4008" y="47"/>
                  </a:lnTo>
                  <a:lnTo>
                    <a:pt x="4091" y="31"/>
                  </a:lnTo>
                  <a:lnTo>
                    <a:pt x="4175" y="19"/>
                  </a:lnTo>
                  <a:lnTo>
                    <a:pt x="4257" y="9"/>
                  </a:lnTo>
                  <a:lnTo>
                    <a:pt x="4338" y="4"/>
                  </a:lnTo>
                  <a:lnTo>
                    <a:pt x="4418" y="1"/>
                  </a:lnTo>
                  <a:lnTo>
                    <a:pt x="4497" y="1"/>
                  </a:lnTo>
                  <a:lnTo>
                    <a:pt x="4575" y="3"/>
                  </a:lnTo>
                  <a:lnTo>
                    <a:pt x="4652" y="7"/>
                  </a:lnTo>
                  <a:lnTo>
                    <a:pt x="4727" y="14"/>
                  </a:lnTo>
                  <a:lnTo>
                    <a:pt x="4800" y="23"/>
                  </a:lnTo>
                  <a:lnTo>
                    <a:pt x="4873" y="33"/>
                  </a:lnTo>
                  <a:lnTo>
                    <a:pt x="4944" y="46"/>
                  </a:lnTo>
                  <a:lnTo>
                    <a:pt x="5013" y="59"/>
                  </a:lnTo>
                  <a:lnTo>
                    <a:pt x="5080" y="74"/>
                  </a:lnTo>
                  <a:lnTo>
                    <a:pt x="5147" y="90"/>
                  </a:lnTo>
                  <a:lnTo>
                    <a:pt x="5211" y="106"/>
                  </a:lnTo>
                  <a:lnTo>
                    <a:pt x="5273" y="124"/>
                  </a:lnTo>
                  <a:lnTo>
                    <a:pt x="5334" y="141"/>
                  </a:lnTo>
                  <a:lnTo>
                    <a:pt x="5393" y="159"/>
                  </a:lnTo>
                  <a:lnTo>
                    <a:pt x="5449" y="178"/>
                  </a:lnTo>
                  <a:lnTo>
                    <a:pt x="5503" y="196"/>
                  </a:lnTo>
                  <a:lnTo>
                    <a:pt x="5556" y="214"/>
                  </a:lnTo>
                  <a:lnTo>
                    <a:pt x="5605" y="232"/>
                  </a:lnTo>
                  <a:lnTo>
                    <a:pt x="5653" y="250"/>
                  </a:lnTo>
                  <a:lnTo>
                    <a:pt x="5698" y="266"/>
                  </a:lnTo>
                  <a:lnTo>
                    <a:pt x="6803" y="2313"/>
                  </a:lnTo>
                  <a:lnTo>
                    <a:pt x="6803" y="2313"/>
                  </a:lnTo>
                  <a:close/>
                  <a:moveTo>
                    <a:pt x="0" y="2312"/>
                  </a:moveTo>
                  <a:lnTo>
                    <a:pt x="109" y="2313"/>
                  </a:lnTo>
                  <a:lnTo>
                    <a:pt x="216" y="2312"/>
                  </a:lnTo>
                  <a:lnTo>
                    <a:pt x="321" y="2311"/>
                  </a:lnTo>
                  <a:lnTo>
                    <a:pt x="427" y="2309"/>
                  </a:lnTo>
                  <a:lnTo>
                    <a:pt x="530" y="2306"/>
                  </a:lnTo>
                  <a:lnTo>
                    <a:pt x="631" y="2302"/>
                  </a:lnTo>
                  <a:lnTo>
                    <a:pt x="732" y="2298"/>
                  </a:lnTo>
                  <a:lnTo>
                    <a:pt x="833" y="2294"/>
                  </a:lnTo>
                  <a:lnTo>
                    <a:pt x="931" y="2288"/>
                  </a:lnTo>
                  <a:lnTo>
                    <a:pt x="1029" y="2283"/>
                  </a:lnTo>
                  <a:lnTo>
                    <a:pt x="1126" y="2278"/>
                  </a:lnTo>
                  <a:lnTo>
                    <a:pt x="1222" y="2271"/>
                  </a:lnTo>
                  <a:lnTo>
                    <a:pt x="1317" y="2265"/>
                  </a:lnTo>
                  <a:lnTo>
                    <a:pt x="1411" y="2259"/>
                  </a:lnTo>
                  <a:lnTo>
                    <a:pt x="1505" y="2253"/>
                  </a:lnTo>
                  <a:lnTo>
                    <a:pt x="1598" y="2247"/>
                  </a:lnTo>
                  <a:lnTo>
                    <a:pt x="1690" y="2241"/>
                  </a:lnTo>
                  <a:lnTo>
                    <a:pt x="1781" y="2236"/>
                  </a:lnTo>
                  <a:lnTo>
                    <a:pt x="1872" y="2231"/>
                  </a:lnTo>
                  <a:lnTo>
                    <a:pt x="1963" y="2226"/>
                  </a:lnTo>
                  <a:lnTo>
                    <a:pt x="2053" y="2222"/>
                  </a:lnTo>
                  <a:lnTo>
                    <a:pt x="2141" y="2219"/>
                  </a:lnTo>
                  <a:lnTo>
                    <a:pt x="2230" y="2216"/>
                  </a:lnTo>
                  <a:lnTo>
                    <a:pt x="2318" y="2213"/>
                  </a:lnTo>
                  <a:lnTo>
                    <a:pt x="2407" y="2212"/>
                  </a:lnTo>
                  <a:lnTo>
                    <a:pt x="2494" y="2212"/>
                  </a:lnTo>
                  <a:lnTo>
                    <a:pt x="2583" y="2212"/>
                  </a:lnTo>
                  <a:lnTo>
                    <a:pt x="2670" y="2215"/>
                  </a:lnTo>
                  <a:lnTo>
                    <a:pt x="2758" y="2218"/>
                  </a:lnTo>
                  <a:lnTo>
                    <a:pt x="2844" y="2221"/>
                  </a:lnTo>
                  <a:lnTo>
                    <a:pt x="2931" y="2227"/>
                  </a:lnTo>
                  <a:lnTo>
                    <a:pt x="3019" y="2234"/>
                  </a:lnTo>
                  <a:lnTo>
                    <a:pt x="3402" y="2102"/>
                  </a:lnTo>
                  <a:lnTo>
                    <a:pt x="3402" y="265"/>
                  </a:lnTo>
                  <a:lnTo>
                    <a:pt x="3313" y="220"/>
                  </a:lnTo>
                  <a:lnTo>
                    <a:pt x="3226" y="180"/>
                  </a:lnTo>
                  <a:lnTo>
                    <a:pt x="3138" y="145"/>
                  </a:lnTo>
                  <a:lnTo>
                    <a:pt x="3052" y="114"/>
                  </a:lnTo>
                  <a:lnTo>
                    <a:pt x="2966" y="87"/>
                  </a:lnTo>
                  <a:lnTo>
                    <a:pt x="2880" y="65"/>
                  </a:lnTo>
                  <a:lnTo>
                    <a:pt x="2796" y="46"/>
                  </a:lnTo>
                  <a:lnTo>
                    <a:pt x="2712" y="30"/>
                  </a:lnTo>
                  <a:lnTo>
                    <a:pt x="2628" y="18"/>
                  </a:lnTo>
                  <a:lnTo>
                    <a:pt x="2547" y="8"/>
                  </a:lnTo>
                  <a:lnTo>
                    <a:pt x="2466" y="3"/>
                  </a:lnTo>
                  <a:lnTo>
                    <a:pt x="2385" y="0"/>
                  </a:lnTo>
                  <a:lnTo>
                    <a:pt x="2306" y="0"/>
                  </a:lnTo>
                  <a:lnTo>
                    <a:pt x="2229" y="2"/>
                  </a:lnTo>
                  <a:lnTo>
                    <a:pt x="2152" y="6"/>
                  </a:lnTo>
                  <a:lnTo>
                    <a:pt x="2076" y="13"/>
                  </a:lnTo>
                  <a:lnTo>
                    <a:pt x="2003" y="22"/>
                  </a:lnTo>
                  <a:lnTo>
                    <a:pt x="1930" y="32"/>
                  </a:lnTo>
                  <a:lnTo>
                    <a:pt x="1860" y="45"/>
                  </a:lnTo>
                  <a:lnTo>
                    <a:pt x="1790" y="57"/>
                  </a:lnTo>
                  <a:lnTo>
                    <a:pt x="1723" y="72"/>
                  </a:lnTo>
                  <a:lnTo>
                    <a:pt x="1656" y="88"/>
                  </a:lnTo>
                  <a:lnTo>
                    <a:pt x="1593" y="104"/>
                  </a:lnTo>
                  <a:lnTo>
                    <a:pt x="1531" y="123"/>
                  </a:lnTo>
                  <a:lnTo>
                    <a:pt x="1469" y="140"/>
                  </a:lnTo>
                  <a:lnTo>
                    <a:pt x="1411" y="158"/>
                  </a:lnTo>
                  <a:lnTo>
                    <a:pt x="1355" y="177"/>
                  </a:lnTo>
                  <a:lnTo>
                    <a:pt x="1301" y="195"/>
                  </a:lnTo>
                  <a:lnTo>
                    <a:pt x="1248" y="213"/>
                  </a:lnTo>
                  <a:lnTo>
                    <a:pt x="1199" y="230"/>
                  </a:lnTo>
                  <a:lnTo>
                    <a:pt x="1151" y="249"/>
                  </a:lnTo>
                  <a:lnTo>
                    <a:pt x="1106" y="265"/>
                  </a:lnTo>
                  <a:lnTo>
                    <a:pt x="0" y="2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86480" y="6688080"/>
              <a:ext cx="958680" cy="33480"/>
            </a:xfrm>
            <a:custGeom>
              <a:avLst/>
              <a:gdLst/>
              <a:ahLst/>
              <a:rect l="l" t="t" r="r" b="b"/>
              <a:pathLst>
                <a:path w="3019" h="105">
                  <a:moveTo>
                    <a:pt x="0" y="25"/>
                  </a:moveTo>
                  <a:lnTo>
                    <a:pt x="1" y="25"/>
                  </a:lnTo>
                  <a:lnTo>
                    <a:pt x="88" y="18"/>
                  </a:lnTo>
                  <a:lnTo>
                    <a:pt x="176" y="12"/>
                  </a:lnTo>
                  <a:lnTo>
                    <a:pt x="262" y="9"/>
                  </a:lnTo>
                  <a:lnTo>
                    <a:pt x="349" y="6"/>
                  </a:lnTo>
                  <a:lnTo>
                    <a:pt x="437" y="5"/>
                  </a:lnTo>
                  <a:lnTo>
                    <a:pt x="525" y="5"/>
                  </a:lnTo>
                  <a:lnTo>
                    <a:pt x="613" y="5"/>
                  </a:lnTo>
                  <a:lnTo>
                    <a:pt x="701" y="6"/>
                  </a:lnTo>
                  <a:lnTo>
                    <a:pt x="790" y="7"/>
                  </a:lnTo>
                  <a:lnTo>
                    <a:pt x="878" y="10"/>
                  </a:lnTo>
                  <a:lnTo>
                    <a:pt x="967" y="13"/>
                  </a:lnTo>
                  <a:lnTo>
                    <a:pt x="1057" y="17"/>
                  </a:lnTo>
                  <a:lnTo>
                    <a:pt x="1148" y="22"/>
                  </a:lnTo>
                  <a:lnTo>
                    <a:pt x="1239" y="27"/>
                  </a:lnTo>
                  <a:lnTo>
                    <a:pt x="1330" y="32"/>
                  </a:lnTo>
                  <a:lnTo>
                    <a:pt x="1422" y="38"/>
                  </a:lnTo>
                  <a:lnTo>
                    <a:pt x="1514" y="44"/>
                  </a:lnTo>
                  <a:lnTo>
                    <a:pt x="1609" y="51"/>
                  </a:lnTo>
                  <a:lnTo>
                    <a:pt x="1702" y="56"/>
                  </a:lnTo>
                  <a:lnTo>
                    <a:pt x="1798" y="62"/>
                  </a:lnTo>
                  <a:lnTo>
                    <a:pt x="1894" y="69"/>
                  </a:lnTo>
                  <a:lnTo>
                    <a:pt x="1991" y="74"/>
                  </a:lnTo>
                  <a:lnTo>
                    <a:pt x="2089" y="79"/>
                  </a:lnTo>
                  <a:lnTo>
                    <a:pt x="2187" y="85"/>
                  </a:lnTo>
                  <a:lnTo>
                    <a:pt x="2288" y="89"/>
                  </a:lnTo>
                  <a:lnTo>
                    <a:pt x="2388" y="93"/>
                  </a:lnTo>
                  <a:lnTo>
                    <a:pt x="2490" y="98"/>
                  </a:lnTo>
                  <a:lnTo>
                    <a:pt x="2593" y="100"/>
                  </a:lnTo>
                  <a:lnTo>
                    <a:pt x="2698" y="103"/>
                  </a:lnTo>
                  <a:lnTo>
                    <a:pt x="2804" y="104"/>
                  </a:lnTo>
                  <a:lnTo>
                    <a:pt x="2910" y="105"/>
                  </a:lnTo>
                  <a:lnTo>
                    <a:pt x="3019" y="103"/>
                  </a:lnTo>
                  <a:lnTo>
                    <a:pt x="3019" y="101"/>
                  </a:lnTo>
                  <a:lnTo>
                    <a:pt x="2910" y="101"/>
                  </a:lnTo>
                  <a:lnTo>
                    <a:pt x="2804" y="100"/>
                  </a:lnTo>
                  <a:lnTo>
                    <a:pt x="2698" y="99"/>
                  </a:lnTo>
                  <a:lnTo>
                    <a:pt x="2593" y="98"/>
                  </a:lnTo>
                  <a:lnTo>
                    <a:pt x="2490" y="95"/>
                  </a:lnTo>
                  <a:lnTo>
                    <a:pt x="2388" y="91"/>
                  </a:lnTo>
                  <a:lnTo>
                    <a:pt x="2288" y="87"/>
                  </a:lnTo>
                  <a:lnTo>
                    <a:pt x="2187" y="83"/>
                  </a:lnTo>
                  <a:lnTo>
                    <a:pt x="2089" y="77"/>
                  </a:lnTo>
                  <a:lnTo>
                    <a:pt x="1991" y="72"/>
                  </a:lnTo>
                  <a:lnTo>
                    <a:pt x="1894" y="67"/>
                  </a:lnTo>
                  <a:lnTo>
                    <a:pt x="1798" y="60"/>
                  </a:lnTo>
                  <a:lnTo>
                    <a:pt x="1702" y="54"/>
                  </a:lnTo>
                  <a:lnTo>
                    <a:pt x="1609" y="48"/>
                  </a:lnTo>
                  <a:lnTo>
                    <a:pt x="1514" y="42"/>
                  </a:lnTo>
                  <a:lnTo>
                    <a:pt x="1422" y="36"/>
                  </a:lnTo>
                  <a:lnTo>
                    <a:pt x="1330" y="30"/>
                  </a:lnTo>
                  <a:lnTo>
                    <a:pt x="1239" y="25"/>
                  </a:lnTo>
                  <a:lnTo>
                    <a:pt x="1148" y="20"/>
                  </a:lnTo>
                  <a:lnTo>
                    <a:pt x="1057" y="15"/>
                  </a:lnTo>
                  <a:lnTo>
                    <a:pt x="967" y="11"/>
                  </a:lnTo>
                  <a:lnTo>
                    <a:pt x="878" y="8"/>
                  </a:lnTo>
                  <a:lnTo>
                    <a:pt x="790" y="5"/>
                  </a:lnTo>
                  <a:lnTo>
                    <a:pt x="701" y="1"/>
                  </a:lnTo>
                  <a:lnTo>
                    <a:pt x="613" y="0"/>
                  </a:lnTo>
                  <a:lnTo>
                    <a:pt x="525" y="0"/>
                  </a:lnTo>
                  <a:lnTo>
                    <a:pt x="437" y="0"/>
                  </a:lnTo>
                  <a:lnTo>
                    <a:pt x="349" y="4"/>
                  </a:lnTo>
                  <a:lnTo>
                    <a:pt x="262" y="7"/>
                  </a:lnTo>
                  <a:lnTo>
                    <a:pt x="176" y="10"/>
                  </a:lnTo>
                  <a:lnTo>
                    <a:pt x="88" y="16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64080" y="6653160"/>
              <a:ext cx="122400" cy="42840"/>
            </a:xfrm>
            <a:custGeom>
              <a:avLst/>
              <a:gdLst/>
              <a:ahLst/>
              <a:rect l="l" t="t" r="r" b="b"/>
              <a:pathLst>
                <a:path w="387" h="134">
                  <a:moveTo>
                    <a:pt x="0" y="1"/>
                  </a:moveTo>
                  <a:lnTo>
                    <a:pt x="2" y="3"/>
                  </a:lnTo>
                  <a:lnTo>
                    <a:pt x="385" y="134"/>
                  </a:lnTo>
                  <a:lnTo>
                    <a:pt x="387" y="132"/>
                  </a:lnTo>
                  <a:lnTo>
                    <a:pt x="4" y="0"/>
                  </a:lnTo>
                  <a:lnTo>
                    <a:pt x="5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64080" y="6070680"/>
              <a:ext cx="1440" cy="584280"/>
            </a:xfrm>
            <a:custGeom>
              <a:avLst/>
              <a:gdLst/>
              <a:ahLst/>
              <a:rect l="l" t="t" r="r" b="b"/>
              <a:pathLst>
                <a:path w="5" h="1838">
                  <a:moveTo>
                    <a:pt x="2" y="0"/>
                  </a:moveTo>
                  <a:lnTo>
                    <a:pt x="0" y="1"/>
                  </a:lnTo>
                  <a:lnTo>
                    <a:pt x="0" y="1838"/>
                  </a:lnTo>
                  <a:lnTo>
                    <a:pt x="5" y="1838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64080" y="5986440"/>
              <a:ext cx="730080" cy="84240"/>
            </a:xfrm>
            <a:custGeom>
              <a:avLst/>
              <a:gdLst/>
              <a:ahLst/>
              <a:rect l="l" t="t" r="r" b="b"/>
              <a:pathLst>
                <a:path w="2298" h="267">
                  <a:moveTo>
                    <a:pt x="2298" y="265"/>
                  </a:moveTo>
                  <a:lnTo>
                    <a:pt x="2298" y="265"/>
                  </a:lnTo>
                  <a:lnTo>
                    <a:pt x="2253" y="249"/>
                  </a:lnTo>
                  <a:lnTo>
                    <a:pt x="2205" y="230"/>
                  </a:lnTo>
                  <a:lnTo>
                    <a:pt x="2156" y="213"/>
                  </a:lnTo>
                  <a:lnTo>
                    <a:pt x="2103" y="195"/>
                  </a:lnTo>
                  <a:lnTo>
                    <a:pt x="2049" y="177"/>
                  </a:lnTo>
                  <a:lnTo>
                    <a:pt x="1993" y="158"/>
                  </a:lnTo>
                  <a:lnTo>
                    <a:pt x="1933" y="140"/>
                  </a:lnTo>
                  <a:lnTo>
                    <a:pt x="1872" y="123"/>
                  </a:lnTo>
                  <a:lnTo>
                    <a:pt x="1810" y="104"/>
                  </a:lnTo>
                  <a:lnTo>
                    <a:pt x="1746" y="88"/>
                  </a:lnTo>
                  <a:lnTo>
                    <a:pt x="1679" y="72"/>
                  </a:lnTo>
                  <a:lnTo>
                    <a:pt x="1612" y="57"/>
                  </a:lnTo>
                  <a:lnTo>
                    <a:pt x="1543" y="45"/>
                  </a:lnTo>
                  <a:lnTo>
                    <a:pt x="1472" y="32"/>
                  </a:lnTo>
                  <a:lnTo>
                    <a:pt x="1399" y="22"/>
                  </a:lnTo>
                  <a:lnTo>
                    <a:pt x="1326" y="13"/>
                  </a:lnTo>
                  <a:lnTo>
                    <a:pt x="1251" y="6"/>
                  </a:lnTo>
                  <a:lnTo>
                    <a:pt x="1174" y="2"/>
                  </a:lnTo>
                  <a:lnTo>
                    <a:pt x="1096" y="0"/>
                  </a:lnTo>
                  <a:lnTo>
                    <a:pt x="1017" y="0"/>
                  </a:lnTo>
                  <a:lnTo>
                    <a:pt x="937" y="3"/>
                  </a:lnTo>
                  <a:lnTo>
                    <a:pt x="856" y="8"/>
                  </a:lnTo>
                  <a:lnTo>
                    <a:pt x="774" y="18"/>
                  </a:lnTo>
                  <a:lnTo>
                    <a:pt x="690" y="30"/>
                  </a:lnTo>
                  <a:lnTo>
                    <a:pt x="607" y="46"/>
                  </a:lnTo>
                  <a:lnTo>
                    <a:pt x="523" y="65"/>
                  </a:lnTo>
                  <a:lnTo>
                    <a:pt x="437" y="87"/>
                  </a:lnTo>
                  <a:lnTo>
                    <a:pt x="349" y="114"/>
                  </a:lnTo>
                  <a:lnTo>
                    <a:pt x="263" y="145"/>
                  </a:lnTo>
                  <a:lnTo>
                    <a:pt x="176" y="180"/>
                  </a:lnTo>
                  <a:lnTo>
                    <a:pt x="88" y="220"/>
                  </a:lnTo>
                  <a:lnTo>
                    <a:pt x="0" y="265"/>
                  </a:lnTo>
                  <a:lnTo>
                    <a:pt x="2" y="267"/>
                  </a:lnTo>
                  <a:lnTo>
                    <a:pt x="91" y="222"/>
                  </a:lnTo>
                  <a:lnTo>
                    <a:pt x="178" y="182"/>
                  </a:lnTo>
                  <a:lnTo>
                    <a:pt x="265" y="147"/>
                  </a:lnTo>
                  <a:lnTo>
                    <a:pt x="352" y="116"/>
                  </a:lnTo>
                  <a:lnTo>
                    <a:pt x="437" y="90"/>
                  </a:lnTo>
                  <a:lnTo>
                    <a:pt x="523" y="67"/>
                  </a:lnTo>
                  <a:lnTo>
                    <a:pt x="607" y="48"/>
                  </a:lnTo>
                  <a:lnTo>
                    <a:pt x="690" y="32"/>
                  </a:lnTo>
                  <a:lnTo>
                    <a:pt x="774" y="20"/>
                  </a:lnTo>
                  <a:lnTo>
                    <a:pt x="856" y="11"/>
                  </a:lnTo>
                  <a:lnTo>
                    <a:pt x="937" y="5"/>
                  </a:lnTo>
                  <a:lnTo>
                    <a:pt x="1017" y="2"/>
                  </a:lnTo>
                  <a:lnTo>
                    <a:pt x="1096" y="2"/>
                  </a:lnTo>
                  <a:lnTo>
                    <a:pt x="1174" y="4"/>
                  </a:lnTo>
                  <a:lnTo>
                    <a:pt x="1251" y="8"/>
                  </a:lnTo>
                  <a:lnTo>
                    <a:pt x="1326" y="15"/>
                  </a:lnTo>
                  <a:lnTo>
                    <a:pt x="1399" y="24"/>
                  </a:lnTo>
                  <a:lnTo>
                    <a:pt x="1472" y="34"/>
                  </a:lnTo>
                  <a:lnTo>
                    <a:pt x="1543" y="47"/>
                  </a:lnTo>
                  <a:lnTo>
                    <a:pt x="1612" y="60"/>
                  </a:lnTo>
                  <a:lnTo>
                    <a:pt x="1679" y="75"/>
                  </a:lnTo>
                  <a:lnTo>
                    <a:pt x="1746" y="91"/>
                  </a:lnTo>
                  <a:lnTo>
                    <a:pt x="1810" y="107"/>
                  </a:lnTo>
                  <a:lnTo>
                    <a:pt x="1872" y="125"/>
                  </a:lnTo>
                  <a:lnTo>
                    <a:pt x="1933" y="142"/>
                  </a:lnTo>
                  <a:lnTo>
                    <a:pt x="1991" y="160"/>
                  </a:lnTo>
                  <a:lnTo>
                    <a:pt x="2047" y="179"/>
                  </a:lnTo>
                  <a:lnTo>
                    <a:pt x="2101" y="197"/>
                  </a:lnTo>
                  <a:lnTo>
                    <a:pt x="2153" y="216"/>
                  </a:lnTo>
                  <a:lnTo>
                    <a:pt x="2202" y="233"/>
                  </a:lnTo>
                  <a:lnTo>
                    <a:pt x="2250" y="251"/>
                  </a:lnTo>
                  <a:lnTo>
                    <a:pt x="2296" y="267"/>
                  </a:lnTo>
                  <a:lnTo>
                    <a:pt x="2296" y="267"/>
                  </a:lnTo>
                  <a:lnTo>
                    <a:pt x="2298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94160" y="6070680"/>
              <a:ext cx="351000" cy="650880"/>
            </a:xfrm>
            <a:custGeom>
              <a:avLst/>
              <a:gdLst/>
              <a:ahLst/>
              <a:rect l="l" t="t" r="r" b="b"/>
              <a:pathLst>
                <a:path w="1107" h="2049">
                  <a:moveTo>
                    <a:pt x="1106" y="2049"/>
                  </a:moveTo>
                  <a:lnTo>
                    <a:pt x="1107" y="2047"/>
                  </a:lnTo>
                  <a:lnTo>
                    <a:pt x="2" y="0"/>
                  </a:lnTo>
                  <a:lnTo>
                    <a:pt x="0" y="2"/>
                  </a:lnTo>
                  <a:lnTo>
                    <a:pt x="1105" y="2049"/>
                  </a:lnTo>
                  <a:lnTo>
                    <a:pt x="1106" y="2047"/>
                  </a:lnTo>
                  <a:lnTo>
                    <a:pt x="1106" y="2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645160" y="67197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484440" y="6688080"/>
              <a:ext cx="959040" cy="33480"/>
            </a:xfrm>
            <a:custGeom>
              <a:avLst/>
              <a:gdLst/>
              <a:ahLst/>
              <a:rect l="l" t="t" r="r" b="b"/>
              <a:pathLst>
                <a:path w="3020" h="103">
                  <a:moveTo>
                    <a:pt x="3017" y="22"/>
                  </a:moveTo>
                  <a:lnTo>
                    <a:pt x="3019" y="22"/>
                  </a:lnTo>
                  <a:lnTo>
                    <a:pt x="2931" y="15"/>
                  </a:lnTo>
                  <a:lnTo>
                    <a:pt x="2844" y="9"/>
                  </a:lnTo>
                  <a:lnTo>
                    <a:pt x="2758" y="6"/>
                  </a:lnTo>
                  <a:lnTo>
                    <a:pt x="2670" y="2"/>
                  </a:lnTo>
                  <a:lnTo>
                    <a:pt x="2583" y="0"/>
                  </a:lnTo>
                  <a:lnTo>
                    <a:pt x="2494" y="0"/>
                  </a:lnTo>
                  <a:lnTo>
                    <a:pt x="2407" y="0"/>
                  </a:lnTo>
                  <a:lnTo>
                    <a:pt x="2318" y="1"/>
                  </a:lnTo>
                  <a:lnTo>
                    <a:pt x="2230" y="4"/>
                  </a:lnTo>
                  <a:lnTo>
                    <a:pt x="2141" y="7"/>
                  </a:lnTo>
                  <a:lnTo>
                    <a:pt x="2053" y="10"/>
                  </a:lnTo>
                  <a:lnTo>
                    <a:pt x="1963" y="14"/>
                  </a:lnTo>
                  <a:lnTo>
                    <a:pt x="1872" y="18"/>
                  </a:lnTo>
                  <a:lnTo>
                    <a:pt x="1781" y="24"/>
                  </a:lnTo>
                  <a:lnTo>
                    <a:pt x="1690" y="29"/>
                  </a:lnTo>
                  <a:lnTo>
                    <a:pt x="1598" y="35"/>
                  </a:lnTo>
                  <a:lnTo>
                    <a:pt x="1505" y="41"/>
                  </a:lnTo>
                  <a:lnTo>
                    <a:pt x="1411" y="47"/>
                  </a:lnTo>
                  <a:lnTo>
                    <a:pt x="1317" y="53"/>
                  </a:lnTo>
                  <a:lnTo>
                    <a:pt x="1222" y="59"/>
                  </a:lnTo>
                  <a:lnTo>
                    <a:pt x="1126" y="65"/>
                  </a:lnTo>
                  <a:lnTo>
                    <a:pt x="1029" y="71"/>
                  </a:lnTo>
                  <a:lnTo>
                    <a:pt x="931" y="76"/>
                  </a:lnTo>
                  <a:lnTo>
                    <a:pt x="833" y="81"/>
                  </a:lnTo>
                  <a:lnTo>
                    <a:pt x="732" y="86"/>
                  </a:lnTo>
                  <a:lnTo>
                    <a:pt x="631" y="90"/>
                  </a:lnTo>
                  <a:lnTo>
                    <a:pt x="530" y="94"/>
                  </a:lnTo>
                  <a:lnTo>
                    <a:pt x="427" y="96"/>
                  </a:lnTo>
                  <a:lnTo>
                    <a:pt x="321" y="99"/>
                  </a:lnTo>
                  <a:lnTo>
                    <a:pt x="216" y="100"/>
                  </a:lnTo>
                  <a:lnTo>
                    <a:pt x="109" y="101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109" y="103"/>
                  </a:lnTo>
                  <a:lnTo>
                    <a:pt x="216" y="102"/>
                  </a:lnTo>
                  <a:lnTo>
                    <a:pt x="321" y="101"/>
                  </a:lnTo>
                  <a:lnTo>
                    <a:pt x="427" y="99"/>
                  </a:lnTo>
                  <a:lnTo>
                    <a:pt x="530" y="96"/>
                  </a:lnTo>
                  <a:lnTo>
                    <a:pt x="631" y="92"/>
                  </a:lnTo>
                  <a:lnTo>
                    <a:pt x="732" y="88"/>
                  </a:lnTo>
                  <a:lnTo>
                    <a:pt x="833" y="84"/>
                  </a:lnTo>
                  <a:lnTo>
                    <a:pt x="931" y="78"/>
                  </a:lnTo>
                  <a:lnTo>
                    <a:pt x="1029" y="73"/>
                  </a:lnTo>
                  <a:lnTo>
                    <a:pt x="1126" y="68"/>
                  </a:lnTo>
                  <a:lnTo>
                    <a:pt x="1222" y="61"/>
                  </a:lnTo>
                  <a:lnTo>
                    <a:pt x="1317" y="55"/>
                  </a:lnTo>
                  <a:lnTo>
                    <a:pt x="1411" y="49"/>
                  </a:lnTo>
                  <a:lnTo>
                    <a:pt x="1505" y="43"/>
                  </a:lnTo>
                  <a:lnTo>
                    <a:pt x="1598" y="37"/>
                  </a:lnTo>
                  <a:lnTo>
                    <a:pt x="1690" y="31"/>
                  </a:lnTo>
                  <a:lnTo>
                    <a:pt x="1781" y="26"/>
                  </a:lnTo>
                  <a:lnTo>
                    <a:pt x="1872" y="21"/>
                  </a:lnTo>
                  <a:lnTo>
                    <a:pt x="1963" y="16"/>
                  </a:lnTo>
                  <a:lnTo>
                    <a:pt x="2053" y="12"/>
                  </a:lnTo>
                  <a:lnTo>
                    <a:pt x="2141" y="9"/>
                  </a:lnTo>
                  <a:lnTo>
                    <a:pt x="2230" y="6"/>
                  </a:lnTo>
                  <a:lnTo>
                    <a:pt x="2318" y="4"/>
                  </a:lnTo>
                  <a:lnTo>
                    <a:pt x="2407" y="2"/>
                  </a:lnTo>
                  <a:lnTo>
                    <a:pt x="2494" y="2"/>
                  </a:lnTo>
                  <a:lnTo>
                    <a:pt x="2583" y="2"/>
                  </a:lnTo>
                  <a:lnTo>
                    <a:pt x="2670" y="5"/>
                  </a:lnTo>
                  <a:lnTo>
                    <a:pt x="2758" y="8"/>
                  </a:lnTo>
                  <a:lnTo>
                    <a:pt x="2844" y="11"/>
                  </a:lnTo>
                  <a:lnTo>
                    <a:pt x="2931" y="17"/>
                  </a:lnTo>
                  <a:lnTo>
                    <a:pt x="3019" y="24"/>
                  </a:lnTo>
                  <a:lnTo>
                    <a:pt x="3020" y="24"/>
                  </a:lnTo>
                  <a:lnTo>
                    <a:pt x="30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43480" y="6653160"/>
              <a:ext cx="122040" cy="42840"/>
            </a:xfrm>
            <a:custGeom>
              <a:avLst/>
              <a:gdLst/>
              <a:ahLst/>
              <a:rect l="l" t="t" r="r" b="b"/>
              <a:pathLst>
                <a:path w="387" h="134">
                  <a:moveTo>
                    <a:pt x="382" y="1"/>
                  </a:moveTo>
                  <a:lnTo>
                    <a:pt x="384" y="0"/>
                  </a:lnTo>
                  <a:lnTo>
                    <a:pt x="0" y="132"/>
                  </a:lnTo>
                  <a:lnTo>
                    <a:pt x="3" y="134"/>
                  </a:lnTo>
                  <a:lnTo>
                    <a:pt x="386" y="2"/>
                  </a:lnTo>
                  <a:lnTo>
                    <a:pt x="387" y="1"/>
                  </a:lnTo>
                  <a:lnTo>
                    <a:pt x="3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64080" y="6070680"/>
              <a:ext cx="1440" cy="582480"/>
            </a:xfrm>
            <a:custGeom>
              <a:avLst/>
              <a:gdLst/>
              <a:ahLst/>
              <a:rect l="l" t="t" r="r" b="b"/>
              <a:pathLst>
                <a:path w="5" h="1838">
                  <a:moveTo>
                    <a:pt x="2" y="2"/>
                  </a:moveTo>
                  <a:lnTo>
                    <a:pt x="0" y="1"/>
                  </a:lnTo>
                  <a:lnTo>
                    <a:pt x="0" y="1838"/>
                  </a:lnTo>
                  <a:lnTo>
                    <a:pt x="5" y="1838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35440" y="5986440"/>
              <a:ext cx="730080" cy="84240"/>
            </a:xfrm>
            <a:custGeom>
              <a:avLst/>
              <a:gdLst/>
              <a:ahLst/>
              <a:rect l="l" t="t" r="r" b="b"/>
              <a:pathLst>
                <a:path w="2299" h="268">
                  <a:moveTo>
                    <a:pt x="3" y="268"/>
                  </a:moveTo>
                  <a:lnTo>
                    <a:pt x="3" y="268"/>
                  </a:lnTo>
                  <a:lnTo>
                    <a:pt x="48" y="252"/>
                  </a:lnTo>
                  <a:lnTo>
                    <a:pt x="96" y="234"/>
                  </a:lnTo>
                  <a:lnTo>
                    <a:pt x="145" y="216"/>
                  </a:lnTo>
                  <a:lnTo>
                    <a:pt x="198" y="198"/>
                  </a:lnTo>
                  <a:lnTo>
                    <a:pt x="252" y="180"/>
                  </a:lnTo>
                  <a:lnTo>
                    <a:pt x="308" y="161"/>
                  </a:lnTo>
                  <a:lnTo>
                    <a:pt x="365" y="143"/>
                  </a:lnTo>
                  <a:lnTo>
                    <a:pt x="427" y="126"/>
                  </a:lnTo>
                  <a:lnTo>
                    <a:pt x="489" y="108"/>
                  </a:lnTo>
                  <a:lnTo>
                    <a:pt x="552" y="92"/>
                  </a:lnTo>
                  <a:lnTo>
                    <a:pt x="619" y="76"/>
                  </a:lnTo>
                  <a:lnTo>
                    <a:pt x="686" y="61"/>
                  </a:lnTo>
                  <a:lnTo>
                    <a:pt x="756" y="48"/>
                  </a:lnTo>
                  <a:lnTo>
                    <a:pt x="826" y="35"/>
                  </a:lnTo>
                  <a:lnTo>
                    <a:pt x="899" y="25"/>
                  </a:lnTo>
                  <a:lnTo>
                    <a:pt x="972" y="16"/>
                  </a:lnTo>
                  <a:lnTo>
                    <a:pt x="1048" y="9"/>
                  </a:lnTo>
                  <a:lnTo>
                    <a:pt x="1125" y="5"/>
                  </a:lnTo>
                  <a:lnTo>
                    <a:pt x="1202" y="4"/>
                  </a:lnTo>
                  <a:lnTo>
                    <a:pt x="1281" y="3"/>
                  </a:lnTo>
                  <a:lnTo>
                    <a:pt x="1362" y="6"/>
                  </a:lnTo>
                  <a:lnTo>
                    <a:pt x="1443" y="11"/>
                  </a:lnTo>
                  <a:lnTo>
                    <a:pt x="1524" y="21"/>
                  </a:lnTo>
                  <a:lnTo>
                    <a:pt x="1608" y="33"/>
                  </a:lnTo>
                  <a:lnTo>
                    <a:pt x="1692" y="49"/>
                  </a:lnTo>
                  <a:lnTo>
                    <a:pt x="1776" y="68"/>
                  </a:lnTo>
                  <a:lnTo>
                    <a:pt x="1862" y="90"/>
                  </a:lnTo>
                  <a:lnTo>
                    <a:pt x="1947" y="117"/>
                  </a:lnTo>
                  <a:lnTo>
                    <a:pt x="2033" y="148"/>
                  </a:lnTo>
                  <a:lnTo>
                    <a:pt x="2121" y="183"/>
                  </a:lnTo>
                  <a:lnTo>
                    <a:pt x="2208" y="223"/>
                  </a:lnTo>
                  <a:lnTo>
                    <a:pt x="2297" y="268"/>
                  </a:lnTo>
                  <a:lnTo>
                    <a:pt x="2299" y="266"/>
                  </a:lnTo>
                  <a:lnTo>
                    <a:pt x="2210" y="221"/>
                  </a:lnTo>
                  <a:lnTo>
                    <a:pt x="2123" y="181"/>
                  </a:lnTo>
                  <a:lnTo>
                    <a:pt x="2036" y="146"/>
                  </a:lnTo>
                  <a:lnTo>
                    <a:pt x="1949" y="115"/>
                  </a:lnTo>
                  <a:lnTo>
                    <a:pt x="1862" y="88"/>
                  </a:lnTo>
                  <a:lnTo>
                    <a:pt x="1776" y="66"/>
                  </a:lnTo>
                  <a:lnTo>
                    <a:pt x="1692" y="47"/>
                  </a:lnTo>
                  <a:lnTo>
                    <a:pt x="1608" y="31"/>
                  </a:lnTo>
                  <a:lnTo>
                    <a:pt x="1524" y="19"/>
                  </a:lnTo>
                  <a:lnTo>
                    <a:pt x="1443" y="9"/>
                  </a:lnTo>
                  <a:lnTo>
                    <a:pt x="1362" y="4"/>
                  </a:lnTo>
                  <a:lnTo>
                    <a:pt x="1281" y="1"/>
                  </a:lnTo>
                  <a:lnTo>
                    <a:pt x="1202" y="0"/>
                  </a:lnTo>
                  <a:lnTo>
                    <a:pt x="1125" y="3"/>
                  </a:lnTo>
                  <a:lnTo>
                    <a:pt x="1048" y="7"/>
                  </a:lnTo>
                  <a:lnTo>
                    <a:pt x="972" y="14"/>
                  </a:lnTo>
                  <a:lnTo>
                    <a:pt x="899" y="23"/>
                  </a:lnTo>
                  <a:lnTo>
                    <a:pt x="826" y="33"/>
                  </a:lnTo>
                  <a:lnTo>
                    <a:pt x="756" y="46"/>
                  </a:lnTo>
                  <a:lnTo>
                    <a:pt x="686" y="58"/>
                  </a:lnTo>
                  <a:lnTo>
                    <a:pt x="619" y="73"/>
                  </a:lnTo>
                  <a:lnTo>
                    <a:pt x="552" y="89"/>
                  </a:lnTo>
                  <a:lnTo>
                    <a:pt x="489" y="105"/>
                  </a:lnTo>
                  <a:lnTo>
                    <a:pt x="427" y="124"/>
                  </a:lnTo>
                  <a:lnTo>
                    <a:pt x="365" y="141"/>
                  </a:lnTo>
                  <a:lnTo>
                    <a:pt x="306" y="159"/>
                  </a:lnTo>
                  <a:lnTo>
                    <a:pt x="249" y="178"/>
                  </a:lnTo>
                  <a:lnTo>
                    <a:pt x="195" y="196"/>
                  </a:lnTo>
                  <a:lnTo>
                    <a:pt x="143" y="214"/>
                  </a:lnTo>
                  <a:lnTo>
                    <a:pt x="94" y="231"/>
                  </a:lnTo>
                  <a:lnTo>
                    <a:pt x="46" y="250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3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84440" y="6070680"/>
              <a:ext cx="352440" cy="650880"/>
            </a:xfrm>
            <a:custGeom>
              <a:avLst/>
              <a:gdLst/>
              <a:ahLst/>
              <a:rect l="l" t="t" r="r" b="b"/>
              <a:pathLst>
                <a:path w="1108" h="2049">
                  <a:moveTo>
                    <a:pt x="1" y="2047"/>
                  </a:moveTo>
                  <a:lnTo>
                    <a:pt x="3" y="2049"/>
                  </a:lnTo>
                  <a:lnTo>
                    <a:pt x="1108" y="2"/>
                  </a:lnTo>
                  <a:lnTo>
                    <a:pt x="1105" y="0"/>
                  </a:lnTo>
                  <a:lnTo>
                    <a:pt x="0" y="2047"/>
                  </a:lnTo>
                  <a:lnTo>
                    <a:pt x="1" y="2049"/>
                  </a:lnTo>
                  <a:lnTo>
                    <a:pt x="1" y="2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37080" y="5915160"/>
              <a:ext cx="1855800" cy="739800"/>
            </a:xfrm>
            <a:custGeom>
              <a:avLst/>
              <a:gdLst/>
              <a:ahLst/>
              <a:rect l="l" t="t" r="r" b="b"/>
              <a:pathLst>
                <a:path w="5842" h="2330">
                  <a:moveTo>
                    <a:pt x="2918" y="2330"/>
                  </a:moveTo>
                  <a:lnTo>
                    <a:pt x="2995" y="2294"/>
                  </a:lnTo>
                  <a:lnTo>
                    <a:pt x="3074" y="2260"/>
                  </a:lnTo>
                  <a:lnTo>
                    <a:pt x="3153" y="2227"/>
                  </a:lnTo>
                  <a:lnTo>
                    <a:pt x="3234" y="2196"/>
                  </a:lnTo>
                  <a:lnTo>
                    <a:pt x="3316" y="2166"/>
                  </a:lnTo>
                  <a:lnTo>
                    <a:pt x="3398" y="2137"/>
                  </a:lnTo>
                  <a:lnTo>
                    <a:pt x="3482" y="2111"/>
                  </a:lnTo>
                  <a:lnTo>
                    <a:pt x="3567" y="2085"/>
                  </a:lnTo>
                  <a:lnTo>
                    <a:pt x="3653" y="2060"/>
                  </a:lnTo>
                  <a:lnTo>
                    <a:pt x="3740" y="2038"/>
                  </a:lnTo>
                  <a:lnTo>
                    <a:pt x="3828" y="2017"/>
                  </a:lnTo>
                  <a:lnTo>
                    <a:pt x="3917" y="1996"/>
                  </a:lnTo>
                  <a:lnTo>
                    <a:pt x="4007" y="1978"/>
                  </a:lnTo>
                  <a:lnTo>
                    <a:pt x="4096" y="1960"/>
                  </a:lnTo>
                  <a:lnTo>
                    <a:pt x="4187" y="1945"/>
                  </a:lnTo>
                  <a:lnTo>
                    <a:pt x="4280" y="1930"/>
                  </a:lnTo>
                  <a:lnTo>
                    <a:pt x="4373" y="1918"/>
                  </a:lnTo>
                  <a:lnTo>
                    <a:pt x="4466" y="1907"/>
                  </a:lnTo>
                  <a:lnTo>
                    <a:pt x="4561" y="1897"/>
                  </a:lnTo>
                  <a:lnTo>
                    <a:pt x="4656" y="1889"/>
                  </a:lnTo>
                  <a:lnTo>
                    <a:pt x="4751" y="1882"/>
                  </a:lnTo>
                  <a:lnTo>
                    <a:pt x="4848" y="1877"/>
                  </a:lnTo>
                  <a:lnTo>
                    <a:pt x="4945" y="1874"/>
                  </a:lnTo>
                  <a:lnTo>
                    <a:pt x="5043" y="1871"/>
                  </a:lnTo>
                  <a:lnTo>
                    <a:pt x="5142" y="1870"/>
                  </a:lnTo>
                  <a:lnTo>
                    <a:pt x="5240" y="1871"/>
                  </a:lnTo>
                  <a:lnTo>
                    <a:pt x="5339" y="1874"/>
                  </a:lnTo>
                  <a:lnTo>
                    <a:pt x="5439" y="1878"/>
                  </a:lnTo>
                  <a:lnTo>
                    <a:pt x="5539" y="1883"/>
                  </a:lnTo>
                  <a:lnTo>
                    <a:pt x="5640" y="1891"/>
                  </a:lnTo>
                  <a:lnTo>
                    <a:pt x="5740" y="1899"/>
                  </a:lnTo>
                  <a:lnTo>
                    <a:pt x="5842" y="1910"/>
                  </a:lnTo>
                  <a:lnTo>
                    <a:pt x="5025" y="13"/>
                  </a:lnTo>
                  <a:lnTo>
                    <a:pt x="4951" y="9"/>
                  </a:lnTo>
                  <a:lnTo>
                    <a:pt x="4876" y="5"/>
                  </a:lnTo>
                  <a:lnTo>
                    <a:pt x="4800" y="3"/>
                  </a:lnTo>
                  <a:lnTo>
                    <a:pt x="4724" y="2"/>
                  </a:lnTo>
                  <a:lnTo>
                    <a:pt x="4647" y="1"/>
                  </a:lnTo>
                  <a:lnTo>
                    <a:pt x="4569" y="1"/>
                  </a:lnTo>
                  <a:lnTo>
                    <a:pt x="4492" y="3"/>
                  </a:lnTo>
                  <a:lnTo>
                    <a:pt x="4415" y="5"/>
                  </a:lnTo>
                  <a:lnTo>
                    <a:pt x="4337" y="9"/>
                  </a:lnTo>
                  <a:lnTo>
                    <a:pt x="4260" y="14"/>
                  </a:lnTo>
                  <a:lnTo>
                    <a:pt x="4184" y="20"/>
                  </a:lnTo>
                  <a:lnTo>
                    <a:pt x="4107" y="27"/>
                  </a:lnTo>
                  <a:lnTo>
                    <a:pt x="4032" y="37"/>
                  </a:lnTo>
                  <a:lnTo>
                    <a:pt x="3958" y="46"/>
                  </a:lnTo>
                  <a:lnTo>
                    <a:pt x="3883" y="58"/>
                  </a:lnTo>
                  <a:lnTo>
                    <a:pt x="3810" y="71"/>
                  </a:lnTo>
                  <a:lnTo>
                    <a:pt x="3740" y="85"/>
                  </a:lnTo>
                  <a:lnTo>
                    <a:pt x="3669" y="101"/>
                  </a:lnTo>
                  <a:lnTo>
                    <a:pt x="3601" y="118"/>
                  </a:lnTo>
                  <a:lnTo>
                    <a:pt x="3535" y="137"/>
                  </a:lnTo>
                  <a:lnTo>
                    <a:pt x="3469" y="158"/>
                  </a:lnTo>
                  <a:lnTo>
                    <a:pt x="3407" y="180"/>
                  </a:lnTo>
                  <a:lnTo>
                    <a:pt x="3346" y="203"/>
                  </a:lnTo>
                  <a:lnTo>
                    <a:pt x="3287" y="229"/>
                  </a:lnTo>
                  <a:lnTo>
                    <a:pt x="3231" y="256"/>
                  </a:lnTo>
                  <a:lnTo>
                    <a:pt x="3178" y="285"/>
                  </a:lnTo>
                  <a:lnTo>
                    <a:pt x="3127" y="315"/>
                  </a:lnTo>
                  <a:lnTo>
                    <a:pt x="3079" y="348"/>
                  </a:lnTo>
                  <a:lnTo>
                    <a:pt x="3035" y="382"/>
                  </a:lnTo>
                  <a:lnTo>
                    <a:pt x="2993" y="418"/>
                  </a:lnTo>
                  <a:lnTo>
                    <a:pt x="2953" y="455"/>
                  </a:lnTo>
                  <a:lnTo>
                    <a:pt x="2918" y="496"/>
                  </a:lnTo>
                  <a:lnTo>
                    <a:pt x="2918" y="2330"/>
                  </a:lnTo>
                  <a:lnTo>
                    <a:pt x="2918" y="2330"/>
                  </a:lnTo>
                  <a:close/>
                  <a:moveTo>
                    <a:pt x="2923" y="2328"/>
                  </a:moveTo>
                  <a:lnTo>
                    <a:pt x="2847" y="2293"/>
                  </a:lnTo>
                  <a:lnTo>
                    <a:pt x="2768" y="2259"/>
                  </a:lnTo>
                  <a:lnTo>
                    <a:pt x="2689" y="2226"/>
                  </a:lnTo>
                  <a:lnTo>
                    <a:pt x="2607" y="2195"/>
                  </a:lnTo>
                  <a:lnTo>
                    <a:pt x="2526" y="2165"/>
                  </a:lnTo>
                  <a:lnTo>
                    <a:pt x="2443" y="2136"/>
                  </a:lnTo>
                  <a:lnTo>
                    <a:pt x="2359" y="2110"/>
                  </a:lnTo>
                  <a:lnTo>
                    <a:pt x="2274" y="2084"/>
                  </a:lnTo>
                  <a:lnTo>
                    <a:pt x="2188" y="2059"/>
                  </a:lnTo>
                  <a:lnTo>
                    <a:pt x="2102" y="2037"/>
                  </a:lnTo>
                  <a:lnTo>
                    <a:pt x="2013" y="2016"/>
                  </a:lnTo>
                  <a:lnTo>
                    <a:pt x="1925" y="1995"/>
                  </a:lnTo>
                  <a:lnTo>
                    <a:pt x="1835" y="1977"/>
                  </a:lnTo>
                  <a:lnTo>
                    <a:pt x="1745" y="1959"/>
                  </a:lnTo>
                  <a:lnTo>
                    <a:pt x="1654" y="1944"/>
                  </a:lnTo>
                  <a:lnTo>
                    <a:pt x="1562" y="1929"/>
                  </a:lnTo>
                  <a:lnTo>
                    <a:pt x="1469" y="1917"/>
                  </a:lnTo>
                  <a:lnTo>
                    <a:pt x="1375" y="1906"/>
                  </a:lnTo>
                  <a:lnTo>
                    <a:pt x="1281" y="1896"/>
                  </a:lnTo>
                  <a:lnTo>
                    <a:pt x="1186" y="1887"/>
                  </a:lnTo>
                  <a:lnTo>
                    <a:pt x="1090" y="1881"/>
                  </a:lnTo>
                  <a:lnTo>
                    <a:pt x="993" y="1876"/>
                  </a:lnTo>
                  <a:lnTo>
                    <a:pt x="896" y="1873"/>
                  </a:lnTo>
                  <a:lnTo>
                    <a:pt x="798" y="1870"/>
                  </a:lnTo>
                  <a:lnTo>
                    <a:pt x="700" y="1869"/>
                  </a:lnTo>
                  <a:lnTo>
                    <a:pt x="602" y="1870"/>
                  </a:lnTo>
                  <a:lnTo>
                    <a:pt x="502" y="1873"/>
                  </a:lnTo>
                  <a:lnTo>
                    <a:pt x="403" y="1877"/>
                  </a:lnTo>
                  <a:lnTo>
                    <a:pt x="302" y="1882"/>
                  </a:lnTo>
                  <a:lnTo>
                    <a:pt x="202" y="1890"/>
                  </a:lnTo>
                  <a:lnTo>
                    <a:pt x="101" y="1898"/>
                  </a:lnTo>
                  <a:lnTo>
                    <a:pt x="0" y="1909"/>
                  </a:lnTo>
                  <a:lnTo>
                    <a:pt x="816" y="12"/>
                  </a:lnTo>
                  <a:lnTo>
                    <a:pt x="890" y="8"/>
                  </a:lnTo>
                  <a:lnTo>
                    <a:pt x="966" y="4"/>
                  </a:lnTo>
                  <a:lnTo>
                    <a:pt x="1041" y="2"/>
                  </a:lnTo>
                  <a:lnTo>
                    <a:pt x="1118" y="1"/>
                  </a:lnTo>
                  <a:lnTo>
                    <a:pt x="1194" y="0"/>
                  </a:lnTo>
                  <a:lnTo>
                    <a:pt x="1272" y="0"/>
                  </a:lnTo>
                  <a:lnTo>
                    <a:pt x="1350" y="2"/>
                  </a:lnTo>
                  <a:lnTo>
                    <a:pt x="1427" y="4"/>
                  </a:lnTo>
                  <a:lnTo>
                    <a:pt x="1504" y="8"/>
                  </a:lnTo>
                  <a:lnTo>
                    <a:pt x="1581" y="13"/>
                  </a:lnTo>
                  <a:lnTo>
                    <a:pt x="1658" y="19"/>
                  </a:lnTo>
                  <a:lnTo>
                    <a:pt x="1734" y="26"/>
                  </a:lnTo>
                  <a:lnTo>
                    <a:pt x="1810" y="36"/>
                  </a:lnTo>
                  <a:lnTo>
                    <a:pt x="1884" y="45"/>
                  </a:lnTo>
                  <a:lnTo>
                    <a:pt x="1958" y="57"/>
                  </a:lnTo>
                  <a:lnTo>
                    <a:pt x="2031" y="70"/>
                  </a:lnTo>
                  <a:lnTo>
                    <a:pt x="2102" y="84"/>
                  </a:lnTo>
                  <a:lnTo>
                    <a:pt x="2173" y="100"/>
                  </a:lnTo>
                  <a:lnTo>
                    <a:pt x="2241" y="117"/>
                  </a:lnTo>
                  <a:lnTo>
                    <a:pt x="2307" y="136"/>
                  </a:lnTo>
                  <a:lnTo>
                    <a:pt x="2372" y="156"/>
                  </a:lnTo>
                  <a:lnTo>
                    <a:pt x="2435" y="179"/>
                  </a:lnTo>
                  <a:lnTo>
                    <a:pt x="2496" y="202"/>
                  </a:lnTo>
                  <a:lnTo>
                    <a:pt x="2554" y="228"/>
                  </a:lnTo>
                  <a:lnTo>
                    <a:pt x="2611" y="255"/>
                  </a:lnTo>
                  <a:lnTo>
                    <a:pt x="2663" y="284"/>
                  </a:lnTo>
                  <a:lnTo>
                    <a:pt x="2715" y="313"/>
                  </a:lnTo>
                  <a:lnTo>
                    <a:pt x="2763" y="347"/>
                  </a:lnTo>
                  <a:lnTo>
                    <a:pt x="2807" y="381"/>
                  </a:lnTo>
                  <a:lnTo>
                    <a:pt x="2849" y="417"/>
                  </a:lnTo>
                  <a:lnTo>
                    <a:pt x="2888" y="454"/>
                  </a:lnTo>
                  <a:lnTo>
                    <a:pt x="2923" y="495"/>
                  </a:lnTo>
                  <a:lnTo>
                    <a:pt x="2923" y="2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64080" y="6507000"/>
              <a:ext cx="930240" cy="149400"/>
            </a:xfrm>
            <a:custGeom>
              <a:avLst/>
              <a:gdLst/>
              <a:ahLst/>
              <a:rect l="l" t="t" r="r" b="b"/>
              <a:pathLst>
                <a:path w="2932" h="469">
                  <a:moveTo>
                    <a:pt x="2920" y="47"/>
                  </a:moveTo>
                  <a:lnTo>
                    <a:pt x="2927" y="40"/>
                  </a:lnTo>
                  <a:lnTo>
                    <a:pt x="2825" y="29"/>
                  </a:lnTo>
                  <a:lnTo>
                    <a:pt x="2724" y="20"/>
                  </a:lnTo>
                  <a:lnTo>
                    <a:pt x="2623" y="13"/>
                  </a:lnTo>
                  <a:lnTo>
                    <a:pt x="2523" y="8"/>
                  </a:lnTo>
                  <a:lnTo>
                    <a:pt x="2423" y="3"/>
                  </a:lnTo>
                  <a:lnTo>
                    <a:pt x="2324" y="1"/>
                  </a:lnTo>
                  <a:lnTo>
                    <a:pt x="2226" y="0"/>
                  </a:lnTo>
                  <a:lnTo>
                    <a:pt x="2127" y="1"/>
                  </a:lnTo>
                  <a:lnTo>
                    <a:pt x="2029" y="3"/>
                  </a:lnTo>
                  <a:lnTo>
                    <a:pt x="1932" y="6"/>
                  </a:lnTo>
                  <a:lnTo>
                    <a:pt x="1835" y="12"/>
                  </a:lnTo>
                  <a:lnTo>
                    <a:pt x="1740" y="18"/>
                  </a:lnTo>
                  <a:lnTo>
                    <a:pt x="1644" y="27"/>
                  </a:lnTo>
                  <a:lnTo>
                    <a:pt x="1549" y="36"/>
                  </a:lnTo>
                  <a:lnTo>
                    <a:pt x="1456" y="48"/>
                  </a:lnTo>
                  <a:lnTo>
                    <a:pt x="1362" y="60"/>
                  </a:lnTo>
                  <a:lnTo>
                    <a:pt x="1270" y="75"/>
                  </a:lnTo>
                  <a:lnTo>
                    <a:pt x="1179" y="90"/>
                  </a:lnTo>
                  <a:lnTo>
                    <a:pt x="1089" y="108"/>
                  </a:lnTo>
                  <a:lnTo>
                    <a:pt x="1000" y="126"/>
                  </a:lnTo>
                  <a:lnTo>
                    <a:pt x="911" y="146"/>
                  </a:lnTo>
                  <a:lnTo>
                    <a:pt x="822" y="168"/>
                  </a:lnTo>
                  <a:lnTo>
                    <a:pt x="736" y="190"/>
                  </a:lnTo>
                  <a:lnTo>
                    <a:pt x="649" y="215"/>
                  </a:lnTo>
                  <a:lnTo>
                    <a:pt x="564" y="240"/>
                  </a:lnTo>
                  <a:lnTo>
                    <a:pt x="480" y="267"/>
                  </a:lnTo>
                  <a:lnTo>
                    <a:pt x="397" y="296"/>
                  </a:lnTo>
                  <a:lnTo>
                    <a:pt x="316" y="326"/>
                  </a:lnTo>
                  <a:lnTo>
                    <a:pt x="235" y="357"/>
                  </a:lnTo>
                  <a:lnTo>
                    <a:pt x="156" y="390"/>
                  </a:lnTo>
                  <a:lnTo>
                    <a:pt x="77" y="425"/>
                  </a:lnTo>
                  <a:lnTo>
                    <a:pt x="0" y="460"/>
                  </a:lnTo>
                  <a:lnTo>
                    <a:pt x="5" y="469"/>
                  </a:lnTo>
                  <a:lnTo>
                    <a:pt x="81" y="434"/>
                  </a:lnTo>
                  <a:lnTo>
                    <a:pt x="160" y="400"/>
                  </a:lnTo>
                  <a:lnTo>
                    <a:pt x="239" y="367"/>
                  </a:lnTo>
                  <a:lnTo>
                    <a:pt x="321" y="336"/>
                  </a:lnTo>
                  <a:lnTo>
                    <a:pt x="402" y="307"/>
                  </a:lnTo>
                  <a:lnTo>
                    <a:pt x="485" y="278"/>
                  </a:lnTo>
                  <a:lnTo>
                    <a:pt x="569" y="251"/>
                  </a:lnTo>
                  <a:lnTo>
                    <a:pt x="654" y="225"/>
                  </a:lnTo>
                  <a:lnTo>
                    <a:pt x="739" y="201"/>
                  </a:lnTo>
                  <a:lnTo>
                    <a:pt x="825" y="178"/>
                  </a:lnTo>
                  <a:lnTo>
                    <a:pt x="913" y="157"/>
                  </a:lnTo>
                  <a:lnTo>
                    <a:pt x="1002" y="137"/>
                  </a:lnTo>
                  <a:lnTo>
                    <a:pt x="1092" y="119"/>
                  </a:lnTo>
                  <a:lnTo>
                    <a:pt x="1182" y="100"/>
                  </a:lnTo>
                  <a:lnTo>
                    <a:pt x="1273" y="85"/>
                  </a:lnTo>
                  <a:lnTo>
                    <a:pt x="1365" y="71"/>
                  </a:lnTo>
                  <a:lnTo>
                    <a:pt x="1458" y="59"/>
                  </a:lnTo>
                  <a:lnTo>
                    <a:pt x="1552" y="47"/>
                  </a:lnTo>
                  <a:lnTo>
                    <a:pt x="1646" y="37"/>
                  </a:lnTo>
                  <a:lnTo>
                    <a:pt x="1740" y="29"/>
                  </a:lnTo>
                  <a:lnTo>
                    <a:pt x="1835" y="22"/>
                  </a:lnTo>
                  <a:lnTo>
                    <a:pt x="1932" y="17"/>
                  </a:lnTo>
                  <a:lnTo>
                    <a:pt x="2029" y="14"/>
                  </a:lnTo>
                  <a:lnTo>
                    <a:pt x="2127" y="12"/>
                  </a:lnTo>
                  <a:lnTo>
                    <a:pt x="2226" y="11"/>
                  </a:lnTo>
                  <a:lnTo>
                    <a:pt x="2324" y="12"/>
                  </a:lnTo>
                  <a:lnTo>
                    <a:pt x="2423" y="14"/>
                  </a:lnTo>
                  <a:lnTo>
                    <a:pt x="2523" y="18"/>
                  </a:lnTo>
                  <a:lnTo>
                    <a:pt x="2623" y="24"/>
                  </a:lnTo>
                  <a:lnTo>
                    <a:pt x="2724" y="31"/>
                  </a:lnTo>
                  <a:lnTo>
                    <a:pt x="2823" y="40"/>
                  </a:lnTo>
                  <a:lnTo>
                    <a:pt x="2925" y="50"/>
                  </a:lnTo>
                  <a:lnTo>
                    <a:pt x="2932" y="43"/>
                  </a:lnTo>
                  <a:lnTo>
                    <a:pt x="2925" y="50"/>
                  </a:lnTo>
                  <a:lnTo>
                    <a:pt x="2930" y="49"/>
                  </a:lnTo>
                  <a:lnTo>
                    <a:pt x="2932" y="46"/>
                  </a:lnTo>
                  <a:lnTo>
                    <a:pt x="2931" y="42"/>
                  </a:lnTo>
                  <a:lnTo>
                    <a:pt x="2927" y="40"/>
                  </a:lnTo>
                  <a:lnTo>
                    <a:pt x="29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30800" y="5918040"/>
              <a:ext cx="263520" cy="603360"/>
            </a:xfrm>
            <a:custGeom>
              <a:avLst/>
              <a:gdLst/>
              <a:ahLst/>
              <a:rect l="l" t="t" r="r" b="b"/>
              <a:pathLst>
                <a:path w="828" h="1904">
                  <a:moveTo>
                    <a:pt x="5" y="11"/>
                  </a:moveTo>
                  <a:lnTo>
                    <a:pt x="0" y="8"/>
                  </a:lnTo>
                  <a:lnTo>
                    <a:pt x="816" y="1904"/>
                  </a:lnTo>
                  <a:lnTo>
                    <a:pt x="828" y="1900"/>
                  </a:lnTo>
                  <a:lnTo>
                    <a:pt x="11" y="3"/>
                  </a:lnTo>
                  <a:lnTo>
                    <a:pt x="5" y="0"/>
                  </a:lnTo>
                  <a:lnTo>
                    <a:pt x="11" y="3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562640" y="5913360"/>
              <a:ext cx="669600" cy="160560"/>
            </a:xfrm>
            <a:custGeom>
              <a:avLst/>
              <a:gdLst/>
              <a:ahLst/>
              <a:rect l="l" t="t" r="r" b="b"/>
              <a:pathLst>
                <a:path w="2113" h="506">
                  <a:moveTo>
                    <a:pt x="12" y="501"/>
                  </a:moveTo>
                  <a:lnTo>
                    <a:pt x="11" y="504"/>
                  </a:lnTo>
                  <a:lnTo>
                    <a:pt x="46" y="464"/>
                  </a:lnTo>
                  <a:lnTo>
                    <a:pt x="85" y="426"/>
                  </a:lnTo>
                  <a:lnTo>
                    <a:pt x="126" y="391"/>
                  </a:lnTo>
                  <a:lnTo>
                    <a:pt x="170" y="357"/>
                  </a:lnTo>
                  <a:lnTo>
                    <a:pt x="218" y="324"/>
                  </a:lnTo>
                  <a:lnTo>
                    <a:pt x="270" y="294"/>
                  </a:lnTo>
                  <a:lnTo>
                    <a:pt x="321" y="265"/>
                  </a:lnTo>
                  <a:lnTo>
                    <a:pt x="378" y="238"/>
                  </a:lnTo>
                  <a:lnTo>
                    <a:pt x="436" y="214"/>
                  </a:lnTo>
                  <a:lnTo>
                    <a:pt x="497" y="190"/>
                  </a:lnTo>
                  <a:lnTo>
                    <a:pt x="559" y="168"/>
                  </a:lnTo>
                  <a:lnTo>
                    <a:pt x="625" y="148"/>
                  </a:lnTo>
                  <a:lnTo>
                    <a:pt x="690" y="128"/>
                  </a:lnTo>
                  <a:lnTo>
                    <a:pt x="758" y="111"/>
                  </a:lnTo>
                  <a:lnTo>
                    <a:pt x="829" y="95"/>
                  </a:lnTo>
                  <a:lnTo>
                    <a:pt x="900" y="81"/>
                  </a:lnTo>
                  <a:lnTo>
                    <a:pt x="973" y="69"/>
                  </a:lnTo>
                  <a:lnTo>
                    <a:pt x="1047" y="57"/>
                  </a:lnTo>
                  <a:lnTo>
                    <a:pt x="1121" y="47"/>
                  </a:lnTo>
                  <a:lnTo>
                    <a:pt x="1196" y="38"/>
                  </a:lnTo>
                  <a:lnTo>
                    <a:pt x="1272" y="30"/>
                  </a:lnTo>
                  <a:lnTo>
                    <a:pt x="1348" y="25"/>
                  </a:lnTo>
                  <a:lnTo>
                    <a:pt x="1425" y="19"/>
                  </a:lnTo>
                  <a:lnTo>
                    <a:pt x="1503" y="15"/>
                  </a:lnTo>
                  <a:lnTo>
                    <a:pt x="1580" y="13"/>
                  </a:lnTo>
                  <a:lnTo>
                    <a:pt x="1657" y="11"/>
                  </a:lnTo>
                  <a:lnTo>
                    <a:pt x="1735" y="11"/>
                  </a:lnTo>
                  <a:lnTo>
                    <a:pt x="1812" y="12"/>
                  </a:lnTo>
                  <a:lnTo>
                    <a:pt x="1888" y="13"/>
                  </a:lnTo>
                  <a:lnTo>
                    <a:pt x="1964" y="15"/>
                  </a:lnTo>
                  <a:lnTo>
                    <a:pt x="2039" y="19"/>
                  </a:lnTo>
                  <a:lnTo>
                    <a:pt x="2113" y="24"/>
                  </a:lnTo>
                  <a:lnTo>
                    <a:pt x="2113" y="13"/>
                  </a:lnTo>
                  <a:lnTo>
                    <a:pt x="2039" y="9"/>
                  </a:lnTo>
                  <a:lnTo>
                    <a:pt x="1964" y="5"/>
                  </a:lnTo>
                  <a:lnTo>
                    <a:pt x="1888" y="2"/>
                  </a:lnTo>
                  <a:lnTo>
                    <a:pt x="1812" y="1"/>
                  </a:lnTo>
                  <a:lnTo>
                    <a:pt x="1735" y="0"/>
                  </a:lnTo>
                  <a:lnTo>
                    <a:pt x="1657" y="0"/>
                  </a:lnTo>
                  <a:lnTo>
                    <a:pt x="1580" y="2"/>
                  </a:lnTo>
                  <a:lnTo>
                    <a:pt x="1503" y="5"/>
                  </a:lnTo>
                  <a:lnTo>
                    <a:pt x="1425" y="9"/>
                  </a:lnTo>
                  <a:lnTo>
                    <a:pt x="1348" y="14"/>
                  </a:lnTo>
                  <a:lnTo>
                    <a:pt x="1272" y="19"/>
                  </a:lnTo>
                  <a:lnTo>
                    <a:pt x="1194" y="27"/>
                  </a:lnTo>
                  <a:lnTo>
                    <a:pt x="1119" y="37"/>
                  </a:lnTo>
                  <a:lnTo>
                    <a:pt x="1044" y="46"/>
                  </a:lnTo>
                  <a:lnTo>
                    <a:pt x="970" y="58"/>
                  </a:lnTo>
                  <a:lnTo>
                    <a:pt x="897" y="71"/>
                  </a:lnTo>
                  <a:lnTo>
                    <a:pt x="826" y="85"/>
                  </a:lnTo>
                  <a:lnTo>
                    <a:pt x="756" y="101"/>
                  </a:lnTo>
                  <a:lnTo>
                    <a:pt x="688" y="118"/>
                  </a:lnTo>
                  <a:lnTo>
                    <a:pt x="621" y="137"/>
                  </a:lnTo>
                  <a:lnTo>
                    <a:pt x="555" y="157"/>
                  </a:lnTo>
                  <a:lnTo>
                    <a:pt x="492" y="180"/>
                  </a:lnTo>
                  <a:lnTo>
                    <a:pt x="431" y="203"/>
                  </a:lnTo>
                  <a:lnTo>
                    <a:pt x="373" y="230"/>
                  </a:lnTo>
                  <a:lnTo>
                    <a:pt x="316" y="257"/>
                  </a:lnTo>
                  <a:lnTo>
                    <a:pt x="263" y="285"/>
                  </a:lnTo>
                  <a:lnTo>
                    <a:pt x="211" y="315"/>
                  </a:lnTo>
                  <a:lnTo>
                    <a:pt x="163" y="348"/>
                  </a:lnTo>
                  <a:lnTo>
                    <a:pt x="119" y="383"/>
                  </a:lnTo>
                  <a:lnTo>
                    <a:pt x="76" y="420"/>
                  </a:lnTo>
                  <a:lnTo>
                    <a:pt x="36" y="457"/>
                  </a:lnTo>
                  <a:lnTo>
                    <a:pt x="2" y="498"/>
                  </a:lnTo>
                  <a:lnTo>
                    <a:pt x="0" y="501"/>
                  </a:lnTo>
                  <a:lnTo>
                    <a:pt x="2" y="498"/>
                  </a:lnTo>
                  <a:lnTo>
                    <a:pt x="0" y="502"/>
                  </a:lnTo>
                  <a:lnTo>
                    <a:pt x="3" y="505"/>
                  </a:lnTo>
                  <a:lnTo>
                    <a:pt x="8" y="506"/>
                  </a:lnTo>
                  <a:lnTo>
                    <a:pt x="11" y="504"/>
                  </a:lnTo>
                  <a:lnTo>
                    <a:pt x="12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562640" y="6072120"/>
              <a:ext cx="2880" cy="584280"/>
            </a:xfrm>
            <a:custGeom>
              <a:avLst/>
              <a:gdLst/>
              <a:ahLst/>
              <a:rect l="l" t="t" r="r" b="b"/>
              <a:pathLst>
                <a:path w="12" h="1838">
                  <a:moveTo>
                    <a:pt x="4" y="1829"/>
                  </a:moveTo>
                  <a:lnTo>
                    <a:pt x="12" y="183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834"/>
                  </a:lnTo>
                  <a:lnTo>
                    <a:pt x="9" y="1838"/>
                  </a:lnTo>
                  <a:lnTo>
                    <a:pt x="0" y="1834"/>
                  </a:lnTo>
                  <a:lnTo>
                    <a:pt x="3" y="1837"/>
                  </a:lnTo>
                  <a:lnTo>
                    <a:pt x="6" y="1838"/>
                  </a:lnTo>
                  <a:lnTo>
                    <a:pt x="10" y="1837"/>
                  </a:lnTo>
                  <a:lnTo>
                    <a:pt x="12" y="1834"/>
                  </a:lnTo>
                  <a:lnTo>
                    <a:pt x="4" y="1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35280" y="6507000"/>
              <a:ext cx="932040" cy="149400"/>
            </a:xfrm>
            <a:custGeom>
              <a:avLst/>
              <a:gdLst/>
              <a:ahLst/>
              <a:rect l="l" t="t" r="r" b="b"/>
              <a:pathLst>
                <a:path w="2932" h="469">
                  <a:moveTo>
                    <a:pt x="0" y="43"/>
                  </a:moveTo>
                  <a:lnTo>
                    <a:pt x="7" y="50"/>
                  </a:lnTo>
                  <a:lnTo>
                    <a:pt x="109" y="39"/>
                  </a:lnTo>
                  <a:lnTo>
                    <a:pt x="208" y="31"/>
                  </a:lnTo>
                  <a:lnTo>
                    <a:pt x="308" y="23"/>
                  </a:lnTo>
                  <a:lnTo>
                    <a:pt x="409" y="18"/>
                  </a:lnTo>
                  <a:lnTo>
                    <a:pt x="508" y="14"/>
                  </a:lnTo>
                  <a:lnTo>
                    <a:pt x="608" y="12"/>
                  </a:lnTo>
                  <a:lnTo>
                    <a:pt x="706" y="11"/>
                  </a:lnTo>
                  <a:lnTo>
                    <a:pt x="804" y="12"/>
                  </a:lnTo>
                  <a:lnTo>
                    <a:pt x="902" y="14"/>
                  </a:lnTo>
                  <a:lnTo>
                    <a:pt x="999" y="17"/>
                  </a:lnTo>
                  <a:lnTo>
                    <a:pt x="1096" y="22"/>
                  </a:lnTo>
                  <a:lnTo>
                    <a:pt x="1192" y="29"/>
                  </a:lnTo>
                  <a:lnTo>
                    <a:pt x="1285" y="37"/>
                  </a:lnTo>
                  <a:lnTo>
                    <a:pt x="1380" y="47"/>
                  </a:lnTo>
                  <a:lnTo>
                    <a:pt x="1473" y="59"/>
                  </a:lnTo>
                  <a:lnTo>
                    <a:pt x="1567" y="70"/>
                  </a:lnTo>
                  <a:lnTo>
                    <a:pt x="1659" y="85"/>
                  </a:lnTo>
                  <a:lnTo>
                    <a:pt x="1750" y="100"/>
                  </a:lnTo>
                  <a:lnTo>
                    <a:pt x="1840" y="119"/>
                  </a:lnTo>
                  <a:lnTo>
                    <a:pt x="1929" y="137"/>
                  </a:lnTo>
                  <a:lnTo>
                    <a:pt x="2018" y="157"/>
                  </a:lnTo>
                  <a:lnTo>
                    <a:pt x="2107" y="178"/>
                  </a:lnTo>
                  <a:lnTo>
                    <a:pt x="2193" y="201"/>
                  </a:lnTo>
                  <a:lnTo>
                    <a:pt x="2278" y="225"/>
                  </a:lnTo>
                  <a:lnTo>
                    <a:pt x="2363" y="251"/>
                  </a:lnTo>
                  <a:lnTo>
                    <a:pt x="2447" y="278"/>
                  </a:lnTo>
                  <a:lnTo>
                    <a:pt x="2529" y="306"/>
                  </a:lnTo>
                  <a:lnTo>
                    <a:pt x="2611" y="336"/>
                  </a:lnTo>
                  <a:lnTo>
                    <a:pt x="2692" y="367"/>
                  </a:lnTo>
                  <a:lnTo>
                    <a:pt x="2771" y="400"/>
                  </a:lnTo>
                  <a:lnTo>
                    <a:pt x="2850" y="434"/>
                  </a:lnTo>
                  <a:lnTo>
                    <a:pt x="2927" y="469"/>
                  </a:lnTo>
                  <a:lnTo>
                    <a:pt x="2932" y="460"/>
                  </a:lnTo>
                  <a:lnTo>
                    <a:pt x="2855" y="425"/>
                  </a:lnTo>
                  <a:lnTo>
                    <a:pt x="2776" y="390"/>
                  </a:lnTo>
                  <a:lnTo>
                    <a:pt x="2697" y="357"/>
                  </a:lnTo>
                  <a:lnTo>
                    <a:pt x="2616" y="326"/>
                  </a:lnTo>
                  <a:lnTo>
                    <a:pt x="2534" y="296"/>
                  </a:lnTo>
                  <a:lnTo>
                    <a:pt x="2451" y="267"/>
                  </a:lnTo>
                  <a:lnTo>
                    <a:pt x="2368" y="240"/>
                  </a:lnTo>
                  <a:lnTo>
                    <a:pt x="2283" y="215"/>
                  </a:lnTo>
                  <a:lnTo>
                    <a:pt x="2195" y="190"/>
                  </a:lnTo>
                  <a:lnTo>
                    <a:pt x="2109" y="168"/>
                  </a:lnTo>
                  <a:lnTo>
                    <a:pt x="2020" y="146"/>
                  </a:lnTo>
                  <a:lnTo>
                    <a:pt x="1932" y="126"/>
                  </a:lnTo>
                  <a:lnTo>
                    <a:pt x="1842" y="108"/>
                  </a:lnTo>
                  <a:lnTo>
                    <a:pt x="1752" y="90"/>
                  </a:lnTo>
                  <a:lnTo>
                    <a:pt x="1661" y="75"/>
                  </a:lnTo>
                  <a:lnTo>
                    <a:pt x="1569" y="60"/>
                  </a:lnTo>
                  <a:lnTo>
                    <a:pt x="1476" y="48"/>
                  </a:lnTo>
                  <a:lnTo>
                    <a:pt x="1382" y="36"/>
                  </a:lnTo>
                  <a:lnTo>
                    <a:pt x="1288" y="27"/>
                  </a:lnTo>
                  <a:lnTo>
                    <a:pt x="1192" y="18"/>
                  </a:lnTo>
                  <a:lnTo>
                    <a:pt x="1096" y="12"/>
                  </a:lnTo>
                  <a:lnTo>
                    <a:pt x="999" y="6"/>
                  </a:lnTo>
                  <a:lnTo>
                    <a:pt x="902" y="3"/>
                  </a:lnTo>
                  <a:lnTo>
                    <a:pt x="804" y="1"/>
                  </a:lnTo>
                  <a:lnTo>
                    <a:pt x="706" y="0"/>
                  </a:lnTo>
                  <a:lnTo>
                    <a:pt x="608" y="1"/>
                  </a:lnTo>
                  <a:lnTo>
                    <a:pt x="508" y="3"/>
                  </a:lnTo>
                  <a:lnTo>
                    <a:pt x="409" y="7"/>
                  </a:lnTo>
                  <a:lnTo>
                    <a:pt x="308" y="13"/>
                  </a:lnTo>
                  <a:lnTo>
                    <a:pt x="208" y="20"/>
                  </a:lnTo>
                  <a:lnTo>
                    <a:pt x="106" y="29"/>
                  </a:lnTo>
                  <a:lnTo>
                    <a:pt x="4" y="39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2" y="49"/>
                  </a:lnTo>
                  <a:lnTo>
                    <a:pt x="7" y="5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35280" y="5916600"/>
              <a:ext cx="263520" cy="604800"/>
            </a:xfrm>
            <a:custGeom>
              <a:avLst/>
              <a:gdLst/>
              <a:ahLst/>
              <a:rect l="l" t="t" r="r" b="b"/>
              <a:pathLst>
                <a:path w="828" h="1904">
                  <a:moveTo>
                    <a:pt x="822" y="0"/>
                  </a:moveTo>
                  <a:lnTo>
                    <a:pt x="816" y="3"/>
                  </a:lnTo>
                  <a:lnTo>
                    <a:pt x="0" y="1900"/>
                  </a:lnTo>
                  <a:lnTo>
                    <a:pt x="12" y="1904"/>
                  </a:lnTo>
                  <a:lnTo>
                    <a:pt x="828" y="7"/>
                  </a:lnTo>
                  <a:lnTo>
                    <a:pt x="822" y="11"/>
                  </a:lnTo>
                  <a:lnTo>
                    <a:pt x="828" y="7"/>
                  </a:lnTo>
                  <a:lnTo>
                    <a:pt x="828" y="3"/>
                  </a:lnTo>
                  <a:lnTo>
                    <a:pt x="824" y="0"/>
                  </a:lnTo>
                  <a:lnTo>
                    <a:pt x="820" y="0"/>
                  </a:lnTo>
                  <a:lnTo>
                    <a:pt x="816" y="3"/>
                  </a:lnTo>
                  <a:lnTo>
                    <a:pt x="8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97360" y="5913360"/>
              <a:ext cx="669960" cy="160560"/>
            </a:xfrm>
            <a:custGeom>
              <a:avLst/>
              <a:gdLst/>
              <a:ahLst/>
              <a:rect l="l" t="t" r="r" b="b"/>
              <a:pathLst>
                <a:path w="2113" h="506">
                  <a:moveTo>
                    <a:pt x="2113" y="501"/>
                  </a:moveTo>
                  <a:lnTo>
                    <a:pt x="2112" y="498"/>
                  </a:lnTo>
                  <a:lnTo>
                    <a:pt x="2077" y="457"/>
                  </a:lnTo>
                  <a:lnTo>
                    <a:pt x="2038" y="420"/>
                  </a:lnTo>
                  <a:lnTo>
                    <a:pt x="1995" y="382"/>
                  </a:lnTo>
                  <a:lnTo>
                    <a:pt x="1950" y="348"/>
                  </a:lnTo>
                  <a:lnTo>
                    <a:pt x="1902" y="315"/>
                  </a:lnTo>
                  <a:lnTo>
                    <a:pt x="1851" y="285"/>
                  </a:lnTo>
                  <a:lnTo>
                    <a:pt x="1797" y="256"/>
                  </a:lnTo>
                  <a:lnTo>
                    <a:pt x="1741" y="230"/>
                  </a:lnTo>
                  <a:lnTo>
                    <a:pt x="1682" y="203"/>
                  </a:lnTo>
                  <a:lnTo>
                    <a:pt x="1621" y="180"/>
                  </a:lnTo>
                  <a:lnTo>
                    <a:pt x="1559" y="157"/>
                  </a:lnTo>
                  <a:lnTo>
                    <a:pt x="1493" y="137"/>
                  </a:lnTo>
                  <a:lnTo>
                    <a:pt x="1426" y="118"/>
                  </a:lnTo>
                  <a:lnTo>
                    <a:pt x="1358" y="101"/>
                  </a:lnTo>
                  <a:lnTo>
                    <a:pt x="1287" y="85"/>
                  </a:lnTo>
                  <a:lnTo>
                    <a:pt x="1216" y="71"/>
                  </a:lnTo>
                  <a:lnTo>
                    <a:pt x="1143" y="58"/>
                  </a:lnTo>
                  <a:lnTo>
                    <a:pt x="1069" y="46"/>
                  </a:lnTo>
                  <a:lnTo>
                    <a:pt x="995" y="36"/>
                  </a:lnTo>
                  <a:lnTo>
                    <a:pt x="920" y="27"/>
                  </a:lnTo>
                  <a:lnTo>
                    <a:pt x="842" y="19"/>
                  </a:lnTo>
                  <a:lnTo>
                    <a:pt x="765" y="14"/>
                  </a:lnTo>
                  <a:lnTo>
                    <a:pt x="688" y="9"/>
                  </a:lnTo>
                  <a:lnTo>
                    <a:pt x="611" y="4"/>
                  </a:lnTo>
                  <a:lnTo>
                    <a:pt x="534" y="2"/>
                  </a:lnTo>
                  <a:lnTo>
                    <a:pt x="456" y="0"/>
                  </a:lnTo>
                  <a:lnTo>
                    <a:pt x="378" y="0"/>
                  </a:lnTo>
                  <a:lnTo>
                    <a:pt x="302" y="1"/>
                  </a:lnTo>
                  <a:lnTo>
                    <a:pt x="225" y="2"/>
                  </a:lnTo>
                  <a:lnTo>
                    <a:pt x="150" y="4"/>
                  </a:lnTo>
                  <a:lnTo>
                    <a:pt x="74" y="9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74" y="19"/>
                  </a:lnTo>
                  <a:lnTo>
                    <a:pt x="150" y="15"/>
                  </a:lnTo>
                  <a:lnTo>
                    <a:pt x="225" y="13"/>
                  </a:lnTo>
                  <a:lnTo>
                    <a:pt x="302" y="12"/>
                  </a:lnTo>
                  <a:lnTo>
                    <a:pt x="378" y="11"/>
                  </a:lnTo>
                  <a:lnTo>
                    <a:pt x="456" y="11"/>
                  </a:lnTo>
                  <a:lnTo>
                    <a:pt x="534" y="13"/>
                  </a:lnTo>
                  <a:lnTo>
                    <a:pt x="611" y="15"/>
                  </a:lnTo>
                  <a:lnTo>
                    <a:pt x="688" y="19"/>
                  </a:lnTo>
                  <a:lnTo>
                    <a:pt x="765" y="25"/>
                  </a:lnTo>
                  <a:lnTo>
                    <a:pt x="842" y="30"/>
                  </a:lnTo>
                  <a:lnTo>
                    <a:pt x="917" y="38"/>
                  </a:lnTo>
                  <a:lnTo>
                    <a:pt x="993" y="47"/>
                  </a:lnTo>
                  <a:lnTo>
                    <a:pt x="1067" y="57"/>
                  </a:lnTo>
                  <a:lnTo>
                    <a:pt x="1141" y="69"/>
                  </a:lnTo>
                  <a:lnTo>
                    <a:pt x="1214" y="81"/>
                  </a:lnTo>
                  <a:lnTo>
                    <a:pt x="1285" y="95"/>
                  </a:lnTo>
                  <a:lnTo>
                    <a:pt x="1355" y="111"/>
                  </a:lnTo>
                  <a:lnTo>
                    <a:pt x="1424" y="128"/>
                  </a:lnTo>
                  <a:lnTo>
                    <a:pt x="1488" y="148"/>
                  </a:lnTo>
                  <a:lnTo>
                    <a:pt x="1554" y="168"/>
                  </a:lnTo>
                  <a:lnTo>
                    <a:pt x="1616" y="190"/>
                  </a:lnTo>
                  <a:lnTo>
                    <a:pt x="1677" y="214"/>
                  </a:lnTo>
                  <a:lnTo>
                    <a:pt x="1736" y="238"/>
                  </a:lnTo>
                  <a:lnTo>
                    <a:pt x="1792" y="265"/>
                  </a:lnTo>
                  <a:lnTo>
                    <a:pt x="1844" y="294"/>
                  </a:lnTo>
                  <a:lnTo>
                    <a:pt x="1895" y="324"/>
                  </a:lnTo>
                  <a:lnTo>
                    <a:pt x="1943" y="357"/>
                  </a:lnTo>
                  <a:lnTo>
                    <a:pt x="1987" y="391"/>
                  </a:lnTo>
                  <a:lnTo>
                    <a:pt x="2028" y="426"/>
                  </a:lnTo>
                  <a:lnTo>
                    <a:pt x="2068" y="464"/>
                  </a:lnTo>
                  <a:lnTo>
                    <a:pt x="2102" y="504"/>
                  </a:lnTo>
                  <a:lnTo>
                    <a:pt x="2101" y="501"/>
                  </a:lnTo>
                  <a:lnTo>
                    <a:pt x="2102" y="504"/>
                  </a:lnTo>
                  <a:lnTo>
                    <a:pt x="2107" y="506"/>
                  </a:lnTo>
                  <a:lnTo>
                    <a:pt x="2111" y="505"/>
                  </a:lnTo>
                  <a:lnTo>
                    <a:pt x="2113" y="502"/>
                  </a:lnTo>
                  <a:lnTo>
                    <a:pt x="2112" y="498"/>
                  </a:lnTo>
                  <a:lnTo>
                    <a:pt x="2113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64080" y="6072120"/>
              <a:ext cx="3240" cy="584280"/>
            </a:xfrm>
            <a:custGeom>
              <a:avLst/>
              <a:gdLst/>
              <a:ahLst/>
              <a:rect l="l" t="t" r="r" b="b"/>
              <a:pathLst>
                <a:path w="12" h="1838">
                  <a:moveTo>
                    <a:pt x="4" y="1838"/>
                  </a:moveTo>
                  <a:lnTo>
                    <a:pt x="12" y="183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833"/>
                  </a:lnTo>
                  <a:lnTo>
                    <a:pt x="9" y="1829"/>
                  </a:lnTo>
                  <a:lnTo>
                    <a:pt x="0" y="1833"/>
                  </a:lnTo>
                  <a:lnTo>
                    <a:pt x="3" y="1837"/>
                  </a:lnTo>
                  <a:lnTo>
                    <a:pt x="6" y="1838"/>
                  </a:lnTo>
                  <a:lnTo>
                    <a:pt x="10" y="1837"/>
                  </a:lnTo>
                  <a:lnTo>
                    <a:pt x="12" y="1833"/>
                  </a:lnTo>
                  <a:lnTo>
                    <a:pt x="4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63920" y="6656400"/>
              <a:ext cx="390600" cy="90360"/>
            </a:xfrm>
            <a:custGeom>
              <a:avLst/>
              <a:gdLst/>
              <a:ahLst/>
              <a:rect l="l" t="t" r="r" b="b"/>
              <a:pathLst>
                <a:path w="1231" h="284">
                  <a:moveTo>
                    <a:pt x="1" y="195"/>
                  </a:moveTo>
                  <a:lnTo>
                    <a:pt x="1" y="113"/>
                  </a:lnTo>
                  <a:lnTo>
                    <a:pt x="252" y="129"/>
                  </a:lnTo>
                  <a:lnTo>
                    <a:pt x="629" y="0"/>
                  </a:lnTo>
                  <a:lnTo>
                    <a:pt x="1018" y="131"/>
                  </a:lnTo>
                  <a:lnTo>
                    <a:pt x="1227" y="113"/>
                  </a:lnTo>
                  <a:lnTo>
                    <a:pt x="1227" y="195"/>
                  </a:lnTo>
                  <a:lnTo>
                    <a:pt x="1231" y="206"/>
                  </a:lnTo>
                  <a:lnTo>
                    <a:pt x="1227" y="216"/>
                  </a:lnTo>
                  <a:lnTo>
                    <a:pt x="1217" y="224"/>
                  </a:lnTo>
                  <a:lnTo>
                    <a:pt x="1197" y="233"/>
                  </a:lnTo>
                  <a:lnTo>
                    <a:pt x="1174" y="240"/>
                  </a:lnTo>
                  <a:lnTo>
                    <a:pt x="1142" y="248"/>
                  </a:lnTo>
                  <a:lnTo>
                    <a:pt x="1106" y="254"/>
                  </a:lnTo>
                  <a:lnTo>
                    <a:pt x="1066" y="261"/>
                  </a:lnTo>
                  <a:lnTo>
                    <a:pt x="1020" y="266"/>
                  </a:lnTo>
                  <a:lnTo>
                    <a:pt x="971" y="270"/>
                  </a:lnTo>
                  <a:lnTo>
                    <a:pt x="919" y="274"/>
                  </a:lnTo>
                  <a:lnTo>
                    <a:pt x="863" y="278"/>
                  </a:lnTo>
                  <a:lnTo>
                    <a:pt x="806" y="280"/>
                  </a:lnTo>
                  <a:lnTo>
                    <a:pt x="747" y="282"/>
                  </a:lnTo>
                  <a:lnTo>
                    <a:pt x="687" y="283"/>
                  </a:lnTo>
                  <a:lnTo>
                    <a:pt x="626" y="284"/>
                  </a:lnTo>
                  <a:lnTo>
                    <a:pt x="565" y="284"/>
                  </a:lnTo>
                  <a:lnTo>
                    <a:pt x="505" y="283"/>
                  </a:lnTo>
                  <a:lnTo>
                    <a:pt x="446" y="282"/>
                  </a:lnTo>
                  <a:lnTo>
                    <a:pt x="388" y="279"/>
                  </a:lnTo>
                  <a:lnTo>
                    <a:pt x="332" y="277"/>
                  </a:lnTo>
                  <a:lnTo>
                    <a:pt x="279" y="272"/>
                  </a:lnTo>
                  <a:lnTo>
                    <a:pt x="229" y="268"/>
                  </a:lnTo>
                  <a:lnTo>
                    <a:pt x="182" y="263"/>
                  </a:lnTo>
                  <a:lnTo>
                    <a:pt x="139" y="257"/>
                  </a:lnTo>
                  <a:lnTo>
                    <a:pt x="101" y="251"/>
                  </a:lnTo>
                  <a:lnTo>
                    <a:pt x="68" y="244"/>
                  </a:lnTo>
                  <a:lnTo>
                    <a:pt x="42" y="235"/>
                  </a:lnTo>
                  <a:lnTo>
                    <a:pt x="21" y="226"/>
                  </a:lnTo>
                  <a:lnTo>
                    <a:pt x="7" y="217"/>
                  </a:lnTo>
                  <a:lnTo>
                    <a:pt x="0" y="206"/>
                  </a:lnTo>
                  <a:lnTo>
                    <a:pt x="1" y="195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362480" y="6692760"/>
              <a:ext cx="1440" cy="2556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2" y="0"/>
                  </a:moveTo>
                  <a:lnTo>
                    <a:pt x="0" y="1"/>
                  </a:lnTo>
                  <a:lnTo>
                    <a:pt x="0" y="83"/>
                  </a:lnTo>
                  <a:lnTo>
                    <a:pt x="5" y="83"/>
                  </a:lnTo>
                  <a:lnTo>
                    <a:pt x="5" y="1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363920" y="6692760"/>
              <a:ext cx="79560" cy="504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249" y="16"/>
                  </a:moveTo>
                  <a:lnTo>
                    <a:pt x="251" y="16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4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443480" y="6656400"/>
              <a:ext cx="120600" cy="41400"/>
            </a:xfrm>
            <a:custGeom>
              <a:avLst/>
              <a:gdLst/>
              <a:ahLst/>
              <a:rect l="l" t="t" r="r" b="b"/>
              <a:pathLst>
                <a:path w="380" h="131">
                  <a:moveTo>
                    <a:pt x="380" y="0"/>
                  </a:moveTo>
                  <a:lnTo>
                    <a:pt x="378" y="0"/>
                  </a:lnTo>
                  <a:lnTo>
                    <a:pt x="0" y="129"/>
                  </a:lnTo>
                  <a:lnTo>
                    <a:pt x="3" y="131"/>
                  </a:lnTo>
                  <a:lnTo>
                    <a:pt x="380" y="2"/>
                  </a:lnTo>
                  <a:lnTo>
                    <a:pt x="378" y="2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62640" y="6656400"/>
              <a:ext cx="123840" cy="42840"/>
            </a:xfrm>
            <a:custGeom>
              <a:avLst/>
              <a:gdLst/>
              <a:ahLst/>
              <a:rect l="l" t="t" r="r" b="b"/>
              <a:pathLst>
                <a:path w="391" h="133">
                  <a:moveTo>
                    <a:pt x="390" y="131"/>
                  </a:moveTo>
                  <a:lnTo>
                    <a:pt x="391" y="1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389" y="133"/>
                  </a:lnTo>
                  <a:lnTo>
                    <a:pt x="390" y="133"/>
                  </a:lnTo>
                  <a:lnTo>
                    <a:pt x="39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86480" y="6692760"/>
              <a:ext cx="66600" cy="6480"/>
            </a:xfrm>
            <a:custGeom>
              <a:avLst/>
              <a:gdLst/>
              <a:ahLst/>
              <a:rect l="l" t="t" r="r" b="b"/>
              <a:pathLst>
                <a:path w="211" h="20">
                  <a:moveTo>
                    <a:pt x="211" y="1"/>
                  </a:moveTo>
                  <a:lnTo>
                    <a:pt x="209" y="0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09" y="2"/>
                  </a:lnTo>
                  <a:lnTo>
                    <a:pt x="208" y="1"/>
                  </a:lnTo>
                  <a:lnTo>
                    <a:pt x="2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53080" y="6692760"/>
              <a:ext cx="1440" cy="27000"/>
            </a:xfrm>
            <a:custGeom>
              <a:avLst/>
              <a:gdLst/>
              <a:ahLst/>
              <a:rect l="l" t="t" r="r" b="b"/>
              <a:pathLst>
                <a:path w="3" h="84">
                  <a:moveTo>
                    <a:pt x="3" y="81"/>
                  </a:move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362480" y="6718320"/>
              <a:ext cx="392040" cy="30240"/>
            </a:xfrm>
            <a:custGeom>
              <a:avLst/>
              <a:gdLst/>
              <a:ahLst/>
              <a:rect l="l" t="t" r="r" b="b"/>
              <a:pathLst>
                <a:path w="1233" h="92">
                  <a:moveTo>
                    <a:pt x="0" y="1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7" y="24"/>
                  </a:lnTo>
                  <a:lnTo>
                    <a:pt x="20" y="33"/>
                  </a:lnTo>
                  <a:lnTo>
                    <a:pt x="42" y="42"/>
                  </a:lnTo>
                  <a:lnTo>
                    <a:pt x="69" y="51"/>
                  </a:lnTo>
                  <a:lnTo>
                    <a:pt x="102" y="58"/>
                  </a:lnTo>
                  <a:lnTo>
                    <a:pt x="140" y="64"/>
                  </a:lnTo>
                  <a:lnTo>
                    <a:pt x="183" y="70"/>
                  </a:lnTo>
                  <a:lnTo>
                    <a:pt x="230" y="75"/>
                  </a:lnTo>
                  <a:lnTo>
                    <a:pt x="280" y="79"/>
                  </a:lnTo>
                  <a:lnTo>
                    <a:pt x="333" y="84"/>
                  </a:lnTo>
                  <a:lnTo>
                    <a:pt x="389" y="86"/>
                  </a:lnTo>
                  <a:lnTo>
                    <a:pt x="447" y="89"/>
                  </a:lnTo>
                  <a:lnTo>
                    <a:pt x="506" y="91"/>
                  </a:lnTo>
                  <a:lnTo>
                    <a:pt x="566" y="92"/>
                  </a:lnTo>
                  <a:lnTo>
                    <a:pt x="627" y="92"/>
                  </a:lnTo>
                  <a:lnTo>
                    <a:pt x="688" y="91"/>
                  </a:lnTo>
                  <a:lnTo>
                    <a:pt x="748" y="89"/>
                  </a:lnTo>
                  <a:lnTo>
                    <a:pt x="807" y="87"/>
                  </a:lnTo>
                  <a:lnTo>
                    <a:pt x="864" y="85"/>
                  </a:lnTo>
                  <a:lnTo>
                    <a:pt x="920" y="82"/>
                  </a:lnTo>
                  <a:lnTo>
                    <a:pt x="972" y="77"/>
                  </a:lnTo>
                  <a:lnTo>
                    <a:pt x="1021" y="73"/>
                  </a:lnTo>
                  <a:lnTo>
                    <a:pt x="1067" y="68"/>
                  </a:lnTo>
                  <a:lnTo>
                    <a:pt x="1107" y="61"/>
                  </a:lnTo>
                  <a:lnTo>
                    <a:pt x="1143" y="55"/>
                  </a:lnTo>
                  <a:lnTo>
                    <a:pt x="1175" y="47"/>
                  </a:lnTo>
                  <a:lnTo>
                    <a:pt x="1200" y="40"/>
                  </a:lnTo>
                  <a:lnTo>
                    <a:pt x="1219" y="31"/>
                  </a:lnTo>
                  <a:lnTo>
                    <a:pt x="1230" y="23"/>
                  </a:lnTo>
                  <a:lnTo>
                    <a:pt x="1233" y="12"/>
                  </a:lnTo>
                  <a:lnTo>
                    <a:pt x="1230" y="0"/>
                  </a:lnTo>
                  <a:lnTo>
                    <a:pt x="1227" y="3"/>
                  </a:lnTo>
                  <a:lnTo>
                    <a:pt x="1231" y="12"/>
                  </a:lnTo>
                  <a:lnTo>
                    <a:pt x="1227" y="21"/>
                  </a:lnTo>
                  <a:lnTo>
                    <a:pt x="1216" y="29"/>
                  </a:lnTo>
                  <a:lnTo>
                    <a:pt x="1197" y="38"/>
                  </a:lnTo>
                  <a:lnTo>
                    <a:pt x="1175" y="45"/>
                  </a:lnTo>
                  <a:lnTo>
                    <a:pt x="1143" y="53"/>
                  </a:lnTo>
                  <a:lnTo>
                    <a:pt x="1107" y="59"/>
                  </a:lnTo>
                  <a:lnTo>
                    <a:pt x="1067" y="66"/>
                  </a:lnTo>
                  <a:lnTo>
                    <a:pt x="1021" y="71"/>
                  </a:lnTo>
                  <a:lnTo>
                    <a:pt x="972" y="75"/>
                  </a:lnTo>
                  <a:lnTo>
                    <a:pt x="920" y="79"/>
                  </a:lnTo>
                  <a:lnTo>
                    <a:pt x="864" y="83"/>
                  </a:lnTo>
                  <a:lnTo>
                    <a:pt x="807" y="85"/>
                  </a:lnTo>
                  <a:lnTo>
                    <a:pt x="748" y="87"/>
                  </a:lnTo>
                  <a:lnTo>
                    <a:pt x="688" y="87"/>
                  </a:lnTo>
                  <a:lnTo>
                    <a:pt x="627" y="88"/>
                  </a:lnTo>
                  <a:lnTo>
                    <a:pt x="566" y="88"/>
                  </a:lnTo>
                  <a:lnTo>
                    <a:pt x="506" y="87"/>
                  </a:lnTo>
                  <a:lnTo>
                    <a:pt x="447" y="87"/>
                  </a:lnTo>
                  <a:lnTo>
                    <a:pt x="389" y="84"/>
                  </a:lnTo>
                  <a:lnTo>
                    <a:pt x="333" y="82"/>
                  </a:lnTo>
                  <a:lnTo>
                    <a:pt x="280" y="77"/>
                  </a:lnTo>
                  <a:lnTo>
                    <a:pt x="230" y="73"/>
                  </a:lnTo>
                  <a:lnTo>
                    <a:pt x="183" y="68"/>
                  </a:lnTo>
                  <a:lnTo>
                    <a:pt x="140" y="62"/>
                  </a:lnTo>
                  <a:lnTo>
                    <a:pt x="102" y="56"/>
                  </a:lnTo>
                  <a:lnTo>
                    <a:pt x="69" y="48"/>
                  </a:lnTo>
                  <a:lnTo>
                    <a:pt x="44" y="40"/>
                  </a:lnTo>
                  <a:lnTo>
                    <a:pt x="23" y="31"/>
                  </a:lnTo>
                  <a:lnTo>
                    <a:pt x="10" y="22"/>
                  </a:lnTo>
                  <a:lnTo>
                    <a:pt x="2" y="12"/>
                  </a:lnTo>
                  <a:lnTo>
                    <a:pt x="4" y="3"/>
                  </a:lnTo>
                  <a:lnTo>
                    <a:pt x="5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508200" y="6338880"/>
              <a:ext cx="1040040" cy="371520"/>
            </a:xfrm>
            <a:custGeom>
              <a:avLst/>
              <a:gdLst/>
              <a:ahLst/>
              <a:rect l="l" t="t" r="r" b="b"/>
              <a:pathLst>
                <a:path w="3272" h="1167">
                  <a:moveTo>
                    <a:pt x="3272" y="1000"/>
                  </a:moveTo>
                  <a:lnTo>
                    <a:pt x="3177" y="979"/>
                  </a:lnTo>
                  <a:lnTo>
                    <a:pt x="3081" y="960"/>
                  </a:lnTo>
                  <a:lnTo>
                    <a:pt x="2987" y="944"/>
                  </a:lnTo>
                  <a:lnTo>
                    <a:pt x="2891" y="931"/>
                  </a:lnTo>
                  <a:lnTo>
                    <a:pt x="2796" y="919"/>
                  </a:lnTo>
                  <a:lnTo>
                    <a:pt x="2701" y="909"/>
                  </a:lnTo>
                  <a:lnTo>
                    <a:pt x="2605" y="902"/>
                  </a:lnTo>
                  <a:lnTo>
                    <a:pt x="2509" y="896"/>
                  </a:lnTo>
                  <a:lnTo>
                    <a:pt x="2413" y="892"/>
                  </a:lnTo>
                  <a:lnTo>
                    <a:pt x="2316" y="891"/>
                  </a:lnTo>
                  <a:lnTo>
                    <a:pt x="2219" y="890"/>
                  </a:lnTo>
                  <a:lnTo>
                    <a:pt x="2122" y="892"/>
                  </a:lnTo>
                  <a:lnTo>
                    <a:pt x="2024" y="895"/>
                  </a:lnTo>
                  <a:lnTo>
                    <a:pt x="1926" y="900"/>
                  </a:lnTo>
                  <a:lnTo>
                    <a:pt x="1828" y="905"/>
                  </a:lnTo>
                  <a:lnTo>
                    <a:pt x="1728" y="912"/>
                  </a:lnTo>
                  <a:lnTo>
                    <a:pt x="1629" y="921"/>
                  </a:lnTo>
                  <a:lnTo>
                    <a:pt x="1529" y="931"/>
                  </a:lnTo>
                  <a:lnTo>
                    <a:pt x="1428" y="941"/>
                  </a:lnTo>
                  <a:lnTo>
                    <a:pt x="1326" y="952"/>
                  </a:lnTo>
                  <a:lnTo>
                    <a:pt x="1224" y="965"/>
                  </a:lnTo>
                  <a:lnTo>
                    <a:pt x="1122" y="979"/>
                  </a:lnTo>
                  <a:lnTo>
                    <a:pt x="1017" y="992"/>
                  </a:lnTo>
                  <a:lnTo>
                    <a:pt x="913" y="1007"/>
                  </a:lnTo>
                  <a:lnTo>
                    <a:pt x="808" y="1022"/>
                  </a:lnTo>
                  <a:lnTo>
                    <a:pt x="701" y="1038"/>
                  </a:lnTo>
                  <a:lnTo>
                    <a:pt x="595" y="1055"/>
                  </a:lnTo>
                  <a:lnTo>
                    <a:pt x="487" y="1072"/>
                  </a:lnTo>
                  <a:lnTo>
                    <a:pt x="378" y="1089"/>
                  </a:lnTo>
                  <a:lnTo>
                    <a:pt x="268" y="1106"/>
                  </a:lnTo>
                  <a:lnTo>
                    <a:pt x="157" y="1124"/>
                  </a:lnTo>
                  <a:lnTo>
                    <a:pt x="45" y="1141"/>
                  </a:lnTo>
                  <a:lnTo>
                    <a:pt x="603" y="0"/>
                  </a:lnTo>
                  <a:lnTo>
                    <a:pt x="0" y="1167"/>
                  </a:lnTo>
                  <a:lnTo>
                    <a:pt x="97" y="1154"/>
                  </a:lnTo>
                  <a:lnTo>
                    <a:pt x="195" y="1140"/>
                  </a:lnTo>
                  <a:lnTo>
                    <a:pt x="293" y="1126"/>
                  </a:lnTo>
                  <a:lnTo>
                    <a:pt x="391" y="1111"/>
                  </a:lnTo>
                  <a:lnTo>
                    <a:pt x="491" y="1096"/>
                  </a:lnTo>
                  <a:lnTo>
                    <a:pt x="591" y="1081"/>
                  </a:lnTo>
                  <a:lnTo>
                    <a:pt x="692" y="1066"/>
                  </a:lnTo>
                  <a:lnTo>
                    <a:pt x="792" y="1051"/>
                  </a:lnTo>
                  <a:lnTo>
                    <a:pt x="893" y="1036"/>
                  </a:lnTo>
                  <a:lnTo>
                    <a:pt x="995" y="1022"/>
                  </a:lnTo>
                  <a:lnTo>
                    <a:pt x="1096" y="1007"/>
                  </a:lnTo>
                  <a:lnTo>
                    <a:pt x="1198" y="995"/>
                  </a:lnTo>
                  <a:lnTo>
                    <a:pt x="1300" y="982"/>
                  </a:lnTo>
                  <a:lnTo>
                    <a:pt x="1403" y="970"/>
                  </a:lnTo>
                  <a:lnTo>
                    <a:pt x="1505" y="958"/>
                  </a:lnTo>
                  <a:lnTo>
                    <a:pt x="1608" y="949"/>
                  </a:lnTo>
                  <a:lnTo>
                    <a:pt x="1709" y="939"/>
                  </a:lnTo>
                  <a:lnTo>
                    <a:pt x="1811" y="932"/>
                  </a:lnTo>
                  <a:lnTo>
                    <a:pt x="1914" y="925"/>
                  </a:lnTo>
                  <a:lnTo>
                    <a:pt x="2016" y="921"/>
                  </a:lnTo>
                  <a:lnTo>
                    <a:pt x="2118" y="918"/>
                  </a:lnTo>
                  <a:lnTo>
                    <a:pt x="2219" y="916"/>
                  </a:lnTo>
                  <a:lnTo>
                    <a:pt x="2320" y="916"/>
                  </a:lnTo>
                  <a:lnTo>
                    <a:pt x="2420" y="918"/>
                  </a:lnTo>
                  <a:lnTo>
                    <a:pt x="2521" y="922"/>
                  </a:lnTo>
                  <a:lnTo>
                    <a:pt x="2622" y="928"/>
                  </a:lnTo>
                  <a:lnTo>
                    <a:pt x="2721" y="938"/>
                  </a:lnTo>
                  <a:lnTo>
                    <a:pt x="2820" y="949"/>
                  </a:lnTo>
                  <a:lnTo>
                    <a:pt x="2919" y="963"/>
                  </a:lnTo>
                  <a:lnTo>
                    <a:pt x="3017" y="979"/>
                  </a:lnTo>
                  <a:lnTo>
                    <a:pt x="3114" y="998"/>
                  </a:lnTo>
                  <a:lnTo>
                    <a:pt x="3211" y="1020"/>
                  </a:lnTo>
                  <a:lnTo>
                    <a:pt x="3272" y="1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94160" y="6489720"/>
              <a:ext cx="1020600" cy="227160"/>
            </a:xfrm>
            <a:custGeom>
              <a:avLst/>
              <a:gdLst/>
              <a:ahLst/>
              <a:rect l="l" t="t" r="r" b="b"/>
              <a:pathLst>
                <a:path w="3216" h="719">
                  <a:moveTo>
                    <a:pt x="3216" y="574"/>
                  </a:moveTo>
                  <a:lnTo>
                    <a:pt x="3134" y="554"/>
                  </a:lnTo>
                  <a:lnTo>
                    <a:pt x="3049" y="535"/>
                  </a:lnTo>
                  <a:lnTo>
                    <a:pt x="2962" y="520"/>
                  </a:lnTo>
                  <a:lnTo>
                    <a:pt x="2874" y="508"/>
                  </a:lnTo>
                  <a:lnTo>
                    <a:pt x="2784" y="497"/>
                  </a:lnTo>
                  <a:lnTo>
                    <a:pt x="2692" y="490"/>
                  </a:lnTo>
                  <a:lnTo>
                    <a:pt x="2597" y="483"/>
                  </a:lnTo>
                  <a:lnTo>
                    <a:pt x="2503" y="479"/>
                  </a:lnTo>
                  <a:lnTo>
                    <a:pt x="2406" y="477"/>
                  </a:lnTo>
                  <a:lnTo>
                    <a:pt x="2307" y="477"/>
                  </a:lnTo>
                  <a:lnTo>
                    <a:pt x="2208" y="478"/>
                  </a:lnTo>
                  <a:lnTo>
                    <a:pt x="2108" y="481"/>
                  </a:lnTo>
                  <a:lnTo>
                    <a:pt x="2006" y="485"/>
                  </a:lnTo>
                  <a:lnTo>
                    <a:pt x="1904" y="491"/>
                  </a:lnTo>
                  <a:lnTo>
                    <a:pt x="1801" y="498"/>
                  </a:lnTo>
                  <a:lnTo>
                    <a:pt x="1697" y="507"/>
                  </a:lnTo>
                  <a:lnTo>
                    <a:pt x="1592" y="515"/>
                  </a:lnTo>
                  <a:lnTo>
                    <a:pt x="1487" y="526"/>
                  </a:lnTo>
                  <a:lnTo>
                    <a:pt x="1382" y="538"/>
                  </a:lnTo>
                  <a:lnTo>
                    <a:pt x="1275" y="549"/>
                  </a:lnTo>
                  <a:lnTo>
                    <a:pt x="1170" y="562"/>
                  </a:lnTo>
                  <a:lnTo>
                    <a:pt x="1064" y="575"/>
                  </a:lnTo>
                  <a:lnTo>
                    <a:pt x="957" y="589"/>
                  </a:lnTo>
                  <a:lnTo>
                    <a:pt x="852" y="603"/>
                  </a:lnTo>
                  <a:lnTo>
                    <a:pt x="745" y="617"/>
                  </a:lnTo>
                  <a:lnTo>
                    <a:pt x="640" y="632"/>
                  </a:lnTo>
                  <a:lnTo>
                    <a:pt x="534" y="645"/>
                  </a:lnTo>
                  <a:lnTo>
                    <a:pt x="429" y="660"/>
                  </a:lnTo>
                  <a:lnTo>
                    <a:pt x="325" y="674"/>
                  </a:lnTo>
                  <a:lnTo>
                    <a:pt x="222" y="688"/>
                  </a:lnTo>
                  <a:lnTo>
                    <a:pt x="119" y="702"/>
                  </a:lnTo>
                  <a:lnTo>
                    <a:pt x="17" y="715"/>
                  </a:lnTo>
                  <a:lnTo>
                    <a:pt x="384" y="0"/>
                  </a:lnTo>
                  <a:lnTo>
                    <a:pt x="0" y="719"/>
                  </a:lnTo>
                  <a:lnTo>
                    <a:pt x="100" y="712"/>
                  </a:lnTo>
                  <a:lnTo>
                    <a:pt x="199" y="704"/>
                  </a:lnTo>
                  <a:lnTo>
                    <a:pt x="300" y="695"/>
                  </a:lnTo>
                  <a:lnTo>
                    <a:pt x="399" y="684"/>
                  </a:lnTo>
                  <a:lnTo>
                    <a:pt x="500" y="673"/>
                  </a:lnTo>
                  <a:lnTo>
                    <a:pt x="599" y="663"/>
                  </a:lnTo>
                  <a:lnTo>
                    <a:pt x="700" y="651"/>
                  </a:lnTo>
                  <a:lnTo>
                    <a:pt x="800" y="639"/>
                  </a:lnTo>
                  <a:lnTo>
                    <a:pt x="901" y="626"/>
                  </a:lnTo>
                  <a:lnTo>
                    <a:pt x="1000" y="614"/>
                  </a:lnTo>
                  <a:lnTo>
                    <a:pt x="1101" y="602"/>
                  </a:lnTo>
                  <a:lnTo>
                    <a:pt x="1201" y="590"/>
                  </a:lnTo>
                  <a:lnTo>
                    <a:pt x="1301" y="578"/>
                  </a:lnTo>
                  <a:lnTo>
                    <a:pt x="1401" y="567"/>
                  </a:lnTo>
                  <a:lnTo>
                    <a:pt x="1501" y="557"/>
                  </a:lnTo>
                  <a:lnTo>
                    <a:pt x="1600" y="547"/>
                  </a:lnTo>
                  <a:lnTo>
                    <a:pt x="1699" y="538"/>
                  </a:lnTo>
                  <a:lnTo>
                    <a:pt x="1799" y="530"/>
                  </a:lnTo>
                  <a:lnTo>
                    <a:pt x="1897" y="523"/>
                  </a:lnTo>
                  <a:lnTo>
                    <a:pt x="1995" y="517"/>
                  </a:lnTo>
                  <a:lnTo>
                    <a:pt x="2093" y="513"/>
                  </a:lnTo>
                  <a:lnTo>
                    <a:pt x="2191" y="511"/>
                  </a:lnTo>
                  <a:lnTo>
                    <a:pt x="2288" y="510"/>
                  </a:lnTo>
                  <a:lnTo>
                    <a:pt x="2385" y="510"/>
                  </a:lnTo>
                  <a:lnTo>
                    <a:pt x="2481" y="513"/>
                  </a:lnTo>
                  <a:lnTo>
                    <a:pt x="2577" y="517"/>
                  </a:lnTo>
                  <a:lnTo>
                    <a:pt x="2671" y="524"/>
                  </a:lnTo>
                  <a:lnTo>
                    <a:pt x="2766" y="533"/>
                  </a:lnTo>
                  <a:lnTo>
                    <a:pt x="2859" y="544"/>
                  </a:lnTo>
                  <a:lnTo>
                    <a:pt x="2953" y="558"/>
                  </a:lnTo>
                  <a:lnTo>
                    <a:pt x="3045" y="575"/>
                  </a:lnTo>
                  <a:lnTo>
                    <a:pt x="3137" y="594"/>
                  </a:lnTo>
                  <a:lnTo>
                    <a:pt x="3216" y="5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60760" y="6659640"/>
              <a:ext cx="915840" cy="58680"/>
            </a:xfrm>
            <a:custGeom>
              <a:avLst/>
              <a:gdLst/>
              <a:ahLst/>
              <a:rect l="l" t="t" r="r" b="b"/>
              <a:pathLst>
                <a:path w="2883" h="185">
                  <a:moveTo>
                    <a:pt x="2883" y="74"/>
                  </a:moveTo>
                  <a:lnTo>
                    <a:pt x="2805" y="57"/>
                  </a:lnTo>
                  <a:lnTo>
                    <a:pt x="2726" y="43"/>
                  </a:lnTo>
                  <a:lnTo>
                    <a:pt x="2646" y="32"/>
                  </a:lnTo>
                  <a:lnTo>
                    <a:pt x="2563" y="21"/>
                  </a:lnTo>
                  <a:lnTo>
                    <a:pt x="2480" y="14"/>
                  </a:lnTo>
                  <a:lnTo>
                    <a:pt x="2395" y="7"/>
                  </a:lnTo>
                  <a:lnTo>
                    <a:pt x="2309" y="3"/>
                  </a:lnTo>
                  <a:lnTo>
                    <a:pt x="2222" y="1"/>
                  </a:lnTo>
                  <a:lnTo>
                    <a:pt x="2134" y="0"/>
                  </a:lnTo>
                  <a:lnTo>
                    <a:pt x="2045" y="0"/>
                  </a:lnTo>
                  <a:lnTo>
                    <a:pt x="1955" y="2"/>
                  </a:lnTo>
                  <a:lnTo>
                    <a:pt x="1864" y="5"/>
                  </a:lnTo>
                  <a:lnTo>
                    <a:pt x="1773" y="9"/>
                  </a:lnTo>
                  <a:lnTo>
                    <a:pt x="1679" y="15"/>
                  </a:lnTo>
                  <a:lnTo>
                    <a:pt x="1587" y="21"/>
                  </a:lnTo>
                  <a:lnTo>
                    <a:pt x="1494" y="28"/>
                  </a:lnTo>
                  <a:lnTo>
                    <a:pt x="1400" y="37"/>
                  </a:lnTo>
                  <a:lnTo>
                    <a:pt x="1306" y="46"/>
                  </a:lnTo>
                  <a:lnTo>
                    <a:pt x="1211" y="55"/>
                  </a:lnTo>
                  <a:lnTo>
                    <a:pt x="1117" y="65"/>
                  </a:lnTo>
                  <a:lnTo>
                    <a:pt x="1022" y="75"/>
                  </a:lnTo>
                  <a:lnTo>
                    <a:pt x="928" y="86"/>
                  </a:lnTo>
                  <a:lnTo>
                    <a:pt x="833" y="97"/>
                  </a:lnTo>
                  <a:lnTo>
                    <a:pt x="738" y="107"/>
                  </a:lnTo>
                  <a:lnTo>
                    <a:pt x="645" y="118"/>
                  </a:lnTo>
                  <a:lnTo>
                    <a:pt x="550" y="129"/>
                  </a:lnTo>
                  <a:lnTo>
                    <a:pt x="457" y="140"/>
                  </a:lnTo>
                  <a:lnTo>
                    <a:pt x="365" y="150"/>
                  </a:lnTo>
                  <a:lnTo>
                    <a:pt x="273" y="160"/>
                  </a:lnTo>
                  <a:lnTo>
                    <a:pt x="181" y="169"/>
                  </a:lnTo>
                  <a:lnTo>
                    <a:pt x="90" y="178"/>
                  </a:lnTo>
                  <a:lnTo>
                    <a:pt x="0" y="185"/>
                  </a:lnTo>
                  <a:lnTo>
                    <a:pt x="2883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676680" y="6665760"/>
              <a:ext cx="782640" cy="51120"/>
            </a:xfrm>
            <a:custGeom>
              <a:avLst/>
              <a:gdLst/>
              <a:ahLst/>
              <a:rect l="l" t="t" r="r" b="b"/>
              <a:pathLst>
                <a:path w="2467" h="156">
                  <a:moveTo>
                    <a:pt x="2467" y="70"/>
                  </a:moveTo>
                  <a:lnTo>
                    <a:pt x="2399" y="55"/>
                  </a:lnTo>
                  <a:lnTo>
                    <a:pt x="2328" y="43"/>
                  </a:lnTo>
                  <a:lnTo>
                    <a:pt x="2258" y="32"/>
                  </a:lnTo>
                  <a:lnTo>
                    <a:pt x="2185" y="23"/>
                  </a:lnTo>
                  <a:lnTo>
                    <a:pt x="2112" y="15"/>
                  </a:lnTo>
                  <a:lnTo>
                    <a:pt x="2038" y="10"/>
                  </a:lnTo>
                  <a:lnTo>
                    <a:pt x="1963" y="5"/>
                  </a:lnTo>
                  <a:lnTo>
                    <a:pt x="1887" y="2"/>
                  </a:lnTo>
                  <a:lnTo>
                    <a:pt x="1810" y="0"/>
                  </a:lnTo>
                  <a:lnTo>
                    <a:pt x="1733" y="0"/>
                  </a:lnTo>
                  <a:lnTo>
                    <a:pt x="1656" y="1"/>
                  </a:lnTo>
                  <a:lnTo>
                    <a:pt x="1577" y="3"/>
                  </a:lnTo>
                  <a:lnTo>
                    <a:pt x="1498" y="6"/>
                  </a:lnTo>
                  <a:lnTo>
                    <a:pt x="1419" y="10"/>
                  </a:lnTo>
                  <a:lnTo>
                    <a:pt x="1340" y="15"/>
                  </a:lnTo>
                  <a:lnTo>
                    <a:pt x="1259" y="20"/>
                  </a:lnTo>
                  <a:lnTo>
                    <a:pt x="1179" y="27"/>
                  </a:lnTo>
                  <a:lnTo>
                    <a:pt x="1099" y="34"/>
                  </a:lnTo>
                  <a:lnTo>
                    <a:pt x="1019" y="42"/>
                  </a:lnTo>
                  <a:lnTo>
                    <a:pt x="939" y="49"/>
                  </a:lnTo>
                  <a:lnTo>
                    <a:pt x="858" y="58"/>
                  </a:lnTo>
                  <a:lnTo>
                    <a:pt x="778" y="66"/>
                  </a:lnTo>
                  <a:lnTo>
                    <a:pt x="698" y="76"/>
                  </a:lnTo>
                  <a:lnTo>
                    <a:pt x="619" y="84"/>
                  </a:lnTo>
                  <a:lnTo>
                    <a:pt x="540" y="94"/>
                  </a:lnTo>
                  <a:lnTo>
                    <a:pt x="461" y="104"/>
                  </a:lnTo>
                  <a:lnTo>
                    <a:pt x="382" y="113"/>
                  </a:lnTo>
                  <a:lnTo>
                    <a:pt x="304" y="122"/>
                  </a:lnTo>
                  <a:lnTo>
                    <a:pt x="227" y="131"/>
                  </a:lnTo>
                  <a:lnTo>
                    <a:pt x="151" y="140"/>
                  </a:lnTo>
                  <a:lnTo>
                    <a:pt x="75" y="148"/>
                  </a:lnTo>
                  <a:lnTo>
                    <a:pt x="0" y="156"/>
                  </a:lnTo>
                  <a:lnTo>
                    <a:pt x="246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55880" y="6675480"/>
              <a:ext cx="690840" cy="36360"/>
            </a:xfrm>
            <a:custGeom>
              <a:avLst/>
              <a:gdLst/>
              <a:ahLst/>
              <a:rect l="l" t="t" r="r" b="b"/>
              <a:pathLst>
                <a:path w="2176" h="117">
                  <a:moveTo>
                    <a:pt x="2176" y="52"/>
                  </a:moveTo>
                  <a:lnTo>
                    <a:pt x="2107" y="41"/>
                  </a:lnTo>
                  <a:lnTo>
                    <a:pt x="2039" y="32"/>
                  </a:lnTo>
                  <a:lnTo>
                    <a:pt x="1970" y="24"/>
                  </a:lnTo>
                  <a:lnTo>
                    <a:pt x="1901" y="17"/>
                  </a:lnTo>
                  <a:lnTo>
                    <a:pt x="1832" y="11"/>
                  </a:lnTo>
                  <a:lnTo>
                    <a:pt x="1763" y="7"/>
                  </a:lnTo>
                  <a:lnTo>
                    <a:pt x="1693" y="4"/>
                  </a:lnTo>
                  <a:lnTo>
                    <a:pt x="1624" y="2"/>
                  </a:lnTo>
                  <a:lnTo>
                    <a:pt x="1555" y="1"/>
                  </a:lnTo>
                  <a:lnTo>
                    <a:pt x="1486" y="0"/>
                  </a:lnTo>
                  <a:lnTo>
                    <a:pt x="1417" y="1"/>
                  </a:lnTo>
                  <a:lnTo>
                    <a:pt x="1347" y="2"/>
                  </a:lnTo>
                  <a:lnTo>
                    <a:pt x="1278" y="4"/>
                  </a:lnTo>
                  <a:lnTo>
                    <a:pt x="1208" y="7"/>
                  </a:lnTo>
                  <a:lnTo>
                    <a:pt x="1139" y="10"/>
                  </a:lnTo>
                  <a:lnTo>
                    <a:pt x="1071" y="15"/>
                  </a:lnTo>
                  <a:lnTo>
                    <a:pt x="1001" y="19"/>
                  </a:lnTo>
                  <a:lnTo>
                    <a:pt x="933" y="24"/>
                  </a:lnTo>
                  <a:lnTo>
                    <a:pt x="863" y="30"/>
                  </a:lnTo>
                  <a:lnTo>
                    <a:pt x="795" y="36"/>
                  </a:lnTo>
                  <a:lnTo>
                    <a:pt x="727" y="42"/>
                  </a:lnTo>
                  <a:lnTo>
                    <a:pt x="660" y="49"/>
                  </a:lnTo>
                  <a:lnTo>
                    <a:pt x="592" y="55"/>
                  </a:lnTo>
                  <a:lnTo>
                    <a:pt x="525" y="63"/>
                  </a:lnTo>
                  <a:lnTo>
                    <a:pt x="458" y="69"/>
                  </a:lnTo>
                  <a:lnTo>
                    <a:pt x="392" y="77"/>
                  </a:lnTo>
                  <a:lnTo>
                    <a:pt x="325" y="84"/>
                  </a:lnTo>
                  <a:lnTo>
                    <a:pt x="259" y="90"/>
                  </a:lnTo>
                  <a:lnTo>
                    <a:pt x="194" y="98"/>
                  </a:lnTo>
                  <a:lnTo>
                    <a:pt x="128" y="104"/>
                  </a:lnTo>
                  <a:lnTo>
                    <a:pt x="64" y="111"/>
                  </a:lnTo>
                  <a:lnTo>
                    <a:pt x="0" y="117"/>
                  </a:lnTo>
                  <a:lnTo>
                    <a:pt x="217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65520" y="6072120"/>
              <a:ext cx="1079640" cy="649440"/>
            </a:xfrm>
            <a:custGeom>
              <a:avLst/>
              <a:gdLst/>
              <a:ahLst/>
              <a:rect l="l" t="t" r="r" b="b"/>
              <a:pathLst>
                <a:path w="3400" h="2047">
                  <a:moveTo>
                    <a:pt x="0" y="1835"/>
                  </a:moveTo>
                  <a:lnTo>
                    <a:pt x="108" y="1810"/>
                  </a:lnTo>
                  <a:lnTo>
                    <a:pt x="214" y="1787"/>
                  </a:lnTo>
                  <a:lnTo>
                    <a:pt x="320" y="1767"/>
                  </a:lnTo>
                  <a:lnTo>
                    <a:pt x="425" y="1750"/>
                  </a:lnTo>
                  <a:lnTo>
                    <a:pt x="529" y="1736"/>
                  </a:lnTo>
                  <a:lnTo>
                    <a:pt x="633" y="1724"/>
                  </a:lnTo>
                  <a:lnTo>
                    <a:pt x="737" y="1715"/>
                  </a:lnTo>
                  <a:lnTo>
                    <a:pt x="840" y="1708"/>
                  </a:lnTo>
                  <a:lnTo>
                    <a:pt x="943" y="1703"/>
                  </a:lnTo>
                  <a:lnTo>
                    <a:pt x="1045" y="1701"/>
                  </a:lnTo>
                  <a:lnTo>
                    <a:pt x="1147" y="1700"/>
                  </a:lnTo>
                  <a:lnTo>
                    <a:pt x="1249" y="1701"/>
                  </a:lnTo>
                  <a:lnTo>
                    <a:pt x="1350" y="1704"/>
                  </a:lnTo>
                  <a:lnTo>
                    <a:pt x="1451" y="1709"/>
                  </a:lnTo>
                  <a:lnTo>
                    <a:pt x="1552" y="1716"/>
                  </a:lnTo>
                  <a:lnTo>
                    <a:pt x="1651" y="1723"/>
                  </a:lnTo>
                  <a:lnTo>
                    <a:pt x="1752" y="1733"/>
                  </a:lnTo>
                  <a:lnTo>
                    <a:pt x="1851" y="1744"/>
                  </a:lnTo>
                  <a:lnTo>
                    <a:pt x="1950" y="1755"/>
                  </a:lnTo>
                  <a:lnTo>
                    <a:pt x="2050" y="1768"/>
                  </a:lnTo>
                  <a:lnTo>
                    <a:pt x="2149" y="1782"/>
                  </a:lnTo>
                  <a:lnTo>
                    <a:pt x="2248" y="1796"/>
                  </a:lnTo>
                  <a:lnTo>
                    <a:pt x="2347" y="1812"/>
                  </a:lnTo>
                  <a:lnTo>
                    <a:pt x="2446" y="1828"/>
                  </a:lnTo>
                  <a:lnTo>
                    <a:pt x="2544" y="1844"/>
                  </a:lnTo>
                  <a:lnTo>
                    <a:pt x="2643" y="1861"/>
                  </a:lnTo>
                  <a:lnTo>
                    <a:pt x="2742" y="1878"/>
                  </a:lnTo>
                  <a:lnTo>
                    <a:pt x="2841" y="1896"/>
                  </a:lnTo>
                  <a:lnTo>
                    <a:pt x="2940" y="1915"/>
                  </a:lnTo>
                  <a:lnTo>
                    <a:pt x="3039" y="1932"/>
                  </a:lnTo>
                  <a:lnTo>
                    <a:pt x="3138" y="1950"/>
                  </a:lnTo>
                  <a:lnTo>
                    <a:pt x="3237" y="1967"/>
                  </a:lnTo>
                  <a:lnTo>
                    <a:pt x="2296" y="0"/>
                  </a:lnTo>
                  <a:lnTo>
                    <a:pt x="3400" y="2045"/>
                  </a:lnTo>
                  <a:lnTo>
                    <a:pt x="3303" y="2047"/>
                  </a:lnTo>
                  <a:lnTo>
                    <a:pt x="3207" y="2047"/>
                  </a:lnTo>
                  <a:lnTo>
                    <a:pt x="3110" y="2047"/>
                  </a:lnTo>
                  <a:lnTo>
                    <a:pt x="3013" y="2046"/>
                  </a:lnTo>
                  <a:lnTo>
                    <a:pt x="2916" y="2043"/>
                  </a:lnTo>
                  <a:lnTo>
                    <a:pt x="2819" y="2039"/>
                  </a:lnTo>
                  <a:lnTo>
                    <a:pt x="2722" y="2035"/>
                  </a:lnTo>
                  <a:lnTo>
                    <a:pt x="2625" y="2031"/>
                  </a:lnTo>
                  <a:lnTo>
                    <a:pt x="2528" y="2026"/>
                  </a:lnTo>
                  <a:lnTo>
                    <a:pt x="2432" y="2019"/>
                  </a:lnTo>
                  <a:lnTo>
                    <a:pt x="2335" y="2014"/>
                  </a:lnTo>
                  <a:lnTo>
                    <a:pt x="2238" y="2007"/>
                  </a:lnTo>
                  <a:lnTo>
                    <a:pt x="2141" y="2000"/>
                  </a:lnTo>
                  <a:lnTo>
                    <a:pt x="2045" y="1994"/>
                  </a:lnTo>
                  <a:lnTo>
                    <a:pt x="1948" y="1987"/>
                  </a:lnTo>
                  <a:lnTo>
                    <a:pt x="1852" y="1980"/>
                  </a:lnTo>
                  <a:lnTo>
                    <a:pt x="1756" y="1973"/>
                  </a:lnTo>
                  <a:lnTo>
                    <a:pt x="1662" y="1968"/>
                  </a:lnTo>
                  <a:lnTo>
                    <a:pt x="1567" y="1961"/>
                  </a:lnTo>
                  <a:lnTo>
                    <a:pt x="1473" y="1956"/>
                  </a:lnTo>
                  <a:lnTo>
                    <a:pt x="1378" y="1952"/>
                  </a:lnTo>
                  <a:lnTo>
                    <a:pt x="1285" y="1948"/>
                  </a:lnTo>
                  <a:lnTo>
                    <a:pt x="1191" y="1944"/>
                  </a:lnTo>
                  <a:lnTo>
                    <a:pt x="1099" y="1942"/>
                  </a:lnTo>
                  <a:lnTo>
                    <a:pt x="1007" y="1941"/>
                  </a:lnTo>
                  <a:lnTo>
                    <a:pt x="916" y="1941"/>
                  </a:lnTo>
                  <a:lnTo>
                    <a:pt x="825" y="1941"/>
                  </a:lnTo>
                  <a:lnTo>
                    <a:pt x="735" y="1943"/>
                  </a:lnTo>
                  <a:lnTo>
                    <a:pt x="645" y="1948"/>
                  </a:lnTo>
                  <a:lnTo>
                    <a:pt x="557" y="1952"/>
                  </a:lnTo>
                  <a:lnTo>
                    <a:pt x="469" y="1958"/>
                  </a:lnTo>
                  <a:lnTo>
                    <a:pt x="382" y="1967"/>
                  </a:lnTo>
                  <a:lnTo>
                    <a:pt x="0" y="18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583160" y="6340320"/>
              <a:ext cx="1038240" cy="370080"/>
            </a:xfrm>
            <a:custGeom>
              <a:avLst/>
              <a:gdLst/>
              <a:ahLst/>
              <a:rect l="l" t="t" r="r" b="b"/>
              <a:pathLst>
                <a:path w="3272" h="1166">
                  <a:moveTo>
                    <a:pt x="0" y="999"/>
                  </a:moveTo>
                  <a:lnTo>
                    <a:pt x="94" y="978"/>
                  </a:lnTo>
                  <a:lnTo>
                    <a:pt x="190" y="960"/>
                  </a:lnTo>
                  <a:lnTo>
                    <a:pt x="285" y="944"/>
                  </a:lnTo>
                  <a:lnTo>
                    <a:pt x="381" y="930"/>
                  </a:lnTo>
                  <a:lnTo>
                    <a:pt x="475" y="918"/>
                  </a:lnTo>
                  <a:lnTo>
                    <a:pt x="571" y="908"/>
                  </a:lnTo>
                  <a:lnTo>
                    <a:pt x="667" y="901"/>
                  </a:lnTo>
                  <a:lnTo>
                    <a:pt x="762" y="895"/>
                  </a:lnTo>
                  <a:lnTo>
                    <a:pt x="858" y="891"/>
                  </a:lnTo>
                  <a:lnTo>
                    <a:pt x="955" y="890"/>
                  </a:lnTo>
                  <a:lnTo>
                    <a:pt x="1052" y="889"/>
                  </a:lnTo>
                  <a:lnTo>
                    <a:pt x="1149" y="891"/>
                  </a:lnTo>
                  <a:lnTo>
                    <a:pt x="1247" y="894"/>
                  </a:lnTo>
                  <a:lnTo>
                    <a:pt x="1346" y="899"/>
                  </a:lnTo>
                  <a:lnTo>
                    <a:pt x="1444" y="904"/>
                  </a:lnTo>
                  <a:lnTo>
                    <a:pt x="1543" y="911"/>
                  </a:lnTo>
                  <a:lnTo>
                    <a:pt x="1642" y="920"/>
                  </a:lnTo>
                  <a:lnTo>
                    <a:pt x="1743" y="930"/>
                  </a:lnTo>
                  <a:lnTo>
                    <a:pt x="1844" y="940"/>
                  </a:lnTo>
                  <a:lnTo>
                    <a:pt x="1945" y="951"/>
                  </a:lnTo>
                  <a:lnTo>
                    <a:pt x="2047" y="964"/>
                  </a:lnTo>
                  <a:lnTo>
                    <a:pt x="2150" y="978"/>
                  </a:lnTo>
                  <a:lnTo>
                    <a:pt x="2254" y="992"/>
                  </a:lnTo>
                  <a:lnTo>
                    <a:pt x="2358" y="1007"/>
                  </a:lnTo>
                  <a:lnTo>
                    <a:pt x="2464" y="1021"/>
                  </a:lnTo>
                  <a:lnTo>
                    <a:pt x="2570" y="1037"/>
                  </a:lnTo>
                  <a:lnTo>
                    <a:pt x="2677" y="1055"/>
                  </a:lnTo>
                  <a:lnTo>
                    <a:pt x="2785" y="1071"/>
                  </a:lnTo>
                  <a:lnTo>
                    <a:pt x="2894" y="1088"/>
                  </a:lnTo>
                  <a:lnTo>
                    <a:pt x="3004" y="1105"/>
                  </a:lnTo>
                  <a:lnTo>
                    <a:pt x="3115" y="1123"/>
                  </a:lnTo>
                  <a:lnTo>
                    <a:pt x="3226" y="1140"/>
                  </a:lnTo>
                  <a:lnTo>
                    <a:pt x="2668" y="0"/>
                  </a:lnTo>
                  <a:lnTo>
                    <a:pt x="3272" y="1166"/>
                  </a:lnTo>
                  <a:lnTo>
                    <a:pt x="3175" y="1153"/>
                  </a:lnTo>
                  <a:lnTo>
                    <a:pt x="3077" y="1139"/>
                  </a:lnTo>
                  <a:lnTo>
                    <a:pt x="2979" y="1125"/>
                  </a:lnTo>
                  <a:lnTo>
                    <a:pt x="2880" y="1110"/>
                  </a:lnTo>
                  <a:lnTo>
                    <a:pt x="2781" y="1095"/>
                  </a:lnTo>
                  <a:lnTo>
                    <a:pt x="2680" y="1080"/>
                  </a:lnTo>
                  <a:lnTo>
                    <a:pt x="2580" y="1065"/>
                  </a:lnTo>
                  <a:lnTo>
                    <a:pt x="2479" y="1050"/>
                  </a:lnTo>
                  <a:lnTo>
                    <a:pt x="2379" y="1035"/>
                  </a:lnTo>
                  <a:lnTo>
                    <a:pt x="2277" y="1021"/>
                  </a:lnTo>
                  <a:lnTo>
                    <a:pt x="2175" y="1007"/>
                  </a:lnTo>
                  <a:lnTo>
                    <a:pt x="2073" y="994"/>
                  </a:lnTo>
                  <a:lnTo>
                    <a:pt x="1972" y="981"/>
                  </a:lnTo>
                  <a:lnTo>
                    <a:pt x="1869" y="969"/>
                  </a:lnTo>
                  <a:lnTo>
                    <a:pt x="1767" y="957"/>
                  </a:lnTo>
                  <a:lnTo>
                    <a:pt x="1665" y="948"/>
                  </a:lnTo>
                  <a:lnTo>
                    <a:pt x="1562" y="938"/>
                  </a:lnTo>
                  <a:lnTo>
                    <a:pt x="1460" y="931"/>
                  </a:lnTo>
                  <a:lnTo>
                    <a:pt x="1357" y="924"/>
                  </a:lnTo>
                  <a:lnTo>
                    <a:pt x="1256" y="920"/>
                  </a:lnTo>
                  <a:lnTo>
                    <a:pt x="1154" y="917"/>
                  </a:lnTo>
                  <a:lnTo>
                    <a:pt x="1052" y="915"/>
                  </a:lnTo>
                  <a:lnTo>
                    <a:pt x="952" y="915"/>
                  </a:lnTo>
                  <a:lnTo>
                    <a:pt x="851" y="917"/>
                  </a:lnTo>
                  <a:lnTo>
                    <a:pt x="751" y="921"/>
                  </a:lnTo>
                  <a:lnTo>
                    <a:pt x="650" y="927"/>
                  </a:lnTo>
                  <a:lnTo>
                    <a:pt x="551" y="937"/>
                  </a:lnTo>
                  <a:lnTo>
                    <a:pt x="451" y="948"/>
                  </a:lnTo>
                  <a:lnTo>
                    <a:pt x="353" y="962"/>
                  </a:lnTo>
                  <a:lnTo>
                    <a:pt x="255" y="978"/>
                  </a:lnTo>
                  <a:lnTo>
                    <a:pt x="158" y="997"/>
                  </a:lnTo>
                  <a:lnTo>
                    <a:pt x="61" y="1019"/>
                  </a:lnTo>
                  <a:lnTo>
                    <a:pt x="0" y="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14840" y="6489720"/>
              <a:ext cx="1020960" cy="228600"/>
            </a:xfrm>
            <a:custGeom>
              <a:avLst/>
              <a:gdLst/>
              <a:ahLst/>
              <a:rect l="l" t="t" r="r" b="b"/>
              <a:pathLst>
                <a:path w="3216" h="718">
                  <a:moveTo>
                    <a:pt x="0" y="573"/>
                  </a:moveTo>
                  <a:lnTo>
                    <a:pt x="83" y="553"/>
                  </a:lnTo>
                  <a:lnTo>
                    <a:pt x="168" y="535"/>
                  </a:lnTo>
                  <a:lnTo>
                    <a:pt x="254" y="520"/>
                  </a:lnTo>
                  <a:lnTo>
                    <a:pt x="343" y="507"/>
                  </a:lnTo>
                  <a:lnTo>
                    <a:pt x="433" y="496"/>
                  </a:lnTo>
                  <a:lnTo>
                    <a:pt x="525" y="489"/>
                  </a:lnTo>
                  <a:lnTo>
                    <a:pt x="619" y="482"/>
                  </a:lnTo>
                  <a:lnTo>
                    <a:pt x="714" y="478"/>
                  </a:lnTo>
                  <a:lnTo>
                    <a:pt x="811" y="476"/>
                  </a:lnTo>
                  <a:lnTo>
                    <a:pt x="909" y="476"/>
                  </a:lnTo>
                  <a:lnTo>
                    <a:pt x="1008" y="477"/>
                  </a:lnTo>
                  <a:lnTo>
                    <a:pt x="1109" y="480"/>
                  </a:lnTo>
                  <a:lnTo>
                    <a:pt x="1211" y="484"/>
                  </a:lnTo>
                  <a:lnTo>
                    <a:pt x="1313" y="490"/>
                  </a:lnTo>
                  <a:lnTo>
                    <a:pt x="1416" y="497"/>
                  </a:lnTo>
                  <a:lnTo>
                    <a:pt x="1520" y="506"/>
                  </a:lnTo>
                  <a:lnTo>
                    <a:pt x="1625" y="514"/>
                  </a:lnTo>
                  <a:lnTo>
                    <a:pt x="1729" y="525"/>
                  </a:lnTo>
                  <a:lnTo>
                    <a:pt x="1835" y="537"/>
                  </a:lnTo>
                  <a:lnTo>
                    <a:pt x="1941" y="548"/>
                  </a:lnTo>
                  <a:lnTo>
                    <a:pt x="2046" y="561"/>
                  </a:lnTo>
                  <a:lnTo>
                    <a:pt x="2153" y="574"/>
                  </a:lnTo>
                  <a:lnTo>
                    <a:pt x="2260" y="588"/>
                  </a:lnTo>
                  <a:lnTo>
                    <a:pt x="2366" y="602"/>
                  </a:lnTo>
                  <a:lnTo>
                    <a:pt x="2471" y="616"/>
                  </a:lnTo>
                  <a:lnTo>
                    <a:pt x="2577" y="631"/>
                  </a:lnTo>
                  <a:lnTo>
                    <a:pt x="2682" y="644"/>
                  </a:lnTo>
                  <a:lnTo>
                    <a:pt x="2788" y="659"/>
                  </a:lnTo>
                  <a:lnTo>
                    <a:pt x="2892" y="673"/>
                  </a:lnTo>
                  <a:lnTo>
                    <a:pt x="2995" y="687"/>
                  </a:lnTo>
                  <a:lnTo>
                    <a:pt x="3098" y="701"/>
                  </a:lnTo>
                  <a:lnTo>
                    <a:pt x="3199" y="714"/>
                  </a:lnTo>
                  <a:lnTo>
                    <a:pt x="2833" y="0"/>
                  </a:lnTo>
                  <a:lnTo>
                    <a:pt x="3216" y="718"/>
                  </a:lnTo>
                  <a:lnTo>
                    <a:pt x="3117" y="711"/>
                  </a:lnTo>
                  <a:lnTo>
                    <a:pt x="3017" y="703"/>
                  </a:lnTo>
                  <a:lnTo>
                    <a:pt x="2917" y="694"/>
                  </a:lnTo>
                  <a:lnTo>
                    <a:pt x="2817" y="683"/>
                  </a:lnTo>
                  <a:lnTo>
                    <a:pt x="2717" y="672"/>
                  </a:lnTo>
                  <a:lnTo>
                    <a:pt x="2618" y="662"/>
                  </a:lnTo>
                  <a:lnTo>
                    <a:pt x="2517" y="650"/>
                  </a:lnTo>
                  <a:lnTo>
                    <a:pt x="2416" y="638"/>
                  </a:lnTo>
                  <a:lnTo>
                    <a:pt x="2316" y="625"/>
                  </a:lnTo>
                  <a:lnTo>
                    <a:pt x="2216" y="614"/>
                  </a:lnTo>
                  <a:lnTo>
                    <a:pt x="2116" y="601"/>
                  </a:lnTo>
                  <a:lnTo>
                    <a:pt x="2015" y="589"/>
                  </a:lnTo>
                  <a:lnTo>
                    <a:pt x="1916" y="577"/>
                  </a:lnTo>
                  <a:lnTo>
                    <a:pt x="1815" y="567"/>
                  </a:lnTo>
                  <a:lnTo>
                    <a:pt x="1716" y="556"/>
                  </a:lnTo>
                  <a:lnTo>
                    <a:pt x="1617" y="546"/>
                  </a:lnTo>
                  <a:lnTo>
                    <a:pt x="1517" y="537"/>
                  </a:lnTo>
                  <a:lnTo>
                    <a:pt x="1418" y="529"/>
                  </a:lnTo>
                  <a:lnTo>
                    <a:pt x="1320" y="522"/>
                  </a:lnTo>
                  <a:lnTo>
                    <a:pt x="1222" y="516"/>
                  </a:lnTo>
                  <a:lnTo>
                    <a:pt x="1123" y="512"/>
                  </a:lnTo>
                  <a:lnTo>
                    <a:pt x="1025" y="510"/>
                  </a:lnTo>
                  <a:lnTo>
                    <a:pt x="928" y="509"/>
                  </a:lnTo>
                  <a:lnTo>
                    <a:pt x="831" y="509"/>
                  </a:lnTo>
                  <a:lnTo>
                    <a:pt x="736" y="512"/>
                  </a:lnTo>
                  <a:lnTo>
                    <a:pt x="640" y="516"/>
                  </a:lnTo>
                  <a:lnTo>
                    <a:pt x="545" y="523"/>
                  </a:lnTo>
                  <a:lnTo>
                    <a:pt x="451" y="532"/>
                  </a:lnTo>
                  <a:lnTo>
                    <a:pt x="357" y="543"/>
                  </a:lnTo>
                  <a:lnTo>
                    <a:pt x="264" y="557"/>
                  </a:lnTo>
                  <a:lnTo>
                    <a:pt x="172" y="574"/>
                  </a:lnTo>
                  <a:lnTo>
                    <a:pt x="79" y="593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70280" y="6667560"/>
              <a:ext cx="782640" cy="49320"/>
            </a:xfrm>
            <a:custGeom>
              <a:avLst/>
              <a:gdLst/>
              <a:ahLst/>
              <a:rect l="l" t="t" r="r" b="b"/>
              <a:pathLst>
                <a:path w="2468" h="156">
                  <a:moveTo>
                    <a:pt x="0" y="70"/>
                  </a:moveTo>
                  <a:lnTo>
                    <a:pt x="68" y="56"/>
                  </a:lnTo>
                  <a:lnTo>
                    <a:pt x="139" y="43"/>
                  </a:lnTo>
                  <a:lnTo>
                    <a:pt x="210" y="32"/>
                  </a:lnTo>
                  <a:lnTo>
                    <a:pt x="283" y="23"/>
                  </a:lnTo>
                  <a:lnTo>
                    <a:pt x="356" y="15"/>
                  </a:lnTo>
                  <a:lnTo>
                    <a:pt x="430" y="10"/>
                  </a:lnTo>
                  <a:lnTo>
                    <a:pt x="504" y="5"/>
                  </a:lnTo>
                  <a:lnTo>
                    <a:pt x="581" y="2"/>
                  </a:lnTo>
                  <a:lnTo>
                    <a:pt x="657" y="0"/>
                  </a:lnTo>
                  <a:lnTo>
                    <a:pt x="734" y="0"/>
                  </a:lnTo>
                  <a:lnTo>
                    <a:pt x="812" y="1"/>
                  </a:lnTo>
                  <a:lnTo>
                    <a:pt x="891" y="3"/>
                  </a:lnTo>
                  <a:lnTo>
                    <a:pt x="970" y="6"/>
                  </a:lnTo>
                  <a:lnTo>
                    <a:pt x="1049" y="10"/>
                  </a:lnTo>
                  <a:lnTo>
                    <a:pt x="1128" y="15"/>
                  </a:lnTo>
                  <a:lnTo>
                    <a:pt x="1208" y="20"/>
                  </a:lnTo>
                  <a:lnTo>
                    <a:pt x="1288" y="27"/>
                  </a:lnTo>
                  <a:lnTo>
                    <a:pt x="1369" y="34"/>
                  </a:lnTo>
                  <a:lnTo>
                    <a:pt x="1449" y="42"/>
                  </a:lnTo>
                  <a:lnTo>
                    <a:pt x="1529" y="49"/>
                  </a:lnTo>
                  <a:lnTo>
                    <a:pt x="1609" y="58"/>
                  </a:lnTo>
                  <a:lnTo>
                    <a:pt x="1689" y="66"/>
                  </a:lnTo>
                  <a:lnTo>
                    <a:pt x="1770" y="76"/>
                  </a:lnTo>
                  <a:lnTo>
                    <a:pt x="1849" y="84"/>
                  </a:lnTo>
                  <a:lnTo>
                    <a:pt x="1928" y="94"/>
                  </a:lnTo>
                  <a:lnTo>
                    <a:pt x="2007" y="104"/>
                  </a:lnTo>
                  <a:lnTo>
                    <a:pt x="2086" y="113"/>
                  </a:lnTo>
                  <a:lnTo>
                    <a:pt x="2164" y="122"/>
                  </a:lnTo>
                  <a:lnTo>
                    <a:pt x="2240" y="131"/>
                  </a:lnTo>
                  <a:lnTo>
                    <a:pt x="2317" y="140"/>
                  </a:lnTo>
                  <a:lnTo>
                    <a:pt x="2392" y="148"/>
                  </a:lnTo>
                  <a:lnTo>
                    <a:pt x="2468" y="156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4440" y="6661080"/>
              <a:ext cx="914400" cy="58680"/>
            </a:xfrm>
            <a:custGeom>
              <a:avLst/>
              <a:gdLst/>
              <a:ahLst/>
              <a:rect l="l" t="t" r="r" b="b"/>
              <a:pathLst>
                <a:path w="2883" h="186">
                  <a:moveTo>
                    <a:pt x="0" y="74"/>
                  </a:moveTo>
                  <a:lnTo>
                    <a:pt x="78" y="57"/>
                  </a:lnTo>
                  <a:lnTo>
                    <a:pt x="157" y="43"/>
                  </a:lnTo>
                  <a:lnTo>
                    <a:pt x="237" y="32"/>
                  </a:lnTo>
                  <a:lnTo>
                    <a:pt x="320" y="21"/>
                  </a:lnTo>
                  <a:lnTo>
                    <a:pt x="402" y="14"/>
                  </a:lnTo>
                  <a:lnTo>
                    <a:pt x="487" y="7"/>
                  </a:lnTo>
                  <a:lnTo>
                    <a:pt x="573" y="3"/>
                  </a:lnTo>
                  <a:lnTo>
                    <a:pt x="661" y="1"/>
                  </a:lnTo>
                  <a:lnTo>
                    <a:pt x="748" y="0"/>
                  </a:lnTo>
                  <a:lnTo>
                    <a:pt x="838" y="0"/>
                  </a:lnTo>
                  <a:lnTo>
                    <a:pt x="928" y="2"/>
                  </a:lnTo>
                  <a:lnTo>
                    <a:pt x="1019" y="5"/>
                  </a:lnTo>
                  <a:lnTo>
                    <a:pt x="1110" y="9"/>
                  </a:lnTo>
                  <a:lnTo>
                    <a:pt x="1203" y="15"/>
                  </a:lnTo>
                  <a:lnTo>
                    <a:pt x="1295" y="21"/>
                  </a:lnTo>
                  <a:lnTo>
                    <a:pt x="1389" y="29"/>
                  </a:lnTo>
                  <a:lnTo>
                    <a:pt x="1482" y="37"/>
                  </a:lnTo>
                  <a:lnTo>
                    <a:pt x="1577" y="46"/>
                  </a:lnTo>
                  <a:lnTo>
                    <a:pt x="1671" y="55"/>
                  </a:lnTo>
                  <a:lnTo>
                    <a:pt x="1766" y="65"/>
                  </a:lnTo>
                  <a:lnTo>
                    <a:pt x="1860" y="76"/>
                  </a:lnTo>
                  <a:lnTo>
                    <a:pt x="1955" y="86"/>
                  </a:lnTo>
                  <a:lnTo>
                    <a:pt x="2050" y="97"/>
                  </a:lnTo>
                  <a:lnTo>
                    <a:pt x="2144" y="108"/>
                  </a:lnTo>
                  <a:lnTo>
                    <a:pt x="2238" y="118"/>
                  </a:lnTo>
                  <a:lnTo>
                    <a:pt x="2332" y="129"/>
                  </a:lnTo>
                  <a:lnTo>
                    <a:pt x="2425" y="140"/>
                  </a:lnTo>
                  <a:lnTo>
                    <a:pt x="2518" y="150"/>
                  </a:lnTo>
                  <a:lnTo>
                    <a:pt x="2610" y="160"/>
                  </a:lnTo>
                  <a:lnTo>
                    <a:pt x="2702" y="169"/>
                  </a:lnTo>
                  <a:lnTo>
                    <a:pt x="2793" y="178"/>
                  </a:lnTo>
                  <a:lnTo>
                    <a:pt x="2883" y="18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83240" y="6675480"/>
              <a:ext cx="690480" cy="38160"/>
            </a:xfrm>
            <a:custGeom>
              <a:avLst/>
              <a:gdLst/>
              <a:ahLst/>
              <a:rect l="l" t="t" r="r" b="b"/>
              <a:pathLst>
                <a:path w="2175" h="117">
                  <a:moveTo>
                    <a:pt x="0" y="52"/>
                  </a:moveTo>
                  <a:lnTo>
                    <a:pt x="68" y="41"/>
                  </a:lnTo>
                  <a:lnTo>
                    <a:pt x="136" y="32"/>
                  </a:lnTo>
                  <a:lnTo>
                    <a:pt x="206" y="24"/>
                  </a:lnTo>
                  <a:lnTo>
                    <a:pt x="274" y="17"/>
                  </a:lnTo>
                  <a:lnTo>
                    <a:pt x="344" y="12"/>
                  </a:lnTo>
                  <a:lnTo>
                    <a:pt x="413" y="7"/>
                  </a:lnTo>
                  <a:lnTo>
                    <a:pt x="482" y="4"/>
                  </a:lnTo>
                  <a:lnTo>
                    <a:pt x="552" y="2"/>
                  </a:lnTo>
                  <a:lnTo>
                    <a:pt x="620" y="1"/>
                  </a:lnTo>
                  <a:lnTo>
                    <a:pt x="690" y="0"/>
                  </a:lnTo>
                  <a:lnTo>
                    <a:pt x="759" y="1"/>
                  </a:lnTo>
                  <a:lnTo>
                    <a:pt x="828" y="2"/>
                  </a:lnTo>
                  <a:lnTo>
                    <a:pt x="898" y="4"/>
                  </a:lnTo>
                  <a:lnTo>
                    <a:pt x="967" y="7"/>
                  </a:lnTo>
                  <a:lnTo>
                    <a:pt x="1037" y="10"/>
                  </a:lnTo>
                  <a:lnTo>
                    <a:pt x="1106" y="15"/>
                  </a:lnTo>
                  <a:lnTo>
                    <a:pt x="1174" y="19"/>
                  </a:lnTo>
                  <a:lnTo>
                    <a:pt x="1243" y="24"/>
                  </a:lnTo>
                  <a:lnTo>
                    <a:pt x="1312" y="30"/>
                  </a:lnTo>
                  <a:lnTo>
                    <a:pt x="1380" y="36"/>
                  </a:lnTo>
                  <a:lnTo>
                    <a:pt x="1449" y="42"/>
                  </a:lnTo>
                  <a:lnTo>
                    <a:pt x="1516" y="49"/>
                  </a:lnTo>
                  <a:lnTo>
                    <a:pt x="1584" y="55"/>
                  </a:lnTo>
                  <a:lnTo>
                    <a:pt x="1651" y="63"/>
                  </a:lnTo>
                  <a:lnTo>
                    <a:pt x="1718" y="69"/>
                  </a:lnTo>
                  <a:lnTo>
                    <a:pt x="1784" y="77"/>
                  </a:lnTo>
                  <a:lnTo>
                    <a:pt x="1851" y="84"/>
                  </a:lnTo>
                  <a:lnTo>
                    <a:pt x="1917" y="91"/>
                  </a:lnTo>
                  <a:lnTo>
                    <a:pt x="1981" y="98"/>
                  </a:lnTo>
                  <a:lnTo>
                    <a:pt x="2047" y="104"/>
                  </a:lnTo>
                  <a:lnTo>
                    <a:pt x="2112" y="111"/>
                  </a:lnTo>
                  <a:lnTo>
                    <a:pt x="2175" y="11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522600" y="6621480"/>
              <a:ext cx="1025640" cy="81000"/>
            </a:xfrm>
            <a:custGeom>
              <a:avLst/>
              <a:gdLst/>
              <a:ahLst/>
              <a:rect l="l" t="t" r="r" b="b"/>
              <a:pathLst>
                <a:path w="3228" h="254">
                  <a:moveTo>
                    <a:pt x="0" y="252"/>
                  </a:moveTo>
                  <a:lnTo>
                    <a:pt x="1" y="254"/>
                  </a:lnTo>
                  <a:lnTo>
                    <a:pt x="113" y="237"/>
                  </a:lnTo>
                  <a:lnTo>
                    <a:pt x="224" y="219"/>
                  </a:lnTo>
                  <a:lnTo>
                    <a:pt x="334" y="202"/>
                  </a:lnTo>
                  <a:lnTo>
                    <a:pt x="443" y="185"/>
                  </a:lnTo>
                  <a:lnTo>
                    <a:pt x="551" y="169"/>
                  </a:lnTo>
                  <a:lnTo>
                    <a:pt x="657" y="151"/>
                  </a:lnTo>
                  <a:lnTo>
                    <a:pt x="764" y="135"/>
                  </a:lnTo>
                  <a:lnTo>
                    <a:pt x="869" y="121"/>
                  </a:lnTo>
                  <a:lnTo>
                    <a:pt x="973" y="106"/>
                  </a:lnTo>
                  <a:lnTo>
                    <a:pt x="1078" y="92"/>
                  </a:lnTo>
                  <a:lnTo>
                    <a:pt x="1180" y="78"/>
                  </a:lnTo>
                  <a:lnTo>
                    <a:pt x="1282" y="65"/>
                  </a:lnTo>
                  <a:lnTo>
                    <a:pt x="1384" y="54"/>
                  </a:lnTo>
                  <a:lnTo>
                    <a:pt x="1485" y="44"/>
                  </a:lnTo>
                  <a:lnTo>
                    <a:pt x="1585" y="34"/>
                  </a:lnTo>
                  <a:lnTo>
                    <a:pt x="1684" y="25"/>
                  </a:lnTo>
                  <a:lnTo>
                    <a:pt x="1784" y="18"/>
                  </a:lnTo>
                  <a:lnTo>
                    <a:pt x="1882" y="13"/>
                  </a:lnTo>
                  <a:lnTo>
                    <a:pt x="1980" y="8"/>
                  </a:lnTo>
                  <a:lnTo>
                    <a:pt x="2078" y="5"/>
                  </a:lnTo>
                  <a:lnTo>
                    <a:pt x="2175" y="4"/>
                  </a:lnTo>
                  <a:lnTo>
                    <a:pt x="2272" y="5"/>
                  </a:lnTo>
                  <a:lnTo>
                    <a:pt x="2369" y="5"/>
                  </a:lnTo>
                  <a:lnTo>
                    <a:pt x="2465" y="9"/>
                  </a:lnTo>
                  <a:lnTo>
                    <a:pt x="2561" y="15"/>
                  </a:lnTo>
                  <a:lnTo>
                    <a:pt x="2657" y="22"/>
                  </a:lnTo>
                  <a:lnTo>
                    <a:pt x="2752" y="32"/>
                  </a:lnTo>
                  <a:lnTo>
                    <a:pt x="2847" y="44"/>
                  </a:lnTo>
                  <a:lnTo>
                    <a:pt x="2943" y="58"/>
                  </a:lnTo>
                  <a:lnTo>
                    <a:pt x="3037" y="74"/>
                  </a:lnTo>
                  <a:lnTo>
                    <a:pt x="3133" y="92"/>
                  </a:lnTo>
                  <a:lnTo>
                    <a:pt x="3228" y="113"/>
                  </a:lnTo>
                  <a:lnTo>
                    <a:pt x="3228" y="111"/>
                  </a:lnTo>
                  <a:lnTo>
                    <a:pt x="3133" y="90"/>
                  </a:lnTo>
                  <a:lnTo>
                    <a:pt x="3037" y="71"/>
                  </a:lnTo>
                  <a:lnTo>
                    <a:pt x="2943" y="55"/>
                  </a:lnTo>
                  <a:lnTo>
                    <a:pt x="2847" y="41"/>
                  </a:lnTo>
                  <a:lnTo>
                    <a:pt x="2752" y="30"/>
                  </a:lnTo>
                  <a:lnTo>
                    <a:pt x="2657" y="20"/>
                  </a:lnTo>
                  <a:lnTo>
                    <a:pt x="2561" y="13"/>
                  </a:lnTo>
                  <a:lnTo>
                    <a:pt x="2465" y="7"/>
                  </a:lnTo>
                  <a:lnTo>
                    <a:pt x="2369" y="3"/>
                  </a:lnTo>
                  <a:lnTo>
                    <a:pt x="2272" y="1"/>
                  </a:lnTo>
                  <a:lnTo>
                    <a:pt x="2175" y="0"/>
                  </a:lnTo>
                  <a:lnTo>
                    <a:pt x="2078" y="3"/>
                  </a:lnTo>
                  <a:lnTo>
                    <a:pt x="1980" y="6"/>
                  </a:lnTo>
                  <a:lnTo>
                    <a:pt x="1882" y="11"/>
                  </a:lnTo>
                  <a:lnTo>
                    <a:pt x="1784" y="16"/>
                  </a:lnTo>
                  <a:lnTo>
                    <a:pt x="1684" y="23"/>
                  </a:lnTo>
                  <a:lnTo>
                    <a:pt x="1585" y="32"/>
                  </a:lnTo>
                  <a:lnTo>
                    <a:pt x="1485" y="41"/>
                  </a:lnTo>
                  <a:lnTo>
                    <a:pt x="1384" y="52"/>
                  </a:lnTo>
                  <a:lnTo>
                    <a:pt x="1282" y="63"/>
                  </a:lnTo>
                  <a:lnTo>
                    <a:pt x="1180" y="76"/>
                  </a:lnTo>
                  <a:lnTo>
                    <a:pt x="1078" y="90"/>
                  </a:lnTo>
                  <a:lnTo>
                    <a:pt x="973" y="103"/>
                  </a:lnTo>
                  <a:lnTo>
                    <a:pt x="869" y="118"/>
                  </a:lnTo>
                  <a:lnTo>
                    <a:pt x="764" y="133"/>
                  </a:lnTo>
                  <a:lnTo>
                    <a:pt x="657" y="149"/>
                  </a:lnTo>
                  <a:lnTo>
                    <a:pt x="551" y="166"/>
                  </a:lnTo>
                  <a:lnTo>
                    <a:pt x="443" y="182"/>
                  </a:lnTo>
                  <a:lnTo>
                    <a:pt x="334" y="200"/>
                  </a:lnTo>
                  <a:lnTo>
                    <a:pt x="224" y="217"/>
                  </a:lnTo>
                  <a:lnTo>
                    <a:pt x="113" y="235"/>
                  </a:lnTo>
                  <a:lnTo>
                    <a:pt x="1" y="252"/>
                  </a:lnTo>
                  <a:lnTo>
                    <a:pt x="2" y="254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22600" y="6338880"/>
              <a:ext cx="177840" cy="363600"/>
            </a:xfrm>
            <a:custGeom>
              <a:avLst/>
              <a:gdLst/>
              <a:ahLst/>
              <a:rect l="l" t="t" r="r" b="b"/>
              <a:pathLst>
                <a:path w="560" h="1143">
                  <a:moveTo>
                    <a:pt x="560" y="3"/>
                  </a:moveTo>
                  <a:lnTo>
                    <a:pt x="558" y="0"/>
                  </a:lnTo>
                  <a:lnTo>
                    <a:pt x="0" y="1141"/>
                  </a:lnTo>
                  <a:lnTo>
                    <a:pt x="2" y="1143"/>
                  </a:lnTo>
                  <a:lnTo>
                    <a:pt x="560" y="3"/>
                  </a:lnTo>
                  <a:lnTo>
                    <a:pt x="558" y="0"/>
                  </a:lnTo>
                  <a:lnTo>
                    <a:pt x="56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508200" y="6338880"/>
              <a:ext cx="192240" cy="371520"/>
            </a:xfrm>
            <a:custGeom>
              <a:avLst/>
              <a:gdLst/>
              <a:ahLst/>
              <a:rect l="l" t="t" r="r" b="b"/>
              <a:pathLst>
                <a:path w="605" h="1169">
                  <a:moveTo>
                    <a:pt x="1" y="1166"/>
                  </a:moveTo>
                  <a:lnTo>
                    <a:pt x="2" y="1169"/>
                  </a:lnTo>
                  <a:lnTo>
                    <a:pt x="605" y="3"/>
                  </a:lnTo>
                  <a:lnTo>
                    <a:pt x="603" y="0"/>
                  </a:lnTo>
                  <a:lnTo>
                    <a:pt x="0" y="1166"/>
                  </a:lnTo>
                  <a:lnTo>
                    <a:pt x="1" y="1169"/>
                  </a:lnTo>
                  <a:lnTo>
                    <a:pt x="1" y="1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08200" y="6629400"/>
              <a:ext cx="1020960" cy="81000"/>
            </a:xfrm>
            <a:custGeom>
              <a:avLst/>
              <a:gdLst/>
              <a:ahLst/>
              <a:rect l="l" t="t" r="r" b="b"/>
              <a:pathLst>
                <a:path w="3212" h="253">
                  <a:moveTo>
                    <a:pt x="3209" y="104"/>
                  </a:moveTo>
                  <a:lnTo>
                    <a:pt x="3211" y="104"/>
                  </a:lnTo>
                  <a:lnTo>
                    <a:pt x="3114" y="82"/>
                  </a:lnTo>
                  <a:lnTo>
                    <a:pt x="3017" y="63"/>
                  </a:lnTo>
                  <a:lnTo>
                    <a:pt x="2919" y="47"/>
                  </a:lnTo>
                  <a:lnTo>
                    <a:pt x="2820" y="33"/>
                  </a:lnTo>
                  <a:lnTo>
                    <a:pt x="2721" y="22"/>
                  </a:lnTo>
                  <a:lnTo>
                    <a:pt x="2622" y="12"/>
                  </a:lnTo>
                  <a:lnTo>
                    <a:pt x="2521" y="6"/>
                  </a:lnTo>
                  <a:lnTo>
                    <a:pt x="2420" y="2"/>
                  </a:lnTo>
                  <a:lnTo>
                    <a:pt x="2320" y="0"/>
                  </a:lnTo>
                  <a:lnTo>
                    <a:pt x="2219" y="0"/>
                  </a:lnTo>
                  <a:lnTo>
                    <a:pt x="2118" y="2"/>
                  </a:lnTo>
                  <a:lnTo>
                    <a:pt x="2016" y="5"/>
                  </a:lnTo>
                  <a:lnTo>
                    <a:pt x="1914" y="9"/>
                  </a:lnTo>
                  <a:lnTo>
                    <a:pt x="1811" y="16"/>
                  </a:lnTo>
                  <a:lnTo>
                    <a:pt x="1709" y="23"/>
                  </a:lnTo>
                  <a:lnTo>
                    <a:pt x="1608" y="33"/>
                  </a:lnTo>
                  <a:lnTo>
                    <a:pt x="1505" y="42"/>
                  </a:lnTo>
                  <a:lnTo>
                    <a:pt x="1403" y="54"/>
                  </a:lnTo>
                  <a:lnTo>
                    <a:pt x="1300" y="66"/>
                  </a:lnTo>
                  <a:lnTo>
                    <a:pt x="1198" y="79"/>
                  </a:lnTo>
                  <a:lnTo>
                    <a:pt x="1096" y="91"/>
                  </a:lnTo>
                  <a:lnTo>
                    <a:pt x="995" y="106"/>
                  </a:lnTo>
                  <a:lnTo>
                    <a:pt x="893" y="120"/>
                  </a:lnTo>
                  <a:lnTo>
                    <a:pt x="792" y="135"/>
                  </a:lnTo>
                  <a:lnTo>
                    <a:pt x="692" y="150"/>
                  </a:lnTo>
                  <a:lnTo>
                    <a:pt x="591" y="165"/>
                  </a:lnTo>
                  <a:lnTo>
                    <a:pt x="491" y="180"/>
                  </a:lnTo>
                  <a:lnTo>
                    <a:pt x="391" y="195"/>
                  </a:lnTo>
                  <a:lnTo>
                    <a:pt x="293" y="210"/>
                  </a:lnTo>
                  <a:lnTo>
                    <a:pt x="195" y="224"/>
                  </a:lnTo>
                  <a:lnTo>
                    <a:pt x="97" y="238"/>
                  </a:lnTo>
                  <a:lnTo>
                    <a:pt x="0" y="250"/>
                  </a:lnTo>
                  <a:lnTo>
                    <a:pt x="0" y="253"/>
                  </a:lnTo>
                  <a:lnTo>
                    <a:pt x="97" y="240"/>
                  </a:lnTo>
                  <a:lnTo>
                    <a:pt x="195" y="226"/>
                  </a:lnTo>
                  <a:lnTo>
                    <a:pt x="293" y="212"/>
                  </a:lnTo>
                  <a:lnTo>
                    <a:pt x="391" y="197"/>
                  </a:lnTo>
                  <a:lnTo>
                    <a:pt x="491" y="182"/>
                  </a:lnTo>
                  <a:lnTo>
                    <a:pt x="591" y="167"/>
                  </a:lnTo>
                  <a:lnTo>
                    <a:pt x="692" y="152"/>
                  </a:lnTo>
                  <a:lnTo>
                    <a:pt x="792" y="137"/>
                  </a:lnTo>
                  <a:lnTo>
                    <a:pt x="893" y="122"/>
                  </a:lnTo>
                  <a:lnTo>
                    <a:pt x="995" y="108"/>
                  </a:lnTo>
                  <a:lnTo>
                    <a:pt x="1096" y="94"/>
                  </a:lnTo>
                  <a:lnTo>
                    <a:pt x="1198" y="81"/>
                  </a:lnTo>
                  <a:lnTo>
                    <a:pt x="1300" y="68"/>
                  </a:lnTo>
                  <a:lnTo>
                    <a:pt x="1403" y="56"/>
                  </a:lnTo>
                  <a:lnTo>
                    <a:pt x="1505" y="44"/>
                  </a:lnTo>
                  <a:lnTo>
                    <a:pt x="1608" y="35"/>
                  </a:lnTo>
                  <a:lnTo>
                    <a:pt x="1709" y="25"/>
                  </a:lnTo>
                  <a:lnTo>
                    <a:pt x="1811" y="18"/>
                  </a:lnTo>
                  <a:lnTo>
                    <a:pt x="1914" y="11"/>
                  </a:lnTo>
                  <a:lnTo>
                    <a:pt x="2016" y="7"/>
                  </a:lnTo>
                  <a:lnTo>
                    <a:pt x="2118" y="4"/>
                  </a:lnTo>
                  <a:lnTo>
                    <a:pt x="2219" y="2"/>
                  </a:lnTo>
                  <a:lnTo>
                    <a:pt x="2320" y="2"/>
                  </a:lnTo>
                  <a:lnTo>
                    <a:pt x="2420" y="4"/>
                  </a:lnTo>
                  <a:lnTo>
                    <a:pt x="2521" y="8"/>
                  </a:lnTo>
                  <a:lnTo>
                    <a:pt x="2622" y="14"/>
                  </a:lnTo>
                  <a:lnTo>
                    <a:pt x="2721" y="24"/>
                  </a:lnTo>
                  <a:lnTo>
                    <a:pt x="2820" y="35"/>
                  </a:lnTo>
                  <a:lnTo>
                    <a:pt x="2919" y="49"/>
                  </a:lnTo>
                  <a:lnTo>
                    <a:pt x="3017" y="65"/>
                  </a:lnTo>
                  <a:lnTo>
                    <a:pt x="3114" y="84"/>
                  </a:lnTo>
                  <a:lnTo>
                    <a:pt x="3211" y="106"/>
                  </a:lnTo>
                  <a:lnTo>
                    <a:pt x="3212" y="106"/>
                  </a:lnTo>
                  <a:lnTo>
                    <a:pt x="320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27720" y="6656400"/>
              <a:ext cx="20520" cy="648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3" y="2"/>
                  </a:moveTo>
                  <a:lnTo>
                    <a:pt x="62" y="0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98840" y="6640560"/>
              <a:ext cx="1015920" cy="76320"/>
            </a:xfrm>
            <a:custGeom>
              <a:avLst/>
              <a:gdLst/>
              <a:ahLst/>
              <a:rect l="l" t="t" r="r" b="b"/>
              <a:pathLst>
                <a:path w="3200" h="241">
                  <a:moveTo>
                    <a:pt x="0" y="239"/>
                  </a:moveTo>
                  <a:lnTo>
                    <a:pt x="1" y="241"/>
                  </a:lnTo>
                  <a:lnTo>
                    <a:pt x="103" y="228"/>
                  </a:lnTo>
                  <a:lnTo>
                    <a:pt x="206" y="214"/>
                  </a:lnTo>
                  <a:lnTo>
                    <a:pt x="309" y="200"/>
                  </a:lnTo>
                  <a:lnTo>
                    <a:pt x="413" y="186"/>
                  </a:lnTo>
                  <a:lnTo>
                    <a:pt x="518" y="171"/>
                  </a:lnTo>
                  <a:lnTo>
                    <a:pt x="624" y="158"/>
                  </a:lnTo>
                  <a:lnTo>
                    <a:pt x="729" y="143"/>
                  </a:lnTo>
                  <a:lnTo>
                    <a:pt x="836" y="129"/>
                  </a:lnTo>
                  <a:lnTo>
                    <a:pt x="941" y="115"/>
                  </a:lnTo>
                  <a:lnTo>
                    <a:pt x="1048" y="101"/>
                  </a:lnTo>
                  <a:lnTo>
                    <a:pt x="1154" y="88"/>
                  </a:lnTo>
                  <a:lnTo>
                    <a:pt x="1259" y="75"/>
                  </a:lnTo>
                  <a:lnTo>
                    <a:pt x="1366" y="64"/>
                  </a:lnTo>
                  <a:lnTo>
                    <a:pt x="1471" y="52"/>
                  </a:lnTo>
                  <a:lnTo>
                    <a:pt x="1576" y="41"/>
                  </a:lnTo>
                  <a:lnTo>
                    <a:pt x="1681" y="33"/>
                  </a:lnTo>
                  <a:lnTo>
                    <a:pt x="1785" y="24"/>
                  </a:lnTo>
                  <a:lnTo>
                    <a:pt x="1888" y="17"/>
                  </a:lnTo>
                  <a:lnTo>
                    <a:pt x="1990" y="11"/>
                  </a:lnTo>
                  <a:lnTo>
                    <a:pt x="2092" y="7"/>
                  </a:lnTo>
                  <a:lnTo>
                    <a:pt x="2192" y="4"/>
                  </a:lnTo>
                  <a:lnTo>
                    <a:pt x="2291" y="4"/>
                  </a:lnTo>
                  <a:lnTo>
                    <a:pt x="2390" y="4"/>
                  </a:lnTo>
                  <a:lnTo>
                    <a:pt x="2487" y="5"/>
                  </a:lnTo>
                  <a:lnTo>
                    <a:pt x="2581" y="9"/>
                  </a:lnTo>
                  <a:lnTo>
                    <a:pt x="2676" y="16"/>
                  </a:lnTo>
                  <a:lnTo>
                    <a:pt x="2768" y="23"/>
                  </a:lnTo>
                  <a:lnTo>
                    <a:pt x="2858" y="34"/>
                  </a:lnTo>
                  <a:lnTo>
                    <a:pt x="2946" y="47"/>
                  </a:lnTo>
                  <a:lnTo>
                    <a:pt x="3033" y="62"/>
                  </a:lnTo>
                  <a:lnTo>
                    <a:pt x="3118" y="80"/>
                  </a:lnTo>
                  <a:lnTo>
                    <a:pt x="3200" y="100"/>
                  </a:lnTo>
                  <a:lnTo>
                    <a:pt x="3200" y="98"/>
                  </a:lnTo>
                  <a:lnTo>
                    <a:pt x="3118" y="78"/>
                  </a:lnTo>
                  <a:lnTo>
                    <a:pt x="3033" y="59"/>
                  </a:lnTo>
                  <a:lnTo>
                    <a:pt x="2946" y="44"/>
                  </a:lnTo>
                  <a:lnTo>
                    <a:pt x="2858" y="32"/>
                  </a:lnTo>
                  <a:lnTo>
                    <a:pt x="2768" y="21"/>
                  </a:lnTo>
                  <a:lnTo>
                    <a:pt x="2676" y="13"/>
                  </a:lnTo>
                  <a:lnTo>
                    <a:pt x="2581" y="7"/>
                  </a:lnTo>
                  <a:lnTo>
                    <a:pt x="2487" y="3"/>
                  </a:lnTo>
                  <a:lnTo>
                    <a:pt x="2390" y="0"/>
                  </a:lnTo>
                  <a:lnTo>
                    <a:pt x="2291" y="0"/>
                  </a:lnTo>
                  <a:lnTo>
                    <a:pt x="2192" y="2"/>
                  </a:lnTo>
                  <a:lnTo>
                    <a:pt x="2092" y="5"/>
                  </a:lnTo>
                  <a:lnTo>
                    <a:pt x="1990" y="9"/>
                  </a:lnTo>
                  <a:lnTo>
                    <a:pt x="1888" y="15"/>
                  </a:lnTo>
                  <a:lnTo>
                    <a:pt x="1785" y="22"/>
                  </a:lnTo>
                  <a:lnTo>
                    <a:pt x="1681" y="31"/>
                  </a:lnTo>
                  <a:lnTo>
                    <a:pt x="1576" y="39"/>
                  </a:lnTo>
                  <a:lnTo>
                    <a:pt x="1471" y="50"/>
                  </a:lnTo>
                  <a:lnTo>
                    <a:pt x="1366" y="62"/>
                  </a:lnTo>
                  <a:lnTo>
                    <a:pt x="1259" y="73"/>
                  </a:lnTo>
                  <a:lnTo>
                    <a:pt x="1154" y="86"/>
                  </a:lnTo>
                  <a:lnTo>
                    <a:pt x="1048" y="99"/>
                  </a:lnTo>
                  <a:lnTo>
                    <a:pt x="941" y="113"/>
                  </a:lnTo>
                  <a:lnTo>
                    <a:pt x="836" y="127"/>
                  </a:lnTo>
                  <a:lnTo>
                    <a:pt x="729" y="141"/>
                  </a:lnTo>
                  <a:lnTo>
                    <a:pt x="624" y="155"/>
                  </a:lnTo>
                  <a:lnTo>
                    <a:pt x="518" y="169"/>
                  </a:lnTo>
                  <a:lnTo>
                    <a:pt x="413" y="184"/>
                  </a:lnTo>
                  <a:lnTo>
                    <a:pt x="309" y="198"/>
                  </a:lnTo>
                  <a:lnTo>
                    <a:pt x="206" y="212"/>
                  </a:lnTo>
                  <a:lnTo>
                    <a:pt x="103" y="226"/>
                  </a:lnTo>
                  <a:lnTo>
                    <a:pt x="1" y="239"/>
                  </a:lnTo>
                  <a:lnTo>
                    <a:pt x="2" y="24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498840" y="6488280"/>
              <a:ext cx="117360" cy="228600"/>
            </a:xfrm>
            <a:custGeom>
              <a:avLst/>
              <a:gdLst/>
              <a:ahLst/>
              <a:rect l="l" t="t" r="r" b="b"/>
              <a:pathLst>
                <a:path w="369" h="717">
                  <a:moveTo>
                    <a:pt x="369" y="3"/>
                  </a:moveTo>
                  <a:lnTo>
                    <a:pt x="366" y="0"/>
                  </a:lnTo>
                  <a:lnTo>
                    <a:pt x="0" y="715"/>
                  </a:lnTo>
                  <a:lnTo>
                    <a:pt x="2" y="717"/>
                  </a:lnTo>
                  <a:lnTo>
                    <a:pt x="369" y="3"/>
                  </a:lnTo>
                  <a:lnTo>
                    <a:pt x="366" y="0"/>
                  </a:lnTo>
                  <a:lnTo>
                    <a:pt x="3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94160" y="6488280"/>
              <a:ext cx="122040" cy="230040"/>
            </a:xfrm>
            <a:custGeom>
              <a:avLst/>
              <a:gdLst/>
              <a:ahLst/>
              <a:rect l="l" t="t" r="r" b="b"/>
              <a:pathLst>
                <a:path w="386" h="721">
                  <a:moveTo>
                    <a:pt x="1" y="719"/>
                  </a:moveTo>
                  <a:lnTo>
                    <a:pt x="3" y="721"/>
                  </a:lnTo>
                  <a:lnTo>
                    <a:pt x="386" y="3"/>
                  </a:lnTo>
                  <a:lnTo>
                    <a:pt x="383" y="0"/>
                  </a:lnTo>
                  <a:lnTo>
                    <a:pt x="0" y="719"/>
                  </a:lnTo>
                  <a:lnTo>
                    <a:pt x="1" y="721"/>
                  </a:lnTo>
                  <a:lnTo>
                    <a:pt x="1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4160" y="6649920"/>
              <a:ext cx="996840" cy="68400"/>
            </a:xfrm>
            <a:custGeom>
              <a:avLst/>
              <a:gdLst/>
              <a:ahLst/>
              <a:rect l="l" t="t" r="r" b="b"/>
              <a:pathLst>
                <a:path w="3137" h="211">
                  <a:moveTo>
                    <a:pt x="3137" y="84"/>
                  </a:moveTo>
                  <a:lnTo>
                    <a:pt x="3137" y="84"/>
                  </a:lnTo>
                  <a:lnTo>
                    <a:pt x="3045" y="65"/>
                  </a:lnTo>
                  <a:lnTo>
                    <a:pt x="2953" y="48"/>
                  </a:lnTo>
                  <a:lnTo>
                    <a:pt x="2859" y="34"/>
                  </a:lnTo>
                  <a:lnTo>
                    <a:pt x="2766" y="23"/>
                  </a:lnTo>
                  <a:lnTo>
                    <a:pt x="2671" y="14"/>
                  </a:lnTo>
                  <a:lnTo>
                    <a:pt x="2577" y="7"/>
                  </a:lnTo>
                  <a:lnTo>
                    <a:pt x="2481" y="3"/>
                  </a:lnTo>
                  <a:lnTo>
                    <a:pt x="2385" y="0"/>
                  </a:lnTo>
                  <a:lnTo>
                    <a:pt x="2288" y="0"/>
                  </a:lnTo>
                  <a:lnTo>
                    <a:pt x="2191" y="1"/>
                  </a:lnTo>
                  <a:lnTo>
                    <a:pt x="2093" y="3"/>
                  </a:lnTo>
                  <a:lnTo>
                    <a:pt x="1995" y="7"/>
                  </a:lnTo>
                  <a:lnTo>
                    <a:pt x="1897" y="13"/>
                  </a:lnTo>
                  <a:lnTo>
                    <a:pt x="1799" y="20"/>
                  </a:lnTo>
                  <a:lnTo>
                    <a:pt x="1699" y="28"/>
                  </a:lnTo>
                  <a:lnTo>
                    <a:pt x="1600" y="37"/>
                  </a:lnTo>
                  <a:lnTo>
                    <a:pt x="1501" y="47"/>
                  </a:lnTo>
                  <a:lnTo>
                    <a:pt x="1401" y="57"/>
                  </a:lnTo>
                  <a:lnTo>
                    <a:pt x="1301" y="68"/>
                  </a:lnTo>
                  <a:lnTo>
                    <a:pt x="1201" y="80"/>
                  </a:lnTo>
                  <a:lnTo>
                    <a:pt x="1101" y="92"/>
                  </a:lnTo>
                  <a:lnTo>
                    <a:pt x="1000" y="104"/>
                  </a:lnTo>
                  <a:lnTo>
                    <a:pt x="901" y="116"/>
                  </a:lnTo>
                  <a:lnTo>
                    <a:pt x="800" y="129"/>
                  </a:lnTo>
                  <a:lnTo>
                    <a:pt x="700" y="141"/>
                  </a:lnTo>
                  <a:lnTo>
                    <a:pt x="599" y="152"/>
                  </a:lnTo>
                  <a:lnTo>
                    <a:pt x="500" y="163"/>
                  </a:lnTo>
                  <a:lnTo>
                    <a:pt x="399" y="174"/>
                  </a:lnTo>
                  <a:lnTo>
                    <a:pt x="300" y="184"/>
                  </a:lnTo>
                  <a:lnTo>
                    <a:pt x="199" y="194"/>
                  </a:lnTo>
                  <a:lnTo>
                    <a:pt x="100" y="202"/>
                  </a:lnTo>
                  <a:lnTo>
                    <a:pt x="0" y="209"/>
                  </a:lnTo>
                  <a:lnTo>
                    <a:pt x="0" y="211"/>
                  </a:lnTo>
                  <a:lnTo>
                    <a:pt x="100" y="204"/>
                  </a:lnTo>
                  <a:lnTo>
                    <a:pt x="199" y="196"/>
                  </a:lnTo>
                  <a:lnTo>
                    <a:pt x="300" y="187"/>
                  </a:lnTo>
                  <a:lnTo>
                    <a:pt x="399" y="176"/>
                  </a:lnTo>
                  <a:lnTo>
                    <a:pt x="500" y="165"/>
                  </a:lnTo>
                  <a:lnTo>
                    <a:pt x="599" y="155"/>
                  </a:lnTo>
                  <a:lnTo>
                    <a:pt x="700" y="143"/>
                  </a:lnTo>
                  <a:lnTo>
                    <a:pt x="800" y="131"/>
                  </a:lnTo>
                  <a:lnTo>
                    <a:pt x="901" y="118"/>
                  </a:lnTo>
                  <a:lnTo>
                    <a:pt x="1000" y="107"/>
                  </a:lnTo>
                  <a:lnTo>
                    <a:pt x="1101" y="94"/>
                  </a:lnTo>
                  <a:lnTo>
                    <a:pt x="1201" y="82"/>
                  </a:lnTo>
                  <a:lnTo>
                    <a:pt x="1301" y="70"/>
                  </a:lnTo>
                  <a:lnTo>
                    <a:pt x="1401" y="60"/>
                  </a:lnTo>
                  <a:lnTo>
                    <a:pt x="1501" y="49"/>
                  </a:lnTo>
                  <a:lnTo>
                    <a:pt x="1600" y="39"/>
                  </a:lnTo>
                  <a:lnTo>
                    <a:pt x="1699" y="30"/>
                  </a:lnTo>
                  <a:lnTo>
                    <a:pt x="1799" y="22"/>
                  </a:lnTo>
                  <a:lnTo>
                    <a:pt x="1897" y="15"/>
                  </a:lnTo>
                  <a:lnTo>
                    <a:pt x="1995" y="9"/>
                  </a:lnTo>
                  <a:lnTo>
                    <a:pt x="2093" y="5"/>
                  </a:lnTo>
                  <a:lnTo>
                    <a:pt x="2191" y="3"/>
                  </a:lnTo>
                  <a:lnTo>
                    <a:pt x="2288" y="2"/>
                  </a:lnTo>
                  <a:lnTo>
                    <a:pt x="2385" y="2"/>
                  </a:lnTo>
                  <a:lnTo>
                    <a:pt x="2481" y="5"/>
                  </a:lnTo>
                  <a:lnTo>
                    <a:pt x="2577" y="9"/>
                  </a:lnTo>
                  <a:lnTo>
                    <a:pt x="2671" y="16"/>
                  </a:lnTo>
                  <a:lnTo>
                    <a:pt x="2766" y="25"/>
                  </a:lnTo>
                  <a:lnTo>
                    <a:pt x="2859" y="36"/>
                  </a:lnTo>
                  <a:lnTo>
                    <a:pt x="2953" y="50"/>
                  </a:lnTo>
                  <a:lnTo>
                    <a:pt x="3045" y="67"/>
                  </a:lnTo>
                  <a:lnTo>
                    <a:pt x="3137" y="86"/>
                  </a:lnTo>
                  <a:lnTo>
                    <a:pt x="3137" y="86"/>
                  </a:lnTo>
                  <a:lnTo>
                    <a:pt x="313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91000" y="6670800"/>
              <a:ext cx="23760" cy="7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79" y="2"/>
                  </a:moveTo>
                  <a:lnTo>
                    <a:pt x="79" y="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60760" y="6659640"/>
              <a:ext cx="915840" cy="60120"/>
            </a:xfrm>
            <a:custGeom>
              <a:avLst/>
              <a:gdLst/>
              <a:ahLst/>
              <a:rect l="l" t="t" r="r" b="b"/>
              <a:pathLst>
                <a:path w="2883" h="189">
                  <a:moveTo>
                    <a:pt x="0" y="186"/>
                  </a:moveTo>
                  <a:lnTo>
                    <a:pt x="0" y="189"/>
                  </a:lnTo>
                  <a:lnTo>
                    <a:pt x="90" y="181"/>
                  </a:lnTo>
                  <a:lnTo>
                    <a:pt x="181" y="172"/>
                  </a:lnTo>
                  <a:lnTo>
                    <a:pt x="273" y="163"/>
                  </a:lnTo>
                  <a:lnTo>
                    <a:pt x="365" y="153"/>
                  </a:lnTo>
                  <a:lnTo>
                    <a:pt x="457" y="143"/>
                  </a:lnTo>
                  <a:lnTo>
                    <a:pt x="550" y="132"/>
                  </a:lnTo>
                  <a:lnTo>
                    <a:pt x="645" y="121"/>
                  </a:lnTo>
                  <a:lnTo>
                    <a:pt x="738" y="111"/>
                  </a:lnTo>
                  <a:lnTo>
                    <a:pt x="833" y="100"/>
                  </a:lnTo>
                  <a:lnTo>
                    <a:pt x="928" y="89"/>
                  </a:lnTo>
                  <a:lnTo>
                    <a:pt x="1022" y="79"/>
                  </a:lnTo>
                  <a:lnTo>
                    <a:pt x="1117" y="68"/>
                  </a:lnTo>
                  <a:lnTo>
                    <a:pt x="1211" y="58"/>
                  </a:lnTo>
                  <a:lnTo>
                    <a:pt x="1306" y="49"/>
                  </a:lnTo>
                  <a:lnTo>
                    <a:pt x="1400" y="40"/>
                  </a:lnTo>
                  <a:lnTo>
                    <a:pt x="1494" y="32"/>
                  </a:lnTo>
                  <a:lnTo>
                    <a:pt x="1587" y="24"/>
                  </a:lnTo>
                  <a:lnTo>
                    <a:pt x="1679" y="18"/>
                  </a:lnTo>
                  <a:lnTo>
                    <a:pt x="1773" y="12"/>
                  </a:lnTo>
                  <a:lnTo>
                    <a:pt x="1864" y="8"/>
                  </a:lnTo>
                  <a:lnTo>
                    <a:pt x="1955" y="5"/>
                  </a:lnTo>
                  <a:lnTo>
                    <a:pt x="2045" y="4"/>
                  </a:lnTo>
                  <a:lnTo>
                    <a:pt x="2134" y="4"/>
                  </a:lnTo>
                  <a:lnTo>
                    <a:pt x="2222" y="5"/>
                  </a:lnTo>
                  <a:lnTo>
                    <a:pt x="2309" y="6"/>
                  </a:lnTo>
                  <a:lnTo>
                    <a:pt x="2395" y="10"/>
                  </a:lnTo>
                  <a:lnTo>
                    <a:pt x="2480" y="17"/>
                  </a:lnTo>
                  <a:lnTo>
                    <a:pt x="2563" y="24"/>
                  </a:lnTo>
                  <a:lnTo>
                    <a:pt x="2646" y="35"/>
                  </a:lnTo>
                  <a:lnTo>
                    <a:pt x="2726" y="46"/>
                  </a:lnTo>
                  <a:lnTo>
                    <a:pt x="2805" y="60"/>
                  </a:lnTo>
                  <a:lnTo>
                    <a:pt x="2883" y="77"/>
                  </a:lnTo>
                  <a:lnTo>
                    <a:pt x="2883" y="75"/>
                  </a:lnTo>
                  <a:lnTo>
                    <a:pt x="2805" y="58"/>
                  </a:lnTo>
                  <a:lnTo>
                    <a:pt x="2726" y="44"/>
                  </a:lnTo>
                  <a:lnTo>
                    <a:pt x="2646" y="33"/>
                  </a:lnTo>
                  <a:lnTo>
                    <a:pt x="2563" y="22"/>
                  </a:lnTo>
                  <a:lnTo>
                    <a:pt x="2480" y="14"/>
                  </a:lnTo>
                  <a:lnTo>
                    <a:pt x="2395" y="8"/>
                  </a:lnTo>
                  <a:lnTo>
                    <a:pt x="2309" y="4"/>
                  </a:lnTo>
                  <a:lnTo>
                    <a:pt x="2222" y="1"/>
                  </a:lnTo>
                  <a:lnTo>
                    <a:pt x="2134" y="0"/>
                  </a:lnTo>
                  <a:lnTo>
                    <a:pt x="2045" y="0"/>
                  </a:lnTo>
                  <a:lnTo>
                    <a:pt x="1955" y="3"/>
                  </a:lnTo>
                  <a:lnTo>
                    <a:pt x="1864" y="6"/>
                  </a:lnTo>
                  <a:lnTo>
                    <a:pt x="1773" y="10"/>
                  </a:lnTo>
                  <a:lnTo>
                    <a:pt x="1679" y="16"/>
                  </a:lnTo>
                  <a:lnTo>
                    <a:pt x="1587" y="22"/>
                  </a:lnTo>
                  <a:lnTo>
                    <a:pt x="1494" y="29"/>
                  </a:lnTo>
                  <a:lnTo>
                    <a:pt x="1400" y="38"/>
                  </a:lnTo>
                  <a:lnTo>
                    <a:pt x="1306" y="46"/>
                  </a:lnTo>
                  <a:lnTo>
                    <a:pt x="1211" y="56"/>
                  </a:lnTo>
                  <a:lnTo>
                    <a:pt x="1117" y="66"/>
                  </a:lnTo>
                  <a:lnTo>
                    <a:pt x="1022" y="76"/>
                  </a:lnTo>
                  <a:lnTo>
                    <a:pt x="928" y="87"/>
                  </a:lnTo>
                  <a:lnTo>
                    <a:pt x="833" y="98"/>
                  </a:lnTo>
                  <a:lnTo>
                    <a:pt x="738" y="108"/>
                  </a:lnTo>
                  <a:lnTo>
                    <a:pt x="645" y="119"/>
                  </a:lnTo>
                  <a:lnTo>
                    <a:pt x="550" y="130"/>
                  </a:lnTo>
                  <a:lnTo>
                    <a:pt x="457" y="140"/>
                  </a:lnTo>
                  <a:lnTo>
                    <a:pt x="365" y="151"/>
                  </a:lnTo>
                  <a:lnTo>
                    <a:pt x="273" y="161"/>
                  </a:lnTo>
                  <a:lnTo>
                    <a:pt x="181" y="170"/>
                  </a:lnTo>
                  <a:lnTo>
                    <a:pt x="90" y="179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560760" y="6683400"/>
              <a:ext cx="915840" cy="36360"/>
            </a:xfrm>
            <a:custGeom>
              <a:avLst/>
              <a:gdLst/>
              <a:ahLst/>
              <a:rect l="l" t="t" r="r" b="b"/>
              <a:pathLst>
                <a:path w="2883" h="114">
                  <a:moveTo>
                    <a:pt x="2883" y="2"/>
                  </a:moveTo>
                  <a:lnTo>
                    <a:pt x="2883" y="0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2883" y="2"/>
                  </a:lnTo>
                  <a:lnTo>
                    <a:pt x="2883" y="0"/>
                  </a:lnTo>
                  <a:lnTo>
                    <a:pt x="28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76680" y="6665760"/>
              <a:ext cx="782640" cy="51120"/>
            </a:xfrm>
            <a:custGeom>
              <a:avLst/>
              <a:gdLst/>
              <a:ahLst/>
              <a:rect l="l" t="t" r="r" b="b"/>
              <a:pathLst>
                <a:path w="2467" h="159">
                  <a:moveTo>
                    <a:pt x="0" y="157"/>
                  </a:moveTo>
                  <a:lnTo>
                    <a:pt x="0" y="159"/>
                  </a:lnTo>
                  <a:lnTo>
                    <a:pt x="75" y="151"/>
                  </a:lnTo>
                  <a:lnTo>
                    <a:pt x="151" y="143"/>
                  </a:lnTo>
                  <a:lnTo>
                    <a:pt x="227" y="134"/>
                  </a:lnTo>
                  <a:lnTo>
                    <a:pt x="304" y="125"/>
                  </a:lnTo>
                  <a:lnTo>
                    <a:pt x="382" y="116"/>
                  </a:lnTo>
                  <a:lnTo>
                    <a:pt x="461" y="107"/>
                  </a:lnTo>
                  <a:lnTo>
                    <a:pt x="540" y="97"/>
                  </a:lnTo>
                  <a:lnTo>
                    <a:pt x="619" y="87"/>
                  </a:lnTo>
                  <a:lnTo>
                    <a:pt x="698" y="79"/>
                  </a:lnTo>
                  <a:lnTo>
                    <a:pt x="778" y="69"/>
                  </a:lnTo>
                  <a:lnTo>
                    <a:pt x="858" y="61"/>
                  </a:lnTo>
                  <a:lnTo>
                    <a:pt x="939" y="52"/>
                  </a:lnTo>
                  <a:lnTo>
                    <a:pt x="1019" y="45"/>
                  </a:lnTo>
                  <a:lnTo>
                    <a:pt x="1099" y="37"/>
                  </a:lnTo>
                  <a:lnTo>
                    <a:pt x="1179" y="30"/>
                  </a:lnTo>
                  <a:lnTo>
                    <a:pt x="1259" y="23"/>
                  </a:lnTo>
                  <a:lnTo>
                    <a:pt x="1340" y="18"/>
                  </a:lnTo>
                  <a:lnTo>
                    <a:pt x="1419" y="13"/>
                  </a:lnTo>
                  <a:lnTo>
                    <a:pt x="1498" y="9"/>
                  </a:lnTo>
                  <a:lnTo>
                    <a:pt x="1577" y="6"/>
                  </a:lnTo>
                  <a:lnTo>
                    <a:pt x="1656" y="4"/>
                  </a:lnTo>
                  <a:lnTo>
                    <a:pt x="1733" y="4"/>
                  </a:lnTo>
                  <a:lnTo>
                    <a:pt x="1810" y="4"/>
                  </a:lnTo>
                  <a:lnTo>
                    <a:pt x="1887" y="5"/>
                  </a:lnTo>
                  <a:lnTo>
                    <a:pt x="1963" y="8"/>
                  </a:lnTo>
                  <a:lnTo>
                    <a:pt x="2038" y="13"/>
                  </a:lnTo>
                  <a:lnTo>
                    <a:pt x="2112" y="18"/>
                  </a:lnTo>
                  <a:lnTo>
                    <a:pt x="2185" y="26"/>
                  </a:lnTo>
                  <a:lnTo>
                    <a:pt x="2258" y="35"/>
                  </a:lnTo>
                  <a:lnTo>
                    <a:pt x="2328" y="46"/>
                  </a:lnTo>
                  <a:lnTo>
                    <a:pt x="2399" y="59"/>
                  </a:lnTo>
                  <a:lnTo>
                    <a:pt x="2467" y="73"/>
                  </a:lnTo>
                  <a:lnTo>
                    <a:pt x="2467" y="71"/>
                  </a:lnTo>
                  <a:lnTo>
                    <a:pt x="2399" y="56"/>
                  </a:lnTo>
                  <a:lnTo>
                    <a:pt x="2328" y="44"/>
                  </a:lnTo>
                  <a:lnTo>
                    <a:pt x="2258" y="33"/>
                  </a:lnTo>
                  <a:lnTo>
                    <a:pt x="2185" y="24"/>
                  </a:lnTo>
                  <a:lnTo>
                    <a:pt x="2112" y="16"/>
                  </a:lnTo>
                  <a:lnTo>
                    <a:pt x="2038" y="10"/>
                  </a:lnTo>
                  <a:lnTo>
                    <a:pt x="1963" y="6"/>
                  </a:lnTo>
                  <a:lnTo>
                    <a:pt x="1887" y="3"/>
                  </a:lnTo>
                  <a:lnTo>
                    <a:pt x="1810" y="0"/>
                  </a:lnTo>
                  <a:lnTo>
                    <a:pt x="1733" y="0"/>
                  </a:lnTo>
                  <a:lnTo>
                    <a:pt x="1656" y="2"/>
                  </a:lnTo>
                  <a:lnTo>
                    <a:pt x="1577" y="4"/>
                  </a:lnTo>
                  <a:lnTo>
                    <a:pt x="1498" y="7"/>
                  </a:lnTo>
                  <a:lnTo>
                    <a:pt x="1419" y="10"/>
                  </a:lnTo>
                  <a:lnTo>
                    <a:pt x="1340" y="16"/>
                  </a:lnTo>
                  <a:lnTo>
                    <a:pt x="1259" y="21"/>
                  </a:lnTo>
                  <a:lnTo>
                    <a:pt x="1179" y="28"/>
                  </a:lnTo>
                  <a:lnTo>
                    <a:pt x="1099" y="35"/>
                  </a:lnTo>
                  <a:lnTo>
                    <a:pt x="1019" y="43"/>
                  </a:lnTo>
                  <a:lnTo>
                    <a:pt x="939" y="50"/>
                  </a:lnTo>
                  <a:lnTo>
                    <a:pt x="858" y="59"/>
                  </a:lnTo>
                  <a:lnTo>
                    <a:pt x="778" y="67"/>
                  </a:lnTo>
                  <a:lnTo>
                    <a:pt x="698" y="77"/>
                  </a:lnTo>
                  <a:lnTo>
                    <a:pt x="619" y="85"/>
                  </a:lnTo>
                  <a:lnTo>
                    <a:pt x="540" y="95"/>
                  </a:lnTo>
                  <a:lnTo>
                    <a:pt x="461" y="104"/>
                  </a:lnTo>
                  <a:lnTo>
                    <a:pt x="382" y="114"/>
                  </a:lnTo>
                  <a:lnTo>
                    <a:pt x="304" y="123"/>
                  </a:lnTo>
                  <a:lnTo>
                    <a:pt x="227" y="132"/>
                  </a:lnTo>
                  <a:lnTo>
                    <a:pt x="151" y="141"/>
                  </a:lnTo>
                  <a:lnTo>
                    <a:pt x="75" y="149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76680" y="6688080"/>
              <a:ext cx="782640" cy="28800"/>
            </a:xfrm>
            <a:custGeom>
              <a:avLst/>
              <a:gdLst/>
              <a:ahLst/>
              <a:rect l="l" t="t" r="r" b="b"/>
              <a:pathLst>
                <a:path w="2467" h="88">
                  <a:moveTo>
                    <a:pt x="2467" y="2"/>
                  </a:moveTo>
                  <a:lnTo>
                    <a:pt x="2467" y="0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467" y="2"/>
                  </a:lnTo>
                  <a:lnTo>
                    <a:pt x="2467" y="0"/>
                  </a:lnTo>
                  <a:lnTo>
                    <a:pt x="246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755880" y="6675480"/>
              <a:ext cx="690840" cy="38160"/>
            </a:xfrm>
            <a:custGeom>
              <a:avLst/>
              <a:gdLst/>
              <a:ahLst/>
              <a:rect l="l" t="t" r="r" b="b"/>
              <a:pathLst>
                <a:path w="2176" h="120">
                  <a:moveTo>
                    <a:pt x="0" y="118"/>
                  </a:moveTo>
                  <a:lnTo>
                    <a:pt x="0" y="120"/>
                  </a:lnTo>
                  <a:lnTo>
                    <a:pt x="64" y="114"/>
                  </a:lnTo>
                  <a:lnTo>
                    <a:pt x="128" y="107"/>
                  </a:lnTo>
                  <a:lnTo>
                    <a:pt x="194" y="101"/>
                  </a:lnTo>
                  <a:lnTo>
                    <a:pt x="259" y="94"/>
                  </a:lnTo>
                  <a:lnTo>
                    <a:pt x="325" y="87"/>
                  </a:lnTo>
                  <a:lnTo>
                    <a:pt x="392" y="80"/>
                  </a:lnTo>
                  <a:lnTo>
                    <a:pt x="458" y="72"/>
                  </a:lnTo>
                  <a:lnTo>
                    <a:pt x="525" y="66"/>
                  </a:lnTo>
                  <a:lnTo>
                    <a:pt x="592" y="58"/>
                  </a:lnTo>
                  <a:lnTo>
                    <a:pt x="660" y="52"/>
                  </a:lnTo>
                  <a:lnTo>
                    <a:pt x="727" y="45"/>
                  </a:lnTo>
                  <a:lnTo>
                    <a:pt x="795" y="39"/>
                  </a:lnTo>
                  <a:lnTo>
                    <a:pt x="863" y="33"/>
                  </a:lnTo>
                  <a:lnTo>
                    <a:pt x="933" y="27"/>
                  </a:lnTo>
                  <a:lnTo>
                    <a:pt x="1001" y="22"/>
                  </a:lnTo>
                  <a:lnTo>
                    <a:pt x="1071" y="18"/>
                  </a:lnTo>
                  <a:lnTo>
                    <a:pt x="1139" y="13"/>
                  </a:lnTo>
                  <a:lnTo>
                    <a:pt x="1208" y="10"/>
                  </a:lnTo>
                  <a:lnTo>
                    <a:pt x="1278" y="7"/>
                  </a:lnTo>
                  <a:lnTo>
                    <a:pt x="1347" y="5"/>
                  </a:lnTo>
                  <a:lnTo>
                    <a:pt x="1417" y="5"/>
                  </a:lnTo>
                  <a:lnTo>
                    <a:pt x="1486" y="4"/>
                  </a:lnTo>
                  <a:lnTo>
                    <a:pt x="1555" y="5"/>
                  </a:lnTo>
                  <a:lnTo>
                    <a:pt x="1624" y="5"/>
                  </a:lnTo>
                  <a:lnTo>
                    <a:pt x="1693" y="7"/>
                  </a:lnTo>
                  <a:lnTo>
                    <a:pt x="1763" y="10"/>
                  </a:lnTo>
                  <a:lnTo>
                    <a:pt x="1832" y="15"/>
                  </a:lnTo>
                  <a:lnTo>
                    <a:pt x="1901" y="20"/>
                  </a:lnTo>
                  <a:lnTo>
                    <a:pt x="1970" y="27"/>
                  </a:lnTo>
                  <a:lnTo>
                    <a:pt x="2039" y="35"/>
                  </a:lnTo>
                  <a:lnTo>
                    <a:pt x="2107" y="44"/>
                  </a:lnTo>
                  <a:lnTo>
                    <a:pt x="2176" y="55"/>
                  </a:lnTo>
                  <a:lnTo>
                    <a:pt x="2176" y="53"/>
                  </a:lnTo>
                  <a:lnTo>
                    <a:pt x="2107" y="42"/>
                  </a:lnTo>
                  <a:lnTo>
                    <a:pt x="2039" y="33"/>
                  </a:lnTo>
                  <a:lnTo>
                    <a:pt x="1970" y="25"/>
                  </a:lnTo>
                  <a:lnTo>
                    <a:pt x="1901" y="18"/>
                  </a:lnTo>
                  <a:lnTo>
                    <a:pt x="1832" y="12"/>
                  </a:lnTo>
                  <a:lnTo>
                    <a:pt x="1763" y="8"/>
                  </a:lnTo>
                  <a:lnTo>
                    <a:pt x="1693" y="5"/>
                  </a:lnTo>
                  <a:lnTo>
                    <a:pt x="1624" y="3"/>
                  </a:lnTo>
                  <a:lnTo>
                    <a:pt x="1555" y="1"/>
                  </a:lnTo>
                  <a:lnTo>
                    <a:pt x="1486" y="0"/>
                  </a:lnTo>
                  <a:lnTo>
                    <a:pt x="1417" y="1"/>
                  </a:lnTo>
                  <a:lnTo>
                    <a:pt x="1347" y="3"/>
                  </a:lnTo>
                  <a:lnTo>
                    <a:pt x="1278" y="5"/>
                  </a:lnTo>
                  <a:lnTo>
                    <a:pt x="1208" y="8"/>
                  </a:lnTo>
                  <a:lnTo>
                    <a:pt x="1139" y="11"/>
                  </a:lnTo>
                  <a:lnTo>
                    <a:pt x="1071" y="16"/>
                  </a:lnTo>
                  <a:lnTo>
                    <a:pt x="1001" y="20"/>
                  </a:lnTo>
                  <a:lnTo>
                    <a:pt x="933" y="25"/>
                  </a:lnTo>
                  <a:lnTo>
                    <a:pt x="863" y="31"/>
                  </a:lnTo>
                  <a:lnTo>
                    <a:pt x="795" y="37"/>
                  </a:lnTo>
                  <a:lnTo>
                    <a:pt x="727" y="43"/>
                  </a:lnTo>
                  <a:lnTo>
                    <a:pt x="660" y="50"/>
                  </a:lnTo>
                  <a:lnTo>
                    <a:pt x="592" y="56"/>
                  </a:lnTo>
                  <a:lnTo>
                    <a:pt x="525" y="64"/>
                  </a:lnTo>
                  <a:lnTo>
                    <a:pt x="458" y="70"/>
                  </a:lnTo>
                  <a:lnTo>
                    <a:pt x="392" y="78"/>
                  </a:lnTo>
                  <a:lnTo>
                    <a:pt x="325" y="85"/>
                  </a:lnTo>
                  <a:lnTo>
                    <a:pt x="259" y="91"/>
                  </a:lnTo>
                  <a:lnTo>
                    <a:pt x="194" y="99"/>
                  </a:lnTo>
                  <a:lnTo>
                    <a:pt x="128" y="105"/>
                  </a:lnTo>
                  <a:lnTo>
                    <a:pt x="64" y="112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55880" y="6691320"/>
              <a:ext cx="690840" cy="22320"/>
            </a:xfrm>
            <a:custGeom>
              <a:avLst/>
              <a:gdLst/>
              <a:ahLst/>
              <a:rect l="l" t="t" r="r" b="b"/>
              <a:pathLst>
                <a:path w="2176" h="67">
                  <a:moveTo>
                    <a:pt x="2176" y="2"/>
                  </a:moveTo>
                  <a:lnTo>
                    <a:pt x="2176" y="0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2176" y="2"/>
                  </a:lnTo>
                  <a:lnTo>
                    <a:pt x="2176" y="0"/>
                  </a:lnTo>
                  <a:lnTo>
                    <a:pt x="217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65520" y="6610320"/>
              <a:ext cx="1027080" cy="85680"/>
            </a:xfrm>
            <a:custGeom>
              <a:avLst/>
              <a:gdLst/>
              <a:ahLst/>
              <a:rect l="l" t="t" r="r" b="b"/>
              <a:pathLst>
                <a:path w="3238" h="269">
                  <a:moveTo>
                    <a:pt x="3236" y="269"/>
                  </a:moveTo>
                  <a:lnTo>
                    <a:pt x="3237" y="267"/>
                  </a:lnTo>
                  <a:lnTo>
                    <a:pt x="3138" y="250"/>
                  </a:lnTo>
                  <a:lnTo>
                    <a:pt x="3039" y="232"/>
                  </a:lnTo>
                  <a:lnTo>
                    <a:pt x="2940" y="214"/>
                  </a:lnTo>
                  <a:lnTo>
                    <a:pt x="2841" y="196"/>
                  </a:lnTo>
                  <a:lnTo>
                    <a:pt x="2742" y="178"/>
                  </a:lnTo>
                  <a:lnTo>
                    <a:pt x="2643" y="161"/>
                  </a:lnTo>
                  <a:lnTo>
                    <a:pt x="2544" y="144"/>
                  </a:lnTo>
                  <a:lnTo>
                    <a:pt x="2446" y="128"/>
                  </a:lnTo>
                  <a:lnTo>
                    <a:pt x="2347" y="112"/>
                  </a:lnTo>
                  <a:lnTo>
                    <a:pt x="2248" y="96"/>
                  </a:lnTo>
                  <a:lnTo>
                    <a:pt x="2149" y="82"/>
                  </a:lnTo>
                  <a:lnTo>
                    <a:pt x="2050" y="68"/>
                  </a:lnTo>
                  <a:lnTo>
                    <a:pt x="1950" y="55"/>
                  </a:lnTo>
                  <a:lnTo>
                    <a:pt x="1851" y="44"/>
                  </a:lnTo>
                  <a:lnTo>
                    <a:pt x="1752" y="33"/>
                  </a:lnTo>
                  <a:lnTo>
                    <a:pt x="1651" y="23"/>
                  </a:lnTo>
                  <a:lnTo>
                    <a:pt x="1552" y="16"/>
                  </a:lnTo>
                  <a:lnTo>
                    <a:pt x="1451" y="9"/>
                  </a:lnTo>
                  <a:lnTo>
                    <a:pt x="1350" y="4"/>
                  </a:lnTo>
                  <a:lnTo>
                    <a:pt x="1249" y="1"/>
                  </a:lnTo>
                  <a:lnTo>
                    <a:pt x="1147" y="0"/>
                  </a:lnTo>
                  <a:lnTo>
                    <a:pt x="1045" y="1"/>
                  </a:lnTo>
                  <a:lnTo>
                    <a:pt x="943" y="3"/>
                  </a:lnTo>
                  <a:lnTo>
                    <a:pt x="840" y="8"/>
                  </a:lnTo>
                  <a:lnTo>
                    <a:pt x="737" y="15"/>
                  </a:lnTo>
                  <a:lnTo>
                    <a:pt x="633" y="24"/>
                  </a:lnTo>
                  <a:lnTo>
                    <a:pt x="529" y="36"/>
                  </a:lnTo>
                  <a:lnTo>
                    <a:pt x="425" y="50"/>
                  </a:lnTo>
                  <a:lnTo>
                    <a:pt x="320" y="67"/>
                  </a:lnTo>
                  <a:lnTo>
                    <a:pt x="214" y="87"/>
                  </a:lnTo>
                  <a:lnTo>
                    <a:pt x="108" y="110"/>
                  </a:lnTo>
                  <a:lnTo>
                    <a:pt x="0" y="135"/>
                  </a:lnTo>
                  <a:lnTo>
                    <a:pt x="0" y="138"/>
                  </a:lnTo>
                  <a:lnTo>
                    <a:pt x="108" y="112"/>
                  </a:lnTo>
                  <a:lnTo>
                    <a:pt x="214" y="90"/>
                  </a:lnTo>
                  <a:lnTo>
                    <a:pt x="320" y="69"/>
                  </a:lnTo>
                  <a:lnTo>
                    <a:pt x="425" y="52"/>
                  </a:lnTo>
                  <a:lnTo>
                    <a:pt x="529" y="38"/>
                  </a:lnTo>
                  <a:lnTo>
                    <a:pt x="633" y="27"/>
                  </a:lnTo>
                  <a:lnTo>
                    <a:pt x="737" y="17"/>
                  </a:lnTo>
                  <a:lnTo>
                    <a:pt x="840" y="10"/>
                  </a:lnTo>
                  <a:lnTo>
                    <a:pt x="943" y="5"/>
                  </a:lnTo>
                  <a:lnTo>
                    <a:pt x="1045" y="3"/>
                  </a:lnTo>
                  <a:lnTo>
                    <a:pt x="1147" y="2"/>
                  </a:lnTo>
                  <a:lnTo>
                    <a:pt x="1249" y="3"/>
                  </a:lnTo>
                  <a:lnTo>
                    <a:pt x="1350" y="6"/>
                  </a:lnTo>
                  <a:lnTo>
                    <a:pt x="1451" y="12"/>
                  </a:lnTo>
                  <a:lnTo>
                    <a:pt x="1552" y="18"/>
                  </a:lnTo>
                  <a:lnTo>
                    <a:pt x="1651" y="25"/>
                  </a:lnTo>
                  <a:lnTo>
                    <a:pt x="1752" y="35"/>
                  </a:lnTo>
                  <a:lnTo>
                    <a:pt x="1851" y="46"/>
                  </a:lnTo>
                  <a:lnTo>
                    <a:pt x="1950" y="57"/>
                  </a:lnTo>
                  <a:lnTo>
                    <a:pt x="2050" y="70"/>
                  </a:lnTo>
                  <a:lnTo>
                    <a:pt x="2149" y="84"/>
                  </a:lnTo>
                  <a:lnTo>
                    <a:pt x="2248" y="98"/>
                  </a:lnTo>
                  <a:lnTo>
                    <a:pt x="2347" y="114"/>
                  </a:lnTo>
                  <a:lnTo>
                    <a:pt x="2446" y="130"/>
                  </a:lnTo>
                  <a:lnTo>
                    <a:pt x="2544" y="146"/>
                  </a:lnTo>
                  <a:lnTo>
                    <a:pt x="2643" y="163"/>
                  </a:lnTo>
                  <a:lnTo>
                    <a:pt x="2742" y="180"/>
                  </a:lnTo>
                  <a:lnTo>
                    <a:pt x="2841" y="198"/>
                  </a:lnTo>
                  <a:lnTo>
                    <a:pt x="2940" y="217"/>
                  </a:lnTo>
                  <a:lnTo>
                    <a:pt x="3039" y="234"/>
                  </a:lnTo>
                  <a:lnTo>
                    <a:pt x="3138" y="252"/>
                  </a:lnTo>
                  <a:lnTo>
                    <a:pt x="3237" y="269"/>
                  </a:lnTo>
                  <a:lnTo>
                    <a:pt x="3238" y="267"/>
                  </a:lnTo>
                  <a:lnTo>
                    <a:pt x="3236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4160" y="6070680"/>
              <a:ext cx="298440" cy="625320"/>
            </a:xfrm>
            <a:custGeom>
              <a:avLst/>
              <a:gdLst/>
              <a:ahLst/>
              <a:rect l="l" t="t" r="r" b="b"/>
              <a:pathLst>
                <a:path w="943" h="1969">
                  <a:moveTo>
                    <a:pt x="2" y="0"/>
                  </a:moveTo>
                  <a:lnTo>
                    <a:pt x="0" y="2"/>
                  </a:lnTo>
                  <a:lnTo>
                    <a:pt x="941" y="1969"/>
                  </a:lnTo>
                  <a:lnTo>
                    <a:pt x="943" y="1967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94160" y="6070680"/>
              <a:ext cx="351000" cy="650880"/>
            </a:xfrm>
            <a:custGeom>
              <a:avLst/>
              <a:gdLst/>
              <a:ahLst/>
              <a:rect l="l" t="t" r="r" b="b"/>
              <a:pathLst>
                <a:path w="1106" h="2047">
                  <a:moveTo>
                    <a:pt x="1105" y="2047"/>
                  </a:moveTo>
                  <a:lnTo>
                    <a:pt x="1106" y="2045"/>
                  </a:lnTo>
                  <a:lnTo>
                    <a:pt x="2" y="0"/>
                  </a:lnTo>
                  <a:lnTo>
                    <a:pt x="0" y="2"/>
                  </a:lnTo>
                  <a:lnTo>
                    <a:pt x="1104" y="2047"/>
                  </a:lnTo>
                  <a:lnTo>
                    <a:pt x="1105" y="2045"/>
                  </a:lnTo>
                  <a:lnTo>
                    <a:pt x="1105" y="2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686480" y="6686640"/>
              <a:ext cx="958680" cy="34920"/>
            </a:xfrm>
            <a:custGeom>
              <a:avLst/>
              <a:gdLst/>
              <a:ahLst/>
              <a:rect l="l" t="t" r="r" b="b"/>
              <a:pathLst>
                <a:path w="3019" h="110">
                  <a:moveTo>
                    <a:pt x="0" y="29"/>
                  </a:moveTo>
                  <a:lnTo>
                    <a:pt x="1" y="29"/>
                  </a:lnTo>
                  <a:lnTo>
                    <a:pt x="88" y="20"/>
                  </a:lnTo>
                  <a:lnTo>
                    <a:pt x="176" y="14"/>
                  </a:lnTo>
                  <a:lnTo>
                    <a:pt x="264" y="10"/>
                  </a:lnTo>
                  <a:lnTo>
                    <a:pt x="354" y="5"/>
                  </a:lnTo>
                  <a:lnTo>
                    <a:pt x="444" y="4"/>
                  </a:lnTo>
                  <a:lnTo>
                    <a:pt x="535" y="4"/>
                  </a:lnTo>
                  <a:lnTo>
                    <a:pt x="626" y="4"/>
                  </a:lnTo>
                  <a:lnTo>
                    <a:pt x="718" y="5"/>
                  </a:lnTo>
                  <a:lnTo>
                    <a:pt x="810" y="6"/>
                  </a:lnTo>
                  <a:lnTo>
                    <a:pt x="904" y="10"/>
                  </a:lnTo>
                  <a:lnTo>
                    <a:pt x="997" y="14"/>
                  </a:lnTo>
                  <a:lnTo>
                    <a:pt x="1092" y="18"/>
                  </a:lnTo>
                  <a:lnTo>
                    <a:pt x="1186" y="24"/>
                  </a:lnTo>
                  <a:lnTo>
                    <a:pt x="1281" y="30"/>
                  </a:lnTo>
                  <a:lnTo>
                    <a:pt x="1375" y="35"/>
                  </a:lnTo>
                  <a:lnTo>
                    <a:pt x="1471" y="42"/>
                  </a:lnTo>
                  <a:lnTo>
                    <a:pt x="1567" y="49"/>
                  </a:lnTo>
                  <a:lnTo>
                    <a:pt x="1664" y="56"/>
                  </a:lnTo>
                  <a:lnTo>
                    <a:pt x="1760" y="62"/>
                  </a:lnTo>
                  <a:lnTo>
                    <a:pt x="1857" y="69"/>
                  </a:lnTo>
                  <a:lnTo>
                    <a:pt x="1954" y="76"/>
                  </a:lnTo>
                  <a:lnTo>
                    <a:pt x="2051" y="81"/>
                  </a:lnTo>
                  <a:lnTo>
                    <a:pt x="2147" y="88"/>
                  </a:lnTo>
                  <a:lnTo>
                    <a:pt x="2244" y="93"/>
                  </a:lnTo>
                  <a:lnTo>
                    <a:pt x="2341" y="97"/>
                  </a:lnTo>
                  <a:lnTo>
                    <a:pt x="2438" y="102"/>
                  </a:lnTo>
                  <a:lnTo>
                    <a:pt x="2535" y="105"/>
                  </a:lnTo>
                  <a:lnTo>
                    <a:pt x="2632" y="108"/>
                  </a:lnTo>
                  <a:lnTo>
                    <a:pt x="2729" y="110"/>
                  </a:lnTo>
                  <a:lnTo>
                    <a:pt x="2826" y="110"/>
                  </a:lnTo>
                  <a:lnTo>
                    <a:pt x="2922" y="110"/>
                  </a:lnTo>
                  <a:lnTo>
                    <a:pt x="3019" y="107"/>
                  </a:lnTo>
                  <a:lnTo>
                    <a:pt x="3019" y="105"/>
                  </a:lnTo>
                  <a:lnTo>
                    <a:pt x="2922" y="106"/>
                  </a:lnTo>
                  <a:lnTo>
                    <a:pt x="2826" y="106"/>
                  </a:lnTo>
                  <a:lnTo>
                    <a:pt x="2729" y="106"/>
                  </a:lnTo>
                  <a:lnTo>
                    <a:pt x="2632" y="106"/>
                  </a:lnTo>
                  <a:lnTo>
                    <a:pt x="2535" y="103"/>
                  </a:lnTo>
                  <a:lnTo>
                    <a:pt x="2438" y="99"/>
                  </a:lnTo>
                  <a:lnTo>
                    <a:pt x="2341" y="95"/>
                  </a:lnTo>
                  <a:lnTo>
                    <a:pt x="2244" y="91"/>
                  </a:lnTo>
                  <a:lnTo>
                    <a:pt x="2147" y="85"/>
                  </a:lnTo>
                  <a:lnTo>
                    <a:pt x="2051" y="79"/>
                  </a:lnTo>
                  <a:lnTo>
                    <a:pt x="1954" y="74"/>
                  </a:lnTo>
                  <a:lnTo>
                    <a:pt x="1857" y="67"/>
                  </a:lnTo>
                  <a:lnTo>
                    <a:pt x="1760" y="60"/>
                  </a:lnTo>
                  <a:lnTo>
                    <a:pt x="1664" y="53"/>
                  </a:lnTo>
                  <a:lnTo>
                    <a:pt x="1567" y="47"/>
                  </a:lnTo>
                  <a:lnTo>
                    <a:pt x="1471" y="40"/>
                  </a:lnTo>
                  <a:lnTo>
                    <a:pt x="1375" y="33"/>
                  </a:lnTo>
                  <a:lnTo>
                    <a:pt x="1281" y="28"/>
                  </a:lnTo>
                  <a:lnTo>
                    <a:pt x="1186" y="21"/>
                  </a:lnTo>
                  <a:lnTo>
                    <a:pt x="1092" y="16"/>
                  </a:lnTo>
                  <a:lnTo>
                    <a:pt x="997" y="12"/>
                  </a:lnTo>
                  <a:lnTo>
                    <a:pt x="904" y="8"/>
                  </a:lnTo>
                  <a:lnTo>
                    <a:pt x="810" y="4"/>
                  </a:lnTo>
                  <a:lnTo>
                    <a:pt x="718" y="1"/>
                  </a:lnTo>
                  <a:lnTo>
                    <a:pt x="626" y="0"/>
                  </a:lnTo>
                  <a:lnTo>
                    <a:pt x="535" y="0"/>
                  </a:lnTo>
                  <a:lnTo>
                    <a:pt x="444" y="0"/>
                  </a:lnTo>
                  <a:lnTo>
                    <a:pt x="354" y="3"/>
                  </a:lnTo>
                  <a:lnTo>
                    <a:pt x="264" y="8"/>
                  </a:lnTo>
                  <a:lnTo>
                    <a:pt x="176" y="12"/>
                  </a:lnTo>
                  <a:lnTo>
                    <a:pt x="88" y="18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65520" y="6653160"/>
              <a:ext cx="120960" cy="42840"/>
            </a:xfrm>
            <a:custGeom>
              <a:avLst/>
              <a:gdLst/>
              <a:ahLst/>
              <a:rect l="l" t="t" r="r" b="b"/>
              <a:pathLst>
                <a:path w="384" h="134">
                  <a:moveTo>
                    <a:pt x="1" y="0"/>
                  </a:moveTo>
                  <a:lnTo>
                    <a:pt x="0" y="3"/>
                  </a:lnTo>
                  <a:lnTo>
                    <a:pt x="382" y="134"/>
                  </a:lnTo>
                  <a:lnTo>
                    <a:pt x="384" y="132"/>
                  </a:lnTo>
                  <a:lnTo>
                    <a:pt x="2" y="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83160" y="6621480"/>
              <a:ext cx="1023840" cy="81000"/>
            </a:xfrm>
            <a:custGeom>
              <a:avLst/>
              <a:gdLst/>
              <a:ahLst/>
              <a:rect l="l" t="t" r="r" b="b"/>
              <a:pathLst>
                <a:path w="3228" h="253">
                  <a:moveTo>
                    <a:pt x="3225" y="253"/>
                  </a:moveTo>
                  <a:lnTo>
                    <a:pt x="3226" y="251"/>
                  </a:lnTo>
                  <a:lnTo>
                    <a:pt x="3115" y="234"/>
                  </a:lnTo>
                  <a:lnTo>
                    <a:pt x="3004" y="216"/>
                  </a:lnTo>
                  <a:lnTo>
                    <a:pt x="2894" y="199"/>
                  </a:lnTo>
                  <a:lnTo>
                    <a:pt x="2785" y="182"/>
                  </a:lnTo>
                  <a:lnTo>
                    <a:pt x="2677" y="165"/>
                  </a:lnTo>
                  <a:lnTo>
                    <a:pt x="2570" y="148"/>
                  </a:lnTo>
                  <a:lnTo>
                    <a:pt x="2464" y="132"/>
                  </a:lnTo>
                  <a:lnTo>
                    <a:pt x="2358" y="117"/>
                  </a:lnTo>
                  <a:lnTo>
                    <a:pt x="2254" y="102"/>
                  </a:lnTo>
                  <a:lnTo>
                    <a:pt x="2150" y="89"/>
                  </a:lnTo>
                  <a:lnTo>
                    <a:pt x="2047" y="75"/>
                  </a:lnTo>
                  <a:lnTo>
                    <a:pt x="1945" y="62"/>
                  </a:lnTo>
                  <a:lnTo>
                    <a:pt x="1844" y="51"/>
                  </a:lnTo>
                  <a:lnTo>
                    <a:pt x="1743" y="41"/>
                  </a:lnTo>
                  <a:lnTo>
                    <a:pt x="1642" y="31"/>
                  </a:lnTo>
                  <a:lnTo>
                    <a:pt x="1543" y="22"/>
                  </a:lnTo>
                  <a:lnTo>
                    <a:pt x="1444" y="15"/>
                  </a:lnTo>
                  <a:lnTo>
                    <a:pt x="1346" y="10"/>
                  </a:lnTo>
                  <a:lnTo>
                    <a:pt x="1247" y="5"/>
                  </a:lnTo>
                  <a:lnTo>
                    <a:pt x="1149" y="2"/>
                  </a:lnTo>
                  <a:lnTo>
                    <a:pt x="1052" y="0"/>
                  </a:lnTo>
                  <a:lnTo>
                    <a:pt x="955" y="1"/>
                  </a:lnTo>
                  <a:lnTo>
                    <a:pt x="858" y="2"/>
                  </a:lnTo>
                  <a:lnTo>
                    <a:pt x="762" y="6"/>
                  </a:lnTo>
                  <a:lnTo>
                    <a:pt x="667" y="12"/>
                  </a:lnTo>
                  <a:lnTo>
                    <a:pt x="571" y="19"/>
                  </a:lnTo>
                  <a:lnTo>
                    <a:pt x="475" y="29"/>
                  </a:lnTo>
                  <a:lnTo>
                    <a:pt x="381" y="41"/>
                  </a:lnTo>
                  <a:lnTo>
                    <a:pt x="285" y="54"/>
                  </a:lnTo>
                  <a:lnTo>
                    <a:pt x="190" y="70"/>
                  </a:lnTo>
                  <a:lnTo>
                    <a:pt x="94" y="89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94" y="91"/>
                  </a:lnTo>
                  <a:lnTo>
                    <a:pt x="190" y="73"/>
                  </a:lnTo>
                  <a:lnTo>
                    <a:pt x="285" y="57"/>
                  </a:lnTo>
                  <a:lnTo>
                    <a:pt x="381" y="43"/>
                  </a:lnTo>
                  <a:lnTo>
                    <a:pt x="475" y="31"/>
                  </a:lnTo>
                  <a:lnTo>
                    <a:pt x="571" y="21"/>
                  </a:lnTo>
                  <a:lnTo>
                    <a:pt x="667" y="14"/>
                  </a:lnTo>
                  <a:lnTo>
                    <a:pt x="762" y="9"/>
                  </a:lnTo>
                  <a:lnTo>
                    <a:pt x="858" y="4"/>
                  </a:lnTo>
                  <a:lnTo>
                    <a:pt x="955" y="3"/>
                  </a:lnTo>
                  <a:lnTo>
                    <a:pt x="1052" y="2"/>
                  </a:lnTo>
                  <a:lnTo>
                    <a:pt x="1149" y="4"/>
                  </a:lnTo>
                  <a:lnTo>
                    <a:pt x="1247" y="7"/>
                  </a:lnTo>
                  <a:lnTo>
                    <a:pt x="1346" y="12"/>
                  </a:lnTo>
                  <a:lnTo>
                    <a:pt x="1444" y="17"/>
                  </a:lnTo>
                  <a:lnTo>
                    <a:pt x="1543" y="25"/>
                  </a:lnTo>
                  <a:lnTo>
                    <a:pt x="1642" y="33"/>
                  </a:lnTo>
                  <a:lnTo>
                    <a:pt x="1743" y="43"/>
                  </a:lnTo>
                  <a:lnTo>
                    <a:pt x="1844" y="53"/>
                  </a:lnTo>
                  <a:lnTo>
                    <a:pt x="1945" y="64"/>
                  </a:lnTo>
                  <a:lnTo>
                    <a:pt x="2047" y="77"/>
                  </a:lnTo>
                  <a:lnTo>
                    <a:pt x="2150" y="91"/>
                  </a:lnTo>
                  <a:lnTo>
                    <a:pt x="2254" y="105"/>
                  </a:lnTo>
                  <a:lnTo>
                    <a:pt x="2358" y="120"/>
                  </a:lnTo>
                  <a:lnTo>
                    <a:pt x="2464" y="135"/>
                  </a:lnTo>
                  <a:lnTo>
                    <a:pt x="2570" y="151"/>
                  </a:lnTo>
                  <a:lnTo>
                    <a:pt x="2677" y="168"/>
                  </a:lnTo>
                  <a:lnTo>
                    <a:pt x="2785" y="184"/>
                  </a:lnTo>
                  <a:lnTo>
                    <a:pt x="2894" y="201"/>
                  </a:lnTo>
                  <a:lnTo>
                    <a:pt x="3004" y="218"/>
                  </a:lnTo>
                  <a:lnTo>
                    <a:pt x="3115" y="236"/>
                  </a:lnTo>
                  <a:lnTo>
                    <a:pt x="3226" y="253"/>
                  </a:lnTo>
                  <a:lnTo>
                    <a:pt x="3228" y="251"/>
                  </a:lnTo>
                  <a:lnTo>
                    <a:pt x="322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29160" y="6338880"/>
              <a:ext cx="177840" cy="363600"/>
            </a:xfrm>
            <a:custGeom>
              <a:avLst/>
              <a:gdLst/>
              <a:ahLst/>
              <a:rect l="l" t="t" r="r" b="b"/>
              <a:pathLst>
                <a:path w="561" h="1143">
                  <a:moveTo>
                    <a:pt x="3" y="0"/>
                  </a:moveTo>
                  <a:lnTo>
                    <a:pt x="0" y="3"/>
                  </a:lnTo>
                  <a:lnTo>
                    <a:pt x="558" y="1143"/>
                  </a:lnTo>
                  <a:lnTo>
                    <a:pt x="561" y="1141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29160" y="6338880"/>
              <a:ext cx="192240" cy="371520"/>
            </a:xfrm>
            <a:custGeom>
              <a:avLst/>
              <a:gdLst/>
              <a:ahLst/>
              <a:rect l="l" t="t" r="r" b="b"/>
              <a:pathLst>
                <a:path w="606" h="1169">
                  <a:moveTo>
                    <a:pt x="605" y="1169"/>
                  </a:moveTo>
                  <a:lnTo>
                    <a:pt x="606" y="1167"/>
                  </a:lnTo>
                  <a:lnTo>
                    <a:pt x="3" y="0"/>
                  </a:lnTo>
                  <a:lnTo>
                    <a:pt x="0" y="3"/>
                  </a:lnTo>
                  <a:lnTo>
                    <a:pt x="604" y="1169"/>
                  </a:lnTo>
                  <a:lnTo>
                    <a:pt x="605" y="1167"/>
                  </a:lnTo>
                  <a:lnTo>
                    <a:pt x="605" y="1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602240" y="6629400"/>
              <a:ext cx="1019160" cy="81000"/>
            </a:xfrm>
            <a:custGeom>
              <a:avLst/>
              <a:gdLst/>
              <a:ahLst/>
              <a:rect l="l" t="t" r="r" b="b"/>
              <a:pathLst>
                <a:path w="3212" h="254">
                  <a:moveTo>
                    <a:pt x="0" y="107"/>
                  </a:moveTo>
                  <a:lnTo>
                    <a:pt x="1" y="107"/>
                  </a:lnTo>
                  <a:lnTo>
                    <a:pt x="98" y="85"/>
                  </a:lnTo>
                  <a:lnTo>
                    <a:pt x="195" y="66"/>
                  </a:lnTo>
                  <a:lnTo>
                    <a:pt x="293" y="50"/>
                  </a:lnTo>
                  <a:lnTo>
                    <a:pt x="391" y="36"/>
                  </a:lnTo>
                  <a:lnTo>
                    <a:pt x="491" y="25"/>
                  </a:lnTo>
                  <a:lnTo>
                    <a:pt x="590" y="16"/>
                  </a:lnTo>
                  <a:lnTo>
                    <a:pt x="691" y="9"/>
                  </a:lnTo>
                  <a:lnTo>
                    <a:pt x="791" y="5"/>
                  </a:lnTo>
                  <a:lnTo>
                    <a:pt x="892" y="4"/>
                  </a:lnTo>
                  <a:lnTo>
                    <a:pt x="992" y="4"/>
                  </a:lnTo>
                  <a:lnTo>
                    <a:pt x="1094" y="5"/>
                  </a:lnTo>
                  <a:lnTo>
                    <a:pt x="1196" y="8"/>
                  </a:lnTo>
                  <a:lnTo>
                    <a:pt x="1297" y="12"/>
                  </a:lnTo>
                  <a:lnTo>
                    <a:pt x="1400" y="19"/>
                  </a:lnTo>
                  <a:lnTo>
                    <a:pt x="1502" y="26"/>
                  </a:lnTo>
                  <a:lnTo>
                    <a:pt x="1605" y="36"/>
                  </a:lnTo>
                  <a:lnTo>
                    <a:pt x="1707" y="45"/>
                  </a:lnTo>
                  <a:lnTo>
                    <a:pt x="1809" y="57"/>
                  </a:lnTo>
                  <a:lnTo>
                    <a:pt x="1912" y="69"/>
                  </a:lnTo>
                  <a:lnTo>
                    <a:pt x="2013" y="82"/>
                  </a:lnTo>
                  <a:lnTo>
                    <a:pt x="2115" y="95"/>
                  </a:lnTo>
                  <a:lnTo>
                    <a:pt x="2217" y="110"/>
                  </a:lnTo>
                  <a:lnTo>
                    <a:pt x="2319" y="123"/>
                  </a:lnTo>
                  <a:lnTo>
                    <a:pt x="2419" y="138"/>
                  </a:lnTo>
                  <a:lnTo>
                    <a:pt x="2520" y="153"/>
                  </a:lnTo>
                  <a:lnTo>
                    <a:pt x="2620" y="168"/>
                  </a:lnTo>
                  <a:lnTo>
                    <a:pt x="2721" y="183"/>
                  </a:lnTo>
                  <a:lnTo>
                    <a:pt x="2820" y="198"/>
                  </a:lnTo>
                  <a:lnTo>
                    <a:pt x="2919" y="213"/>
                  </a:lnTo>
                  <a:lnTo>
                    <a:pt x="3017" y="227"/>
                  </a:lnTo>
                  <a:lnTo>
                    <a:pt x="3115" y="241"/>
                  </a:lnTo>
                  <a:lnTo>
                    <a:pt x="3212" y="254"/>
                  </a:lnTo>
                  <a:lnTo>
                    <a:pt x="3212" y="252"/>
                  </a:lnTo>
                  <a:lnTo>
                    <a:pt x="3115" y="239"/>
                  </a:lnTo>
                  <a:lnTo>
                    <a:pt x="3017" y="225"/>
                  </a:lnTo>
                  <a:lnTo>
                    <a:pt x="2919" y="211"/>
                  </a:lnTo>
                  <a:lnTo>
                    <a:pt x="2820" y="196"/>
                  </a:lnTo>
                  <a:lnTo>
                    <a:pt x="2721" y="181"/>
                  </a:lnTo>
                  <a:lnTo>
                    <a:pt x="2620" y="166"/>
                  </a:lnTo>
                  <a:lnTo>
                    <a:pt x="2520" y="151"/>
                  </a:lnTo>
                  <a:lnTo>
                    <a:pt x="2419" y="136"/>
                  </a:lnTo>
                  <a:lnTo>
                    <a:pt x="2319" y="121"/>
                  </a:lnTo>
                  <a:lnTo>
                    <a:pt x="2217" y="107"/>
                  </a:lnTo>
                  <a:lnTo>
                    <a:pt x="2115" y="92"/>
                  </a:lnTo>
                  <a:lnTo>
                    <a:pt x="2013" y="80"/>
                  </a:lnTo>
                  <a:lnTo>
                    <a:pt x="1912" y="67"/>
                  </a:lnTo>
                  <a:lnTo>
                    <a:pt x="1809" y="55"/>
                  </a:lnTo>
                  <a:lnTo>
                    <a:pt x="1707" y="43"/>
                  </a:lnTo>
                  <a:lnTo>
                    <a:pt x="1605" y="34"/>
                  </a:lnTo>
                  <a:lnTo>
                    <a:pt x="1502" y="24"/>
                  </a:lnTo>
                  <a:lnTo>
                    <a:pt x="1400" y="17"/>
                  </a:lnTo>
                  <a:lnTo>
                    <a:pt x="1297" y="10"/>
                  </a:lnTo>
                  <a:lnTo>
                    <a:pt x="1196" y="6"/>
                  </a:lnTo>
                  <a:lnTo>
                    <a:pt x="1094" y="3"/>
                  </a:lnTo>
                  <a:lnTo>
                    <a:pt x="992" y="0"/>
                  </a:lnTo>
                  <a:lnTo>
                    <a:pt x="892" y="0"/>
                  </a:lnTo>
                  <a:lnTo>
                    <a:pt x="791" y="3"/>
                  </a:lnTo>
                  <a:lnTo>
                    <a:pt x="691" y="7"/>
                  </a:lnTo>
                  <a:lnTo>
                    <a:pt x="590" y="13"/>
                  </a:lnTo>
                  <a:lnTo>
                    <a:pt x="491" y="23"/>
                  </a:lnTo>
                  <a:lnTo>
                    <a:pt x="391" y="34"/>
                  </a:lnTo>
                  <a:lnTo>
                    <a:pt x="293" y="48"/>
                  </a:lnTo>
                  <a:lnTo>
                    <a:pt x="195" y="64"/>
                  </a:lnTo>
                  <a:lnTo>
                    <a:pt x="98" y="83"/>
                  </a:lnTo>
                  <a:lnTo>
                    <a:pt x="1" y="105"/>
                  </a:lnTo>
                  <a:lnTo>
                    <a:pt x="2" y="105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81360" y="6656400"/>
              <a:ext cx="20880" cy="7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1" y="0"/>
                  </a:moveTo>
                  <a:lnTo>
                    <a:pt x="0" y="2"/>
                  </a:lnTo>
                  <a:lnTo>
                    <a:pt x="61" y="22"/>
                  </a:lnTo>
                  <a:lnTo>
                    <a:pt x="63" y="2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14840" y="6640560"/>
              <a:ext cx="1015920" cy="76320"/>
            </a:xfrm>
            <a:custGeom>
              <a:avLst/>
              <a:gdLst/>
              <a:ahLst/>
              <a:rect l="l" t="t" r="r" b="b"/>
              <a:pathLst>
                <a:path w="3201" h="240">
                  <a:moveTo>
                    <a:pt x="3198" y="240"/>
                  </a:moveTo>
                  <a:lnTo>
                    <a:pt x="3199" y="238"/>
                  </a:lnTo>
                  <a:lnTo>
                    <a:pt x="3098" y="225"/>
                  </a:lnTo>
                  <a:lnTo>
                    <a:pt x="2995" y="211"/>
                  </a:lnTo>
                  <a:lnTo>
                    <a:pt x="2892" y="197"/>
                  </a:lnTo>
                  <a:lnTo>
                    <a:pt x="2788" y="183"/>
                  </a:lnTo>
                  <a:lnTo>
                    <a:pt x="2682" y="168"/>
                  </a:lnTo>
                  <a:lnTo>
                    <a:pt x="2577" y="155"/>
                  </a:lnTo>
                  <a:lnTo>
                    <a:pt x="2471" y="140"/>
                  </a:lnTo>
                  <a:lnTo>
                    <a:pt x="2366" y="126"/>
                  </a:lnTo>
                  <a:lnTo>
                    <a:pt x="2260" y="112"/>
                  </a:lnTo>
                  <a:lnTo>
                    <a:pt x="2153" y="98"/>
                  </a:lnTo>
                  <a:lnTo>
                    <a:pt x="2046" y="85"/>
                  </a:lnTo>
                  <a:lnTo>
                    <a:pt x="1941" y="72"/>
                  </a:lnTo>
                  <a:lnTo>
                    <a:pt x="1835" y="61"/>
                  </a:lnTo>
                  <a:lnTo>
                    <a:pt x="1729" y="49"/>
                  </a:lnTo>
                  <a:lnTo>
                    <a:pt x="1625" y="38"/>
                  </a:lnTo>
                  <a:lnTo>
                    <a:pt x="1520" y="30"/>
                  </a:lnTo>
                  <a:lnTo>
                    <a:pt x="1416" y="21"/>
                  </a:lnTo>
                  <a:lnTo>
                    <a:pt x="1313" y="14"/>
                  </a:lnTo>
                  <a:lnTo>
                    <a:pt x="1211" y="8"/>
                  </a:lnTo>
                  <a:lnTo>
                    <a:pt x="1109" y="4"/>
                  </a:lnTo>
                  <a:lnTo>
                    <a:pt x="1008" y="1"/>
                  </a:lnTo>
                  <a:lnTo>
                    <a:pt x="909" y="0"/>
                  </a:lnTo>
                  <a:lnTo>
                    <a:pt x="811" y="0"/>
                  </a:lnTo>
                  <a:lnTo>
                    <a:pt x="714" y="2"/>
                  </a:lnTo>
                  <a:lnTo>
                    <a:pt x="619" y="6"/>
                  </a:lnTo>
                  <a:lnTo>
                    <a:pt x="525" y="13"/>
                  </a:lnTo>
                  <a:lnTo>
                    <a:pt x="433" y="20"/>
                  </a:lnTo>
                  <a:lnTo>
                    <a:pt x="343" y="31"/>
                  </a:lnTo>
                  <a:lnTo>
                    <a:pt x="254" y="43"/>
                  </a:lnTo>
                  <a:lnTo>
                    <a:pt x="168" y="58"/>
                  </a:lnTo>
                  <a:lnTo>
                    <a:pt x="83" y="77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83" y="79"/>
                  </a:lnTo>
                  <a:lnTo>
                    <a:pt x="168" y="61"/>
                  </a:lnTo>
                  <a:lnTo>
                    <a:pt x="254" y="46"/>
                  </a:lnTo>
                  <a:lnTo>
                    <a:pt x="343" y="33"/>
                  </a:lnTo>
                  <a:lnTo>
                    <a:pt x="433" y="22"/>
                  </a:lnTo>
                  <a:lnTo>
                    <a:pt x="525" y="15"/>
                  </a:lnTo>
                  <a:lnTo>
                    <a:pt x="619" y="8"/>
                  </a:lnTo>
                  <a:lnTo>
                    <a:pt x="714" y="4"/>
                  </a:lnTo>
                  <a:lnTo>
                    <a:pt x="811" y="2"/>
                  </a:lnTo>
                  <a:lnTo>
                    <a:pt x="909" y="2"/>
                  </a:lnTo>
                  <a:lnTo>
                    <a:pt x="1008" y="3"/>
                  </a:lnTo>
                  <a:lnTo>
                    <a:pt x="1109" y="6"/>
                  </a:lnTo>
                  <a:lnTo>
                    <a:pt x="1211" y="10"/>
                  </a:lnTo>
                  <a:lnTo>
                    <a:pt x="1313" y="16"/>
                  </a:lnTo>
                  <a:lnTo>
                    <a:pt x="1416" y="23"/>
                  </a:lnTo>
                  <a:lnTo>
                    <a:pt x="1520" y="32"/>
                  </a:lnTo>
                  <a:lnTo>
                    <a:pt x="1625" y="40"/>
                  </a:lnTo>
                  <a:lnTo>
                    <a:pt x="1729" y="51"/>
                  </a:lnTo>
                  <a:lnTo>
                    <a:pt x="1835" y="63"/>
                  </a:lnTo>
                  <a:lnTo>
                    <a:pt x="1941" y="74"/>
                  </a:lnTo>
                  <a:lnTo>
                    <a:pt x="2046" y="87"/>
                  </a:lnTo>
                  <a:lnTo>
                    <a:pt x="2153" y="100"/>
                  </a:lnTo>
                  <a:lnTo>
                    <a:pt x="2260" y="114"/>
                  </a:lnTo>
                  <a:lnTo>
                    <a:pt x="2366" y="128"/>
                  </a:lnTo>
                  <a:lnTo>
                    <a:pt x="2471" y="142"/>
                  </a:lnTo>
                  <a:lnTo>
                    <a:pt x="2577" y="157"/>
                  </a:lnTo>
                  <a:lnTo>
                    <a:pt x="2682" y="171"/>
                  </a:lnTo>
                  <a:lnTo>
                    <a:pt x="2788" y="186"/>
                  </a:lnTo>
                  <a:lnTo>
                    <a:pt x="2892" y="199"/>
                  </a:lnTo>
                  <a:lnTo>
                    <a:pt x="2995" y="213"/>
                  </a:lnTo>
                  <a:lnTo>
                    <a:pt x="3098" y="227"/>
                  </a:lnTo>
                  <a:lnTo>
                    <a:pt x="3199" y="240"/>
                  </a:lnTo>
                  <a:lnTo>
                    <a:pt x="3201" y="238"/>
                  </a:lnTo>
                  <a:lnTo>
                    <a:pt x="3198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3400" y="6489720"/>
              <a:ext cx="117360" cy="227160"/>
            </a:xfrm>
            <a:custGeom>
              <a:avLst/>
              <a:gdLst/>
              <a:ahLst/>
              <a:rect l="l" t="t" r="r" b="b"/>
              <a:pathLst>
                <a:path w="369" h="717">
                  <a:moveTo>
                    <a:pt x="2" y="0"/>
                  </a:moveTo>
                  <a:lnTo>
                    <a:pt x="0" y="3"/>
                  </a:lnTo>
                  <a:lnTo>
                    <a:pt x="366" y="717"/>
                  </a:lnTo>
                  <a:lnTo>
                    <a:pt x="369" y="715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13400" y="6489720"/>
              <a:ext cx="122400" cy="228600"/>
            </a:xfrm>
            <a:custGeom>
              <a:avLst/>
              <a:gdLst/>
              <a:ahLst/>
              <a:rect l="l" t="t" r="r" b="b"/>
              <a:pathLst>
                <a:path w="385" h="721">
                  <a:moveTo>
                    <a:pt x="384" y="721"/>
                  </a:moveTo>
                  <a:lnTo>
                    <a:pt x="385" y="71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3" y="721"/>
                  </a:lnTo>
                  <a:lnTo>
                    <a:pt x="384" y="719"/>
                  </a:lnTo>
                  <a:lnTo>
                    <a:pt x="384" y="7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38600" y="6649920"/>
              <a:ext cx="997200" cy="68400"/>
            </a:xfrm>
            <a:custGeom>
              <a:avLst/>
              <a:gdLst/>
              <a:ahLst/>
              <a:rect l="l" t="t" r="r" b="b"/>
              <a:pathLst>
                <a:path w="3137" h="212">
                  <a:moveTo>
                    <a:pt x="0" y="87"/>
                  </a:moveTo>
                  <a:lnTo>
                    <a:pt x="0" y="87"/>
                  </a:lnTo>
                  <a:lnTo>
                    <a:pt x="93" y="68"/>
                  </a:lnTo>
                  <a:lnTo>
                    <a:pt x="185" y="51"/>
                  </a:lnTo>
                  <a:lnTo>
                    <a:pt x="278" y="37"/>
                  </a:lnTo>
                  <a:lnTo>
                    <a:pt x="372" y="26"/>
                  </a:lnTo>
                  <a:lnTo>
                    <a:pt x="466" y="17"/>
                  </a:lnTo>
                  <a:lnTo>
                    <a:pt x="561" y="10"/>
                  </a:lnTo>
                  <a:lnTo>
                    <a:pt x="657" y="6"/>
                  </a:lnTo>
                  <a:lnTo>
                    <a:pt x="752" y="4"/>
                  </a:lnTo>
                  <a:lnTo>
                    <a:pt x="849" y="4"/>
                  </a:lnTo>
                  <a:lnTo>
                    <a:pt x="946" y="5"/>
                  </a:lnTo>
                  <a:lnTo>
                    <a:pt x="1044" y="6"/>
                  </a:lnTo>
                  <a:lnTo>
                    <a:pt x="1143" y="10"/>
                  </a:lnTo>
                  <a:lnTo>
                    <a:pt x="1241" y="16"/>
                  </a:lnTo>
                  <a:lnTo>
                    <a:pt x="1339" y="23"/>
                  </a:lnTo>
                  <a:lnTo>
                    <a:pt x="1438" y="31"/>
                  </a:lnTo>
                  <a:lnTo>
                    <a:pt x="1538" y="40"/>
                  </a:lnTo>
                  <a:lnTo>
                    <a:pt x="1637" y="50"/>
                  </a:lnTo>
                  <a:lnTo>
                    <a:pt x="1736" y="61"/>
                  </a:lnTo>
                  <a:lnTo>
                    <a:pt x="1837" y="71"/>
                  </a:lnTo>
                  <a:lnTo>
                    <a:pt x="1936" y="83"/>
                  </a:lnTo>
                  <a:lnTo>
                    <a:pt x="2037" y="95"/>
                  </a:lnTo>
                  <a:lnTo>
                    <a:pt x="2137" y="108"/>
                  </a:lnTo>
                  <a:lnTo>
                    <a:pt x="2237" y="119"/>
                  </a:lnTo>
                  <a:lnTo>
                    <a:pt x="2337" y="132"/>
                  </a:lnTo>
                  <a:lnTo>
                    <a:pt x="2438" y="144"/>
                  </a:lnTo>
                  <a:lnTo>
                    <a:pt x="2539" y="156"/>
                  </a:lnTo>
                  <a:lnTo>
                    <a:pt x="2638" y="166"/>
                  </a:lnTo>
                  <a:lnTo>
                    <a:pt x="2738" y="177"/>
                  </a:lnTo>
                  <a:lnTo>
                    <a:pt x="2838" y="188"/>
                  </a:lnTo>
                  <a:lnTo>
                    <a:pt x="2938" y="197"/>
                  </a:lnTo>
                  <a:lnTo>
                    <a:pt x="3038" y="205"/>
                  </a:lnTo>
                  <a:lnTo>
                    <a:pt x="3137" y="212"/>
                  </a:lnTo>
                  <a:lnTo>
                    <a:pt x="3137" y="210"/>
                  </a:lnTo>
                  <a:lnTo>
                    <a:pt x="3038" y="203"/>
                  </a:lnTo>
                  <a:lnTo>
                    <a:pt x="2938" y="195"/>
                  </a:lnTo>
                  <a:lnTo>
                    <a:pt x="2838" y="186"/>
                  </a:lnTo>
                  <a:lnTo>
                    <a:pt x="2738" y="175"/>
                  </a:lnTo>
                  <a:lnTo>
                    <a:pt x="2638" y="164"/>
                  </a:lnTo>
                  <a:lnTo>
                    <a:pt x="2539" y="154"/>
                  </a:lnTo>
                  <a:lnTo>
                    <a:pt x="2438" y="142"/>
                  </a:lnTo>
                  <a:lnTo>
                    <a:pt x="2337" y="130"/>
                  </a:lnTo>
                  <a:lnTo>
                    <a:pt x="2237" y="117"/>
                  </a:lnTo>
                  <a:lnTo>
                    <a:pt x="2137" y="105"/>
                  </a:lnTo>
                  <a:lnTo>
                    <a:pt x="2037" y="93"/>
                  </a:lnTo>
                  <a:lnTo>
                    <a:pt x="1936" y="81"/>
                  </a:lnTo>
                  <a:lnTo>
                    <a:pt x="1837" y="69"/>
                  </a:lnTo>
                  <a:lnTo>
                    <a:pt x="1736" y="58"/>
                  </a:lnTo>
                  <a:lnTo>
                    <a:pt x="1637" y="48"/>
                  </a:lnTo>
                  <a:lnTo>
                    <a:pt x="1538" y="38"/>
                  </a:lnTo>
                  <a:lnTo>
                    <a:pt x="1438" y="29"/>
                  </a:lnTo>
                  <a:lnTo>
                    <a:pt x="1339" y="21"/>
                  </a:lnTo>
                  <a:lnTo>
                    <a:pt x="1241" y="14"/>
                  </a:lnTo>
                  <a:lnTo>
                    <a:pt x="1143" y="8"/>
                  </a:lnTo>
                  <a:lnTo>
                    <a:pt x="1044" y="4"/>
                  </a:lnTo>
                  <a:lnTo>
                    <a:pt x="946" y="1"/>
                  </a:lnTo>
                  <a:lnTo>
                    <a:pt x="849" y="0"/>
                  </a:lnTo>
                  <a:lnTo>
                    <a:pt x="752" y="0"/>
                  </a:lnTo>
                  <a:lnTo>
                    <a:pt x="657" y="4"/>
                  </a:lnTo>
                  <a:lnTo>
                    <a:pt x="561" y="8"/>
                  </a:lnTo>
                  <a:lnTo>
                    <a:pt x="466" y="15"/>
                  </a:lnTo>
                  <a:lnTo>
                    <a:pt x="372" y="24"/>
                  </a:lnTo>
                  <a:lnTo>
                    <a:pt x="278" y="35"/>
                  </a:lnTo>
                  <a:lnTo>
                    <a:pt x="185" y="49"/>
                  </a:lnTo>
                  <a:lnTo>
                    <a:pt x="93" y="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614840" y="6670800"/>
              <a:ext cx="23760" cy="7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0" y="0"/>
                  </a:moveTo>
                  <a:lnTo>
                    <a:pt x="0" y="2"/>
                  </a:lnTo>
                  <a:lnTo>
                    <a:pt x="79" y="22"/>
                  </a:lnTo>
                  <a:lnTo>
                    <a:pt x="79" y="2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670280" y="6665760"/>
              <a:ext cx="782640" cy="51120"/>
            </a:xfrm>
            <a:custGeom>
              <a:avLst/>
              <a:gdLst/>
              <a:ahLst/>
              <a:rect l="l" t="t" r="r" b="b"/>
              <a:pathLst>
                <a:path w="2468" h="158">
                  <a:moveTo>
                    <a:pt x="2468" y="158"/>
                  </a:moveTo>
                  <a:lnTo>
                    <a:pt x="2468" y="156"/>
                  </a:lnTo>
                  <a:lnTo>
                    <a:pt x="2392" y="148"/>
                  </a:lnTo>
                  <a:lnTo>
                    <a:pt x="2317" y="140"/>
                  </a:lnTo>
                  <a:lnTo>
                    <a:pt x="2240" y="131"/>
                  </a:lnTo>
                  <a:lnTo>
                    <a:pt x="2164" y="122"/>
                  </a:lnTo>
                  <a:lnTo>
                    <a:pt x="2086" y="113"/>
                  </a:lnTo>
                  <a:lnTo>
                    <a:pt x="2007" y="104"/>
                  </a:lnTo>
                  <a:lnTo>
                    <a:pt x="1928" y="94"/>
                  </a:lnTo>
                  <a:lnTo>
                    <a:pt x="1849" y="84"/>
                  </a:lnTo>
                  <a:lnTo>
                    <a:pt x="1770" y="76"/>
                  </a:lnTo>
                  <a:lnTo>
                    <a:pt x="1689" y="66"/>
                  </a:lnTo>
                  <a:lnTo>
                    <a:pt x="1609" y="58"/>
                  </a:lnTo>
                  <a:lnTo>
                    <a:pt x="1529" y="49"/>
                  </a:lnTo>
                  <a:lnTo>
                    <a:pt x="1449" y="42"/>
                  </a:lnTo>
                  <a:lnTo>
                    <a:pt x="1369" y="34"/>
                  </a:lnTo>
                  <a:lnTo>
                    <a:pt x="1288" y="27"/>
                  </a:lnTo>
                  <a:lnTo>
                    <a:pt x="1208" y="20"/>
                  </a:lnTo>
                  <a:lnTo>
                    <a:pt x="1128" y="15"/>
                  </a:lnTo>
                  <a:lnTo>
                    <a:pt x="1049" y="10"/>
                  </a:lnTo>
                  <a:lnTo>
                    <a:pt x="970" y="6"/>
                  </a:lnTo>
                  <a:lnTo>
                    <a:pt x="891" y="3"/>
                  </a:lnTo>
                  <a:lnTo>
                    <a:pt x="812" y="1"/>
                  </a:lnTo>
                  <a:lnTo>
                    <a:pt x="734" y="0"/>
                  </a:lnTo>
                  <a:lnTo>
                    <a:pt x="657" y="0"/>
                  </a:lnTo>
                  <a:lnTo>
                    <a:pt x="581" y="2"/>
                  </a:lnTo>
                  <a:lnTo>
                    <a:pt x="504" y="5"/>
                  </a:lnTo>
                  <a:lnTo>
                    <a:pt x="430" y="10"/>
                  </a:lnTo>
                  <a:lnTo>
                    <a:pt x="356" y="15"/>
                  </a:lnTo>
                  <a:lnTo>
                    <a:pt x="283" y="23"/>
                  </a:lnTo>
                  <a:lnTo>
                    <a:pt x="210" y="32"/>
                  </a:lnTo>
                  <a:lnTo>
                    <a:pt x="139" y="43"/>
                  </a:lnTo>
                  <a:lnTo>
                    <a:pt x="68" y="55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68" y="58"/>
                  </a:lnTo>
                  <a:lnTo>
                    <a:pt x="139" y="45"/>
                  </a:lnTo>
                  <a:lnTo>
                    <a:pt x="210" y="34"/>
                  </a:lnTo>
                  <a:lnTo>
                    <a:pt x="283" y="26"/>
                  </a:lnTo>
                  <a:lnTo>
                    <a:pt x="356" y="17"/>
                  </a:lnTo>
                  <a:lnTo>
                    <a:pt x="430" y="12"/>
                  </a:lnTo>
                  <a:lnTo>
                    <a:pt x="504" y="7"/>
                  </a:lnTo>
                  <a:lnTo>
                    <a:pt x="581" y="4"/>
                  </a:lnTo>
                  <a:lnTo>
                    <a:pt x="657" y="2"/>
                  </a:lnTo>
                  <a:lnTo>
                    <a:pt x="734" y="2"/>
                  </a:lnTo>
                  <a:lnTo>
                    <a:pt x="812" y="3"/>
                  </a:lnTo>
                  <a:lnTo>
                    <a:pt x="891" y="5"/>
                  </a:lnTo>
                  <a:lnTo>
                    <a:pt x="970" y="8"/>
                  </a:lnTo>
                  <a:lnTo>
                    <a:pt x="1049" y="12"/>
                  </a:lnTo>
                  <a:lnTo>
                    <a:pt x="1128" y="17"/>
                  </a:lnTo>
                  <a:lnTo>
                    <a:pt x="1208" y="22"/>
                  </a:lnTo>
                  <a:lnTo>
                    <a:pt x="1288" y="29"/>
                  </a:lnTo>
                  <a:lnTo>
                    <a:pt x="1369" y="36"/>
                  </a:lnTo>
                  <a:lnTo>
                    <a:pt x="1449" y="44"/>
                  </a:lnTo>
                  <a:lnTo>
                    <a:pt x="1529" y="51"/>
                  </a:lnTo>
                  <a:lnTo>
                    <a:pt x="1609" y="60"/>
                  </a:lnTo>
                  <a:lnTo>
                    <a:pt x="1689" y="68"/>
                  </a:lnTo>
                  <a:lnTo>
                    <a:pt x="1770" y="78"/>
                  </a:lnTo>
                  <a:lnTo>
                    <a:pt x="1849" y="86"/>
                  </a:lnTo>
                  <a:lnTo>
                    <a:pt x="1928" y="96"/>
                  </a:lnTo>
                  <a:lnTo>
                    <a:pt x="2007" y="106"/>
                  </a:lnTo>
                  <a:lnTo>
                    <a:pt x="2086" y="115"/>
                  </a:lnTo>
                  <a:lnTo>
                    <a:pt x="2164" y="124"/>
                  </a:lnTo>
                  <a:lnTo>
                    <a:pt x="2240" y="133"/>
                  </a:lnTo>
                  <a:lnTo>
                    <a:pt x="2317" y="142"/>
                  </a:lnTo>
                  <a:lnTo>
                    <a:pt x="2392" y="150"/>
                  </a:lnTo>
                  <a:lnTo>
                    <a:pt x="2468" y="158"/>
                  </a:lnTo>
                  <a:lnTo>
                    <a:pt x="2468" y="156"/>
                  </a:lnTo>
                  <a:lnTo>
                    <a:pt x="246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70280" y="6688080"/>
              <a:ext cx="782640" cy="28800"/>
            </a:xfrm>
            <a:custGeom>
              <a:avLst/>
              <a:gdLst/>
              <a:ahLst/>
              <a:rect l="l" t="t" r="r" b="b"/>
              <a:pathLst>
                <a:path w="2468" h="88">
                  <a:moveTo>
                    <a:pt x="0" y="0"/>
                  </a:moveTo>
                  <a:lnTo>
                    <a:pt x="0" y="3"/>
                  </a:lnTo>
                  <a:lnTo>
                    <a:pt x="2468" y="88"/>
                  </a:lnTo>
                  <a:lnTo>
                    <a:pt x="2468" y="86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54440" y="6659640"/>
              <a:ext cx="914400" cy="60120"/>
            </a:xfrm>
            <a:custGeom>
              <a:avLst/>
              <a:gdLst/>
              <a:ahLst/>
              <a:rect l="l" t="t" r="r" b="b"/>
              <a:pathLst>
                <a:path w="2883" h="188">
                  <a:moveTo>
                    <a:pt x="2883" y="188"/>
                  </a:moveTo>
                  <a:lnTo>
                    <a:pt x="2883" y="185"/>
                  </a:lnTo>
                  <a:lnTo>
                    <a:pt x="2793" y="178"/>
                  </a:lnTo>
                  <a:lnTo>
                    <a:pt x="2702" y="169"/>
                  </a:lnTo>
                  <a:lnTo>
                    <a:pt x="2610" y="160"/>
                  </a:lnTo>
                  <a:lnTo>
                    <a:pt x="2518" y="150"/>
                  </a:lnTo>
                  <a:lnTo>
                    <a:pt x="2425" y="140"/>
                  </a:lnTo>
                  <a:lnTo>
                    <a:pt x="2332" y="129"/>
                  </a:lnTo>
                  <a:lnTo>
                    <a:pt x="2238" y="118"/>
                  </a:lnTo>
                  <a:lnTo>
                    <a:pt x="2144" y="107"/>
                  </a:lnTo>
                  <a:lnTo>
                    <a:pt x="2050" y="97"/>
                  </a:lnTo>
                  <a:lnTo>
                    <a:pt x="1955" y="86"/>
                  </a:lnTo>
                  <a:lnTo>
                    <a:pt x="1860" y="75"/>
                  </a:lnTo>
                  <a:lnTo>
                    <a:pt x="1766" y="65"/>
                  </a:lnTo>
                  <a:lnTo>
                    <a:pt x="1671" y="55"/>
                  </a:lnTo>
                  <a:lnTo>
                    <a:pt x="1577" y="46"/>
                  </a:lnTo>
                  <a:lnTo>
                    <a:pt x="1482" y="37"/>
                  </a:lnTo>
                  <a:lnTo>
                    <a:pt x="1389" y="28"/>
                  </a:lnTo>
                  <a:lnTo>
                    <a:pt x="1295" y="21"/>
                  </a:lnTo>
                  <a:lnTo>
                    <a:pt x="1203" y="15"/>
                  </a:lnTo>
                  <a:lnTo>
                    <a:pt x="1110" y="9"/>
                  </a:lnTo>
                  <a:lnTo>
                    <a:pt x="1019" y="5"/>
                  </a:lnTo>
                  <a:lnTo>
                    <a:pt x="928" y="2"/>
                  </a:lnTo>
                  <a:lnTo>
                    <a:pt x="838" y="0"/>
                  </a:lnTo>
                  <a:lnTo>
                    <a:pt x="748" y="0"/>
                  </a:lnTo>
                  <a:lnTo>
                    <a:pt x="661" y="1"/>
                  </a:lnTo>
                  <a:lnTo>
                    <a:pt x="573" y="3"/>
                  </a:lnTo>
                  <a:lnTo>
                    <a:pt x="487" y="7"/>
                  </a:lnTo>
                  <a:lnTo>
                    <a:pt x="402" y="14"/>
                  </a:lnTo>
                  <a:lnTo>
                    <a:pt x="320" y="21"/>
                  </a:lnTo>
                  <a:lnTo>
                    <a:pt x="237" y="32"/>
                  </a:lnTo>
                  <a:lnTo>
                    <a:pt x="157" y="43"/>
                  </a:lnTo>
                  <a:lnTo>
                    <a:pt x="78" y="57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78" y="59"/>
                  </a:lnTo>
                  <a:lnTo>
                    <a:pt x="157" y="46"/>
                  </a:lnTo>
                  <a:lnTo>
                    <a:pt x="237" y="34"/>
                  </a:lnTo>
                  <a:lnTo>
                    <a:pt x="320" y="23"/>
                  </a:lnTo>
                  <a:lnTo>
                    <a:pt x="402" y="16"/>
                  </a:lnTo>
                  <a:lnTo>
                    <a:pt x="487" y="9"/>
                  </a:lnTo>
                  <a:lnTo>
                    <a:pt x="573" y="5"/>
                  </a:lnTo>
                  <a:lnTo>
                    <a:pt x="661" y="3"/>
                  </a:lnTo>
                  <a:lnTo>
                    <a:pt x="748" y="2"/>
                  </a:lnTo>
                  <a:lnTo>
                    <a:pt x="838" y="2"/>
                  </a:lnTo>
                  <a:lnTo>
                    <a:pt x="928" y="4"/>
                  </a:lnTo>
                  <a:lnTo>
                    <a:pt x="1019" y="7"/>
                  </a:lnTo>
                  <a:lnTo>
                    <a:pt x="1110" y="11"/>
                  </a:lnTo>
                  <a:lnTo>
                    <a:pt x="1203" y="17"/>
                  </a:lnTo>
                  <a:lnTo>
                    <a:pt x="1295" y="23"/>
                  </a:lnTo>
                  <a:lnTo>
                    <a:pt x="1389" y="31"/>
                  </a:lnTo>
                  <a:lnTo>
                    <a:pt x="1482" y="39"/>
                  </a:lnTo>
                  <a:lnTo>
                    <a:pt x="1577" y="48"/>
                  </a:lnTo>
                  <a:lnTo>
                    <a:pt x="1671" y="57"/>
                  </a:lnTo>
                  <a:lnTo>
                    <a:pt x="1766" y="67"/>
                  </a:lnTo>
                  <a:lnTo>
                    <a:pt x="1860" y="78"/>
                  </a:lnTo>
                  <a:lnTo>
                    <a:pt x="1955" y="88"/>
                  </a:lnTo>
                  <a:lnTo>
                    <a:pt x="2050" y="99"/>
                  </a:lnTo>
                  <a:lnTo>
                    <a:pt x="2144" y="110"/>
                  </a:lnTo>
                  <a:lnTo>
                    <a:pt x="2238" y="120"/>
                  </a:lnTo>
                  <a:lnTo>
                    <a:pt x="2332" y="131"/>
                  </a:lnTo>
                  <a:lnTo>
                    <a:pt x="2425" y="142"/>
                  </a:lnTo>
                  <a:lnTo>
                    <a:pt x="2518" y="152"/>
                  </a:lnTo>
                  <a:lnTo>
                    <a:pt x="2610" y="162"/>
                  </a:lnTo>
                  <a:lnTo>
                    <a:pt x="2702" y="172"/>
                  </a:lnTo>
                  <a:lnTo>
                    <a:pt x="2793" y="180"/>
                  </a:lnTo>
                  <a:lnTo>
                    <a:pt x="2883" y="188"/>
                  </a:lnTo>
                  <a:lnTo>
                    <a:pt x="2883" y="185"/>
                  </a:lnTo>
                  <a:lnTo>
                    <a:pt x="2883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54440" y="6683400"/>
              <a:ext cx="914400" cy="36360"/>
            </a:xfrm>
            <a:custGeom>
              <a:avLst/>
              <a:gdLst/>
              <a:ahLst/>
              <a:rect l="l" t="t" r="r" b="b"/>
              <a:pathLst>
                <a:path w="2883" h="114">
                  <a:moveTo>
                    <a:pt x="0" y="0"/>
                  </a:moveTo>
                  <a:lnTo>
                    <a:pt x="0" y="3"/>
                  </a:lnTo>
                  <a:lnTo>
                    <a:pt x="2883" y="114"/>
                  </a:lnTo>
                  <a:lnTo>
                    <a:pt x="2883" y="11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83240" y="6675480"/>
              <a:ext cx="690480" cy="38160"/>
            </a:xfrm>
            <a:custGeom>
              <a:avLst/>
              <a:gdLst/>
              <a:ahLst/>
              <a:rect l="l" t="t" r="r" b="b"/>
              <a:pathLst>
                <a:path w="2175" h="119">
                  <a:moveTo>
                    <a:pt x="2175" y="119"/>
                  </a:moveTo>
                  <a:lnTo>
                    <a:pt x="2175" y="117"/>
                  </a:lnTo>
                  <a:lnTo>
                    <a:pt x="2112" y="111"/>
                  </a:lnTo>
                  <a:lnTo>
                    <a:pt x="2047" y="104"/>
                  </a:lnTo>
                  <a:lnTo>
                    <a:pt x="1981" y="98"/>
                  </a:lnTo>
                  <a:lnTo>
                    <a:pt x="1917" y="90"/>
                  </a:lnTo>
                  <a:lnTo>
                    <a:pt x="1851" y="84"/>
                  </a:lnTo>
                  <a:lnTo>
                    <a:pt x="1784" y="77"/>
                  </a:lnTo>
                  <a:lnTo>
                    <a:pt x="1718" y="69"/>
                  </a:lnTo>
                  <a:lnTo>
                    <a:pt x="1651" y="63"/>
                  </a:lnTo>
                  <a:lnTo>
                    <a:pt x="1584" y="55"/>
                  </a:lnTo>
                  <a:lnTo>
                    <a:pt x="1516" y="49"/>
                  </a:lnTo>
                  <a:lnTo>
                    <a:pt x="1449" y="42"/>
                  </a:lnTo>
                  <a:lnTo>
                    <a:pt x="1380" y="36"/>
                  </a:lnTo>
                  <a:lnTo>
                    <a:pt x="1312" y="30"/>
                  </a:lnTo>
                  <a:lnTo>
                    <a:pt x="1243" y="24"/>
                  </a:lnTo>
                  <a:lnTo>
                    <a:pt x="1174" y="19"/>
                  </a:lnTo>
                  <a:lnTo>
                    <a:pt x="1106" y="15"/>
                  </a:lnTo>
                  <a:lnTo>
                    <a:pt x="1037" y="10"/>
                  </a:lnTo>
                  <a:lnTo>
                    <a:pt x="967" y="7"/>
                  </a:lnTo>
                  <a:lnTo>
                    <a:pt x="898" y="4"/>
                  </a:lnTo>
                  <a:lnTo>
                    <a:pt x="828" y="2"/>
                  </a:lnTo>
                  <a:lnTo>
                    <a:pt x="759" y="1"/>
                  </a:lnTo>
                  <a:lnTo>
                    <a:pt x="690" y="0"/>
                  </a:lnTo>
                  <a:lnTo>
                    <a:pt x="620" y="1"/>
                  </a:lnTo>
                  <a:lnTo>
                    <a:pt x="552" y="2"/>
                  </a:lnTo>
                  <a:lnTo>
                    <a:pt x="482" y="4"/>
                  </a:lnTo>
                  <a:lnTo>
                    <a:pt x="413" y="7"/>
                  </a:lnTo>
                  <a:lnTo>
                    <a:pt x="344" y="11"/>
                  </a:lnTo>
                  <a:lnTo>
                    <a:pt x="274" y="17"/>
                  </a:lnTo>
                  <a:lnTo>
                    <a:pt x="206" y="24"/>
                  </a:lnTo>
                  <a:lnTo>
                    <a:pt x="136" y="32"/>
                  </a:lnTo>
                  <a:lnTo>
                    <a:pt x="68" y="4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68" y="43"/>
                  </a:lnTo>
                  <a:lnTo>
                    <a:pt x="136" y="34"/>
                  </a:lnTo>
                  <a:lnTo>
                    <a:pt x="206" y="26"/>
                  </a:lnTo>
                  <a:lnTo>
                    <a:pt x="274" y="19"/>
                  </a:lnTo>
                  <a:lnTo>
                    <a:pt x="344" y="14"/>
                  </a:lnTo>
                  <a:lnTo>
                    <a:pt x="413" y="9"/>
                  </a:lnTo>
                  <a:lnTo>
                    <a:pt x="482" y="6"/>
                  </a:lnTo>
                  <a:lnTo>
                    <a:pt x="552" y="4"/>
                  </a:lnTo>
                  <a:lnTo>
                    <a:pt x="620" y="3"/>
                  </a:lnTo>
                  <a:lnTo>
                    <a:pt x="690" y="2"/>
                  </a:lnTo>
                  <a:lnTo>
                    <a:pt x="759" y="3"/>
                  </a:lnTo>
                  <a:lnTo>
                    <a:pt x="828" y="4"/>
                  </a:lnTo>
                  <a:lnTo>
                    <a:pt x="898" y="6"/>
                  </a:lnTo>
                  <a:lnTo>
                    <a:pt x="967" y="9"/>
                  </a:lnTo>
                  <a:lnTo>
                    <a:pt x="1037" y="13"/>
                  </a:lnTo>
                  <a:lnTo>
                    <a:pt x="1106" y="17"/>
                  </a:lnTo>
                  <a:lnTo>
                    <a:pt x="1174" y="21"/>
                  </a:lnTo>
                  <a:lnTo>
                    <a:pt x="1243" y="26"/>
                  </a:lnTo>
                  <a:lnTo>
                    <a:pt x="1312" y="32"/>
                  </a:lnTo>
                  <a:lnTo>
                    <a:pt x="1380" y="38"/>
                  </a:lnTo>
                  <a:lnTo>
                    <a:pt x="1449" y="45"/>
                  </a:lnTo>
                  <a:lnTo>
                    <a:pt x="1516" y="51"/>
                  </a:lnTo>
                  <a:lnTo>
                    <a:pt x="1584" y="57"/>
                  </a:lnTo>
                  <a:lnTo>
                    <a:pt x="1651" y="65"/>
                  </a:lnTo>
                  <a:lnTo>
                    <a:pt x="1718" y="71"/>
                  </a:lnTo>
                  <a:lnTo>
                    <a:pt x="1784" y="79"/>
                  </a:lnTo>
                  <a:lnTo>
                    <a:pt x="1851" y="86"/>
                  </a:lnTo>
                  <a:lnTo>
                    <a:pt x="1917" y="93"/>
                  </a:lnTo>
                  <a:lnTo>
                    <a:pt x="1981" y="100"/>
                  </a:lnTo>
                  <a:lnTo>
                    <a:pt x="2047" y="106"/>
                  </a:lnTo>
                  <a:lnTo>
                    <a:pt x="2112" y="113"/>
                  </a:lnTo>
                  <a:lnTo>
                    <a:pt x="2175" y="119"/>
                  </a:lnTo>
                  <a:lnTo>
                    <a:pt x="2175" y="117"/>
                  </a:lnTo>
                  <a:lnTo>
                    <a:pt x="217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683240" y="6691320"/>
              <a:ext cx="690480" cy="22320"/>
            </a:xfrm>
            <a:custGeom>
              <a:avLst/>
              <a:gdLst/>
              <a:ahLst/>
              <a:rect l="l" t="t" r="r" b="b"/>
              <a:pathLst>
                <a:path w="2175" h="67">
                  <a:moveTo>
                    <a:pt x="0" y="0"/>
                  </a:moveTo>
                  <a:lnTo>
                    <a:pt x="0" y="2"/>
                  </a:lnTo>
                  <a:lnTo>
                    <a:pt x="2175" y="67"/>
                  </a:lnTo>
                  <a:lnTo>
                    <a:pt x="2175" y="65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00360" y="6502320"/>
              <a:ext cx="1928880" cy="155520"/>
            </a:xfrm>
            <a:custGeom>
              <a:avLst/>
              <a:gdLst/>
              <a:ahLst/>
              <a:rect l="l" t="t" r="r" b="b"/>
              <a:pathLst>
                <a:path w="6072" h="488">
                  <a:moveTo>
                    <a:pt x="5844" y="24"/>
                  </a:moveTo>
                  <a:lnTo>
                    <a:pt x="6072" y="488"/>
                  </a:lnTo>
                  <a:lnTo>
                    <a:pt x="6002" y="473"/>
                  </a:lnTo>
                  <a:lnTo>
                    <a:pt x="5931" y="457"/>
                  </a:lnTo>
                  <a:lnTo>
                    <a:pt x="5856" y="442"/>
                  </a:lnTo>
                  <a:lnTo>
                    <a:pt x="5780" y="427"/>
                  </a:lnTo>
                  <a:lnTo>
                    <a:pt x="5701" y="412"/>
                  </a:lnTo>
                  <a:lnTo>
                    <a:pt x="5621" y="397"/>
                  </a:lnTo>
                  <a:lnTo>
                    <a:pt x="5538" y="382"/>
                  </a:lnTo>
                  <a:lnTo>
                    <a:pt x="5454" y="368"/>
                  </a:lnTo>
                  <a:lnTo>
                    <a:pt x="5369" y="354"/>
                  </a:lnTo>
                  <a:lnTo>
                    <a:pt x="5283" y="341"/>
                  </a:lnTo>
                  <a:lnTo>
                    <a:pt x="5196" y="328"/>
                  </a:lnTo>
                  <a:lnTo>
                    <a:pt x="5107" y="315"/>
                  </a:lnTo>
                  <a:lnTo>
                    <a:pt x="5018" y="303"/>
                  </a:lnTo>
                  <a:lnTo>
                    <a:pt x="4930" y="293"/>
                  </a:lnTo>
                  <a:lnTo>
                    <a:pt x="4840" y="283"/>
                  </a:lnTo>
                  <a:lnTo>
                    <a:pt x="4751" y="274"/>
                  </a:lnTo>
                  <a:lnTo>
                    <a:pt x="4662" y="265"/>
                  </a:lnTo>
                  <a:lnTo>
                    <a:pt x="4572" y="258"/>
                  </a:lnTo>
                  <a:lnTo>
                    <a:pt x="4483" y="251"/>
                  </a:lnTo>
                  <a:lnTo>
                    <a:pt x="4396" y="247"/>
                  </a:lnTo>
                  <a:lnTo>
                    <a:pt x="4308" y="243"/>
                  </a:lnTo>
                  <a:lnTo>
                    <a:pt x="4222" y="239"/>
                  </a:lnTo>
                  <a:lnTo>
                    <a:pt x="4137" y="238"/>
                  </a:lnTo>
                  <a:lnTo>
                    <a:pt x="4053" y="238"/>
                  </a:lnTo>
                  <a:lnTo>
                    <a:pt x="3972" y="239"/>
                  </a:lnTo>
                  <a:lnTo>
                    <a:pt x="3891" y="243"/>
                  </a:lnTo>
                  <a:lnTo>
                    <a:pt x="3813" y="247"/>
                  </a:lnTo>
                  <a:lnTo>
                    <a:pt x="3736" y="253"/>
                  </a:lnTo>
                  <a:lnTo>
                    <a:pt x="3662" y="262"/>
                  </a:lnTo>
                  <a:lnTo>
                    <a:pt x="3590" y="271"/>
                  </a:lnTo>
                  <a:lnTo>
                    <a:pt x="3521" y="282"/>
                  </a:lnTo>
                  <a:lnTo>
                    <a:pt x="3455" y="296"/>
                  </a:lnTo>
                  <a:lnTo>
                    <a:pt x="3517" y="269"/>
                  </a:lnTo>
                  <a:lnTo>
                    <a:pt x="3583" y="244"/>
                  </a:lnTo>
                  <a:lnTo>
                    <a:pt x="3649" y="220"/>
                  </a:lnTo>
                  <a:lnTo>
                    <a:pt x="3718" y="198"/>
                  </a:lnTo>
                  <a:lnTo>
                    <a:pt x="3789" y="176"/>
                  </a:lnTo>
                  <a:lnTo>
                    <a:pt x="3861" y="157"/>
                  </a:lnTo>
                  <a:lnTo>
                    <a:pt x="3935" y="138"/>
                  </a:lnTo>
                  <a:lnTo>
                    <a:pt x="4010" y="122"/>
                  </a:lnTo>
                  <a:lnTo>
                    <a:pt x="4087" y="106"/>
                  </a:lnTo>
                  <a:lnTo>
                    <a:pt x="4164" y="91"/>
                  </a:lnTo>
                  <a:lnTo>
                    <a:pt x="4243" y="78"/>
                  </a:lnTo>
                  <a:lnTo>
                    <a:pt x="4322" y="66"/>
                  </a:lnTo>
                  <a:lnTo>
                    <a:pt x="4401" y="55"/>
                  </a:lnTo>
                  <a:lnTo>
                    <a:pt x="4481" y="45"/>
                  </a:lnTo>
                  <a:lnTo>
                    <a:pt x="4562" y="36"/>
                  </a:lnTo>
                  <a:lnTo>
                    <a:pt x="4642" y="29"/>
                  </a:lnTo>
                  <a:lnTo>
                    <a:pt x="4724" y="23"/>
                  </a:lnTo>
                  <a:lnTo>
                    <a:pt x="4804" y="16"/>
                  </a:lnTo>
                  <a:lnTo>
                    <a:pt x="4884" y="12"/>
                  </a:lnTo>
                  <a:lnTo>
                    <a:pt x="4964" y="8"/>
                  </a:lnTo>
                  <a:lnTo>
                    <a:pt x="5045" y="5"/>
                  </a:lnTo>
                  <a:lnTo>
                    <a:pt x="5124" y="3"/>
                  </a:lnTo>
                  <a:lnTo>
                    <a:pt x="5202" y="2"/>
                  </a:lnTo>
                  <a:lnTo>
                    <a:pt x="5278" y="2"/>
                  </a:lnTo>
                  <a:lnTo>
                    <a:pt x="5355" y="2"/>
                  </a:lnTo>
                  <a:lnTo>
                    <a:pt x="5429" y="3"/>
                  </a:lnTo>
                  <a:lnTo>
                    <a:pt x="5503" y="5"/>
                  </a:lnTo>
                  <a:lnTo>
                    <a:pt x="5575" y="8"/>
                  </a:lnTo>
                  <a:lnTo>
                    <a:pt x="5645" y="11"/>
                  </a:lnTo>
                  <a:lnTo>
                    <a:pt x="5714" y="14"/>
                  </a:lnTo>
                  <a:lnTo>
                    <a:pt x="5780" y="18"/>
                  </a:lnTo>
                  <a:lnTo>
                    <a:pt x="5844" y="24"/>
                  </a:lnTo>
                  <a:lnTo>
                    <a:pt x="5844" y="24"/>
                  </a:lnTo>
                  <a:close/>
                  <a:moveTo>
                    <a:pt x="178" y="43"/>
                  </a:moveTo>
                  <a:lnTo>
                    <a:pt x="0" y="487"/>
                  </a:lnTo>
                  <a:lnTo>
                    <a:pt x="68" y="466"/>
                  </a:lnTo>
                  <a:lnTo>
                    <a:pt x="139" y="445"/>
                  </a:lnTo>
                  <a:lnTo>
                    <a:pt x="213" y="426"/>
                  </a:lnTo>
                  <a:lnTo>
                    <a:pt x="288" y="408"/>
                  </a:lnTo>
                  <a:lnTo>
                    <a:pt x="367" y="391"/>
                  </a:lnTo>
                  <a:lnTo>
                    <a:pt x="447" y="375"/>
                  </a:lnTo>
                  <a:lnTo>
                    <a:pt x="530" y="360"/>
                  </a:lnTo>
                  <a:lnTo>
                    <a:pt x="615" y="345"/>
                  </a:lnTo>
                  <a:lnTo>
                    <a:pt x="701" y="332"/>
                  </a:lnTo>
                  <a:lnTo>
                    <a:pt x="787" y="321"/>
                  </a:lnTo>
                  <a:lnTo>
                    <a:pt x="876" y="309"/>
                  </a:lnTo>
                  <a:lnTo>
                    <a:pt x="966" y="299"/>
                  </a:lnTo>
                  <a:lnTo>
                    <a:pt x="1056" y="290"/>
                  </a:lnTo>
                  <a:lnTo>
                    <a:pt x="1147" y="282"/>
                  </a:lnTo>
                  <a:lnTo>
                    <a:pt x="1238" y="275"/>
                  </a:lnTo>
                  <a:lnTo>
                    <a:pt x="1330" y="268"/>
                  </a:lnTo>
                  <a:lnTo>
                    <a:pt x="1421" y="263"/>
                  </a:lnTo>
                  <a:lnTo>
                    <a:pt x="1512" y="259"/>
                  </a:lnTo>
                  <a:lnTo>
                    <a:pt x="1603" y="255"/>
                  </a:lnTo>
                  <a:lnTo>
                    <a:pt x="1693" y="253"/>
                  </a:lnTo>
                  <a:lnTo>
                    <a:pt x="1782" y="252"/>
                  </a:lnTo>
                  <a:lnTo>
                    <a:pt x="1870" y="251"/>
                  </a:lnTo>
                  <a:lnTo>
                    <a:pt x="1957" y="251"/>
                  </a:lnTo>
                  <a:lnTo>
                    <a:pt x="2043" y="253"/>
                  </a:lnTo>
                  <a:lnTo>
                    <a:pt x="2127" y="255"/>
                  </a:lnTo>
                  <a:lnTo>
                    <a:pt x="2210" y="259"/>
                  </a:lnTo>
                  <a:lnTo>
                    <a:pt x="2290" y="263"/>
                  </a:lnTo>
                  <a:lnTo>
                    <a:pt x="2368" y="268"/>
                  </a:lnTo>
                  <a:lnTo>
                    <a:pt x="2443" y="274"/>
                  </a:lnTo>
                  <a:lnTo>
                    <a:pt x="2516" y="281"/>
                  </a:lnTo>
                  <a:lnTo>
                    <a:pt x="2587" y="288"/>
                  </a:lnTo>
                  <a:lnTo>
                    <a:pt x="2654" y="297"/>
                  </a:lnTo>
                  <a:lnTo>
                    <a:pt x="2600" y="275"/>
                  </a:lnTo>
                  <a:lnTo>
                    <a:pt x="2544" y="252"/>
                  </a:lnTo>
                  <a:lnTo>
                    <a:pt x="2484" y="231"/>
                  </a:lnTo>
                  <a:lnTo>
                    <a:pt x="2420" y="211"/>
                  </a:lnTo>
                  <a:lnTo>
                    <a:pt x="2356" y="191"/>
                  </a:lnTo>
                  <a:lnTo>
                    <a:pt x="2288" y="172"/>
                  </a:lnTo>
                  <a:lnTo>
                    <a:pt x="2217" y="154"/>
                  </a:lnTo>
                  <a:lnTo>
                    <a:pt x="2144" y="137"/>
                  </a:lnTo>
                  <a:lnTo>
                    <a:pt x="2070" y="121"/>
                  </a:lnTo>
                  <a:lnTo>
                    <a:pt x="1993" y="106"/>
                  </a:lnTo>
                  <a:lnTo>
                    <a:pt x="1914" y="92"/>
                  </a:lnTo>
                  <a:lnTo>
                    <a:pt x="1834" y="78"/>
                  </a:lnTo>
                  <a:lnTo>
                    <a:pt x="1752" y="66"/>
                  </a:lnTo>
                  <a:lnTo>
                    <a:pt x="1671" y="55"/>
                  </a:lnTo>
                  <a:lnTo>
                    <a:pt x="1587" y="44"/>
                  </a:lnTo>
                  <a:lnTo>
                    <a:pt x="1502" y="35"/>
                  </a:lnTo>
                  <a:lnTo>
                    <a:pt x="1417" y="27"/>
                  </a:lnTo>
                  <a:lnTo>
                    <a:pt x="1332" y="19"/>
                  </a:lnTo>
                  <a:lnTo>
                    <a:pt x="1246" y="13"/>
                  </a:lnTo>
                  <a:lnTo>
                    <a:pt x="1160" y="9"/>
                  </a:lnTo>
                  <a:lnTo>
                    <a:pt x="1075" y="4"/>
                  </a:lnTo>
                  <a:lnTo>
                    <a:pt x="989" y="2"/>
                  </a:lnTo>
                  <a:lnTo>
                    <a:pt x="902" y="0"/>
                  </a:lnTo>
                  <a:lnTo>
                    <a:pt x="817" y="0"/>
                  </a:lnTo>
                  <a:lnTo>
                    <a:pt x="734" y="1"/>
                  </a:lnTo>
                  <a:lnTo>
                    <a:pt x="650" y="3"/>
                  </a:lnTo>
                  <a:lnTo>
                    <a:pt x="568" y="7"/>
                  </a:lnTo>
                  <a:lnTo>
                    <a:pt x="487" y="11"/>
                  </a:lnTo>
                  <a:lnTo>
                    <a:pt x="407" y="17"/>
                  </a:lnTo>
                  <a:lnTo>
                    <a:pt x="329" y="25"/>
                  </a:lnTo>
                  <a:lnTo>
                    <a:pt x="252" y="33"/>
                  </a:lnTo>
                  <a:lnTo>
                    <a:pt x="17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56160" y="6510240"/>
              <a:ext cx="73080" cy="147600"/>
            </a:xfrm>
            <a:custGeom>
              <a:avLst/>
              <a:gdLst/>
              <a:ahLst/>
              <a:rect l="l" t="t" r="r" b="b"/>
              <a:pathLst>
                <a:path w="230" h="466">
                  <a:moveTo>
                    <a:pt x="229" y="466"/>
                  </a:moveTo>
                  <a:lnTo>
                    <a:pt x="230" y="464"/>
                  </a:lnTo>
                  <a:lnTo>
                    <a:pt x="3" y="0"/>
                  </a:lnTo>
                  <a:lnTo>
                    <a:pt x="0" y="2"/>
                  </a:lnTo>
                  <a:lnTo>
                    <a:pt x="228" y="466"/>
                  </a:lnTo>
                  <a:lnTo>
                    <a:pt x="229" y="464"/>
                  </a:lnTo>
                  <a:lnTo>
                    <a:pt x="229" y="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97280" y="6576840"/>
              <a:ext cx="831960" cy="81000"/>
            </a:xfrm>
            <a:custGeom>
              <a:avLst/>
              <a:gdLst/>
              <a:ahLst/>
              <a:rect l="l" t="t" r="r" b="b"/>
              <a:pathLst>
                <a:path w="2618" h="253">
                  <a:moveTo>
                    <a:pt x="0" y="59"/>
                  </a:moveTo>
                  <a:lnTo>
                    <a:pt x="1" y="61"/>
                  </a:lnTo>
                  <a:lnTo>
                    <a:pt x="67" y="47"/>
                  </a:lnTo>
                  <a:lnTo>
                    <a:pt x="136" y="36"/>
                  </a:lnTo>
                  <a:lnTo>
                    <a:pt x="208" y="27"/>
                  </a:lnTo>
                  <a:lnTo>
                    <a:pt x="282" y="18"/>
                  </a:lnTo>
                  <a:lnTo>
                    <a:pt x="359" y="12"/>
                  </a:lnTo>
                  <a:lnTo>
                    <a:pt x="437" y="8"/>
                  </a:lnTo>
                  <a:lnTo>
                    <a:pt x="518" y="4"/>
                  </a:lnTo>
                  <a:lnTo>
                    <a:pt x="599" y="4"/>
                  </a:lnTo>
                  <a:lnTo>
                    <a:pt x="683" y="4"/>
                  </a:lnTo>
                  <a:lnTo>
                    <a:pt x="768" y="4"/>
                  </a:lnTo>
                  <a:lnTo>
                    <a:pt x="854" y="8"/>
                  </a:lnTo>
                  <a:lnTo>
                    <a:pt x="942" y="12"/>
                  </a:lnTo>
                  <a:lnTo>
                    <a:pt x="1029" y="16"/>
                  </a:lnTo>
                  <a:lnTo>
                    <a:pt x="1118" y="23"/>
                  </a:lnTo>
                  <a:lnTo>
                    <a:pt x="1208" y="30"/>
                  </a:lnTo>
                  <a:lnTo>
                    <a:pt x="1297" y="39"/>
                  </a:lnTo>
                  <a:lnTo>
                    <a:pt x="1386" y="48"/>
                  </a:lnTo>
                  <a:lnTo>
                    <a:pt x="1476" y="58"/>
                  </a:lnTo>
                  <a:lnTo>
                    <a:pt x="1564" y="68"/>
                  </a:lnTo>
                  <a:lnTo>
                    <a:pt x="1653" y="80"/>
                  </a:lnTo>
                  <a:lnTo>
                    <a:pt x="1742" y="93"/>
                  </a:lnTo>
                  <a:lnTo>
                    <a:pt x="1829" y="106"/>
                  </a:lnTo>
                  <a:lnTo>
                    <a:pt x="1915" y="119"/>
                  </a:lnTo>
                  <a:lnTo>
                    <a:pt x="2000" y="133"/>
                  </a:lnTo>
                  <a:lnTo>
                    <a:pt x="2084" y="148"/>
                  </a:lnTo>
                  <a:lnTo>
                    <a:pt x="2167" y="162"/>
                  </a:lnTo>
                  <a:lnTo>
                    <a:pt x="2247" y="177"/>
                  </a:lnTo>
                  <a:lnTo>
                    <a:pt x="2326" y="192"/>
                  </a:lnTo>
                  <a:lnTo>
                    <a:pt x="2402" y="207"/>
                  </a:lnTo>
                  <a:lnTo>
                    <a:pt x="2477" y="222"/>
                  </a:lnTo>
                  <a:lnTo>
                    <a:pt x="2548" y="238"/>
                  </a:lnTo>
                  <a:lnTo>
                    <a:pt x="2618" y="253"/>
                  </a:lnTo>
                  <a:lnTo>
                    <a:pt x="2618" y="251"/>
                  </a:lnTo>
                  <a:lnTo>
                    <a:pt x="2548" y="236"/>
                  </a:lnTo>
                  <a:lnTo>
                    <a:pt x="2477" y="220"/>
                  </a:lnTo>
                  <a:lnTo>
                    <a:pt x="2402" y="205"/>
                  </a:lnTo>
                  <a:lnTo>
                    <a:pt x="2326" y="190"/>
                  </a:lnTo>
                  <a:lnTo>
                    <a:pt x="2247" y="175"/>
                  </a:lnTo>
                  <a:lnTo>
                    <a:pt x="2167" y="160"/>
                  </a:lnTo>
                  <a:lnTo>
                    <a:pt x="2084" y="145"/>
                  </a:lnTo>
                  <a:lnTo>
                    <a:pt x="2000" y="130"/>
                  </a:lnTo>
                  <a:lnTo>
                    <a:pt x="1915" y="117"/>
                  </a:lnTo>
                  <a:lnTo>
                    <a:pt x="1829" y="104"/>
                  </a:lnTo>
                  <a:lnTo>
                    <a:pt x="1742" y="91"/>
                  </a:lnTo>
                  <a:lnTo>
                    <a:pt x="1653" y="78"/>
                  </a:lnTo>
                  <a:lnTo>
                    <a:pt x="1564" y="66"/>
                  </a:lnTo>
                  <a:lnTo>
                    <a:pt x="1476" y="56"/>
                  </a:lnTo>
                  <a:lnTo>
                    <a:pt x="1386" y="46"/>
                  </a:lnTo>
                  <a:lnTo>
                    <a:pt x="1297" y="36"/>
                  </a:lnTo>
                  <a:lnTo>
                    <a:pt x="1208" y="28"/>
                  </a:lnTo>
                  <a:lnTo>
                    <a:pt x="1118" y="20"/>
                  </a:lnTo>
                  <a:lnTo>
                    <a:pt x="1029" y="14"/>
                  </a:lnTo>
                  <a:lnTo>
                    <a:pt x="942" y="10"/>
                  </a:lnTo>
                  <a:lnTo>
                    <a:pt x="854" y="5"/>
                  </a:lnTo>
                  <a:lnTo>
                    <a:pt x="768" y="2"/>
                  </a:lnTo>
                  <a:lnTo>
                    <a:pt x="683" y="0"/>
                  </a:lnTo>
                  <a:lnTo>
                    <a:pt x="599" y="0"/>
                  </a:lnTo>
                  <a:lnTo>
                    <a:pt x="518" y="2"/>
                  </a:lnTo>
                  <a:lnTo>
                    <a:pt x="437" y="5"/>
                  </a:lnTo>
                  <a:lnTo>
                    <a:pt x="359" y="10"/>
                  </a:lnTo>
                  <a:lnTo>
                    <a:pt x="282" y="16"/>
                  </a:lnTo>
                  <a:lnTo>
                    <a:pt x="208" y="25"/>
                  </a:lnTo>
                  <a:lnTo>
                    <a:pt x="136" y="34"/>
                  </a:lnTo>
                  <a:lnTo>
                    <a:pt x="67" y="45"/>
                  </a:lnTo>
                  <a:lnTo>
                    <a:pt x="1" y="59"/>
                  </a:lnTo>
                  <a:lnTo>
                    <a:pt x="2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97280" y="6502320"/>
              <a:ext cx="760680" cy="95400"/>
            </a:xfrm>
            <a:custGeom>
              <a:avLst/>
              <a:gdLst/>
              <a:ahLst/>
              <a:rect l="l" t="t" r="r" b="b"/>
              <a:pathLst>
                <a:path w="2392" h="296">
                  <a:moveTo>
                    <a:pt x="2392" y="22"/>
                  </a:moveTo>
                  <a:lnTo>
                    <a:pt x="2390" y="22"/>
                  </a:lnTo>
                  <a:lnTo>
                    <a:pt x="2326" y="16"/>
                  </a:lnTo>
                  <a:lnTo>
                    <a:pt x="2260" y="12"/>
                  </a:lnTo>
                  <a:lnTo>
                    <a:pt x="2191" y="9"/>
                  </a:lnTo>
                  <a:lnTo>
                    <a:pt x="2121" y="6"/>
                  </a:lnTo>
                  <a:lnTo>
                    <a:pt x="2049" y="3"/>
                  </a:lnTo>
                  <a:lnTo>
                    <a:pt x="1975" y="1"/>
                  </a:lnTo>
                  <a:lnTo>
                    <a:pt x="1901" y="0"/>
                  </a:lnTo>
                  <a:lnTo>
                    <a:pt x="1824" y="0"/>
                  </a:lnTo>
                  <a:lnTo>
                    <a:pt x="1748" y="0"/>
                  </a:lnTo>
                  <a:lnTo>
                    <a:pt x="1670" y="1"/>
                  </a:lnTo>
                  <a:lnTo>
                    <a:pt x="1591" y="3"/>
                  </a:lnTo>
                  <a:lnTo>
                    <a:pt x="1510" y="6"/>
                  </a:lnTo>
                  <a:lnTo>
                    <a:pt x="1430" y="10"/>
                  </a:lnTo>
                  <a:lnTo>
                    <a:pt x="1350" y="14"/>
                  </a:lnTo>
                  <a:lnTo>
                    <a:pt x="1270" y="21"/>
                  </a:lnTo>
                  <a:lnTo>
                    <a:pt x="1188" y="27"/>
                  </a:lnTo>
                  <a:lnTo>
                    <a:pt x="1108" y="34"/>
                  </a:lnTo>
                  <a:lnTo>
                    <a:pt x="1027" y="43"/>
                  </a:lnTo>
                  <a:lnTo>
                    <a:pt x="947" y="53"/>
                  </a:lnTo>
                  <a:lnTo>
                    <a:pt x="868" y="64"/>
                  </a:lnTo>
                  <a:lnTo>
                    <a:pt x="789" y="76"/>
                  </a:lnTo>
                  <a:lnTo>
                    <a:pt x="710" y="89"/>
                  </a:lnTo>
                  <a:lnTo>
                    <a:pt x="633" y="104"/>
                  </a:lnTo>
                  <a:lnTo>
                    <a:pt x="556" y="120"/>
                  </a:lnTo>
                  <a:lnTo>
                    <a:pt x="481" y="136"/>
                  </a:lnTo>
                  <a:lnTo>
                    <a:pt x="407" y="155"/>
                  </a:lnTo>
                  <a:lnTo>
                    <a:pt x="335" y="174"/>
                  </a:lnTo>
                  <a:lnTo>
                    <a:pt x="264" y="196"/>
                  </a:lnTo>
                  <a:lnTo>
                    <a:pt x="194" y="218"/>
                  </a:lnTo>
                  <a:lnTo>
                    <a:pt x="128" y="242"/>
                  </a:lnTo>
                  <a:lnTo>
                    <a:pt x="62" y="267"/>
                  </a:lnTo>
                  <a:lnTo>
                    <a:pt x="0" y="294"/>
                  </a:lnTo>
                  <a:lnTo>
                    <a:pt x="2" y="296"/>
                  </a:lnTo>
                  <a:lnTo>
                    <a:pt x="64" y="269"/>
                  </a:lnTo>
                  <a:lnTo>
                    <a:pt x="130" y="244"/>
                  </a:lnTo>
                  <a:lnTo>
                    <a:pt x="196" y="220"/>
                  </a:lnTo>
                  <a:lnTo>
                    <a:pt x="264" y="198"/>
                  </a:lnTo>
                  <a:lnTo>
                    <a:pt x="335" y="176"/>
                  </a:lnTo>
                  <a:lnTo>
                    <a:pt x="407" y="157"/>
                  </a:lnTo>
                  <a:lnTo>
                    <a:pt x="481" y="138"/>
                  </a:lnTo>
                  <a:lnTo>
                    <a:pt x="556" y="122"/>
                  </a:lnTo>
                  <a:lnTo>
                    <a:pt x="633" y="106"/>
                  </a:lnTo>
                  <a:lnTo>
                    <a:pt x="710" y="91"/>
                  </a:lnTo>
                  <a:lnTo>
                    <a:pt x="789" y="78"/>
                  </a:lnTo>
                  <a:lnTo>
                    <a:pt x="868" y="66"/>
                  </a:lnTo>
                  <a:lnTo>
                    <a:pt x="947" y="55"/>
                  </a:lnTo>
                  <a:lnTo>
                    <a:pt x="1027" y="45"/>
                  </a:lnTo>
                  <a:lnTo>
                    <a:pt x="1108" y="37"/>
                  </a:lnTo>
                  <a:lnTo>
                    <a:pt x="1188" y="29"/>
                  </a:lnTo>
                  <a:lnTo>
                    <a:pt x="1270" y="23"/>
                  </a:lnTo>
                  <a:lnTo>
                    <a:pt x="1350" y="16"/>
                  </a:lnTo>
                  <a:lnTo>
                    <a:pt x="1430" y="12"/>
                  </a:lnTo>
                  <a:lnTo>
                    <a:pt x="1510" y="8"/>
                  </a:lnTo>
                  <a:lnTo>
                    <a:pt x="1591" y="6"/>
                  </a:lnTo>
                  <a:lnTo>
                    <a:pt x="1670" y="3"/>
                  </a:lnTo>
                  <a:lnTo>
                    <a:pt x="1748" y="2"/>
                  </a:lnTo>
                  <a:lnTo>
                    <a:pt x="1824" y="2"/>
                  </a:lnTo>
                  <a:lnTo>
                    <a:pt x="1901" y="2"/>
                  </a:lnTo>
                  <a:lnTo>
                    <a:pt x="1975" y="3"/>
                  </a:lnTo>
                  <a:lnTo>
                    <a:pt x="2049" y="6"/>
                  </a:lnTo>
                  <a:lnTo>
                    <a:pt x="2121" y="8"/>
                  </a:lnTo>
                  <a:lnTo>
                    <a:pt x="2191" y="11"/>
                  </a:lnTo>
                  <a:lnTo>
                    <a:pt x="2260" y="14"/>
                  </a:lnTo>
                  <a:lnTo>
                    <a:pt x="2326" y="18"/>
                  </a:lnTo>
                  <a:lnTo>
                    <a:pt x="2390" y="24"/>
                  </a:lnTo>
                  <a:lnTo>
                    <a:pt x="2389" y="24"/>
                  </a:lnTo>
                  <a:lnTo>
                    <a:pt x="239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56160" y="6510240"/>
              <a:ext cx="180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600360" y="6516720"/>
              <a:ext cx="57240" cy="141120"/>
            </a:xfrm>
            <a:custGeom>
              <a:avLst/>
              <a:gdLst/>
              <a:ahLst/>
              <a:rect l="l" t="t" r="r" b="b"/>
              <a:pathLst>
                <a:path w="181" h="446">
                  <a:moveTo>
                    <a:pt x="0" y="444"/>
                  </a:moveTo>
                  <a:lnTo>
                    <a:pt x="3" y="446"/>
                  </a:lnTo>
                  <a:lnTo>
                    <a:pt x="181" y="2"/>
                  </a:lnTo>
                  <a:lnTo>
                    <a:pt x="179" y="0"/>
                  </a:lnTo>
                  <a:lnTo>
                    <a:pt x="0" y="444"/>
                  </a:lnTo>
                  <a:lnTo>
                    <a:pt x="3" y="446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600360" y="6581880"/>
              <a:ext cx="843120" cy="75960"/>
            </a:xfrm>
            <a:custGeom>
              <a:avLst/>
              <a:gdLst/>
              <a:ahLst/>
              <a:rect l="l" t="t" r="r" b="b"/>
              <a:pathLst>
                <a:path w="2657" h="238">
                  <a:moveTo>
                    <a:pt x="2655" y="48"/>
                  </a:moveTo>
                  <a:lnTo>
                    <a:pt x="2656" y="46"/>
                  </a:lnTo>
                  <a:lnTo>
                    <a:pt x="2589" y="37"/>
                  </a:lnTo>
                  <a:lnTo>
                    <a:pt x="2518" y="30"/>
                  </a:lnTo>
                  <a:lnTo>
                    <a:pt x="2445" y="22"/>
                  </a:lnTo>
                  <a:lnTo>
                    <a:pt x="2370" y="17"/>
                  </a:lnTo>
                  <a:lnTo>
                    <a:pt x="2292" y="12"/>
                  </a:lnTo>
                  <a:lnTo>
                    <a:pt x="2212" y="8"/>
                  </a:lnTo>
                  <a:lnTo>
                    <a:pt x="2129" y="4"/>
                  </a:lnTo>
                  <a:lnTo>
                    <a:pt x="2045" y="2"/>
                  </a:lnTo>
                  <a:lnTo>
                    <a:pt x="1959" y="0"/>
                  </a:lnTo>
                  <a:lnTo>
                    <a:pt x="1872" y="0"/>
                  </a:lnTo>
                  <a:lnTo>
                    <a:pt x="1784" y="1"/>
                  </a:lnTo>
                  <a:lnTo>
                    <a:pt x="1695" y="2"/>
                  </a:lnTo>
                  <a:lnTo>
                    <a:pt x="1605" y="4"/>
                  </a:lnTo>
                  <a:lnTo>
                    <a:pt x="1514" y="8"/>
                  </a:lnTo>
                  <a:lnTo>
                    <a:pt x="1423" y="12"/>
                  </a:lnTo>
                  <a:lnTo>
                    <a:pt x="1332" y="17"/>
                  </a:lnTo>
                  <a:lnTo>
                    <a:pt x="1240" y="24"/>
                  </a:lnTo>
                  <a:lnTo>
                    <a:pt x="1149" y="31"/>
                  </a:lnTo>
                  <a:lnTo>
                    <a:pt x="1058" y="38"/>
                  </a:lnTo>
                  <a:lnTo>
                    <a:pt x="968" y="48"/>
                  </a:lnTo>
                  <a:lnTo>
                    <a:pt x="878" y="58"/>
                  </a:lnTo>
                  <a:lnTo>
                    <a:pt x="789" y="69"/>
                  </a:lnTo>
                  <a:lnTo>
                    <a:pt x="703" y="81"/>
                  </a:lnTo>
                  <a:lnTo>
                    <a:pt x="617" y="94"/>
                  </a:lnTo>
                  <a:lnTo>
                    <a:pt x="532" y="109"/>
                  </a:lnTo>
                  <a:lnTo>
                    <a:pt x="449" y="124"/>
                  </a:lnTo>
                  <a:lnTo>
                    <a:pt x="369" y="140"/>
                  </a:lnTo>
                  <a:lnTo>
                    <a:pt x="290" y="157"/>
                  </a:lnTo>
                  <a:lnTo>
                    <a:pt x="215" y="175"/>
                  </a:lnTo>
                  <a:lnTo>
                    <a:pt x="141" y="194"/>
                  </a:lnTo>
                  <a:lnTo>
                    <a:pt x="70" y="215"/>
                  </a:lnTo>
                  <a:lnTo>
                    <a:pt x="0" y="236"/>
                  </a:lnTo>
                  <a:lnTo>
                    <a:pt x="3" y="238"/>
                  </a:lnTo>
                  <a:lnTo>
                    <a:pt x="70" y="217"/>
                  </a:lnTo>
                  <a:lnTo>
                    <a:pt x="141" y="197"/>
                  </a:lnTo>
                  <a:lnTo>
                    <a:pt x="215" y="177"/>
                  </a:lnTo>
                  <a:lnTo>
                    <a:pt x="290" y="159"/>
                  </a:lnTo>
                  <a:lnTo>
                    <a:pt x="369" y="142"/>
                  </a:lnTo>
                  <a:lnTo>
                    <a:pt x="449" y="126"/>
                  </a:lnTo>
                  <a:lnTo>
                    <a:pt x="532" y="111"/>
                  </a:lnTo>
                  <a:lnTo>
                    <a:pt x="617" y="96"/>
                  </a:lnTo>
                  <a:lnTo>
                    <a:pt x="703" y="83"/>
                  </a:lnTo>
                  <a:lnTo>
                    <a:pt x="789" y="72"/>
                  </a:lnTo>
                  <a:lnTo>
                    <a:pt x="878" y="60"/>
                  </a:lnTo>
                  <a:lnTo>
                    <a:pt x="968" y="50"/>
                  </a:lnTo>
                  <a:lnTo>
                    <a:pt x="1058" y="41"/>
                  </a:lnTo>
                  <a:lnTo>
                    <a:pt x="1149" y="33"/>
                  </a:lnTo>
                  <a:lnTo>
                    <a:pt x="1240" y="26"/>
                  </a:lnTo>
                  <a:lnTo>
                    <a:pt x="1332" y="19"/>
                  </a:lnTo>
                  <a:lnTo>
                    <a:pt x="1423" y="14"/>
                  </a:lnTo>
                  <a:lnTo>
                    <a:pt x="1514" y="10"/>
                  </a:lnTo>
                  <a:lnTo>
                    <a:pt x="1605" y="6"/>
                  </a:lnTo>
                  <a:lnTo>
                    <a:pt x="1695" y="4"/>
                  </a:lnTo>
                  <a:lnTo>
                    <a:pt x="1784" y="3"/>
                  </a:lnTo>
                  <a:lnTo>
                    <a:pt x="1872" y="2"/>
                  </a:lnTo>
                  <a:lnTo>
                    <a:pt x="1959" y="2"/>
                  </a:lnTo>
                  <a:lnTo>
                    <a:pt x="2045" y="4"/>
                  </a:lnTo>
                  <a:lnTo>
                    <a:pt x="2129" y="6"/>
                  </a:lnTo>
                  <a:lnTo>
                    <a:pt x="2212" y="10"/>
                  </a:lnTo>
                  <a:lnTo>
                    <a:pt x="2292" y="14"/>
                  </a:lnTo>
                  <a:lnTo>
                    <a:pt x="2370" y="19"/>
                  </a:lnTo>
                  <a:lnTo>
                    <a:pt x="2445" y="25"/>
                  </a:lnTo>
                  <a:lnTo>
                    <a:pt x="2518" y="32"/>
                  </a:lnTo>
                  <a:lnTo>
                    <a:pt x="2589" y="40"/>
                  </a:lnTo>
                  <a:lnTo>
                    <a:pt x="2656" y="48"/>
                  </a:lnTo>
                  <a:lnTo>
                    <a:pt x="2657" y="46"/>
                  </a:lnTo>
                  <a:lnTo>
                    <a:pt x="265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657600" y="6502320"/>
              <a:ext cx="785880" cy="95400"/>
            </a:xfrm>
            <a:custGeom>
              <a:avLst/>
              <a:gdLst/>
              <a:ahLst/>
              <a:rect l="l" t="t" r="r" b="b"/>
              <a:pathLst>
                <a:path w="2478" h="300">
                  <a:moveTo>
                    <a:pt x="2" y="46"/>
                  </a:moveTo>
                  <a:lnTo>
                    <a:pt x="1" y="46"/>
                  </a:lnTo>
                  <a:lnTo>
                    <a:pt x="75" y="36"/>
                  </a:lnTo>
                  <a:lnTo>
                    <a:pt x="152" y="28"/>
                  </a:lnTo>
                  <a:lnTo>
                    <a:pt x="230" y="20"/>
                  </a:lnTo>
                  <a:lnTo>
                    <a:pt x="310" y="14"/>
                  </a:lnTo>
                  <a:lnTo>
                    <a:pt x="391" y="10"/>
                  </a:lnTo>
                  <a:lnTo>
                    <a:pt x="473" y="6"/>
                  </a:lnTo>
                  <a:lnTo>
                    <a:pt x="557" y="4"/>
                  </a:lnTo>
                  <a:lnTo>
                    <a:pt x="640" y="4"/>
                  </a:lnTo>
                  <a:lnTo>
                    <a:pt x="725" y="4"/>
                  </a:lnTo>
                  <a:lnTo>
                    <a:pt x="812" y="5"/>
                  </a:lnTo>
                  <a:lnTo>
                    <a:pt x="898" y="7"/>
                  </a:lnTo>
                  <a:lnTo>
                    <a:pt x="983" y="12"/>
                  </a:lnTo>
                  <a:lnTo>
                    <a:pt x="1069" y="16"/>
                  </a:lnTo>
                  <a:lnTo>
                    <a:pt x="1155" y="22"/>
                  </a:lnTo>
                  <a:lnTo>
                    <a:pt x="1240" y="30"/>
                  </a:lnTo>
                  <a:lnTo>
                    <a:pt x="1325" y="38"/>
                  </a:lnTo>
                  <a:lnTo>
                    <a:pt x="1410" y="47"/>
                  </a:lnTo>
                  <a:lnTo>
                    <a:pt x="1494" y="58"/>
                  </a:lnTo>
                  <a:lnTo>
                    <a:pt x="1575" y="69"/>
                  </a:lnTo>
                  <a:lnTo>
                    <a:pt x="1657" y="81"/>
                  </a:lnTo>
                  <a:lnTo>
                    <a:pt x="1737" y="95"/>
                  </a:lnTo>
                  <a:lnTo>
                    <a:pt x="1816" y="109"/>
                  </a:lnTo>
                  <a:lnTo>
                    <a:pt x="1893" y="124"/>
                  </a:lnTo>
                  <a:lnTo>
                    <a:pt x="1967" y="140"/>
                  </a:lnTo>
                  <a:lnTo>
                    <a:pt x="2040" y="157"/>
                  </a:lnTo>
                  <a:lnTo>
                    <a:pt x="2111" y="175"/>
                  </a:lnTo>
                  <a:lnTo>
                    <a:pt x="2179" y="194"/>
                  </a:lnTo>
                  <a:lnTo>
                    <a:pt x="2243" y="214"/>
                  </a:lnTo>
                  <a:lnTo>
                    <a:pt x="2306" y="234"/>
                  </a:lnTo>
                  <a:lnTo>
                    <a:pt x="2366" y="255"/>
                  </a:lnTo>
                  <a:lnTo>
                    <a:pt x="2422" y="278"/>
                  </a:lnTo>
                  <a:lnTo>
                    <a:pt x="2476" y="300"/>
                  </a:lnTo>
                  <a:lnTo>
                    <a:pt x="2478" y="298"/>
                  </a:lnTo>
                  <a:lnTo>
                    <a:pt x="2424" y="276"/>
                  </a:lnTo>
                  <a:lnTo>
                    <a:pt x="2368" y="253"/>
                  </a:lnTo>
                  <a:lnTo>
                    <a:pt x="2308" y="232"/>
                  </a:lnTo>
                  <a:lnTo>
                    <a:pt x="2243" y="211"/>
                  </a:lnTo>
                  <a:lnTo>
                    <a:pt x="2179" y="192"/>
                  </a:lnTo>
                  <a:lnTo>
                    <a:pt x="2111" y="173"/>
                  </a:lnTo>
                  <a:lnTo>
                    <a:pt x="2040" y="155"/>
                  </a:lnTo>
                  <a:lnTo>
                    <a:pt x="1967" y="138"/>
                  </a:lnTo>
                  <a:lnTo>
                    <a:pt x="1893" y="122"/>
                  </a:lnTo>
                  <a:lnTo>
                    <a:pt x="1816" y="107"/>
                  </a:lnTo>
                  <a:lnTo>
                    <a:pt x="1737" y="93"/>
                  </a:lnTo>
                  <a:lnTo>
                    <a:pt x="1657" y="79"/>
                  </a:lnTo>
                  <a:lnTo>
                    <a:pt x="1575" y="67"/>
                  </a:lnTo>
                  <a:lnTo>
                    <a:pt x="1494" y="56"/>
                  </a:lnTo>
                  <a:lnTo>
                    <a:pt x="1410" y="45"/>
                  </a:lnTo>
                  <a:lnTo>
                    <a:pt x="1325" y="36"/>
                  </a:lnTo>
                  <a:lnTo>
                    <a:pt x="1240" y="28"/>
                  </a:lnTo>
                  <a:lnTo>
                    <a:pt x="1155" y="20"/>
                  </a:lnTo>
                  <a:lnTo>
                    <a:pt x="1069" y="14"/>
                  </a:lnTo>
                  <a:lnTo>
                    <a:pt x="983" y="10"/>
                  </a:lnTo>
                  <a:lnTo>
                    <a:pt x="898" y="5"/>
                  </a:lnTo>
                  <a:lnTo>
                    <a:pt x="812" y="3"/>
                  </a:lnTo>
                  <a:lnTo>
                    <a:pt x="725" y="0"/>
                  </a:lnTo>
                  <a:lnTo>
                    <a:pt x="640" y="0"/>
                  </a:lnTo>
                  <a:lnTo>
                    <a:pt x="557" y="2"/>
                  </a:lnTo>
                  <a:lnTo>
                    <a:pt x="473" y="4"/>
                  </a:lnTo>
                  <a:lnTo>
                    <a:pt x="391" y="7"/>
                  </a:lnTo>
                  <a:lnTo>
                    <a:pt x="310" y="12"/>
                  </a:lnTo>
                  <a:lnTo>
                    <a:pt x="230" y="18"/>
                  </a:lnTo>
                  <a:lnTo>
                    <a:pt x="152" y="26"/>
                  </a:lnTo>
                  <a:lnTo>
                    <a:pt x="75" y="34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886200" y="6095880"/>
            <a:ext cx="213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e00"/>
                </a:solidFill>
                <a:latin typeface="Arial"/>
              </a:rPr>
              <a:t>180     1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78000" y="1523880"/>
            <a:ext cx="8385120" cy="41911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sh basis of revenu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stallment basis of revenu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(Need only know concept, not how to app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ercentage-of-completion basis of revenu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evenue recognition at completion of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(Need only know concept, not how to app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481720" y="3357720"/>
            <a:ext cx="3438360" cy="2221920"/>
          </a:xfrm>
          <a:prstGeom prst="rect">
            <a:avLst/>
          </a:prstGeom>
          <a:solidFill>
            <a:srgbClr val="4c2e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nses should be recorded as they are incurred in the process of earning revenu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405400" y="3967200"/>
            <a:ext cx="3438720" cy="17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ules are different for recognition of gains and lo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Gain and Loss Recognition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7840" y="1765440"/>
            <a:ext cx="8385120" cy="45590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ains are recognized/recorded at the time they are real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For example, an increase in the value of land cannot be recognized as a gain until the land is actually </a:t>
            </a:r>
            <a:r>
              <a:rPr b="1" lang="en-US" sz="2400" spc="-1" strike="noStrike">
                <a:solidFill>
                  <a:srgbClr val="247c18"/>
                </a:solidFill>
                <a:latin typeface="Arial"/>
              </a:rPr>
              <a:t>sold</a:t>
            </a: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Gain and Loss Recognition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47840" y="1765440"/>
            <a:ext cx="8385120" cy="45590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ains are recognized/recorded at the time they are real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For example, an increase in the value of land cannot be recognized as a gain until the land is actually </a:t>
            </a:r>
            <a:r>
              <a:rPr b="1" lang="en-US" sz="2400" spc="-1" strike="noStrike">
                <a:solidFill>
                  <a:srgbClr val="247c18"/>
                </a:solidFill>
                <a:latin typeface="Arial"/>
              </a:rPr>
              <a:t>sold</a:t>
            </a: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sses are recognized when they become appa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For example, a decrease in the value of inventory would be recognized as a loss when </a:t>
            </a:r>
            <a:br>
              <a:rPr sz="2400"/>
            </a:br>
            <a:r>
              <a:rPr b="1" lang="en-US" sz="2400" spc="-1" strike="noStrike">
                <a:solidFill>
                  <a:srgbClr val="900784"/>
                </a:solidFill>
                <a:latin typeface="Arial"/>
              </a:rPr>
              <a:t>it becomes appar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/>
          </p:nvPr>
        </p:nvSpPr>
        <p:spPr>
          <a:xfrm>
            <a:off x="218880" y="1606680"/>
            <a:ext cx="4956120" cy="45590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change-Price or Historical Cost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Matchin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Revenu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Expense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ecece"/>
              </a:buClr>
              <a:buSzPct val="70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Gain and Loss Recogni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0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ll Disclos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481720" y="2666880"/>
            <a:ext cx="3438360" cy="35017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lose in the financial statements or related notes, all information important enough to influence a stakehol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jor Principles/Idea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49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1878120"/>
            <a:ext cx="818496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ccounting theory provides a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logic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framewor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or accounting practic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Cost-Benefit Consideration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4920" y="1606680"/>
            <a:ext cx="6013440" cy="4946400"/>
          </a:xfrm>
          <a:prstGeom prst="rect">
            <a:avLst/>
          </a:prstGeom>
          <a:solidFill>
            <a:srgbClr val="90078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ptional information should be included in the primary financial statements only if the benefits of providing it exceed the costs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example, providing a listing of every sales transaction may be interesting, but the cost of providing that information to every shareholder might bankrupt the company.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6508800" y="4343400"/>
            <a:ext cx="255888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Materiality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560" y="1606320"/>
            <a:ext cx="8458200" cy="4794120"/>
          </a:xfrm>
          <a:prstGeom prst="rect">
            <a:avLst/>
          </a:prstGeom>
          <a:solidFill>
            <a:srgbClr val="90078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item is material if knowledge of the item would affect the decision of an informed user, therefore, this is a somewhat nebulous concept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terial items must be reported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item can be material either in amount or in natur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teriality in amount is relative to the size of the amounts on a company’s fin. stmts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.g. $50,000,000 may not be material …)</a:t>
            </a:r>
            <a:endParaRPr b="1" lang="en-US" sz="2400" spc="-1" strike="noStrike">
              <a:solidFill>
                <a:srgbClr val="900784"/>
              </a:solidFill>
              <a:latin typeface="Arial"/>
            </a:endParaRPr>
          </a:p>
        </p:txBody>
      </p:sp>
      <p:sp>
        <p:nvSpPr>
          <p:cNvPr id="1455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Conservatism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3743280" y="1698480"/>
            <a:ext cx="4518000" cy="4407120"/>
          </a:xfrm>
          <a:prstGeom prst="rect">
            <a:avLst/>
          </a:prstGeom>
          <a:solidFill>
            <a:srgbClr val="90078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nsactions should be recorded so that net assets and net income are not overstated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icipate losses, but do not anticipate gains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87400" y="1832040"/>
            <a:ext cx="1717560" cy="4140000"/>
            <a:chOff x="887400" y="1832040"/>
            <a:chExt cx="1717560" cy="4140000"/>
          </a:xfrm>
        </p:grpSpPr>
        <p:grpSp>
          <p:nvGrpSpPr>
            <p:cNvPr id="1459" name=""/>
            <p:cNvGrpSpPr/>
            <p:nvPr/>
          </p:nvGrpSpPr>
          <p:grpSpPr>
            <a:xfrm>
              <a:off x="1603440" y="1832040"/>
              <a:ext cx="484200" cy="758880"/>
              <a:chOff x="1603440" y="1832040"/>
              <a:chExt cx="484200" cy="75888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1612800" y="1871640"/>
                <a:ext cx="465120" cy="719280"/>
                <a:chOff x="1612800" y="1871640"/>
                <a:chExt cx="465120" cy="71928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1612800" y="1871640"/>
                  <a:ext cx="465120" cy="709560"/>
                </a:xfrm>
                <a:custGeom>
                  <a:avLst/>
                  <a:gdLst/>
                  <a:ahLst/>
                  <a:rect l="l" t="t" r="r" b="b"/>
                  <a:pathLst>
                    <a:path w="293" h="447">
                      <a:moveTo>
                        <a:pt x="41" y="32"/>
                      </a:moveTo>
                      <a:lnTo>
                        <a:pt x="63" y="16"/>
                      </a:lnTo>
                      <a:lnTo>
                        <a:pt x="92" y="6"/>
                      </a:lnTo>
                      <a:lnTo>
                        <a:pt x="124" y="0"/>
                      </a:lnTo>
                      <a:lnTo>
                        <a:pt x="153" y="0"/>
                      </a:lnTo>
                      <a:lnTo>
                        <a:pt x="187" y="2"/>
                      </a:lnTo>
                      <a:lnTo>
                        <a:pt x="217" y="9"/>
                      </a:lnTo>
                      <a:lnTo>
                        <a:pt x="240" y="22"/>
                      </a:lnTo>
                      <a:lnTo>
                        <a:pt x="254" y="38"/>
                      </a:lnTo>
                      <a:lnTo>
                        <a:pt x="263" y="54"/>
                      </a:lnTo>
                      <a:lnTo>
                        <a:pt x="270" y="68"/>
                      </a:lnTo>
                      <a:lnTo>
                        <a:pt x="275" y="92"/>
                      </a:lnTo>
                      <a:lnTo>
                        <a:pt x="276" y="117"/>
                      </a:lnTo>
                      <a:lnTo>
                        <a:pt x="276" y="135"/>
                      </a:lnTo>
                      <a:lnTo>
                        <a:pt x="276" y="152"/>
                      </a:lnTo>
                      <a:lnTo>
                        <a:pt x="276" y="176"/>
                      </a:lnTo>
                      <a:lnTo>
                        <a:pt x="284" y="171"/>
                      </a:lnTo>
                      <a:lnTo>
                        <a:pt x="293" y="178"/>
                      </a:lnTo>
                      <a:lnTo>
                        <a:pt x="293" y="205"/>
                      </a:lnTo>
                      <a:lnTo>
                        <a:pt x="285" y="232"/>
                      </a:lnTo>
                      <a:lnTo>
                        <a:pt x="281" y="259"/>
                      </a:lnTo>
                      <a:lnTo>
                        <a:pt x="278" y="271"/>
                      </a:lnTo>
                      <a:lnTo>
                        <a:pt x="269" y="276"/>
                      </a:lnTo>
                      <a:lnTo>
                        <a:pt x="261" y="267"/>
                      </a:lnTo>
                      <a:lnTo>
                        <a:pt x="260" y="294"/>
                      </a:lnTo>
                      <a:lnTo>
                        <a:pt x="257" y="323"/>
                      </a:lnTo>
                      <a:lnTo>
                        <a:pt x="253" y="341"/>
                      </a:lnTo>
                      <a:lnTo>
                        <a:pt x="247" y="392"/>
                      </a:lnTo>
                      <a:lnTo>
                        <a:pt x="169" y="447"/>
                      </a:lnTo>
                      <a:lnTo>
                        <a:pt x="57" y="393"/>
                      </a:lnTo>
                      <a:lnTo>
                        <a:pt x="54" y="349"/>
                      </a:lnTo>
                      <a:lnTo>
                        <a:pt x="45" y="298"/>
                      </a:lnTo>
                      <a:lnTo>
                        <a:pt x="41" y="270"/>
                      </a:lnTo>
                      <a:lnTo>
                        <a:pt x="35" y="276"/>
                      </a:lnTo>
                      <a:lnTo>
                        <a:pt x="23" y="276"/>
                      </a:lnTo>
                      <a:lnTo>
                        <a:pt x="11" y="226"/>
                      </a:lnTo>
                      <a:lnTo>
                        <a:pt x="0" y="189"/>
                      </a:lnTo>
                      <a:lnTo>
                        <a:pt x="3" y="182"/>
                      </a:lnTo>
                      <a:lnTo>
                        <a:pt x="15" y="179"/>
                      </a:lnTo>
                      <a:lnTo>
                        <a:pt x="14" y="160"/>
                      </a:lnTo>
                      <a:lnTo>
                        <a:pt x="12" y="129"/>
                      </a:lnTo>
                      <a:lnTo>
                        <a:pt x="14" y="107"/>
                      </a:lnTo>
                      <a:lnTo>
                        <a:pt x="18" y="82"/>
                      </a:lnTo>
                      <a:lnTo>
                        <a:pt x="29" y="50"/>
                      </a:lnTo>
                      <a:lnTo>
                        <a:pt x="41" y="32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612800" y="1882800"/>
                  <a:ext cx="290520" cy="708120"/>
                </a:xfrm>
                <a:custGeom>
                  <a:avLst/>
                  <a:gdLst/>
                  <a:ahLst/>
                  <a:rect l="l" t="t" r="r" b="b"/>
                  <a:pathLst>
                    <a:path w="183" h="446">
                      <a:moveTo>
                        <a:pt x="117" y="54"/>
                      </a:moveTo>
                      <a:lnTo>
                        <a:pt x="98" y="155"/>
                      </a:lnTo>
                      <a:lnTo>
                        <a:pt x="91" y="163"/>
                      </a:lnTo>
                      <a:lnTo>
                        <a:pt x="117" y="164"/>
                      </a:lnTo>
                      <a:lnTo>
                        <a:pt x="142" y="175"/>
                      </a:lnTo>
                      <a:lnTo>
                        <a:pt x="158" y="176"/>
                      </a:lnTo>
                      <a:lnTo>
                        <a:pt x="153" y="268"/>
                      </a:lnTo>
                      <a:lnTo>
                        <a:pt x="183" y="265"/>
                      </a:lnTo>
                      <a:lnTo>
                        <a:pt x="158" y="291"/>
                      </a:lnTo>
                      <a:lnTo>
                        <a:pt x="136" y="272"/>
                      </a:lnTo>
                      <a:lnTo>
                        <a:pt x="123" y="272"/>
                      </a:lnTo>
                      <a:lnTo>
                        <a:pt x="136" y="256"/>
                      </a:lnTo>
                      <a:lnTo>
                        <a:pt x="136" y="207"/>
                      </a:lnTo>
                      <a:lnTo>
                        <a:pt x="76" y="215"/>
                      </a:lnTo>
                      <a:lnTo>
                        <a:pt x="69" y="265"/>
                      </a:lnTo>
                      <a:lnTo>
                        <a:pt x="80" y="299"/>
                      </a:lnTo>
                      <a:lnTo>
                        <a:pt x="118" y="385"/>
                      </a:lnTo>
                      <a:lnTo>
                        <a:pt x="181" y="376"/>
                      </a:lnTo>
                      <a:lnTo>
                        <a:pt x="160" y="446"/>
                      </a:lnTo>
                      <a:lnTo>
                        <a:pt x="57" y="387"/>
                      </a:lnTo>
                      <a:lnTo>
                        <a:pt x="51" y="330"/>
                      </a:lnTo>
                      <a:lnTo>
                        <a:pt x="40" y="263"/>
                      </a:lnTo>
                      <a:lnTo>
                        <a:pt x="33" y="269"/>
                      </a:lnTo>
                      <a:lnTo>
                        <a:pt x="23" y="268"/>
                      </a:lnTo>
                      <a:lnTo>
                        <a:pt x="0" y="182"/>
                      </a:lnTo>
                      <a:lnTo>
                        <a:pt x="3" y="174"/>
                      </a:lnTo>
                      <a:lnTo>
                        <a:pt x="14" y="171"/>
                      </a:lnTo>
                      <a:lnTo>
                        <a:pt x="14" y="143"/>
                      </a:lnTo>
                      <a:lnTo>
                        <a:pt x="11" y="123"/>
                      </a:lnTo>
                      <a:lnTo>
                        <a:pt x="14" y="105"/>
                      </a:lnTo>
                      <a:lnTo>
                        <a:pt x="16" y="84"/>
                      </a:lnTo>
                      <a:lnTo>
                        <a:pt x="22" y="61"/>
                      </a:lnTo>
                      <a:lnTo>
                        <a:pt x="29" y="43"/>
                      </a:lnTo>
                      <a:lnTo>
                        <a:pt x="41" y="25"/>
                      </a:lnTo>
                      <a:lnTo>
                        <a:pt x="63" y="9"/>
                      </a:lnTo>
                      <a:lnTo>
                        <a:pt x="87" y="0"/>
                      </a:lnTo>
                      <a:lnTo>
                        <a:pt x="82" y="13"/>
                      </a:lnTo>
                      <a:lnTo>
                        <a:pt x="77" y="28"/>
                      </a:lnTo>
                      <a:lnTo>
                        <a:pt x="78" y="35"/>
                      </a:lnTo>
                      <a:lnTo>
                        <a:pt x="86" y="42"/>
                      </a:lnTo>
                      <a:lnTo>
                        <a:pt x="93" y="48"/>
                      </a:lnTo>
                      <a:lnTo>
                        <a:pt x="104" y="53"/>
                      </a:lnTo>
                      <a:lnTo>
                        <a:pt x="117" y="5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3" name=""/>
              <p:cNvSpPr/>
              <p:nvPr/>
            </p:nvSpPr>
            <p:spPr>
              <a:xfrm>
                <a:off x="1603440" y="1832040"/>
                <a:ext cx="484200" cy="425520"/>
              </a:xfrm>
              <a:custGeom>
                <a:avLst/>
                <a:gdLst/>
                <a:ahLst/>
                <a:rect l="l" t="t" r="r" b="b"/>
                <a:pathLst>
                  <a:path w="305" h="268">
                    <a:moveTo>
                      <a:pt x="22" y="268"/>
                    </a:moveTo>
                    <a:lnTo>
                      <a:pt x="0" y="203"/>
                    </a:lnTo>
                    <a:lnTo>
                      <a:pt x="3" y="131"/>
                    </a:lnTo>
                    <a:lnTo>
                      <a:pt x="10" y="84"/>
                    </a:lnTo>
                    <a:lnTo>
                      <a:pt x="22" y="61"/>
                    </a:lnTo>
                    <a:lnTo>
                      <a:pt x="36" y="43"/>
                    </a:lnTo>
                    <a:lnTo>
                      <a:pt x="62" y="22"/>
                    </a:lnTo>
                    <a:lnTo>
                      <a:pt x="100" y="11"/>
                    </a:lnTo>
                    <a:lnTo>
                      <a:pt x="145" y="0"/>
                    </a:lnTo>
                    <a:lnTo>
                      <a:pt x="190" y="8"/>
                    </a:lnTo>
                    <a:lnTo>
                      <a:pt x="226" y="19"/>
                    </a:lnTo>
                    <a:lnTo>
                      <a:pt x="247" y="27"/>
                    </a:lnTo>
                    <a:lnTo>
                      <a:pt x="271" y="38"/>
                    </a:lnTo>
                    <a:lnTo>
                      <a:pt x="279" y="52"/>
                    </a:lnTo>
                    <a:lnTo>
                      <a:pt x="290" y="76"/>
                    </a:lnTo>
                    <a:lnTo>
                      <a:pt x="302" y="121"/>
                    </a:lnTo>
                    <a:lnTo>
                      <a:pt x="305" y="161"/>
                    </a:lnTo>
                    <a:lnTo>
                      <a:pt x="305" y="196"/>
                    </a:lnTo>
                    <a:lnTo>
                      <a:pt x="305" y="212"/>
                    </a:lnTo>
                    <a:lnTo>
                      <a:pt x="294" y="247"/>
                    </a:lnTo>
                    <a:lnTo>
                      <a:pt x="299" y="204"/>
                    </a:lnTo>
                    <a:lnTo>
                      <a:pt x="278" y="214"/>
                    </a:lnTo>
                    <a:lnTo>
                      <a:pt x="271" y="238"/>
                    </a:lnTo>
                    <a:lnTo>
                      <a:pt x="266" y="215"/>
                    </a:lnTo>
                    <a:lnTo>
                      <a:pt x="271" y="185"/>
                    </a:lnTo>
                    <a:lnTo>
                      <a:pt x="250" y="142"/>
                    </a:lnTo>
                    <a:lnTo>
                      <a:pt x="259" y="119"/>
                    </a:lnTo>
                    <a:lnTo>
                      <a:pt x="231" y="127"/>
                    </a:lnTo>
                    <a:lnTo>
                      <a:pt x="205" y="137"/>
                    </a:lnTo>
                    <a:lnTo>
                      <a:pt x="178" y="133"/>
                    </a:lnTo>
                    <a:lnTo>
                      <a:pt x="155" y="127"/>
                    </a:lnTo>
                    <a:lnTo>
                      <a:pt x="136" y="125"/>
                    </a:lnTo>
                    <a:lnTo>
                      <a:pt x="152" y="137"/>
                    </a:lnTo>
                    <a:lnTo>
                      <a:pt x="140" y="137"/>
                    </a:lnTo>
                    <a:lnTo>
                      <a:pt x="105" y="134"/>
                    </a:lnTo>
                    <a:lnTo>
                      <a:pt x="80" y="122"/>
                    </a:lnTo>
                    <a:lnTo>
                      <a:pt x="60" y="115"/>
                    </a:lnTo>
                    <a:lnTo>
                      <a:pt x="63" y="131"/>
                    </a:lnTo>
                    <a:lnTo>
                      <a:pt x="57" y="157"/>
                    </a:lnTo>
                    <a:lnTo>
                      <a:pt x="48" y="179"/>
                    </a:lnTo>
                    <a:lnTo>
                      <a:pt x="45" y="196"/>
                    </a:lnTo>
                    <a:lnTo>
                      <a:pt x="44" y="215"/>
                    </a:lnTo>
                    <a:lnTo>
                      <a:pt x="44" y="233"/>
                    </a:lnTo>
                    <a:lnTo>
                      <a:pt x="33" y="215"/>
                    </a:lnTo>
                    <a:lnTo>
                      <a:pt x="21" y="213"/>
                    </a:lnTo>
                    <a:lnTo>
                      <a:pt x="11" y="226"/>
                    </a:lnTo>
                    <a:lnTo>
                      <a:pt x="22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1251000" y="5607000"/>
              <a:ext cx="1328760" cy="365040"/>
              <a:chOff x="1251000" y="5607000"/>
              <a:chExt cx="1328760" cy="365040"/>
            </a:xfrm>
          </p:grpSpPr>
          <p:sp>
            <p:nvSpPr>
              <p:cNvPr id="1465" name=""/>
              <p:cNvSpPr/>
              <p:nvPr/>
            </p:nvSpPr>
            <p:spPr>
              <a:xfrm>
                <a:off x="1251000" y="5607000"/>
                <a:ext cx="558720" cy="365040"/>
              </a:xfrm>
              <a:custGeom>
                <a:avLst/>
                <a:gdLst/>
                <a:ahLst/>
                <a:rect l="l" t="t" r="r" b="b"/>
                <a:pathLst>
                  <a:path w="352" h="230">
                    <a:moveTo>
                      <a:pt x="168" y="51"/>
                    </a:moveTo>
                    <a:lnTo>
                      <a:pt x="109" y="109"/>
                    </a:lnTo>
                    <a:lnTo>
                      <a:pt x="67" y="140"/>
                    </a:lnTo>
                    <a:lnTo>
                      <a:pt x="0" y="167"/>
                    </a:lnTo>
                    <a:lnTo>
                      <a:pt x="0" y="209"/>
                    </a:lnTo>
                    <a:lnTo>
                      <a:pt x="60" y="230"/>
                    </a:lnTo>
                    <a:lnTo>
                      <a:pt x="153" y="230"/>
                    </a:lnTo>
                    <a:lnTo>
                      <a:pt x="222" y="195"/>
                    </a:lnTo>
                    <a:lnTo>
                      <a:pt x="257" y="163"/>
                    </a:lnTo>
                    <a:lnTo>
                      <a:pt x="352" y="135"/>
                    </a:lnTo>
                    <a:lnTo>
                      <a:pt x="352" y="55"/>
                    </a:lnTo>
                    <a:lnTo>
                      <a:pt x="340" y="0"/>
                    </a:lnTo>
                    <a:lnTo>
                      <a:pt x="16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76400" y="5624640"/>
                <a:ext cx="603360" cy="322200"/>
              </a:xfrm>
              <a:custGeom>
                <a:avLst/>
                <a:gdLst/>
                <a:ahLst/>
                <a:rect l="l" t="t" r="r" b="b"/>
                <a:pathLst>
                  <a:path w="380" h="203">
                    <a:moveTo>
                      <a:pt x="3" y="9"/>
                    </a:moveTo>
                    <a:lnTo>
                      <a:pt x="0" y="121"/>
                    </a:lnTo>
                    <a:lnTo>
                      <a:pt x="88" y="140"/>
                    </a:lnTo>
                    <a:lnTo>
                      <a:pt x="139" y="163"/>
                    </a:lnTo>
                    <a:lnTo>
                      <a:pt x="228" y="187"/>
                    </a:lnTo>
                    <a:lnTo>
                      <a:pt x="295" y="203"/>
                    </a:lnTo>
                    <a:lnTo>
                      <a:pt x="368" y="191"/>
                    </a:lnTo>
                    <a:lnTo>
                      <a:pt x="380" y="140"/>
                    </a:lnTo>
                    <a:lnTo>
                      <a:pt x="275" y="82"/>
                    </a:lnTo>
                    <a:lnTo>
                      <a:pt x="198" y="35"/>
                    </a:lnTo>
                    <a:lnTo>
                      <a:pt x="159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887400" y="4029120"/>
              <a:ext cx="546120" cy="1076040"/>
              <a:chOff x="887400" y="4029120"/>
              <a:chExt cx="546120" cy="107604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1090080" y="4029120"/>
                <a:ext cx="202320" cy="296640"/>
                <a:chOff x="1090080" y="4029120"/>
                <a:chExt cx="202320" cy="296640"/>
              </a:xfrm>
            </p:grpSpPr>
            <p:sp>
              <p:nvSpPr>
                <p:cNvPr id="1469" name=""/>
                <p:cNvSpPr/>
                <p:nvPr/>
              </p:nvSpPr>
              <p:spPr>
                <a:xfrm flipH="1">
                  <a:off x="1090080" y="4035600"/>
                  <a:ext cx="78120" cy="28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H="1">
                  <a:off x="1168200" y="4030560"/>
                  <a:ext cx="612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176480" y="4029120"/>
                  <a:ext cx="7272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179360" y="4030560"/>
                  <a:ext cx="113040" cy="19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887400" y="4081320"/>
                <a:ext cx="546120" cy="1023840"/>
                <a:chOff x="887400" y="4081320"/>
                <a:chExt cx="546120" cy="10238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887400" y="5008680"/>
                  <a:ext cx="198000" cy="9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258" y="963"/>
                      </a:moveTo>
                      <a:arcTo wR="10800" hR="10800" stAng="-3937361" swAng="211484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258" y="963"/>
                      </a:moveTo>
                      <a:arcTo wR="10800" hR="10800" stAng="-3937361" swAng="21148444"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87400" y="4084560"/>
                  <a:ext cx="457200" cy="978120"/>
                </a:xfrm>
                <a:custGeom>
                  <a:avLst/>
                  <a:gdLst/>
                  <a:ahLst/>
                  <a:rect l="l" t="t" r="r" b="b"/>
                  <a:pathLst>
                    <a:path w="288" h="616">
                      <a:moveTo>
                        <a:pt x="46" y="174"/>
                      </a:moveTo>
                      <a:lnTo>
                        <a:pt x="285" y="0"/>
                      </a:lnTo>
                      <a:lnTo>
                        <a:pt x="288" y="20"/>
                      </a:lnTo>
                      <a:lnTo>
                        <a:pt x="285" y="401"/>
                      </a:lnTo>
                      <a:lnTo>
                        <a:pt x="0" y="616"/>
                      </a:lnTo>
                      <a:lnTo>
                        <a:pt x="46" y="174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93880" y="4102200"/>
                  <a:ext cx="503280" cy="965160"/>
                </a:xfrm>
                <a:custGeom>
                  <a:avLst/>
                  <a:gdLst/>
                  <a:ahLst/>
                  <a:rect l="l" t="t" r="r" b="b"/>
                  <a:pathLst>
                    <a:path w="317" h="608">
                      <a:moveTo>
                        <a:pt x="50" y="169"/>
                      </a:moveTo>
                      <a:lnTo>
                        <a:pt x="0" y="596"/>
                      </a:lnTo>
                      <a:lnTo>
                        <a:pt x="14" y="588"/>
                      </a:lnTo>
                      <a:lnTo>
                        <a:pt x="21" y="605"/>
                      </a:lnTo>
                      <a:lnTo>
                        <a:pt x="35" y="592"/>
                      </a:lnTo>
                      <a:lnTo>
                        <a:pt x="46" y="607"/>
                      </a:lnTo>
                      <a:lnTo>
                        <a:pt x="58" y="596"/>
                      </a:lnTo>
                      <a:lnTo>
                        <a:pt x="70" y="608"/>
                      </a:lnTo>
                      <a:lnTo>
                        <a:pt x="83" y="595"/>
                      </a:lnTo>
                      <a:lnTo>
                        <a:pt x="98" y="608"/>
                      </a:lnTo>
                      <a:lnTo>
                        <a:pt x="108" y="590"/>
                      </a:lnTo>
                      <a:lnTo>
                        <a:pt x="123" y="601"/>
                      </a:lnTo>
                      <a:lnTo>
                        <a:pt x="96" y="179"/>
                      </a:lnTo>
                      <a:lnTo>
                        <a:pt x="317" y="6"/>
                      </a:lnTo>
                      <a:lnTo>
                        <a:pt x="302" y="12"/>
                      </a:lnTo>
                      <a:lnTo>
                        <a:pt x="290" y="5"/>
                      </a:lnTo>
                      <a:lnTo>
                        <a:pt x="286" y="13"/>
                      </a:lnTo>
                      <a:lnTo>
                        <a:pt x="275" y="0"/>
                      </a:lnTo>
                      <a:lnTo>
                        <a:pt x="50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038240" y="4081320"/>
                  <a:ext cx="395280" cy="990720"/>
                </a:xfrm>
                <a:custGeom>
                  <a:avLst/>
                  <a:gdLst/>
                  <a:ahLst/>
                  <a:rect l="l" t="t" r="r" b="b"/>
                  <a:pathLst>
                    <a:path w="249" h="624">
                      <a:moveTo>
                        <a:pt x="0" y="182"/>
                      </a:moveTo>
                      <a:lnTo>
                        <a:pt x="234" y="0"/>
                      </a:lnTo>
                      <a:lnTo>
                        <a:pt x="248" y="57"/>
                      </a:lnTo>
                      <a:lnTo>
                        <a:pt x="249" y="391"/>
                      </a:lnTo>
                      <a:lnTo>
                        <a:pt x="27" y="624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"/>
            <p:cNvSpPr/>
            <p:nvPr/>
          </p:nvSpPr>
          <p:spPr>
            <a:xfrm>
              <a:off x="1047600" y="3863880"/>
              <a:ext cx="316080" cy="246240"/>
            </a:xfrm>
            <a:custGeom>
              <a:avLst/>
              <a:gdLst/>
              <a:ahLst/>
              <a:rect l="l" t="t" r="r" b="b"/>
              <a:pathLst>
                <a:path w="199" h="155">
                  <a:moveTo>
                    <a:pt x="58" y="16"/>
                  </a:moveTo>
                  <a:lnTo>
                    <a:pt x="16" y="54"/>
                  </a:lnTo>
                  <a:lnTo>
                    <a:pt x="0" y="101"/>
                  </a:lnTo>
                  <a:lnTo>
                    <a:pt x="44" y="146"/>
                  </a:lnTo>
                  <a:lnTo>
                    <a:pt x="86" y="155"/>
                  </a:lnTo>
                  <a:lnTo>
                    <a:pt x="117" y="143"/>
                  </a:lnTo>
                  <a:lnTo>
                    <a:pt x="147" y="150"/>
                  </a:lnTo>
                  <a:lnTo>
                    <a:pt x="183" y="108"/>
                  </a:lnTo>
                  <a:lnTo>
                    <a:pt x="199" y="57"/>
                  </a:lnTo>
                  <a:lnTo>
                    <a:pt x="159" y="0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1127160" y="2471760"/>
              <a:ext cx="1477800" cy="3254400"/>
              <a:chOff x="1127160" y="2471760"/>
              <a:chExt cx="1477800" cy="3254400"/>
            </a:xfrm>
          </p:grpSpPr>
          <p:sp>
            <p:nvSpPr>
              <p:cNvPr id="1480" name=""/>
              <p:cNvSpPr/>
              <p:nvPr/>
            </p:nvSpPr>
            <p:spPr>
              <a:xfrm>
                <a:off x="1658880" y="2471760"/>
                <a:ext cx="393840" cy="1092240"/>
              </a:xfrm>
              <a:custGeom>
                <a:avLst/>
                <a:gdLst/>
                <a:ahLst/>
                <a:rect l="l" t="t" r="r" b="b"/>
                <a:pathLst>
                  <a:path w="248" h="688">
                    <a:moveTo>
                      <a:pt x="146" y="688"/>
                    </a:moveTo>
                    <a:lnTo>
                      <a:pt x="0" y="44"/>
                    </a:lnTo>
                    <a:lnTo>
                      <a:pt x="28" y="6"/>
                    </a:lnTo>
                    <a:lnTo>
                      <a:pt x="125" y="58"/>
                    </a:lnTo>
                    <a:lnTo>
                      <a:pt x="219" y="0"/>
                    </a:lnTo>
                    <a:lnTo>
                      <a:pt x="248" y="37"/>
                    </a:lnTo>
                    <a:lnTo>
                      <a:pt x="146" y="688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805040" y="2560680"/>
                <a:ext cx="146160" cy="977760"/>
              </a:xfrm>
              <a:custGeom>
                <a:avLst/>
                <a:gdLst/>
                <a:ahLst/>
                <a:rect l="l" t="t" r="r" b="b"/>
                <a:pathLst>
                  <a:path w="92" h="616">
                    <a:moveTo>
                      <a:pt x="27" y="0"/>
                    </a:moveTo>
                    <a:lnTo>
                      <a:pt x="37" y="0"/>
                    </a:lnTo>
                    <a:lnTo>
                      <a:pt x="68" y="45"/>
                    </a:lnTo>
                    <a:lnTo>
                      <a:pt x="50" y="77"/>
                    </a:lnTo>
                    <a:lnTo>
                      <a:pt x="74" y="158"/>
                    </a:lnTo>
                    <a:lnTo>
                      <a:pt x="90" y="233"/>
                    </a:lnTo>
                    <a:lnTo>
                      <a:pt x="92" y="321"/>
                    </a:lnTo>
                    <a:lnTo>
                      <a:pt x="83" y="504"/>
                    </a:lnTo>
                    <a:lnTo>
                      <a:pt x="79" y="614"/>
                    </a:lnTo>
                    <a:lnTo>
                      <a:pt x="27" y="616"/>
                    </a:lnTo>
                    <a:lnTo>
                      <a:pt x="18" y="502"/>
                    </a:lnTo>
                    <a:lnTo>
                      <a:pt x="2" y="321"/>
                    </a:lnTo>
                    <a:lnTo>
                      <a:pt x="2" y="235"/>
                    </a:lnTo>
                    <a:lnTo>
                      <a:pt x="9" y="159"/>
                    </a:lnTo>
                    <a:lnTo>
                      <a:pt x="24" y="79"/>
                    </a:lnTo>
                    <a:lnTo>
                      <a:pt x="0" y="5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1127160" y="2517840"/>
                <a:ext cx="1477800" cy="3208320"/>
                <a:chOff x="1127160" y="2517840"/>
                <a:chExt cx="1477800" cy="320832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127160" y="2517840"/>
                  <a:ext cx="1477800" cy="3208320"/>
                </a:xfrm>
                <a:custGeom>
                  <a:avLst/>
                  <a:gdLst/>
                  <a:ahLst/>
                  <a:rect l="l" t="t" r="r" b="b"/>
                  <a:pathLst>
                    <a:path w="931" h="2021">
                      <a:moveTo>
                        <a:pt x="339" y="10"/>
                      </a:moveTo>
                      <a:lnTo>
                        <a:pt x="156" y="99"/>
                      </a:lnTo>
                      <a:lnTo>
                        <a:pt x="39" y="427"/>
                      </a:lnTo>
                      <a:lnTo>
                        <a:pt x="12" y="553"/>
                      </a:lnTo>
                      <a:lnTo>
                        <a:pt x="0" y="867"/>
                      </a:lnTo>
                      <a:lnTo>
                        <a:pt x="123" y="865"/>
                      </a:lnTo>
                      <a:lnTo>
                        <a:pt x="134" y="589"/>
                      </a:lnTo>
                      <a:lnTo>
                        <a:pt x="218" y="389"/>
                      </a:lnTo>
                      <a:lnTo>
                        <a:pt x="229" y="686"/>
                      </a:lnTo>
                      <a:lnTo>
                        <a:pt x="215" y="1004"/>
                      </a:lnTo>
                      <a:lnTo>
                        <a:pt x="269" y="1011"/>
                      </a:lnTo>
                      <a:lnTo>
                        <a:pt x="261" y="1423"/>
                      </a:lnTo>
                      <a:lnTo>
                        <a:pt x="246" y="2005"/>
                      </a:lnTo>
                      <a:lnTo>
                        <a:pt x="323" y="2021"/>
                      </a:lnTo>
                      <a:lnTo>
                        <a:pt x="418" y="1983"/>
                      </a:lnTo>
                      <a:lnTo>
                        <a:pt x="492" y="1027"/>
                      </a:lnTo>
                      <a:lnTo>
                        <a:pt x="519" y="1571"/>
                      </a:lnTo>
                      <a:lnTo>
                        <a:pt x="538" y="1986"/>
                      </a:lnTo>
                      <a:lnTo>
                        <a:pt x="643" y="2021"/>
                      </a:lnTo>
                      <a:lnTo>
                        <a:pt x="729" y="2014"/>
                      </a:lnTo>
                      <a:lnTo>
                        <a:pt x="698" y="1251"/>
                      </a:lnTo>
                      <a:lnTo>
                        <a:pt x="713" y="1004"/>
                      </a:lnTo>
                      <a:lnTo>
                        <a:pt x="744" y="988"/>
                      </a:lnTo>
                      <a:lnTo>
                        <a:pt x="767" y="903"/>
                      </a:lnTo>
                      <a:lnTo>
                        <a:pt x="775" y="830"/>
                      </a:lnTo>
                      <a:lnTo>
                        <a:pt x="931" y="652"/>
                      </a:lnTo>
                      <a:lnTo>
                        <a:pt x="791" y="100"/>
                      </a:lnTo>
                      <a:lnTo>
                        <a:pt x="578" y="0"/>
                      </a:lnTo>
                      <a:lnTo>
                        <a:pt x="481" y="639"/>
                      </a:lnTo>
                      <a:lnTo>
                        <a:pt x="339" y="1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1876320" y="3616200"/>
                  <a:ext cx="61920" cy="171720"/>
                  <a:chOff x="1876320" y="3616200"/>
                  <a:chExt cx="61920" cy="1717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1876320" y="3616200"/>
                    <a:ext cx="6192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1876320" y="3720960"/>
                    <a:ext cx="61920" cy="66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ummary of Significant Accounting Policies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539640" y="1682280"/>
            <a:ext cx="5168880" cy="41785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Appears in the notes to the financial statements.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Includes a discussion of the major accounting policies. 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5010120" y="3505320"/>
            <a:ext cx="4133880" cy="2896200"/>
            <a:chOff x="5010120" y="3505320"/>
            <a:chExt cx="4133880" cy="2896200"/>
          </a:xfrm>
        </p:grpSpPr>
        <p:grpSp>
          <p:nvGrpSpPr>
            <p:cNvPr id="1490" name=""/>
            <p:cNvGrpSpPr/>
            <p:nvPr/>
          </p:nvGrpSpPr>
          <p:grpSpPr>
            <a:xfrm>
              <a:off x="5405400" y="4144680"/>
              <a:ext cx="3738600" cy="2256840"/>
              <a:chOff x="5405400" y="4144680"/>
              <a:chExt cx="3738600" cy="2256840"/>
            </a:xfrm>
          </p:grpSpPr>
          <p:grpSp>
            <p:nvGrpSpPr>
              <p:cNvPr id="1491" name=""/>
              <p:cNvGrpSpPr/>
              <p:nvPr/>
            </p:nvGrpSpPr>
            <p:grpSpPr>
              <a:xfrm>
                <a:off x="8448480" y="5164920"/>
                <a:ext cx="695520" cy="1236600"/>
                <a:chOff x="8448480" y="5164920"/>
                <a:chExt cx="695520" cy="123660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8448480" y="5164920"/>
                  <a:ext cx="695520" cy="1236600"/>
                </a:xfrm>
                <a:custGeom>
                  <a:avLst/>
                  <a:gdLst/>
                  <a:ahLst/>
                  <a:rect l="l" t="t" r="r" b="b"/>
                  <a:pathLst>
                    <a:path w="875" h="1558">
                      <a:moveTo>
                        <a:pt x="875" y="86"/>
                      </a:moveTo>
                      <a:lnTo>
                        <a:pt x="875" y="1558"/>
                      </a:lnTo>
                      <a:lnTo>
                        <a:pt x="254" y="1558"/>
                      </a:lnTo>
                      <a:lnTo>
                        <a:pt x="0" y="531"/>
                      </a:lnTo>
                      <a:lnTo>
                        <a:pt x="197" y="0"/>
                      </a:lnTo>
                      <a:lnTo>
                        <a:pt x="875" y="86"/>
                      </a:lnTo>
                      <a:close/>
                    </a:path>
                  </a:pathLst>
                </a:custGeom>
                <a:solidFill>
                  <a:srgbClr val="a04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510400" y="5263200"/>
                  <a:ext cx="331920" cy="1137960"/>
                </a:xfrm>
                <a:custGeom>
                  <a:avLst/>
                  <a:gdLst/>
                  <a:ahLst/>
                  <a:rect l="l" t="t" r="r" b="b"/>
                  <a:pathLst>
                    <a:path w="417" h="1433">
                      <a:moveTo>
                        <a:pt x="90" y="230"/>
                      </a:moveTo>
                      <a:lnTo>
                        <a:pt x="200" y="336"/>
                      </a:lnTo>
                      <a:lnTo>
                        <a:pt x="240" y="375"/>
                      </a:lnTo>
                      <a:lnTo>
                        <a:pt x="299" y="0"/>
                      </a:lnTo>
                      <a:lnTo>
                        <a:pt x="289" y="413"/>
                      </a:lnTo>
                      <a:lnTo>
                        <a:pt x="399" y="580"/>
                      </a:lnTo>
                      <a:lnTo>
                        <a:pt x="387" y="1101"/>
                      </a:lnTo>
                      <a:lnTo>
                        <a:pt x="417" y="1433"/>
                      </a:lnTo>
                      <a:lnTo>
                        <a:pt x="60" y="1433"/>
                      </a:lnTo>
                      <a:lnTo>
                        <a:pt x="0" y="618"/>
                      </a:lnTo>
                      <a:lnTo>
                        <a:pt x="90" y="230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931240" y="5271120"/>
                  <a:ext cx="198360" cy="1130040"/>
                </a:xfrm>
                <a:custGeom>
                  <a:avLst/>
                  <a:gdLst/>
                  <a:ahLst/>
                  <a:rect l="l" t="t" r="r" b="b"/>
                  <a:pathLst>
                    <a:path w="251" h="1423">
                      <a:moveTo>
                        <a:pt x="30" y="0"/>
                      </a:moveTo>
                      <a:lnTo>
                        <a:pt x="10" y="288"/>
                      </a:lnTo>
                      <a:lnTo>
                        <a:pt x="0" y="463"/>
                      </a:lnTo>
                      <a:lnTo>
                        <a:pt x="49" y="491"/>
                      </a:lnTo>
                      <a:lnTo>
                        <a:pt x="67" y="880"/>
                      </a:lnTo>
                      <a:lnTo>
                        <a:pt x="149" y="1238"/>
                      </a:lnTo>
                      <a:lnTo>
                        <a:pt x="181" y="1423"/>
                      </a:lnTo>
                      <a:lnTo>
                        <a:pt x="226" y="1423"/>
                      </a:lnTo>
                      <a:lnTo>
                        <a:pt x="229" y="1228"/>
                      </a:lnTo>
                      <a:lnTo>
                        <a:pt x="251" y="1043"/>
                      </a:lnTo>
                      <a:lnTo>
                        <a:pt x="221" y="821"/>
                      </a:lnTo>
                      <a:lnTo>
                        <a:pt x="169" y="716"/>
                      </a:lnTo>
                      <a:lnTo>
                        <a:pt x="129" y="648"/>
                      </a:lnTo>
                      <a:lnTo>
                        <a:pt x="89" y="38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988480" y="5202720"/>
                  <a:ext cx="118800" cy="544320"/>
                </a:xfrm>
                <a:custGeom>
                  <a:avLst/>
                  <a:gdLst/>
                  <a:ahLst/>
                  <a:rect l="l" t="t" r="r" b="b"/>
                  <a:pathLst>
                    <a:path w="149" h="685">
                      <a:moveTo>
                        <a:pt x="0" y="127"/>
                      </a:moveTo>
                      <a:lnTo>
                        <a:pt x="149" y="685"/>
                      </a:lnTo>
                      <a:lnTo>
                        <a:pt x="22" y="0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839080" y="5302800"/>
                  <a:ext cx="182520" cy="1098360"/>
                </a:xfrm>
                <a:custGeom>
                  <a:avLst/>
                  <a:gdLst/>
                  <a:ahLst/>
                  <a:rect l="l" t="t" r="r" b="b"/>
                  <a:pathLst>
                    <a:path w="231" h="1385">
                      <a:moveTo>
                        <a:pt x="30" y="0"/>
                      </a:moveTo>
                      <a:lnTo>
                        <a:pt x="52" y="375"/>
                      </a:lnTo>
                      <a:lnTo>
                        <a:pt x="70" y="590"/>
                      </a:lnTo>
                      <a:lnTo>
                        <a:pt x="122" y="648"/>
                      </a:lnTo>
                      <a:lnTo>
                        <a:pt x="144" y="745"/>
                      </a:lnTo>
                      <a:lnTo>
                        <a:pt x="231" y="1385"/>
                      </a:lnTo>
                      <a:lnTo>
                        <a:pt x="62" y="1380"/>
                      </a:lnTo>
                      <a:lnTo>
                        <a:pt x="0" y="678"/>
                      </a:lnTo>
                      <a:lnTo>
                        <a:pt x="10" y="28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600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9012240" y="5255280"/>
                  <a:ext cx="117360" cy="522000"/>
                </a:xfrm>
                <a:custGeom>
                  <a:avLst/>
                  <a:gdLst/>
                  <a:ahLst/>
                  <a:rect l="l" t="t" r="r" b="b"/>
                  <a:pathLst>
                    <a:path w="149" h="656">
                      <a:moveTo>
                        <a:pt x="0" y="28"/>
                      </a:moveTo>
                      <a:lnTo>
                        <a:pt x="75" y="350"/>
                      </a:lnTo>
                      <a:lnTo>
                        <a:pt x="149" y="656"/>
                      </a:lnTo>
                      <a:lnTo>
                        <a:pt x="11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9028080" y="5850360"/>
                  <a:ext cx="85680" cy="550800"/>
                </a:xfrm>
                <a:custGeom>
                  <a:avLst/>
                  <a:gdLst/>
                  <a:ahLst/>
                  <a:rect l="l" t="t" r="r" b="b"/>
                  <a:pathLst>
                    <a:path w="109" h="695">
                      <a:moveTo>
                        <a:pt x="0" y="0"/>
                      </a:moveTo>
                      <a:lnTo>
                        <a:pt x="44" y="302"/>
                      </a:lnTo>
                      <a:lnTo>
                        <a:pt x="87" y="633"/>
                      </a:lnTo>
                      <a:lnTo>
                        <a:pt x="109" y="695"/>
                      </a:lnTo>
                      <a:lnTo>
                        <a:pt x="109" y="477"/>
                      </a:lnTo>
                      <a:lnTo>
                        <a:pt x="99" y="282"/>
                      </a:lnTo>
                      <a:lnTo>
                        <a:pt x="65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816760" y="5286960"/>
                  <a:ext cx="55800" cy="474480"/>
                </a:xfrm>
                <a:custGeom>
                  <a:avLst/>
                  <a:gdLst/>
                  <a:ahLst/>
                  <a:rect l="l" t="t" r="r" b="b"/>
                  <a:pathLst>
                    <a:path w="70" h="598">
                      <a:moveTo>
                        <a:pt x="70" y="0"/>
                      </a:moveTo>
                      <a:lnTo>
                        <a:pt x="46" y="332"/>
                      </a:lnTo>
                      <a:lnTo>
                        <a:pt x="46" y="598"/>
                      </a:lnTo>
                      <a:lnTo>
                        <a:pt x="0" y="422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831160" y="5826600"/>
                  <a:ext cx="101520" cy="574560"/>
                </a:xfrm>
                <a:custGeom>
                  <a:avLst/>
                  <a:gdLst/>
                  <a:ahLst/>
                  <a:rect l="l" t="t" r="r" b="b"/>
                  <a:pathLst>
                    <a:path w="129" h="723">
                      <a:moveTo>
                        <a:pt x="22" y="0"/>
                      </a:moveTo>
                      <a:lnTo>
                        <a:pt x="54" y="291"/>
                      </a:lnTo>
                      <a:lnTo>
                        <a:pt x="77" y="496"/>
                      </a:lnTo>
                      <a:lnTo>
                        <a:pt x="129" y="723"/>
                      </a:lnTo>
                      <a:lnTo>
                        <a:pt x="65" y="723"/>
                      </a:lnTo>
                      <a:lnTo>
                        <a:pt x="12" y="410"/>
                      </a:lnTo>
                      <a:lnTo>
                        <a:pt x="0" y="19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656560" y="5939280"/>
                  <a:ext cx="109440" cy="458640"/>
                </a:xfrm>
                <a:custGeom>
                  <a:avLst/>
                  <a:gdLst/>
                  <a:ahLst/>
                  <a:rect l="l" t="t" r="r" b="b"/>
                  <a:pathLst>
                    <a:path w="138" h="579">
                      <a:moveTo>
                        <a:pt x="0" y="0"/>
                      </a:moveTo>
                      <a:lnTo>
                        <a:pt x="96" y="355"/>
                      </a:lnTo>
                      <a:lnTo>
                        <a:pt x="138" y="5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966160" y="5339520"/>
                  <a:ext cx="79200" cy="497880"/>
                </a:xfrm>
                <a:custGeom>
                  <a:avLst/>
                  <a:gdLst/>
                  <a:ahLst/>
                  <a:rect l="l" t="t" r="r" b="b"/>
                  <a:pathLst>
                    <a:path w="101" h="628">
                      <a:moveTo>
                        <a:pt x="0" y="0"/>
                      </a:moveTo>
                      <a:lnTo>
                        <a:pt x="22" y="263"/>
                      </a:lnTo>
                      <a:lnTo>
                        <a:pt x="66" y="471"/>
                      </a:lnTo>
                      <a:lnTo>
                        <a:pt x="101" y="628"/>
                      </a:lnTo>
                      <a:lnTo>
                        <a:pt x="89" y="353"/>
                      </a:lnTo>
                      <a:lnTo>
                        <a:pt x="66" y="2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648640" y="5286960"/>
                  <a:ext cx="93600" cy="572760"/>
                </a:xfrm>
                <a:custGeom>
                  <a:avLst/>
                  <a:gdLst/>
                  <a:ahLst/>
                  <a:rect l="l" t="t" r="r" b="b"/>
                  <a:pathLst>
                    <a:path w="118" h="723">
                      <a:moveTo>
                        <a:pt x="118" y="0"/>
                      </a:moveTo>
                      <a:lnTo>
                        <a:pt x="86" y="213"/>
                      </a:lnTo>
                      <a:lnTo>
                        <a:pt x="75" y="398"/>
                      </a:lnTo>
                      <a:lnTo>
                        <a:pt x="55" y="597"/>
                      </a:lnTo>
                      <a:lnTo>
                        <a:pt x="55" y="723"/>
                      </a:lnTo>
                      <a:lnTo>
                        <a:pt x="0" y="448"/>
                      </a:lnTo>
                      <a:lnTo>
                        <a:pt x="23" y="243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c06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5405400" y="4144680"/>
                <a:ext cx="3352680" cy="2256840"/>
                <a:chOff x="5405400" y="4144680"/>
                <a:chExt cx="3352680" cy="2256840"/>
              </a:xfrm>
            </p:grpSpPr>
            <p:sp>
              <p:nvSpPr>
                <p:cNvPr id="1505" name=""/>
                <p:cNvSpPr/>
                <p:nvPr/>
              </p:nvSpPr>
              <p:spPr>
                <a:xfrm>
                  <a:off x="5405400" y="4725360"/>
                  <a:ext cx="3352680" cy="1676160"/>
                </a:xfrm>
                <a:custGeom>
                  <a:avLst/>
                  <a:gdLst/>
                  <a:ahLst/>
                  <a:rect l="l" t="t" r="r" b="b"/>
                  <a:pathLst>
                    <a:path w="4225" h="2111">
                      <a:moveTo>
                        <a:pt x="0" y="2111"/>
                      </a:moveTo>
                      <a:lnTo>
                        <a:pt x="1785" y="0"/>
                      </a:lnTo>
                      <a:lnTo>
                        <a:pt x="3811" y="0"/>
                      </a:lnTo>
                      <a:lnTo>
                        <a:pt x="4225" y="2111"/>
                      </a:lnTo>
                      <a:lnTo>
                        <a:pt x="0" y="2111"/>
                      </a:lnTo>
                      <a:close/>
                    </a:path>
                  </a:pathLst>
                </a:custGeom>
                <a:solidFill>
                  <a:srgbClr val="a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6" name=""/>
                <p:cNvGrpSpPr/>
                <p:nvPr/>
              </p:nvGrpSpPr>
              <p:grpSpPr>
                <a:xfrm>
                  <a:off x="6370560" y="4144680"/>
                  <a:ext cx="1941480" cy="2256480"/>
                  <a:chOff x="6370560" y="4144680"/>
                  <a:chExt cx="1941480" cy="2256480"/>
                </a:xfrm>
              </p:grpSpPr>
              <p:grpSp>
                <p:nvGrpSpPr>
                  <p:cNvPr id="1507" name=""/>
                  <p:cNvGrpSpPr/>
                  <p:nvPr/>
                </p:nvGrpSpPr>
                <p:grpSpPr>
                  <a:xfrm>
                    <a:off x="6397560" y="5697000"/>
                    <a:ext cx="1077840" cy="704160"/>
                    <a:chOff x="6397560" y="5697000"/>
                    <a:chExt cx="1077840" cy="704160"/>
                  </a:xfrm>
                </p:grpSpPr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6397560" y="5698080"/>
                      <a:ext cx="1077840" cy="70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0" h="887">
                          <a:moveTo>
                            <a:pt x="302" y="0"/>
                          </a:moveTo>
                          <a:lnTo>
                            <a:pt x="1360" y="0"/>
                          </a:lnTo>
                          <a:lnTo>
                            <a:pt x="1321" y="887"/>
                          </a:lnTo>
                          <a:lnTo>
                            <a:pt x="0" y="887"/>
                          </a:lnTo>
                          <a:lnTo>
                            <a:pt x="302" y="0"/>
                          </a:lnTo>
                          <a:close/>
                        </a:path>
                      </a:pathLst>
                    </a:custGeom>
                    <a:solidFill>
                      <a:srgbClr val="c0e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6610320" y="5697000"/>
                      <a:ext cx="86508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101">
                          <a:moveTo>
                            <a:pt x="28" y="0"/>
                          </a:moveTo>
                          <a:lnTo>
                            <a:pt x="0" y="101"/>
                          </a:lnTo>
                          <a:lnTo>
                            <a:pt x="1087" y="101"/>
                          </a:lnTo>
                          <a:lnTo>
                            <a:pt x="1091" y="0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0" name=""/>
                  <p:cNvGrpSpPr/>
                  <p:nvPr/>
                </p:nvGrpSpPr>
                <p:grpSpPr>
                  <a:xfrm>
                    <a:off x="6370560" y="4144680"/>
                    <a:ext cx="1941480" cy="1505520"/>
                    <a:chOff x="6370560" y="4144680"/>
                    <a:chExt cx="1941480" cy="1505520"/>
                  </a:xfrm>
                </p:grpSpPr>
                <p:grpSp>
                  <p:nvGrpSpPr>
                    <p:cNvPr id="1511" name=""/>
                    <p:cNvGrpSpPr/>
                    <p:nvPr/>
                  </p:nvGrpSpPr>
                  <p:grpSpPr>
                    <a:xfrm>
                      <a:off x="6370560" y="4144680"/>
                      <a:ext cx="1857240" cy="1379880"/>
                      <a:chOff x="6370560" y="4144680"/>
                      <a:chExt cx="1857240" cy="1379880"/>
                    </a:xfrm>
                  </p:grpSpPr>
                  <p:grpSp>
                    <p:nvGrpSpPr>
                      <p:cNvPr id="1512" name=""/>
                      <p:cNvGrpSpPr/>
                      <p:nvPr/>
                    </p:nvGrpSpPr>
                    <p:grpSpPr>
                      <a:xfrm>
                        <a:off x="6370560" y="4606200"/>
                        <a:ext cx="1857240" cy="918360"/>
                        <a:chOff x="6370560" y="4606200"/>
                        <a:chExt cx="1857240" cy="918360"/>
                      </a:xfrm>
                    </p:grpSpPr>
                    <p:grpSp>
                      <p:nvGrpSpPr>
                        <p:cNvPr id="1513" name=""/>
                        <p:cNvGrpSpPr/>
                        <p:nvPr/>
                      </p:nvGrpSpPr>
                      <p:grpSpPr>
                        <a:xfrm>
                          <a:off x="6386400" y="4606200"/>
                          <a:ext cx="1841400" cy="915480"/>
                          <a:chOff x="6386400" y="4606200"/>
                          <a:chExt cx="1841400" cy="915480"/>
                        </a:xfrm>
                      </p:grpSpPr>
                      <p:sp>
                        <p:nvSpPr>
                          <p:cNvPr id="1514" name=""/>
                          <p:cNvSpPr/>
                          <p:nvPr/>
                        </p:nvSpPr>
                        <p:spPr>
                          <a:xfrm>
                            <a:off x="6386400" y="4809240"/>
                            <a:ext cx="655560" cy="24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7" h="313">
                                <a:moveTo>
                                  <a:pt x="0" y="313"/>
                                </a:moveTo>
                                <a:lnTo>
                                  <a:pt x="55" y="313"/>
                                </a:lnTo>
                                <a:lnTo>
                                  <a:pt x="827" y="11"/>
                                </a:lnTo>
                                <a:lnTo>
                                  <a:pt x="802" y="0"/>
                                </a:lnTo>
                                <a:lnTo>
                                  <a:pt x="0" y="3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515" name=""/>
                          <p:cNvGrpSpPr/>
                          <p:nvPr/>
                        </p:nvGrpSpPr>
                        <p:grpSpPr>
                          <a:xfrm>
                            <a:off x="6543720" y="4606200"/>
                            <a:ext cx="1684080" cy="915480"/>
                            <a:chOff x="6543720" y="4606200"/>
                            <a:chExt cx="1684080" cy="915480"/>
                          </a:xfrm>
                        </p:grpSpPr>
                        <p:sp>
                          <p:nvSpPr>
                            <p:cNvPr id="1516" name=""/>
                            <p:cNvSpPr/>
                            <p:nvPr/>
                          </p:nvSpPr>
                          <p:spPr>
                            <a:xfrm>
                              <a:off x="7218360" y="4979160"/>
                              <a:ext cx="993600" cy="54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53" h="684">
                                  <a:moveTo>
                                    <a:pt x="1253" y="0"/>
                                  </a:moveTo>
                                  <a:lnTo>
                                    <a:pt x="548" y="275"/>
                                  </a:lnTo>
                                  <a:lnTo>
                                    <a:pt x="548" y="309"/>
                                  </a:lnTo>
                                  <a:lnTo>
                                    <a:pt x="541" y="329"/>
                                  </a:lnTo>
                                  <a:lnTo>
                                    <a:pt x="538" y="337"/>
                                  </a:lnTo>
                                  <a:lnTo>
                                    <a:pt x="528" y="350"/>
                                  </a:lnTo>
                                  <a:lnTo>
                                    <a:pt x="394" y="412"/>
                                  </a:lnTo>
                                  <a:lnTo>
                                    <a:pt x="388" y="430"/>
                                  </a:lnTo>
                                  <a:lnTo>
                                    <a:pt x="0" y="594"/>
                                  </a:lnTo>
                                  <a:lnTo>
                                    <a:pt x="0" y="684"/>
                                  </a:lnTo>
                                  <a:lnTo>
                                    <a:pt x="13" y="684"/>
                                  </a:lnTo>
                                  <a:lnTo>
                                    <a:pt x="1240" y="150"/>
                                  </a:lnTo>
                                  <a:lnTo>
                                    <a:pt x="1245" y="147"/>
                                  </a:lnTo>
                                  <a:lnTo>
                                    <a:pt x="1250" y="140"/>
                                  </a:lnTo>
                                  <a:lnTo>
                                    <a:pt x="1253" y="127"/>
                                  </a:lnTo>
                                  <a:lnTo>
                                    <a:pt x="125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0606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17" name=""/>
                            <p:cNvSpPr/>
                            <p:nvPr/>
                          </p:nvSpPr>
                          <p:spPr>
                            <a:xfrm>
                              <a:off x="8091360" y="5018760"/>
                              <a:ext cx="68400" cy="72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7" h="92">
                                  <a:moveTo>
                                    <a:pt x="0" y="37"/>
                                  </a:moveTo>
                                  <a:lnTo>
                                    <a:pt x="87" y="0"/>
                                  </a:lnTo>
                                  <a:lnTo>
                                    <a:pt x="87" y="54"/>
                                  </a:lnTo>
                                  <a:lnTo>
                                    <a:pt x="0" y="92"/>
                                  </a:lnTo>
                                  <a:lnTo>
                                    <a:pt x="0" y="3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518" name=""/>
                            <p:cNvGrpSpPr/>
                            <p:nvPr/>
                          </p:nvGrpSpPr>
                          <p:grpSpPr>
                            <a:xfrm>
                              <a:off x="6543720" y="4606200"/>
                              <a:ext cx="1684080" cy="913680"/>
                              <a:chOff x="6543720" y="4606200"/>
                              <a:chExt cx="1684080" cy="913680"/>
                            </a:xfrm>
                          </p:grpSpPr>
                          <p:sp>
                            <p:nvSpPr>
                              <p:cNvPr id="1519" name=""/>
                              <p:cNvSpPr/>
                              <p:nvPr/>
                            </p:nvSpPr>
                            <p:spPr>
                              <a:xfrm>
                                <a:off x="6958080" y="4683600"/>
                                <a:ext cx="110880" cy="166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0" h="208">
                                    <a:moveTo>
                                      <a:pt x="112" y="0"/>
                                    </a:moveTo>
                                    <a:lnTo>
                                      <a:pt x="140" y="208"/>
                                    </a:lnTo>
                                    <a:lnTo>
                                      <a:pt x="0" y="157"/>
                                    </a:lnTo>
                                    <a:lnTo>
                                      <a:pt x="11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0" name=""/>
                              <p:cNvSpPr/>
                              <p:nvPr/>
                            </p:nvSpPr>
                            <p:spPr>
                              <a:xfrm>
                                <a:off x="6543720" y="4989960"/>
                                <a:ext cx="684000" cy="469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2" h="591">
                                    <a:moveTo>
                                      <a:pt x="0" y="35"/>
                                    </a:moveTo>
                                    <a:lnTo>
                                      <a:pt x="862" y="591"/>
                                    </a:lnTo>
                                    <a:lnTo>
                                      <a:pt x="862" y="510"/>
                                    </a:lnTo>
                                    <a:lnTo>
                                      <a:pt x="26" y="0"/>
                                    </a:lnTo>
                                    <a:lnTo>
                                      <a:pt x="0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1" name=""/>
                              <p:cNvSpPr/>
                              <p:nvPr/>
                            </p:nvSpPr>
                            <p:spPr>
                              <a:xfrm>
                                <a:off x="7218360" y="5169600"/>
                                <a:ext cx="444600" cy="293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61" h="370">
                                    <a:moveTo>
                                      <a:pt x="0" y="370"/>
                                    </a:moveTo>
                                    <a:lnTo>
                                      <a:pt x="0" y="269"/>
                                    </a:lnTo>
                                    <a:lnTo>
                                      <a:pt x="561" y="0"/>
                                    </a:lnTo>
                                    <a:lnTo>
                                      <a:pt x="561" y="132"/>
                                    </a:lnTo>
                                    <a:lnTo>
                                      <a:pt x="0" y="37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2" name=""/>
                              <p:cNvSpPr/>
                              <p:nvPr/>
                            </p:nvSpPr>
                            <p:spPr>
                              <a:xfrm>
                                <a:off x="7442280" y="4869360"/>
                                <a:ext cx="285480" cy="299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61" h="378">
                                    <a:moveTo>
                                      <a:pt x="9" y="0"/>
                                    </a:moveTo>
                                    <a:lnTo>
                                      <a:pt x="0" y="265"/>
                                    </a:lnTo>
                                    <a:lnTo>
                                      <a:pt x="273" y="378"/>
                                    </a:lnTo>
                                    <a:lnTo>
                                      <a:pt x="361" y="170"/>
                                    </a:lnTo>
                                    <a:lnTo>
                                      <a:pt x="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3" name=""/>
                              <p:cNvSpPr/>
                              <p:nvPr/>
                            </p:nvSpPr>
                            <p:spPr>
                              <a:xfrm>
                                <a:off x="7021440" y="4688640"/>
                                <a:ext cx="258840" cy="25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26" h="322">
                                    <a:moveTo>
                                      <a:pt x="23" y="0"/>
                                    </a:moveTo>
                                    <a:lnTo>
                                      <a:pt x="0" y="215"/>
                                    </a:lnTo>
                                    <a:lnTo>
                                      <a:pt x="225" y="322"/>
                                    </a:lnTo>
                                    <a:lnTo>
                                      <a:pt x="326" y="142"/>
                                    </a:lnTo>
                                    <a:lnTo>
                                      <a:pt x="2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4" name=""/>
                              <p:cNvSpPr/>
                              <p:nvPr/>
                            </p:nvSpPr>
                            <p:spPr>
                              <a:xfrm>
                                <a:off x="7373880" y="4896360"/>
                                <a:ext cx="92160" cy="171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5" h="216">
                                    <a:moveTo>
                                      <a:pt x="115" y="0"/>
                                    </a:moveTo>
                                    <a:lnTo>
                                      <a:pt x="115" y="216"/>
                                    </a:lnTo>
                                    <a:lnTo>
                                      <a:pt x="0" y="156"/>
                                    </a:lnTo>
                                    <a:lnTo>
                                      <a:pt x="11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5" name=""/>
                              <p:cNvSpPr/>
                              <p:nvPr/>
                            </p:nvSpPr>
                            <p:spPr>
                              <a:xfrm>
                                <a:off x="6543720" y="5016960"/>
                                <a:ext cx="684000" cy="502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2" h="635">
                                    <a:moveTo>
                                      <a:pt x="862" y="547"/>
                                    </a:moveTo>
                                    <a:lnTo>
                                      <a:pt x="862" y="635"/>
                                    </a:lnTo>
                                    <a:lnTo>
                                      <a:pt x="0" y="8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862" y="54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6" name=""/>
                              <p:cNvSpPr/>
                              <p:nvPr/>
                            </p:nvSpPr>
                            <p:spPr>
                              <a:xfrm>
                                <a:off x="7456320" y="4606200"/>
                                <a:ext cx="771480" cy="311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72" h="391">
                                    <a:moveTo>
                                      <a:pt x="0" y="31"/>
                                    </a:moveTo>
                                    <a:lnTo>
                                      <a:pt x="830" y="391"/>
                                    </a:lnTo>
                                    <a:lnTo>
                                      <a:pt x="972" y="343"/>
                                    </a:lnTo>
                                    <a:lnTo>
                                      <a:pt x="172" y="0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7" name=""/>
                              <p:cNvSpPr/>
                              <p:nvPr/>
                            </p:nvSpPr>
                            <p:spPr>
                              <a:xfrm>
                                <a:off x="8056440" y="4869360"/>
                                <a:ext cx="171360" cy="174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15" h="220">
                                    <a:moveTo>
                                      <a:pt x="215" y="0"/>
                                    </a:moveTo>
                                    <a:lnTo>
                                      <a:pt x="61" y="50"/>
                                    </a:lnTo>
                                    <a:lnTo>
                                      <a:pt x="0" y="220"/>
                                    </a:lnTo>
                                    <a:lnTo>
                                      <a:pt x="215" y="140"/>
                                    </a:lnTo>
                                    <a:lnTo>
                                      <a:pt x="215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8" name=""/>
                              <p:cNvSpPr/>
                              <p:nvPr/>
                            </p:nvSpPr>
                            <p:spPr>
                              <a:xfrm>
                                <a:off x="6943680" y="4629600"/>
                                <a:ext cx="1176480" cy="398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82" h="501">
                                    <a:moveTo>
                                      <a:pt x="663" y="0"/>
                                    </a:moveTo>
                                    <a:lnTo>
                                      <a:pt x="87" y="6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20" y="230"/>
                                    </a:lnTo>
                                    <a:lnTo>
                                      <a:pt x="121" y="81"/>
                                    </a:lnTo>
                                    <a:lnTo>
                                      <a:pt x="383" y="215"/>
                                    </a:lnTo>
                                    <a:lnTo>
                                      <a:pt x="289" y="353"/>
                                    </a:lnTo>
                                    <a:lnTo>
                                      <a:pt x="557" y="496"/>
                                    </a:lnTo>
                                    <a:lnTo>
                                      <a:pt x="653" y="350"/>
                                    </a:lnTo>
                                    <a:lnTo>
                                      <a:pt x="951" y="501"/>
                                    </a:lnTo>
                                    <a:lnTo>
                                      <a:pt x="1482" y="358"/>
                                    </a:lnTo>
                                    <a:lnTo>
                                      <a:pt x="66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9" name=""/>
                              <p:cNvSpPr/>
                              <p:nvPr/>
                            </p:nvSpPr>
                            <p:spPr>
                              <a:xfrm>
                                <a:off x="7647120" y="4906080"/>
                                <a:ext cx="469800" cy="253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2" h="318">
                                    <a:moveTo>
                                      <a:pt x="592" y="0"/>
                                    </a:moveTo>
                                    <a:lnTo>
                                      <a:pt x="532" y="166"/>
                                    </a:lnTo>
                                    <a:lnTo>
                                      <a:pt x="0" y="318"/>
                                    </a:lnTo>
                                    <a:lnTo>
                                      <a:pt x="55" y="146"/>
                                    </a:lnTo>
                                    <a:lnTo>
                                      <a:pt x="59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0" name=""/>
                              <p:cNvSpPr/>
                              <p:nvPr/>
                            </p:nvSpPr>
                            <p:spPr>
                              <a:xfrm>
                                <a:off x="7647120" y="5032800"/>
                                <a:ext cx="426960" cy="18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38" h="230">
                                    <a:moveTo>
                                      <a:pt x="0" y="155"/>
                                    </a:moveTo>
                                    <a:lnTo>
                                      <a:pt x="0" y="230"/>
                                    </a:lnTo>
                                    <a:lnTo>
                                      <a:pt x="538" y="0"/>
                                    </a:lnTo>
                                    <a:lnTo>
                                      <a:pt x="0" y="15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1" name=""/>
                              <p:cNvSpPr/>
                              <p:nvPr/>
                            </p:nvSpPr>
                            <p:spPr>
                              <a:xfrm>
                                <a:off x="6561000" y="4818600"/>
                                <a:ext cx="1096920" cy="579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2" h="730">
                                    <a:moveTo>
                                      <a:pt x="0" y="218"/>
                                    </a:moveTo>
                                    <a:lnTo>
                                      <a:pt x="835" y="730"/>
                                    </a:lnTo>
                                    <a:lnTo>
                                      <a:pt x="1338" y="440"/>
                                    </a:lnTo>
                                    <a:lnTo>
                                      <a:pt x="1382" y="421"/>
                                    </a:lnTo>
                                    <a:lnTo>
                                      <a:pt x="580" y="0"/>
                                    </a:lnTo>
                                    <a:lnTo>
                                      <a:pt x="0" y="21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2" name=""/>
                              <p:cNvSpPr/>
                              <p:nvPr/>
                            </p:nvSpPr>
                            <p:spPr>
                              <a:xfrm>
                                <a:off x="7218360" y="5145840"/>
                                <a:ext cx="439560" cy="252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55" h="319">
                                    <a:moveTo>
                                      <a:pt x="0" y="319"/>
                                    </a:moveTo>
                                    <a:lnTo>
                                      <a:pt x="508" y="19"/>
                                    </a:lnTo>
                                    <a:lnTo>
                                      <a:pt x="555" y="0"/>
                                    </a:lnTo>
                                    <a:lnTo>
                                      <a:pt x="555" y="37"/>
                                    </a:lnTo>
                                    <a:lnTo>
                                      <a:pt x="0" y="31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a0a0a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33" name=""/>
                            <p:cNvSpPr/>
                            <p:nvPr/>
                          </p:nvSpPr>
                          <p:spPr>
                            <a:xfrm>
                              <a:off x="7210440" y="4875840"/>
                              <a:ext cx="183960" cy="96480"/>
                            </a:xfrm>
                            <a:prstGeom prst="line">
                              <a:avLst/>
                            </a:prstGeom>
                            <a:ln w="792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4" name=""/>
                        <p:cNvGrpSpPr/>
                        <p:nvPr/>
                      </p:nvGrpSpPr>
                      <p:grpSpPr>
                        <a:xfrm>
                          <a:off x="6616800" y="4834440"/>
                          <a:ext cx="985680" cy="510120"/>
                          <a:chOff x="6616800" y="4834440"/>
                          <a:chExt cx="985680" cy="510120"/>
                        </a:xfrm>
                      </p:grpSpPr>
                      <p:grpSp>
                        <p:nvGrpSpPr>
                          <p:cNvPr id="1535" name=""/>
                          <p:cNvGrpSpPr/>
                          <p:nvPr/>
                        </p:nvGrpSpPr>
                        <p:grpSpPr>
                          <a:xfrm>
                            <a:off x="6616800" y="4842000"/>
                            <a:ext cx="984240" cy="502560"/>
                            <a:chOff x="6616800" y="4842000"/>
                            <a:chExt cx="984240" cy="502560"/>
                          </a:xfrm>
                        </p:grpSpPr>
                        <p:sp>
                          <p:nvSpPr>
                            <p:cNvPr id="1536" name=""/>
                            <p:cNvSpPr/>
                            <p:nvPr/>
                          </p:nvSpPr>
                          <p:spPr>
                            <a:xfrm>
                              <a:off x="6851520" y="5052960"/>
                              <a:ext cx="263520" cy="153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32" h="195">
                                  <a:moveTo>
                                    <a:pt x="57" y="0"/>
                                  </a:moveTo>
                                  <a:lnTo>
                                    <a:pt x="332" y="166"/>
                                  </a:lnTo>
                                  <a:lnTo>
                                    <a:pt x="276" y="195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7" name=""/>
                            <p:cNvSpPr/>
                            <p:nvPr/>
                          </p:nvSpPr>
                          <p:spPr>
                            <a:xfrm>
                              <a:off x="7067520" y="5181480"/>
                              <a:ext cx="128520" cy="75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2" h="97">
                                  <a:moveTo>
                                    <a:pt x="60" y="0"/>
                                  </a:moveTo>
                                  <a:lnTo>
                                    <a:pt x="162" y="62"/>
                                  </a:lnTo>
                                  <a:lnTo>
                                    <a:pt x="106" y="97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160" bIns="29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8" name=""/>
                            <p:cNvSpPr/>
                            <p:nvPr/>
                          </p:nvSpPr>
                          <p:spPr>
                            <a:xfrm>
                              <a:off x="7113600" y="5225760"/>
                              <a:ext cx="139680" cy="82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7" h="103">
                                  <a:moveTo>
                                    <a:pt x="105" y="0"/>
                                  </a:moveTo>
                                  <a:lnTo>
                                    <a:pt x="177" y="48"/>
                                  </a:lnTo>
                                  <a:lnTo>
                                    <a:pt x="117" y="87"/>
                                  </a:lnTo>
                                  <a:lnTo>
                                    <a:pt x="107" y="77"/>
                                  </a:lnTo>
                                  <a:lnTo>
                                    <a:pt x="65" y="103"/>
                                  </a:lnTo>
                                  <a:lnTo>
                                    <a:pt x="0" y="62"/>
                                  </a:lnTo>
                                  <a:lnTo>
                                    <a:pt x="10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5640" bIns="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9" name=""/>
                            <p:cNvSpPr/>
                            <p:nvPr/>
                          </p:nvSpPr>
                          <p:spPr>
                            <a:xfrm>
                              <a:off x="7208640" y="5262480"/>
                              <a:ext cx="133560" cy="82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9" h="105">
                                  <a:moveTo>
                                    <a:pt x="57" y="0"/>
                                  </a:moveTo>
                                  <a:lnTo>
                                    <a:pt x="169" y="73"/>
                                  </a:lnTo>
                                  <a:lnTo>
                                    <a:pt x="109" y="105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5280" bIns="35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0" name=""/>
                            <p:cNvSpPr/>
                            <p:nvPr/>
                          </p:nvSpPr>
                          <p:spPr>
                            <a:xfrm>
                              <a:off x="6783480" y="5011560"/>
                              <a:ext cx="112680" cy="66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2" h="83">
                                  <a:moveTo>
                                    <a:pt x="57" y="0"/>
                                  </a:moveTo>
                                  <a:lnTo>
                                    <a:pt x="142" y="55"/>
                                  </a:lnTo>
                                  <a:lnTo>
                                    <a:pt x="83" y="83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9440" bIns="19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1" name=""/>
                            <p:cNvSpPr/>
                            <p:nvPr/>
                          </p:nvSpPr>
                          <p:spPr>
                            <a:xfrm>
                              <a:off x="6702480" y="4964040"/>
                              <a:ext cx="10152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9" h="73">
                                  <a:moveTo>
                                    <a:pt x="65" y="0"/>
                                  </a:moveTo>
                                  <a:lnTo>
                                    <a:pt x="129" y="40"/>
                                  </a:lnTo>
                                  <a:lnTo>
                                    <a:pt x="65" y="73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2" name=""/>
                            <p:cNvSpPr/>
                            <p:nvPr/>
                          </p:nvSpPr>
                          <p:spPr>
                            <a:xfrm>
                              <a:off x="6646680" y="4992480"/>
                              <a:ext cx="9540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8" h="68">
                                  <a:moveTo>
                                    <a:pt x="58" y="0"/>
                                  </a:moveTo>
                                  <a:lnTo>
                                    <a:pt x="118" y="40"/>
                                  </a:lnTo>
                                  <a:lnTo>
                                    <a:pt x="57" y="68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3" name=""/>
                            <p:cNvSpPr/>
                            <p:nvPr/>
                          </p:nvSpPr>
                          <p:spPr>
                            <a:xfrm>
                              <a:off x="6694560" y="5021280"/>
                              <a:ext cx="8244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3" h="65">
                                  <a:moveTo>
                                    <a:pt x="60" y="0"/>
                                  </a:moveTo>
                                  <a:lnTo>
                                    <a:pt x="103" y="33"/>
                                  </a:lnTo>
                                  <a:lnTo>
                                    <a:pt x="53" y="6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4" name=""/>
                            <p:cNvSpPr/>
                            <p:nvPr/>
                          </p:nvSpPr>
                          <p:spPr>
                            <a:xfrm>
                              <a:off x="6616800" y="4973400"/>
                              <a:ext cx="7596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6" h="53">
                                  <a:moveTo>
                                    <a:pt x="60" y="0"/>
                                  </a:moveTo>
                                  <a:lnTo>
                                    <a:pt x="96" y="25"/>
                                  </a:lnTo>
                                  <a:lnTo>
                                    <a:pt x="35" y="53"/>
                                  </a:lnTo>
                                  <a:lnTo>
                                    <a:pt x="0" y="26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5" name=""/>
                            <p:cNvSpPr/>
                            <p:nvPr/>
                          </p:nvSpPr>
                          <p:spPr>
                            <a:xfrm>
                              <a:off x="7261200" y="5230800"/>
                              <a:ext cx="133200" cy="82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9" h="103">
                                  <a:moveTo>
                                    <a:pt x="57" y="0"/>
                                  </a:moveTo>
                                  <a:lnTo>
                                    <a:pt x="169" y="68"/>
                                  </a:lnTo>
                                  <a:lnTo>
                                    <a:pt x="109" y="103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5280" bIns="35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6" name=""/>
                            <p:cNvSpPr/>
                            <p:nvPr/>
                          </p:nvSpPr>
                          <p:spPr>
                            <a:xfrm>
                              <a:off x="7318440" y="5200560"/>
                              <a:ext cx="131760" cy="80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5" h="102">
                                  <a:moveTo>
                                    <a:pt x="55" y="0"/>
                                  </a:moveTo>
                                  <a:lnTo>
                                    <a:pt x="165" y="69"/>
                                  </a:lnTo>
                                  <a:lnTo>
                                    <a:pt x="109" y="102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5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3840" bIns="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7" name=""/>
                            <p:cNvSpPr/>
                            <p:nvPr/>
                          </p:nvSpPr>
                          <p:spPr>
                            <a:xfrm>
                              <a:off x="7372440" y="5170320"/>
                              <a:ext cx="134640" cy="77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8" h="98">
                                  <a:moveTo>
                                    <a:pt x="51" y="0"/>
                                  </a:moveTo>
                                  <a:lnTo>
                                    <a:pt x="168" y="67"/>
                                  </a:lnTo>
                                  <a:lnTo>
                                    <a:pt x="106" y="98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5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600" bIns="30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8" name=""/>
                            <p:cNvSpPr/>
                            <p:nvPr/>
                          </p:nvSpPr>
                          <p:spPr>
                            <a:xfrm>
                              <a:off x="7213680" y="5205240"/>
                              <a:ext cx="9180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7" h="72">
                                  <a:moveTo>
                                    <a:pt x="62" y="0"/>
                                  </a:moveTo>
                                  <a:lnTo>
                                    <a:pt x="117" y="35"/>
                                  </a:lnTo>
                                  <a:lnTo>
                                    <a:pt x="57" y="7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9" name=""/>
                            <p:cNvSpPr/>
                            <p:nvPr/>
                          </p:nvSpPr>
                          <p:spPr>
                            <a:xfrm>
                              <a:off x="7273800" y="5175000"/>
                              <a:ext cx="8892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72">
                                  <a:moveTo>
                                    <a:pt x="57" y="0"/>
                                  </a:moveTo>
                                  <a:lnTo>
                                    <a:pt x="112" y="35"/>
                                  </a:lnTo>
                                  <a:lnTo>
                                    <a:pt x="52" y="7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0" name=""/>
                            <p:cNvSpPr/>
                            <p:nvPr/>
                          </p:nvSpPr>
                          <p:spPr>
                            <a:xfrm>
                              <a:off x="7326360" y="5145120"/>
                              <a:ext cx="903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7">
                                  <a:moveTo>
                                    <a:pt x="59" y="0"/>
                                  </a:moveTo>
                                  <a:lnTo>
                                    <a:pt x="114" y="34"/>
                                  </a:lnTo>
                                  <a:lnTo>
                                    <a:pt x="55" y="67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1" name=""/>
                            <p:cNvSpPr/>
                            <p:nvPr/>
                          </p:nvSpPr>
                          <p:spPr>
                            <a:xfrm>
                              <a:off x="7381800" y="5114880"/>
                              <a:ext cx="8892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7">
                                  <a:moveTo>
                                    <a:pt x="59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4" y="67"/>
                                  </a:lnTo>
                                  <a:lnTo>
                                    <a:pt x="0" y="38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2" name=""/>
                            <p:cNvSpPr/>
                            <p:nvPr/>
                          </p:nvSpPr>
                          <p:spPr>
                            <a:xfrm>
                              <a:off x="7434360" y="5094000"/>
                              <a:ext cx="7596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7" h="60">
                                  <a:moveTo>
                                    <a:pt x="45" y="0"/>
                                  </a:moveTo>
                                  <a:lnTo>
                                    <a:pt x="97" y="32"/>
                                  </a:lnTo>
                                  <a:lnTo>
                                    <a:pt x="52" y="60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3" name=""/>
                            <p:cNvSpPr/>
                            <p:nvPr/>
                          </p:nvSpPr>
                          <p:spPr>
                            <a:xfrm>
                              <a:off x="7475400" y="5116320"/>
                              <a:ext cx="8100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0" h="61">
                                  <a:moveTo>
                                    <a:pt x="48" y="0"/>
                                  </a:moveTo>
                                  <a:lnTo>
                                    <a:pt x="100" y="30"/>
                                  </a:lnTo>
                                  <a:lnTo>
                                    <a:pt x="53" y="61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4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4" name=""/>
                            <p:cNvSpPr/>
                            <p:nvPr/>
                          </p:nvSpPr>
                          <p:spPr>
                            <a:xfrm>
                              <a:off x="7426440" y="5140080"/>
                              <a:ext cx="8892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6">
                                  <a:moveTo>
                                    <a:pt x="60" y="0"/>
                                  </a:moveTo>
                                  <a:lnTo>
                                    <a:pt x="114" y="30"/>
                                  </a:lnTo>
                                  <a:lnTo>
                                    <a:pt x="54" y="66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5" name=""/>
                            <p:cNvSpPr/>
                            <p:nvPr/>
                          </p:nvSpPr>
                          <p:spPr>
                            <a:xfrm>
                              <a:off x="7523280" y="5140080"/>
                              <a:ext cx="7776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9" h="63">
                                  <a:moveTo>
                                    <a:pt x="45" y="0"/>
                                  </a:moveTo>
                                  <a:lnTo>
                                    <a:pt x="99" y="31"/>
                                  </a:lnTo>
                                  <a:lnTo>
                                    <a:pt x="52" y="63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6" name=""/>
                            <p:cNvSpPr/>
                            <p:nvPr/>
                          </p:nvSpPr>
                          <p:spPr>
                            <a:xfrm>
                              <a:off x="7470720" y="5162400"/>
                              <a:ext cx="903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70">
                                  <a:moveTo>
                                    <a:pt x="59" y="0"/>
                                  </a:moveTo>
                                  <a:lnTo>
                                    <a:pt x="114" y="33"/>
                                  </a:lnTo>
                                  <a:lnTo>
                                    <a:pt x="52" y="70"/>
                                  </a:lnTo>
                                  <a:lnTo>
                                    <a:pt x="0" y="37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7" name=""/>
                            <p:cNvSpPr/>
                            <p:nvPr/>
                          </p:nvSpPr>
                          <p:spPr>
                            <a:xfrm>
                              <a:off x="7224840" y="5148000"/>
                              <a:ext cx="9036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6" h="70">
                                  <a:moveTo>
                                    <a:pt x="59" y="0"/>
                                  </a:moveTo>
                                  <a:lnTo>
                                    <a:pt x="116" y="35"/>
                                  </a:lnTo>
                                  <a:lnTo>
                                    <a:pt x="57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8" name=""/>
                            <p:cNvSpPr/>
                            <p:nvPr/>
                          </p:nvSpPr>
                          <p:spPr>
                            <a:xfrm>
                              <a:off x="7280280" y="5119560"/>
                              <a:ext cx="903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8">
                                  <a:moveTo>
                                    <a:pt x="60" y="0"/>
                                  </a:moveTo>
                                  <a:lnTo>
                                    <a:pt x="115" y="35"/>
                                  </a:lnTo>
                                  <a:lnTo>
                                    <a:pt x="56" y="68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9" name=""/>
                            <p:cNvSpPr/>
                            <p:nvPr/>
                          </p:nvSpPr>
                          <p:spPr>
                            <a:xfrm>
                              <a:off x="7338960" y="5091120"/>
                              <a:ext cx="8892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7">
                                  <a:moveTo>
                                    <a:pt x="59" y="0"/>
                                  </a:moveTo>
                                  <a:lnTo>
                                    <a:pt x="112" y="30"/>
                                  </a:lnTo>
                                  <a:lnTo>
                                    <a:pt x="52" y="67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0" name=""/>
                            <p:cNvSpPr/>
                            <p:nvPr/>
                          </p:nvSpPr>
                          <p:spPr>
                            <a:xfrm>
                              <a:off x="7391520" y="5070240"/>
                              <a:ext cx="7596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" h="59">
                                  <a:moveTo>
                                    <a:pt x="43" y="0"/>
                                  </a:moveTo>
                                  <a:lnTo>
                                    <a:pt x="95" y="32"/>
                                  </a:lnTo>
                                  <a:lnTo>
                                    <a:pt x="48" y="59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1" name=""/>
                            <p:cNvSpPr/>
                            <p:nvPr/>
                          </p:nvSpPr>
                          <p:spPr>
                            <a:xfrm>
                              <a:off x="7167600" y="5175000"/>
                              <a:ext cx="93600" cy="58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8" h="73">
                                  <a:moveTo>
                                    <a:pt x="60" y="0"/>
                                  </a:moveTo>
                                  <a:lnTo>
                                    <a:pt x="118" y="36"/>
                                  </a:lnTo>
                                  <a:lnTo>
                                    <a:pt x="58" y="73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2" name=""/>
                            <p:cNvSpPr/>
                            <p:nvPr/>
                          </p:nvSpPr>
                          <p:spPr>
                            <a:xfrm>
                              <a:off x="7120080" y="5148000"/>
                              <a:ext cx="91800" cy="58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7" h="73">
                                  <a:moveTo>
                                    <a:pt x="62" y="0"/>
                                  </a:moveTo>
                                  <a:lnTo>
                                    <a:pt x="117" y="36"/>
                                  </a:lnTo>
                                  <a:lnTo>
                                    <a:pt x="59" y="73"/>
                                  </a:lnTo>
                                  <a:lnTo>
                                    <a:pt x="0" y="36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3" name=""/>
                            <p:cNvSpPr/>
                            <p:nvPr/>
                          </p:nvSpPr>
                          <p:spPr>
                            <a:xfrm>
                              <a:off x="7180200" y="5119560"/>
                              <a:ext cx="9036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71">
                                  <a:moveTo>
                                    <a:pt x="60" y="0"/>
                                  </a:moveTo>
                                  <a:lnTo>
                                    <a:pt x="114" y="36"/>
                                  </a:lnTo>
                                  <a:lnTo>
                                    <a:pt x="54" y="71"/>
                                  </a:lnTo>
                                  <a:lnTo>
                                    <a:pt x="0" y="36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4" name=""/>
                            <p:cNvSpPr/>
                            <p:nvPr/>
                          </p:nvSpPr>
                          <p:spPr>
                            <a:xfrm>
                              <a:off x="7237440" y="5095800"/>
                              <a:ext cx="8892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70">
                                  <a:moveTo>
                                    <a:pt x="59" y="0"/>
                                  </a:moveTo>
                                  <a:lnTo>
                                    <a:pt x="112" y="33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5" name=""/>
                            <p:cNvSpPr/>
                            <p:nvPr/>
                          </p:nvSpPr>
                          <p:spPr>
                            <a:xfrm>
                              <a:off x="7294680" y="5065560"/>
                              <a:ext cx="871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7">
                                  <a:moveTo>
                                    <a:pt x="58" y="0"/>
                                  </a:moveTo>
                                  <a:lnTo>
                                    <a:pt x="110" y="30"/>
                                  </a:lnTo>
                                  <a:lnTo>
                                    <a:pt x="52" y="67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6" name=""/>
                            <p:cNvSpPr/>
                            <p:nvPr/>
                          </p:nvSpPr>
                          <p:spPr>
                            <a:xfrm>
                              <a:off x="7346880" y="5046480"/>
                              <a:ext cx="7452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" h="59">
                                  <a:moveTo>
                                    <a:pt x="45" y="0"/>
                                  </a:moveTo>
                                  <a:lnTo>
                                    <a:pt x="95" y="32"/>
                                  </a:lnTo>
                                  <a:lnTo>
                                    <a:pt x="52" y="59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7" name=""/>
                            <p:cNvSpPr/>
                            <p:nvPr/>
                          </p:nvSpPr>
                          <p:spPr>
                            <a:xfrm>
                              <a:off x="7135920" y="5095800"/>
                              <a:ext cx="903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3" h="70">
                                  <a:moveTo>
                                    <a:pt x="58" y="0"/>
                                  </a:moveTo>
                                  <a:lnTo>
                                    <a:pt x="113" y="35"/>
                                  </a:lnTo>
                                  <a:lnTo>
                                    <a:pt x="56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8" name=""/>
                            <p:cNvSpPr/>
                            <p:nvPr/>
                          </p:nvSpPr>
                          <p:spPr>
                            <a:xfrm>
                              <a:off x="7191360" y="5068800"/>
                              <a:ext cx="921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7" h="70">
                                  <a:moveTo>
                                    <a:pt x="61" y="0"/>
                                  </a:moveTo>
                                  <a:lnTo>
                                    <a:pt x="117" y="33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69" name=""/>
                            <p:cNvSpPr/>
                            <p:nvPr/>
                          </p:nvSpPr>
                          <p:spPr>
                            <a:xfrm>
                              <a:off x="7250040" y="5041800"/>
                              <a:ext cx="8892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5">
                                  <a:moveTo>
                                    <a:pt x="58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3" y="65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0" name=""/>
                            <p:cNvSpPr/>
                            <p:nvPr/>
                          </p:nvSpPr>
                          <p:spPr>
                            <a:xfrm>
                              <a:off x="7304040" y="5024160"/>
                              <a:ext cx="74520" cy="42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3">
                                  <a:moveTo>
                                    <a:pt x="43" y="0"/>
                                  </a:moveTo>
                                  <a:lnTo>
                                    <a:pt x="93" y="28"/>
                                  </a:lnTo>
                                  <a:lnTo>
                                    <a:pt x="50" y="53"/>
                                  </a:lnTo>
                                  <a:lnTo>
                                    <a:pt x="0" y="21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60" bIns="-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1" name=""/>
                            <p:cNvSpPr/>
                            <p:nvPr/>
                          </p:nvSpPr>
                          <p:spPr>
                            <a:xfrm>
                              <a:off x="7074000" y="5122800"/>
                              <a:ext cx="9504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0" h="72">
                                  <a:moveTo>
                                    <a:pt x="63" y="0"/>
                                  </a:moveTo>
                                  <a:lnTo>
                                    <a:pt x="120" y="35"/>
                                  </a:lnTo>
                                  <a:lnTo>
                                    <a:pt x="61" y="7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2" name=""/>
                            <p:cNvSpPr/>
                            <p:nvPr/>
                          </p:nvSpPr>
                          <p:spPr>
                            <a:xfrm>
                              <a:off x="7032600" y="5097240"/>
                              <a:ext cx="8892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70">
                                  <a:moveTo>
                                    <a:pt x="60" y="0"/>
                                  </a:moveTo>
                                  <a:lnTo>
                                    <a:pt x="112" y="34"/>
                                  </a:lnTo>
                                  <a:lnTo>
                                    <a:pt x="53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3" name=""/>
                            <p:cNvSpPr/>
                            <p:nvPr/>
                          </p:nvSpPr>
                          <p:spPr>
                            <a:xfrm>
                              <a:off x="7089840" y="5070240"/>
                              <a:ext cx="9036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70">
                                  <a:moveTo>
                                    <a:pt x="60" y="0"/>
                                  </a:moveTo>
                                  <a:lnTo>
                                    <a:pt x="115" y="35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4" name=""/>
                            <p:cNvSpPr/>
                            <p:nvPr/>
                          </p:nvSpPr>
                          <p:spPr>
                            <a:xfrm>
                              <a:off x="7146720" y="5043240"/>
                              <a:ext cx="8892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1" h="70">
                                  <a:moveTo>
                                    <a:pt x="58" y="0"/>
                                  </a:moveTo>
                                  <a:lnTo>
                                    <a:pt x="111" y="33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5" name=""/>
                            <p:cNvSpPr/>
                            <p:nvPr/>
                          </p:nvSpPr>
                          <p:spPr>
                            <a:xfrm>
                              <a:off x="7203960" y="5018040"/>
                              <a:ext cx="8748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1" h="65">
                                  <a:moveTo>
                                    <a:pt x="59" y="0"/>
                                  </a:moveTo>
                                  <a:lnTo>
                                    <a:pt x="111" y="32"/>
                                  </a:lnTo>
                                  <a:lnTo>
                                    <a:pt x="52" y="65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6" name=""/>
                            <p:cNvSpPr/>
                            <p:nvPr/>
                          </p:nvSpPr>
                          <p:spPr>
                            <a:xfrm>
                              <a:off x="7259760" y="5000400"/>
                              <a:ext cx="7272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1" h="55">
                                  <a:moveTo>
                                    <a:pt x="43" y="0"/>
                                  </a:moveTo>
                                  <a:lnTo>
                                    <a:pt x="91" y="30"/>
                                  </a:lnTo>
                                  <a:lnTo>
                                    <a:pt x="48" y="55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7" name=""/>
                            <p:cNvSpPr/>
                            <p:nvPr/>
                          </p:nvSpPr>
                          <p:spPr>
                            <a:xfrm>
                              <a:off x="7047000" y="5046480"/>
                              <a:ext cx="871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9">
                                  <a:moveTo>
                                    <a:pt x="58" y="0"/>
                                  </a:moveTo>
                                  <a:lnTo>
                                    <a:pt x="110" y="34"/>
                                  </a:lnTo>
                                  <a:lnTo>
                                    <a:pt x="51" y="69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8" name=""/>
                            <p:cNvSpPr/>
                            <p:nvPr/>
                          </p:nvSpPr>
                          <p:spPr>
                            <a:xfrm>
                              <a:off x="7105680" y="5019480"/>
                              <a:ext cx="8568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9" h="67">
                                  <a:moveTo>
                                    <a:pt x="60" y="0"/>
                                  </a:moveTo>
                                  <a:lnTo>
                                    <a:pt x="109" y="32"/>
                                  </a:lnTo>
                                  <a:lnTo>
                                    <a:pt x="50" y="67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79" name=""/>
                            <p:cNvSpPr/>
                            <p:nvPr/>
                          </p:nvSpPr>
                          <p:spPr>
                            <a:xfrm>
                              <a:off x="7161120" y="499428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7">
                                  <a:moveTo>
                                    <a:pt x="60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2" y="67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0" name=""/>
                            <p:cNvSpPr/>
                            <p:nvPr/>
                          </p:nvSpPr>
                          <p:spPr>
                            <a:xfrm>
                              <a:off x="7215120" y="4976640"/>
                              <a:ext cx="74520" cy="44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7">
                                  <a:moveTo>
                                    <a:pt x="41" y="0"/>
                                  </a:moveTo>
                                  <a:lnTo>
                                    <a:pt x="93" y="30"/>
                                  </a:lnTo>
                                  <a:lnTo>
                                    <a:pt x="53" y="57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1" name=""/>
                            <p:cNvSpPr/>
                            <p:nvPr/>
                          </p:nvSpPr>
                          <p:spPr>
                            <a:xfrm>
                              <a:off x="6989760" y="5072040"/>
                              <a:ext cx="921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8">
                                  <a:moveTo>
                                    <a:pt x="60" y="0"/>
                                  </a:moveTo>
                                  <a:lnTo>
                                    <a:pt x="115" y="35"/>
                                  </a:lnTo>
                                  <a:lnTo>
                                    <a:pt x="48" y="68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2" name=""/>
                            <p:cNvSpPr/>
                            <p:nvPr/>
                          </p:nvSpPr>
                          <p:spPr>
                            <a:xfrm>
                              <a:off x="6942240" y="5046480"/>
                              <a:ext cx="903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9">
                                  <a:moveTo>
                                    <a:pt x="68" y="0"/>
                                  </a:moveTo>
                                  <a:lnTo>
                                    <a:pt x="115" y="34"/>
                                  </a:lnTo>
                                  <a:lnTo>
                                    <a:pt x="55" y="69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3" name=""/>
                            <p:cNvSpPr/>
                            <p:nvPr/>
                          </p:nvSpPr>
                          <p:spPr>
                            <a:xfrm>
                              <a:off x="7000920" y="5024160"/>
                              <a:ext cx="9036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3">
                                  <a:moveTo>
                                    <a:pt x="62" y="0"/>
                                  </a:moveTo>
                                  <a:lnTo>
                                    <a:pt x="115" y="30"/>
                                  </a:lnTo>
                                  <a:lnTo>
                                    <a:pt x="54" y="63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4" name=""/>
                            <p:cNvSpPr/>
                            <p:nvPr/>
                          </p:nvSpPr>
                          <p:spPr>
                            <a:xfrm>
                              <a:off x="7058160" y="4994280"/>
                              <a:ext cx="903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3" h="69">
                                  <a:moveTo>
                                    <a:pt x="61" y="0"/>
                                  </a:moveTo>
                                  <a:lnTo>
                                    <a:pt x="113" y="34"/>
                                  </a:lnTo>
                                  <a:lnTo>
                                    <a:pt x="55" y="69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5" name=""/>
                            <p:cNvSpPr/>
                            <p:nvPr/>
                          </p:nvSpPr>
                          <p:spPr>
                            <a:xfrm>
                              <a:off x="7113600" y="4970520"/>
                              <a:ext cx="9360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7" h="65">
                                  <a:moveTo>
                                    <a:pt x="63" y="0"/>
                                  </a:moveTo>
                                  <a:lnTo>
                                    <a:pt x="117" y="30"/>
                                  </a:lnTo>
                                  <a:lnTo>
                                    <a:pt x="53" y="65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6" name=""/>
                            <p:cNvSpPr/>
                            <p:nvPr/>
                          </p:nvSpPr>
                          <p:spPr>
                            <a:xfrm>
                              <a:off x="7172280" y="4952880"/>
                              <a:ext cx="7308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5">
                                  <a:moveTo>
                                    <a:pt x="39" y="0"/>
                                  </a:moveTo>
                                  <a:lnTo>
                                    <a:pt x="92" y="33"/>
                                  </a:lnTo>
                                  <a:lnTo>
                                    <a:pt x="54" y="55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3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7" name=""/>
                            <p:cNvSpPr/>
                            <p:nvPr/>
                          </p:nvSpPr>
                          <p:spPr>
                            <a:xfrm>
                              <a:off x="6962760" y="5000400"/>
                              <a:ext cx="8424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6" h="62">
                                  <a:moveTo>
                                    <a:pt x="64" y="0"/>
                                  </a:moveTo>
                                  <a:lnTo>
                                    <a:pt x="106" y="30"/>
                                  </a:lnTo>
                                  <a:lnTo>
                                    <a:pt x="44" y="62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8" name=""/>
                            <p:cNvSpPr/>
                            <p:nvPr/>
                          </p:nvSpPr>
                          <p:spPr>
                            <a:xfrm>
                              <a:off x="7020000" y="4975200"/>
                              <a:ext cx="8568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7" h="60">
                                  <a:moveTo>
                                    <a:pt x="62" y="0"/>
                                  </a:moveTo>
                                  <a:lnTo>
                                    <a:pt x="107" y="29"/>
                                  </a:lnTo>
                                  <a:lnTo>
                                    <a:pt x="44" y="60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89" name=""/>
                            <p:cNvSpPr/>
                            <p:nvPr/>
                          </p:nvSpPr>
                          <p:spPr>
                            <a:xfrm>
                              <a:off x="7072200" y="4946400"/>
                              <a:ext cx="889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3">
                                  <a:moveTo>
                                    <a:pt x="68" y="0"/>
                                  </a:moveTo>
                                  <a:lnTo>
                                    <a:pt x="112" y="28"/>
                                  </a:lnTo>
                                  <a:lnTo>
                                    <a:pt x="48" y="63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0" name=""/>
                            <p:cNvSpPr/>
                            <p:nvPr/>
                          </p:nvSpPr>
                          <p:spPr>
                            <a:xfrm>
                              <a:off x="7129440" y="4929120"/>
                              <a:ext cx="7128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5">
                                  <a:moveTo>
                                    <a:pt x="42" y="0"/>
                                  </a:moveTo>
                                  <a:lnTo>
                                    <a:pt x="90" y="35"/>
                                  </a:lnTo>
                                  <a:lnTo>
                                    <a:pt x="52" y="55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1" name=""/>
                            <p:cNvSpPr/>
                            <p:nvPr/>
                          </p:nvSpPr>
                          <p:spPr>
                            <a:xfrm>
                              <a:off x="6905520" y="5025960"/>
                              <a:ext cx="85680" cy="47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6" h="60">
                                  <a:moveTo>
                                    <a:pt x="66" y="0"/>
                                  </a:moveTo>
                                  <a:lnTo>
                                    <a:pt x="106" y="25"/>
                                  </a:lnTo>
                                  <a:lnTo>
                                    <a:pt x="41" y="60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" bIns="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2" name=""/>
                            <p:cNvSpPr/>
                            <p:nvPr/>
                          </p:nvSpPr>
                          <p:spPr>
                            <a:xfrm>
                              <a:off x="6912000" y="4970520"/>
                              <a:ext cx="9684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2" h="70">
                                  <a:moveTo>
                                    <a:pt x="64" y="0"/>
                                  </a:moveTo>
                                  <a:lnTo>
                                    <a:pt x="122" y="37"/>
                                  </a:lnTo>
                                  <a:lnTo>
                                    <a:pt x="64" y="70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3" name=""/>
                            <p:cNvSpPr/>
                            <p:nvPr/>
                          </p:nvSpPr>
                          <p:spPr>
                            <a:xfrm>
                              <a:off x="6969240" y="4944960"/>
                              <a:ext cx="9684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4" h="68">
                                  <a:moveTo>
                                    <a:pt x="65" y="0"/>
                                  </a:moveTo>
                                  <a:lnTo>
                                    <a:pt x="124" y="38"/>
                                  </a:lnTo>
                                  <a:lnTo>
                                    <a:pt x="60" y="68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4" name=""/>
                            <p:cNvSpPr/>
                            <p:nvPr/>
                          </p:nvSpPr>
                          <p:spPr>
                            <a:xfrm>
                              <a:off x="7024680" y="4921200"/>
                              <a:ext cx="9684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2" h="68">
                                  <a:moveTo>
                                    <a:pt x="63" y="0"/>
                                  </a:moveTo>
                                  <a:lnTo>
                                    <a:pt x="122" y="34"/>
                                  </a:lnTo>
                                  <a:lnTo>
                                    <a:pt x="60" y="68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5" name=""/>
                            <p:cNvSpPr/>
                            <p:nvPr/>
                          </p:nvSpPr>
                          <p:spPr>
                            <a:xfrm>
                              <a:off x="7083360" y="4905360"/>
                              <a:ext cx="7452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4" h="53">
                                  <a:moveTo>
                                    <a:pt x="42" y="0"/>
                                  </a:moveTo>
                                  <a:lnTo>
                                    <a:pt x="94" y="32"/>
                                  </a:lnTo>
                                  <a:lnTo>
                                    <a:pt x="57" y="53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6" name=""/>
                            <p:cNvSpPr/>
                            <p:nvPr/>
                          </p:nvSpPr>
                          <p:spPr>
                            <a:xfrm>
                              <a:off x="6851520" y="4994280"/>
                              <a:ext cx="10332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74">
                                  <a:moveTo>
                                    <a:pt x="67" y="0"/>
                                  </a:moveTo>
                                  <a:lnTo>
                                    <a:pt x="130" y="39"/>
                                  </a:lnTo>
                                  <a:lnTo>
                                    <a:pt x="69" y="74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7" name=""/>
                            <p:cNvSpPr/>
                            <p:nvPr/>
                          </p:nvSpPr>
                          <p:spPr>
                            <a:xfrm>
                              <a:off x="6770520" y="4946400"/>
                              <a:ext cx="128880" cy="74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2" h="93">
                                  <a:moveTo>
                                    <a:pt x="62" y="0"/>
                                  </a:moveTo>
                                  <a:lnTo>
                                    <a:pt x="162" y="63"/>
                                  </a:lnTo>
                                  <a:lnTo>
                                    <a:pt x="99" y="93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8" name=""/>
                            <p:cNvSpPr/>
                            <p:nvPr/>
                          </p:nvSpPr>
                          <p:spPr>
                            <a:xfrm>
                              <a:off x="6786360" y="4879800"/>
                              <a:ext cx="171720" cy="11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6" h="146">
                                  <a:moveTo>
                                    <a:pt x="0" y="53"/>
                                  </a:moveTo>
                                  <a:lnTo>
                                    <a:pt x="156" y="146"/>
                                  </a:lnTo>
                                  <a:lnTo>
                                    <a:pt x="216" y="118"/>
                                  </a:lnTo>
                                  <a:lnTo>
                                    <a:pt x="107" y="53"/>
                                  </a:lnTo>
                                  <a:lnTo>
                                    <a:pt x="182" y="20"/>
                                  </a:lnTo>
                                  <a:lnTo>
                                    <a:pt x="145" y="0"/>
                                  </a:lnTo>
                                  <a:lnTo>
                                    <a:pt x="0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99" name=""/>
                            <p:cNvSpPr/>
                            <p:nvPr/>
                          </p:nvSpPr>
                          <p:spPr>
                            <a:xfrm>
                              <a:off x="6886440" y="4897440"/>
                              <a:ext cx="130320" cy="74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6" h="93">
                                  <a:moveTo>
                                    <a:pt x="0" y="30"/>
                                  </a:moveTo>
                                  <a:lnTo>
                                    <a:pt x="102" y="93"/>
                                  </a:lnTo>
                                  <a:lnTo>
                                    <a:pt x="166" y="63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0" name=""/>
                            <p:cNvSpPr/>
                            <p:nvPr/>
                          </p:nvSpPr>
                          <p:spPr>
                            <a:xfrm>
                              <a:off x="6986520" y="4898880"/>
                              <a:ext cx="8748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1" h="61">
                                  <a:moveTo>
                                    <a:pt x="0" y="31"/>
                                  </a:moveTo>
                                  <a:lnTo>
                                    <a:pt x="46" y="61"/>
                                  </a:lnTo>
                                  <a:lnTo>
                                    <a:pt x="111" y="30"/>
                                  </a:lnTo>
                                  <a:lnTo>
                                    <a:pt x="66" y="0"/>
                                  </a:lnTo>
                                  <a:lnTo>
                                    <a:pt x="0" y="3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1" name=""/>
                            <p:cNvSpPr/>
                            <p:nvPr/>
                          </p:nvSpPr>
                          <p:spPr>
                            <a:xfrm>
                              <a:off x="6942240" y="4873680"/>
                              <a:ext cx="9036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3">
                                  <a:moveTo>
                                    <a:pt x="0" y="33"/>
                                  </a:moveTo>
                                  <a:lnTo>
                                    <a:pt x="53" y="63"/>
                                  </a:lnTo>
                                  <a:lnTo>
                                    <a:pt x="115" y="33"/>
                                  </a:lnTo>
                                  <a:lnTo>
                                    <a:pt x="63" y="0"/>
                                  </a:lnTo>
                                  <a:lnTo>
                                    <a:pt x="0" y="3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2" name=""/>
                            <p:cNvSpPr/>
                            <p:nvPr/>
                          </p:nvSpPr>
                          <p:spPr>
                            <a:xfrm>
                              <a:off x="6902280" y="4856040"/>
                              <a:ext cx="8748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1" h="55">
                                  <a:moveTo>
                                    <a:pt x="0" y="28"/>
                                  </a:moveTo>
                                  <a:lnTo>
                                    <a:pt x="44" y="55"/>
                                  </a:lnTo>
                                  <a:lnTo>
                                    <a:pt x="111" y="25"/>
                                  </a:lnTo>
                                  <a:lnTo>
                                    <a:pt x="72" y="0"/>
                                  </a:lnTo>
                                  <a:lnTo>
                                    <a:pt x="0" y="2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3" name=""/>
                            <p:cNvSpPr/>
                            <p:nvPr/>
                          </p:nvSpPr>
                          <p:spPr>
                            <a:xfrm>
                              <a:off x="6964200" y="4842000"/>
                              <a:ext cx="61920" cy="34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5">
                                  <a:moveTo>
                                    <a:pt x="0" y="17"/>
                                  </a:moveTo>
                                  <a:lnTo>
                                    <a:pt x="42" y="45"/>
                                  </a:lnTo>
                                  <a:lnTo>
                                    <a:pt x="79" y="27"/>
                                  </a:lnTo>
                                  <a:lnTo>
                                    <a:pt x="38" y="0"/>
                                  </a:lnTo>
                                  <a:lnTo>
                                    <a:pt x="0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4" name=""/>
                            <p:cNvSpPr/>
                            <p:nvPr/>
                          </p:nvSpPr>
                          <p:spPr>
                            <a:xfrm>
                              <a:off x="6997680" y="4857480"/>
                              <a:ext cx="71280" cy="41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0" h="52">
                                  <a:moveTo>
                                    <a:pt x="0" y="20"/>
                                  </a:moveTo>
                                  <a:lnTo>
                                    <a:pt x="55" y="52"/>
                                  </a:lnTo>
                                  <a:lnTo>
                                    <a:pt x="90" y="37"/>
                                  </a:lnTo>
                                  <a:lnTo>
                                    <a:pt x="38" y="0"/>
                                  </a:lnTo>
                                  <a:lnTo>
                                    <a:pt x="0" y="2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5" name=""/>
                            <p:cNvSpPr/>
                            <p:nvPr/>
                          </p:nvSpPr>
                          <p:spPr>
                            <a:xfrm>
                              <a:off x="6727680" y="4922640"/>
                              <a:ext cx="889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3">
                                  <a:moveTo>
                                    <a:pt x="0" y="28"/>
                                  </a:moveTo>
                                  <a:lnTo>
                                    <a:pt x="46" y="63"/>
                                  </a:lnTo>
                                  <a:lnTo>
                                    <a:pt x="112" y="30"/>
                                  </a:lnTo>
                                  <a:lnTo>
                                    <a:pt x="70" y="0"/>
                                  </a:lnTo>
                                  <a:lnTo>
                                    <a:pt x="0" y="2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6" name=""/>
                            <p:cNvSpPr/>
                            <p:nvPr/>
                          </p:nvSpPr>
                          <p:spPr>
                            <a:xfrm>
                              <a:off x="7041960" y="4881600"/>
                              <a:ext cx="71640" cy="40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2">
                                  <a:moveTo>
                                    <a:pt x="0" y="20"/>
                                  </a:moveTo>
                                  <a:lnTo>
                                    <a:pt x="51" y="52"/>
                                  </a:lnTo>
                                  <a:lnTo>
                                    <a:pt x="88" y="32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0" y="2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6120" bIns="-6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7" name=""/>
                          <p:cNvGrpSpPr/>
                          <p:nvPr/>
                        </p:nvGrpSpPr>
                        <p:grpSpPr>
                          <a:xfrm>
                            <a:off x="6616800" y="4834440"/>
                            <a:ext cx="985680" cy="504360"/>
                            <a:chOff x="6616800" y="4834440"/>
                            <a:chExt cx="985680" cy="504360"/>
                          </a:xfrm>
                        </p:grpSpPr>
                        <p:sp>
                          <p:nvSpPr>
                            <p:cNvPr id="1608" name=""/>
                            <p:cNvSpPr/>
                            <p:nvPr/>
                          </p:nvSpPr>
                          <p:spPr>
                            <a:xfrm>
                              <a:off x="6851520" y="5045400"/>
                              <a:ext cx="263520" cy="156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32" h="198">
                                  <a:moveTo>
                                    <a:pt x="57" y="0"/>
                                  </a:moveTo>
                                  <a:lnTo>
                                    <a:pt x="332" y="168"/>
                                  </a:lnTo>
                                  <a:lnTo>
                                    <a:pt x="276" y="198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09" name=""/>
                            <p:cNvSpPr/>
                            <p:nvPr/>
                          </p:nvSpPr>
                          <p:spPr>
                            <a:xfrm>
                              <a:off x="7067520" y="5173920"/>
                              <a:ext cx="128520" cy="75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2" h="97">
                                  <a:moveTo>
                                    <a:pt x="60" y="0"/>
                                  </a:moveTo>
                                  <a:lnTo>
                                    <a:pt x="162" y="65"/>
                                  </a:lnTo>
                                  <a:lnTo>
                                    <a:pt x="106" y="97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160" bIns="29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0" name=""/>
                            <p:cNvSpPr/>
                            <p:nvPr/>
                          </p:nvSpPr>
                          <p:spPr>
                            <a:xfrm>
                              <a:off x="7113600" y="5220000"/>
                              <a:ext cx="139680" cy="82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7" h="103">
                                  <a:moveTo>
                                    <a:pt x="105" y="0"/>
                                  </a:moveTo>
                                  <a:lnTo>
                                    <a:pt x="177" y="46"/>
                                  </a:lnTo>
                                  <a:lnTo>
                                    <a:pt x="117" y="85"/>
                                  </a:lnTo>
                                  <a:lnTo>
                                    <a:pt x="109" y="78"/>
                                  </a:lnTo>
                                  <a:lnTo>
                                    <a:pt x="67" y="103"/>
                                  </a:lnTo>
                                  <a:lnTo>
                                    <a:pt x="0" y="61"/>
                                  </a:lnTo>
                                  <a:lnTo>
                                    <a:pt x="10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5280" bIns="35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1" name=""/>
                            <p:cNvSpPr/>
                            <p:nvPr/>
                          </p:nvSpPr>
                          <p:spPr>
                            <a:xfrm>
                              <a:off x="7210440" y="5254920"/>
                              <a:ext cx="133200" cy="83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9" h="105">
                                  <a:moveTo>
                                    <a:pt x="55" y="0"/>
                                  </a:moveTo>
                                  <a:lnTo>
                                    <a:pt x="169" y="70"/>
                                  </a:lnTo>
                                  <a:lnTo>
                                    <a:pt x="109" y="105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7080" bIns="37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2" name=""/>
                            <p:cNvSpPr/>
                            <p:nvPr/>
                          </p:nvSpPr>
                          <p:spPr>
                            <a:xfrm>
                              <a:off x="6784920" y="5005800"/>
                              <a:ext cx="112680" cy="66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2" h="85">
                                  <a:moveTo>
                                    <a:pt x="57" y="0"/>
                                  </a:moveTo>
                                  <a:lnTo>
                                    <a:pt x="142" y="53"/>
                                  </a:lnTo>
                                  <a:lnTo>
                                    <a:pt x="82" y="8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9440" bIns="19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3" name=""/>
                            <p:cNvSpPr/>
                            <p:nvPr/>
                          </p:nvSpPr>
                          <p:spPr>
                            <a:xfrm>
                              <a:off x="6702480" y="4956480"/>
                              <a:ext cx="104760" cy="59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75">
                                  <a:moveTo>
                                    <a:pt x="67" y="0"/>
                                  </a:moveTo>
                                  <a:lnTo>
                                    <a:pt x="132" y="45"/>
                                  </a:lnTo>
                                  <a:lnTo>
                                    <a:pt x="67" y="7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960" bIns="12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4" name=""/>
                            <p:cNvSpPr/>
                            <p:nvPr/>
                          </p:nvSpPr>
                          <p:spPr>
                            <a:xfrm>
                              <a:off x="6646680" y="4984920"/>
                              <a:ext cx="9540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8" h="66">
                                  <a:moveTo>
                                    <a:pt x="60" y="0"/>
                                  </a:moveTo>
                                  <a:lnTo>
                                    <a:pt x="118" y="40"/>
                                  </a:lnTo>
                                  <a:lnTo>
                                    <a:pt x="58" y="66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5" name=""/>
                            <p:cNvSpPr/>
                            <p:nvPr/>
                          </p:nvSpPr>
                          <p:spPr>
                            <a:xfrm>
                              <a:off x="6696000" y="5016600"/>
                              <a:ext cx="8424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5" h="63">
                                  <a:moveTo>
                                    <a:pt x="60" y="0"/>
                                  </a:moveTo>
                                  <a:lnTo>
                                    <a:pt x="105" y="32"/>
                                  </a:lnTo>
                                  <a:lnTo>
                                    <a:pt x="53" y="63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6" name=""/>
                            <p:cNvSpPr/>
                            <p:nvPr/>
                          </p:nvSpPr>
                          <p:spPr>
                            <a:xfrm>
                              <a:off x="6616800" y="4965840"/>
                              <a:ext cx="7776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7" h="55">
                                  <a:moveTo>
                                    <a:pt x="62" y="0"/>
                                  </a:moveTo>
                                  <a:lnTo>
                                    <a:pt x="97" y="25"/>
                                  </a:lnTo>
                                  <a:lnTo>
                                    <a:pt x="37" y="55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7" name=""/>
                            <p:cNvSpPr/>
                            <p:nvPr/>
                          </p:nvSpPr>
                          <p:spPr>
                            <a:xfrm>
                              <a:off x="7262640" y="5223240"/>
                              <a:ext cx="133560" cy="83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9" h="105">
                                  <a:moveTo>
                                    <a:pt x="57" y="0"/>
                                  </a:moveTo>
                                  <a:lnTo>
                                    <a:pt x="169" y="73"/>
                                  </a:lnTo>
                                  <a:lnTo>
                                    <a:pt x="107" y="105"/>
                                  </a:lnTo>
                                  <a:lnTo>
                                    <a:pt x="0" y="36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720" bIns="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8" name=""/>
                            <p:cNvSpPr/>
                            <p:nvPr/>
                          </p:nvSpPr>
                          <p:spPr>
                            <a:xfrm>
                              <a:off x="7318440" y="5194440"/>
                              <a:ext cx="133200" cy="79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9" h="100">
                                  <a:moveTo>
                                    <a:pt x="55" y="0"/>
                                  </a:moveTo>
                                  <a:lnTo>
                                    <a:pt x="169" y="72"/>
                                  </a:lnTo>
                                  <a:lnTo>
                                    <a:pt x="109" y="10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0" bIns="32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19" name=""/>
                            <p:cNvSpPr/>
                            <p:nvPr/>
                          </p:nvSpPr>
                          <p:spPr>
                            <a:xfrm>
                              <a:off x="7373880" y="5162760"/>
                              <a:ext cx="133200" cy="79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7" h="100">
                                  <a:moveTo>
                                    <a:pt x="54" y="0"/>
                                  </a:moveTo>
                                  <a:lnTo>
                                    <a:pt x="167" y="67"/>
                                  </a:lnTo>
                                  <a:lnTo>
                                    <a:pt x="105" y="10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2400" bIns="32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0" name=""/>
                            <p:cNvSpPr/>
                            <p:nvPr/>
                          </p:nvSpPr>
                          <p:spPr>
                            <a:xfrm>
                              <a:off x="7213680" y="5197680"/>
                              <a:ext cx="9504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0" h="74">
                                  <a:moveTo>
                                    <a:pt x="62" y="0"/>
                                  </a:moveTo>
                                  <a:lnTo>
                                    <a:pt x="120" y="37"/>
                                  </a:lnTo>
                                  <a:lnTo>
                                    <a:pt x="59" y="74"/>
                                  </a:lnTo>
                                  <a:lnTo>
                                    <a:pt x="0" y="37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1" name=""/>
                            <p:cNvSpPr/>
                            <p:nvPr/>
                          </p:nvSpPr>
                          <p:spPr>
                            <a:xfrm>
                              <a:off x="7273800" y="516924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9">
                                  <a:moveTo>
                                    <a:pt x="59" y="0"/>
                                  </a:moveTo>
                                  <a:lnTo>
                                    <a:pt x="114" y="35"/>
                                  </a:lnTo>
                                  <a:lnTo>
                                    <a:pt x="52" y="69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2" name=""/>
                            <p:cNvSpPr/>
                            <p:nvPr/>
                          </p:nvSpPr>
                          <p:spPr>
                            <a:xfrm>
                              <a:off x="7327800" y="513900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8">
                                  <a:moveTo>
                                    <a:pt x="58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5" y="68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3" name=""/>
                            <p:cNvSpPr/>
                            <p:nvPr/>
                          </p:nvSpPr>
                          <p:spPr>
                            <a:xfrm>
                              <a:off x="7383600" y="5108760"/>
                              <a:ext cx="871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8">
                                  <a:moveTo>
                                    <a:pt x="58" y="0"/>
                                  </a:moveTo>
                                  <a:lnTo>
                                    <a:pt x="110" y="31"/>
                                  </a:lnTo>
                                  <a:lnTo>
                                    <a:pt x="52" y="68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4" name=""/>
                            <p:cNvSpPr/>
                            <p:nvPr/>
                          </p:nvSpPr>
                          <p:spPr>
                            <a:xfrm>
                              <a:off x="7434360" y="5088240"/>
                              <a:ext cx="7596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7" h="58">
                                  <a:moveTo>
                                    <a:pt x="45" y="0"/>
                                  </a:moveTo>
                                  <a:lnTo>
                                    <a:pt x="97" y="30"/>
                                  </a:lnTo>
                                  <a:lnTo>
                                    <a:pt x="52" y="58"/>
                                  </a:lnTo>
                                  <a:lnTo>
                                    <a:pt x="0" y="28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5" name=""/>
                            <p:cNvSpPr/>
                            <p:nvPr/>
                          </p:nvSpPr>
                          <p:spPr>
                            <a:xfrm>
                              <a:off x="7477200" y="5108760"/>
                              <a:ext cx="7920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" h="63">
                                  <a:moveTo>
                                    <a:pt x="47" y="0"/>
                                  </a:moveTo>
                                  <a:lnTo>
                                    <a:pt x="101" y="33"/>
                                  </a:lnTo>
                                  <a:lnTo>
                                    <a:pt x="52" y="63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6" name=""/>
                            <p:cNvSpPr/>
                            <p:nvPr/>
                          </p:nvSpPr>
                          <p:spPr>
                            <a:xfrm>
                              <a:off x="7427880" y="5132520"/>
                              <a:ext cx="8892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6">
                                  <a:moveTo>
                                    <a:pt x="58" y="0"/>
                                  </a:moveTo>
                                  <a:lnTo>
                                    <a:pt x="112" y="33"/>
                                  </a:lnTo>
                                  <a:lnTo>
                                    <a:pt x="51" y="66"/>
                                  </a:lnTo>
                                  <a:lnTo>
                                    <a:pt x="0" y="38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/>
                            <p:nvPr/>
                          </p:nvSpPr>
                          <p:spPr>
                            <a:xfrm>
                              <a:off x="7523280" y="5134320"/>
                              <a:ext cx="7920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1" h="62">
                                  <a:moveTo>
                                    <a:pt x="47" y="0"/>
                                  </a:moveTo>
                                  <a:lnTo>
                                    <a:pt x="101" y="32"/>
                                  </a:lnTo>
                                  <a:lnTo>
                                    <a:pt x="52" y="62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8" name=""/>
                            <p:cNvSpPr/>
                            <p:nvPr/>
                          </p:nvSpPr>
                          <p:spPr>
                            <a:xfrm>
                              <a:off x="7470720" y="5156280"/>
                              <a:ext cx="903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8">
                                  <a:moveTo>
                                    <a:pt x="60" y="0"/>
                                  </a:moveTo>
                                  <a:lnTo>
                                    <a:pt x="114" y="31"/>
                                  </a:lnTo>
                                  <a:lnTo>
                                    <a:pt x="54" y="68"/>
                                  </a:lnTo>
                                  <a:lnTo>
                                    <a:pt x="0" y="36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9" name=""/>
                            <p:cNvSpPr/>
                            <p:nvPr/>
                          </p:nvSpPr>
                          <p:spPr>
                            <a:xfrm>
                              <a:off x="7226280" y="514368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8">
                                  <a:moveTo>
                                    <a:pt x="59" y="0"/>
                                  </a:moveTo>
                                  <a:lnTo>
                                    <a:pt x="114" y="35"/>
                                  </a:lnTo>
                                  <a:lnTo>
                                    <a:pt x="55" y="68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0" name=""/>
                            <p:cNvSpPr/>
                            <p:nvPr/>
                          </p:nvSpPr>
                          <p:spPr>
                            <a:xfrm>
                              <a:off x="7281720" y="511344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9">
                                  <a:moveTo>
                                    <a:pt x="62" y="0"/>
                                  </a:moveTo>
                                  <a:lnTo>
                                    <a:pt x="114" y="34"/>
                                  </a:lnTo>
                                  <a:lnTo>
                                    <a:pt x="55" y="69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1" name=""/>
                            <p:cNvSpPr/>
                            <p:nvPr/>
                          </p:nvSpPr>
                          <p:spPr>
                            <a:xfrm>
                              <a:off x="7338960" y="508356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8">
                                  <a:moveTo>
                                    <a:pt x="58" y="0"/>
                                  </a:moveTo>
                                  <a:lnTo>
                                    <a:pt x="110" y="33"/>
                                  </a:lnTo>
                                  <a:lnTo>
                                    <a:pt x="50" y="68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5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2" name=""/>
                            <p:cNvSpPr/>
                            <p:nvPr/>
                          </p:nvSpPr>
                          <p:spPr>
                            <a:xfrm>
                              <a:off x="7392960" y="5064480"/>
                              <a:ext cx="7452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7">
                                  <a:moveTo>
                                    <a:pt x="41" y="0"/>
                                  </a:moveTo>
                                  <a:lnTo>
                                    <a:pt x="93" y="33"/>
                                  </a:lnTo>
                                  <a:lnTo>
                                    <a:pt x="48" y="57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3" name=""/>
                            <p:cNvSpPr/>
                            <p:nvPr/>
                          </p:nvSpPr>
                          <p:spPr>
                            <a:xfrm>
                              <a:off x="7167600" y="5170680"/>
                              <a:ext cx="9360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8" h="73">
                                  <a:moveTo>
                                    <a:pt x="61" y="0"/>
                                  </a:moveTo>
                                  <a:lnTo>
                                    <a:pt x="118" y="37"/>
                                  </a:lnTo>
                                  <a:lnTo>
                                    <a:pt x="60" y="73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4" name=""/>
                            <p:cNvSpPr/>
                            <p:nvPr/>
                          </p:nvSpPr>
                          <p:spPr>
                            <a:xfrm>
                              <a:off x="7120080" y="5143680"/>
                              <a:ext cx="9360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9" h="70">
                                  <a:moveTo>
                                    <a:pt x="64" y="0"/>
                                  </a:moveTo>
                                  <a:lnTo>
                                    <a:pt x="119" y="35"/>
                                  </a:lnTo>
                                  <a:lnTo>
                                    <a:pt x="59" y="7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5" name=""/>
                            <p:cNvSpPr/>
                            <p:nvPr/>
                          </p:nvSpPr>
                          <p:spPr>
                            <a:xfrm>
                              <a:off x="7180200" y="5115240"/>
                              <a:ext cx="9216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6" h="70">
                                  <a:moveTo>
                                    <a:pt x="60" y="0"/>
                                  </a:moveTo>
                                  <a:lnTo>
                                    <a:pt x="116" y="33"/>
                                  </a:lnTo>
                                  <a:lnTo>
                                    <a:pt x="54" y="70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6" name=""/>
                            <p:cNvSpPr/>
                            <p:nvPr/>
                          </p:nvSpPr>
                          <p:spPr>
                            <a:xfrm>
                              <a:off x="7238880" y="5088240"/>
                              <a:ext cx="8892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8">
                                  <a:moveTo>
                                    <a:pt x="57" y="0"/>
                                  </a:moveTo>
                                  <a:lnTo>
                                    <a:pt x="112" y="31"/>
                                  </a:lnTo>
                                  <a:lnTo>
                                    <a:pt x="53" y="68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7" name=""/>
                            <p:cNvSpPr/>
                            <p:nvPr/>
                          </p:nvSpPr>
                          <p:spPr>
                            <a:xfrm>
                              <a:off x="7294680" y="505944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8">
                                  <a:moveTo>
                                    <a:pt x="62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3" y="68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8" name=""/>
                            <p:cNvSpPr/>
                            <p:nvPr/>
                          </p:nvSpPr>
                          <p:spPr>
                            <a:xfrm>
                              <a:off x="7346880" y="5040720"/>
                              <a:ext cx="74520" cy="45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5" h="58">
                                  <a:moveTo>
                                    <a:pt x="45" y="0"/>
                                  </a:moveTo>
                                  <a:lnTo>
                                    <a:pt x="95" y="30"/>
                                  </a:lnTo>
                                  <a:lnTo>
                                    <a:pt x="52" y="58"/>
                                  </a:lnTo>
                                  <a:lnTo>
                                    <a:pt x="0" y="2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39" name=""/>
                            <p:cNvSpPr/>
                            <p:nvPr/>
                          </p:nvSpPr>
                          <p:spPr>
                            <a:xfrm>
                              <a:off x="7137360" y="5089680"/>
                              <a:ext cx="8892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70">
                                  <a:moveTo>
                                    <a:pt x="59" y="0"/>
                                  </a:moveTo>
                                  <a:lnTo>
                                    <a:pt x="114" y="37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0" name=""/>
                            <p:cNvSpPr/>
                            <p:nvPr/>
                          </p:nvSpPr>
                          <p:spPr>
                            <a:xfrm>
                              <a:off x="7192800" y="5062680"/>
                              <a:ext cx="907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6" h="69">
                                  <a:moveTo>
                                    <a:pt x="60" y="0"/>
                                  </a:moveTo>
                                  <a:lnTo>
                                    <a:pt x="116" y="34"/>
                                  </a:lnTo>
                                  <a:lnTo>
                                    <a:pt x="55" y="69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1" name=""/>
                            <p:cNvSpPr/>
                            <p:nvPr/>
                          </p:nvSpPr>
                          <p:spPr>
                            <a:xfrm>
                              <a:off x="7250040" y="5035680"/>
                              <a:ext cx="8892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7">
                                  <a:moveTo>
                                    <a:pt x="60" y="0"/>
                                  </a:moveTo>
                                  <a:lnTo>
                                    <a:pt x="112" y="32"/>
                                  </a:lnTo>
                                  <a:lnTo>
                                    <a:pt x="53" y="67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2" name=""/>
                            <p:cNvSpPr/>
                            <p:nvPr/>
                          </p:nvSpPr>
                          <p:spPr>
                            <a:xfrm>
                              <a:off x="7304040" y="5016600"/>
                              <a:ext cx="7452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3" h="56">
                                  <a:moveTo>
                                    <a:pt x="43" y="0"/>
                                  </a:moveTo>
                                  <a:lnTo>
                                    <a:pt x="93" y="33"/>
                                  </a:lnTo>
                                  <a:lnTo>
                                    <a:pt x="53" y="56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4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3" name=""/>
                            <p:cNvSpPr/>
                            <p:nvPr/>
                          </p:nvSpPr>
                          <p:spPr>
                            <a:xfrm>
                              <a:off x="7075440" y="5116680"/>
                              <a:ext cx="9540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1" h="71">
                                  <a:moveTo>
                                    <a:pt x="62" y="0"/>
                                  </a:moveTo>
                                  <a:lnTo>
                                    <a:pt x="121" y="36"/>
                                  </a:lnTo>
                                  <a:lnTo>
                                    <a:pt x="60" y="71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4" name=""/>
                            <p:cNvSpPr/>
                            <p:nvPr/>
                          </p:nvSpPr>
                          <p:spPr>
                            <a:xfrm>
                              <a:off x="7034040" y="509148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1" h="68">
                                  <a:moveTo>
                                    <a:pt x="60" y="0"/>
                                  </a:moveTo>
                                  <a:lnTo>
                                    <a:pt x="111" y="35"/>
                                  </a:lnTo>
                                  <a:lnTo>
                                    <a:pt x="51" y="68"/>
                                  </a:lnTo>
                                  <a:lnTo>
                                    <a:pt x="0" y="37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5" name=""/>
                            <p:cNvSpPr/>
                            <p:nvPr/>
                          </p:nvSpPr>
                          <p:spPr>
                            <a:xfrm>
                              <a:off x="7089840" y="5064480"/>
                              <a:ext cx="91800" cy="55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70">
                                  <a:moveTo>
                                    <a:pt x="60" y="0"/>
                                  </a:moveTo>
                                  <a:lnTo>
                                    <a:pt x="115" y="33"/>
                                  </a:lnTo>
                                  <a:lnTo>
                                    <a:pt x="53" y="70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280" bIns="8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6" name=""/>
                            <p:cNvSpPr/>
                            <p:nvPr/>
                          </p:nvSpPr>
                          <p:spPr>
                            <a:xfrm>
                              <a:off x="7148520" y="5037480"/>
                              <a:ext cx="8892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8">
                                  <a:moveTo>
                                    <a:pt x="57" y="0"/>
                                  </a:moveTo>
                                  <a:lnTo>
                                    <a:pt x="112" y="31"/>
                                  </a:lnTo>
                                  <a:lnTo>
                                    <a:pt x="54" y="68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5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7" name=""/>
                            <p:cNvSpPr/>
                            <p:nvPr/>
                          </p:nvSpPr>
                          <p:spPr>
                            <a:xfrm>
                              <a:off x="7203960" y="5011920"/>
                              <a:ext cx="8892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7">
                                  <a:moveTo>
                                    <a:pt x="62" y="0"/>
                                  </a:moveTo>
                                  <a:lnTo>
                                    <a:pt x="112" y="30"/>
                                  </a:lnTo>
                                  <a:lnTo>
                                    <a:pt x="54" y="67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8" name=""/>
                            <p:cNvSpPr/>
                            <p:nvPr/>
                          </p:nvSpPr>
                          <p:spPr>
                            <a:xfrm>
                              <a:off x="7261200" y="4992840"/>
                              <a:ext cx="74520" cy="44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4" h="55">
                                  <a:moveTo>
                                    <a:pt x="42" y="0"/>
                                  </a:moveTo>
                                  <a:lnTo>
                                    <a:pt x="94" y="30"/>
                                  </a:lnTo>
                                  <a:lnTo>
                                    <a:pt x="49" y="55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49" name=""/>
                            <p:cNvSpPr/>
                            <p:nvPr/>
                          </p:nvSpPr>
                          <p:spPr>
                            <a:xfrm>
                              <a:off x="7047000" y="5040720"/>
                              <a:ext cx="87120" cy="53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6">
                                  <a:moveTo>
                                    <a:pt x="60" y="0"/>
                                  </a:moveTo>
                                  <a:lnTo>
                                    <a:pt x="110" y="30"/>
                                  </a:lnTo>
                                  <a:lnTo>
                                    <a:pt x="53" y="66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480" bIns="6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0" name=""/>
                            <p:cNvSpPr/>
                            <p:nvPr/>
                          </p:nvSpPr>
                          <p:spPr>
                            <a:xfrm>
                              <a:off x="7105680" y="5015160"/>
                              <a:ext cx="889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65">
                                  <a:moveTo>
                                    <a:pt x="60" y="0"/>
                                  </a:moveTo>
                                  <a:lnTo>
                                    <a:pt x="110" y="30"/>
                                  </a:lnTo>
                                  <a:lnTo>
                                    <a:pt x="47" y="65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1" name=""/>
                            <p:cNvSpPr/>
                            <p:nvPr/>
                          </p:nvSpPr>
                          <p:spPr>
                            <a:xfrm>
                              <a:off x="7161120" y="4988160"/>
                              <a:ext cx="88920" cy="52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5">
                                  <a:moveTo>
                                    <a:pt x="62" y="0"/>
                                  </a:moveTo>
                                  <a:lnTo>
                                    <a:pt x="114" y="32"/>
                                  </a:lnTo>
                                  <a:lnTo>
                                    <a:pt x="54" y="65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2" name=""/>
                            <p:cNvSpPr/>
                            <p:nvPr/>
                          </p:nvSpPr>
                          <p:spPr>
                            <a:xfrm>
                              <a:off x="7216560" y="4970880"/>
                              <a:ext cx="7308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5">
                                  <a:moveTo>
                                    <a:pt x="39" y="0"/>
                                  </a:moveTo>
                                  <a:lnTo>
                                    <a:pt x="92" y="30"/>
                                  </a:lnTo>
                                  <a:lnTo>
                                    <a:pt x="54" y="55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3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3" name=""/>
                            <p:cNvSpPr/>
                            <p:nvPr/>
                          </p:nvSpPr>
                          <p:spPr>
                            <a:xfrm>
                              <a:off x="6989760" y="5065920"/>
                              <a:ext cx="9216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7">
                                  <a:moveTo>
                                    <a:pt x="62" y="0"/>
                                  </a:moveTo>
                                  <a:lnTo>
                                    <a:pt x="115" y="35"/>
                                  </a:lnTo>
                                  <a:lnTo>
                                    <a:pt x="52" y="67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4" name=""/>
                            <p:cNvSpPr/>
                            <p:nvPr/>
                          </p:nvSpPr>
                          <p:spPr>
                            <a:xfrm>
                              <a:off x="6943680" y="5040720"/>
                              <a:ext cx="90360" cy="53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6" h="66">
                                  <a:moveTo>
                                    <a:pt x="67" y="0"/>
                                  </a:moveTo>
                                  <a:lnTo>
                                    <a:pt x="116" y="33"/>
                                  </a:lnTo>
                                  <a:lnTo>
                                    <a:pt x="55" y="66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480" bIns="6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5" name=""/>
                            <p:cNvSpPr/>
                            <p:nvPr/>
                          </p:nvSpPr>
                          <p:spPr>
                            <a:xfrm>
                              <a:off x="7002360" y="5016600"/>
                              <a:ext cx="90720" cy="50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5">
                                  <a:moveTo>
                                    <a:pt x="61" y="0"/>
                                  </a:moveTo>
                                  <a:lnTo>
                                    <a:pt x="114" y="33"/>
                                  </a:lnTo>
                                  <a:lnTo>
                                    <a:pt x="51" y="65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6" name=""/>
                            <p:cNvSpPr/>
                            <p:nvPr/>
                          </p:nvSpPr>
                          <p:spPr>
                            <a:xfrm>
                              <a:off x="7059600" y="4989600"/>
                              <a:ext cx="90360" cy="50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5">
                                  <a:moveTo>
                                    <a:pt x="60" y="0"/>
                                  </a:moveTo>
                                  <a:lnTo>
                                    <a:pt x="114" y="33"/>
                                  </a:lnTo>
                                  <a:lnTo>
                                    <a:pt x="55" y="6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7" name=""/>
                            <p:cNvSpPr/>
                            <p:nvPr/>
                          </p:nvSpPr>
                          <p:spPr>
                            <a:xfrm>
                              <a:off x="7115040" y="4964400"/>
                              <a:ext cx="93600" cy="51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7" h="65">
                                  <a:moveTo>
                                    <a:pt x="64" y="0"/>
                                  </a:moveTo>
                                  <a:lnTo>
                                    <a:pt x="117" y="32"/>
                                  </a:lnTo>
                                  <a:lnTo>
                                    <a:pt x="54" y="65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8" name=""/>
                            <p:cNvSpPr/>
                            <p:nvPr/>
                          </p:nvSpPr>
                          <p:spPr>
                            <a:xfrm>
                              <a:off x="7173720" y="4945320"/>
                              <a:ext cx="7308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5">
                                  <a:moveTo>
                                    <a:pt x="38" y="0"/>
                                  </a:moveTo>
                                  <a:lnTo>
                                    <a:pt x="92" y="33"/>
                                  </a:lnTo>
                                  <a:lnTo>
                                    <a:pt x="53" y="55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3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59" name=""/>
                            <p:cNvSpPr/>
                            <p:nvPr/>
                          </p:nvSpPr>
                          <p:spPr>
                            <a:xfrm>
                              <a:off x="6962760" y="4992840"/>
                              <a:ext cx="8568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7" h="60">
                                  <a:moveTo>
                                    <a:pt x="65" y="0"/>
                                  </a:moveTo>
                                  <a:lnTo>
                                    <a:pt x="107" y="30"/>
                                  </a:lnTo>
                                  <a:lnTo>
                                    <a:pt x="45" y="6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6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0" name=""/>
                            <p:cNvSpPr/>
                            <p:nvPr/>
                          </p:nvSpPr>
                          <p:spPr>
                            <a:xfrm>
                              <a:off x="7021440" y="4967640"/>
                              <a:ext cx="8424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7" h="62">
                                  <a:moveTo>
                                    <a:pt x="60" y="0"/>
                                  </a:moveTo>
                                  <a:lnTo>
                                    <a:pt x="107" y="30"/>
                                  </a:lnTo>
                                  <a:lnTo>
                                    <a:pt x="42" y="62"/>
                                  </a:lnTo>
                                  <a:lnTo>
                                    <a:pt x="0" y="34"/>
                                  </a:lnTo>
                                  <a:lnTo>
                                    <a:pt x="6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1" name=""/>
                            <p:cNvSpPr/>
                            <p:nvPr/>
                          </p:nvSpPr>
                          <p:spPr>
                            <a:xfrm>
                              <a:off x="7072200" y="4940640"/>
                              <a:ext cx="90720" cy="48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" h="62">
                                  <a:moveTo>
                                    <a:pt x="70" y="0"/>
                                  </a:moveTo>
                                  <a:lnTo>
                                    <a:pt x="114" y="32"/>
                                  </a:lnTo>
                                  <a:lnTo>
                                    <a:pt x="48" y="62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7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00" bIns="1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2" name=""/>
                            <p:cNvSpPr/>
                            <p:nvPr/>
                          </p:nvSpPr>
                          <p:spPr>
                            <a:xfrm>
                              <a:off x="7129440" y="4923000"/>
                              <a:ext cx="7308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2" h="53">
                                  <a:moveTo>
                                    <a:pt x="44" y="0"/>
                                  </a:moveTo>
                                  <a:lnTo>
                                    <a:pt x="92" y="30"/>
                                  </a:lnTo>
                                  <a:lnTo>
                                    <a:pt x="50" y="53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4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3" name=""/>
                            <p:cNvSpPr/>
                            <p:nvPr/>
                          </p:nvSpPr>
                          <p:spPr>
                            <a:xfrm>
                              <a:off x="6905520" y="5019840"/>
                              <a:ext cx="8748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8" h="60">
                                  <a:moveTo>
                                    <a:pt x="66" y="0"/>
                                  </a:moveTo>
                                  <a:lnTo>
                                    <a:pt x="108" y="28"/>
                                  </a:lnTo>
                                  <a:lnTo>
                                    <a:pt x="45" y="60"/>
                                  </a:lnTo>
                                  <a:lnTo>
                                    <a:pt x="0" y="35"/>
                                  </a:lnTo>
                                  <a:lnTo>
                                    <a:pt x="6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4" name=""/>
                            <p:cNvSpPr/>
                            <p:nvPr/>
                          </p:nvSpPr>
                          <p:spPr>
                            <a:xfrm>
                              <a:off x="6912000" y="4964400"/>
                              <a:ext cx="9684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2" h="72">
                                  <a:moveTo>
                                    <a:pt x="63" y="0"/>
                                  </a:moveTo>
                                  <a:lnTo>
                                    <a:pt x="122" y="38"/>
                                  </a:lnTo>
                                  <a:lnTo>
                                    <a:pt x="62" y="72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5" name=""/>
                            <p:cNvSpPr/>
                            <p:nvPr/>
                          </p:nvSpPr>
                          <p:spPr>
                            <a:xfrm>
                              <a:off x="6969240" y="4938840"/>
                              <a:ext cx="98280" cy="55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23" h="69">
                                  <a:moveTo>
                                    <a:pt x="63" y="0"/>
                                  </a:moveTo>
                                  <a:lnTo>
                                    <a:pt x="123" y="38"/>
                                  </a:lnTo>
                                  <a:lnTo>
                                    <a:pt x="60" y="69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6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8640" bIns="8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6" name=""/>
                            <p:cNvSpPr/>
                            <p:nvPr/>
                          </p:nvSpPr>
                          <p:spPr>
                            <a:xfrm>
                              <a:off x="7027920" y="4913640"/>
                              <a:ext cx="93600" cy="5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9" h="66">
                                  <a:moveTo>
                                    <a:pt x="64" y="0"/>
                                  </a:moveTo>
                                  <a:lnTo>
                                    <a:pt x="119" y="37"/>
                                  </a:lnTo>
                                  <a:lnTo>
                                    <a:pt x="57" y="66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840" bIns="6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7" name=""/>
                            <p:cNvSpPr/>
                            <p:nvPr/>
                          </p:nvSpPr>
                          <p:spPr>
                            <a:xfrm>
                              <a:off x="7083360" y="4899240"/>
                              <a:ext cx="7632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6" h="53">
                                  <a:moveTo>
                                    <a:pt x="40" y="0"/>
                                  </a:moveTo>
                                  <a:lnTo>
                                    <a:pt x="96" y="33"/>
                                  </a:lnTo>
                                  <a:lnTo>
                                    <a:pt x="59" y="53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4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8" name=""/>
                            <p:cNvSpPr/>
                            <p:nvPr/>
                          </p:nvSpPr>
                          <p:spPr>
                            <a:xfrm>
                              <a:off x="6853320" y="4988160"/>
                              <a:ext cx="102960" cy="58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0" h="73">
                                  <a:moveTo>
                                    <a:pt x="65" y="0"/>
                                  </a:moveTo>
                                  <a:lnTo>
                                    <a:pt x="130" y="40"/>
                                  </a:lnTo>
                                  <a:lnTo>
                                    <a:pt x="67" y="73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6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520" bIns="11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69" name=""/>
                            <p:cNvSpPr/>
                            <p:nvPr/>
                          </p:nvSpPr>
                          <p:spPr>
                            <a:xfrm>
                              <a:off x="6772320" y="4938840"/>
                              <a:ext cx="127080" cy="74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0" h="93">
                                  <a:moveTo>
                                    <a:pt x="62" y="0"/>
                                  </a:moveTo>
                                  <a:lnTo>
                                    <a:pt x="160" y="68"/>
                                  </a:lnTo>
                                  <a:lnTo>
                                    <a:pt x="98" y="93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6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0" name=""/>
                            <p:cNvSpPr/>
                            <p:nvPr/>
                          </p:nvSpPr>
                          <p:spPr>
                            <a:xfrm>
                              <a:off x="6786360" y="4872240"/>
                              <a:ext cx="171720" cy="11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6" h="148">
                                  <a:moveTo>
                                    <a:pt x="0" y="53"/>
                                  </a:moveTo>
                                  <a:lnTo>
                                    <a:pt x="157" y="148"/>
                                  </a:lnTo>
                                  <a:lnTo>
                                    <a:pt x="216" y="123"/>
                                  </a:lnTo>
                                  <a:lnTo>
                                    <a:pt x="107" y="53"/>
                                  </a:lnTo>
                                  <a:lnTo>
                                    <a:pt x="186" y="21"/>
                                  </a:lnTo>
                                  <a:lnTo>
                                    <a:pt x="145" y="0"/>
                                  </a:lnTo>
                                  <a:lnTo>
                                    <a:pt x="0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1" name=""/>
                            <p:cNvSpPr/>
                            <p:nvPr/>
                          </p:nvSpPr>
                          <p:spPr>
                            <a:xfrm>
                              <a:off x="6886440" y="4889880"/>
                              <a:ext cx="130320" cy="75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6" h="95">
                                  <a:moveTo>
                                    <a:pt x="0" y="30"/>
                                  </a:moveTo>
                                  <a:lnTo>
                                    <a:pt x="102" y="95"/>
                                  </a:lnTo>
                                  <a:lnTo>
                                    <a:pt x="166" y="67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800" bIns="28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2" name=""/>
                            <p:cNvSpPr/>
                            <p:nvPr/>
                          </p:nvSpPr>
                          <p:spPr>
                            <a:xfrm>
                              <a:off x="6986520" y="4892760"/>
                              <a:ext cx="92160" cy="48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6" h="62">
                                  <a:moveTo>
                                    <a:pt x="0" y="32"/>
                                  </a:moveTo>
                                  <a:lnTo>
                                    <a:pt x="47" y="62"/>
                                  </a:lnTo>
                                  <a:lnTo>
                                    <a:pt x="116" y="29"/>
                                  </a:lnTo>
                                  <a:lnTo>
                                    <a:pt x="66" y="0"/>
                                  </a:lnTo>
                                  <a:lnTo>
                                    <a:pt x="0" y="3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3" name=""/>
                            <p:cNvSpPr/>
                            <p:nvPr/>
                          </p:nvSpPr>
                          <p:spPr>
                            <a:xfrm>
                              <a:off x="6942240" y="4869000"/>
                              <a:ext cx="9036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5" h="64">
                                  <a:moveTo>
                                    <a:pt x="0" y="30"/>
                                  </a:moveTo>
                                  <a:lnTo>
                                    <a:pt x="53" y="64"/>
                                  </a:lnTo>
                                  <a:lnTo>
                                    <a:pt x="115" y="30"/>
                                  </a:lnTo>
                                  <a:lnTo>
                                    <a:pt x="63" y="0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4" name=""/>
                            <p:cNvSpPr/>
                            <p:nvPr/>
                          </p:nvSpPr>
                          <p:spPr>
                            <a:xfrm>
                              <a:off x="6904080" y="4848480"/>
                              <a:ext cx="8568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9" h="58">
                                  <a:moveTo>
                                    <a:pt x="0" y="30"/>
                                  </a:moveTo>
                                  <a:lnTo>
                                    <a:pt x="44" y="58"/>
                                  </a:lnTo>
                                  <a:lnTo>
                                    <a:pt x="109" y="26"/>
                                  </a:lnTo>
                                  <a:lnTo>
                                    <a:pt x="70" y="0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5" name=""/>
                            <p:cNvSpPr/>
                            <p:nvPr/>
                          </p:nvSpPr>
                          <p:spPr>
                            <a:xfrm>
                              <a:off x="6966000" y="4834440"/>
                              <a:ext cx="60120" cy="34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7" h="43">
                                  <a:moveTo>
                                    <a:pt x="0" y="20"/>
                                  </a:moveTo>
                                  <a:lnTo>
                                    <a:pt x="40" y="43"/>
                                  </a:lnTo>
                                  <a:lnTo>
                                    <a:pt x="77" y="23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0" y="2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6" name=""/>
                            <p:cNvSpPr/>
                            <p:nvPr/>
                          </p:nvSpPr>
                          <p:spPr>
                            <a:xfrm>
                              <a:off x="6999120" y="4851720"/>
                              <a:ext cx="6984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9" h="53">
                                  <a:moveTo>
                                    <a:pt x="0" y="20"/>
                                  </a:moveTo>
                                  <a:lnTo>
                                    <a:pt x="54" y="53"/>
                                  </a:lnTo>
                                  <a:lnTo>
                                    <a:pt x="89" y="33"/>
                                  </a:lnTo>
                                  <a:lnTo>
                                    <a:pt x="37" y="0"/>
                                  </a:lnTo>
                                  <a:lnTo>
                                    <a:pt x="0" y="2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7" name=""/>
                            <p:cNvSpPr/>
                            <p:nvPr/>
                          </p:nvSpPr>
                          <p:spPr>
                            <a:xfrm>
                              <a:off x="6730920" y="4915080"/>
                              <a:ext cx="88920" cy="50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2" h="63">
                                  <a:moveTo>
                                    <a:pt x="0" y="31"/>
                                  </a:moveTo>
                                  <a:lnTo>
                                    <a:pt x="45" y="63"/>
                                  </a:lnTo>
                                  <a:lnTo>
                                    <a:pt x="112" y="31"/>
                                  </a:lnTo>
                                  <a:lnTo>
                                    <a:pt x="67" y="0"/>
                                  </a:lnTo>
                                  <a:lnTo>
                                    <a:pt x="0" y="3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78" name=""/>
                            <p:cNvSpPr/>
                            <p:nvPr/>
                          </p:nvSpPr>
                          <p:spPr>
                            <a:xfrm>
                              <a:off x="7041960" y="4874040"/>
                              <a:ext cx="71640" cy="42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53">
                                  <a:moveTo>
                                    <a:pt x="0" y="22"/>
                                  </a:moveTo>
                                  <a:lnTo>
                                    <a:pt x="51" y="53"/>
                                  </a:lnTo>
                                  <a:lnTo>
                                    <a:pt x="88" y="35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0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79" name=""/>
                        <p:cNvGrpSpPr/>
                        <p:nvPr/>
                      </p:nvGrpSpPr>
                      <p:grpSpPr>
                        <a:xfrm>
                          <a:off x="6370560" y="5042520"/>
                          <a:ext cx="1174680" cy="482040"/>
                          <a:chOff x="6370560" y="5042520"/>
                          <a:chExt cx="1174680" cy="482040"/>
                        </a:xfrm>
                      </p:grpSpPr>
                      <p:sp>
                        <p:nvSpPr>
                          <p:cNvPr id="1680" name=""/>
                          <p:cNvSpPr/>
                          <p:nvPr/>
                        </p:nvSpPr>
                        <p:spPr>
                          <a:xfrm>
                            <a:off x="7029360" y="5262840"/>
                            <a:ext cx="515880" cy="261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50" h="330">
                                <a:moveTo>
                                  <a:pt x="650" y="0"/>
                                </a:moveTo>
                                <a:lnTo>
                                  <a:pt x="18" y="262"/>
                                </a:lnTo>
                                <a:lnTo>
                                  <a:pt x="5" y="278"/>
                                </a:lnTo>
                                <a:lnTo>
                                  <a:pt x="0" y="295"/>
                                </a:lnTo>
                                <a:lnTo>
                                  <a:pt x="5" y="307"/>
                                </a:lnTo>
                                <a:lnTo>
                                  <a:pt x="12" y="323"/>
                                </a:lnTo>
                                <a:lnTo>
                                  <a:pt x="23" y="330"/>
                                </a:lnTo>
                                <a:lnTo>
                                  <a:pt x="635" y="68"/>
                                </a:lnTo>
                                <a:lnTo>
                                  <a:pt x="65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1" name=""/>
                          <p:cNvSpPr/>
                          <p:nvPr/>
                        </p:nvSpPr>
                        <p:spPr>
                          <a:xfrm>
                            <a:off x="6380280" y="5042520"/>
                            <a:ext cx="701640" cy="439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4" h="554">
                                <a:moveTo>
                                  <a:pt x="884" y="530"/>
                                </a:moveTo>
                                <a:lnTo>
                                  <a:pt x="851" y="542"/>
                                </a:lnTo>
                                <a:lnTo>
                                  <a:pt x="837" y="554"/>
                                </a:lnTo>
                                <a:lnTo>
                                  <a:pt x="0" y="5"/>
                                </a:lnTo>
                                <a:lnTo>
                                  <a:pt x="20" y="2"/>
                                </a:lnTo>
                                <a:lnTo>
                                  <a:pt x="39" y="0"/>
                                </a:lnTo>
                                <a:lnTo>
                                  <a:pt x="59" y="0"/>
                                </a:lnTo>
                                <a:lnTo>
                                  <a:pt x="80" y="4"/>
                                </a:lnTo>
                                <a:lnTo>
                                  <a:pt x="884" y="5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82" name=""/>
                          <p:cNvSpPr/>
                          <p:nvPr/>
                        </p:nvSpPr>
                        <p:spPr>
                          <a:xfrm>
                            <a:off x="6370560" y="5046840"/>
                            <a:ext cx="677880" cy="469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55" h="594">
                                <a:moveTo>
                                  <a:pt x="13" y="0"/>
                                </a:moveTo>
                                <a:lnTo>
                                  <a:pt x="848" y="547"/>
                                </a:lnTo>
                                <a:lnTo>
                                  <a:pt x="845" y="570"/>
                                </a:lnTo>
                                <a:lnTo>
                                  <a:pt x="855" y="594"/>
                                </a:lnTo>
                                <a:lnTo>
                                  <a:pt x="0" y="27"/>
                                </a:lnTo>
                                <a:lnTo>
                                  <a:pt x="0" y="12"/>
                                </a:lnTo>
                                <a:lnTo>
                                  <a:pt x="1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683" name=""/>
                      <p:cNvGrpSpPr/>
                      <p:nvPr/>
                    </p:nvGrpSpPr>
                    <p:grpSpPr>
                      <a:xfrm>
                        <a:off x="7072200" y="4144680"/>
                        <a:ext cx="916200" cy="858240"/>
                        <a:chOff x="7072200" y="4144680"/>
                        <a:chExt cx="916200" cy="858240"/>
                      </a:xfrm>
                    </p:grpSpPr>
                    <p:sp>
                      <p:nvSpPr>
                        <p:cNvPr id="1684" name=""/>
                        <p:cNvSpPr/>
                        <p:nvPr/>
                      </p:nvSpPr>
                      <p:spPr>
                        <a:xfrm>
                          <a:off x="7715160" y="4468320"/>
                          <a:ext cx="273240" cy="53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4" h="674">
                              <a:moveTo>
                                <a:pt x="320" y="0"/>
                              </a:moveTo>
                              <a:lnTo>
                                <a:pt x="344" y="45"/>
                              </a:lnTo>
                              <a:lnTo>
                                <a:pt x="25" y="674"/>
                              </a:lnTo>
                              <a:lnTo>
                                <a:pt x="0" y="626"/>
                              </a:lnTo>
                              <a:lnTo>
                                <a:pt x="32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5" name=""/>
                        <p:cNvSpPr/>
                        <p:nvPr/>
                      </p:nvSpPr>
                      <p:spPr>
                        <a:xfrm>
                          <a:off x="7072200" y="4144680"/>
                          <a:ext cx="903240" cy="82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0" h="1038">
                              <a:moveTo>
                                <a:pt x="311" y="0"/>
                              </a:moveTo>
                              <a:lnTo>
                                <a:pt x="1140" y="414"/>
                              </a:lnTo>
                              <a:lnTo>
                                <a:pt x="827" y="1038"/>
                              </a:lnTo>
                              <a:lnTo>
                                <a:pt x="0" y="622"/>
                              </a:lnTo>
                              <a:lnTo>
                                <a:pt x="31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6" name=""/>
                        <p:cNvSpPr/>
                        <p:nvPr/>
                      </p:nvSpPr>
                      <p:spPr>
                        <a:xfrm>
                          <a:off x="7122960" y="4198320"/>
                          <a:ext cx="804960" cy="70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4" h="893">
                              <a:moveTo>
                                <a:pt x="1014" y="378"/>
                              </a:moveTo>
                              <a:lnTo>
                                <a:pt x="756" y="893"/>
                              </a:lnTo>
                              <a:lnTo>
                                <a:pt x="0" y="518"/>
                              </a:lnTo>
                              <a:lnTo>
                                <a:pt x="258" y="0"/>
                              </a:lnTo>
                              <a:lnTo>
                                <a:pt x="1014" y="3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7" name=""/>
                        <p:cNvSpPr/>
                        <p:nvPr/>
                      </p:nvSpPr>
                      <p:spPr>
                        <a:xfrm>
                          <a:off x="7159680" y="4231800"/>
                          <a:ext cx="733320" cy="64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3" h="808">
                              <a:moveTo>
                                <a:pt x="923" y="345"/>
                              </a:moveTo>
                              <a:lnTo>
                                <a:pt x="698" y="808"/>
                              </a:lnTo>
                              <a:lnTo>
                                <a:pt x="0" y="462"/>
                              </a:lnTo>
                              <a:lnTo>
                                <a:pt x="230" y="0"/>
                              </a:lnTo>
                              <a:lnTo>
                                <a:pt x="923" y="3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8" name=""/>
                        <p:cNvSpPr/>
                        <p:nvPr/>
                      </p:nvSpPr>
                      <p:spPr>
                        <a:xfrm>
                          <a:off x="7653240" y="4884120"/>
                          <a:ext cx="6660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6">
                              <a:moveTo>
                                <a:pt x="23" y="0"/>
                              </a:moveTo>
                              <a:lnTo>
                                <a:pt x="85" y="30"/>
                              </a:lnTo>
                              <a:lnTo>
                                <a:pt x="62" y="76"/>
                              </a:lnTo>
                              <a:lnTo>
                                <a:pt x="0" y="45"/>
                              </a:lnTo>
                              <a:lnTo>
                                <a:pt x="2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9" name=""/>
                        <p:cNvSpPr/>
                        <p:nvPr/>
                      </p:nvSpPr>
                      <p:spPr>
                        <a:xfrm>
                          <a:off x="7072200" y="4629960"/>
                          <a:ext cx="669960" cy="37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4" h="468">
                              <a:moveTo>
                                <a:pt x="844" y="468"/>
                              </a:moveTo>
                              <a:lnTo>
                                <a:pt x="25" y="53"/>
                              </a:lnTo>
                              <a:lnTo>
                                <a:pt x="0" y="0"/>
                              </a:lnTo>
                              <a:lnTo>
                                <a:pt x="829" y="421"/>
                              </a:lnTo>
                              <a:lnTo>
                                <a:pt x="844" y="4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0" name=""/>
                        <p:cNvSpPr/>
                        <p:nvPr/>
                      </p:nvSpPr>
                      <p:spPr>
                        <a:xfrm>
                          <a:off x="7229520" y="4717440"/>
                          <a:ext cx="291960" cy="22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8" h="278">
                              <a:moveTo>
                                <a:pt x="0" y="135"/>
                              </a:moveTo>
                              <a:lnTo>
                                <a:pt x="95" y="0"/>
                              </a:lnTo>
                              <a:lnTo>
                                <a:pt x="368" y="136"/>
                              </a:lnTo>
                              <a:lnTo>
                                <a:pt x="272" y="278"/>
                              </a:lnTo>
                              <a:lnTo>
                                <a:pt x="0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7634160" y="5298480"/>
                      <a:ext cx="677880" cy="351720"/>
                      <a:chOff x="7634160" y="5298480"/>
                      <a:chExt cx="677880" cy="35172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648560" y="5328360"/>
                        <a:ext cx="539640" cy="32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0" h="405">
                            <a:moveTo>
                              <a:pt x="0" y="237"/>
                            </a:moveTo>
                            <a:lnTo>
                              <a:pt x="439" y="405"/>
                            </a:lnTo>
                            <a:lnTo>
                              <a:pt x="680" y="179"/>
                            </a:lnTo>
                            <a:lnTo>
                              <a:pt x="244" y="0"/>
                            </a:lnTo>
                            <a:lnTo>
                              <a:pt x="0" y="23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93" name=""/>
                      <p:cNvGrpSpPr/>
                      <p:nvPr/>
                    </p:nvGrpSpPr>
                    <p:grpSpPr>
                      <a:xfrm>
                        <a:off x="7634160" y="5298480"/>
                        <a:ext cx="565200" cy="282240"/>
                        <a:chOff x="7634160" y="5298480"/>
                        <a:chExt cx="565200" cy="282240"/>
                      </a:xfrm>
                    </p:grpSpPr>
                    <p:sp>
                      <p:nvSpPr>
                        <p:cNvPr id="1694" name=""/>
                        <p:cNvSpPr/>
                        <p:nvPr/>
                      </p:nvSpPr>
                      <p:spPr>
                        <a:xfrm>
                          <a:off x="7634160" y="5298480"/>
                          <a:ext cx="565200" cy="28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1" h="357">
                              <a:moveTo>
                                <a:pt x="0" y="110"/>
                              </a:moveTo>
                              <a:lnTo>
                                <a:pt x="272" y="357"/>
                              </a:lnTo>
                              <a:lnTo>
                                <a:pt x="711" y="242"/>
                              </a:lnTo>
                              <a:lnTo>
                                <a:pt x="439" y="0"/>
                              </a:lnTo>
                              <a:lnTo>
                                <a:pt x="0" y="1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5" name=""/>
                        <p:cNvSpPr/>
                        <p:nvPr/>
                      </p:nvSpPr>
                      <p:spPr>
                        <a:xfrm>
                          <a:off x="7651800" y="5350320"/>
                          <a:ext cx="191880" cy="87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108">
                              <a:moveTo>
                                <a:pt x="0" y="50"/>
                              </a:moveTo>
                              <a:lnTo>
                                <a:pt x="60" y="108"/>
                              </a:lnTo>
                              <a:lnTo>
                                <a:pt x="243" y="56"/>
                              </a:lnTo>
                              <a:lnTo>
                                <a:pt x="184" y="0"/>
                              </a:lnTo>
                              <a:lnTo>
                                <a:pt x="0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96" name=""/>
                      <p:cNvGrpSpPr/>
                      <p:nvPr/>
                    </p:nvGrpSpPr>
                    <p:grpSpPr>
                      <a:xfrm>
                        <a:off x="7751880" y="5347440"/>
                        <a:ext cx="560160" cy="280440"/>
                        <a:chOff x="7751880" y="5347440"/>
                        <a:chExt cx="560160" cy="280440"/>
                      </a:xfrm>
                    </p:grpSpPr>
                    <p:sp>
                      <p:nvSpPr>
                        <p:cNvPr id="1697" name=""/>
                        <p:cNvSpPr/>
                        <p:nvPr/>
                      </p:nvSpPr>
                      <p:spPr>
                        <a:xfrm>
                          <a:off x="7751880" y="5347440"/>
                          <a:ext cx="560160" cy="28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5" h="355">
                              <a:moveTo>
                                <a:pt x="0" y="108"/>
                              </a:moveTo>
                              <a:lnTo>
                                <a:pt x="271" y="355"/>
                              </a:lnTo>
                              <a:lnTo>
                                <a:pt x="705" y="246"/>
                              </a:lnTo>
                              <a:lnTo>
                                <a:pt x="430" y="0"/>
                              </a:lnTo>
                              <a:lnTo>
                                <a:pt x="0" y="1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8" name=""/>
                        <p:cNvSpPr/>
                        <p:nvPr/>
                      </p:nvSpPr>
                      <p:spPr>
                        <a:xfrm>
                          <a:off x="7981920" y="5440680"/>
                          <a:ext cx="122400" cy="8676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79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9" name=""/>
                        <p:cNvSpPr/>
                        <p:nvPr/>
                      </p:nvSpPr>
                      <p:spPr>
                        <a:xfrm>
                          <a:off x="7764480" y="5397840"/>
                          <a:ext cx="193680" cy="85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4" h="106">
                              <a:moveTo>
                                <a:pt x="0" y="50"/>
                              </a:moveTo>
                              <a:lnTo>
                                <a:pt x="60" y="106"/>
                              </a:lnTo>
                              <a:lnTo>
                                <a:pt x="244" y="55"/>
                              </a:lnTo>
                              <a:lnTo>
                                <a:pt x="185" y="0"/>
                              </a:lnTo>
                              <a:lnTo>
                                <a:pt x="0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520" bIns="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1700" name=""/>
            <p:cNvGrpSpPr/>
            <p:nvPr/>
          </p:nvGrpSpPr>
          <p:grpSpPr>
            <a:xfrm>
              <a:off x="5010120" y="4368600"/>
              <a:ext cx="1541520" cy="2032920"/>
              <a:chOff x="5010120" y="4368600"/>
              <a:chExt cx="1541520" cy="2032920"/>
            </a:xfrm>
          </p:grpSpPr>
          <p:grpSp>
            <p:nvGrpSpPr>
              <p:cNvPr id="1701" name=""/>
              <p:cNvGrpSpPr/>
              <p:nvPr/>
            </p:nvGrpSpPr>
            <p:grpSpPr>
              <a:xfrm>
                <a:off x="5010120" y="4944600"/>
                <a:ext cx="1541520" cy="1456920"/>
                <a:chOff x="5010120" y="4944600"/>
                <a:chExt cx="1541520" cy="1456920"/>
              </a:xfrm>
            </p:grpSpPr>
            <p:grpSp>
              <p:nvGrpSpPr>
                <p:cNvPr id="1702" name=""/>
                <p:cNvGrpSpPr/>
                <p:nvPr/>
              </p:nvGrpSpPr>
              <p:grpSpPr>
                <a:xfrm>
                  <a:off x="5869080" y="5498280"/>
                  <a:ext cx="509400" cy="633960"/>
                  <a:chOff x="5869080" y="5498280"/>
                  <a:chExt cx="509400" cy="633960"/>
                </a:xfrm>
              </p:grpSpPr>
              <p:sp>
                <p:nvSpPr>
                  <p:cNvPr id="1703" name=""/>
                  <p:cNvSpPr/>
                  <p:nvPr/>
                </p:nvSpPr>
                <p:spPr>
                  <a:xfrm>
                    <a:off x="5932440" y="5498280"/>
                    <a:ext cx="438120" cy="32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406">
                        <a:moveTo>
                          <a:pt x="552" y="80"/>
                        </a:moveTo>
                        <a:lnTo>
                          <a:pt x="528" y="168"/>
                        </a:lnTo>
                        <a:lnTo>
                          <a:pt x="507" y="196"/>
                        </a:lnTo>
                        <a:lnTo>
                          <a:pt x="500" y="208"/>
                        </a:lnTo>
                        <a:lnTo>
                          <a:pt x="503" y="233"/>
                        </a:lnTo>
                        <a:lnTo>
                          <a:pt x="510" y="258"/>
                        </a:lnTo>
                        <a:lnTo>
                          <a:pt x="512" y="285"/>
                        </a:lnTo>
                        <a:lnTo>
                          <a:pt x="483" y="328"/>
                        </a:lnTo>
                        <a:lnTo>
                          <a:pt x="187" y="270"/>
                        </a:lnTo>
                        <a:lnTo>
                          <a:pt x="96" y="336"/>
                        </a:lnTo>
                        <a:lnTo>
                          <a:pt x="71" y="366"/>
                        </a:lnTo>
                        <a:lnTo>
                          <a:pt x="50" y="395"/>
                        </a:lnTo>
                        <a:lnTo>
                          <a:pt x="27" y="406"/>
                        </a:lnTo>
                        <a:lnTo>
                          <a:pt x="12" y="405"/>
                        </a:lnTo>
                        <a:lnTo>
                          <a:pt x="4" y="396"/>
                        </a:lnTo>
                        <a:lnTo>
                          <a:pt x="0" y="380"/>
                        </a:lnTo>
                        <a:lnTo>
                          <a:pt x="4" y="361"/>
                        </a:lnTo>
                        <a:lnTo>
                          <a:pt x="12" y="346"/>
                        </a:lnTo>
                        <a:lnTo>
                          <a:pt x="37" y="310"/>
                        </a:lnTo>
                        <a:lnTo>
                          <a:pt x="55" y="293"/>
                        </a:lnTo>
                        <a:lnTo>
                          <a:pt x="76" y="275"/>
                        </a:lnTo>
                        <a:lnTo>
                          <a:pt x="97" y="243"/>
                        </a:lnTo>
                        <a:lnTo>
                          <a:pt x="114" y="218"/>
                        </a:lnTo>
                        <a:lnTo>
                          <a:pt x="132" y="200"/>
                        </a:lnTo>
                        <a:lnTo>
                          <a:pt x="151" y="188"/>
                        </a:lnTo>
                        <a:lnTo>
                          <a:pt x="207" y="150"/>
                        </a:lnTo>
                        <a:lnTo>
                          <a:pt x="253" y="118"/>
                        </a:lnTo>
                        <a:lnTo>
                          <a:pt x="294" y="95"/>
                        </a:lnTo>
                        <a:lnTo>
                          <a:pt x="326" y="78"/>
                        </a:lnTo>
                        <a:lnTo>
                          <a:pt x="319" y="60"/>
                        </a:lnTo>
                        <a:lnTo>
                          <a:pt x="326" y="36"/>
                        </a:lnTo>
                        <a:lnTo>
                          <a:pt x="365" y="0"/>
                        </a:lnTo>
                        <a:lnTo>
                          <a:pt x="552" y="80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869080" y="5608800"/>
                    <a:ext cx="509400" cy="52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2" h="660">
                        <a:moveTo>
                          <a:pt x="0" y="485"/>
                        </a:moveTo>
                        <a:lnTo>
                          <a:pt x="35" y="443"/>
                        </a:lnTo>
                        <a:lnTo>
                          <a:pt x="69" y="418"/>
                        </a:lnTo>
                        <a:lnTo>
                          <a:pt x="134" y="375"/>
                        </a:lnTo>
                        <a:lnTo>
                          <a:pt x="132" y="330"/>
                        </a:lnTo>
                        <a:lnTo>
                          <a:pt x="130" y="276"/>
                        </a:lnTo>
                        <a:lnTo>
                          <a:pt x="134" y="230"/>
                        </a:lnTo>
                        <a:lnTo>
                          <a:pt x="139" y="181"/>
                        </a:lnTo>
                        <a:lnTo>
                          <a:pt x="147" y="165"/>
                        </a:lnTo>
                        <a:lnTo>
                          <a:pt x="162" y="151"/>
                        </a:lnTo>
                        <a:lnTo>
                          <a:pt x="186" y="136"/>
                        </a:lnTo>
                        <a:lnTo>
                          <a:pt x="209" y="120"/>
                        </a:lnTo>
                        <a:lnTo>
                          <a:pt x="227" y="100"/>
                        </a:lnTo>
                        <a:lnTo>
                          <a:pt x="232" y="85"/>
                        </a:lnTo>
                        <a:lnTo>
                          <a:pt x="242" y="70"/>
                        </a:lnTo>
                        <a:lnTo>
                          <a:pt x="262" y="30"/>
                        </a:lnTo>
                        <a:lnTo>
                          <a:pt x="272" y="23"/>
                        </a:lnTo>
                        <a:lnTo>
                          <a:pt x="287" y="20"/>
                        </a:lnTo>
                        <a:lnTo>
                          <a:pt x="299" y="23"/>
                        </a:lnTo>
                        <a:lnTo>
                          <a:pt x="304" y="36"/>
                        </a:lnTo>
                        <a:lnTo>
                          <a:pt x="309" y="61"/>
                        </a:lnTo>
                        <a:lnTo>
                          <a:pt x="306" y="91"/>
                        </a:lnTo>
                        <a:lnTo>
                          <a:pt x="298" y="118"/>
                        </a:lnTo>
                        <a:lnTo>
                          <a:pt x="333" y="73"/>
                        </a:lnTo>
                        <a:lnTo>
                          <a:pt x="369" y="36"/>
                        </a:lnTo>
                        <a:lnTo>
                          <a:pt x="414" y="8"/>
                        </a:lnTo>
                        <a:lnTo>
                          <a:pt x="436" y="0"/>
                        </a:lnTo>
                        <a:lnTo>
                          <a:pt x="463" y="5"/>
                        </a:lnTo>
                        <a:lnTo>
                          <a:pt x="486" y="13"/>
                        </a:lnTo>
                        <a:lnTo>
                          <a:pt x="508" y="23"/>
                        </a:lnTo>
                        <a:lnTo>
                          <a:pt x="535" y="36"/>
                        </a:lnTo>
                        <a:lnTo>
                          <a:pt x="545" y="46"/>
                        </a:lnTo>
                        <a:lnTo>
                          <a:pt x="556" y="66"/>
                        </a:lnTo>
                        <a:lnTo>
                          <a:pt x="560" y="90"/>
                        </a:lnTo>
                        <a:lnTo>
                          <a:pt x="573" y="100"/>
                        </a:lnTo>
                        <a:lnTo>
                          <a:pt x="583" y="113"/>
                        </a:lnTo>
                        <a:lnTo>
                          <a:pt x="592" y="138"/>
                        </a:lnTo>
                        <a:lnTo>
                          <a:pt x="597" y="156"/>
                        </a:lnTo>
                        <a:lnTo>
                          <a:pt x="592" y="173"/>
                        </a:lnTo>
                        <a:lnTo>
                          <a:pt x="608" y="181"/>
                        </a:lnTo>
                        <a:lnTo>
                          <a:pt x="615" y="193"/>
                        </a:lnTo>
                        <a:lnTo>
                          <a:pt x="610" y="218"/>
                        </a:lnTo>
                        <a:lnTo>
                          <a:pt x="592" y="241"/>
                        </a:lnTo>
                        <a:lnTo>
                          <a:pt x="612" y="268"/>
                        </a:lnTo>
                        <a:lnTo>
                          <a:pt x="628" y="291"/>
                        </a:lnTo>
                        <a:lnTo>
                          <a:pt x="642" y="330"/>
                        </a:lnTo>
                        <a:lnTo>
                          <a:pt x="633" y="338"/>
                        </a:lnTo>
                        <a:lnTo>
                          <a:pt x="612" y="340"/>
                        </a:lnTo>
                        <a:lnTo>
                          <a:pt x="593" y="326"/>
                        </a:lnTo>
                        <a:lnTo>
                          <a:pt x="575" y="318"/>
                        </a:lnTo>
                        <a:lnTo>
                          <a:pt x="556" y="316"/>
                        </a:lnTo>
                        <a:lnTo>
                          <a:pt x="538" y="320"/>
                        </a:lnTo>
                        <a:lnTo>
                          <a:pt x="513" y="341"/>
                        </a:lnTo>
                        <a:lnTo>
                          <a:pt x="498" y="373"/>
                        </a:lnTo>
                        <a:lnTo>
                          <a:pt x="480" y="411"/>
                        </a:lnTo>
                        <a:lnTo>
                          <a:pt x="453" y="440"/>
                        </a:lnTo>
                        <a:lnTo>
                          <a:pt x="423" y="456"/>
                        </a:lnTo>
                        <a:lnTo>
                          <a:pt x="379" y="491"/>
                        </a:lnTo>
                        <a:lnTo>
                          <a:pt x="344" y="521"/>
                        </a:lnTo>
                        <a:lnTo>
                          <a:pt x="277" y="563"/>
                        </a:lnTo>
                        <a:lnTo>
                          <a:pt x="117" y="660"/>
                        </a:lnTo>
                        <a:lnTo>
                          <a:pt x="0" y="485"/>
                        </a:lnTo>
                        <a:close/>
                      </a:path>
                    </a:pathLst>
                  </a:custGeom>
                  <a:solidFill>
                    <a:srgbClr val="ff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5898960" y="5693040"/>
                    <a:ext cx="24300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515">
                        <a:moveTo>
                          <a:pt x="145" y="109"/>
                        </a:moveTo>
                        <a:lnTo>
                          <a:pt x="158" y="89"/>
                        </a:lnTo>
                        <a:lnTo>
                          <a:pt x="187" y="80"/>
                        </a:lnTo>
                        <a:lnTo>
                          <a:pt x="212" y="62"/>
                        </a:lnTo>
                        <a:lnTo>
                          <a:pt x="232" y="39"/>
                        </a:lnTo>
                        <a:lnTo>
                          <a:pt x="257" y="0"/>
                        </a:lnTo>
                        <a:lnTo>
                          <a:pt x="230" y="54"/>
                        </a:lnTo>
                        <a:lnTo>
                          <a:pt x="213" y="75"/>
                        </a:lnTo>
                        <a:lnTo>
                          <a:pt x="193" y="105"/>
                        </a:lnTo>
                        <a:lnTo>
                          <a:pt x="180" y="132"/>
                        </a:lnTo>
                        <a:lnTo>
                          <a:pt x="173" y="169"/>
                        </a:lnTo>
                        <a:lnTo>
                          <a:pt x="185" y="192"/>
                        </a:lnTo>
                        <a:lnTo>
                          <a:pt x="213" y="195"/>
                        </a:lnTo>
                        <a:lnTo>
                          <a:pt x="243" y="190"/>
                        </a:lnTo>
                        <a:lnTo>
                          <a:pt x="274" y="184"/>
                        </a:lnTo>
                        <a:lnTo>
                          <a:pt x="284" y="202"/>
                        </a:lnTo>
                        <a:lnTo>
                          <a:pt x="289" y="227"/>
                        </a:lnTo>
                        <a:lnTo>
                          <a:pt x="280" y="252"/>
                        </a:lnTo>
                        <a:lnTo>
                          <a:pt x="265" y="280"/>
                        </a:lnTo>
                        <a:lnTo>
                          <a:pt x="274" y="299"/>
                        </a:lnTo>
                        <a:lnTo>
                          <a:pt x="285" y="317"/>
                        </a:lnTo>
                        <a:lnTo>
                          <a:pt x="305" y="329"/>
                        </a:lnTo>
                        <a:lnTo>
                          <a:pt x="280" y="330"/>
                        </a:lnTo>
                        <a:lnTo>
                          <a:pt x="260" y="335"/>
                        </a:lnTo>
                        <a:lnTo>
                          <a:pt x="238" y="349"/>
                        </a:lnTo>
                        <a:lnTo>
                          <a:pt x="230" y="372"/>
                        </a:lnTo>
                        <a:lnTo>
                          <a:pt x="232" y="399"/>
                        </a:lnTo>
                        <a:lnTo>
                          <a:pt x="237" y="429"/>
                        </a:lnTo>
                        <a:lnTo>
                          <a:pt x="243" y="455"/>
                        </a:lnTo>
                        <a:lnTo>
                          <a:pt x="150" y="515"/>
                        </a:lnTo>
                        <a:lnTo>
                          <a:pt x="40" y="397"/>
                        </a:lnTo>
                        <a:lnTo>
                          <a:pt x="0" y="329"/>
                        </a:lnTo>
                        <a:lnTo>
                          <a:pt x="51" y="294"/>
                        </a:lnTo>
                        <a:lnTo>
                          <a:pt x="98" y="264"/>
                        </a:lnTo>
                        <a:lnTo>
                          <a:pt x="113" y="239"/>
                        </a:lnTo>
                        <a:lnTo>
                          <a:pt x="120" y="190"/>
                        </a:lnTo>
                        <a:lnTo>
                          <a:pt x="125" y="140"/>
                        </a:lnTo>
                        <a:lnTo>
                          <a:pt x="145" y="109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6235560" y="5786640"/>
                    <a:ext cx="104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65">
                        <a:moveTo>
                          <a:pt x="130" y="18"/>
                        </a:moveTo>
                        <a:lnTo>
                          <a:pt x="102" y="13"/>
                        </a:lnTo>
                        <a:lnTo>
                          <a:pt x="77" y="15"/>
                        </a:lnTo>
                        <a:lnTo>
                          <a:pt x="48" y="31"/>
                        </a:lnTo>
                        <a:lnTo>
                          <a:pt x="0" y="65"/>
                        </a:lnTo>
                        <a:lnTo>
                          <a:pt x="27" y="40"/>
                        </a:lnTo>
                        <a:lnTo>
                          <a:pt x="50" y="16"/>
                        </a:lnTo>
                        <a:lnTo>
                          <a:pt x="78" y="1"/>
                        </a:lnTo>
                        <a:lnTo>
                          <a:pt x="98" y="0"/>
                        </a:lnTo>
                        <a:lnTo>
                          <a:pt x="120" y="6"/>
                        </a:lnTo>
                        <a:lnTo>
                          <a:pt x="130" y="18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6218280" y="5731200"/>
                    <a:ext cx="1220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63">
                        <a:moveTo>
                          <a:pt x="153" y="22"/>
                        </a:moveTo>
                        <a:lnTo>
                          <a:pt x="128" y="13"/>
                        </a:lnTo>
                        <a:lnTo>
                          <a:pt x="101" y="8"/>
                        </a:lnTo>
                        <a:lnTo>
                          <a:pt x="70" y="18"/>
                        </a:lnTo>
                        <a:lnTo>
                          <a:pt x="25" y="50"/>
                        </a:lnTo>
                        <a:lnTo>
                          <a:pt x="0" y="63"/>
                        </a:lnTo>
                        <a:lnTo>
                          <a:pt x="35" y="38"/>
                        </a:lnTo>
                        <a:lnTo>
                          <a:pt x="56" y="18"/>
                        </a:lnTo>
                        <a:lnTo>
                          <a:pt x="75" y="8"/>
                        </a:lnTo>
                        <a:lnTo>
                          <a:pt x="98" y="0"/>
                        </a:lnTo>
                        <a:lnTo>
                          <a:pt x="118" y="2"/>
                        </a:lnTo>
                        <a:lnTo>
                          <a:pt x="153" y="22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6189480" y="5659560"/>
                    <a:ext cx="1224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03">
                        <a:moveTo>
                          <a:pt x="154" y="26"/>
                        </a:moveTo>
                        <a:lnTo>
                          <a:pt x="136" y="31"/>
                        </a:lnTo>
                        <a:lnTo>
                          <a:pt x="121" y="31"/>
                        </a:lnTo>
                        <a:lnTo>
                          <a:pt x="104" y="26"/>
                        </a:lnTo>
                        <a:lnTo>
                          <a:pt x="91" y="13"/>
                        </a:lnTo>
                        <a:lnTo>
                          <a:pt x="59" y="31"/>
                        </a:lnTo>
                        <a:lnTo>
                          <a:pt x="39" y="51"/>
                        </a:lnTo>
                        <a:lnTo>
                          <a:pt x="17" y="78"/>
                        </a:lnTo>
                        <a:lnTo>
                          <a:pt x="0" y="103"/>
                        </a:lnTo>
                        <a:lnTo>
                          <a:pt x="20" y="65"/>
                        </a:lnTo>
                        <a:lnTo>
                          <a:pt x="44" y="31"/>
                        </a:lnTo>
                        <a:lnTo>
                          <a:pt x="64" y="13"/>
                        </a:lnTo>
                        <a:lnTo>
                          <a:pt x="84" y="5"/>
                        </a:lnTo>
                        <a:lnTo>
                          <a:pt x="94" y="0"/>
                        </a:lnTo>
                        <a:lnTo>
                          <a:pt x="109" y="15"/>
                        </a:lnTo>
                        <a:lnTo>
                          <a:pt x="121" y="23"/>
                        </a:lnTo>
                        <a:lnTo>
                          <a:pt x="136" y="26"/>
                        </a:lnTo>
                        <a:lnTo>
                          <a:pt x="154" y="26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5010120" y="4944600"/>
                  <a:ext cx="1541520" cy="1456920"/>
                  <a:chOff x="5010120" y="4944600"/>
                  <a:chExt cx="1541520" cy="1456920"/>
                </a:xfrm>
              </p:grpSpPr>
              <p:grpSp>
                <p:nvGrpSpPr>
                  <p:cNvPr id="1710" name=""/>
                  <p:cNvGrpSpPr/>
                  <p:nvPr/>
                </p:nvGrpSpPr>
                <p:grpSpPr>
                  <a:xfrm>
                    <a:off x="5010120" y="4944600"/>
                    <a:ext cx="1541520" cy="1456920"/>
                    <a:chOff x="5010120" y="4944600"/>
                    <a:chExt cx="1541520" cy="1456920"/>
                  </a:xfrm>
                </p:grpSpPr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5010120" y="4944600"/>
                      <a:ext cx="1541520" cy="14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2" h="1836">
                          <a:moveTo>
                            <a:pt x="549" y="19"/>
                          </a:moveTo>
                          <a:lnTo>
                            <a:pt x="533" y="23"/>
                          </a:lnTo>
                          <a:lnTo>
                            <a:pt x="519" y="38"/>
                          </a:lnTo>
                          <a:lnTo>
                            <a:pt x="504" y="49"/>
                          </a:lnTo>
                          <a:lnTo>
                            <a:pt x="481" y="58"/>
                          </a:lnTo>
                          <a:lnTo>
                            <a:pt x="454" y="63"/>
                          </a:lnTo>
                          <a:lnTo>
                            <a:pt x="432" y="73"/>
                          </a:lnTo>
                          <a:lnTo>
                            <a:pt x="401" y="101"/>
                          </a:lnTo>
                          <a:lnTo>
                            <a:pt x="361" y="136"/>
                          </a:lnTo>
                          <a:lnTo>
                            <a:pt x="320" y="174"/>
                          </a:lnTo>
                          <a:lnTo>
                            <a:pt x="287" y="213"/>
                          </a:lnTo>
                          <a:lnTo>
                            <a:pt x="272" y="239"/>
                          </a:lnTo>
                          <a:lnTo>
                            <a:pt x="252" y="264"/>
                          </a:lnTo>
                          <a:lnTo>
                            <a:pt x="229" y="289"/>
                          </a:lnTo>
                          <a:lnTo>
                            <a:pt x="197" y="324"/>
                          </a:lnTo>
                          <a:lnTo>
                            <a:pt x="172" y="358"/>
                          </a:lnTo>
                          <a:lnTo>
                            <a:pt x="147" y="393"/>
                          </a:lnTo>
                          <a:lnTo>
                            <a:pt x="127" y="429"/>
                          </a:lnTo>
                          <a:lnTo>
                            <a:pt x="105" y="474"/>
                          </a:lnTo>
                          <a:lnTo>
                            <a:pt x="85" y="524"/>
                          </a:lnTo>
                          <a:lnTo>
                            <a:pt x="72" y="569"/>
                          </a:lnTo>
                          <a:lnTo>
                            <a:pt x="61" y="591"/>
                          </a:lnTo>
                          <a:lnTo>
                            <a:pt x="65" y="609"/>
                          </a:lnTo>
                          <a:lnTo>
                            <a:pt x="53" y="638"/>
                          </a:lnTo>
                          <a:lnTo>
                            <a:pt x="43" y="664"/>
                          </a:lnTo>
                          <a:lnTo>
                            <a:pt x="36" y="703"/>
                          </a:lnTo>
                          <a:lnTo>
                            <a:pt x="41" y="736"/>
                          </a:lnTo>
                          <a:lnTo>
                            <a:pt x="45" y="769"/>
                          </a:lnTo>
                          <a:lnTo>
                            <a:pt x="36" y="799"/>
                          </a:lnTo>
                          <a:lnTo>
                            <a:pt x="20" y="811"/>
                          </a:lnTo>
                          <a:lnTo>
                            <a:pt x="8" y="833"/>
                          </a:lnTo>
                          <a:lnTo>
                            <a:pt x="3" y="866"/>
                          </a:lnTo>
                          <a:lnTo>
                            <a:pt x="0" y="916"/>
                          </a:lnTo>
                          <a:lnTo>
                            <a:pt x="1" y="979"/>
                          </a:lnTo>
                          <a:lnTo>
                            <a:pt x="6" y="1063"/>
                          </a:lnTo>
                          <a:lnTo>
                            <a:pt x="3" y="1119"/>
                          </a:lnTo>
                          <a:lnTo>
                            <a:pt x="1" y="1179"/>
                          </a:lnTo>
                          <a:lnTo>
                            <a:pt x="3" y="1234"/>
                          </a:lnTo>
                          <a:lnTo>
                            <a:pt x="6" y="1303"/>
                          </a:lnTo>
                          <a:lnTo>
                            <a:pt x="15" y="1319"/>
                          </a:lnTo>
                          <a:lnTo>
                            <a:pt x="26" y="1333"/>
                          </a:lnTo>
                          <a:lnTo>
                            <a:pt x="23" y="1371"/>
                          </a:lnTo>
                          <a:lnTo>
                            <a:pt x="20" y="1428"/>
                          </a:lnTo>
                          <a:lnTo>
                            <a:pt x="26" y="1466"/>
                          </a:lnTo>
                          <a:lnTo>
                            <a:pt x="21" y="1519"/>
                          </a:lnTo>
                          <a:lnTo>
                            <a:pt x="26" y="1568"/>
                          </a:lnTo>
                          <a:lnTo>
                            <a:pt x="40" y="1613"/>
                          </a:lnTo>
                          <a:lnTo>
                            <a:pt x="55" y="1651"/>
                          </a:lnTo>
                          <a:lnTo>
                            <a:pt x="75" y="1694"/>
                          </a:lnTo>
                          <a:lnTo>
                            <a:pt x="93" y="1728"/>
                          </a:lnTo>
                          <a:lnTo>
                            <a:pt x="113" y="1758"/>
                          </a:lnTo>
                          <a:lnTo>
                            <a:pt x="145" y="1781"/>
                          </a:lnTo>
                          <a:lnTo>
                            <a:pt x="182" y="1809"/>
                          </a:lnTo>
                          <a:lnTo>
                            <a:pt x="215" y="1836"/>
                          </a:lnTo>
                          <a:lnTo>
                            <a:pt x="974" y="1836"/>
                          </a:lnTo>
                          <a:lnTo>
                            <a:pt x="1002" y="1806"/>
                          </a:lnTo>
                          <a:lnTo>
                            <a:pt x="1040" y="1786"/>
                          </a:lnTo>
                          <a:lnTo>
                            <a:pt x="1060" y="1776"/>
                          </a:lnTo>
                          <a:lnTo>
                            <a:pt x="1069" y="1768"/>
                          </a:lnTo>
                          <a:lnTo>
                            <a:pt x="1089" y="1718"/>
                          </a:lnTo>
                          <a:lnTo>
                            <a:pt x="1109" y="1689"/>
                          </a:lnTo>
                          <a:lnTo>
                            <a:pt x="1141" y="1668"/>
                          </a:lnTo>
                          <a:lnTo>
                            <a:pt x="1167" y="1659"/>
                          </a:lnTo>
                          <a:lnTo>
                            <a:pt x="1184" y="1643"/>
                          </a:lnTo>
                          <a:lnTo>
                            <a:pt x="1196" y="1621"/>
                          </a:lnTo>
                          <a:lnTo>
                            <a:pt x="1231" y="1609"/>
                          </a:lnTo>
                          <a:lnTo>
                            <a:pt x="1258" y="1594"/>
                          </a:lnTo>
                          <a:lnTo>
                            <a:pt x="1273" y="1574"/>
                          </a:lnTo>
                          <a:lnTo>
                            <a:pt x="1291" y="1568"/>
                          </a:lnTo>
                          <a:lnTo>
                            <a:pt x="1299" y="1553"/>
                          </a:lnTo>
                          <a:lnTo>
                            <a:pt x="1296" y="1526"/>
                          </a:lnTo>
                          <a:lnTo>
                            <a:pt x="1294" y="1468"/>
                          </a:lnTo>
                          <a:lnTo>
                            <a:pt x="1299" y="1433"/>
                          </a:lnTo>
                          <a:lnTo>
                            <a:pt x="1296" y="1391"/>
                          </a:lnTo>
                          <a:lnTo>
                            <a:pt x="1274" y="1354"/>
                          </a:lnTo>
                          <a:lnTo>
                            <a:pt x="1244" y="1323"/>
                          </a:lnTo>
                          <a:lnTo>
                            <a:pt x="1219" y="1301"/>
                          </a:lnTo>
                          <a:lnTo>
                            <a:pt x="1187" y="1281"/>
                          </a:lnTo>
                          <a:lnTo>
                            <a:pt x="1157" y="1263"/>
                          </a:lnTo>
                          <a:lnTo>
                            <a:pt x="1127" y="1264"/>
                          </a:lnTo>
                          <a:lnTo>
                            <a:pt x="1101" y="1274"/>
                          </a:lnTo>
                          <a:lnTo>
                            <a:pt x="1080" y="1294"/>
                          </a:lnTo>
                          <a:lnTo>
                            <a:pt x="1064" y="1306"/>
                          </a:lnTo>
                          <a:lnTo>
                            <a:pt x="1040" y="1323"/>
                          </a:lnTo>
                          <a:lnTo>
                            <a:pt x="1029" y="1338"/>
                          </a:lnTo>
                          <a:lnTo>
                            <a:pt x="1012" y="1341"/>
                          </a:lnTo>
                          <a:lnTo>
                            <a:pt x="997" y="1356"/>
                          </a:lnTo>
                          <a:lnTo>
                            <a:pt x="984" y="1379"/>
                          </a:lnTo>
                          <a:lnTo>
                            <a:pt x="962" y="1374"/>
                          </a:lnTo>
                          <a:lnTo>
                            <a:pt x="945" y="1379"/>
                          </a:lnTo>
                          <a:lnTo>
                            <a:pt x="937" y="1393"/>
                          </a:lnTo>
                          <a:lnTo>
                            <a:pt x="925" y="1399"/>
                          </a:lnTo>
                          <a:lnTo>
                            <a:pt x="905" y="1404"/>
                          </a:lnTo>
                          <a:lnTo>
                            <a:pt x="887" y="1399"/>
                          </a:lnTo>
                          <a:lnTo>
                            <a:pt x="868" y="1371"/>
                          </a:lnTo>
                          <a:lnTo>
                            <a:pt x="932" y="1331"/>
                          </a:lnTo>
                          <a:lnTo>
                            <a:pt x="1052" y="1191"/>
                          </a:lnTo>
                          <a:lnTo>
                            <a:pt x="1256" y="946"/>
                          </a:lnTo>
                          <a:lnTo>
                            <a:pt x="1268" y="909"/>
                          </a:lnTo>
                          <a:lnTo>
                            <a:pt x="1271" y="868"/>
                          </a:lnTo>
                          <a:lnTo>
                            <a:pt x="1264" y="819"/>
                          </a:lnTo>
                          <a:lnTo>
                            <a:pt x="1293" y="811"/>
                          </a:lnTo>
                          <a:lnTo>
                            <a:pt x="1319" y="793"/>
                          </a:lnTo>
                          <a:lnTo>
                            <a:pt x="1318" y="778"/>
                          </a:lnTo>
                          <a:lnTo>
                            <a:pt x="1296" y="736"/>
                          </a:lnTo>
                          <a:lnTo>
                            <a:pt x="1283" y="703"/>
                          </a:lnTo>
                          <a:lnTo>
                            <a:pt x="1291" y="636"/>
                          </a:lnTo>
                          <a:lnTo>
                            <a:pt x="1294" y="593"/>
                          </a:lnTo>
                          <a:lnTo>
                            <a:pt x="1293" y="549"/>
                          </a:lnTo>
                          <a:lnTo>
                            <a:pt x="1328" y="568"/>
                          </a:lnTo>
                          <a:lnTo>
                            <a:pt x="1354" y="589"/>
                          </a:lnTo>
                          <a:lnTo>
                            <a:pt x="1385" y="599"/>
                          </a:lnTo>
                          <a:lnTo>
                            <a:pt x="1421" y="604"/>
                          </a:lnTo>
                          <a:lnTo>
                            <a:pt x="1455" y="601"/>
                          </a:lnTo>
                          <a:lnTo>
                            <a:pt x="1503" y="591"/>
                          </a:lnTo>
                          <a:lnTo>
                            <a:pt x="1535" y="583"/>
                          </a:lnTo>
                          <a:lnTo>
                            <a:pt x="1567" y="581"/>
                          </a:lnTo>
                          <a:lnTo>
                            <a:pt x="1550" y="619"/>
                          </a:lnTo>
                          <a:lnTo>
                            <a:pt x="1540" y="654"/>
                          </a:lnTo>
                          <a:lnTo>
                            <a:pt x="1518" y="681"/>
                          </a:lnTo>
                          <a:lnTo>
                            <a:pt x="1498" y="706"/>
                          </a:lnTo>
                          <a:lnTo>
                            <a:pt x="1485" y="726"/>
                          </a:lnTo>
                          <a:lnTo>
                            <a:pt x="1476" y="746"/>
                          </a:lnTo>
                          <a:lnTo>
                            <a:pt x="1480" y="759"/>
                          </a:lnTo>
                          <a:lnTo>
                            <a:pt x="1491" y="779"/>
                          </a:lnTo>
                          <a:lnTo>
                            <a:pt x="1486" y="761"/>
                          </a:lnTo>
                          <a:lnTo>
                            <a:pt x="1495" y="748"/>
                          </a:lnTo>
                          <a:lnTo>
                            <a:pt x="1511" y="743"/>
                          </a:lnTo>
                          <a:lnTo>
                            <a:pt x="1532" y="741"/>
                          </a:lnTo>
                          <a:lnTo>
                            <a:pt x="1558" y="744"/>
                          </a:lnTo>
                          <a:lnTo>
                            <a:pt x="1587" y="753"/>
                          </a:lnTo>
                          <a:lnTo>
                            <a:pt x="1613" y="766"/>
                          </a:lnTo>
                          <a:lnTo>
                            <a:pt x="1638" y="783"/>
                          </a:lnTo>
                          <a:lnTo>
                            <a:pt x="1658" y="804"/>
                          </a:lnTo>
                          <a:lnTo>
                            <a:pt x="1680" y="833"/>
                          </a:lnTo>
                          <a:lnTo>
                            <a:pt x="1689" y="858"/>
                          </a:lnTo>
                          <a:lnTo>
                            <a:pt x="1682" y="869"/>
                          </a:lnTo>
                          <a:lnTo>
                            <a:pt x="1675" y="879"/>
                          </a:lnTo>
                          <a:lnTo>
                            <a:pt x="1690" y="879"/>
                          </a:lnTo>
                          <a:lnTo>
                            <a:pt x="1707" y="874"/>
                          </a:lnTo>
                          <a:lnTo>
                            <a:pt x="1719" y="869"/>
                          </a:lnTo>
                          <a:lnTo>
                            <a:pt x="1732" y="849"/>
                          </a:lnTo>
                          <a:lnTo>
                            <a:pt x="1742" y="826"/>
                          </a:lnTo>
                          <a:lnTo>
                            <a:pt x="1764" y="803"/>
                          </a:lnTo>
                          <a:lnTo>
                            <a:pt x="1779" y="779"/>
                          </a:lnTo>
                          <a:lnTo>
                            <a:pt x="1804" y="776"/>
                          </a:lnTo>
                          <a:lnTo>
                            <a:pt x="1829" y="776"/>
                          </a:lnTo>
                          <a:lnTo>
                            <a:pt x="1847" y="771"/>
                          </a:lnTo>
                          <a:lnTo>
                            <a:pt x="1866" y="741"/>
                          </a:lnTo>
                          <a:lnTo>
                            <a:pt x="1886" y="703"/>
                          </a:lnTo>
                          <a:lnTo>
                            <a:pt x="1904" y="664"/>
                          </a:lnTo>
                          <a:lnTo>
                            <a:pt x="1921" y="638"/>
                          </a:lnTo>
                          <a:lnTo>
                            <a:pt x="1924" y="619"/>
                          </a:lnTo>
                          <a:lnTo>
                            <a:pt x="1937" y="554"/>
                          </a:lnTo>
                          <a:lnTo>
                            <a:pt x="1942" y="501"/>
                          </a:lnTo>
                          <a:lnTo>
                            <a:pt x="1939" y="458"/>
                          </a:lnTo>
                          <a:lnTo>
                            <a:pt x="1934" y="416"/>
                          </a:lnTo>
                          <a:lnTo>
                            <a:pt x="1927" y="394"/>
                          </a:lnTo>
                          <a:lnTo>
                            <a:pt x="1904" y="358"/>
                          </a:lnTo>
                          <a:lnTo>
                            <a:pt x="1879" y="318"/>
                          </a:lnTo>
                          <a:lnTo>
                            <a:pt x="1857" y="289"/>
                          </a:lnTo>
                          <a:lnTo>
                            <a:pt x="1844" y="283"/>
                          </a:lnTo>
                          <a:lnTo>
                            <a:pt x="1762" y="259"/>
                          </a:lnTo>
                          <a:lnTo>
                            <a:pt x="1692" y="216"/>
                          </a:lnTo>
                          <a:lnTo>
                            <a:pt x="1590" y="161"/>
                          </a:lnTo>
                          <a:lnTo>
                            <a:pt x="1445" y="99"/>
                          </a:lnTo>
                          <a:lnTo>
                            <a:pt x="1393" y="74"/>
                          </a:lnTo>
                          <a:lnTo>
                            <a:pt x="1343" y="41"/>
                          </a:lnTo>
                          <a:lnTo>
                            <a:pt x="1289" y="0"/>
                          </a:lnTo>
                          <a:lnTo>
                            <a:pt x="1206" y="6"/>
                          </a:lnTo>
                          <a:lnTo>
                            <a:pt x="974" y="378"/>
                          </a:lnTo>
                          <a:lnTo>
                            <a:pt x="863" y="338"/>
                          </a:lnTo>
                          <a:lnTo>
                            <a:pt x="822" y="318"/>
                          </a:lnTo>
                          <a:lnTo>
                            <a:pt x="786" y="296"/>
                          </a:lnTo>
                          <a:lnTo>
                            <a:pt x="746" y="264"/>
                          </a:lnTo>
                          <a:lnTo>
                            <a:pt x="705" y="223"/>
                          </a:lnTo>
                          <a:lnTo>
                            <a:pt x="656" y="164"/>
                          </a:lnTo>
                          <a:lnTo>
                            <a:pt x="549" y="1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12" name=""/>
                    <p:cNvGrpSpPr/>
                    <p:nvPr/>
                  </p:nvGrpSpPr>
                  <p:grpSpPr>
                    <a:xfrm>
                      <a:off x="5032440" y="4945680"/>
                      <a:ext cx="1488960" cy="1453320"/>
                      <a:chOff x="5032440" y="4945680"/>
                      <a:chExt cx="1488960" cy="1453320"/>
                    </a:xfrm>
                  </p:grpSpPr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6033960" y="5185080"/>
                        <a:ext cx="169920" cy="19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4" h="252">
                            <a:moveTo>
                              <a:pt x="0" y="249"/>
                            </a:moveTo>
                            <a:lnTo>
                              <a:pt x="12" y="195"/>
                            </a:lnTo>
                            <a:lnTo>
                              <a:pt x="22" y="147"/>
                            </a:lnTo>
                            <a:lnTo>
                              <a:pt x="20" y="95"/>
                            </a:lnTo>
                            <a:lnTo>
                              <a:pt x="12" y="40"/>
                            </a:lnTo>
                            <a:lnTo>
                              <a:pt x="7" y="0"/>
                            </a:lnTo>
                            <a:lnTo>
                              <a:pt x="29" y="44"/>
                            </a:lnTo>
                            <a:lnTo>
                              <a:pt x="40" y="80"/>
                            </a:lnTo>
                            <a:lnTo>
                              <a:pt x="65" y="104"/>
                            </a:lnTo>
                            <a:lnTo>
                              <a:pt x="97" y="117"/>
                            </a:lnTo>
                            <a:lnTo>
                              <a:pt x="132" y="120"/>
                            </a:lnTo>
                            <a:lnTo>
                              <a:pt x="162" y="122"/>
                            </a:lnTo>
                            <a:lnTo>
                              <a:pt x="214" y="132"/>
                            </a:lnTo>
                            <a:lnTo>
                              <a:pt x="186" y="137"/>
                            </a:lnTo>
                            <a:lnTo>
                              <a:pt x="154" y="145"/>
                            </a:lnTo>
                            <a:lnTo>
                              <a:pt x="131" y="149"/>
                            </a:lnTo>
                            <a:lnTo>
                              <a:pt x="102" y="150"/>
                            </a:lnTo>
                            <a:lnTo>
                              <a:pt x="64" y="149"/>
                            </a:lnTo>
                            <a:lnTo>
                              <a:pt x="89" y="160"/>
                            </a:lnTo>
                            <a:lnTo>
                              <a:pt x="126" y="165"/>
                            </a:lnTo>
                            <a:lnTo>
                              <a:pt x="156" y="167"/>
                            </a:lnTo>
                            <a:lnTo>
                              <a:pt x="214" y="179"/>
                            </a:lnTo>
                            <a:lnTo>
                              <a:pt x="182" y="185"/>
                            </a:lnTo>
                            <a:lnTo>
                              <a:pt x="156" y="190"/>
                            </a:lnTo>
                            <a:lnTo>
                              <a:pt x="124" y="192"/>
                            </a:lnTo>
                            <a:lnTo>
                              <a:pt x="94" y="194"/>
                            </a:lnTo>
                            <a:lnTo>
                              <a:pt x="116" y="204"/>
                            </a:lnTo>
                            <a:lnTo>
                              <a:pt x="141" y="215"/>
                            </a:lnTo>
                            <a:lnTo>
                              <a:pt x="167" y="222"/>
                            </a:lnTo>
                            <a:lnTo>
                              <a:pt x="206" y="230"/>
                            </a:lnTo>
                            <a:lnTo>
                              <a:pt x="172" y="239"/>
                            </a:lnTo>
                            <a:lnTo>
                              <a:pt x="141" y="234"/>
                            </a:lnTo>
                            <a:lnTo>
                              <a:pt x="114" y="225"/>
                            </a:lnTo>
                            <a:lnTo>
                              <a:pt x="94" y="242"/>
                            </a:lnTo>
                            <a:lnTo>
                              <a:pt x="67" y="250"/>
                            </a:lnTo>
                            <a:lnTo>
                              <a:pt x="37" y="252"/>
                            </a:lnTo>
                            <a:lnTo>
                              <a:pt x="0" y="249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5979960" y="5167440"/>
                        <a:ext cx="90720" cy="43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545">
                            <a:moveTo>
                              <a:pt x="32" y="0"/>
                            </a:moveTo>
                            <a:lnTo>
                              <a:pt x="47" y="157"/>
                            </a:lnTo>
                            <a:lnTo>
                              <a:pt x="42" y="285"/>
                            </a:lnTo>
                            <a:lnTo>
                              <a:pt x="47" y="317"/>
                            </a:lnTo>
                            <a:lnTo>
                              <a:pt x="42" y="372"/>
                            </a:lnTo>
                            <a:lnTo>
                              <a:pt x="66" y="392"/>
                            </a:lnTo>
                            <a:lnTo>
                              <a:pt x="61" y="427"/>
                            </a:lnTo>
                            <a:lnTo>
                              <a:pt x="79" y="448"/>
                            </a:lnTo>
                            <a:lnTo>
                              <a:pt x="97" y="472"/>
                            </a:lnTo>
                            <a:lnTo>
                              <a:pt x="112" y="495"/>
                            </a:lnTo>
                            <a:lnTo>
                              <a:pt x="114" y="510"/>
                            </a:lnTo>
                            <a:lnTo>
                              <a:pt x="109" y="528"/>
                            </a:lnTo>
                            <a:lnTo>
                              <a:pt x="91" y="538"/>
                            </a:lnTo>
                            <a:lnTo>
                              <a:pt x="74" y="545"/>
                            </a:lnTo>
                            <a:lnTo>
                              <a:pt x="56" y="545"/>
                            </a:lnTo>
                            <a:lnTo>
                              <a:pt x="39" y="543"/>
                            </a:lnTo>
                            <a:lnTo>
                              <a:pt x="0" y="530"/>
                            </a:lnTo>
                            <a:lnTo>
                              <a:pt x="37" y="527"/>
                            </a:lnTo>
                            <a:lnTo>
                              <a:pt x="54" y="522"/>
                            </a:lnTo>
                            <a:lnTo>
                              <a:pt x="66" y="510"/>
                            </a:lnTo>
                            <a:lnTo>
                              <a:pt x="54" y="492"/>
                            </a:lnTo>
                            <a:lnTo>
                              <a:pt x="32" y="472"/>
                            </a:lnTo>
                            <a:lnTo>
                              <a:pt x="11" y="462"/>
                            </a:lnTo>
                            <a:lnTo>
                              <a:pt x="19" y="438"/>
                            </a:lnTo>
                            <a:lnTo>
                              <a:pt x="22" y="417"/>
                            </a:lnTo>
                            <a:lnTo>
                              <a:pt x="16" y="347"/>
                            </a:lnTo>
                            <a:lnTo>
                              <a:pt x="11" y="217"/>
                            </a:lnTo>
                            <a:lnTo>
                              <a:pt x="27" y="12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5896080" y="5588280"/>
                        <a:ext cx="12384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35">
                            <a:moveTo>
                              <a:pt x="46" y="0"/>
                            </a:moveTo>
                            <a:lnTo>
                              <a:pt x="63" y="26"/>
                            </a:lnTo>
                            <a:lnTo>
                              <a:pt x="73" y="55"/>
                            </a:lnTo>
                            <a:lnTo>
                              <a:pt x="78" y="83"/>
                            </a:lnTo>
                            <a:lnTo>
                              <a:pt x="80" y="118"/>
                            </a:lnTo>
                            <a:lnTo>
                              <a:pt x="98" y="125"/>
                            </a:lnTo>
                            <a:lnTo>
                              <a:pt x="122" y="123"/>
                            </a:lnTo>
                            <a:lnTo>
                              <a:pt x="140" y="111"/>
                            </a:lnTo>
                            <a:lnTo>
                              <a:pt x="157" y="90"/>
                            </a:lnTo>
                            <a:lnTo>
                              <a:pt x="152" y="116"/>
                            </a:lnTo>
                            <a:lnTo>
                              <a:pt x="143" y="136"/>
                            </a:lnTo>
                            <a:lnTo>
                              <a:pt x="113" y="171"/>
                            </a:lnTo>
                            <a:lnTo>
                              <a:pt x="58" y="235"/>
                            </a:lnTo>
                            <a:lnTo>
                              <a:pt x="0" y="118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6" name=""/>
                      <p:cNvSpPr/>
                      <p:nvPr/>
                    </p:nvSpPr>
                    <p:spPr>
                      <a:xfrm>
                        <a:off x="5632560" y="5837400"/>
                        <a:ext cx="231480" cy="33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0" h="425">
                            <a:moveTo>
                              <a:pt x="0" y="170"/>
                            </a:moveTo>
                            <a:lnTo>
                              <a:pt x="37" y="180"/>
                            </a:lnTo>
                            <a:lnTo>
                              <a:pt x="67" y="158"/>
                            </a:lnTo>
                            <a:lnTo>
                              <a:pt x="95" y="125"/>
                            </a:lnTo>
                            <a:lnTo>
                              <a:pt x="120" y="95"/>
                            </a:lnTo>
                            <a:lnTo>
                              <a:pt x="137" y="63"/>
                            </a:lnTo>
                            <a:lnTo>
                              <a:pt x="155" y="0"/>
                            </a:lnTo>
                            <a:lnTo>
                              <a:pt x="157" y="33"/>
                            </a:lnTo>
                            <a:lnTo>
                              <a:pt x="152" y="75"/>
                            </a:lnTo>
                            <a:lnTo>
                              <a:pt x="137" y="122"/>
                            </a:lnTo>
                            <a:lnTo>
                              <a:pt x="120" y="165"/>
                            </a:lnTo>
                            <a:lnTo>
                              <a:pt x="130" y="192"/>
                            </a:lnTo>
                            <a:lnTo>
                              <a:pt x="150" y="162"/>
                            </a:lnTo>
                            <a:lnTo>
                              <a:pt x="177" y="125"/>
                            </a:lnTo>
                            <a:lnTo>
                              <a:pt x="214" y="87"/>
                            </a:lnTo>
                            <a:lnTo>
                              <a:pt x="252" y="63"/>
                            </a:lnTo>
                            <a:lnTo>
                              <a:pt x="290" y="38"/>
                            </a:lnTo>
                            <a:lnTo>
                              <a:pt x="83" y="273"/>
                            </a:lnTo>
                            <a:lnTo>
                              <a:pt x="82" y="297"/>
                            </a:lnTo>
                            <a:lnTo>
                              <a:pt x="77" y="322"/>
                            </a:lnTo>
                            <a:lnTo>
                              <a:pt x="65" y="340"/>
                            </a:lnTo>
                            <a:lnTo>
                              <a:pt x="50" y="373"/>
                            </a:lnTo>
                            <a:lnTo>
                              <a:pt x="42" y="425"/>
                            </a:lnTo>
                            <a:lnTo>
                              <a:pt x="37" y="338"/>
                            </a:lnTo>
                            <a:lnTo>
                              <a:pt x="28" y="273"/>
                            </a:lnTo>
                            <a:lnTo>
                              <a:pt x="13" y="215"/>
                            </a:lnTo>
                            <a:lnTo>
                              <a:pt x="0" y="17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7" name=""/>
                      <p:cNvSpPr/>
                      <p:nvPr/>
                    </p:nvSpPr>
                    <p:spPr>
                      <a:xfrm>
                        <a:off x="5532480" y="5561280"/>
                        <a:ext cx="131760" cy="42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541">
                            <a:moveTo>
                              <a:pt x="33" y="423"/>
                            </a:moveTo>
                            <a:lnTo>
                              <a:pt x="63" y="451"/>
                            </a:lnTo>
                            <a:lnTo>
                              <a:pt x="87" y="473"/>
                            </a:lnTo>
                            <a:lnTo>
                              <a:pt x="113" y="496"/>
                            </a:lnTo>
                            <a:lnTo>
                              <a:pt x="144" y="541"/>
                            </a:lnTo>
                            <a:lnTo>
                              <a:pt x="155" y="503"/>
                            </a:lnTo>
                            <a:lnTo>
                              <a:pt x="164" y="455"/>
                            </a:lnTo>
                            <a:lnTo>
                              <a:pt x="167" y="378"/>
                            </a:lnTo>
                            <a:lnTo>
                              <a:pt x="160" y="325"/>
                            </a:lnTo>
                            <a:lnTo>
                              <a:pt x="144" y="243"/>
                            </a:lnTo>
                            <a:lnTo>
                              <a:pt x="123" y="161"/>
                            </a:lnTo>
                            <a:lnTo>
                              <a:pt x="107" y="110"/>
                            </a:lnTo>
                            <a:lnTo>
                              <a:pt x="85" y="60"/>
                            </a:lnTo>
                            <a:lnTo>
                              <a:pt x="50" y="0"/>
                            </a:lnTo>
                            <a:lnTo>
                              <a:pt x="68" y="60"/>
                            </a:lnTo>
                            <a:lnTo>
                              <a:pt x="82" y="110"/>
                            </a:lnTo>
                            <a:lnTo>
                              <a:pt x="88" y="163"/>
                            </a:lnTo>
                            <a:lnTo>
                              <a:pt x="97" y="230"/>
                            </a:lnTo>
                            <a:lnTo>
                              <a:pt x="100" y="311"/>
                            </a:lnTo>
                            <a:lnTo>
                              <a:pt x="95" y="376"/>
                            </a:lnTo>
                            <a:lnTo>
                              <a:pt x="82" y="391"/>
                            </a:lnTo>
                            <a:lnTo>
                              <a:pt x="63" y="400"/>
                            </a:lnTo>
                            <a:lnTo>
                              <a:pt x="38" y="403"/>
                            </a:lnTo>
                            <a:lnTo>
                              <a:pt x="0" y="398"/>
                            </a:lnTo>
                            <a:lnTo>
                              <a:pt x="33" y="423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5362560" y="4977000"/>
                        <a:ext cx="446040" cy="40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1" h="508">
                            <a:moveTo>
                              <a:pt x="134" y="15"/>
                            </a:moveTo>
                            <a:lnTo>
                              <a:pt x="114" y="0"/>
                            </a:lnTo>
                            <a:lnTo>
                              <a:pt x="90" y="2"/>
                            </a:lnTo>
                            <a:lnTo>
                              <a:pt x="62" y="17"/>
                            </a:lnTo>
                            <a:lnTo>
                              <a:pt x="40" y="35"/>
                            </a:lnTo>
                            <a:lnTo>
                              <a:pt x="17" y="62"/>
                            </a:lnTo>
                            <a:lnTo>
                              <a:pt x="5" y="88"/>
                            </a:lnTo>
                            <a:lnTo>
                              <a:pt x="0" y="115"/>
                            </a:lnTo>
                            <a:lnTo>
                              <a:pt x="12" y="123"/>
                            </a:lnTo>
                            <a:lnTo>
                              <a:pt x="33" y="130"/>
                            </a:lnTo>
                            <a:lnTo>
                              <a:pt x="58" y="132"/>
                            </a:lnTo>
                            <a:lnTo>
                              <a:pt x="74" y="128"/>
                            </a:lnTo>
                            <a:lnTo>
                              <a:pt x="79" y="152"/>
                            </a:lnTo>
                            <a:lnTo>
                              <a:pt x="89" y="180"/>
                            </a:lnTo>
                            <a:lnTo>
                              <a:pt x="109" y="205"/>
                            </a:lnTo>
                            <a:lnTo>
                              <a:pt x="144" y="237"/>
                            </a:lnTo>
                            <a:lnTo>
                              <a:pt x="179" y="262"/>
                            </a:lnTo>
                            <a:lnTo>
                              <a:pt x="217" y="297"/>
                            </a:lnTo>
                            <a:lnTo>
                              <a:pt x="242" y="335"/>
                            </a:lnTo>
                            <a:lnTo>
                              <a:pt x="266" y="372"/>
                            </a:lnTo>
                            <a:lnTo>
                              <a:pt x="309" y="393"/>
                            </a:lnTo>
                            <a:lnTo>
                              <a:pt x="359" y="430"/>
                            </a:lnTo>
                            <a:lnTo>
                              <a:pt x="399" y="453"/>
                            </a:lnTo>
                            <a:lnTo>
                              <a:pt x="446" y="463"/>
                            </a:lnTo>
                            <a:lnTo>
                              <a:pt x="493" y="480"/>
                            </a:lnTo>
                            <a:lnTo>
                              <a:pt x="535" y="492"/>
                            </a:lnTo>
                            <a:lnTo>
                              <a:pt x="561" y="508"/>
                            </a:lnTo>
                            <a:lnTo>
                              <a:pt x="535" y="483"/>
                            </a:lnTo>
                            <a:lnTo>
                              <a:pt x="493" y="463"/>
                            </a:lnTo>
                            <a:lnTo>
                              <a:pt x="439" y="445"/>
                            </a:lnTo>
                            <a:lnTo>
                              <a:pt x="394" y="430"/>
                            </a:lnTo>
                            <a:lnTo>
                              <a:pt x="359" y="398"/>
                            </a:lnTo>
                            <a:lnTo>
                              <a:pt x="321" y="375"/>
                            </a:lnTo>
                            <a:lnTo>
                              <a:pt x="286" y="355"/>
                            </a:lnTo>
                            <a:lnTo>
                              <a:pt x="271" y="320"/>
                            </a:lnTo>
                            <a:lnTo>
                              <a:pt x="227" y="267"/>
                            </a:lnTo>
                            <a:lnTo>
                              <a:pt x="192" y="242"/>
                            </a:lnTo>
                            <a:lnTo>
                              <a:pt x="167" y="223"/>
                            </a:lnTo>
                            <a:lnTo>
                              <a:pt x="139" y="197"/>
                            </a:lnTo>
                            <a:lnTo>
                              <a:pt x="115" y="168"/>
                            </a:lnTo>
                            <a:lnTo>
                              <a:pt x="104" y="138"/>
                            </a:lnTo>
                            <a:lnTo>
                              <a:pt x="99" y="103"/>
                            </a:lnTo>
                            <a:lnTo>
                              <a:pt x="104" y="72"/>
                            </a:lnTo>
                            <a:lnTo>
                              <a:pt x="119" y="40"/>
                            </a:lnTo>
                            <a:lnTo>
                              <a:pt x="134" y="15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5664240" y="5208840"/>
                        <a:ext cx="158760" cy="10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134">
                            <a:moveTo>
                              <a:pt x="0" y="0"/>
                            </a:moveTo>
                            <a:lnTo>
                              <a:pt x="40" y="32"/>
                            </a:lnTo>
                            <a:lnTo>
                              <a:pt x="75" y="52"/>
                            </a:lnTo>
                            <a:lnTo>
                              <a:pt x="110" y="67"/>
                            </a:lnTo>
                            <a:lnTo>
                              <a:pt x="149" y="72"/>
                            </a:lnTo>
                            <a:lnTo>
                              <a:pt x="194" y="69"/>
                            </a:lnTo>
                            <a:lnTo>
                              <a:pt x="199" y="134"/>
                            </a:lnTo>
                            <a:lnTo>
                              <a:pt x="157" y="130"/>
                            </a:lnTo>
                            <a:lnTo>
                              <a:pt x="115" y="117"/>
                            </a:lnTo>
                            <a:lnTo>
                              <a:pt x="80" y="97"/>
                            </a:lnTo>
                            <a:lnTo>
                              <a:pt x="53" y="74"/>
                            </a:lnTo>
                            <a:lnTo>
                              <a:pt x="25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>
                        <a:off x="5032440" y="5770800"/>
                        <a:ext cx="149040" cy="21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270">
                            <a:moveTo>
                              <a:pt x="0" y="0"/>
                            </a:moveTo>
                            <a:lnTo>
                              <a:pt x="62" y="27"/>
                            </a:lnTo>
                            <a:lnTo>
                              <a:pt x="135" y="63"/>
                            </a:lnTo>
                            <a:lnTo>
                              <a:pt x="189" y="102"/>
                            </a:lnTo>
                            <a:lnTo>
                              <a:pt x="179" y="175"/>
                            </a:lnTo>
                            <a:lnTo>
                              <a:pt x="185" y="270"/>
                            </a:lnTo>
                            <a:lnTo>
                              <a:pt x="144" y="260"/>
                            </a:lnTo>
                            <a:lnTo>
                              <a:pt x="114" y="238"/>
                            </a:lnTo>
                            <a:lnTo>
                              <a:pt x="79" y="193"/>
                            </a:lnTo>
                            <a:lnTo>
                              <a:pt x="55" y="148"/>
                            </a:lnTo>
                            <a:lnTo>
                              <a:pt x="45" y="98"/>
                            </a:lnTo>
                            <a:lnTo>
                              <a:pt x="27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>
                        <a:off x="5430960" y="5813640"/>
                        <a:ext cx="2124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395">
                            <a:moveTo>
                              <a:pt x="0" y="0"/>
                            </a:moveTo>
                            <a:lnTo>
                              <a:pt x="48" y="30"/>
                            </a:lnTo>
                            <a:lnTo>
                              <a:pt x="90" y="58"/>
                            </a:lnTo>
                            <a:lnTo>
                              <a:pt x="132" y="95"/>
                            </a:lnTo>
                            <a:lnTo>
                              <a:pt x="167" y="128"/>
                            </a:lnTo>
                            <a:lnTo>
                              <a:pt x="197" y="163"/>
                            </a:lnTo>
                            <a:lnTo>
                              <a:pt x="220" y="210"/>
                            </a:lnTo>
                            <a:lnTo>
                              <a:pt x="230" y="263"/>
                            </a:lnTo>
                            <a:lnTo>
                              <a:pt x="225" y="338"/>
                            </a:lnTo>
                            <a:lnTo>
                              <a:pt x="212" y="395"/>
                            </a:lnTo>
                            <a:lnTo>
                              <a:pt x="259" y="377"/>
                            </a:lnTo>
                            <a:lnTo>
                              <a:pt x="266" y="327"/>
                            </a:lnTo>
                            <a:lnTo>
                              <a:pt x="267" y="277"/>
                            </a:lnTo>
                            <a:lnTo>
                              <a:pt x="262" y="230"/>
                            </a:lnTo>
                            <a:lnTo>
                              <a:pt x="247" y="192"/>
                            </a:lnTo>
                            <a:lnTo>
                              <a:pt x="227" y="153"/>
                            </a:lnTo>
                            <a:lnTo>
                              <a:pt x="195" y="118"/>
                            </a:lnTo>
                            <a:lnTo>
                              <a:pt x="160" y="88"/>
                            </a:lnTo>
                            <a:lnTo>
                              <a:pt x="122" y="58"/>
                            </a:lnTo>
                            <a:lnTo>
                              <a:pt x="82" y="32"/>
                            </a:lnTo>
                            <a:lnTo>
                              <a:pt x="4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2" name=""/>
                      <p:cNvSpPr/>
                      <p:nvPr/>
                    </p:nvSpPr>
                    <p:spPr>
                      <a:xfrm>
                        <a:off x="5727600" y="5454720"/>
                        <a:ext cx="125640" cy="20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259">
                            <a:moveTo>
                              <a:pt x="0" y="0"/>
                            </a:moveTo>
                            <a:lnTo>
                              <a:pt x="27" y="50"/>
                            </a:lnTo>
                            <a:lnTo>
                              <a:pt x="46" y="84"/>
                            </a:lnTo>
                            <a:lnTo>
                              <a:pt x="74" y="115"/>
                            </a:lnTo>
                            <a:lnTo>
                              <a:pt x="114" y="157"/>
                            </a:lnTo>
                            <a:lnTo>
                              <a:pt x="159" y="197"/>
                            </a:lnTo>
                            <a:lnTo>
                              <a:pt x="154" y="259"/>
                            </a:lnTo>
                            <a:lnTo>
                              <a:pt x="122" y="247"/>
                            </a:lnTo>
                            <a:lnTo>
                              <a:pt x="82" y="214"/>
                            </a:lnTo>
                            <a:lnTo>
                              <a:pt x="47" y="169"/>
                            </a:lnTo>
                            <a:lnTo>
                              <a:pt x="24" y="112"/>
                            </a:lnTo>
                            <a:lnTo>
                              <a:pt x="12" y="6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5819760" y="5677200"/>
                        <a:ext cx="82440" cy="23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294">
                            <a:moveTo>
                              <a:pt x="12" y="0"/>
                            </a:moveTo>
                            <a:lnTo>
                              <a:pt x="5" y="84"/>
                            </a:lnTo>
                            <a:lnTo>
                              <a:pt x="2" y="140"/>
                            </a:lnTo>
                            <a:lnTo>
                              <a:pt x="0" y="195"/>
                            </a:lnTo>
                            <a:lnTo>
                              <a:pt x="4" y="242"/>
                            </a:lnTo>
                            <a:lnTo>
                              <a:pt x="9" y="294"/>
                            </a:lnTo>
                            <a:lnTo>
                              <a:pt x="44" y="252"/>
                            </a:lnTo>
                            <a:lnTo>
                              <a:pt x="104" y="10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6243480" y="5204160"/>
                        <a:ext cx="277920" cy="20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9" h="265">
                            <a:moveTo>
                              <a:pt x="0" y="261"/>
                            </a:moveTo>
                            <a:lnTo>
                              <a:pt x="20" y="230"/>
                            </a:lnTo>
                            <a:lnTo>
                              <a:pt x="42" y="193"/>
                            </a:lnTo>
                            <a:lnTo>
                              <a:pt x="68" y="160"/>
                            </a:lnTo>
                            <a:lnTo>
                              <a:pt x="97" y="141"/>
                            </a:lnTo>
                            <a:lnTo>
                              <a:pt x="134" y="120"/>
                            </a:lnTo>
                            <a:lnTo>
                              <a:pt x="150" y="103"/>
                            </a:lnTo>
                            <a:lnTo>
                              <a:pt x="160" y="71"/>
                            </a:lnTo>
                            <a:lnTo>
                              <a:pt x="182" y="60"/>
                            </a:lnTo>
                            <a:lnTo>
                              <a:pt x="207" y="45"/>
                            </a:lnTo>
                            <a:lnTo>
                              <a:pt x="235" y="28"/>
                            </a:lnTo>
                            <a:lnTo>
                              <a:pt x="291" y="0"/>
                            </a:lnTo>
                            <a:lnTo>
                              <a:pt x="249" y="31"/>
                            </a:lnTo>
                            <a:lnTo>
                              <a:pt x="219" y="53"/>
                            </a:lnTo>
                            <a:lnTo>
                              <a:pt x="199" y="73"/>
                            </a:lnTo>
                            <a:lnTo>
                              <a:pt x="180" y="96"/>
                            </a:lnTo>
                            <a:lnTo>
                              <a:pt x="205" y="95"/>
                            </a:lnTo>
                            <a:lnTo>
                              <a:pt x="245" y="96"/>
                            </a:lnTo>
                            <a:lnTo>
                              <a:pt x="286" y="105"/>
                            </a:lnTo>
                            <a:lnTo>
                              <a:pt x="314" y="120"/>
                            </a:lnTo>
                            <a:lnTo>
                              <a:pt x="332" y="131"/>
                            </a:lnTo>
                            <a:lnTo>
                              <a:pt x="346" y="155"/>
                            </a:lnTo>
                            <a:lnTo>
                              <a:pt x="349" y="188"/>
                            </a:lnTo>
                            <a:lnTo>
                              <a:pt x="334" y="161"/>
                            </a:lnTo>
                            <a:lnTo>
                              <a:pt x="311" y="140"/>
                            </a:lnTo>
                            <a:lnTo>
                              <a:pt x="287" y="128"/>
                            </a:lnTo>
                            <a:lnTo>
                              <a:pt x="259" y="121"/>
                            </a:lnTo>
                            <a:lnTo>
                              <a:pt x="229" y="118"/>
                            </a:lnTo>
                            <a:lnTo>
                              <a:pt x="199" y="120"/>
                            </a:lnTo>
                            <a:lnTo>
                              <a:pt x="172" y="125"/>
                            </a:lnTo>
                            <a:lnTo>
                              <a:pt x="145" y="136"/>
                            </a:lnTo>
                            <a:lnTo>
                              <a:pt x="127" y="153"/>
                            </a:lnTo>
                            <a:lnTo>
                              <a:pt x="135" y="165"/>
                            </a:lnTo>
                            <a:lnTo>
                              <a:pt x="142" y="183"/>
                            </a:lnTo>
                            <a:lnTo>
                              <a:pt x="125" y="178"/>
                            </a:lnTo>
                            <a:lnTo>
                              <a:pt x="105" y="168"/>
                            </a:lnTo>
                            <a:lnTo>
                              <a:pt x="117" y="186"/>
                            </a:lnTo>
                            <a:lnTo>
                              <a:pt x="122" y="203"/>
                            </a:lnTo>
                            <a:lnTo>
                              <a:pt x="97" y="201"/>
                            </a:lnTo>
                            <a:lnTo>
                              <a:pt x="77" y="198"/>
                            </a:lnTo>
                            <a:lnTo>
                              <a:pt x="62" y="220"/>
                            </a:lnTo>
                            <a:lnTo>
                              <a:pt x="33" y="233"/>
                            </a:lnTo>
                            <a:lnTo>
                              <a:pt x="7" y="265"/>
                            </a:lnTo>
                            <a:lnTo>
                              <a:pt x="0" y="261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6208560" y="5405760"/>
                        <a:ext cx="12060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101">
                            <a:moveTo>
                              <a:pt x="42" y="5"/>
                            </a:moveTo>
                            <a:lnTo>
                              <a:pt x="32" y="33"/>
                            </a:lnTo>
                            <a:lnTo>
                              <a:pt x="25" y="53"/>
                            </a:lnTo>
                            <a:lnTo>
                              <a:pt x="22" y="75"/>
                            </a:lnTo>
                            <a:lnTo>
                              <a:pt x="0" y="101"/>
                            </a:lnTo>
                            <a:lnTo>
                              <a:pt x="22" y="98"/>
                            </a:lnTo>
                            <a:lnTo>
                              <a:pt x="40" y="86"/>
                            </a:lnTo>
                            <a:lnTo>
                              <a:pt x="62" y="53"/>
                            </a:lnTo>
                            <a:lnTo>
                              <a:pt x="88" y="38"/>
                            </a:lnTo>
                            <a:lnTo>
                              <a:pt x="118" y="30"/>
                            </a:lnTo>
                            <a:lnTo>
                              <a:pt x="152" y="35"/>
                            </a:lnTo>
                            <a:lnTo>
                              <a:pt x="130" y="16"/>
                            </a:lnTo>
                            <a:lnTo>
                              <a:pt x="98" y="1"/>
                            </a:lnTo>
                            <a:lnTo>
                              <a:pt x="68" y="0"/>
                            </a:lnTo>
                            <a:lnTo>
                              <a:pt x="42" y="5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6029280" y="4945680"/>
                        <a:ext cx="434880" cy="29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8" h="370">
                            <a:moveTo>
                              <a:pt x="17" y="313"/>
                            </a:moveTo>
                            <a:lnTo>
                              <a:pt x="10" y="270"/>
                            </a:lnTo>
                            <a:lnTo>
                              <a:pt x="12" y="222"/>
                            </a:lnTo>
                            <a:lnTo>
                              <a:pt x="20" y="167"/>
                            </a:lnTo>
                            <a:lnTo>
                              <a:pt x="29" y="125"/>
                            </a:lnTo>
                            <a:lnTo>
                              <a:pt x="30" y="80"/>
                            </a:lnTo>
                            <a:lnTo>
                              <a:pt x="20" y="47"/>
                            </a:lnTo>
                            <a:lnTo>
                              <a:pt x="0" y="0"/>
                            </a:lnTo>
                            <a:lnTo>
                              <a:pt x="54" y="42"/>
                            </a:lnTo>
                            <a:lnTo>
                              <a:pt x="102" y="77"/>
                            </a:lnTo>
                            <a:lnTo>
                              <a:pt x="151" y="97"/>
                            </a:lnTo>
                            <a:lnTo>
                              <a:pt x="209" y="123"/>
                            </a:lnTo>
                            <a:lnTo>
                              <a:pt x="273" y="148"/>
                            </a:lnTo>
                            <a:lnTo>
                              <a:pt x="333" y="178"/>
                            </a:lnTo>
                            <a:lnTo>
                              <a:pt x="383" y="205"/>
                            </a:lnTo>
                            <a:lnTo>
                              <a:pt x="458" y="248"/>
                            </a:lnTo>
                            <a:lnTo>
                              <a:pt x="483" y="268"/>
                            </a:lnTo>
                            <a:lnTo>
                              <a:pt x="506" y="275"/>
                            </a:lnTo>
                            <a:lnTo>
                              <a:pt x="525" y="290"/>
                            </a:lnTo>
                            <a:lnTo>
                              <a:pt x="548" y="300"/>
                            </a:lnTo>
                            <a:lnTo>
                              <a:pt x="511" y="313"/>
                            </a:lnTo>
                            <a:lnTo>
                              <a:pt x="480" y="317"/>
                            </a:lnTo>
                            <a:lnTo>
                              <a:pt x="453" y="315"/>
                            </a:lnTo>
                            <a:lnTo>
                              <a:pt x="420" y="338"/>
                            </a:lnTo>
                            <a:lnTo>
                              <a:pt x="385" y="360"/>
                            </a:lnTo>
                            <a:lnTo>
                              <a:pt x="344" y="368"/>
                            </a:lnTo>
                            <a:lnTo>
                              <a:pt x="298" y="370"/>
                            </a:lnTo>
                            <a:lnTo>
                              <a:pt x="248" y="368"/>
                            </a:lnTo>
                            <a:lnTo>
                              <a:pt x="189" y="363"/>
                            </a:lnTo>
                            <a:lnTo>
                              <a:pt x="137" y="357"/>
                            </a:lnTo>
                            <a:lnTo>
                              <a:pt x="89" y="345"/>
                            </a:lnTo>
                            <a:lnTo>
                              <a:pt x="49" y="330"/>
                            </a:lnTo>
                            <a:lnTo>
                              <a:pt x="17" y="313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6364080" y="5511960"/>
                        <a:ext cx="12384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33">
                            <a:moveTo>
                              <a:pt x="0" y="133"/>
                            </a:moveTo>
                            <a:lnTo>
                              <a:pt x="17" y="90"/>
                            </a:lnTo>
                            <a:lnTo>
                              <a:pt x="45" y="63"/>
                            </a:lnTo>
                            <a:lnTo>
                              <a:pt x="52" y="32"/>
                            </a:lnTo>
                            <a:lnTo>
                              <a:pt x="82" y="53"/>
                            </a:lnTo>
                            <a:lnTo>
                              <a:pt x="119" y="32"/>
                            </a:lnTo>
                            <a:lnTo>
                              <a:pt x="157" y="0"/>
                            </a:lnTo>
                            <a:lnTo>
                              <a:pt x="124" y="48"/>
                            </a:lnTo>
                            <a:lnTo>
                              <a:pt x="99" y="68"/>
                            </a:lnTo>
                            <a:lnTo>
                              <a:pt x="72" y="80"/>
                            </a:lnTo>
                            <a:lnTo>
                              <a:pt x="0" y="133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5818320" y="5969160"/>
                        <a:ext cx="110880" cy="9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15">
                            <a:moveTo>
                              <a:pt x="140" y="12"/>
                            </a:moveTo>
                            <a:lnTo>
                              <a:pt x="115" y="13"/>
                            </a:lnTo>
                            <a:lnTo>
                              <a:pt x="89" y="5"/>
                            </a:lnTo>
                            <a:lnTo>
                              <a:pt x="65" y="2"/>
                            </a:lnTo>
                            <a:lnTo>
                              <a:pt x="47" y="0"/>
                            </a:lnTo>
                            <a:lnTo>
                              <a:pt x="25" y="15"/>
                            </a:lnTo>
                            <a:lnTo>
                              <a:pt x="15" y="25"/>
                            </a:lnTo>
                            <a:lnTo>
                              <a:pt x="3" y="43"/>
                            </a:lnTo>
                            <a:lnTo>
                              <a:pt x="0" y="72"/>
                            </a:lnTo>
                            <a:lnTo>
                              <a:pt x="25" y="80"/>
                            </a:lnTo>
                            <a:lnTo>
                              <a:pt x="50" y="92"/>
                            </a:lnTo>
                            <a:lnTo>
                              <a:pt x="67" y="115"/>
                            </a:lnTo>
                            <a:lnTo>
                              <a:pt x="87" y="105"/>
                            </a:lnTo>
                            <a:lnTo>
                              <a:pt x="102" y="90"/>
                            </a:lnTo>
                            <a:lnTo>
                              <a:pt x="115" y="67"/>
                            </a:lnTo>
                            <a:lnTo>
                              <a:pt x="127" y="40"/>
                            </a:lnTo>
                            <a:lnTo>
                              <a:pt x="140" y="12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5049720" y="5977080"/>
                        <a:ext cx="223920" cy="42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2" h="532">
                            <a:moveTo>
                              <a:pt x="0" y="0"/>
                            </a:moveTo>
                            <a:lnTo>
                              <a:pt x="75" y="15"/>
                            </a:lnTo>
                            <a:lnTo>
                              <a:pt x="120" y="45"/>
                            </a:lnTo>
                            <a:lnTo>
                              <a:pt x="143" y="83"/>
                            </a:lnTo>
                            <a:lnTo>
                              <a:pt x="165" y="45"/>
                            </a:lnTo>
                            <a:lnTo>
                              <a:pt x="182" y="207"/>
                            </a:lnTo>
                            <a:lnTo>
                              <a:pt x="197" y="320"/>
                            </a:lnTo>
                            <a:lnTo>
                              <a:pt x="217" y="408"/>
                            </a:lnTo>
                            <a:lnTo>
                              <a:pt x="282" y="532"/>
                            </a:lnTo>
                            <a:lnTo>
                              <a:pt x="240" y="507"/>
                            </a:lnTo>
                            <a:lnTo>
                              <a:pt x="202" y="477"/>
                            </a:lnTo>
                            <a:lnTo>
                              <a:pt x="162" y="448"/>
                            </a:lnTo>
                            <a:lnTo>
                              <a:pt x="113" y="432"/>
                            </a:lnTo>
                            <a:lnTo>
                              <a:pt x="63" y="422"/>
                            </a:lnTo>
                            <a:lnTo>
                              <a:pt x="105" y="407"/>
                            </a:lnTo>
                            <a:lnTo>
                              <a:pt x="143" y="405"/>
                            </a:lnTo>
                            <a:lnTo>
                              <a:pt x="180" y="415"/>
                            </a:lnTo>
                            <a:lnTo>
                              <a:pt x="207" y="438"/>
                            </a:lnTo>
                            <a:lnTo>
                              <a:pt x="182" y="353"/>
                            </a:lnTo>
                            <a:lnTo>
                              <a:pt x="172" y="280"/>
                            </a:lnTo>
                            <a:lnTo>
                              <a:pt x="118" y="257"/>
                            </a:lnTo>
                            <a:lnTo>
                              <a:pt x="85" y="230"/>
                            </a:lnTo>
                            <a:lnTo>
                              <a:pt x="70" y="207"/>
                            </a:lnTo>
                            <a:lnTo>
                              <a:pt x="80" y="183"/>
                            </a:lnTo>
                            <a:lnTo>
                              <a:pt x="100" y="173"/>
                            </a:lnTo>
                            <a:lnTo>
                              <a:pt x="127" y="165"/>
                            </a:lnTo>
                            <a:lnTo>
                              <a:pt x="148" y="168"/>
                            </a:lnTo>
                            <a:lnTo>
                              <a:pt x="147" y="138"/>
                            </a:lnTo>
                            <a:lnTo>
                              <a:pt x="108" y="132"/>
                            </a:lnTo>
                            <a:lnTo>
                              <a:pt x="75" y="113"/>
                            </a:lnTo>
                            <a:lnTo>
                              <a:pt x="52" y="78"/>
                            </a:lnTo>
                            <a:lnTo>
                              <a:pt x="45" y="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5408640" y="6124680"/>
                        <a:ext cx="147600" cy="20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253">
                            <a:moveTo>
                              <a:pt x="0" y="253"/>
                            </a:moveTo>
                            <a:lnTo>
                              <a:pt x="19" y="193"/>
                            </a:lnTo>
                            <a:lnTo>
                              <a:pt x="24" y="146"/>
                            </a:lnTo>
                            <a:lnTo>
                              <a:pt x="31" y="106"/>
                            </a:lnTo>
                            <a:lnTo>
                              <a:pt x="41" y="85"/>
                            </a:lnTo>
                            <a:lnTo>
                              <a:pt x="56" y="61"/>
                            </a:lnTo>
                            <a:lnTo>
                              <a:pt x="77" y="43"/>
                            </a:lnTo>
                            <a:lnTo>
                              <a:pt x="112" y="28"/>
                            </a:lnTo>
                            <a:lnTo>
                              <a:pt x="146" y="16"/>
                            </a:lnTo>
                            <a:lnTo>
                              <a:pt x="186" y="0"/>
                            </a:lnTo>
                            <a:lnTo>
                              <a:pt x="153" y="36"/>
                            </a:lnTo>
                            <a:lnTo>
                              <a:pt x="129" y="55"/>
                            </a:lnTo>
                            <a:lnTo>
                              <a:pt x="99" y="81"/>
                            </a:lnTo>
                            <a:lnTo>
                              <a:pt x="84" y="121"/>
                            </a:lnTo>
                            <a:lnTo>
                              <a:pt x="72" y="161"/>
                            </a:lnTo>
                            <a:lnTo>
                              <a:pt x="54" y="195"/>
                            </a:lnTo>
                            <a:lnTo>
                              <a:pt x="34" y="221"/>
                            </a:lnTo>
                            <a:lnTo>
                              <a:pt x="0" y="253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5535720" y="6097680"/>
                        <a:ext cx="10764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7" h="134">
                            <a:moveTo>
                              <a:pt x="15" y="37"/>
                            </a:moveTo>
                            <a:lnTo>
                              <a:pt x="27" y="55"/>
                            </a:lnTo>
                            <a:lnTo>
                              <a:pt x="30" y="84"/>
                            </a:lnTo>
                            <a:lnTo>
                              <a:pt x="22" y="107"/>
                            </a:lnTo>
                            <a:lnTo>
                              <a:pt x="0" y="134"/>
                            </a:lnTo>
                            <a:lnTo>
                              <a:pt x="34" y="127"/>
                            </a:lnTo>
                            <a:lnTo>
                              <a:pt x="59" y="115"/>
                            </a:lnTo>
                            <a:lnTo>
                              <a:pt x="80" y="99"/>
                            </a:lnTo>
                            <a:lnTo>
                              <a:pt x="95" y="80"/>
                            </a:lnTo>
                            <a:lnTo>
                              <a:pt x="109" y="94"/>
                            </a:lnTo>
                            <a:lnTo>
                              <a:pt x="119" y="105"/>
                            </a:lnTo>
                            <a:lnTo>
                              <a:pt x="122" y="134"/>
                            </a:lnTo>
                            <a:lnTo>
                              <a:pt x="134" y="85"/>
                            </a:lnTo>
                            <a:lnTo>
                              <a:pt x="137" y="49"/>
                            </a:lnTo>
                            <a:lnTo>
                              <a:pt x="132" y="17"/>
                            </a:lnTo>
                            <a:lnTo>
                              <a:pt x="122" y="0"/>
                            </a:lnTo>
                            <a:lnTo>
                              <a:pt x="97" y="0"/>
                            </a:lnTo>
                            <a:lnTo>
                              <a:pt x="62" y="10"/>
                            </a:lnTo>
                            <a:lnTo>
                              <a:pt x="34" y="22"/>
                            </a:lnTo>
                            <a:lnTo>
                              <a:pt x="15" y="37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5648400" y="6151680"/>
                        <a:ext cx="9504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300">
                            <a:moveTo>
                              <a:pt x="0" y="0"/>
                            </a:moveTo>
                            <a:lnTo>
                              <a:pt x="43" y="36"/>
                            </a:lnTo>
                            <a:lnTo>
                              <a:pt x="65" y="71"/>
                            </a:lnTo>
                            <a:lnTo>
                              <a:pt x="77" y="120"/>
                            </a:lnTo>
                            <a:lnTo>
                              <a:pt x="78" y="171"/>
                            </a:lnTo>
                            <a:lnTo>
                              <a:pt x="73" y="216"/>
                            </a:lnTo>
                            <a:lnTo>
                              <a:pt x="58" y="255"/>
                            </a:lnTo>
                            <a:lnTo>
                              <a:pt x="23" y="300"/>
                            </a:lnTo>
                            <a:lnTo>
                              <a:pt x="63" y="276"/>
                            </a:lnTo>
                            <a:lnTo>
                              <a:pt x="95" y="238"/>
                            </a:lnTo>
                            <a:lnTo>
                              <a:pt x="115" y="190"/>
                            </a:lnTo>
                            <a:lnTo>
                              <a:pt x="118" y="133"/>
                            </a:lnTo>
                            <a:lnTo>
                              <a:pt x="108" y="81"/>
                            </a:lnTo>
                            <a:lnTo>
                              <a:pt x="78" y="41"/>
                            </a:lnTo>
                            <a:lnTo>
                              <a:pt x="45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5933880" y="6105600"/>
                        <a:ext cx="9864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152">
                            <a:moveTo>
                              <a:pt x="0" y="152"/>
                            </a:moveTo>
                            <a:lnTo>
                              <a:pt x="43" y="110"/>
                            </a:lnTo>
                            <a:lnTo>
                              <a:pt x="80" y="74"/>
                            </a:lnTo>
                            <a:lnTo>
                              <a:pt x="124" y="0"/>
                            </a:lnTo>
                            <a:lnTo>
                              <a:pt x="80" y="32"/>
                            </a:lnTo>
                            <a:lnTo>
                              <a:pt x="43" y="84"/>
                            </a:lnTo>
                            <a:lnTo>
                              <a:pt x="0" y="152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5514840" y="6205680"/>
                        <a:ext cx="65160" cy="19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245">
                            <a:moveTo>
                              <a:pt x="50" y="245"/>
                            </a:moveTo>
                            <a:lnTo>
                              <a:pt x="60" y="207"/>
                            </a:lnTo>
                            <a:lnTo>
                              <a:pt x="75" y="174"/>
                            </a:lnTo>
                            <a:lnTo>
                              <a:pt x="60" y="144"/>
                            </a:lnTo>
                            <a:lnTo>
                              <a:pt x="50" y="110"/>
                            </a:lnTo>
                            <a:lnTo>
                              <a:pt x="54" y="67"/>
                            </a:lnTo>
                            <a:lnTo>
                              <a:pt x="62" y="39"/>
                            </a:lnTo>
                            <a:lnTo>
                              <a:pt x="82" y="0"/>
                            </a:lnTo>
                            <a:lnTo>
                              <a:pt x="49" y="30"/>
                            </a:lnTo>
                            <a:lnTo>
                              <a:pt x="24" y="60"/>
                            </a:lnTo>
                            <a:lnTo>
                              <a:pt x="10" y="90"/>
                            </a:lnTo>
                            <a:lnTo>
                              <a:pt x="0" y="142"/>
                            </a:lnTo>
                            <a:lnTo>
                              <a:pt x="10" y="182"/>
                            </a:lnTo>
                            <a:lnTo>
                              <a:pt x="29" y="217"/>
                            </a:lnTo>
                            <a:lnTo>
                              <a:pt x="50" y="245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5424480" y="4992840"/>
                        <a:ext cx="47520" cy="10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131">
                            <a:moveTo>
                              <a:pt x="60" y="0"/>
                            </a:moveTo>
                            <a:lnTo>
                              <a:pt x="45" y="23"/>
                            </a:lnTo>
                            <a:lnTo>
                              <a:pt x="36" y="43"/>
                            </a:lnTo>
                            <a:lnTo>
                              <a:pt x="28" y="63"/>
                            </a:lnTo>
                            <a:lnTo>
                              <a:pt x="25" y="85"/>
                            </a:lnTo>
                            <a:lnTo>
                              <a:pt x="28" y="105"/>
                            </a:lnTo>
                            <a:lnTo>
                              <a:pt x="31" y="131"/>
                            </a:lnTo>
                            <a:lnTo>
                              <a:pt x="21" y="111"/>
                            </a:lnTo>
                            <a:lnTo>
                              <a:pt x="15" y="85"/>
                            </a:lnTo>
                            <a:lnTo>
                              <a:pt x="10" y="70"/>
                            </a:lnTo>
                            <a:lnTo>
                              <a:pt x="0" y="53"/>
                            </a:lnTo>
                            <a:lnTo>
                              <a:pt x="15" y="51"/>
                            </a:lnTo>
                            <a:lnTo>
                              <a:pt x="28" y="36"/>
                            </a:lnTo>
                            <a:lnTo>
                              <a:pt x="43" y="18"/>
                            </a:lnTo>
                            <a:lnTo>
                              <a:pt x="6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36" name=""/>
                  <p:cNvGrpSpPr/>
                  <p:nvPr/>
                </p:nvGrpSpPr>
                <p:grpSpPr>
                  <a:xfrm>
                    <a:off x="5778360" y="5228280"/>
                    <a:ext cx="173160" cy="675720"/>
                    <a:chOff x="5778360" y="5228280"/>
                    <a:chExt cx="173160" cy="675720"/>
                  </a:xfrm>
                </p:grpSpPr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5778360" y="5228280"/>
                      <a:ext cx="173160" cy="67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851">
                          <a:moveTo>
                            <a:pt x="8" y="0"/>
                          </a:moveTo>
                          <a:lnTo>
                            <a:pt x="5" y="16"/>
                          </a:lnTo>
                          <a:lnTo>
                            <a:pt x="11" y="45"/>
                          </a:lnTo>
                          <a:lnTo>
                            <a:pt x="15" y="78"/>
                          </a:lnTo>
                          <a:lnTo>
                            <a:pt x="8" y="110"/>
                          </a:lnTo>
                          <a:lnTo>
                            <a:pt x="0" y="126"/>
                          </a:lnTo>
                          <a:lnTo>
                            <a:pt x="5" y="145"/>
                          </a:lnTo>
                          <a:lnTo>
                            <a:pt x="18" y="155"/>
                          </a:lnTo>
                          <a:lnTo>
                            <a:pt x="25" y="188"/>
                          </a:lnTo>
                          <a:lnTo>
                            <a:pt x="26" y="225"/>
                          </a:lnTo>
                          <a:lnTo>
                            <a:pt x="16" y="241"/>
                          </a:lnTo>
                          <a:lnTo>
                            <a:pt x="8" y="261"/>
                          </a:lnTo>
                          <a:lnTo>
                            <a:pt x="15" y="300"/>
                          </a:lnTo>
                          <a:lnTo>
                            <a:pt x="26" y="335"/>
                          </a:lnTo>
                          <a:lnTo>
                            <a:pt x="43" y="358"/>
                          </a:lnTo>
                          <a:lnTo>
                            <a:pt x="56" y="405"/>
                          </a:lnTo>
                          <a:lnTo>
                            <a:pt x="63" y="458"/>
                          </a:lnTo>
                          <a:lnTo>
                            <a:pt x="55" y="483"/>
                          </a:lnTo>
                          <a:lnTo>
                            <a:pt x="50" y="506"/>
                          </a:lnTo>
                          <a:lnTo>
                            <a:pt x="53" y="531"/>
                          </a:lnTo>
                          <a:lnTo>
                            <a:pt x="61" y="556"/>
                          </a:lnTo>
                          <a:lnTo>
                            <a:pt x="70" y="585"/>
                          </a:lnTo>
                          <a:lnTo>
                            <a:pt x="65" y="716"/>
                          </a:lnTo>
                          <a:lnTo>
                            <a:pt x="71" y="851"/>
                          </a:lnTo>
                          <a:lnTo>
                            <a:pt x="213" y="690"/>
                          </a:lnTo>
                          <a:lnTo>
                            <a:pt x="202" y="605"/>
                          </a:lnTo>
                          <a:lnTo>
                            <a:pt x="213" y="496"/>
                          </a:lnTo>
                          <a:lnTo>
                            <a:pt x="217" y="388"/>
                          </a:lnTo>
                          <a:lnTo>
                            <a:pt x="202" y="261"/>
                          </a:lnTo>
                          <a:lnTo>
                            <a:pt x="172" y="218"/>
                          </a:lnTo>
                          <a:lnTo>
                            <a:pt x="145" y="188"/>
                          </a:lnTo>
                          <a:lnTo>
                            <a:pt x="125" y="163"/>
                          </a:lnTo>
                          <a:lnTo>
                            <a:pt x="142" y="155"/>
                          </a:lnTo>
                          <a:lnTo>
                            <a:pt x="152" y="145"/>
                          </a:lnTo>
                          <a:lnTo>
                            <a:pt x="142" y="110"/>
                          </a:lnTo>
                          <a:lnTo>
                            <a:pt x="130" y="73"/>
                          </a:lnTo>
                          <a:lnTo>
                            <a:pt x="117" y="36"/>
                          </a:lnTo>
                          <a:lnTo>
                            <a:pt x="100" y="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5843520" y="5342040"/>
                      <a:ext cx="8892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2">
                          <a:moveTo>
                            <a:pt x="112" y="112"/>
                          </a:moveTo>
                          <a:lnTo>
                            <a:pt x="54" y="73"/>
                          </a:lnTo>
                          <a:lnTo>
                            <a:pt x="0" y="43"/>
                          </a:lnTo>
                          <a:lnTo>
                            <a:pt x="14" y="0"/>
                          </a:lnTo>
                          <a:lnTo>
                            <a:pt x="44" y="23"/>
                          </a:lnTo>
                          <a:lnTo>
                            <a:pt x="61" y="40"/>
                          </a:lnTo>
                          <a:lnTo>
                            <a:pt x="92" y="75"/>
                          </a:lnTo>
                          <a:lnTo>
                            <a:pt x="112" y="112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5791320" y="5342040"/>
                      <a:ext cx="15876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305">
                          <a:moveTo>
                            <a:pt x="8" y="78"/>
                          </a:moveTo>
                          <a:lnTo>
                            <a:pt x="5" y="48"/>
                          </a:lnTo>
                          <a:lnTo>
                            <a:pt x="0" y="0"/>
                          </a:lnTo>
                          <a:lnTo>
                            <a:pt x="16" y="51"/>
                          </a:lnTo>
                          <a:lnTo>
                            <a:pt x="31" y="83"/>
                          </a:lnTo>
                          <a:lnTo>
                            <a:pt x="68" y="130"/>
                          </a:lnTo>
                          <a:lnTo>
                            <a:pt x="98" y="158"/>
                          </a:lnTo>
                          <a:lnTo>
                            <a:pt x="150" y="201"/>
                          </a:lnTo>
                          <a:lnTo>
                            <a:pt x="200" y="241"/>
                          </a:lnTo>
                          <a:lnTo>
                            <a:pt x="200" y="305"/>
                          </a:lnTo>
                          <a:lnTo>
                            <a:pt x="148" y="261"/>
                          </a:lnTo>
                          <a:lnTo>
                            <a:pt x="98" y="223"/>
                          </a:lnTo>
                          <a:lnTo>
                            <a:pt x="65" y="198"/>
                          </a:lnTo>
                          <a:lnTo>
                            <a:pt x="68" y="175"/>
                          </a:lnTo>
                          <a:lnTo>
                            <a:pt x="63" y="141"/>
                          </a:lnTo>
                          <a:lnTo>
                            <a:pt x="38" y="116"/>
                          </a:lnTo>
                          <a:lnTo>
                            <a:pt x="8" y="78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5815080" y="5592960"/>
                      <a:ext cx="1317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213">
                          <a:moveTo>
                            <a:pt x="15" y="0"/>
                          </a:moveTo>
                          <a:lnTo>
                            <a:pt x="5" y="18"/>
                          </a:lnTo>
                          <a:lnTo>
                            <a:pt x="0" y="41"/>
                          </a:lnTo>
                          <a:lnTo>
                            <a:pt x="33" y="50"/>
                          </a:lnTo>
                          <a:lnTo>
                            <a:pt x="25" y="103"/>
                          </a:lnTo>
                          <a:lnTo>
                            <a:pt x="92" y="150"/>
                          </a:lnTo>
                          <a:lnTo>
                            <a:pt x="167" y="213"/>
                          </a:lnTo>
                          <a:lnTo>
                            <a:pt x="160" y="143"/>
                          </a:lnTo>
                          <a:lnTo>
                            <a:pt x="162" y="116"/>
                          </a:lnTo>
                          <a:lnTo>
                            <a:pt x="97" y="65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1" name=""/>
                    <p:cNvSpPr/>
                    <p:nvPr/>
                  </p:nvSpPr>
                  <p:spPr>
                    <a:xfrm>
                      <a:off x="5792760" y="5343840"/>
                      <a:ext cx="712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37">
                          <a:moveTo>
                            <a:pt x="0" y="9"/>
                          </a:moveTo>
                          <a:lnTo>
                            <a:pt x="42" y="19"/>
                          </a:lnTo>
                          <a:lnTo>
                            <a:pt x="67" y="15"/>
                          </a:lnTo>
                          <a:lnTo>
                            <a:pt x="90" y="0"/>
                          </a:lnTo>
                          <a:lnTo>
                            <a:pt x="75" y="22"/>
                          </a:lnTo>
                          <a:lnTo>
                            <a:pt x="60" y="34"/>
                          </a:lnTo>
                          <a:lnTo>
                            <a:pt x="39" y="37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42" name=""/>
              <p:cNvGrpSpPr/>
              <p:nvPr/>
            </p:nvGrpSpPr>
            <p:grpSpPr>
              <a:xfrm>
                <a:off x="5378400" y="4368600"/>
                <a:ext cx="717480" cy="899280"/>
                <a:chOff x="5378400" y="4368600"/>
                <a:chExt cx="717480" cy="899280"/>
              </a:xfrm>
            </p:grpSpPr>
            <p:grpSp>
              <p:nvGrpSpPr>
                <p:cNvPr id="1743" name=""/>
                <p:cNvGrpSpPr/>
                <p:nvPr/>
              </p:nvGrpSpPr>
              <p:grpSpPr>
                <a:xfrm>
                  <a:off x="5438880" y="4633200"/>
                  <a:ext cx="652320" cy="634680"/>
                  <a:chOff x="5438880" y="4633200"/>
                  <a:chExt cx="652320" cy="63468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5438880" y="4633200"/>
                    <a:ext cx="652320" cy="63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0" h="800">
                        <a:moveTo>
                          <a:pt x="735" y="28"/>
                        </a:moveTo>
                        <a:lnTo>
                          <a:pt x="787" y="75"/>
                        </a:lnTo>
                        <a:lnTo>
                          <a:pt x="797" y="97"/>
                        </a:lnTo>
                        <a:lnTo>
                          <a:pt x="810" y="142"/>
                        </a:lnTo>
                        <a:lnTo>
                          <a:pt x="820" y="187"/>
                        </a:lnTo>
                        <a:lnTo>
                          <a:pt x="817" y="230"/>
                        </a:lnTo>
                        <a:lnTo>
                          <a:pt x="803" y="250"/>
                        </a:lnTo>
                        <a:lnTo>
                          <a:pt x="795" y="267"/>
                        </a:lnTo>
                        <a:lnTo>
                          <a:pt x="798" y="298"/>
                        </a:lnTo>
                        <a:lnTo>
                          <a:pt x="803" y="320"/>
                        </a:lnTo>
                        <a:lnTo>
                          <a:pt x="798" y="352"/>
                        </a:lnTo>
                        <a:lnTo>
                          <a:pt x="790" y="375"/>
                        </a:lnTo>
                        <a:lnTo>
                          <a:pt x="773" y="397"/>
                        </a:lnTo>
                        <a:lnTo>
                          <a:pt x="763" y="411"/>
                        </a:lnTo>
                        <a:lnTo>
                          <a:pt x="763" y="461"/>
                        </a:lnTo>
                        <a:lnTo>
                          <a:pt x="770" y="495"/>
                        </a:lnTo>
                        <a:lnTo>
                          <a:pt x="770" y="513"/>
                        </a:lnTo>
                        <a:lnTo>
                          <a:pt x="740" y="523"/>
                        </a:lnTo>
                        <a:lnTo>
                          <a:pt x="727" y="528"/>
                        </a:lnTo>
                        <a:lnTo>
                          <a:pt x="722" y="568"/>
                        </a:lnTo>
                        <a:lnTo>
                          <a:pt x="722" y="588"/>
                        </a:lnTo>
                        <a:lnTo>
                          <a:pt x="692" y="606"/>
                        </a:lnTo>
                        <a:lnTo>
                          <a:pt x="692" y="616"/>
                        </a:lnTo>
                        <a:lnTo>
                          <a:pt x="697" y="640"/>
                        </a:lnTo>
                        <a:lnTo>
                          <a:pt x="688" y="660"/>
                        </a:lnTo>
                        <a:lnTo>
                          <a:pt x="683" y="670"/>
                        </a:lnTo>
                        <a:lnTo>
                          <a:pt x="680" y="691"/>
                        </a:lnTo>
                        <a:lnTo>
                          <a:pt x="688" y="718"/>
                        </a:lnTo>
                        <a:lnTo>
                          <a:pt x="692" y="745"/>
                        </a:lnTo>
                        <a:lnTo>
                          <a:pt x="688" y="763"/>
                        </a:lnTo>
                        <a:lnTo>
                          <a:pt x="678" y="778"/>
                        </a:lnTo>
                        <a:lnTo>
                          <a:pt x="660" y="790"/>
                        </a:lnTo>
                        <a:lnTo>
                          <a:pt x="631" y="793"/>
                        </a:lnTo>
                        <a:lnTo>
                          <a:pt x="585" y="795"/>
                        </a:lnTo>
                        <a:lnTo>
                          <a:pt x="531" y="800"/>
                        </a:lnTo>
                        <a:lnTo>
                          <a:pt x="488" y="790"/>
                        </a:lnTo>
                        <a:lnTo>
                          <a:pt x="444" y="788"/>
                        </a:lnTo>
                        <a:lnTo>
                          <a:pt x="392" y="771"/>
                        </a:lnTo>
                        <a:lnTo>
                          <a:pt x="319" y="740"/>
                        </a:lnTo>
                        <a:lnTo>
                          <a:pt x="262" y="711"/>
                        </a:lnTo>
                        <a:lnTo>
                          <a:pt x="204" y="670"/>
                        </a:lnTo>
                        <a:lnTo>
                          <a:pt x="152" y="618"/>
                        </a:lnTo>
                        <a:lnTo>
                          <a:pt x="103" y="558"/>
                        </a:lnTo>
                        <a:lnTo>
                          <a:pt x="40" y="471"/>
                        </a:lnTo>
                        <a:lnTo>
                          <a:pt x="33" y="440"/>
                        </a:lnTo>
                        <a:lnTo>
                          <a:pt x="58" y="395"/>
                        </a:lnTo>
                        <a:lnTo>
                          <a:pt x="0" y="278"/>
                        </a:lnTo>
                        <a:lnTo>
                          <a:pt x="53" y="182"/>
                        </a:lnTo>
                        <a:lnTo>
                          <a:pt x="200" y="220"/>
                        </a:lnTo>
                        <a:lnTo>
                          <a:pt x="322" y="157"/>
                        </a:lnTo>
                        <a:lnTo>
                          <a:pt x="326" y="60"/>
                        </a:lnTo>
                        <a:lnTo>
                          <a:pt x="488" y="0"/>
                        </a:lnTo>
                        <a:lnTo>
                          <a:pt x="613" y="0"/>
                        </a:lnTo>
                        <a:lnTo>
                          <a:pt x="735" y="28"/>
                        </a:lnTo>
                        <a:close/>
                      </a:path>
                    </a:pathLst>
                  </a:custGeom>
                  <a:solidFill>
                    <a:srgbClr val="ff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5" name=""/>
                  <p:cNvGrpSpPr/>
                  <p:nvPr/>
                </p:nvGrpSpPr>
                <p:grpSpPr>
                  <a:xfrm>
                    <a:off x="5541840" y="4806000"/>
                    <a:ext cx="546120" cy="459000"/>
                    <a:chOff x="5541840" y="4806000"/>
                    <a:chExt cx="546120" cy="459000"/>
                  </a:xfrm>
                </p:grpSpPr>
                <p:grpSp>
                  <p:nvGrpSpPr>
                    <p:cNvPr id="1746" name=""/>
                    <p:cNvGrpSpPr/>
                    <p:nvPr/>
                  </p:nvGrpSpPr>
                  <p:grpSpPr>
                    <a:xfrm>
                      <a:off x="5746680" y="4806000"/>
                      <a:ext cx="341280" cy="154440"/>
                      <a:chOff x="5746680" y="4806000"/>
                      <a:chExt cx="341280" cy="154440"/>
                    </a:xfrm>
                  </p:grpSpPr>
                  <p:grpSp>
                    <p:nvGrpSpPr>
                      <p:cNvPr id="1747" name=""/>
                      <p:cNvGrpSpPr/>
                      <p:nvPr/>
                    </p:nvGrpSpPr>
                    <p:grpSpPr>
                      <a:xfrm>
                        <a:off x="5994360" y="4806000"/>
                        <a:ext cx="93600" cy="107640"/>
                        <a:chOff x="5994360" y="4806000"/>
                        <a:chExt cx="93600" cy="107640"/>
                      </a:xfrm>
                    </p:grpSpPr>
                    <p:sp>
                      <p:nvSpPr>
                        <p:cNvPr id="1748" name=""/>
                        <p:cNvSpPr/>
                        <p:nvPr/>
                      </p:nvSpPr>
                      <p:spPr>
                        <a:xfrm>
                          <a:off x="5994360" y="4806000"/>
                          <a:ext cx="92160" cy="10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5" h="135">
                              <a:moveTo>
                                <a:pt x="32" y="132"/>
                              </a:moveTo>
                              <a:lnTo>
                                <a:pt x="10" y="135"/>
                              </a:lnTo>
                              <a:lnTo>
                                <a:pt x="0" y="114"/>
                              </a:lnTo>
                              <a:lnTo>
                                <a:pt x="0" y="80"/>
                              </a:lnTo>
                              <a:lnTo>
                                <a:pt x="10" y="45"/>
                              </a:lnTo>
                              <a:lnTo>
                                <a:pt x="27" y="20"/>
                              </a:lnTo>
                              <a:lnTo>
                                <a:pt x="55" y="5"/>
                              </a:lnTo>
                              <a:lnTo>
                                <a:pt x="85" y="0"/>
                              </a:lnTo>
                              <a:lnTo>
                                <a:pt x="115" y="7"/>
                              </a:lnTo>
                              <a:lnTo>
                                <a:pt x="103" y="27"/>
                              </a:lnTo>
                              <a:lnTo>
                                <a:pt x="90" y="49"/>
                              </a:lnTo>
                              <a:lnTo>
                                <a:pt x="95" y="84"/>
                              </a:lnTo>
                              <a:lnTo>
                                <a:pt x="70" y="92"/>
                              </a:lnTo>
                              <a:lnTo>
                                <a:pt x="45" y="112"/>
                              </a:lnTo>
                              <a:lnTo>
                                <a:pt x="32" y="1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9" name=""/>
                        <p:cNvSpPr/>
                        <p:nvPr/>
                      </p:nvSpPr>
                      <p:spPr>
                        <a:xfrm>
                          <a:off x="6002280" y="4862880"/>
                          <a:ext cx="8100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48">
                              <a:moveTo>
                                <a:pt x="0" y="7"/>
                              </a:moveTo>
                              <a:lnTo>
                                <a:pt x="28" y="17"/>
                              </a:lnTo>
                              <a:lnTo>
                                <a:pt x="57" y="28"/>
                              </a:lnTo>
                              <a:lnTo>
                                <a:pt x="78" y="35"/>
                              </a:lnTo>
                              <a:lnTo>
                                <a:pt x="102" y="48"/>
                              </a:lnTo>
                              <a:lnTo>
                                <a:pt x="90" y="20"/>
                              </a:lnTo>
                              <a:lnTo>
                                <a:pt x="87" y="0"/>
                              </a:lnTo>
                              <a:lnTo>
                                <a:pt x="73" y="7"/>
                              </a:lnTo>
                              <a:lnTo>
                                <a:pt x="53" y="13"/>
                              </a:lnTo>
                              <a:lnTo>
                                <a:pt x="35" y="12"/>
                              </a:lnTo>
                              <a:lnTo>
                                <a:pt x="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0" name=""/>
                        <p:cNvSpPr/>
                        <p:nvPr/>
                      </p:nvSpPr>
                      <p:spPr>
                        <a:xfrm>
                          <a:off x="5999040" y="4806000"/>
                          <a:ext cx="88920" cy="4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2" h="59">
                              <a:moveTo>
                                <a:pt x="112" y="7"/>
                              </a:moveTo>
                              <a:lnTo>
                                <a:pt x="88" y="0"/>
                              </a:lnTo>
                              <a:lnTo>
                                <a:pt x="68" y="0"/>
                              </a:lnTo>
                              <a:lnTo>
                                <a:pt x="40" y="9"/>
                              </a:lnTo>
                              <a:lnTo>
                                <a:pt x="22" y="22"/>
                              </a:lnTo>
                              <a:lnTo>
                                <a:pt x="8" y="39"/>
                              </a:lnTo>
                              <a:lnTo>
                                <a:pt x="0" y="59"/>
                              </a:lnTo>
                              <a:lnTo>
                                <a:pt x="17" y="42"/>
                              </a:lnTo>
                              <a:lnTo>
                                <a:pt x="37" y="29"/>
                              </a:lnTo>
                              <a:lnTo>
                                <a:pt x="63" y="22"/>
                              </a:lnTo>
                              <a:lnTo>
                                <a:pt x="82" y="24"/>
                              </a:lnTo>
                              <a:lnTo>
                                <a:pt x="100" y="32"/>
                              </a:lnTo>
                              <a:lnTo>
                                <a:pt x="103" y="20"/>
                              </a:lnTo>
                              <a:lnTo>
                                <a:pt x="112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8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51" name=""/>
                      <p:cNvGrpSpPr/>
                      <p:nvPr/>
                    </p:nvGrpSpPr>
                    <p:grpSpPr>
                      <a:xfrm>
                        <a:off x="5746680" y="4812120"/>
                        <a:ext cx="235080" cy="148320"/>
                        <a:chOff x="5746680" y="4812120"/>
                        <a:chExt cx="235080" cy="148320"/>
                      </a:xfrm>
                    </p:grpSpPr>
                    <p:sp>
                      <p:nvSpPr>
                        <p:cNvPr id="1752" name=""/>
                        <p:cNvSpPr/>
                        <p:nvPr/>
                      </p:nvSpPr>
                      <p:spPr>
                        <a:xfrm>
                          <a:off x="5746680" y="4816440"/>
                          <a:ext cx="235080" cy="14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6" h="183">
                              <a:moveTo>
                                <a:pt x="0" y="98"/>
                              </a:moveTo>
                              <a:lnTo>
                                <a:pt x="32" y="61"/>
                              </a:lnTo>
                              <a:lnTo>
                                <a:pt x="61" y="36"/>
                              </a:lnTo>
                              <a:lnTo>
                                <a:pt x="87" y="18"/>
                              </a:lnTo>
                              <a:lnTo>
                                <a:pt x="121" y="5"/>
                              </a:lnTo>
                              <a:lnTo>
                                <a:pt x="154" y="0"/>
                              </a:lnTo>
                              <a:lnTo>
                                <a:pt x="188" y="0"/>
                              </a:lnTo>
                              <a:lnTo>
                                <a:pt x="219" y="5"/>
                              </a:lnTo>
                              <a:lnTo>
                                <a:pt x="253" y="16"/>
                              </a:lnTo>
                              <a:lnTo>
                                <a:pt x="271" y="21"/>
                              </a:lnTo>
                              <a:lnTo>
                                <a:pt x="296" y="13"/>
                              </a:lnTo>
                              <a:lnTo>
                                <a:pt x="289" y="36"/>
                              </a:lnTo>
                              <a:lnTo>
                                <a:pt x="288" y="60"/>
                              </a:lnTo>
                              <a:lnTo>
                                <a:pt x="291" y="90"/>
                              </a:lnTo>
                              <a:lnTo>
                                <a:pt x="294" y="120"/>
                              </a:lnTo>
                              <a:lnTo>
                                <a:pt x="289" y="151"/>
                              </a:lnTo>
                              <a:lnTo>
                                <a:pt x="276" y="166"/>
                              </a:lnTo>
                              <a:lnTo>
                                <a:pt x="258" y="183"/>
                              </a:lnTo>
                              <a:lnTo>
                                <a:pt x="264" y="155"/>
                              </a:lnTo>
                              <a:lnTo>
                                <a:pt x="268" y="130"/>
                              </a:lnTo>
                              <a:lnTo>
                                <a:pt x="261" y="113"/>
                              </a:lnTo>
                              <a:lnTo>
                                <a:pt x="249" y="100"/>
                              </a:lnTo>
                              <a:lnTo>
                                <a:pt x="226" y="121"/>
                              </a:lnTo>
                              <a:lnTo>
                                <a:pt x="203" y="133"/>
                              </a:lnTo>
                              <a:lnTo>
                                <a:pt x="176" y="138"/>
                              </a:lnTo>
                              <a:lnTo>
                                <a:pt x="146" y="136"/>
                              </a:lnTo>
                              <a:lnTo>
                                <a:pt x="117" y="121"/>
                              </a:lnTo>
                              <a:lnTo>
                                <a:pt x="91" y="100"/>
                              </a:lnTo>
                              <a:lnTo>
                                <a:pt x="71" y="88"/>
                              </a:lnTo>
                              <a:lnTo>
                                <a:pt x="0" y="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3" name=""/>
                        <p:cNvSpPr/>
                        <p:nvPr/>
                      </p:nvSpPr>
                      <p:spPr>
                        <a:xfrm>
                          <a:off x="5811840" y="4867200"/>
                          <a:ext cx="12204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4" h="68">
                              <a:moveTo>
                                <a:pt x="0" y="0"/>
                              </a:moveTo>
                              <a:lnTo>
                                <a:pt x="24" y="18"/>
                              </a:lnTo>
                              <a:lnTo>
                                <a:pt x="47" y="31"/>
                              </a:lnTo>
                              <a:lnTo>
                                <a:pt x="77" y="36"/>
                              </a:lnTo>
                              <a:lnTo>
                                <a:pt x="94" y="36"/>
                              </a:lnTo>
                              <a:lnTo>
                                <a:pt x="112" y="31"/>
                              </a:lnTo>
                              <a:lnTo>
                                <a:pt x="141" y="11"/>
                              </a:lnTo>
                              <a:lnTo>
                                <a:pt x="122" y="33"/>
                              </a:lnTo>
                              <a:lnTo>
                                <a:pt x="154" y="50"/>
                              </a:lnTo>
                              <a:lnTo>
                                <a:pt x="124" y="60"/>
                              </a:lnTo>
                              <a:lnTo>
                                <a:pt x="101" y="68"/>
                              </a:lnTo>
                              <a:lnTo>
                                <a:pt x="69" y="66"/>
                              </a:lnTo>
                              <a:lnTo>
                                <a:pt x="44" y="53"/>
                              </a:lnTo>
                              <a:lnTo>
                                <a:pt x="20" y="3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4" name=""/>
                        <p:cNvSpPr/>
                        <p:nvPr/>
                      </p:nvSpPr>
                      <p:spPr>
                        <a:xfrm>
                          <a:off x="5770440" y="4812120"/>
                          <a:ext cx="20808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2" h="76">
                              <a:moveTo>
                                <a:pt x="0" y="75"/>
                              </a:moveTo>
                              <a:lnTo>
                                <a:pt x="21" y="50"/>
                              </a:lnTo>
                              <a:lnTo>
                                <a:pt x="30" y="38"/>
                              </a:lnTo>
                              <a:lnTo>
                                <a:pt x="43" y="30"/>
                              </a:lnTo>
                              <a:lnTo>
                                <a:pt x="55" y="20"/>
                              </a:lnTo>
                              <a:lnTo>
                                <a:pt x="70" y="13"/>
                              </a:lnTo>
                              <a:lnTo>
                                <a:pt x="85" y="8"/>
                              </a:lnTo>
                              <a:lnTo>
                                <a:pt x="106" y="1"/>
                              </a:lnTo>
                              <a:lnTo>
                                <a:pt x="128" y="0"/>
                              </a:lnTo>
                              <a:lnTo>
                                <a:pt x="153" y="1"/>
                              </a:lnTo>
                              <a:lnTo>
                                <a:pt x="175" y="8"/>
                              </a:lnTo>
                              <a:lnTo>
                                <a:pt x="197" y="13"/>
                              </a:lnTo>
                              <a:lnTo>
                                <a:pt x="225" y="21"/>
                              </a:lnTo>
                              <a:lnTo>
                                <a:pt x="240" y="20"/>
                              </a:lnTo>
                              <a:lnTo>
                                <a:pt x="255" y="18"/>
                              </a:lnTo>
                              <a:lnTo>
                                <a:pt x="260" y="25"/>
                              </a:lnTo>
                              <a:lnTo>
                                <a:pt x="262" y="35"/>
                              </a:lnTo>
                              <a:lnTo>
                                <a:pt x="258" y="50"/>
                              </a:lnTo>
                              <a:lnTo>
                                <a:pt x="252" y="60"/>
                              </a:lnTo>
                              <a:lnTo>
                                <a:pt x="240" y="56"/>
                              </a:lnTo>
                              <a:lnTo>
                                <a:pt x="223" y="58"/>
                              </a:lnTo>
                              <a:lnTo>
                                <a:pt x="207" y="51"/>
                              </a:lnTo>
                              <a:lnTo>
                                <a:pt x="192" y="48"/>
                              </a:lnTo>
                              <a:lnTo>
                                <a:pt x="175" y="48"/>
                              </a:lnTo>
                              <a:lnTo>
                                <a:pt x="165" y="41"/>
                              </a:lnTo>
                              <a:lnTo>
                                <a:pt x="153" y="38"/>
                              </a:lnTo>
                              <a:lnTo>
                                <a:pt x="138" y="35"/>
                              </a:lnTo>
                              <a:lnTo>
                                <a:pt x="123" y="35"/>
                              </a:lnTo>
                              <a:lnTo>
                                <a:pt x="106" y="38"/>
                              </a:lnTo>
                              <a:lnTo>
                                <a:pt x="91" y="36"/>
                              </a:lnTo>
                              <a:lnTo>
                                <a:pt x="73" y="35"/>
                              </a:lnTo>
                              <a:lnTo>
                                <a:pt x="56" y="41"/>
                              </a:lnTo>
                              <a:lnTo>
                                <a:pt x="38" y="51"/>
                              </a:lnTo>
                              <a:lnTo>
                                <a:pt x="23" y="63"/>
                              </a:lnTo>
                              <a:lnTo>
                                <a:pt x="15" y="76"/>
                              </a:lnTo>
                              <a:lnTo>
                                <a:pt x="0" y="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8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55" name=""/>
                    <p:cNvGrpSpPr/>
                    <p:nvPr/>
                  </p:nvGrpSpPr>
                  <p:grpSpPr>
                    <a:xfrm>
                      <a:off x="5541840" y="4896000"/>
                      <a:ext cx="515880" cy="369000"/>
                      <a:chOff x="5541840" y="4896000"/>
                      <a:chExt cx="515880" cy="369000"/>
                    </a:xfrm>
                  </p:grpSpPr>
                  <p:grpSp>
                    <p:nvGrpSpPr>
                      <p:cNvPr id="1756" name=""/>
                      <p:cNvGrpSpPr/>
                      <p:nvPr/>
                    </p:nvGrpSpPr>
                    <p:grpSpPr>
                      <a:xfrm>
                        <a:off x="5919840" y="4896000"/>
                        <a:ext cx="137880" cy="203040"/>
                        <a:chOff x="5919840" y="4896000"/>
                        <a:chExt cx="137880" cy="203040"/>
                      </a:xfrm>
                    </p:grpSpPr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5919840" y="4929120"/>
                          <a:ext cx="85680" cy="1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75">
                              <a:moveTo>
                                <a:pt x="48" y="0"/>
                              </a:moveTo>
                              <a:lnTo>
                                <a:pt x="31" y="38"/>
                              </a:lnTo>
                              <a:lnTo>
                                <a:pt x="21" y="73"/>
                              </a:lnTo>
                              <a:lnTo>
                                <a:pt x="38" y="61"/>
                              </a:lnTo>
                              <a:lnTo>
                                <a:pt x="56" y="55"/>
                              </a:lnTo>
                              <a:lnTo>
                                <a:pt x="71" y="60"/>
                              </a:lnTo>
                              <a:lnTo>
                                <a:pt x="83" y="71"/>
                              </a:lnTo>
                              <a:lnTo>
                                <a:pt x="85" y="88"/>
                              </a:lnTo>
                              <a:lnTo>
                                <a:pt x="73" y="81"/>
                              </a:lnTo>
                              <a:lnTo>
                                <a:pt x="58" y="75"/>
                              </a:lnTo>
                              <a:lnTo>
                                <a:pt x="38" y="73"/>
                              </a:lnTo>
                              <a:lnTo>
                                <a:pt x="23" y="80"/>
                              </a:lnTo>
                              <a:lnTo>
                                <a:pt x="15" y="98"/>
                              </a:lnTo>
                              <a:lnTo>
                                <a:pt x="16" y="118"/>
                              </a:lnTo>
                              <a:lnTo>
                                <a:pt x="28" y="131"/>
                              </a:lnTo>
                              <a:lnTo>
                                <a:pt x="51" y="133"/>
                              </a:lnTo>
                              <a:lnTo>
                                <a:pt x="78" y="136"/>
                              </a:lnTo>
                              <a:lnTo>
                                <a:pt x="95" y="145"/>
                              </a:lnTo>
                              <a:lnTo>
                                <a:pt x="108" y="161"/>
                              </a:lnTo>
                              <a:lnTo>
                                <a:pt x="98" y="173"/>
                              </a:lnTo>
                              <a:lnTo>
                                <a:pt x="73" y="175"/>
                              </a:lnTo>
                              <a:lnTo>
                                <a:pt x="48" y="168"/>
                              </a:lnTo>
                              <a:lnTo>
                                <a:pt x="21" y="151"/>
                              </a:lnTo>
                              <a:lnTo>
                                <a:pt x="5" y="136"/>
                              </a:lnTo>
                              <a:lnTo>
                                <a:pt x="0" y="113"/>
                              </a:lnTo>
                              <a:lnTo>
                                <a:pt x="1" y="95"/>
                              </a:lnTo>
                              <a:lnTo>
                                <a:pt x="11" y="70"/>
                              </a:lnTo>
                              <a:lnTo>
                                <a:pt x="4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5991120" y="4896000"/>
                          <a:ext cx="66600" cy="20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256">
                              <a:moveTo>
                                <a:pt x="12" y="0"/>
                              </a:moveTo>
                              <a:lnTo>
                                <a:pt x="47" y="55"/>
                              </a:lnTo>
                              <a:lnTo>
                                <a:pt x="58" y="79"/>
                              </a:lnTo>
                              <a:lnTo>
                                <a:pt x="72" y="114"/>
                              </a:lnTo>
                              <a:lnTo>
                                <a:pt x="80" y="138"/>
                              </a:lnTo>
                              <a:lnTo>
                                <a:pt x="83" y="163"/>
                              </a:lnTo>
                              <a:lnTo>
                                <a:pt x="75" y="183"/>
                              </a:lnTo>
                              <a:lnTo>
                                <a:pt x="60" y="191"/>
                              </a:lnTo>
                              <a:lnTo>
                                <a:pt x="40" y="196"/>
                              </a:lnTo>
                              <a:lnTo>
                                <a:pt x="23" y="201"/>
                              </a:lnTo>
                              <a:lnTo>
                                <a:pt x="18" y="256"/>
                              </a:lnTo>
                              <a:lnTo>
                                <a:pt x="12" y="223"/>
                              </a:lnTo>
                              <a:lnTo>
                                <a:pt x="0" y="203"/>
                              </a:lnTo>
                              <a:lnTo>
                                <a:pt x="27" y="191"/>
                              </a:lnTo>
                              <a:lnTo>
                                <a:pt x="48" y="179"/>
                              </a:lnTo>
                              <a:lnTo>
                                <a:pt x="63" y="159"/>
                              </a:lnTo>
                              <a:lnTo>
                                <a:pt x="58" y="123"/>
                              </a:lnTo>
                              <a:lnTo>
                                <a:pt x="47" y="86"/>
                              </a:lnTo>
                              <a:lnTo>
                                <a:pt x="37" y="53"/>
                              </a:lnTo>
                              <a:lnTo>
                                <a:pt x="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59" name=""/>
                      <p:cNvGrpSpPr/>
                      <p:nvPr/>
                    </p:nvGrpSpPr>
                    <p:grpSpPr>
                      <a:xfrm>
                        <a:off x="5541840" y="5018040"/>
                        <a:ext cx="471600" cy="246960"/>
                        <a:chOff x="5541840" y="5018040"/>
                        <a:chExt cx="471600" cy="246960"/>
                      </a:xfrm>
                    </p:grpSpPr>
                    <p:grpSp>
                      <p:nvGrpSpPr>
                        <p:cNvPr id="1760" name=""/>
                        <p:cNvGrpSpPr/>
                        <p:nvPr/>
                      </p:nvGrpSpPr>
                      <p:grpSpPr>
                        <a:xfrm>
                          <a:off x="5541840" y="5018040"/>
                          <a:ext cx="436680" cy="246960"/>
                          <a:chOff x="5541840" y="5018040"/>
                          <a:chExt cx="436680" cy="246960"/>
                        </a:xfrm>
                      </p:grpSpPr>
                      <p:sp>
                        <p:nvSpPr>
                          <p:cNvPr id="1761" name=""/>
                          <p:cNvSpPr/>
                          <p:nvPr/>
                        </p:nvSpPr>
                        <p:spPr>
                          <a:xfrm>
                            <a:off x="5683320" y="5171760"/>
                            <a:ext cx="147600" cy="86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6" h="110">
                                <a:moveTo>
                                  <a:pt x="0" y="0"/>
                                </a:moveTo>
                                <a:lnTo>
                                  <a:pt x="50" y="38"/>
                                </a:lnTo>
                                <a:lnTo>
                                  <a:pt x="96" y="65"/>
                                </a:lnTo>
                                <a:lnTo>
                                  <a:pt x="134" y="81"/>
                                </a:lnTo>
                                <a:lnTo>
                                  <a:pt x="186" y="98"/>
                                </a:lnTo>
                                <a:lnTo>
                                  <a:pt x="152" y="110"/>
                                </a:lnTo>
                                <a:lnTo>
                                  <a:pt x="74" y="81"/>
                                </a:lnTo>
                                <a:lnTo>
                                  <a:pt x="45" y="63"/>
                                </a:lnTo>
                                <a:lnTo>
                                  <a:pt x="24" y="3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960" bIns="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2" name=""/>
                          <p:cNvSpPr/>
                          <p:nvPr/>
                        </p:nvSpPr>
                        <p:spPr>
                          <a:xfrm>
                            <a:off x="5541840" y="5018040"/>
                            <a:ext cx="149400" cy="19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240">
                                <a:moveTo>
                                  <a:pt x="0" y="0"/>
                                </a:moveTo>
                                <a:lnTo>
                                  <a:pt x="21" y="55"/>
                                </a:lnTo>
                                <a:lnTo>
                                  <a:pt x="36" y="87"/>
                                </a:lnTo>
                                <a:lnTo>
                                  <a:pt x="61" y="112"/>
                                </a:lnTo>
                                <a:lnTo>
                                  <a:pt x="93" y="145"/>
                                </a:lnTo>
                                <a:lnTo>
                                  <a:pt x="132" y="179"/>
                                </a:lnTo>
                                <a:lnTo>
                                  <a:pt x="163" y="202"/>
                                </a:lnTo>
                                <a:lnTo>
                                  <a:pt x="188" y="240"/>
                                </a:lnTo>
                                <a:lnTo>
                                  <a:pt x="133" y="200"/>
                                </a:lnTo>
                                <a:lnTo>
                                  <a:pt x="93" y="167"/>
                                </a:lnTo>
                                <a:lnTo>
                                  <a:pt x="43" y="120"/>
                                </a:lnTo>
                                <a:lnTo>
                                  <a:pt x="16" y="77"/>
                                </a:lnTo>
                                <a:lnTo>
                                  <a:pt x="3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3" name=""/>
                          <p:cNvSpPr/>
                          <p:nvPr/>
                        </p:nvSpPr>
                        <p:spPr>
                          <a:xfrm>
                            <a:off x="5842080" y="5219280"/>
                            <a:ext cx="13644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0" h="58">
                                <a:moveTo>
                                  <a:pt x="0" y="43"/>
                                </a:moveTo>
                                <a:lnTo>
                                  <a:pt x="28" y="36"/>
                                </a:lnTo>
                                <a:lnTo>
                                  <a:pt x="55" y="28"/>
                                </a:lnTo>
                                <a:lnTo>
                                  <a:pt x="77" y="15"/>
                                </a:lnTo>
                                <a:lnTo>
                                  <a:pt x="93" y="0"/>
                                </a:lnTo>
                                <a:lnTo>
                                  <a:pt x="105" y="20"/>
                                </a:lnTo>
                                <a:lnTo>
                                  <a:pt x="125" y="31"/>
                                </a:lnTo>
                                <a:lnTo>
                                  <a:pt x="143" y="36"/>
                                </a:lnTo>
                                <a:lnTo>
                                  <a:pt x="170" y="31"/>
                                </a:lnTo>
                                <a:lnTo>
                                  <a:pt x="158" y="45"/>
                                </a:lnTo>
                                <a:lnTo>
                                  <a:pt x="142" y="53"/>
                                </a:lnTo>
                                <a:lnTo>
                                  <a:pt x="122" y="58"/>
                                </a:lnTo>
                                <a:lnTo>
                                  <a:pt x="88" y="58"/>
                                </a:lnTo>
                                <a:lnTo>
                                  <a:pt x="57" y="53"/>
                                </a:lnTo>
                                <a:lnTo>
                                  <a:pt x="25" y="51"/>
                                </a:lnTo>
                                <a:lnTo>
                                  <a:pt x="0" y="4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64" name=""/>
                        <p:cNvGrpSpPr/>
                        <p:nvPr/>
                      </p:nvGrpSpPr>
                      <p:grpSpPr>
                        <a:xfrm>
                          <a:off x="5856120" y="5073120"/>
                          <a:ext cx="157320" cy="111960"/>
                          <a:chOff x="5856120" y="5073120"/>
                          <a:chExt cx="157320" cy="111960"/>
                        </a:xfrm>
                      </p:grpSpPr>
                      <p:sp>
                        <p:nvSpPr>
                          <p:cNvPr id="1765" name=""/>
                          <p:cNvSpPr/>
                          <p:nvPr/>
                        </p:nvSpPr>
                        <p:spPr>
                          <a:xfrm>
                            <a:off x="5891040" y="5123520"/>
                            <a:ext cx="96840" cy="61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2" h="78">
                                <a:moveTo>
                                  <a:pt x="13" y="0"/>
                                </a:moveTo>
                                <a:lnTo>
                                  <a:pt x="36" y="11"/>
                                </a:lnTo>
                                <a:lnTo>
                                  <a:pt x="80" y="30"/>
                                </a:lnTo>
                                <a:lnTo>
                                  <a:pt x="122" y="33"/>
                                </a:lnTo>
                                <a:lnTo>
                                  <a:pt x="108" y="58"/>
                                </a:lnTo>
                                <a:lnTo>
                                  <a:pt x="91" y="61"/>
                                </a:lnTo>
                                <a:lnTo>
                                  <a:pt x="76" y="60"/>
                                </a:lnTo>
                                <a:lnTo>
                                  <a:pt x="50" y="51"/>
                                </a:lnTo>
                                <a:lnTo>
                                  <a:pt x="33" y="55"/>
                                </a:lnTo>
                                <a:lnTo>
                                  <a:pt x="16" y="65"/>
                                </a:lnTo>
                                <a:lnTo>
                                  <a:pt x="0" y="78"/>
                                </a:lnTo>
                                <a:lnTo>
                                  <a:pt x="20" y="48"/>
                                </a:lnTo>
                                <a:lnTo>
                                  <a:pt x="25" y="30"/>
                                </a:lnTo>
                                <a:lnTo>
                                  <a:pt x="1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3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6" name=""/>
                          <p:cNvSpPr/>
                          <p:nvPr/>
                        </p:nvSpPr>
                        <p:spPr>
                          <a:xfrm>
                            <a:off x="5865840" y="5093280"/>
                            <a:ext cx="123840" cy="4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7" h="52">
                                <a:moveTo>
                                  <a:pt x="0" y="22"/>
                                </a:moveTo>
                                <a:lnTo>
                                  <a:pt x="67" y="7"/>
                                </a:lnTo>
                                <a:lnTo>
                                  <a:pt x="120" y="0"/>
                                </a:lnTo>
                                <a:lnTo>
                                  <a:pt x="157" y="15"/>
                                </a:lnTo>
                                <a:lnTo>
                                  <a:pt x="157" y="40"/>
                                </a:lnTo>
                                <a:lnTo>
                                  <a:pt x="149" y="52"/>
                                </a:lnTo>
                                <a:lnTo>
                                  <a:pt x="105" y="52"/>
                                </a:lnTo>
                                <a:lnTo>
                                  <a:pt x="0" y="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4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7" name=""/>
                          <p:cNvSpPr/>
                          <p:nvPr/>
                        </p:nvSpPr>
                        <p:spPr>
                          <a:xfrm>
                            <a:off x="5856120" y="5073120"/>
                            <a:ext cx="1573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9" h="55">
                                <a:moveTo>
                                  <a:pt x="0" y="54"/>
                                </a:moveTo>
                                <a:lnTo>
                                  <a:pt x="27" y="55"/>
                                </a:lnTo>
                                <a:lnTo>
                                  <a:pt x="57" y="50"/>
                                </a:lnTo>
                                <a:lnTo>
                                  <a:pt x="97" y="50"/>
                                </a:lnTo>
                                <a:lnTo>
                                  <a:pt x="127" y="47"/>
                                </a:lnTo>
                                <a:lnTo>
                                  <a:pt x="146" y="47"/>
                                </a:lnTo>
                                <a:lnTo>
                                  <a:pt x="173" y="50"/>
                                </a:lnTo>
                                <a:lnTo>
                                  <a:pt x="184" y="44"/>
                                </a:lnTo>
                                <a:lnTo>
                                  <a:pt x="193" y="35"/>
                                </a:lnTo>
                                <a:lnTo>
                                  <a:pt x="199" y="29"/>
                                </a:lnTo>
                                <a:lnTo>
                                  <a:pt x="186" y="14"/>
                                </a:lnTo>
                                <a:lnTo>
                                  <a:pt x="168" y="2"/>
                                </a:lnTo>
                                <a:lnTo>
                                  <a:pt x="149" y="0"/>
                                </a:lnTo>
                                <a:lnTo>
                                  <a:pt x="126" y="2"/>
                                </a:lnTo>
                                <a:lnTo>
                                  <a:pt x="91" y="19"/>
                                </a:lnTo>
                                <a:lnTo>
                                  <a:pt x="61" y="34"/>
                                </a:lnTo>
                                <a:lnTo>
                                  <a:pt x="27" y="42"/>
                                </a:lnTo>
                                <a:lnTo>
                                  <a:pt x="0" y="5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8" name=""/>
                          <p:cNvSpPr/>
                          <p:nvPr/>
                        </p:nvSpPr>
                        <p:spPr>
                          <a:xfrm>
                            <a:off x="5856120" y="5103000"/>
                            <a:ext cx="138240" cy="55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6" h="70">
                                <a:moveTo>
                                  <a:pt x="0" y="0"/>
                                </a:moveTo>
                                <a:lnTo>
                                  <a:pt x="69" y="16"/>
                                </a:lnTo>
                                <a:lnTo>
                                  <a:pt x="114" y="20"/>
                                </a:lnTo>
                                <a:lnTo>
                                  <a:pt x="136" y="20"/>
                                </a:lnTo>
                                <a:lnTo>
                                  <a:pt x="156" y="16"/>
                                </a:lnTo>
                                <a:lnTo>
                                  <a:pt x="169" y="8"/>
                                </a:lnTo>
                                <a:lnTo>
                                  <a:pt x="174" y="23"/>
                                </a:lnTo>
                                <a:lnTo>
                                  <a:pt x="176" y="38"/>
                                </a:lnTo>
                                <a:lnTo>
                                  <a:pt x="173" y="58"/>
                                </a:lnTo>
                                <a:lnTo>
                                  <a:pt x="161" y="66"/>
                                </a:lnTo>
                                <a:lnTo>
                                  <a:pt x="149" y="70"/>
                                </a:lnTo>
                                <a:lnTo>
                                  <a:pt x="132" y="68"/>
                                </a:lnTo>
                                <a:lnTo>
                                  <a:pt x="106" y="58"/>
                                </a:lnTo>
                                <a:lnTo>
                                  <a:pt x="76" y="46"/>
                                </a:lnTo>
                                <a:lnTo>
                                  <a:pt x="51" y="33"/>
                                </a:lnTo>
                                <a:lnTo>
                                  <a:pt x="31" y="2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8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280" bIns="8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1769" name=""/>
                <p:cNvSpPr/>
                <p:nvPr/>
              </p:nvSpPr>
              <p:spPr>
                <a:xfrm>
                  <a:off x="5378400" y="4368600"/>
                  <a:ext cx="717480" cy="642600"/>
                </a:xfrm>
                <a:custGeom>
                  <a:avLst/>
                  <a:gdLst/>
                  <a:ahLst/>
                  <a:rect l="l" t="t" r="r" b="b"/>
                  <a:pathLst>
                    <a:path w="904" h="809">
                      <a:moveTo>
                        <a:pt x="875" y="451"/>
                      </a:moveTo>
                      <a:lnTo>
                        <a:pt x="892" y="403"/>
                      </a:lnTo>
                      <a:lnTo>
                        <a:pt x="900" y="370"/>
                      </a:lnTo>
                      <a:lnTo>
                        <a:pt x="904" y="335"/>
                      </a:lnTo>
                      <a:lnTo>
                        <a:pt x="902" y="301"/>
                      </a:lnTo>
                      <a:lnTo>
                        <a:pt x="894" y="268"/>
                      </a:lnTo>
                      <a:lnTo>
                        <a:pt x="874" y="261"/>
                      </a:lnTo>
                      <a:lnTo>
                        <a:pt x="855" y="258"/>
                      </a:lnTo>
                      <a:lnTo>
                        <a:pt x="865" y="236"/>
                      </a:lnTo>
                      <a:lnTo>
                        <a:pt x="870" y="215"/>
                      </a:lnTo>
                      <a:lnTo>
                        <a:pt x="865" y="198"/>
                      </a:lnTo>
                      <a:lnTo>
                        <a:pt x="844" y="181"/>
                      </a:lnTo>
                      <a:lnTo>
                        <a:pt x="810" y="168"/>
                      </a:lnTo>
                      <a:lnTo>
                        <a:pt x="784" y="160"/>
                      </a:lnTo>
                      <a:lnTo>
                        <a:pt x="770" y="140"/>
                      </a:lnTo>
                      <a:lnTo>
                        <a:pt x="750" y="125"/>
                      </a:lnTo>
                      <a:lnTo>
                        <a:pt x="723" y="113"/>
                      </a:lnTo>
                      <a:lnTo>
                        <a:pt x="703" y="85"/>
                      </a:lnTo>
                      <a:lnTo>
                        <a:pt x="677" y="65"/>
                      </a:lnTo>
                      <a:lnTo>
                        <a:pt x="638" y="55"/>
                      </a:lnTo>
                      <a:lnTo>
                        <a:pt x="618" y="36"/>
                      </a:lnTo>
                      <a:lnTo>
                        <a:pt x="598" y="25"/>
                      </a:lnTo>
                      <a:lnTo>
                        <a:pt x="563" y="20"/>
                      </a:lnTo>
                      <a:lnTo>
                        <a:pt x="540" y="15"/>
                      </a:lnTo>
                      <a:lnTo>
                        <a:pt x="491" y="5"/>
                      </a:lnTo>
                      <a:lnTo>
                        <a:pt x="449" y="0"/>
                      </a:lnTo>
                      <a:lnTo>
                        <a:pt x="413" y="5"/>
                      </a:lnTo>
                      <a:lnTo>
                        <a:pt x="381" y="18"/>
                      </a:lnTo>
                      <a:lnTo>
                        <a:pt x="349" y="21"/>
                      </a:lnTo>
                      <a:lnTo>
                        <a:pt x="326" y="25"/>
                      </a:lnTo>
                      <a:lnTo>
                        <a:pt x="299" y="20"/>
                      </a:lnTo>
                      <a:lnTo>
                        <a:pt x="267" y="25"/>
                      </a:lnTo>
                      <a:lnTo>
                        <a:pt x="236" y="33"/>
                      </a:lnTo>
                      <a:lnTo>
                        <a:pt x="211" y="51"/>
                      </a:lnTo>
                      <a:lnTo>
                        <a:pt x="201" y="75"/>
                      </a:lnTo>
                      <a:lnTo>
                        <a:pt x="180" y="83"/>
                      </a:lnTo>
                      <a:lnTo>
                        <a:pt x="165" y="98"/>
                      </a:lnTo>
                      <a:lnTo>
                        <a:pt x="154" y="116"/>
                      </a:lnTo>
                      <a:lnTo>
                        <a:pt x="139" y="123"/>
                      </a:lnTo>
                      <a:lnTo>
                        <a:pt x="129" y="131"/>
                      </a:lnTo>
                      <a:lnTo>
                        <a:pt x="122" y="150"/>
                      </a:lnTo>
                      <a:lnTo>
                        <a:pt x="104" y="163"/>
                      </a:lnTo>
                      <a:lnTo>
                        <a:pt x="92" y="180"/>
                      </a:lnTo>
                      <a:lnTo>
                        <a:pt x="84" y="208"/>
                      </a:lnTo>
                      <a:lnTo>
                        <a:pt x="74" y="246"/>
                      </a:lnTo>
                      <a:lnTo>
                        <a:pt x="45" y="255"/>
                      </a:lnTo>
                      <a:lnTo>
                        <a:pt x="27" y="266"/>
                      </a:lnTo>
                      <a:lnTo>
                        <a:pt x="18" y="288"/>
                      </a:lnTo>
                      <a:lnTo>
                        <a:pt x="23" y="306"/>
                      </a:lnTo>
                      <a:lnTo>
                        <a:pt x="15" y="338"/>
                      </a:lnTo>
                      <a:lnTo>
                        <a:pt x="10" y="370"/>
                      </a:lnTo>
                      <a:lnTo>
                        <a:pt x="12" y="401"/>
                      </a:lnTo>
                      <a:lnTo>
                        <a:pt x="18" y="440"/>
                      </a:lnTo>
                      <a:lnTo>
                        <a:pt x="20" y="473"/>
                      </a:lnTo>
                      <a:lnTo>
                        <a:pt x="15" y="508"/>
                      </a:lnTo>
                      <a:lnTo>
                        <a:pt x="5" y="540"/>
                      </a:lnTo>
                      <a:lnTo>
                        <a:pt x="0" y="576"/>
                      </a:lnTo>
                      <a:lnTo>
                        <a:pt x="5" y="618"/>
                      </a:lnTo>
                      <a:lnTo>
                        <a:pt x="13" y="656"/>
                      </a:lnTo>
                      <a:lnTo>
                        <a:pt x="33" y="696"/>
                      </a:lnTo>
                      <a:lnTo>
                        <a:pt x="47" y="725"/>
                      </a:lnTo>
                      <a:lnTo>
                        <a:pt x="65" y="743"/>
                      </a:lnTo>
                      <a:lnTo>
                        <a:pt x="85" y="768"/>
                      </a:lnTo>
                      <a:lnTo>
                        <a:pt x="95" y="793"/>
                      </a:lnTo>
                      <a:lnTo>
                        <a:pt x="114" y="809"/>
                      </a:lnTo>
                      <a:lnTo>
                        <a:pt x="139" y="806"/>
                      </a:lnTo>
                      <a:lnTo>
                        <a:pt x="160" y="796"/>
                      </a:lnTo>
                      <a:lnTo>
                        <a:pt x="170" y="774"/>
                      </a:lnTo>
                      <a:lnTo>
                        <a:pt x="170" y="756"/>
                      </a:lnTo>
                      <a:lnTo>
                        <a:pt x="164" y="721"/>
                      </a:lnTo>
                      <a:lnTo>
                        <a:pt x="170" y="706"/>
                      </a:lnTo>
                      <a:lnTo>
                        <a:pt x="145" y="701"/>
                      </a:lnTo>
                      <a:lnTo>
                        <a:pt x="122" y="706"/>
                      </a:lnTo>
                      <a:lnTo>
                        <a:pt x="115" y="676"/>
                      </a:lnTo>
                      <a:lnTo>
                        <a:pt x="105" y="651"/>
                      </a:lnTo>
                      <a:lnTo>
                        <a:pt x="114" y="621"/>
                      </a:lnTo>
                      <a:lnTo>
                        <a:pt x="115" y="600"/>
                      </a:lnTo>
                      <a:lnTo>
                        <a:pt x="112" y="580"/>
                      </a:lnTo>
                      <a:lnTo>
                        <a:pt x="145" y="560"/>
                      </a:lnTo>
                      <a:lnTo>
                        <a:pt x="182" y="553"/>
                      </a:lnTo>
                      <a:lnTo>
                        <a:pt x="219" y="561"/>
                      </a:lnTo>
                      <a:lnTo>
                        <a:pt x="221" y="585"/>
                      </a:lnTo>
                      <a:lnTo>
                        <a:pt x="232" y="608"/>
                      </a:lnTo>
                      <a:lnTo>
                        <a:pt x="247" y="628"/>
                      </a:lnTo>
                      <a:lnTo>
                        <a:pt x="271" y="633"/>
                      </a:lnTo>
                      <a:lnTo>
                        <a:pt x="297" y="635"/>
                      </a:lnTo>
                      <a:lnTo>
                        <a:pt x="317" y="628"/>
                      </a:lnTo>
                      <a:lnTo>
                        <a:pt x="341" y="608"/>
                      </a:lnTo>
                      <a:lnTo>
                        <a:pt x="356" y="580"/>
                      </a:lnTo>
                      <a:lnTo>
                        <a:pt x="381" y="583"/>
                      </a:lnTo>
                      <a:lnTo>
                        <a:pt x="404" y="580"/>
                      </a:lnTo>
                      <a:lnTo>
                        <a:pt x="433" y="561"/>
                      </a:lnTo>
                      <a:lnTo>
                        <a:pt x="446" y="535"/>
                      </a:lnTo>
                      <a:lnTo>
                        <a:pt x="451" y="511"/>
                      </a:lnTo>
                      <a:lnTo>
                        <a:pt x="443" y="473"/>
                      </a:lnTo>
                      <a:lnTo>
                        <a:pt x="461" y="441"/>
                      </a:lnTo>
                      <a:lnTo>
                        <a:pt x="491" y="446"/>
                      </a:lnTo>
                      <a:lnTo>
                        <a:pt x="525" y="451"/>
                      </a:lnTo>
                      <a:lnTo>
                        <a:pt x="546" y="445"/>
                      </a:lnTo>
                      <a:lnTo>
                        <a:pt x="560" y="433"/>
                      </a:lnTo>
                      <a:lnTo>
                        <a:pt x="565" y="443"/>
                      </a:lnTo>
                      <a:lnTo>
                        <a:pt x="560" y="463"/>
                      </a:lnTo>
                      <a:lnTo>
                        <a:pt x="546" y="478"/>
                      </a:lnTo>
                      <a:lnTo>
                        <a:pt x="530" y="488"/>
                      </a:lnTo>
                      <a:lnTo>
                        <a:pt x="505" y="496"/>
                      </a:lnTo>
                      <a:lnTo>
                        <a:pt x="481" y="501"/>
                      </a:lnTo>
                      <a:lnTo>
                        <a:pt x="511" y="515"/>
                      </a:lnTo>
                      <a:lnTo>
                        <a:pt x="540" y="520"/>
                      </a:lnTo>
                      <a:lnTo>
                        <a:pt x="566" y="521"/>
                      </a:lnTo>
                      <a:lnTo>
                        <a:pt x="598" y="520"/>
                      </a:lnTo>
                      <a:lnTo>
                        <a:pt x="625" y="515"/>
                      </a:lnTo>
                      <a:lnTo>
                        <a:pt x="657" y="511"/>
                      </a:lnTo>
                      <a:lnTo>
                        <a:pt x="643" y="530"/>
                      </a:lnTo>
                      <a:lnTo>
                        <a:pt x="628" y="540"/>
                      </a:lnTo>
                      <a:lnTo>
                        <a:pt x="606" y="550"/>
                      </a:lnTo>
                      <a:lnTo>
                        <a:pt x="630" y="553"/>
                      </a:lnTo>
                      <a:lnTo>
                        <a:pt x="665" y="551"/>
                      </a:lnTo>
                      <a:lnTo>
                        <a:pt x="692" y="546"/>
                      </a:lnTo>
                      <a:lnTo>
                        <a:pt x="713" y="535"/>
                      </a:lnTo>
                      <a:lnTo>
                        <a:pt x="745" y="511"/>
                      </a:lnTo>
                      <a:lnTo>
                        <a:pt x="743" y="528"/>
                      </a:lnTo>
                      <a:lnTo>
                        <a:pt x="730" y="546"/>
                      </a:lnTo>
                      <a:lnTo>
                        <a:pt x="715" y="561"/>
                      </a:lnTo>
                      <a:lnTo>
                        <a:pt x="743" y="565"/>
                      </a:lnTo>
                      <a:lnTo>
                        <a:pt x="774" y="560"/>
                      </a:lnTo>
                      <a:lnTo>
                        <a:pt x="799" y="548"/>
                      </a:lnTo>
                      <a:lnTo>
                        <a:pt x="829" y="523"/>
                      </a:lnTo>
                      <a:lnTo>
                        <a:pt x="854" y="493"/>
                      </a:lnTo>
                      <a:lnTo>
                        <a:pt x="875" y="451"/>
                      </a:lnTo>
                      <a:close/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0" name=""/>
            <p:cNvGrpSpPr/>
            <p:nvPr/>
          </p:nvGrpSpPr>
          <p:grpSpPr>
            <a:xfrm>
              <a:off x="6961320" y="3505320"/>
              <a:ext cx="2182680" cy="2725920"/>
              <a:chOff x="6961320" y="3505320"/>
              <a:chExt cx="2182680" cy="2725920"/>
            </a:xfrm>
          </p:grpSpPr>
          <p:grpSp>
            <p:nvGrpSpPr>
              <p:cNvPr id="1771" name=""/>
              <p:cNvGrpSpPr/>
              <p:nvPr/>
            </p:nvGrpSpPr>
            <p:grpSpPr>
              <a:xfrm>
                <a:off x="6961320" y="4097160"/>
                <a:ext cx="1407960" cy="2134080"/>
                <a:chOff x="6961320" y="4097160"/>
                <a:chExt cx="1407960" cy="2134080"/>
              </a:xfrm>
            </p:grpSpPr>
            <p:grpSp>
              <p:nvGrpSpPr>
                <p:cNvPr id="1772" name=""/>
                <p:cNvGrpSpPr/>
                <p:nvPr/>
              </p:nvGrpSpPr>
              <p:grpSpPr>
                <a:xfrm>
                  <a:off x="6961320" y="4097160"/>
                  <a:ext cx="1407960" cy="2134080"/>
                  <a:chOff x="6961320" y="4097160"/>
                  <a:chExt cx="1407960" cy="2134080"/>
                </a:xfrm>
              </p:grpSpPr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6961320" y="5326920"/>
                    <a:ext cx="614160" cy="904320"/>
                    <a:chOff x="6961320" y="5326920"/>
                    <a:chExt cx="614160" cy="904320"/>
                  </a:xfrm>
                </p:grpSpPr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6961320" y="5536080"/>
                      <a:ext cx="461880" cy="695160"/>
                      <a:chOff x="6961320" y="5536080"/>
                      <a:chExt cx="461880" cy="69516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110360" y="6005880"/>
                        <a:ext cx="152280" cy="85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2" h="108">
                            <a:moveTo>
                              <a:pt x="0" y="70"/>
                            </a:moveTo>
                            <a:lnTo>
                              <a:pt x="43" y="0"/>
                            </a:lnTo>
                            <a:lnTo>
                              <a:pt x="87" y="3"/>
                            </a:lnTo>
                            <a:lnTo>
                              <a:pt x="125" y="15"/>
                            </a:lnTo>
                            <a:lnTo>
                              <a:pt x="192" y="40"/>
                            </a:lnTo>
                            <a:lnTo>
                              <a:pt x="170" y="108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c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520" bIns="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075440" y="6046920"/>
                        <a:ext cx="16668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99">
                            <a:moveTo>
                              <a:pt x="52" y="0"/>
                            </a:moveTo>
                            <a:lnTo>
                              <a:pt x="81" y="2"/>
                            </a:lnTo>
                            <a:lnTo>
                              <a:pt x="127" y="14"/>
                            </a:lnTo>
                            <a:lnTo>
                              <a:pt x="174" y="25"/>
                            </a:lnTo>
                            <a:lnTo>
                              <a:pt x="204" y="32"/>
                            </a:lnTo>
                            <a:lnTo>
                              <a:pt x="209" y="47"/>
                            </a:lnTo>
                            <a:lnTo>
                              <a:pt x="207" y="67"/>
                            </a:lnTo>
                            <a:lnTo>
                              <a:pt x="191" y="87"/>
                            </a:lnTo>
                            <a:lnTo>
                              <a:pt x="169" y="99"/>
                            </a:lnTo>
                            <a:lnTo>
                              <a:pt x="127" y="90"/>
                            </a:lnTo>
                            <a:lnTo>
                              <a:pt x="57" y="72"/>
                            </a:lnTo>
                            <a:lnTo>
                              <a:pt x="0" y="35"/>
                            </a:lnTo>
                            <a:lnTo>
                              <a:pt x="52" y="0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6961320" y="5536080"/>
                        <a:ext cx="461880" cy="69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1" h="877">
                            <a:moveTo>
                              <a:pt x="432" y="0"/>
                            </a:moveTo>
                            <a:lnTo>
                              <a:pt x="412" y="35"/>
                            </a:lnTo>
                            <a:lnTo>
                              <a:pt x="402" y="73"/>
                            </a:lnTo>
                            <a:lnTo>
                              <a:pt x="381" y="112"/>
                            </a:lnTo>
                            <a:lnTo>
                              <a:pt x="364" y="137"/>
                            </a:lnTo>
                            <a:lnTo>
                              <a:pt x="347" y="167"/>
                            </a:lnTo>
                            <a:lnTo>
                              <a:pt x="322" y="195"/>
                            </a:lnTo>
                            <a:lnTo>
                              <a:pt x="292" y="218"/>
                            </a:lnTo>
                            <a:lnTo>
                              <a:pt x="285" y="227"/>
                            </a:lnTo>
                            <a:lnTo>
                              <a:pt x="280" y="245"/>
                            </a:lnTo>
                            <a:lnTo>
                              <a:pt x="277" y="277"/>
                            </a:lnTo>
                            <a:lnTo>
                              <a:pt x="265" y="313"/>
                            </a:lnTo>
                            <a:lnTo>
                              <a:pt x="240" y="338"/>
                            </a:lnTo>
                            <a:lnTo>
                              <a:pt x="220" y="367"/>
                            </a:lnTo>
                            <a:lnTo>
                              <a:pt x="207" y="392"/>
                            </a:lnTo>
                            <a:lnTo>
                              <a:pt x="178" y="443"/>
                            </a:lnTo>
                            <a:lnTo>
                              <a:pt x="147" y="498"/>
                            </a:lnTo>
                            <a:lnTo>
                              <a:pt x="142" y="517"/>
                            </a:lnTo>
                            <a:lnTo>
                              <a:pt x="140" y="550"/>
                            </a:lnTo>
                            <a:lnTo>
                              <a:pt x="138" y="590"/>
                            </a:lnTo>
                            <a:lnTo>
                              <a:pt x="140" y="623"/>
                            </a:lnTo>
                            <a:lnTo>
                              <a:pt x="143" y="653"/>
                            </a:lnTo>
                            <a:lnTo>
                              <a:pt x="138" y="678"/>
                            </a:lnTo>
                            <a:lnTo>
                              <a:pt x="118" y="715"/>
                            </a:lnTo>
                            <a:lnTo>
                              <a:pt x="90" y="750"/>
                            </a:lnTo>
                            <a:lnTo>
                              <a:pt x="0" y="858"/>
                            </a:lnTo>
                            <a:lnTo>
                              <a:pt x="60" y="877"/>
                            </a:lnTo>
                            <a:lnTo>
                              <a:pt x="98" y="838"/>
                            </a:lnTo>
                            <a:lnTo>
                              <a:pt x="148" y="790"/>
                            </a:lnTo>
                            <a:lnTo>
                              <a:pt x="185" y="752"/>
                            </a:lnTo>
                            <a:lnTo>
                              <a:pt x="219" y="712"/>
                            </a:lnTo>
                            <a:lnTo>
                              <a:pt x="242" y="678"/>
                            </a:lnTo>
                            <a:lnTo>
                              <a:pt x="265" y="627"/>
                            </a:lnTo>
                            <a:lnTo>
                              <a:pt x="302" y="598"/>
                            </a:lnTo>
                            <a:lnTo>
                              <a:pt x="330" y="577"/>
                            </a:lnTo>
                            <a:lnTo>
                              <a:pt x="345" y="555"/>
                            </a:lnTo>
                            <a:lnTo>
                              <a:pt x="335" y="597"/>
                            </a:lnTo>
                            <a:lnTo>
                              <a:pt x="324" y="635"/>
                            </a:lnTo>
                            <a:lnTo>
                              <a:pt x="317" y="680"/>
                            </a:lnTo>
                            <a:lnTo>
                              <a:pt x="320" y="727"/>
                            </a:lnTo>
                            <a:lnTo>
                              <a:pt x="334" y="777"/>
                            </a:lnTo>
                            <a:lnTo>
                              <a:pt x="344" y="807"/>
                            </a:lnTo>
                            <a:lnTo>
                              <a:pt x="355" y="823"/>
                            </a:lnTo>
                            <a:lnTo>
                              <a:pt x="372" y="833"/>
                            </a:lnTo>
                            <a:lnTo>
                              <a:pt x="392" y="838"/>
                            </a:lnTo>
                            <a:lnTo>
                              <a:pt x="411" y="835"/>
                            </a:lnTo>
                            <a:lnTo>
                              <a:pt x="424" y="830"/>
                            </a:lnTo>
                            <a:lnTo>
                              <a:pt x="431" y="812"/>
                            </a:lnTo>
                            <a:lnTo>
                              <a:pt x="424" y="788"/>
                            </a:lnTo>
                            <a:lnTo>
                              <a:pt x="409" y="773"/>
                            </a:lnTo>
                            <a:lnTo>
                              <a:pt x="394" y="757"/>
                            </a:lnTo>
                            <a:lnTo>
                              <a:pt x="391" y="710"/>
                            </a:lnTo>
                            <a:lnTo>
                              <a:pt x="402" y="660"/>
                            </a:lnTo>
                            <a:lnTo>
                              <a:pt x="406" y="623"/>
                            </a:lnTo>
                            <a:lnTo>
                              <a:pt x="419" y="592"/>
                            </a:lnTo>
                            <a:lnTo>
                              <a:pt x="431" y="565"/>
                            </a:lnTo>
                            <a:lnTo>
                              <a:pt x="449" y="535"/>
                            </a:lnTo>
                            <a:lnTo>
                              <a:pt x="452" y="517"/>
                            </a:lnTo>
                            <a:lnTo>
                              <a:pt x="461" y="465"/>
                            </a:lnTo>
                            <a:lnTo>
                              <a:pt x="462" y="422"/>
                            </a:lnTo>
                            <a:lnTo>
                              <a:pt x="496" y="347"/>
                            </a:lnTo>
                            <a:lnTo>
                              <a:pt x="523" y="282"/>
                            </a:lnTo>
                            <a:lnTo>
                              <a:pt x="543" y="218"/>
                            </a:lnTo>
                            <a:lnTo>
                              <a:pt x="569" y="147"/>
                            </a:lnTo>
                            <a:lnTo>
                              <a:pt x="581" y="28"/>
                            </a:lnTo>
                            <a:lnTo>
                              <a:pt x="432" y="0"/>
                            </a:lnTo>
                            <a:close/>
                          </a:path>
                        </a:pathLst>
                      </a:custGeom>
                      <a:solidFill>
                        <a:srgbClr val="ff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7200720" y="5956560"/>
                        <a:ext cx="47880" cy="9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115">
                            <a:moveTo>
                              <a:pt x="0" y="62"/>
                            </a:moveTo>
                            <a:lnTo>
                              <a:pt x="20" y="48"/>
                            </a:lnTo>
                            <a:lnTo>
                              <a:pt x="35" y="33"/>
                            </a:lnTo>
                            <a:lnTo>
                              <a:pt x="45" y="20"/>
                            </a:lnTo>
                            <a:lnTo>
                              <a:pt x="60" y="0"/>
                            </a:lnTo>
                            <a:lnTo>
                              <a:pt x="47" y="38"/>
                            </a:lnTo>
                            <a:lnTo>
                              <a:pt x="39" y="57"/>
                            </a:lnTo>
                            <a:lnTo>
                              <a:pt x="29" y="88"/>
                            </a:lnTo>
                            <a:lnTo>
                              <a:pt x="20" y="115"/>
                            </a:lnTo>
                            <a:lnTo>
                              <a:pt x="10" y="80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7243560" y="6017040"/>
                        <a:ext cx="46080" cy="15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203">
                            <a:moveTo>
                              <a:pt x="59" y="172"/>
                            </a:moveTo>
                            <a:lnTo>
                              <a:pt x="39" y="170"/>
                            </a:lnTo>
                            <a:lnTo>
                              <a:pt x="22" y="177"/>
                            </a:lnTo>
                            <a:lnTo>
                              <a:pt x="7" y="193"/>
                            </a:lnTo>
                            <a:lnTo>
                              <a:pt x="0" y="203"/>
                            </a:lnTo>
                            <a:lnTo>
                              <a:pt x="7" y="183"/>
                            </a:lnTo>
                            <a:lnTo>
                              <a:pt x="17" y="168"/>
                            </a:lnTo>
                            <a:lnTo>
                              <a:pt x="31" y="158"/>
                            </a:lnTo>
                            <a:lnTo>
                              <a:pt x="27" y="138"/>
                            </a:lnTo>
                            <a:lnTo>
                              <a:pt x="24" y="102"/>
                            </a:lnTo>
                            <a:lnTo>
                              <a:pt x="29" y="70"/>
                            </a:lnTo>
                            <a:lnTo>
                              <a:pt x="37" y="43"/>
                            </a:lnTo>
                            <a:lnTo>
                              <a:pt x="54" y="0"/>
                            </a:lnTo>
                            <a:lnTo>
                              <a:pt x="51" y="32"/>
                            </a:lnTo>
                            <a:lnTo>
                              <a:pt x="46" y="62"/>
                            </a:lnTo>
                            <a:lnTo>
                              <a:pt x="39" y="93"/>
                            </a:lnTo>
                            <a:lnTo>
                              <a:pt x="37" y="110"/>
                            </a:lnTo>
                            <a:lnTo>
                              <a:pt x="39" y="128"/>
                            </a:lnTo>
                            <a:lnTo>
                              <a:pt x="44" y="150"/>
                            </a:lnTo>
                            <a:lnTo>
                              <a:pt x="59" y="172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067520" y="5924880"/>
                        <a:ext cx="69840" cy="15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92">
                            <a:moveTo>
                              <a:pt x="2" y="192"/>
                            </a:moveTo>
                            <a:lnTo>
                              <a:pt x="14" y="177"/>
                            </a:lnTo>
                            <a:lnTo>
                              <a:pt x="25" y="153"/>
                            </a:lnTo>
                            <a:lnTo>
                              <a:pt x="32" y="133"/>
                            </a:lnTo>
                            <a:lnTo>
                              <a:pt x="30" y="103"/>
                            </a:lnTo>
                            <a:lnTo>
                              <a:pt x="30" y="75"/>
                            </a:lnTo>
                            <a:lnTo>
                              <a:pt x="34" y="48"/>
                            </a:lnTo>
                            <a:lnTo>
                              <a:pt x="37" y="32"/>
                            </a:lnTo>
                            <a:lnTo>
                              <a:pt x="49" y="20"/>
                            </a:lnTo>
                            <a:lnTo>
                              <a:pt x="67" y="10"/>
                            </a:lnTo>
                            <a:lnTo>
                              <a:pt x="89" y="0"/>
                            </a:lnTo>
                            <a:lnTo>
                              <a:pt x="59" y="10"/>
                            </a:lnTo>
                            <a:lnTo>
                              <a:pt x="39" y="20"/>
                            </a:lnTo>
                            <a:lnTo>
                              <a:pt x="20" y="20"/>
                            </a:lnTo>
                            <a:lnTo>
                              <a:pt x="9" y="13"/>
                            </a:lnTo>
                            <a:lnTo>
                              <a:pt x="4" y="27"/>
                            </a:lnTo>
                            <a:lnTo>
                              <a:pt x="2" y="50"/>
                            </a:lnTo>
                            <a:lnTo>
                              <a:pt x="2" y="72"/>
                            </a:lnTo>
                            <a:lnTo>
                              <a:pt x="0" y="102"/>
                            </a:lnTo>
                            <a:lnTo>
                              <a:pt x="2" y="127"/>
                            </a:lnTo>
                            <a:lnTo>
                              <a:pt x="4" y="148"/>
                            </a:lnTo>
                            <a:lnTo>
                              <a:pt x="7" y="163"/>
                            </a:lnTo>
                            <a:lnTo>
                              <a:pt x="2" y="192"/>
                            </a:lnTo>
                            <a:close/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1" name=""/>
                    <p:cNvGrpSpPr/>
                    <p:nvPr/>
                  </p:nvGrpSpPr>
                  <p:grpSpPr>
                    <a:xfrm>
                      <a:off x="7275600" y="5326920"/>
                      <a:ext cx="299880" cy="352080"/>
                      <a:chOff x="7275600" y="5326920"/>
                      <a:chExt cx="299880" cy="352080"/>
                    </a:xfrm>
                  </p:grpSpPr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7275600" y="5326920"/>
                        <a:ext cx="299880" cy="35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7" h="443">
                            <a:moveTo>
                              <a:pt x="110" y="0"/>
                            </a:moveTo>
                            <a:lnTo>
                              <a:pt x="168" y="16"/>
                            </a:lnTo>
                            <a:lnTo>
                              <a:pt x="275" y="58"/>
                            </a:lnTo>
                            <a:lnTo>
                              <a:pt x="345" y="115"/>
                            </a:lnTo>
                            <a:lnTo>
                              <a:pt x="377" y="173"/>
                            </a:lnTo>
                            <a:lnTo>
                              <a:pt x="367" y="213"/>
                            </a:lnTo>
                            <a:lnTo>
                              <a:pt x="344" y="243"/>
                            </a:lnTo>
                            <a:lnTo>
                              <a:pt x="324" y="265"/>
                            </a:lnTo>
                            <a:lnTo>
                              <a:pt x="297" y="286"/>
                            </a:lnTo>
                            <a:lnTo>
                              <a:pt x="270" y="321"/>
                            </a:lnTo>
                            <a:lnTo>
                              <a:pt x="247" y="356"/>
                            </a:lnTo>
                            <a:lnTo>
                              <a:pt x="230" y="386"/>
                            </a:lnTo>
                            <a:lnTo>
                              <a:pt x="217" y="410"/>
                            </a:lnTo>
                            <a:lnTo>
                              <a:pt x="197" y="428"/>
                            </a:lnTo>
                            <a:lnTo>
                              <a:pt x="180" y="438"/>
                            </a:lnTo>
                            <a:lnTo>
                              <a:pt x="158" y="443"/>
                            </a:lnTo>
                            <a:lnTo>
                              <a:pt x="163" y="423"/>
                            </a:lnTo>
                            <a:lnTo>
                              <a:pt x="170" y="406"/>
                            </a:lnTo>
                            <a:lnTo>
                              <a:pt x="163" y="366"/>
                            </a:lnTo>
                            <a:lnTo>
                              <a:pt x="133" y="336"/>
                            </a:lnTo>
                            <a:lnTo>
                              <a:pt x="73" y="306"/>
                            </a:lnTo>
                            <a:lnTo>
                              <a:pt x="21" y="300"/>
                            </a:lnTo>
                            <a:lnTo>
                              <a:pt x="8" y="308"/>
                            </a:lnTo>
                            <a:lnTo>
                              <a:pt x="0" y="295"/>
                            </a:lnTo>
                            <a:lnTo>
                              <a:pt x="1" y="281"/>
                            </a:lnTo>
                            <a:lnTo>
                              <a:pt x="5" y="266"/>
                            </a:lnTo>
                            <a:lnTo>
                              <a:pt x="15" y="251"/>
                            </a:lnTo>
                            <a:lnTo>
                              <a:pt x="36" y="213"/>
                            </a:lnTo>
                            <a:lnTo>
                              <a:pt x="48" y="163"/>
                            </a:lnTo>
                            <a:lnTo>
                              <a:pt x="71" y="90"/>
                            </a:lnTo>
                            <a:lnTo>
                              <a:pt x="98" y="23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7281720" y="5551920"/>
                        <a:ext cx="13968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58">
                            <a:moveTo>
                              <a:pt x="0" y="17"/>
                            </a:moveTo>
                            <a:lnTo>
                              <a:pt x="5" y="7"/>
                            </a:lnTo>
                            <a:lnTo>
                              <a:pt x="15" y="3"/>
                            </a:lnTo>
                            <a:lnTo>
                              <a:pt x="38" y="0"/>
                            </a:lnTo>
                            <a:lnTo>
                              <a:pt x="58" y="2"/>
                            </a:lnTo>
                            <a:lnTo>
                              <a:pt x="82" y="8"/>
                            </a:lnTo>
                            <a:lnTo>
                              <a:pt x="104" y="18"/>
                            </a:lnTo>
                            <a:lnTo>
                              <a:pt x="127" y="33"/>
                            </a:lnTo>
                            <a:lnTo>
                              <a:pt x="147" y="47"/>
                            </a:lnTo>
                            <a:lnTo>
                              <a:pt x="162" y="67"/>
                            </a:lnTo>
                            <a:lnTo>
                              <a:pt x="174" y="90"/>
                            </a:lnTo>
                            <a:lnTo>
                              <a:pt x="175" y="110"/>
                            </a:lnTo>
                            <a:lnTo>
                              <a:pt x="172" y="133"/>
                            </a:lnTo>
                            <a:lnTo>
                              <a:pt x="165" y="143"/>
                            </a:lnTo>
                            <a:lnTo>
                              <a:pt x="155" y="158"/>
                            </a:lnTo>
                            <a:lnTo>
                              <a:pt x="162" y="132"/>
                            </a:lnTo>
                            <a:lnTo>
                              <a:pt x="165" y="107"/>
                            </a:lnTo>
                            <a:lnTo>
                              <a:pt x="155" y="80"/>
                            </a:lnTo>
                            <a:lnTo>
                              <a:pt x="140" y="62"/>
                            </a:lnTo>
                            <a:lnTo>
                              <a:pt x="114" y="42"/>
                            </a:lnTo>
                            <a:lnTo>
                              <a:pt x="87" y="28"/>
                            </a:lnTo>
                            <a:lnTo>
                              <a:pt x="60" y="20"/>
                            </a:lnTo>
                            <a:lnTo>
                              <a:pt x="35" y="15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d0d0d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7351560" y="4097160"/>
                    <a:ext cx="1017720" cy="1408680"/>
                    <a:chOff x="7351560" y="4097160"/>
                    <a:chExt cx="1017720" cy="1408680"/>
                  </a:xfrm>
                </p:grpSpPr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351560" y="4097160"/>
                      <a:ext cx="1017720" cy="139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3" h="1760">
                          <a:moveTo>
                            <a:pt x="551" y="0"/>
                          </a:moveTo>
                          <a:lnTo>
                            <a:pt x="1020" y="292"/>
                          </a:lnTo>
                          <a:lnTo>
                            <a:pt x="1117" y="628"/>
                          </a:lnTo>
                          <a:lnTo>
                            <a:pt x="1283" y="890"/>
                          </a:lnTo>
                          <a:lnTo>
                            <a:pt x="1206" y="1095"/>
                          </a:lnTo>
                          <a:lnTo>
                            <a:pt x="1157" y="1017"/>
                          </a:lnTo>
                          <a:lnTo>
                            <a:pt x="1051" y="938"/>
                          </a:lnTo>
                          <a:lnTo>
                            <a:pt x="920" y="908"/>
                          </a:lnTo>
                          <a:lnTo>
                            <a:pt x="872" y="880"/>
                          </a:lnTo>
                          <a:lnTo>
                            <a:pt x="833" y="842"/>
                          </a:lnTo>
                          <a:lnTo>
                            <a:pt x="803" y="918"/>
                          </a:lnTo>
                          <a:lnTo>
                            <a:pt x="716" y="1073"/>
                          </a:lnTo>
                          <a:lnTo>
                            <a:pt x="638" y="1190"/>
                          </a:lnTo>
                          <a:lnTo>
                            <a:pt x="633" y="1208"/>
                          </a:lnTo>
                          <a:lnTo>
                            <a:pt x="623" y="1223"/>
                          </a:lnTo>
                          <a:lnTo>
                            <a:pt x="610" y="1230"/>
                          </a:lnTo>
                          <a:lnTo>
                            <a:pt x="598" y="1251"/>
                          </a:lnTo>
                          <a:lnTo>
                            <a:pt x="581" y="1306"/>
                          </a:lnTo>
                          <a:lnTo>
                            <a:pt x="564" y="1355"/>
                          </a:lnTo>
                          <a:lnTo>
                            <a:pt x="551" y="1351"/>
                          </a:lnTo>
                          <a:lnTo>
                            <a:pt x="541" y="1355"/>
                          </a:lnTo>
                          <a:lnTo>
                            <a:pt x="521" y="1403"/>
                          </a:lnTo>
                          <a:lnTo>
                            <a:pt x="504" y="1461"/>
                          </a:lnTo>
                          <a:lnTo>
                            <a:pt x="486" y="1476"/>
                          </a:lnTo>
                          <a:lnTo>
                            <a:pt x="466" y="1485"/>
                          </a:lnTo>
                          <a:lnTo>
                            <a:pt x="437" y="1491"/>
                          </a:lnTo>
                          <a:lnTo>
                            <a:pt x="434" y="1526"/>
                          </a:lnTo>
                          <a:lnTo>
                            <a:pt x="427" y="1558"/>
                          </a:lnTo>
                          <a:lnTo>
                            <a:pt x="404" y="1583"/>
                          </a:lnTo>
                          <a:lnTo>
                            <a:pt x="377" y="1596"/>
                          </a:lnTo>
                          <a:lnTo>
                            <a:pt x="352" y="1633"/>
                          </a:lnTo>
                          <a:lnTo>
                            <a:pt x="339" y="1665"/>
                          </a:lnTo>
                          <a:lnTo>
                            <a:pt x="334" y="1693"/>
                          </a:lnTo>
                          <a:lnTo>
                            <a:pt x="324" y="1720"/>
                          </a:lnTo>
                          <a:lnTo>
                            <a:pt x="316" y="1746"/>
                          </a:lnTo>
                          <a:lnTo>
                            <a:pt x="292" y="1755"/>
                          </a:lnTo>
                          <a:lnTo>
                            <a:pt x="262" y="1760"/>
                          </a:lnTo>
                          <a:lnTo>
                            <a:pt x="252" y="1695"/>
                          </a:lnTo>
                          <a:lnTo>
                            <a:pt x="200" y="1631"/>
                          </a:lnTo>
                          <a:lnTo>
                            <a:pt x="105" y="1600"/>
                          </a:lnTo>
                          <a:lnTo>
                            <a:pt x="60" y="1580"/>
                          </a:lnTo>
                          <a:lnTo>
                            <a:pt x="0" y="1586"/>
                          </a:lnTo>
                          <a:lnTo>
                            <a:pt x="22" y="1515"/>
                          </a:lnTo>
                          <a:lnTo>
                            <a:pt x="28" y="1471"/>
                          </a:lnTo>
                          <a:lnTo>
                            <a:pt x="37" y="1425"/>
                          </a:lnTo>
                          <a:lnTo>
                            <a:pt x="52" y="1388"/>
                          </a:lnTo>
                          <a:lnTo>
                            <a:pt x="67" y="1365"/>
                          </a:lnTo>
                          <a:lnTo>
                            <a:pt x="135" y="1316"/>
                          </a:lnTo>
                          <a:lnTo>
                            <a:pt x="130" y="1275"/>
                          </a:lnTo>
                          <a:lnTo>
                            <a:pt x="135" y="1240"/>
                          </a:lnTo>
                          <a:lnTo>
                            <a:pt x="145" y="1201"/>
                          </a:lnTo>
                          <a:lnTo>
                            <a:pt x="164" y="1161"/>
                          </a:lnTo>
                          <a:lnTo>
                            <a:pt x="184" y="1138"/>
                          </a:lnTo>
                          <a:lnTo>
                            <a:pt x="212" y="1115"/>
                          </a:lnTo>
                          <a:lnTo>
                            <a:pt x="242" y="1103"/>
                          </a:lnTo>
                          <a:lnTo>
                            <a:pt x="227" y="1081"/>
                          </a:lnTo>
                          <a:lnTo>
                            <a:pt x="222" y="1055"/>
                          </a:lnTo>
                          <a:lnTo>
                            <a:pt x="217" y="1023"/>
                          </a:lnTo>
                          <a:lnTo>
                            <a:pt x="222" y="997"/>
                          </a:lnTo>
                          <a:lnTo>
                            <a:pt x="234" y="970"/>
                          </a:lnTo>
                          <a:lnTo>
                            <a:pt x="254" y="952"/>
                          </a:lnTo>
                          <a:lnTo>
                            <a:pt x="272" y="938"/>
                          </a:lnTo>
                          <a:lnTo>
                            <a:pt x="277" y="918"/>
                          </a:lnTo>
                          <a:lnTo>
                            <a:pt x="290" y="905"/>
                          </a:lnTo>
                          <a:lnTo>
                            <a:pt x="311" y="900"/>
                          </a:lnTo>
                          <a:lnTo>
                            <a:pt x="316" y="875"/>
                          </a:lnTo>
                          <a:lnTo>
                            <a:pt x="336" y="852"/>
                          </a:lnTo>
                          <a:lnTo>
                            <a:pt x="354" y="845"/>
                          </a:lnTo>
                          <a:lnTo>
                            <a:pt x="372" y="840"/>
                          </a:lnTo>
                          <a:lnTo>
                            <a:pt x="376" y="818"/>
                          </a:lnTo>
                          <a:lnTo>
                            <a:pt x="382" y="803"/>
                          </a:lnTo>
                          <a:lnTo>
                            <a:pt x="379" y="778"/>
                          </a:lnTo>
                          <a:lnTo>
                            <a:pt x="372" y="753"/>
                          </a:lnTo>
                          <a:lnTo>
                            <a:pt x="369" y="722"/>
                          </a:lnTo>
                          <a:lnTo>
                            <a:pt x="367" y="697"/>
                          </a:lnTo>
                          <a:lnTo>
                            <a:pt x="376" y="675"/>
                          </a:lnTo>
                          <a:lnTo>
                            <a:pt x="391" y="653"/>
                          </a:lnTo>
                          <a:lnTo>
                            <a:pt x="404" y="638"/>
                          </a:lnTo>
                          <a:lnTo>
                            <a:pt x="417" y="628"/>
                          </a:lnTo>
                          <a:lnTo>
                            <a:pt x="419" y="602"/>
                          </a:lnTo>
                          <a:lnTo>
                            <a:pt x="422" y="578"/>
                          </a:lnTo>
                          <a:lnTo>
                            <a:pt x="417" y="545"/>
                          </a:lnTo>
                          <a:lnTo>
                            <a:pt x="407" y="522"/>
                          </a:lnTo>
                          <a:lnTo>
                            <a:pt x="431" y="452"/>
                          </a:lnTo>
                          <a:lnTo>
                            <a:pt x="456" y="388"/>
                          </a:lnTo>
                          <a:lnTo>
                            <a:pt x="468" y="307"/>
                          </a:lnTo>
                          <a:lnTo>
                            <a:pt x="484" y="238"/>
                          </a:lnTo>
                          <a:lnTo>
                            <a:pt x="551" y="0"/>
                          </a:lnTo>
                          <a:close/>
                        </a:path>
                      </a:pathLst>
                    </a:custGeom>
                    <a:solidFill>
                      <a:srgbClr val="a0a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86" name=""/>
                    <p:cNvGrpSpPr/>
                    <p:nvPr/>
                  </p:nvGrpSpPr>
                  <p:grpSpPr>
                    <a:xfrm>
                      <a:off x="7353360" y="4296600"/>
                      <a:ext cx="993600" cy="1209240"/>
                      <a:chOff x="7353360" y="4296600"/>
                      <a:chExt cx="993600" cy="1209240"/>
                    </a:xfrm>
                  </p:grpSpPr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7618320" y="4296600"/>
                        <a:ext cx="728640" cy="71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899">
                            <a:moveTo>
                              <a:pt x="330" y="899"/>
                            </a:moveTo>
                            <a:lnTo>
                              <a:pt x="375" y="834"/>
                            </a:lnTo>
                            <a:lnTo>
                              <a:pt x="412" y="776"/>
                            </a:lnTo>
                            <a:lnTo>
                              <a:pt x="444" y="716"/>
                            </a:lnTo>
                            <a:lnTo>
                              <a:pt x="479" y="648"/>
                            </a:lnTo>
                            <a:lnTo>
                              <a:pt x="496" y="601"/>
                            </a:lnTo>
                            <a:lnTo>
                              <a:pt x="531" y="631"/>
                            </a:lnTo>
                            <a:lnTo>
                              <a:pt x="559" y="655"/>
                            </a:lnTo>
                            <a:lnTo>
                              <a:pt x="596" y="670"/>
                            </a:lnTo>
                            <a:lnTo>
                              <a:pt x="651" y="681"/>
                            </a:lnTo>
                            <a:lnTo>
                              <a:pt x="703" y="698"/>
                            </a:lnTo>
                            <a:lnTo>
                              <a:pt x="738" y="711"/>
                            </a:lnTo>
                            <a:lnTo>
                              <a:pt x="773" y="738"/>
                            </a:lnTo>
                            <a:lnTo>
                              <a:pt x="806" y="763"/>
                            </a:lnTo>
                            <a:lnTo>
                              <a:pt x="842" y="805"/>
                            </a:lnTo>
                            <a:lnTo>
                              <a:pt x="867" y="846"/>
                            </a:lnTo>
                            <a:lnTo>
                              <a:pt x="885" y="898"/>
                            </a:lnTo>
                            <a:lnTo>
                              <a:pt x="900" y="848"/>
                            </a:lnTo>
                            <a:lnTo>
                              <a:pt x="918" y="525"/>
                            </a:lnTo>
                            <a:lnTo>
                              <a:pt x="781" y="446"/>
                            </a:lnTo>
                            <a:lnTo>
                              <a:pt x="703" y="348"/>
                            </a:lnTo>
                            <a:lnTo>
                              <a:pt x="646" y="195"/>
                            </a:lnTo>
                            <a:lnTo>
                              <a:pt x="603" y="0"/>
                            </a:lnTo>
                            <a:lnTo>
                              <a:pt x="397" y="18"/>
                            </a:lnTo>
                            <a:lnTo>
                              <a:pt x="350" y="115"/>
                            </a:lnTo>
                            <a:lnTo>
                              <a:pt x="330" y="185"/>
                            </a:lnTo>
                            <a:lnTo>
                              <a:pt x="324" y="270"/>
                            </a:lnTo>
                            <a:lnTo>
                              <a:pt x="330" y="338"/>
                            </a:lnTo>
                            <a:lnTo>
                              <a:pt x="390" y="465"/>
                            </a:lnTo>
                            <a:lnTo>
                              <a:pt x="437" y="525"/>
                            </a:lnTo>
                            <a:lnTo>
                              <a:pt x="340" y="446"/>
                            </a:lnTo>
                            <a:lnTo>
                              <a:pt x="257" y="396"/>
                            </a:lnTo>
                            <a:lnTo>
                              <a:pt x="182" y="346"/>
                            </a:lnTo>
                            <a:lnTo>
                              <a:pt x="88" y="290"/>
                            </a:lnTo>
                            <a:lnTo>
                              <a:pt x="188" y="375"/>
                            </a:lnTo>
                            <a:lnTo>
                              <a:pt x="240" y="438"/>
                            </a:lnTo>
                            <a:lnTo>
                              <a:pt x="265" y="478"/>
                            </a:lnTo>
                            <a:lnTo>
                              <a:pt x="262" y="501"/>
                            </a:lnTo>
                            <a:lnTo>
                              <a:pt x="252" y="520"/>
                            </a:lnTo>
                            <a:lnTo>
                              <a:pt x="230" y="530"/>
                            </a:lnTo>
                            <a:lnTo>
                              <a:pt x="205" y="533"/>
                            </a:lnTo>
                            <a:lnTo>
                              <a:pt x="168" y="523"/>
                            </a:lnTo>
                            <a:lnTo>
                              <a:pt x="78" y="465"/>
                            </a:lnTo>
                            <a:lnTo>
                              <a:pt x="110" y="516"/>
                            </a:lnTo>
                            <a:lnTo>
                              <a:pt x="137" y="550"/>
                            </a:lnTo>
                            <a:lnTo>
                              <a:pt x="170" y="586"/>
                            </a:lnTo>
                            <a:lnTo>
                              <a:pt x="205" y="618"/>
                            </a:lnTo>
                            <a:lnTo>
                              <a:pt x="260" y="660"/>
                            </a:lnTo>
                            <a:lnTo>
                              <a:pt x="217" y="645"/>
                            </a:lnTo>
                            <a:lnTo>
                              <a:pt x="175" y="638"/>
                            </a:lnTo>
                            <a:lnTo>
                              <a:pt x="118" y="636"/>
                            </a:lnTo>
                            <a:lnTo>
                              <a:pt x="65" y="645"/>
                            </a:lnTo>
                            <a:lnTo>
                              <a:pt x="10" y="651"/>
                            </a:lnTo>
                            <a:lnTo>
                              <a:pt x="70" y="666"/>
                            </a:lnTo>
                            <a:lnTo>
                              <a:pt x="120" y="686"/>
                            </a:lnTo>
                            <a:lnTo>
                              <a:pt x="157" y="703"/>
                            </a:lnTo>
                            <a:lnTo>
                              <a:pt x="193" y="730"/>
                            </a:lnTo>
                            <a:lnTo>
                              <a:pt x="132" y="718"/>
                            </a:lnTo>
                            <a:lnTo>
                              <a:pt x="90" y="716"/>
                            </a:lnTo>
                            <a:lnTo>
                              <a:pt x="43" y="725"/>
                            </a:lnTo>
                            <a:lnTo>
                              <a:pt x="0" y="738"/>
                            </a:lnTo>
                            <a:lnTo>
                              <a:pt x="85" y="758"/>
                            </a:lnTo>
                            <a:lnTo>
                              <a:pt x="167" y="783"/>
                            </a:lnTo>
                            <a:lnTo>
                              <a:pt x="225" y="806"/>
                            </a:lnTo>
                            <a:lnTo>
                              <a:pt x="270" y="834"/>
                            </a:lnTo>
                            <a:lnTo>
                              <a:pt x="307" y="866"/>
                            </a:lnTo>
                            <a:lnTo>
                              <a:pt x="330" y="899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7380360" y="5180760"/>
                        <a:ext cx="312480" cy="19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2" h="245">
                            <a:moveTo>
                              <a:pt x="0" y="60"/>
                            </a:moveTo>
                            <a:lnTo>
                              <a:pt x="43" y="61"/>
                            </a:lnTo>
                            <a:lnTo>
                              <a:pt x="95" y="68"/>
                            </a:lnTo>
                            <a:lnTo>
                              <a:pt x="152" y="85"/>
                            </a:lnTo>
                            <a:lnTo>
                              <a:pt x="187" y="101"/>
                            </a:lnTo>
                            <a:lnTo>
                              <a:pt x="230" y="130"/>
                            </a:lnTo>
                            <a:lnTo>
                              <a:pt x="277" y="165"/>
                            </a:lnTo>
                            <a:lnTo>
                              <a:pt x="307" y="203"/>
                            </a:lnTo>
                            <a:lnTo>
                              <a:pt x="339" y="245"/>
                            </a:lnTo>
                            <a:lnTo>
                              <a:pt x="354" y="235"/>
                            </a:lnTo>
                            <a:lnTo>
                              <a:pt x="370" y="226"/>
                            </a:lnTo>
                            <a:lnTo>
                              <a:pt x="392" y="203"/>
                            </a:lnTo>
                            <a:lnTo>
                              <a:pt x="379" y="181"/>
                            </a:lnTo>
                            <a:lnTo>
                              <a:pt x="337" y="153"/>
                            </a:lnTo>
                            <a:lnTo>
                              <a:pt x="300" y="125"/>
                            </a:lnTo>
                            <a:lnTo>
                              <a:pt x="277" y="101"/>
                            </a:lnTo>
                            <a:lnTo>
                              <a:pt x="227" y="66"/>
                            </a:lnTo>
                            <a:lnTo>
                              <a:pt x="175" y="38"/>
                            </a:lnTo>
                            <a:lnTo>
                              <a:pt x="120" y="18"/>
                            </a:lnTo>
                            <a:lnTo>
                              <a:pt x="70" y="5"/>
                            </a:lnTo>
                            <a:lnTo>
                              <a:pt x="23" y="0"/>
                            </a:lnTo>
                            <a:lnTo>
                              <a:pt x="15" y="11"/>
                            </a:lnTo>
                            <a:lnTo>
                              <a:pt x="5" y="35"/>
                            </a:lnTo>
                            <a:lnTo>
                              <a:pt x="0" y="60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9" name=""/>
                      <p:cNvSpPr/>
                      <p:nvPr/>
                    </p:nvSpPr>
                    <p:spPr>
                      <a:xfrm>
                        <a:off x="7518240" y="5140800"/>
                        <a:ext cx="247680" cy="13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3" h="170">
                            <a:moveTo>
                              <a:pt x="0" y="13"/>
                            </a:moveTo>
                            <a:lnTo>
                              <a:pt x="54" y="30"/>
                            </a:lnTo>
                            <a:lnTo>
                              <a:pt x="106" y="51"/>
                            </a:lnTo>
                            <a:lnTo>
                              <a:pt x="146" y="73"/>
                            </a:lnTo>
                            <a:lnTo>
                              <a:pt x="189" y="101"/>
                            </a:lnTo>
                            <a:lnTo>
                              <a:pt x="226" y="131"/>
                            </a:lnTo>
                            <a:lnTo>
                              <a:pt x="264" y="170"/>
                            </a:lnTo>
                            <a:lnTo>
                              <a:pt x="284" y="165"/>
                            </a:lnTo>
                            <a:lnTo>
                              <a:pt x="303" y="150"/>
                            </a:lnTo>
                            <a:lnTo>
                              <a:pt x="311" y="131"/>
                            </a:lnTo>
                            <a:lnTo>
                              <a:pt x="313" y="105"/>
                            </a:lnTo>
                            <a:lnTo>
                              <a:pt x="291" y="90"/>
                            </a:lnTo>
                            <a:lnTo>
                              <a:pt x="268" y="83"/>
                            </a:lnTo>
                            <a:lnTo>
                              <a:pt x="239" y="78"/>
                            </a:lnTo>
                            <a:lnTo>
                              <a:pt x="209" y="66"/>
                            </a:lnTo>
                            <a:lnTo>
                              <a:pt x="182" y="46"/>
                            </a:lnTo>
                            <a:lnTo>
                              <a:pt x="154" y="26"/>
                            </a:lnTo>
                            <a:lnTo>
                              <a:pt x="117" y="8"/>
                            </a:lnTo>
                            <a:lnTo>
                              <a:pt x="87" y="3"/>
                            </a:lnTo>
                            <a:lnTo>
                              <a:pt x="62" y="0"/>
                            </a:lnTo>
                            <a:lnTo>
                              <a:pt x="30" y="3"/>
                            </a:lnTo>
                            <a:lnTo>
                              <a:pt x="0" y="13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7473960" y="5002920"/>
                        <a:ext cx="344520" cy="16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209">
                            <a:moveTo>
                              <a:pt x="0" y="95"/>
                            </a:moveTo>
                            <a:lnTo>
                              <a:pt x="31" y="80"/>
                            </a:lnTo>
                            <a:lnTo>
                              <a:pt x="57" y="69"/>
                            </a:lnTo>
                            <a:lnTo>
                              <a:pt x="102" y="55"/>
                            </a:lnTo>
                            <a:lnTo>
                              <a:pt x="139" y="60"/>
                            </a:lnTo>
                            <a:lnTo>
                              <a:pt x="178" y="84"/>
                            </a:lnTo>
                            <a:lnTo>
                              <a:pt x="213" y="107"/>
                            </a:lnTo>
                            <a:lnTo>
                              <a:pt x="271" y="137"/>
                            </a:lnTo>
                            <a:lnTo>
                              <a:pt x="321" y="172"/>
                            </a:lnTo>
                            <a:lnTo>
                              <a:pt x="373" y="209"/>
                            </a:lnTo>
                            <a:lnTo>
                              <a:pt x="388" y="200"/>
                            </a:lnTo>
                            <a:lnTo>
                              <a:pt x="406" y="199"/>
                            </a:lnTo>
                            <a:lnTo>
                              <a:pt x="423" y="204"/>
                            </a:lnTo>
                            <a:lnTo>
                              <a:pt x="435" y="157"/>
                            </a:lnTo>
                            <a:lnTo>
                              <a:pt x="333" y="90"/>
                            </a:lnTo>
                            <a:lnTo>
                              <a:pt x="263" y="52"/>
                            </a:lnTo>
                            <a:lnTo>
                              <a:pt x="213" y="27"/>
                            </a:lnTo>
                            <a:lnTo>
                              <a:pt x="174" y="9"/>
                            </a:lnTo>
                            <a:lnTo>
                              <a:pt x="134" y="0"/>
                            </a:lnTo>
                            <a:lnTo>
                              <a:pt x="96" y="5"/>
                            </a:lnTo>
                            <a:lnTo>
                              <a:pt x="64" y="22"/>
                            </a:lnTo>
                            <a:lnTo>
                              <a:pt x="31" y="52"/>
                            </a:lnTo>
                            <a:lnTo>
                              <a:pt x="0" y="95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7526160" y="4874400"/>
                        <a:ext cx="231840" cy="15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3" h="196">
                            <a:moveTo>
                              <a:pt x="0" y="30"/>
                            </a:moveTo>
                            <a:lnTo>
                              <a:pt x="4" y="65"/>
                            </a:lnTo>
                            <a:lnTo>
                              <a:pt x="14" y="93"/>
                            </a:lnTo>
                            <a:lnTo>
                              <a:pt x="27" y="113"/>
                            </a:lnTo>
                            <a:lnTo>
                              <a:pt x="50" y="123"/>
                            </a:lnTo>
                            <a:lnTo>
                              <a:pt x="151" y="115"/>
                            </a:lnTo>
                            <a:lnTo>
                              <a:pt x="191" y="145"/>
                            </a:lnTo>
                            <a:lnTo>
                              <a:pt x="239" y="171"/>
                            </a:lnTo>
                            <a:lnTo>
                              <a:pt x="293" y="196"/>
                            </a:lnTo>
                            <a:lnTo>
                              <a:pt x="254" y="150"/>
                            </a:lnTo>
                            <a:lnTo>
                              <a:pt x="212" y="113"/>
                            </a:lnTo>
                            <a:lnTo>
                              <a:pt x="172" y="77"/>
                            </a:lnTo>
                            <a:lnTo>
                              <a:pt x="121" y="50"/>
                            </a:lnTo>
                            <a:lnTo>
                              <a:pt x="84" y="22"/>
                            </a:lnTo>
                            <a:lnTo>
                              <a:pt x="57" y="5"/>
                            </a:lnTo>
                            <a:lnTo>
                              <a:pt x="30" y="0"/>
                            </a:lnTo>
                            <a:lnTo>
                              <a:pt x="9" y="7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808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7353360" y="5339520"/>
                        <a:ext cx="228600" cy="16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9" h="210">
                            <a:moveTo>
                              <a:pt x="0" y="8"/>
                            </a:moveTo>
                            <a:lnTo>
                              <a:pt x="27" y="10"/>
                            </a:lnTo>
                            <a:lnTo>
                              <a:pt x="62" y="16"/>
                            </a:lnTo>
                            <a:lnTo>
                              <a:pt x="101" y="28"/>
                            </a:lnTo>
                            <a:lnTo>
                              <a:pt x="136" y="45"/>
                            </a:lnTo>
                            <a:lnTo>
                              <a:pt x="188" y="66"/>
                            </a:lnTo>
                            <a:lnTo>
                              <a:pt x="216" y="83"/>
                            </a:lnTo>
                            <a:lnTo>
                              <a:pt x="241" y="106"/>
                            </a:lnTo>
                            <a:lnTo>
                              <a:pt x="256" y="130"/>
                            </a:lnTo>
                            <a:lnTo>
                              <a:pt x="263" y="158"/>
                            </a:lnTo>
                            <a:lnTo>
                              <a:pt x="268" y="193"/>
                            </a:lnTo>
                            <a:lnTo>
                              <a:pt x="266" y="210"/>
                            </a:lnTo>
                            <a:lnTo>
                              <a:pt x="283" y="188"/>
                            </a:lnTo>
                            <a:lnTo>
                              <a:pt x="289" y="156"/>
                            </a:lnTo>
                            <a:lnTo>
                              <a:pt x="286" y="126"/>
                            </a:lnTo>
                            <a:lnTo>
                              <a:pt x="268" y="96"/>
                            </a:lnTo>
                            <a:lnTo>
                              <a:pt x="243" y="68"/>
                            </a:lnTo>
                            <a:lnTo>
                              <a:pt x="209" y="43"/>
                            </a:lnTo>
                            <a:lnTo>
                              <a:pt x="157" y="20"/>
                            </a:lnTo>
                            <a:lnTo>
                              <a:pt x="106" y="5"/>
                            </a:lnTo>
                            <a:lnTo>
                              <a:pt x="74" y="1"/>
                            </a:lnTo>
                            <a:lnTo>
                              <a:pt x="32" y="0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606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7716960" y="4374000"/>
                        <a:ext cx="245880" cy="33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427">
                            <a:moveTo>
                              <a:pt x="0" y="0"/>
                            </a:moveTo>
                            <a:lnTo>
                              <a:pt x="70" y="67"/>
                            </a:lnTo>
                            <a:lnTo>
                              <a:pt x="125" y="149"/>
                            </a:lnTo>
                            <a:lnTo>
                              <a:pt x="180" y="250"/>
                            </a:lnTo>
                            <a:lnTo>
                              <a:pt x="309" y="419"/>
                            </a:lnTo>
                            <a:lnTo>
                              <a:pt x="307" y="427"/>
                            </a:lnTo>
                            <a:lnTo>
                              <a:pt x="234" y="362"/>
                            </a:lnTo>
                            <a:lnTo>
                              <a:pt x="184" y="309"/>
                            </a:lnTo>
                            <a:lnTo>
                              <a:pt x="123" y="244"/>
                            </a:lnTo>
                            <a:lnTo>
                              <a:pt x="70" y="157"/>
                            </a:lnTo>
                            <a:lnTo>
                              <a:pt x="37" y="8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6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7450200" y="5163120"/>
                        <a:ext cx="25380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1" h="252">
                            <a:moveTo>
                              <a:pt x="321" y="153"/>
                            </a:moveTo>
                            <a:lnTo>
                              <a:pt x="271" y="92"/>
                            </a:lnTo>
                            <a:lnTo>
                              <a:pt x="234" y="62"/>
                            </a:lnTo>
                            <a:lnTo>
                              <a:pt x="177" y="30"/>
                            </a:lnTo>
                            <a:lnTo>
                              <a:pt x="131" y="12"/>
                            </a:lnTo>
                            <a:lnTo>
                              <a:pt x="74" y="3"/>
                            </a:lnTo>
                            <a:lnTo>
                              <a:pt x="35" y="0"/>
                            </a:lnTo>
                            <a:lnTo>
                              <a:pt x="14" y="3"/>
                            </a:lnTo>
                            <a:lnTo>
                              <a:pt x="0" y="12"/>
                            </a:lnTo>
                            <a:lnTo>
                              <a:pt x="4" y="27"/>
                            </a:lnTo>
                            <a:lnTo>
                              <a:pt x="22" y="42"/>
                            </a:lnTo>
                            <a:lnTo>
                              <a:pt x="74" y="67"/>
                            </a:lnTo>
                            <a:lnTo>
                              <a:pt x="124" y="97"/>
                            </a:lnTo>
                            <a:lnTo>
                              <a:pt x="183" y="137"/>
                            </a:lnTo>
                            <a:lnTo>
                              <a:pt x="224" y="175"/>
                            </a:lnTo>
                            <a:lnTo>
                              <a:pt x="256" y="213"/>
                            </a:lnTo>
                            <a:lnTo>
                              <a:pt x="283" y="252"/>
                            </a:lnTo>
                            <a:lnTo>
                              <a:pt x="298" y="230"/>
                            </a:lnTo>
                            <a:lnTo>
                              <a:pt x="313" y="217"/>
                            </a:lnTo>
                            <a:lnTo>
                              <a:pt x="319" y="195"/>
                            </a:lnTo>
                            <a:lnTo>
                              <a:pt x="321" y="177"/>
                            </a:lnTo>
                            <a:lnTo>
                              <a:pt x="321" y="153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7504200" y="5080680"/>
                        <a:ext cx="280800" cy="15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193">
                            <a:moveTo>
                              <a:pt x="0" y="61"/>
                            </a:moveTo>
                            <a:lnTo>
                              <a:pt x="42" y="53"/>
                            </a:lnTo>
                            <a:lnTo>
                              <a:pt x="80" y="61"/>
                            </a:lnTo>
                            <a:lnTo>
                              <a:pt x="125" y="73"/>
                            </a:lnTo>
                            <a:lnTo>
                              <a:pt x="164" y="90"/>
                            </a:lnTo>
                            <a:lnTo>
                              <a:pt x="202" y="106"/>
                            </a:lnTo>
                            <a:lnTo>
                              <a:pt x="240" y="136"/>
                            </a:lnTo>
                            <a:lnTo>
                              <a:pt x="254" y="158"/>
                            </a:lnTo>
                            <a:lnTo>
                              <a:pt x="279" y="175"/>
                            </a:lnTo>
                            <a:lnTo>
                              <a:pt x="302" y="188"/>
                            </a:lnTo>
                            <a:lnTo>
                              <a:pt x="326" y="193"/>
                            </a:lnTo>
                            <a:lnTo>
                              <a:pt x="342" y="166"/>
                            </a:lnTo>
                            <a:lnTo>
                              <a:pt x="349" y="141"/>
                            </a:lnTo>
                            <a:lnTo>
                              <a:pt x="354" y="115"/>
                            </a:lnTo>
                            <a:lnTo>
                              <a:pt x="264" y="51"/>
                            </a:lnTo>
                            <a:lnTo>
                              <a:pt x="215" y="25"/>
                            </a:lnTo>
                            <a:lnTo>
                              <a:pt x="164" y="6"/>
                            </a:lnTo>
                            <a:lnTo>
                              <a:pt x="120" y="0"/>
                            </a:lnTo>
                            <a:lnTo>
                              <a:pt x="92" y="3"/>
                            </a:lnTo>
                            <a:lnTo>
                              <a:pt x="62" y="15"/>
                            </a:lnTo>
                            <a:lnTo>
                              <a:pt x="33" y="35"/>
                            </a:lnTo>
                            <a:lnTo>
                              <a:pt x="0" y="61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7488360" y="4861440"/>
                        <a:ext cx="344160" cy="29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4" h="377">
                            <a:moveTo>
                              <a:pt x="0" y="207"/>
                            </a:moveTo>
                            <a:lnTo>
                              <a:pt x="45" y="203"/>
                            </a:lnTo>
                            <a:lnTo>
                              <a:pt x="83" y="205"/>
                            </a:lnTo>
                            <a:lnTo>
                              <a:pt x="140" y="212"/>
                            </a:lnTo>
                            <a:lnTo>
                              <a:pt x="195" y="228"/>
                            </a:lnTo>
                            <a:lnTo>
                              <a:pt x="250" y="250"/>
                            </a:lnTo>
                            <a:lnTo>
                              <a:pt x="306" y="278"/>
                            </a:lnTo>
                            <a:lnTo>
                              <a:pt x="349" y="303"/>
                            </a:lnTo>
                            <a:lnTo>
                              <a:pt x="382" y="338"/>
                            </a:lnTo>
                            <a:lnTo>
                              <a:pt x="404" y="377"/>
                            </a:lnTo>
                            <a:lnTo>
                              <a:pt x="422" y="327"/>
                            </a:lnTo>
                            <a:lnTo>
                              <a:pt x="434" y="282"/>
                            </a:lnTo>
                            <a:lnTo>
                              <a:pt x="433" y="248"/>
                            </a:lnTo>
                            <a:lnTo>
                              <a:pt x="424" y="217"/>
                            </a:lnTo>
                            <a:lnTo>
                              <a:pt x="404" y="187"/>
                            </a:lnTo>
                            <a:lnTo>
                              <a:pt x="414" y="155"/>
                            </a:lnTo>
                            <a:lnTo>
                              <a:pt x="409" y="118"/>
                            </a:lnTo>
                            <a:lnTo>
                              <a:pt x="367" y="99"/>
                            </a:lnTo>
                            <a:lnTo>
                              <a:pt x="317" y="85"/>
                            </a:lnTo>
                            <a:lnTo>
                              <a:pt x="262" y="69"/>
                            </a:lnTo>
                            <a:lnTo>
                              <a:pt x="214" y="49"/>
                            </a:lnTo>
                            <a:lnTo>
                              <a:pt x="155" y="20"/>
                            </a:lnTo>
                            <a:lnTo>
                              <a:pt x="118" y="7"/>
                            </a:lnTo>
                            <a:lnTo>
                              <a:pt x="95" y="0"/>
                            </a:lnTo>
                            <a:lnTo>
                              <a:pt x="78" y="7"/>
                            </a:lnTo>
                            <a:lnTo>
                              <a:pt x="65" y="19"/>
                            </a:lnTo>
                            <a:lnTo>
                              <a:pt x="60" y="37"/>
                            </a:lnTo>
                            <a:lnTo>
                              <a:pt x="60" y="57"/>
                            </a:lnTo>
                            <a:lnTo>
                              <a:pt x="70" y="75"/>
                            </a:lnTo>
                            <a:lnTo>
                              <a:pt x="107" y="89"/>
                            </a:lnTo>
                            <a:lnTo>
                              <a:pt x="157" y="99"/>
                            </a:lnTo>
                            <a:lnTo>
                              <a:pt x="237" y="117"/>
                            </a:lnTo>
                            <a:lnTo>
                              <a:pt x="289" y="127"/>
                            </a:lnTo>
                            <a:lnTo>
                              <a:pt x="356" y="137"/>
                            </a:lnTo>
                            <a:lnTo>
                              <a:pt x="296" y="140"/>
                            </a:lnTo>
                            <a:lnTo>
                              <a:pt x="232" y="145"/>
                            </a:lnTo>
                            <a:lnTo>
                              <a:pt x="172" y="155"/>
                            </a:lnTo>
                            <a:lnTo>
                              <a:pt x="122" y="165"/>
                            </a:lnTo>
                            <a:lnTo>
                              <a:pt x="62" y="182"/>
                            </a:lnTo>
                            <a:lnTo>
                              <a:pt x="0" y="207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97" name=""/>
                <p:cNvSpPr/>
                <p:nvPr/>
              </p:nvSpPr>
              <p:spPr>
                <a:xfrm>
                  <a:off x="7912080" y="4258800"/>
                  <a:ext cx="420840" cy="450360"/>
                </a:xfrm>
                <a:custGeom>
                  <a:avLst/>
                  <a:gdLst/>
                  <a:ahLst/>
                  <a:rect l="l" t="t" r="r" b="b"/>
                  <a:pathLst>
                    <a:path w="530" h="569">
                      <a:moveTo>
                        <a:pt x="0" y="194"/>
                      </a:moveTo>
                      <a:lnTo>
                        <a:pt x="9" y="130"/>
                      </a:lnTo>
                      <a:lnTo>
                        <a:pt x="22" y="89"/>
                      </a:lnTo>
                      <a:lnTo>
                        <a:pt x="102" y="0"/>
                      </a:lnTo>
                      <a:lnTo>
                        <a:pt x="331" y="187"/>
                      </a:lnTo>
                      <a:lnTo>
                        <a:pt x="381" y="257"/>
                      </a:lnTo>
                      <a:lnTo>
                        <a:pt x="420" y="324"/>
                      </a:lnTo>
                      <a:lnTo>
                        <a:pt x="520" y="402"/>
                      </a:lnTo>
                      <a:lnTo>
                        <a:pt x="530" y="569"/>
                      </a:lnTo>
                      <a:lnTo>
                        <a:pt x="480" y="554"/>
                      </a:lnTo>
                      <a:lnTo>
                        <a:pt x="438" y="532"/>
                      </a:lnTo>
                      <a:lnTo>
                        <a:pt x="400" y="507"/>
                      </a:lnTo>
                      <a:lnTo>
                        <a:pt x="368" y="472"/>
                      </a:lnTo>
                      <a:lnTo>
                        <a:pt x="341" y="430"/>
                      </a:lnTo>
                      <a:lnTo>
                        <a:pt x="313" y="379"/>
                      </a:lnTo>
                      <a:lnTo>
                        <a:pt x="289" y="325"/>
                      </a:lnTo>
                      <a:lnTo>
                        <a:pt x="268" y="254"/>
                      </a:lnTo>
                      <a:lnTo>
                        <a:pt x="251" y="187"/>
                      </a:lnTo>
                      <a:lnTo>
                        <a:pt x="117" y="175"/>
                      </a:lnTo>
                      <a:lnTo>
                        <a:pt x="24" y="180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8021520" y="4014360"/>
                <a:ext cx="554040" cy="550440"/>
                <a:chOff x="8021520" y="4014360"/>
                <a:chExt cx="554040" cy="5504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8021520" y="4014360"/>
                  <a:ext cx="554040" cy="542880"/>
                </a:xfrm>
                <a:custGeom>
                  <a:avLst/>
                  <a:gdLst/>
                  <a:ahLst/>
                  <a:rect l="l" t="t" r="r" b="b"/>
                  <a:pathLst>
                    <a:path w="699" h="685">
                      <a:moveTo>
                        <a:pt x="366" y="685"/>
                      </a:moveTo>
                      <a:lnTo>
                        <a:pt x="298" y="647"/>
                      </a:lnTo>
                      <a:lnTo>
                        <a:pt x="249" y="578"/>
                      </a:lnTo>
                      <a:lnTo>
                        <a:pt x="229" y="530"/>
                      </a:lnTo>
                      <a:lnTo>
                        <a:pt x="199" y="528"/>
                      </a:lnTo>
                      <a:lnTo>
                        <a:pt x="161" y="520"/>
                      </a:lnTo>
                      <a:lnTo>
                        <a:pt x="96" y="495"/>
                      </a:lnTo>
                      <a:lnTo>
                        <a:pt x="49" y="465"/>
                      </a:lnTo>
                      <a:lnTo>
                        <a:pt x="0" y="432"/>
                      </a:lnTo>
                      <a:lnTo>
                        <a:pt x="20" y="418"/>
                      </a:lnTo>
                      <a:lnTo>
                        <a:pt x="71" y="362"/>
                      </a:lnTo>
                      <a:lnTo>
                        <a:pt x="114" y="310"/>
                      </a:lnTo>
                      <a:lnTo>
                        <a:pt x="159" y="248"/>
                      </a:lnTo>
                      <a:lnTo>
                        <a:pt x="209" y="175"/>
                      </a:lnTo>
                      <a:lnTo>
                        <a:pt x="234" y="115"/>
                      </a:lnTo>
                      <a:lnTo>
                        <a:pt x="259" y="0"/>
                      </a:lnTo>
                      <a:lnTo>
                        <a:pt x="699" y="68"/>
                      </a:lnTo>
                      <a:lnTo>
                        <a:pt x="366" y="6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8145360" y="4196880"/>
                  <a:ext cx="209520" cy="367920"/>
                </a:xfrm>
                <a:custGeom>
                  <a:avLst/>
                  <a:gdLst/>
                  <a:ahLst/>
                  <a:rect l="l" t="t" r="r" b="b"/>
                  <a:pathLst>
                    <a:path w="264" h="465">
                      <a:moveTo>
                        <a:pt x="198" y="453"/>
                      </a:moveTo>
                      <a:lnTo>
                        <a:pt x="228" y="465"/>
                      </a:lnTo>
                      <a:lnTo>
                        <a:pt x="203" y="422"/>
                      </a:lnTo>
                      <a:lnTo>
                        <a:pt x="194" y="388"/>
                      </a:lnTo>
                      <a:lnTo>
                        <a:pt x="189" y="340"/>
                      </a:lnTo>
                      <a:lnTo>
                        <a:pt x="194" y="288"/>
                      </a:lnTo>
                      <a:lnTo>
                        <a:pt x="201" y="232"/>
                      </a:lnTo>
                      <a:lnTo>
                        <a:pt x="213" y="180"/>
                      </a:lnTo>
                      <a:lnTo>
                        <a:pt x="228" y="137"/>
                      </a:lnTo>
                      <a:lnTo>
                        <a:pt x="243" y="102"/>
                      </a:lnTo>
                      <a:lnTo>
                        <a:pt x="253" y="52"/>
                      </a:lnTo>
                      <a:lnTo>
                        <a:pt x="264" y="0"/>
                      </a:lnTo>
                      <a:lnTo>
                        <a:pt x="224" y="52"/>
                      </a:lnTo>
                      <a:lnTo>
                        <a:pt x="194" y="92"/>
                      </a:lnTo>
                      <a:lnTo>
                        <a:pt x="167" y="130"/>
                      </a:lnTo>
                      <a:lnTo>
                        <a:pt x="142" y="170"/>
                      </a:lnTo>
                      <a:lnTo>
                        <a:pt x="109" y="192"/>
                      </a:lnTo>
                      <a:lnTo>
                        <a:pt x="74" y="220"/>
                      </a:lnTo>
                      <a:lnTo>
                        <a:pt x="36" y="253"/>
                      </a:lnTo>
                      <a:lnTo>
                        <a:pt x="0" y="288"/>
                      </a:lnTo>
                      <a:lnTo>
                        <a:pt x="49" y="300"/>
                      </a:lnTo>
                      <a:lnTo>
                        <a:pt x="64" y="323"/>
                      </a:lnTo>
                      <a:lnTo>
                        <a:pt x="79" y="348"/>
                      </a:lnTo>
                      <a:lnTo>
                        <a:pt x="99" y="375"/>
                      </a:lnTo>
                      <a:lnTo>
                        <a:pt x="121" y="398"/>
                      </a:lnTo>
                      <a:lnTo>
                        <a:pt x="142" y="418"/>
                      </a:lnTo>
                      <a:lnTo>
                        <a:pt x="171" y="435"/>
                      </a:lnTo>
                      <a:lnTo>
                        <a:pt x="198" y="453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8136000" y="4150800"/>
                  <a:ext cx="150840" cy="279000"/>
                </a:xfrm>
                <a:custGeom>
                  <a:avLst/>
                  <a:gdLst/>
                  <a:ahLst/>
                  <a:rect l="l" t="t" r="r" b="b"/>
                  <a:pathLst>
                    <a:path w="191" h="351">
                      <a:moveTo>
                        <a:pt x="191" y="191"/>
                      </a:moveTo>
                      <a:lnTo>
                        <a:pt x="164" y="188"/>
                      </a:lnTo>
                      <a:lnTo>
                        <a:pt x="139" y="181"/>
                      </a:lnTo>
                      <a:lnTo>
                        <a:pt x="132" y="156"/>
                      </a:lnTo>
                      <a:lnTo>
                        <a:pt x="135" y="123"/>
                      </a:lnTo>
                      <a:lnTo>
                        <a:pt x="142" y="85"/>
                      </a:lnTo>
                      <a:lnTo>
                        <a:pt x="149" y="51"/>
                      </a:lnTo>
                      <a:lnTo>
                        <a:pt x="154" y="25"/>
                      </a:lnTo>
                      <a:lnTo>
                        <a:pt x="160" y="0"/>
                      </a:lnTo>
                      <a:lnTo>
                        <a:pt x="139" y="6"/>
                      </a:lnTo>
                      <a:lnTo>
                        <a:pt x="119" y="20"/>
                      </a:lnTo>
                      <a:lnTo>
                        <a:pt x="100" y="40"/>
                      </a:lnTo>
                      <a:lnTo>
                        <a:pt x="87" y="60"/>
                      </a:lnTo>
                      <a:lnTo>
                        <a:pt x="79" y="85"/>
                      </a:lnTo>
                      <a:lnTo>
                        <a:pt x="77" y="118"/>
                      </a:lnTo>
                      <a:lnTo>
                        <a:pt x="55" y="138"/>
                      </a:lnTo>
                      <a:lnTo>
                        <a:pt x="37" y="168"/>
                      </a:lnTo>
                      <a:lnTo>
                        <a:pt x="18" y="206"/>
                      </a:lnTo>
                      <a:lnTo>
                        <a:pt x="8" y="255"/>
                      </a:lnTo>
                      <a:lnTo>
                        <a:pt x="3" y="306"/>
                      </a:lnTo>
                      <a:lnTo>
                        <a:pt x="0" y="348"/>
                      </a:lnTo>
                      <a:lnTo>
                        <a:pt x="18" y="351"/>
                      </a:lnTo>
                      <a:lnTo>
                        <a:pt x="160" y="235"/>
                      </a:lnTo>
                      <a:lnTo>
                        <a:pt x="191" y="191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8265960" y="3922560"/>
                <a:ext cx="878040" cy="1428120"/>
                <a:chOff x="8265960" y="3922560"/>
                <a:chExt cx="878040" cy="1428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8265960" y="3922560"/>
                  <a:ext cx="878040" cy="1428120"/>
                </a:xfrm>
                <a:custGeom>
                  <a:avLst/>
                  <a:gdLst/>
                  <a:ahLst/>
                  <a:rect l="l" t="t" r="r" b="b"/>
                  <a:pathLst>
                    <a:path w="1106" h="1798">
                      <a:moveTo>
                        <a:pt x="72" y="10"/>
                      </a:moveTo>
                      <a:lnTo>
                        <a:pt x="107" y="160"/>
                      </a:lnTo>
                      <a:lnTo>
                        <a:pt x="112" y="218"/>
                      </a:lnTo>
                      <a:lnTo>
                        <a:pt x="97" y="388"/>
                      </a:lnTo>
                      <a:lnTo>
                        <a:pt x="56" y="452"/>
                      </a:lnTo>
                      <a:lnTo>
                        <a:pt x="36" y="522"/>
                      </a:lnTo>
                      <a:lnTo>
                        <a:pt x="29" y="513"/>
                      </a:lnTo>
                      <a:lnTo>
                        <a:pt x="0" y="608"/>
                      </a:lnTo>
                      <a:lnTo>
                        <a:pt x="22" y="803"/>
                      </a:lnTo>
                      <a:lnTo>
                        <a:pt x="29" y="1023"/>
                      </a:lnTo>
                      <a:lnTo>
                        <a:pt x="22" y="1092"/>
                      </a:lnTo>
                      <a:lnTo>
                        <a:pt x="24" y="1173"/>
                      </a:lnTo>
                      <a:lnTo>
                        <a:pt x="32" y="1257"/>
                      </a:lnTo>
                      <a:lnTo>
                        <a:pt x="72" y="1440"/>
                      </a:lnTo>
                      <a:lnTo>
                        <a:pt x="129" y="1528"/>
                      </a:lnTo>
                      <a:lnTo>
                        <a:pt x="178" y="1566"/>
                      </a:lnTo>
                      <a:lnTo>
                        <a:pt x="168" y="1673"/>
                      </a:lnTo>
                      <a:lnTo>
                        <a:pt x="254" y="1721"/>
                      </a:lnTo>
                      <a:lnTo>
                        <a:pt x="361" y="1751"/>
                      </a:lnTo>
                      <a:lnTo>
                        <a:pt x="488" y="1731"/>
                      </a:lnTo>
                      <a:lnTo>
                        <a:pt x="547" y="1703"/>
                      </a:lnTo>
                      <a:lnTo>
                        <a:pt x="565" y="1760"/>
                      </a:lnTo>
                      <a:lnTo>
                        <a:pt x="702" y="1770"/>
                      </a:lnTo>
                      <a:lnTo>
                        <a:pt x="867" y="1798"/>
                      </a:lnTo>
                      <a:lnTo>
                        <a:pt x="1009" y="1770"/>
                      </a:lnTo>
                      <a:lnTo>
                        <a:pt x="1106" y="1713"/>
                      </a:lnTo>
                      <a:lnTo>
                        <a:pt x="1106" y="798"/>
                      </a:lnTo>
                      <a:lnTo>
                        <a:pt x="1045" y="723"/>
                      </a:lnTo>
                      <a:lnTo>
                        <a:pt x="999" y="662"/>
                      </a:lnTo>
                      <a:lnTo>
                        <a:pt x="921" y="523"/>
                      </a:lnTo>
                      <a:lnTo>
                        <a:pt x="903" y="450"/>
                      </a:lnTo>
                      <a:lnTo>
                        <a:pt x="874" y="368"/>
                      </a:lnTo>
                      <a:lnTo>
                        <a:pt x="832" y="287"/>
                      </a:lnTo>
                      <a:lnTo>
                        <a:pt x="787" y="218"/>
                      </a:lnTo>
                      <a:lnTo>
                        <a:pt x="724" y="150"/>
                      </a:lnTo>
                      <a:lnTo>
                        <a:pt x="672" y="105"/>
                      </a:lnTo>
                      <a:lnTo>
                        <a:pt x="612" y="68"/>
                      </a:lnTo>
                      <a:lnTo>
                        <a:pt x="555" y="40"/>
                      </a:lnTo>
                      <a:lnTo>
                        <a:pt x="472" y="17"/>
                      </a:lnTo>
                      <a:lnTo>
                        <a:pt x="391" y="2"/>
                      </a:lnTo>
                      <a:lnTo>
                        <a:pt x="315" y="0"/>
                      </a:lnTo>
                      <a:lnTo>
                        <a:pt x="244" y="2"/>
                      </a:lnTo>
                      <a:lnTo>
                        <a:pt x="72" y="10"/>
                      </a:lnTo>
                      <a:close/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4" name=""/>
                <p:cNvGrpSpPr/>
                <p:nvPr/>
              </p:nvGrpSpPr>
              <p:grpSpPr>
                <a:xfrm>
                  <a:off x="8267760" y="3930120"/>
                  <a:ext cx="874440" cy="1388160"/>
                  <a:chOff x="8267760" y="3930120"/>
                  <a:chExt cx="874440" cy="138816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8678880" y="4826520"/>
                    <a:ext cx="21600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550">
                        <a:moveTo>
                          <a:pt x="219" y="52"/>
                        </a:moveTo>
                        <a:lnTo>
                          <a:pt x="142" y="119"/>
                        </a:lnTo>
                        <a:lnTo>
                          <a:pt x="57" y="222"/>
                        </a:lnTo>
                        <a:lnTo>
                          <a:pt x="62" y="268"/>
                        </a:lnTo>
                        <a:lnTo>
                          <a:pt x="5" y="380"/>
                        </a:lnTo>
                        <a:lnTo>
                          <a:pt x="0" y="502"/>
                        </a:lnTo>
                        <a:lnTo>
                          <a:pt x="20" y="550"/>
                        </a:lnTo>
                        <a:lnTo>
                          <a:pt x="23" y="508"/>
                        </a:lnTo>
                        <a:lnTo>
                          <a:pt x="25" y="472"/>
                        </a:lnTo>
                        <a:lnTo>
                          <a:pt x="37" y="433"/>
                        </a:lnTo>
                        <a:lnTo>
                          <a:pt x="47" y="397"/>
                        </a:lnTo>
                        <a:lnTo>
                          <a:pt x="50" y="375"/>
                        </a:lnTo>
                        <a:lnTo>
                          <a:pt x="72" y="358"/>
                        </a:lnTo>
                        <a:lnTo>
                          <a:pt x="73" y="330"/>
                        </a:lnTo>
                        <a:lnTo>
                          <a:pt x="87" y="300"/>
                        </a:lnTo>
                        <a:lnTo>
                          <a:pt x="104" y="275"/>
                        </a:lnTo>
                        <a:lnTo>
                          <a:pt x="125" y="260"/>
                        </a:lnTo>
                        <a:lnTo>
                          <a:pt x="117" y="235"/>
                        </a:lnTo>
                        <a:lnTo>
                          <a:pt x="147" y="212"/>
                        </a:lnTo>
                        <a:lnTo>
                          <a:pt x="167" y="182"/>
                        </a:lnTo>
                        <a:lnTo>
                          <a:pt x="179" y="149"/>
                        </a:lnTo>
                        <a:lnTo>
                          <a:pt x="209" y="132"/>
                        </a:lnTo>
                        <a:lnTo>
                          <a:pt x="237" y="109"/>
                        </a:lnTo>
                        <a:lnTo>
                          <a:pt x="254" y="77"/>
                        </a:lnTo>
                        <a:lnTo>
                          <a:pt x="269" y="39"/>
                        </a:lnTo>
                        <a:lnTo>
                          <a:pt x="272" y="0"/>
                        </a:lnTo>
                        <a:lnTo>
                          <a:pt x="219" y="52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8793000" y="4334400"/>
                    <a:ext cx="25092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77">
                        <a:moveTo>
                          <a:pt x="0" y="448"/>
                        </a:moveTo>
                        <a:lnTo>
                          <a:pt x="112" y="322"/>
                        </a:lnTo>
                        <a:lnTo>
                          <a:pt x="138" y="257"/>
                        </a:lnTo>
                        <a:lnTo>
                          <a:pt x="152" y="203"/>
                        </a:lnTo>
                        <a:lnTo>
                          <a:pt x="170" y="130"/>
                        </a:lnTo>
                        <a:lnTo>
                          <a:pt x="180" y="60"/>
                        </a:lnTo>
                        <a:lnTo>
                          <a:pt x="182" y="0"/>
                        </a:lnTo>
                        <a:lnTo>
                          <a:pt x="210" y="48"/>
                        </a:lnTo>
                        <a:lnTo>
                          <a:pt x="229" y="97"/>
                        </a:lnTo>
                        <a:lnTo>
                          <a:pt x="235" y="143"/>
                        </a:lnTo>
                        <a:lnTo>
                          <a:pt x="239" y="185"/>
                        </a:lnTo>
                        <a:lnTo>
                          <a:pt x="274" y="190"/>
                        </a:lnTo>
                        <a:lnTo>
                          <a:pt x="297" y="202"/>
                        </a:lnTo>
                        <a:lnTo>
                          <a:pt x="309" y="225"/>
                        </a:lnTo>
                        <a:lnTo>
                          <a:pt x="315" y="250"/>
                        </a:lnTo>
                        <a:lnTo>
                          <a:pt x="312" y="278"/>
                        </a:lnTo>
                        <a:lnTo>
                          <a:pt x="294" y="312"/>
                        </a:lnTo>
                        <a:lnTo>
                          <a:pt x="259" y="363"/>
                        </a:lnTo>
                        <a:lnTo>
                          <a:pt x="202" y="430"/>
                        </a:lnTo>
                        <a:lnTo>
                          <a:pt x="61" y="577"/>
                        </a:lnTo>
                        <a:lnTo>
                          <a:pt x="0" y="448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8923320" y="4664520"/>
                    <a:ext cx="21888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315">
                        <a:moveTo>
                          <a:pt x="22" y="0"/>
                        </a:moveTo>
                        <a:lnTo>
                          <a:pt x="278" y="267"/>
                        </a:lnTo>
                        <a:lnTo>
                          <a:pt x="278" y="315"/>
                        </a:lnTo>
                        <a:lnTo>
                          <a:pt x="0" y="1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8280360" y="3943800"/>
                    <a:ext cx="3254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650">
                        <a:moveTo>
                          <a:pt x="33" y="650"/>
                        </a:moveTo>
                        <a:lnTo>
                          <a:pt x="40" y="578"/>
                        </a:lnTo>
                        <a:lnTo>
                          <a:pt x="53" y="511"/>
                        </a:lnTo>
                        <a:lnTo>
                          <a:pt x="68" y="465"/>
                        </a:lnTo>
                        <a:lnTo>
                          <a:pt x="88" y="426"/>
                        </a:lnTo>
                        <a:lnTo>
                          <a:pt x="123" y="378"/>
                        </a:lnTo>
                        <a:lnTo>
                          <a:pt x="170" y="335"/>
                        </a:lnTo>
                        <a:lnTo>
                          <a:pt x="215" y="303"/>
                        </a:lnTo>
                        <a:lnTo>
                          <a:pt x="270" y="261"/>
                        </a:lnTo>
                        <a:lnTo>
                          <a:pt x="306" y="220"/>
                        </a:lnTo>
                        <a:lnTo>
                          <a:pt x="329" y="178"/>
                        </a:lnTo>
                        <a:lnTo>
                          <a:pt x="324" y="133"/>
                        </a:lnTo>
                        <a:lnTo>
                          <a:pt x="336" y="86"/>
                        </a:lnTo>
                        <a:lnTo>
                          <a:pt x="359" y="43"/>
                        </a:lnTo>
                        <a:lnTo>
                          <a:pt x="376" y="21"/>
                        </a:lnTo>
                        <a:lnTo>
                          <a:pt x="409" y="3"/>
                        </a:lnTo>
                        <a:lnTo>
                          <a:pt x="387" y="0"/>
                        </a:lnTo>
                        <a:lnTo>
                          <a:pt x="367" y="3"/>
                        </a:lnTo>
                        <a:lnTo>
                          <a:pt x="331" y="15"/>
                        </a:lnTo>
                        <a:lnTo>
                          <a:pt x="299" y="35"/>
                        </a:lnTo>
                        <a:lnTo>
                          <a:pt x="274" y="65"/>
                        </a:lnTo>
                        <a:lnTo>
                          <a:pt x="252" y="105"/>
                        </a:lnTo>
                        <a:lnTo>
                          <a:pt x="219" y="150"/>
                        </a:lnTo>
                        <a:lnTo>
                          <a:pt x="189" y="186"/>
                        </a:lnTo>
                        <a:lnTo>
                          <a:pt x="145" y="213"/>
                        </a:lnTo>
                        <a:lnTo>
                          <a:pt x="93" y="231"/>
                        </a:lnTo>
                        <a:lnTo>
                          <a:pt x="87" y="300"/>
                        </a:lnTo>
                        <a:lnTo>
                          <a:pt x="82" y="363"/>
                        </a:lnTo>
                        <a:lnTo>
                          <a:pt x="38" y="425"/>
                        </a:lnTo>
                        <a:lnTo>
                          <a:pt x="15" y="475"/>
                        </a:lnTo>
                        <a:lnTo>
                          <a:pt x="0" y="543"/>
                        </a:lnTo>
                        <a:lnTo>
                          <a:pt x="10" y="593"/>
                        </a:lnTo>
                        <a:lnTo>
                          <a:pt x="33" y="650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8267760" y="4326480"/>
                    <a:ext cx="169920" cy="85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1076">
                        <a:moveTo>
                          <a:pt x="214" y="1076"/>
                        </a:moveTo>
                        <a:lnTo>
                          <a:pt x="186" y="1020"/>
                        </a:lnTo>
                        <a:lnTo>
                          <a:pt x="171" y="966"/>
                        </a:lnTo>
                        <a:lnTo>
                          <a:pt x="164" y="923"/>
                        </a:lnTo>
                        <a:lnTo>
                          <a:pt x="137" y="891"/>
                        </a:lnTo>
                        <a:lnTo>
                          <a:pt x="124" y="863"/>
                        </a:lnTo>
                        <a:lnTo>
                          <a:pt x="112" y="820"/>
                        </a:lnTo>
                        <a:lnTo>
                          <a:pt x="115" y="783"/>
                        </a:lnTo>
                        <a:lnTo>
                          <a:pt x="124" y="757"/>
                        </a:lnTo>
                        <a:lnTo>
                          <a:pt x="104" y="707"/>
                        </a:lnTo>
                        <a:lnTo>
                          <a:pt x="95" y="653"/>
                        </a:lnTo>
                        <a:lnTo>
                          <a:pt x="99" y="602"/>
                        </a:lnTo>
                        <a:lnTo>
                          <a:pt x="114" y="552"/>
                        </a:lnTo>
                        <a:lnTo>
                          <a:pt x="137" y="538"/>
                        </a:lnTo>
                        <a:lnTo>
                          <a:pt x="155" y="523"/>
                        </a:lnTo>
                        <a:lnTo>
                          <a:pt x="164" y="485"/>
                        </a:lnTo>
                        <a:lnTo>
                          <a:pt x="162" y="445"/>
                        </a:lnTo>
                        <a:lnTo>
                          <a:pt x="155" y="407"/>
                        </a:lnTo>
                        <a:lnTo>
                          <a:pt x="176" y="368"/>
                        </a:lnTo>
                        <a:lnTo>
                          <a:pt x="186" y="338"/>
                        </a:lnTo>
                        <a:lnTo>
                          <a:pt x="176" y="298"/>
                        </a:lnTo>
                        <a:lnTo>
                          <a:pt x="155" y="260"/>
                        </a:lnTo>
                        <a:lnTo>
                          <a:pt x="134" y="232"/>
                        </a:lnTo>
                        <a:lnTo>
                          <a:pt x="145" y="178"/>
                        </a:lnTo>
                        <a:lnTo>
                          <a:pt x="155" y="117"/>
                        </a:lnTo>
                        <a:lnTo>
                          <a:pt x="149" y="77"/>
                        </a:lnTo>
                        <a:lnTo>
                          <a:pt x="154" y="38"/>
                        </a:lnTo>
                        <a:lnTo>
                          <a:pt x="164" y="0"/>
                        </a:lnTo>
                        <a:lnTo>
                          <a:pt x="132" y="8"/>
                        </a:lnTo>
                        <a:lnTo>
                          <a:pt x="107" y="23"/>
                        </a:lnTo>
                        <a:lnTo>
                          <a:pt x="85" y="53"/>
                        </a:lnTo>
                        <a:lnTo>
                          <a:pt x="74" y="88"/>
                        </a:lnTo>
                        <a:lnTo>
                          <a:pt x="70" y="60"/>
                        </a:lnTo>
                        <a:lnTo>
                          <a:pt x="59" y="37"/>
                        </a:lnTo>
                        <a:lnTo>
                          <a:pt x="44" y="17"/>
                        </a:lnTo>
                        <a:lnTo>
                          <a:pt x="29" y="2"/>
                        </a:lnTo>
                        <a:lnTo>
                          <a:pt x="18" y="28"/>
                        </a:lnTo>
                        <a:lnTo>
                          <a:pt x="5" y="68"/>
                        </a:lnTo>
                        <a:lnTo>
                          <a:pt x="0" y="97"/>
                        </a:lnTo>
                        <a:lnTo>
                          <a:pt x="27" y="147"/>
                        </a:lnTo>
                        <a:lnTo>
                          <a:pt x="42" y="203"/>
                        </a:lnTo>
                        <a:lnTo>
                          <a:pt x="45" y="243"/>
                        </a:lnTo>
                        <a:lnTo>
                          <a:pt x="52" y="290"/>
                        </a:lnTo>
                        <a:lnTo>
                          <a:pt x="64" y="333"/>
                        </a:lnTo>
                        <a:lnTo>
                          <a:pt x="82" y="387"/>
                        </a:lnTo>
                        <a:lnTo>
                          <a:pt x="87" y="425"/>
                        </a:lnTo>
                        <a:lnTo>
                          <a:pt x="82" y="463"/>
                        </a:lnTo>
                        <a:lnTo>
                          <a:pt x="62" y="552"/>
                        </a:lnTo>
                        <a:lnTo>
                          <a:pt x="52" y="613"/>
                        </a:lnTo>
                        <a:lnTo>
                          <a:pt x="49" y="680"/>
                        </a:lnTo>
                        <a:lnTo>
                          <a:pt x="57" y="733"/>
                        </a:lnTo>
                        <a:lnTo>
                          <a:pt x="74" y="796"/>
                        </a:lnTo>
                        <a:lnTo>
                          <a:pt x="57" y="860"/>
                        </a:lnTo>
                        <a:lnTo>
                          <a:pt x="62" y="906"/>
                        </a:lnTo>
                        <a:lnTo>
                          <a:pt x="77" y="946"/>
                        </a:lnTo>
                        <a:lnTo>
                          <a:pt x="100" y="981"/>
                        </a:lnTo>
                        <a:lnTo>
                          <a:pt x="130" y="1018"/>
                        </a:lnTo>
                        <a:lnTo>
                          <a:pt x="184" y="1058"/>
                        </a:lnTo>
                        <a:lnTo>
                          <a:pt x="214" y="1076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8345520" y="4866120"/>
                    <a:ext cx="37476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151">
                        <a:moveTo>
                          <a:pt x="0" y="0"/>
                        </a:moveTo>
                        <a:lnTo>
                          <a:pt x="37" y="18"/>
                        </a:lnTo>
                        <a:lnTo>
                          <a:pt x="85" y="42"/>
                        </a:lnTo>
                        <a:lnTo>
                          <a:pt x="135" y="62"/>
                        </a:lnTo>
                        <a:lnTo>
                          <a:pt x="179" y="73"/>
                        </a:lnTo>
                        <a:lnTo>
                          <a:pt x="236" y="85"/>
                        </a:lnTo>
                        <a:lnTo>
                          <a:pt x="287" y="80"/>
                        </a:lnTo>
                        <a:lnTo>
                          <a:pt x="344" y="85"/>
                        </a:lnTo>
                        <a:lnTo>
                          <a:pt x="393" y="90"/>
                        </a:lnTo>
                        <a:lnTo>
                          <a:pt x="444" y="107"/>
                        </a:lnTo>
                        <a:lnTo>
                          <a:pt x="461" y="115"/>
                        </a:lnTo>
                        <a:lnTo>
                          <a:pt x="473" y="136"/>
                        </a:lnTo>
                        <a:lnTo>
                          <a:pt x="426" y="146"/>
                        </a:lnTo>
                        <a:lnTo>
                          <a:pt x="369" y="151"/>
                        </a:lnTo>
                        <a:lnTo>
                          <a:pt x="306" y="148"/>
                        </a:lnTo>
                        <a:lnTo>
                          <a:pt x="237" y="140"/>
                        </a:lnTo>
                        <a:lnTo>
                          <a:pt x="165" y="125"/>
                        </a:lnTo>
                        <a:lnTo>
                          <a:pt x="119" y="107"/>
                        </a:lnTo>
                        <a:lnTo>
                          <a:pt x="70" y="75"/>
                        </a:lnTo>
                        <a:lnTo>
                          <a:pt x="37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8670960" y="5215680"/>
                    <a:ext cx="47124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113">
                        <a:moveTo>
                          <a:pt x="0" y="3"/>
                        </a:moveTo>
                        <a:lnTo>
                          <a:pt x="60" y="32"/>
                        </a:lnTo>
                        <a:lnTo>
                          <a:pt x="109" y="48"/>
                        </a:lnTo>
                        <a:lnTo>
                          <a:pt x="162" y="67"/>
                        </a:lnTo>
                        <a:lnTo>
                          <a:pt x="227" y="77"/>
                        </a:lnTo>
                        <a:lnTo>
                          <a:pt x="299" y="85"/>
                        </a:lnTo>
                        <a:lnTo>
                          <a:pt x="371" y="82"/>
                        </a:lnTo>
                        <a:lnTo>
                          <a:pt x="423" y="73"/>
                        </a:lnTo>
                        <a:lnTo>
                          <a:pt x="478" y="58"/>
                        </a:lnTo>
                        <a:lnTo>
                          <a:pt x="516" y="43"/>
                        </a:lnTo>
                        <a:lnTo>
                          <a:pt x="553" y="25"/>
                        </a:lnTo>
                        <a:lnTo>
                          <a:pt x="595" y="0"/>
                        </a:lnTo>
                        <a:lnTo>
                          <a:pt x="580" y="27"/>
                        </a:lnTo>
                        <a:lnTo>
                          <a:pt x="543" y="58"/>
                        </a:lnTo>
                        <a:lnTo>
                          <a:pt x="498" y="82"/>
                        </a:lnTo>
                        <a:lnTo>
                          <a:pt x="446" y="97"/>
                        </a:lnTo>
                        <a:lnTo>
                          <a:pt x="391" y="105"/>
                        </a:lnTo>
                        <a:lnTo>
                          <a:pt x="339" y="112"/>
                        </a:lnTo>
                        <a:lnTo>
                          <a:pt x="286" y="113"/>
                        </a:lnTo>
                        <a:lnTo>
                          <a:pt x="230" y="108"/>
                        </a:lnTo>
                        <a:lnTo>
                          <a:pt x="179" y="97"/>
                        </a:lnTo>
                        <a:lnTo>
                          <a:pt x="134" y="83"/>
                        </a:lnTo>
                        <a:lnTo>
                          <a:pt x="82" y="58"/>
                        </a:lnTo>
                        <a:lnTo>
                          <a:pt x="35" y="32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606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8375760" y="5124960"/>
                    <a:ext cx="322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88">
                        <a:moveTo>
                          <a:pt x="406" y="36"/>
                        </a:moveTo>
                        <a:lnTo>
                          <a:pt x="340" y="70"/>
                        </a:lnTo>
                        <a:lnTo>
                          <a:pt x="276" y="86"/>
                        </a:lnTo>
                        <a:lnTo>
                          <a:pt x="216" y="88"/>
                        </a:lnTo>
                        <a:lnTo>
                          <a:pt x="157" y="76"/>
                        </a:lnTo>
                        <a:lnTo>
                          <a:pt x="101" y="58"/>
                        </a:lnTo>
                        <a:lnTo>
                          <a:pt x="54" y="36"/>
                        </a:lnTo>
                        <a:lnTo>
                          <a:pt x="0" y="0"/>
                        </a:lnTo>
                        <a:lnTo>
                          <a:pt x="57" y="20"/>
                        </a:lnTo>
                        <a:lnTo>
                          <a:pt x="99" y="31"/>
                        </a:lnTo>
                        <a:lnTo>
                          <a:pt x="171" y="48"/>
                        </a:lnTo>
                        <a:lnTo>
                          <a:pt x="218" y="55"/>
                        </a:lnTo>
                        <a:lnTo>
                          <a:pt x="276" y="58"/>
                        </a:lnTo>
                        <a:lnTo>
                          <a:pt x="341" y="53"/>
                        </a:lnTo>
                        <a:lnTo>
                          <a:pt x="406" y="36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8359560" y="4974120"/>
                    <a:ext cx="3524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215">
                        <a:moveTo>
                          <a:pt x="426" y="21"/>
                        </a:moveTo>
                        <a:lnTo>
                          <a:pt x="381" y="31"/>
                        </a:lnTo>
                        <a:lnTo>
                          <a:pt x="336" y="41"/>
                        </a:lnTo>
                        <a:lnTo>
                          <a:pt x="269" y="48"/>
                        </a:lnTo>
                        <a:lnTo>
                          <a:pt x="208" y="46"/>
                        </a:lnTo>
                        <a:lnTo>
                          <a:pt x="146" y="38"/>
                        </a:lnTo>
                        <a:lnTo>
                          <a:pt x="91" y="30"/>
                        </a:lnTo>
                        <a:lnTo>
                          <a:pt x="40" y="18"/>
                        </a:lnTo>
                        <a:lnTo>
                          <a:pt x="0" y="0"/>
                        </a:lnTo>
                        <a:lnTo>
                          <a:pt x="19" y="38"/>
                        </a:lnTo>
                        <a:lnTo>
                          <a:pt x="40" y="81"/>
                        </a:lnTo>
                        <a:lnTo>
                          <a:pt x="66" y="120"/>
                        </a:lnTo>
                        <a:lnTo>
                          <a:pt x="101" y="163"/>
                        </a:lnTo>
                        <a:lnTo>
                          <a:pt x="142" y="193"/>
                        </a:lnTo>
                        <a:lnTo>
                          <a:pt x="198" y="215"/>
                        </a:lnTo>
                        <a:lnTo>
                          <a:pt x="238" y="208"/>
                        </a:lnTo>
                        <a:lnTo>
                          <a:pt x="283" y="203"/>
                        </a:lnTo>
                        <a:lnTo>
                          <a:pt x="326" y="205"/>
                        </a:lnTo>
                        <a:lnTo>
                          <a:pt x="368" y="193"/>
                        </a:lnTo>
                        <a:lnTo>
                          <a:pt x="401" y="181"/>
                        </a:lnTo>
                        <a:lnTo>
                          <a:pt x="445" y="155"/>
                        </a:lnTo>
                        <a:lnTo>
                          <a:pt x="386" y="145"/>
                        </a:lnTo>
                        <a:lnTo>
                          <a:pt x="336" y="143"/>
                        </a:lnTo>
                        <a:lnTo>
                          <a:pt x="271" y="151"/>
                        </a:lnTo>
                        <a:lnTo>
                          <a:pt x="208" y="163"/>
                        </a:lnTo>
                        <a:lnTo>
                          <a:pt x="164" y="118"/>
                        </a:lnTo>
                        <a:lnTo>
                          <a:pt x="117" y="81"/>
                        </a:lnTo>
                        <a:lnTo>
                          <a:pt x="156" y="91"/>
                        </a:lnTo>
                        <a:lnTo>
                          <a:pt x="192" y="100"/>
                        </a:lnTo>
                        <a:lnTo>
                          <a:pt x="244" y="106"/>
                        </a:lnTo>
                        <a:lnTo>
                          <a:pt x="309" y="103"/>
                        </a:lnTo>
                        <a:lnTo>
                          <a:pt x="365" y="95"/>
                        </a:lnTo>
                        <a:lnTo>
                          <a:pt x="405" y="81"/>
                        </a:lnTo>
                        <a:lnTo>
                          <a:pt x="410" y="51"/>
                        </a:lnTo>
                        <a:lnTo>
                          <a:pt x="426" y="21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8359560" y="4380480"/>
                    <a:ext cx="513000" cy="51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655">
                        <a:moveTo>
                          <a:pt x="0" y="538"/>
                        </a:moveTo>
                        <a:lnTo>
                          <a:pt x="56" y="560"/>
                        </a:lnTo>
                        <a:lnTo>
                          <a:pt x="109" y="576"/>
                        </a:lnTo>
                        <a:lnTo>
                          <a:pt x="156" y="588"/>
                        </a:lnTo>
                        <a:lnTo>
                          <a:pt x="216" y="595"/>
                        </a:lnTo>
                        <a:lnTo>
                          <a:pt x="199" y="606"/>
                        </a:lnTo>
                        <a:lnTo>
                          <a:pt x="179" y="623"/>
                        </a:lnTo>
                        <a:lnTo>
                          <a:pt x="156" y="635"/>
                        </a:lnTo>
                        <a:lnTo>
                          <a:pt x="192" y="646"/>
                        </a:lnTo>
                        <a:lnTo>
                          <a:pt x="241" y="655"/>
                        </a:lnTo>
                        <a:lnTo>
                          <a:pt x="294" y="650"/>
                        </a:lnTo>
                        <a:lnTo>
                          <a:pt x="343" y="635"/>
                        </a:lnTo>
                        <a:lnTo>
                          <a:pt x="401" y="605"/>
                        </a:lnTo>
                        <a:lnTo>
                          <a:pt x="510" y="595"/>
                        </a:lnTo>
                        <a:lnTo>
                          <a:pt x="597" y="595"/>
                        </a:lnTo>
                        <a:lnTo>
                          <a:pt x="647" y="595"/>
                        </a:lnTo>
                        <a:lnTo>
                          <a:pt x="647" y="526"/>
                        </a:lnTo>
                        <a:lnTo>
                          <a:pt x="628" y="420"/>
                        </a:lnTo>
                        <a:lnTo>
                          <a:pt x="637" y="233"/>
                        </a:lnTo>
                        <a:lnTo>
                          <a:pt x="608" y="88"/>
                        </a:lnTo>
                        <a:lnTo>
                          <a:pt x="582" y="43"/>
                        </a:lnTo>
                        <a:lnTo>
                          <a:pt x="550" y="0"/>
                        </a:lnTo>
                        <a:lnTo>
                          <a:pt x="538" y="68"/>
                        </a:lnTo>
                        <a:lnTo>
                          <a:pt x="527" y="156"/>
                        </a:lnTo>
                        <a:lnTo>
                          <a:pt x="522" y="230"/>
                        </a:lnTo>
                        <a:lnTo>
                          <a:pt x="530" y="311"/>
                        </a:lnTo>
                        <a:lnTo>
                          <a:pt x="490" y="468"/>
                        </a:lnTo>
                        <a:lnTo>
                          <a:pt x="451" y="526"/>
                        </a:lnTo>
                        <a:lnTo>
                          <a:pt x="406" y="530"/>
                        </a:lnTo>
                        <a:lnTo>
                          <a:pt x="366" y="533"/>
                        </a:lnTo>
                        <a:lnTo>
                          <a:pt x="313" y="545"/>
                        </a:lnTo>
                        <a:lnTo>
                          <a:pt x="264" y="556"/>
                        </a:lnTo>
                        <a:lnTo>
                          <a:pt x="213" y="536"/>
                        </a:lnTo>
                        <a:lnTo>
                          <a:pt x="166" y="526"/>
                        </a:lnTo>
                        <a:lnTo>
                          <a:pt x="104" y="523"/>
                        </a:lnTo>
                        <a:lnTo>
                          <a:pt x="56" y="528"/>
                        </a:lnTo>
                        <a:lnTo>
                          <a:pt x="0" y="538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8383680" y="4296240"/>
                    <a:ext cx="35712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58">
                        <a:moveTo>
                          <a:pt x="450" y="0"/>
                        </a:moveTo>
                        <a:lnTo>
                          <a:pt x="451" y="53"/>
                        </a:lnTo>
                        <a:lnTo>
                          <a:pt x="448" y="96"/>
                        </a:lnTo>
                        <a:lnTo>
                          <a:pt x="436" y="151"/>
                        </a:lnTo>
                        <a:lnTo>
                          <a:pt x="420" y="206"/>
                        </a:lnTo>
                        <a:lnTo>
                          <a:pt x="395" y="263"/>
                        </a:lnTo>
                        <a:lnTo>
                          <a:pt x="351" y="316"/>
                        </a:lnTo>
                        <a:lnTo>
                          <a:pt x="301" y="353"/>
                        </a:lnTo>
                        <a:lnTo>
                          <a:pt x="239" y="398"/>
                        </a:lnTo>
                        <a:lnTo>
                          <a:pt x="176" y="430"/>
                        </a:lnTo>
                        <a:lnTo>
                          <a:pt x="139" y="468"/>
                        </a:lnTo>
                        <a:lnTo>
                          <a:pt x="96" y="500"/>
                        </a:lnTo>
                        <a:lnTo>
                          <a:pt x="54" y="530"/>
                        </a:lnTo>
                        <a:lnTo>
                          <a:pt x="0" y="558"/>
                        </a:lnTo>
                        <a:lnTo>
                          <a:pt x="27" y="511"/>
                        </a:lnTo>
                        <a:lnTo>
                          <a:pt x="64" y="466"/>
                        </a:lnTo>
                        <a:lnTo>
                          <a:pt x="99" y="435"/>
                        </a:lnTo>
                        <a:lnTo>
                          <a:pt x="132" y="391"/>
                        </a:lnTo>
                        <a:lnTo>
                          <a:pt x="176" y="351"/>
                        </a:lnTo>
                        <a:lnTo>
                          <a:pt x="219" y="318"/>
                        </a:lnTo>
                        <a:lnTo>
                          <a:pt x="251" y="280"/>
                        </a:lnTo>
                        <a:lnTo>
                          <a:pt x="276" y="243"/>
                        </a:lnTo>
                        <a:lnTo>
                          <a:pt x="320" y="220"/>
                        </a:lnTo>
                        <a:lnTo>
                          <a:pt x="355" y="196"/>
                        </a:lnTo>
                        <a:lnTo>
                          <a:pt x="385" y="153"/>
                        </a:lnTo>
                        <a:lnTo>
                          <a:pt x="411" y="101"/>
                        </a:lnTo>
                        <a:lnTo>
                          <a:pt x="430" y="58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8413560" y="4237560"/>
                    <a:ext cx="25272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528">
                        <a:moveTo>
                          <a:pt x="8" y="528"/>
                        </a:moveTo>
                        <a:lnTo>
                          <a:pt x="25" y="488"/>
                        </a:lnTo>
                        <a:lnTo>
                          <a:pt x="32" y="460"/>
                        </a:lnTo>
                        <a:lnTo>
                          <a:pt x="32" y="428"/>
                        </a:lnTo>
                        <a:lnTo>
                          <a:pt x="55" y="423"/>
                        </a:lnTo>
                        <a:lnTo>
                          <a:pt x="78" y="410"/>
                        </a:lnTo>
                        <a:lnTo>
                          <a:pt x="112" y="368"/>
                        </a:lnTo>
                        <a:lnTo>
                          <a:pt x="142" y="323"/>
                        </a:lnTo>
                        <a:lnTo>
                          <a:pt x="217" y="195"/>
                        </a:lnTo>
                        <a:lnTo>
                          <a:pt x="276" y="123"/>
                        </a:lnTo>
                        <a:lnTo>
                          <a:pt x="304" y="76"/>
                        </a:lnTo>
                        <a:lnTo>
                          <a:pt x="316" y="50"/>
                        </a:lnTo>
                        <a:lnTo>
                          <a:pt x="317" y="25"/>
                        </a:lnTo>
                        <a:lnTo>
                          <a:pt x="307" y="8"/>
                        </a:lnTo>
                        <a:lnTo>
                          <a:pt x="284" y="0"/>
                        </a:lnTo>
                        <a:lnTo>
                          <a:pt x="252" y="8"/>
                        </a:lnTo>
                        <a:lnTo>
                          <a:pt x="229" y="26"/>
                        </a:lnTo>
                        <a:lnTo>
                          <a:pt x="195" y="86"/>
                        </a:lnTo>
                        <a:lnTo>
                          <a:pt x="160" y="153"/>
                        </a:lnTo>
                        <a:lnTo>
                          <a:pt x="120" y="240"/>
                        </a:lnTo>
                        <a:lnTo>
                          <a:pt x="87" y="303"/>
                        </a:lnTo>
                        <a:lnTo>
                          <a:pt x="57" y="355"/>
                        </a:lnTo>
                        <a:lnTo>
                          <a:pt x="35" y="386"/>
                        </a:lnTo>
                        <a:lnTo>
                          <a:pt x="0" y="410"/>
                        </a:lnTo>
                        <a:lnTo>
                          <a:pt x="8" y="445"/>
                        </a:lnTo>
                        <a:lnTo>
                          <a:pt x="10" y="478"/>
                        </a:lnTo>
                        <a:lnTo>
                          <a:pt x="8" y="528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8939160" y="4667760"/>
                    <a:ext cx="20160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62">
                        <a:moveTo>
                          <a:pt x="0" y="0"/>
                        </a:moveTo>
                        <a:lnTo>
                          <a:pt x="61" y="60"/>
                        </a:lnTo>
                        <a:lnTo>
                          <a:pt x="94" y="97"/>
                        </a:lnTo>
                        <a:lnTo>
                          <a:pt x="134" y="158"/>
                        </a:lnTo>
                        <a:lnTo>
                          <a:pt x="179" y="200"/>
                        </a:lnTo>
                        <a:lnTo>
                          <a:pt x="256" y="262"/>
                        </a:lnTo>
                        <a:lnTo>
                          <a:pt x="139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8405640" y="3930120"/>
                    <a:ext cx="4608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5">
                        <a:moveTo>
                          <a:pt x="0" y="0"/>
                        </a:moveTo>
                        <a:lnTo>
                          <a:pt x="20" y="20"/>
                        </a:lnTo>
                        <a:lnTo>
                          <a:pt x="38" y="55"/>
                        </a:lnTo>
                        <a:lnTo>
                          <a:pt x="52" y="93"/>
                        </a:lnTo>
                        <a:lnTo>
                          <a:pt x="58" y="152"/>
                        </a:lnTo>
                        <a:lnTo>
                          <a:pt x="50" y="195"/>
                        </a:lnTo>
                        <a:lnTo>
                          <a:pt x="37" y="107"/>
                        </a:lnTo>
                        <a:lnTo>
                          <a:pt x="20" y="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8488440" y="4288320"/>
                    <a:ext cx="4143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3" h="826">
                        <a:moveTo>
                          <a:pt x="0" y="788"/>
                        </a:moveTo>
                        <a:lnTo>
                          <a:pt x="69" y="748"/>
                        </a:lnTo>
                        <a:lnTo>
                          <a:pt x="139" y="748"/>
                        </a:lnTo>
                        <a:lnTo>
                          <a:pt x="208" y="758"/>
                        </a:lnTo>
                        <a:lnTo>
                          <a:pt x="223" y="733"/>
                        </a:lnTo>
                        <a:lnTo>
                          <a:pt x="254" y="713"/>
                        </a:lnTo>
                        <a:lnTo>
                          <a:pt x="303" y="701"/>
                        </a:lnTo>
                        <a:lnTo>
                          <a:pt x="346" y="698"/>
                        </a:lnTo>
                        <a:lnTo>
                          <a:pt x="393" y="700"/>
                        </a:lnTo>
                        <a:lnTo>
                          <a:pt x="445" y="710"/>
                        </a:lnTo>
                        <a:lnTo>
                          <a:pt x="473" y="670"/>
                        </a:lnTo>
                        <a:lnTo>
                          <a:pt x="466" y="586"/>
                        </a:lnTo>
                        <a:lnTo>
                          <a:pt x="463" y="510"/>
                        </a:lnTo>
                        <a:lnTo>
                          <a:pt x="466" y="428"/>
                        </a:lnTo>
                        <a:lnTo>
                          <a:pt x="472" y="386"/>
                        </a:lnTo>
                        <a:lnTo>
                          <a:pt x="470" y="335"/>
                        </a:lnTo>
                        <a:lnTo>
                          <a:pt x="455" y="261"/>
                        </a:lnTo>
                        <a:lnTo>
                          <a:pt x="435" y="160"/>
                        </a:lnTo>
                        <a:lnTo>
                          <a:pt x="426" y="98"/>
                        </a:lnTo>
                        <a:lnTo>
                          <a:pt x="415" y="0"/>
                        </a:lnTo>
                        <a:lnTo>
                          <a:pt x="451" y="71"/>
                        </a:lnTo>
                        <a:lnTo>
                          <a:pt x="473" y="126"/>
                        </a:lnTo>
                        <a:lnTo>
                          <a:pt x="493" y="113"/>
                        </a:lnTo>
                        <a:lnTo>
                          <a:pt x="515" y="78"/>
                        </a:lnTo>
                        <a:lnTo>
                          <a:pt x="518" y="115"/>
                        </a:lnTo>
                        <a:lnTo>
                          <a:pt x="513" y="175"/>
                        </a:lnTo>
                        <a:lnTo>
                          <a:pt x="505" y="223"/>
                        </a:lnTo>
                        <a:lnTo>
                          <a:pt x="502" y="295"/>
                        </a:lnTo>
                        <a:lnTo>
                          <a:pt x="505" y="370"/>
                        </a:lnTo>
                        <a:lnTo>
                          <a:pt x="523" y="583"/>
                        </a:lnTo>
                        <a:lnTo>
                          <a:pt x="515" y="691"/>
                        </a:lnTo>
                        <a:lnTo>
                          <a:pt x="497" y="731"/>
                        </a:lnTo>
                        <a:lnTo>
                          <a:pt x="465" y="768"/>
                        </a:lnTo>
                        <a:lnTo>
                          <a:pt x="430" y="791"/>
                        </a:lnTo>
                        <a:lnTo>
                          <a:pt x="395" y="808"/>
                        </a:lnTo>
                        <a:lnTo>
                          <a:pt x="345" y="820"/>
                        </a:lnTo>
                        <a:lnTo>
                          <a:pt x="298" y="826"/>
                        </a:lnTo>
                        <a:lnTo>
                          <a:pt x="249" y="811"/>
                        </a:lnTo>
                        <a:lnTo>
                          <a:pt x="194" y="800"/>
                        </a:lnTo>
                        <a:lnTo>
                          <a:pt x="129" y="798"/>
                        </a:lnTo>
                        <a:lnTo>
                          <a:pt x="0" y="788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8488440" y="4920120"/>
                    <a:ext cx="31572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8" h="503">
                        <a:moveTo>
                          <a:pt x="0" y="79"/>
                        </a:moveTo>
                        <a:lnTo>
                          <a:pt x="37" y="73"/>
                        </a:lnTo>
                        <a:lnTo>
                          <a:pt x="61" y="59"/>
                        </a:lnTo>
                        <a:lnTo>
                          <a:pt x="117" y="66"/>
                        </a:lnTo>
                        <a:lnTo>
                          <a:pt x="172" y="69"/>
                        </a:lnTo>
                        <a:lnTo>
                          <a:pt x="229" y="66"/>
                        </a:lnTo>
                        <a:lnTo>
                          <a:pt x="271" y="63"/>
                        </a:lnTo>
                        <a:lnTo>
                          <a:pt x="319" y="51"/>
                        </a:lnTo>
                        <a:lnTo>
                          <a:pt x="361" y="26"/>
                        </a:lnTo>
                        <a:lnTo>
                          <a:pt x="398" y="0"/>
                        </a:lnTo>
                        <a:lnTo>
                          <a:pt x="390" y="35"/>
                        </a:lnTo>
                        <a:lnTo>
                          <a:pt x="366" y="71"/>
                        </a:lnTo>
                        <a:lnTo>
                          <a:pt x="330" y="99"/>
                        </a:lnTo>
                        <a:lnTo>
                          <a:pt x="340" y="138"/>
                        </a:lnTo>
                        <a:lnTo>
                          <a:pt x="316" y="166"/>
                        </a:lnTo>
                        <a:lnTo>
                          <a:pt x="304" y="193"/>
                        </a:lnTo>
                        <a:lnTo>
                          <a:pt x="298" y="223"/>
                        </a:lnTo>
                        <a:lnTo>
                          <a:pt x="279" y="248"/>
                        </a:lnTo>
                        <a:lnTo>
                          <a:pt x="273" y="293"/>
                        </a:lnTo>
                        <a:lnTo>
                          <a:pt x="268" y="323"/>
                        </a:lnTo>
                        <a:lnTo>
                          <a:pt x="259" y="373"/>
                        </a:lnTo>
                        <a:lnTo>
                          <a:pt x="269" y="424"/>
                        </a:lnTo>
                        <a:lnTo>
                          <a:pt x="238" y="451"/>
                        </a:lnTo>
                        <a:lnTo>
                          <a:pt x="199" y="474"/>
                        </a:lnTo>
                        <a:lnTo>
                          <a:pt x="154" y="493"/>
                        </a:lnTo>
                        <a:lnTo>
                          <a:pt x="111" y="503"/>
                        </a:lnTo>
                        <a:lnTo>
                          <a:pt x="154" y="473"/>
                        </a:lnTo>
                        <a:lnTo>
                          <a:pt x="191" y="441"/>
                        </a:lnTo>
                        <a:lnTo>
                          <a:pt x="219" y="413"/>
                        </a:lnTo>
                        <a:lnTo>
                          <a:pt x="239" y="376"/>
                        </a:lnTo>
                        <a:lnTo>
                          <a:pt x="201" y="386"/>
                        </a:lnTo>
                        <a:lnTo>
                          <a:pt x="159" y="388"/>
                        </a:lnTo>
                        <a:lnTo>
                          <a:pt x="106" y="383"/>
                        </a:lnTo>
                        <a:lnTo>
                          <a:pt x="51" y="376"/>
                        </a:lnTo>
                        <a:lnTo>
                          <a:pt x="112" y="368"/>
                        </a:lnTo>
                        <a:lnTo>
                          <a:pt x="159" y="354"/>
                        </a:lnTo>
                        <a:lnTo>
                          <a:pt x="196" y="338"/>
                        </a:lnTo>
                        <a:lnTo>
                          <a:pt x="228" y="316"/>
                        </a:lnTo>
                        <a:lnTo>
                          <a:pt x="249" y="288"/>
                        </a:lnTo>
                        <a:lnTo>
                          <a:pt x="203" y="279"/>
                        </a:lnTo>
                        <a:lnTo>
                          <a:pt x="159" y="266"/>
                        </a:lnTo>
                        <a:lnTo>
                          <a:pt x="188" y="241"/>
                        </a:lnTo>
                        <a:lnTo>
                          <a:pt x="221" y="216"/>
                        </a:lnTo>
                        <a:lnTo>
                          <a:pt x="259" y="193"/>
                        </a:lnTo>
                        <a:lnTo>
                          <a:pt x="289" y="178"/>
                        </a:lnTo>
                        <a:lnTo>
                          <a:pt x="264" y="168"/>
                        </a:lnTo>
                        <a:lnTo>
                          <a:pt x="243" y="158"/>
                        </a:lnTo>
                        <a:lnTo>
                          <a:pt x="209" y="148"/>
                        </a:lnTo>
                        <a:lnTo>
                          <a:pt x="243" y="129"/>
                        </a:lnTo>
                        <a:lnTo>
                          <a:pt x="269" y="109"/>
                        </a:lnTo>
                        <a:lnTo>
                          <a:pt x="219" y="111"/>
                        </a:lnTo>
                        <a:lnTo>
                          <a:pt x="176" y="109"/>
                        </a:lnTo>
                        <a:lnTo>
                          <a:pt x="114" y="103"/>
                        </a:lnTo>
                        <a:lnTo>
                          <a:pt x="54" y="91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1" name=""/>
              <p:cNvGrpSpPr/>
              <p:nvPr/>
            </p:nvGrpSpPr>
            <p:grpSpPr>
              <a:xfrm>
                <a:off x="8429760" y="5536800"/>
                <a:ext cx="377640" cy="531720"/>
                <a:chOff x="8429760" y="5536800"/>
                <a:chExt cx="377640" cy="53172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8431200" y="5536800"/>
                  <a:ext cx="376200" cy="531720"/>
                </a:xfrm>
                <a:custGeom>
                  <a:avLst/>
                  <a:gdLst/>
                  <a:ahLst/>
                  <a:rect l="l" t="t" r="r" b="b"/>
                  <a:pathLst>
                    <a:path w="474" h="670">
                      <a:moveTo>
                        <a:pt x="235" y="30"/>
                      </a:moveTo>
                      <a:lnTo>
                        <a:pt x="218" y="137"/>
                      </a:lnTo>
                      <a:lnTo>
                        <a:pt x="217" y="188"/>
                      </a:lnTo>
                      <a:lnTo>
                        <a:pt x="227" y="243"/>
                      </a:lnTo>
                      <a:lnTo>
                        <a:pt x="243" y="270"/>
                      </a:lnTo>
                      <a:lnTo>
                        <a:pt x="262" y="283"/>
                      </a:lnTo>
                      <a:lnTo>
                        <a:pt x="295" y="300"/>
                      </a:lnTo>
                      <a:lnTo>
                        <a:pt x="345" y="323"/>
                      </a:lnTo>
                      <a:lnTo>
                        <a:pt x="365" y="335"/>
                      </a:lnTo>
                      <a:lnTo>
                        <a:pt x="392" y="353"/>
                      </a:lnTo>
                      <a:lnTo>
                        <a:pt x="401" y="367"/>
                      </a:lnTo>
                      <a:lnTo>
                        <a:pt x="411" y="393"/>
                      </a:lnTo>
                      <a:lnTo>
                        <a:pt x="431" y="407"/>
                      </a:lnTo>
                      <a:lnTo>
                        <a:pt x="451" y="423"/>
                      </a:lnTo>
                      <a:lnTo>
                        <a:pt x="457" y="443"/>
                      </a:lnTo>
                      <a:lnTo>
                        <a:pt x="461" y="463"/>
                      </a:lnTo>
                      <a:lnTo>
                        <a:pt x="451" y="493"/>
                      </a:lnTo>
                      <a:lnTo>
                        <a:pt x="441" y="515"/>
                      </a:lnTo>
                      <a:lnTo>
                        <a:pt x="426" y="532"/>
                      </a:lnTo>
                      <a:lnTo>
                        <a:pt x="411" y="538"/>
                      </a:lnTo>
                      <a:lnTo>
                        <a:pt x="432" y="557"/>
                      </a:lnTo>
                      <a:lnTo>
                        <a:pt x="454" y="578"/>
                      </a:lnTo>
                      <a:lnTo>
                        <a:pt x="467" y="603"/>
                      </a:lnTo>
                      <a:lnTo>
                        <a:pt x="474" y="627"/>
                      </a:lnTo>
                      <a:lnTo>
                        <a:pt x="469" y="650"/>
                      </a:lnTo>
                      <a:lnTo>
                        <a:pt x="464" y="662"/>
                      </a:lnTo>
                      <a:lnTo>
                        <a:pt x="454" y="670"/>
                      </a:lnTo>
                      <a:lnTo>
                        <a:pt x="439" y="668"/>
                      </a:lnTo>
                      <a:lnTo>
                        <a:pt x="421" y="647"/>
                      </a:lnTo>
                      <a:lnTo>
                        <a:pt x="401" y="617"/>
                      </a:lnTo>
                      <a:lnTo>
                        <a:pt x="332" y="568"/>
                      </a:lnTo>
                      <a:lnTo>
                        <a:pt x="282" y="538"/>
                      </a:lnTo>
                      <a:lnTo>
                        <a:pt x="238" y="523"/>
                      </a:lnTo>
                      <a:lnTo>
                        <a:pt x="202" y="513"/>
                      </a:lnTo>
                      <a:lnTo>
                        <a:pt x="163" y="498"/>
                      </a:lnTo>
                      <a:lnTo>
                        <a:pt x="127" y="480"/>
                      </a:lnTo>
                      <a:lnTo>
                        <a:pt x="78" y="452"/>
                      </a:lnTo>
                      <a:lnTo>
                        <a:pt x="20" y="367"/>
                      </a:lnTo>
                      <a:lnTo>
                        <a:pt x="3" y="315"/>
                      </a:lnTo>
                      <a:lnTo>
                        <a:pt x="0" y="265"/>
                      </a:lnTo>
                      <a:lnTo>
                        <a:pt x="6" y="212"/>
                      </a:lnTo>
                      <a:lnTo>
                        <a:pt x="21" y="135"/>
                      </a:lnTo>
                      <a:lnTo>
                        <a:pt x="43" y="0"/>
                      </a:lnTo>
                      <a:lnTo>
                        <a:pt x="235" y="30"/>
                      </a:lnTo>
                      <a:close/>
                    </a:path>
                  </a:pathLst>
                </a:custGeom>
                <a:solidFill>
                  <a:srgbClr val="ffa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8667720" y="5900040"/>
                  <a:ext cx="119160" cy="66240"/>
                </a:xfrm>
                <a:custGeom>
                  <a:avLst/>
                  <a:gdLst/>
                  <a:ahLst/>
                  <a:rect l="l" t="t" r="r" b="b"/>
                  <a:pathLst>
                    <a:path w="150" h="84">
                      <a:moveTo>
                        <a:pt x="0" y="0"/>
                      </a:moveTo>
                      <a:lnTo>
                        <a:pt x="43" y="19"/>
                      </a:lnTo>
                      <a:lnTo>
                        <a:pt x="73" y="30"/>
                      </a:lnTo>
                      <a:lnTo>
                        <a:pt x="93" y="29"/>
                      </a:lnTo>
                      <a:lnTo>
                        <a:pt x="107" y="19"/>
                      </a:lnTo>
                      <a:lnTo>
                        <a:pt x="117" y="25"/>
                      </a:lnTo>
                      <a:lnTo>
                        <a:pt x="132" y="34"/>
                      </a:lnTo>
                      <a:lnTo>
                        <a:pt x="150" y="35"/>
                      </a:lnTo>
                      <a:lnTo>
                        <a:pt x="145" y="55"/>
                      </a:lnTo>
                      <a:lnTo>
                        <a:pt x="132" y="74"/>
                      </a:lnTo>
                      <a:lnTo>
                        <a:pt x="112" y="84"/>
                      </a:lnTo>
                      <a:lnTo>
                        <a:pt x="88" y="62"/>
                      </a:lnTo>
                      <a:lnTo>
                        <a:pt x="68" y="44"/>
                      </a:lnTo>
                      <a:lnTo>
                        <a:pt x="38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429760" y="5589000"/>
                  <a:ext cx="188640" cy="329760"/>
                </a:xfrm>
                <a:custGeom>
                  <a:avLst/>
                  <a:gdLst/>
                  <a:ahLst/>
                  <a:rect l="l" t="t" r="r" b="b"/>
                  <a:pathLst>
                    <a:path w="237" h="415">
                      <a:moveTo>
                        <a:pt x="175" y="223"/>
                      </a:moveTo>
                      <a:lnTo>
                        <a:pt x="157" y="191"/>
                      </a:lnTo>
                      <a:lnTo>
                        <a:pt x="142" y="155"/>
                      </a:lnTo>
                      <a:lnTo>
                        <a:pt x="130" y="116"/>
                      </a:lnTo>
                      <a:lnTo>
                        <a:pt x="125" y="85"/>
                      </a:lnTo>
                      <a:lnTo>
                        <a:pt x="127" y="65"/>
                      </a:lnTo>
                      <a:lnTo>
                        <a:pt x="155" y="66"/>
                      </a:lnTo>
                      <a:lnTo>
                        <a:pt x="185" y="63"/>
                      </a:lnTo>
                      <a:lnTo>
                        <a:pt x="207" y="58"/>
                      </a:lnTo>
                      <a:lnTo>
                        <a:pt x="224" y="51"/>
                      </a:lnTo>
                      <a:lnTo>
                        <a:pt x="232" y="40"/>
                      </a:lnTo>
                      <a:lnTo>
                        <a:pt x="237" y="11"/>
                      </a:lnTo>
                      <a:lnTo>
                        <a:pt x="32" y="0"/>
                      </a:lnTo>
                      <a:lnTo>
                        <a:pt x="23" y="60"/>
                      </a:lnTo>
                      <a:lnTo>
                        <a:pt x="18" y="93"/>
                      </a:lnTo>
                      <a:lnTo>
                        <a:pt x="8" y="133"/>
                      </a:lnTo>
                      <a:lnTo>
                        <a:pt x="3" y="165"/>
                      </a:lnTo>
                      <a:lnTo>
                        <a:pt x="0" y="200"/>
                      </a:lnTo>
                      <a:lnTo>
                        <a:pt x="2" y="231"/>
                      </a:lnTo>
                      <a:lnTo>
                        <a:pt x="5" y="256"/>
                      </a:lnTo>
                      <a:lnTo>
                        <a:pt x="10" y="278"/>
                      </a:lnTo>
                      <a:lnTo>
                        <a:pt x="20" y="301"/>
                      </a:lnTo>
                      <a:lnTo>
                        <a:pt x="35" y="325"/>
                      </a:lnTo>
                      <a:lnTo>
                        <a:pt x="47" y="345"/>
                      </a:lnTo>
                      <a:lnTo>
                        <a:pt x="63" y="368"/>
                      </a:lnTo>
                      <a:lnTo>
                        <a:pt x="83" y="390"/>
                      </a:lnTo>
                      <a:lnTo>
                        <a:pt x="100" y="401"/>
                      </a:lnTo>
                      <a:lnTo>
                        <a:pt x="125" y="415"/>
                      </a:lnTo>
                      <a:lnTo>
                        <a:pt x="119" y="393"/>
                      </a:lnTo>
                      <a:lnTo>
                        <a:pt x="115" y="358"/>
                      </a:lnTo>
                      <a:lnTo>
                        <a:pt x="119" y="330"/>
                      </a:lnTo>
                      <a:lnTo>
                        <a:pt x="125" y="301"/>
                      </a:lnTo>
                      <a:lnTo>
                        <a:pt x="140" y="271"/>
                      </a:lnTo>
                      <a:lnTo>
                        <a:pt x="159" y="245"/>
                      </a:lnTo>
                      <a:lnTo>
                        <a:pt x="175" y="223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8658360" y="5805000"/>
                  <a:ext cx="99720" cy="47160"/>
                </a:xfrm>
                <a:custGeom>
                  <a:avLst/>
                  <a:gdLst/>
                  <a:ahLst/>
                  <a:rect l="l" t="t" r="r" b="b"/>
                  <a:pathLst>
                    <a:path w="125" h="60">
                      <a:moveTo>
                        <a:pt x="125" y="60"/>
                      </a:moveTo>
                      <a:lnTo>
                        <a:pt x="93" y="39"/>
                      </a:lnTo>
                      <a:lnTo>
                        <a:pt x="60" y="20"/>
                      </a:lnTo>
                      <a:lnTo>
                        <a:pt x="30" y="9"/>
                      </a:lnTo>
                      <a:lnTo>
                        <a:pt x="0" y="0"/>
                      </a:lnTo>
                      <a:lnTo>
                        <a:pt x="37" y="7"/>
                      </a:lnTo>
                      <a:lnTo>
                        <a:pt x="72" y="17"/>
                      </a:lnTo>
                      <a:lnTo>
                        <a:pt x="105" y="32"/>
                      </a:lnTo>
                      <a:lnTo>
                        <a:pt x="120" y="39"/>
                      </a:lnTo>
                      <a:lnTo>
                        <a:pt x="125" y="60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650080" y="5955840"/>
                  <a:ext cx="128880" cy="77400"/>
                </a:xfrm>
                <a:custGeom>
                  <a:avLst/>
                  <a:gdLst/>
                  <a:ahLst/>
                  <a:rect l="l" t="t" r="r" b="b"/>
                  <a:pathLst>
                    <a:path w="160" h="97">
                      <a:moveTo>
                        <a:pt x="160" y="60"/>
                      </a:moveTo>
                      <a:lnTo>
                        <a:pt x="147" y="69"/>
                      </a:lnTo>
                      <a:lnTo>
                        <a:pt x="139" y="80"/>
                      </a:lnTo>
                      <a:lnTo>
                        <a:pt x="127" y="97"/>
                      </a:lnTo>
                      <a:lnTo>
                        <a:pt x="122" y="89"/>
                      </a:lnTo>
                      <a:lnTo>
                        <a:pt x="112" y="80"/>
                      </a:lnTo>
                      <a:lnTo>
                        <a:pt x="87" y="62"/>
                      </a:lnTo>
                      <a:lnTo>
                        <a:pt x="65" y="45"/>
                      </a:lnTo>
                      <a:lnTo>
                        <a:pt x="43" y="32"/>
                      </a:lnTo>
                      <a:lnTo>
                        <a:pt x="22" y="17"/>
                      </a:lnTo>
                      <a:lnTo>
                        <a:pt x="0" y="0"/>
                      </a:lnTo>
                      <a:lnTo>
                        <a:pt x="28" y="14"/>
                      </a:lnTo>
                      <a:lnTo>
                        <a:pt x="48" y="24"/>
                      </a:lnTo>
                      <a:lnTo>
                        <a:pt x="77" y="39"/>
                      </a:lnTo>
                      <a:lnTo>
                        <a:pt x="102" y="59"/>
                      </a:lnTo>
                      <a:lnTo>
                        <a:pt x="119" y="74"/>
                      </a:lnTo>
                      <a:lnTo>
                        <a:pt x="129" y="82"/>
                      </a:lnTo>
                      <a:lnTo>
                        <a:pt x="139" y="69"/>
                      </a:lnTo>
                      <a:lnTo>
                        <a:pt x="160" y="60"/>
                      </a:lnTo>
                      <a:close/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8377200" y="5238360"/>
                <a:ext cx="345960" cy="402480"/>
                <a:chOff x="8377200" y="5238360"/>
                <a:chExt cx="345960" cy="40248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8377200" y="5238360"/>
                  <a:ext cx="345960" cy="401400"/>
                </a:xfrm>
                <a:custGeom>
                  <a:avLst/>
                  <a:gdLst/>
                  <a:ahLst/>
                  <a:rect l="l" t="t" r="r" b="b"/>
                  <a:pathLst>
                    <a:path w="438" h="507">
                      <a:moveTo>
                        <a:pt x="29" y="0"/>
                      </a:moveTo>
                      <a:lnTo>
                        <a:pt x="15" y="30"/>
                      </a:lnTo>
                      <a:lnTo>
                        <a:pt x="5" y="67"/>
                      </a:lnTo>
                      <a:lnTo>
                        <a:pt x="0" y="107"/>
                      </a:lnTo>
                      <a:lnTo>
                        <a:pt x="5" y="147"/>
                      </a:lnTo>
                      <a:lnTo>
                        <a:pt x="8" y="164"/>
                      </a:lnTo>
                      <a:lnTo>
                        <a:pt x="25" y="185"/>
                      </a:lnTo>
                      <a:lnTo>
                        <a:pt x="49" y="202"/>
                      </a:lnTo>
                      <a:lnTo>
                        <a:pt x="77" y="220"/>
                      </a:lnTo>
                      <a:lnTo>
                        <a:pt x="67" y="259"/>
                      </a:lnTo>
                      <a:lnTo>
                        <a:pt x="62" y="305"/>
                      </a:lnTo>
                      <a:lnTo>
                        <a:pt x="59" y="359"/>
                      </a:lnTo>
                      <a:lnTo>
                        <a:pt x="64" y="409"/>
                      </a:lnTo>
                      <a:lnTo>
                        <a:pt x="67" y="447"/>
                      </a:lnTo>
                      <a:lnTo>
                        <a:pt x="77" y="465"/>
                      </a:lnTo>
                      <a:lnTo>
                        <a:pt x="105" y="489"/>
                      </a:lnTo>
                      <a:lnTo>
                        <a:pt x="150" y="504"/>
                      </a:lnTo>
                      <a:lnTo>
                        <a:pt x="197" y="507"/>
                      </a:lnTo>
                      <a:lnTo>
                        <a:pt x="241" y="504"/>
                      </a:lnTo>
                      <a:lnTo>
                        <a:pt x="267" y="497"/>
                      </a:lnTo>
                      <a:lnTo>
                        <a:pt x="289" y="482"/>
                      </a:lnTo>
                      <a:lnTo>
                        <a:pt x="312" y="450"/>
                      </a:lnTo>
                      <a:lnTo>
                        <a:pt x="324" y="422"/>
                      </a:lnTo>
                      <a:lnTo>
                        <a:pt x="334" y="387"/>
                      </a:lnTo>
                      <a:lnTo>
                        <a:pt x="338" y="364"/>
                      </a:lnTo>
                      <a:lnTo>
                        <a:pt x="334" y="337"/>
                      </a:lnTo>
                      <a:lnTo>
                        <a:pt x="348" y="309"/>
                      </a:lnTo>
                      <a:lnTo>
                        <a:pt x="353" y="279"/>
                      </a:lnTo>
                      <a:lnTo>
                        <a:pt x="391" y="262"/>
                      </a:lnTo>
                      <a:lnTo>
                        <a:pt x="416" y="247"/>
                      </a:lnTo>
                      <a:lnTo>
                        <a:pt x="423" y="232"/>
                      </a:lnTo>
                      <a:lnTo>
                        <a:pt x="419" y="202"/>
                      </a:lnTo>
                      <a:lnTo>
                        <a:pt x="423" y="174"/>
                      </a:lnTo>
                      <a:lnTo>
                        <a:pt x="429" y="139"/>
                      </a:lnTo>
                      <a:lnTo>
                        <a:pt x="438" y="114"/>
                      </a:lnTo>
                      <a:lnTo>
                        <a:pt x="436" y="90"/>
                      </a:lnTo>
                      <a:lnTo>
                        <a:pt x="428" y="65"/>
                      </a:lnTo>
                      <a:lnTo>
                        <a:pt x="418" y="50"/>
                      </a:lnTo>
                      <a:lnTo>
                        <a:pt x="413" y="35"/>
                      </a:lnTo>
                      <a:lnTo>
                        <a:pt x="379" y="47"/>
                      </a:lnTo>
                      <a:lnTo>
                        <a:pt x="341" y="60"/>
                      </a:lnTo>
                      <a:lnTo>
                        <a:pt x="314" y="67"/>
                      </a:lnTo>
                      <a:lnTo>
                        <a:pt x="282" y="72"/>
                      </a:lnTo>
                      <a:lnTo>
                        <a:pt x="241" y="75"/>
                      </a:lnTo>
                      <a:lnTo>
                        <a:pt x="202" y="70"/>
                      </a:lnTo>
                      <a:lnTo>
                        <a:pt x="165" y="60"/>
                      </a:lnTo>
                      <a:lnTo>
                        <a:pt x="129" y="50"/>
                      </a:lnTo>
                      <a:lnTo>
                        <a:pt x="94" y="30"/>
                      </a:lnTo>
                      <a:lnTo>
                        <a:pt x="59" y="1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8494560" y="5406480"/>
                  <a:ext cx="196920" cy="102600"/>
                </a:xfrm>
                <a:custGeom>
                  <a:avLst/>
                  <a:gdLst/>
                  <a:ahLst/>
                  <a:rect l="l" t="t" r="r" b="b"/>
                  <a:pathLst>
                    <a:path w="249" h="130">
                      <a:moveTo>
                        <a:pt x="8" y="3"/>
                      </a:moveTo>
                      <a:lnTo>
                        <a:pt x="37" y="0"/>
                      </a:lnTo>
                      <a:lnTo>
                        <a:pt x="62" y="7"/>
                      </a:lnTo>
                      <a:lnTo>
                        <a:pt x="85" y="15"/>
                      </a:lnTo>
                      <a:lnTo>
                        <a:pt x="113" y="27"/>
                      </a:lnTo>
                      <a:lnTo>
                        <a:pt x="132" y="32"/>
                      </a:lnTo>
                      <a:lnTo>
                        <a:pt x="153" y="27"/>
                      </a:lnTo>
                      <a:lnTo>
                        <a:pt x="175" y="15"/>
                      </a:lnTo>
                      <a:lnTo>
                        <a:pt x="194" y="12"/>
                      </a:lnTo>
                      <a:lnTo>
                        <a:pt x="215" y="15"/>
                      </a:lnTo>
                      <a:lnTo>
                        <a:pt x="230" y="18"/>
                      </a:lnTo>
                      <a:lnTo>
                        <a:pt x="244" y="30"/>
                      </a:lnTo>
                      <a:lnTo>
                        <a:pt x="249" y="48"/>
                      </a:lnTo>
                      <a:lnTo>
                        <a:pt x="224" y="58"/>
                      </a:lnTo>
                      <a:lnTo>
                        <a:pt x="207" y="65"/>
                      </a:lnTo>
                      <a:lnTo>
                        <a:pt x="189" y="78"/>
                      </a:lnTo>
                      <a:lnTo>
                        <a:pt x="172" y="83"/>
                      </a:lnTo>
                      <a:lnTo>
                        <a:pt x="147" y="85"/>
                      </a:lnTo>
                      <a:lnTo>
                        <a:pt x="123" y="95"/>
                      </a:lnTo>
                      <a:lnTo>
                        <a:pt x="112" y="108"/>
                      </a:lnTo>
                      <a:lnTo>
                        <a:pt x="103" y="130"/>
                      </a:lnTo>
                      <a:lnTo>
                        <a:pt x="85" y="107"/>
                      </a:lnTo>
                      <a:lnTo>
                        <a:pt x="60" y="87"/>
                      </a:lnTo>
                      <a:lnTo>
                        <a:pt x="35" y="70"/>
                      </a:lnTo>
                      <a:lnTo>
                        <a:pt x="16" y="58"/>
                      </a:lnTo>
                      <a:lnTo>
                        <a:pt x="5" y="45"/>
                      </a:lnTo>
                      <a:lnTo>
                        <a:pt x="0" y="30"/>
                      </a:lnTo>
                      <a:lnTo>
                        <a:pt x="1" y="15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474040" y="5287320"/>
                  <a:ext cx="71280" cy="117000"/>
                </a:xfrm>
                <a:custGeom>
                  <a:avLst/>
                  <a:gdLst/>
                  <a:ahLst/>
                  <a:rect l="l" t="t" r="r" b="b"/>
                  <a:pathLst>
                    <a:path w="90" h="146">
                      <a:moveTo>
                        <a:pt x="7" y="0"/>
                      </a:moveTo>
                      <a:lnTo>
                        <a:pt x="0" y="40"/>
                      </a:lnTo>
                      <a:lnTo>
                        <a:pt x="3" y="73"/>
                      </a:lnTo>
                      <a:lnTo>
                        <a:pt x="15" y="106"/>
                      </a:lnTo>
                      <a:lnTo>
                        <a:pt x="33" y="131"/>
                      </a:lnTo>
                      <a:lnTo>
                        <a:pt x="57" y="146"/>
                      </a:lnTo>
                      <a:lnTo>
                        <a:pt x="64" y="121"/>
                      </a:lnTo>
                      <a:lnTo>
                        <a:pt x="75" y="101"/>
                      </a:lnTo>
                      <a:lnTo>
                        <a:pt x="90" y="83"/>
                      </a:lnTo>
                      <a:lnTo>
                        <a:pt x="69" y="78"/>
                      </a:lnTo>
                      <a:lnTo>
                        <a:pt x="55" y="71"/>
                      </a:lnTo>
                      <a:lnTo>
                        <a:pt x="47" y="41"/>
                      </a:lnTo>
                      <a:lnTo>
                        <a:pt x="37" y="20"/>
                      </a:lnTo>
                      <a:lnTo>
                        <a:pt x="23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8397720" y="5253840"/>
                  <a:ext cx="44640" cy="120600"/>
                </a:xfrm>
                <a:custGeom>
                  <a:avLst/>
                  <a:gdLst/>
                  <a:ahLst/>
                  <a:rect l="l" t="t" r="r" b="b"/>
                  <a:pathLst>
                    <a:path w="57" h="152">
                      <a:moveTo>
                        <a:pt x="22" y="0"/>
                      </a:moveTo>
                      <a:lnTo>
                        <a:pt x="35" y="20"/>
                      </a:lnTo>
                      <a:lnTo>
                        <a:pt x="50" y="49"/>
                      </a:lnTo>
                      <a:lnTo>
                        <a:pt x="57" y="72"/>
                      </a:lnTo>
                      <a:lnTo>
                        <a:pt x="50" y="92"/>
                      </a:lnTo>
                      <a:lnTo>
                        <a:pt x="28" y="122"/>
                      </a:lnTo>
                      <a:lnTo>
                        <a:pt x="0" y="152"/>
                      </a:lnTo>
                      <a:lnTo>
                        <a:pt x="17" y="117"/>
                      </a:lnTo>
                      <a:lnTo>
                        <a:pt x="27" y="90"/>
                      </a:lnTo>
                      <a:lnTo>
                        <a:pt x="30" y="60"/>
                      </a:lnTo>
                      <a:lnTo>
                        <a:pt x="27" y="34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8418600" y="5407920"/>
                  <a:ext cx="142920" cy="232920"/>
                </a:xfrm>
                <a:custGeom>
                  <a:avLst/>
                  <a:gdLst/>
                  <a:ahLst/>
                  <a:rect l="l" t="t" r="r" b="b"/>
                  <a:pathLst>
                    <a:path w="178" h="294">
                      <a:moveTo>
                        <a:pt x="23" y="0"/>
                      </a:moveTo>
                      <a:lnTo>
                        <a:pt x="51" y="10"/>
                      </a:lnTo>
                      <a:lnTo>
                        <a:pt x="86" y="32"/>
                      </a:lnTo>
                      <a:lnTo>
                        <a:pt x="120" y="59"/>
                      </a:lnTo>
                      <a:lnTo>
                        <a:pt x="143" y="84"/>
                      </a:lnTo>
                      <a:lnTo>
                        <a:pt x="157" y="119"/>
                      </a:lnTo>
                      <a:lnTo>
                        <a:pt x="162" y="149"/>
                      </a:lnTo>
                      <a:lnTo>
                        <a:pt x="157" y="180"/>
                      </a:lnTo>
                      <a:lnTo>
                        <a:pt x="155" y="204"/>
                      </a:lnTo>
                      <a:lnTo>
                        <a:pt x="158" y="227"/>
                      </a:lnTo>
                      <a:lnTo>
                        <a:pt x="168" y="260"/>
                      </a:lnTo>
                      <a:lnTo>
                        <a:pt x="178" y="289"/>
                      </a:lnTo>
                      <a:lnTo>
                        <a:pt x="160" y="294"/>
                      </a:lnTo>
                      <a:lnTo>
                        <a:pt x="133" y="294"/>
                      </a:lnTo>
                      <a:lnTo>
                        <a:pt x="105" y="292"/>
                      </a:lnTo>
                      <a:lnTo>
                        <a:pt x="81" y="285"/>
                      </a:lnTo>
                      <a:lnTo>
                        <a:pt x="61" y="279"/>
                      </a:lnTo>
                      <a:lnTo>
                        <a:pt x="40" y="265"/>
                      </a:lnTo>
                      <a:lnTo>
                        <a:pt x="21" y="252"/>
                      </a:lnTo>
                      <a:lnTo>
                        <a:pt x="10" y="227"/>
                      </a:lnTo>
                      <a:lnTo>
                        <a:pt x="3" y="177"/>
                      </a:lnTo>
                      <a:lnTo>
                        <a:pt x="0" y="142"/>
                      </a:lnTo>
                      <a:lnTo>
                        <a:pt x="3" y="105"/>
                      </a:lnTo>
                      <a:lnTo>
                        <a:pt x="6" y="60"/>
                      </a:lnTo>
                      <a:lnTo>
                        <a:pt x="15" y="2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8394840" y="5238360"/>
                  <a:ext cx="312480" cy="79200"/>
                </a:xfrm>
                <a:custGeom>
                  <a:avLst/>
                  <a:gdLst/>
                  <a:ahLst/>
                  <a:rect l="l" t="t" r="r" b="b"/>
                  <a:pathLst>
                    <a:path w="395" h="100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21" y="24"/>
                      </a:lnTo>
                      <a:lnTo>
                        <a:pt x="42" y="37"/>
                      </a:lnTo>
                      <a:lnTo>
                        <a:pt x="62" y="49"/>
                      </a:lnTo>
                      <a:lnTo>
                        <a:pt x="92" y="64"/>
                      </a:lnTo>
                      <a:lnTo>
                        <a:pt x="119" y="77"/>
                      </a:lnTo>
                      <a:lnTo>
                        <a:pt x="154" y="89"/>
                      </a:lnTo>
                      <a:lnTo>
                        <a:pt x="188" y="97"/>
                      </a:lnTo>
                      <a:lnTo>
                        <a:pt x="211" y="99"/>
                      </a:lnTo>
                      <a:lnTo>
                        <a:pt x="239" y="100"/>
                      </a:lnTo>
                      <a:lnTo>
                        <a:pt x="268" y="97"/>
                      </a:lnTo>
                      <a:lnTo>
                        <a:pt x="296" y="90"/>
                      </a:lnTo>
                      <a:lnTo>
                        <a:pt x="325" y="85"/>
                      </a:lnTo>
                      <a:lnTo>
                        <a:pt x="353" y="77"/>
                      </a:lnTo>
                      <a:lnTo>
                        <a:pt x="378" y="67"/>
                      </a:lnTo>
                      <a:lnTo>
                        <a:pt x="395" y="59"/>
                      </a:lnTo>
                      <a:lnTo>
                        <a:pt x="390" y="39"/>
                      </a:lnTo>
                      <a:lnTo>
                        <a:pt x="356" y="52"/>
                      </a:lnTo>
                      <a:lnTo>
                        <a:pt x="318" y="67"/>
                      </a:lnTo>
                      <a:lnTo>
                        <a:pt x="291" y="75"/>
                      </a:lnTo>
                      <a:lnTo>
                        <a:pt x="259" y="80"/>
                      </a:lnTo>
                      <a:lnTo>
                        <a:pt x="218" y="85"/>
                      </a:lnTo>
                      <a:lnTo>
                        <a:pt x="179" y="79"/>
                      </a:lnTo>
                      <a:lnTo>
                        <a:pt x="142" y="67"/>
                      </a:lnTo>
                      <a:lnTo>
                        <a:pt x="106" y="55"/>
                      </a:lnTo>
                      <a:lnTo>
                        <a:pt x="69" y="35"/>
                      </a:lnTo>
                      <a:lnTo>
                        <a:pt x="36" y="1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4" name=""/>
              <p:cNvGrpSpPr/>
              <p:nvPr/>
            </p:nvGrpSpPr>
            <p:grpSpPr>
              <a:xfrm>
                <a:off x="7450200" y="3505320"/>
                <a:ext cx="979560" cy="887400"/>
                <a:chOff x="7450200" y="3505320"/>
                <a:chExt cx="979560" cy="88740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7564320" y="3725640"/>
                  <a:ext cx="684360" cy="667080"/>
                  <a:chOff x="7564320" y="3725640"/>
                  <a:chExt cx="684360" cy="667080"/>
                </a:xfrm>
              </p:grpSpPr>
              <p:grpSp>
                <p:nvGrpSpPr>
                  <p:cNvPr id="1836" name=""/>
                  <p:cNvGrpSpPr/>
                  <p:nvPr/>
                </p:nvGrpSpPr>
                <p:grpSpPr>
                  <a:xfrm>
                    <a:off x="7564320" y="3725640"/>
                    <a:ext cx="684360" cy="667080"/>
                    <a:chOff x="7564320" y="3725640"/>
                    <a:chExt cx="684360" cy="667080"/>
                  </a:xfrm>
                </p:grpSpPr>
                <p:grpSp>
                  <p:nvGrpSpPr>
                    <p:cNvPr id="1837" name=""/>
                    <p:cNvGrpSpPr/>
                    <p:nvPr/>
                  </p:nvGrpSpPr>
                  <p:grpSpPr>
                    <a:xfrm>
                      <a:off x="7643880" y="4006080"/>
                      <a:ext cx="122040" cy="104040"/>
                      <a:chOff x="7643880" y="4006080"/>
                      <a:chExt cx="122040" cy="104040"/>
                    </a:xfrm>
                  </p:grpSpPr>
                  <p:sp>
                    <p:nvSpPr>
                      <p:cNvPr id="1838" name=""/>
                      <p:cNvSpPr/>
                      <p:nvPr/>
                    </p:nvSpPr>
                    <p:spPr>
                      <a:xfrm>
                        <a:off x="7643880" y="4006080"/>
                        <a:ext cx="9180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100">
                            <a:moveTo>
                              <a:pt x="5" y="0"/>
                            </a:moveTo>
                            <a:lnTo>
                              <a:pt x="3" y="50"/>
                            </a:lnTo>
                            <a:lnTo>
                              <a:pt x="0" y="70"/>
                            </a:lnTo>
                            <a:lnTo>
                              <a:pt x="0" y="80"/>
                            </a:lnTo>
                            <a:lnTo>
                              <a:pt x="3" y="90"/>
                            </a:lnTo>
                            <a:lnTo>
                              <a:pt x="23" y="92"/>
                            </a:lnTo>
                            <a:lnTo>
                              <a:pt x="115" y="10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a08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9" name=""/>
                      <p:cNvSpPr/>
                      <p:nvPr/>
                    </p:nvSpPr>
                    <p:spPr>
                      <a:xfrm>
                        <a:off x="7664400" y="4043880"/>
                        <a:ext cx="10152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84">
                            <a:moveTo>
                              <a:pt x="0" y="0"/>
                            </a:moveTo>
                            <a:lnTo>
                              <a:pt x="17" y="49"/>
                            </a:lnTo>
                            <a:lnTo>
                              <a:pt x="22" y="67"/>
                            </a:lnTo>
                            <a:lnTo>
                              <a:pt x="20" y="84"/>
                            </a:lnTo>
                            <a:lnTo>
                              <a:pt x="32" y="65"/>
                            </a:lnTo>
                            <a:lnTo>
                              <a:pt x="42" y="62"/>
                            </a:lnTo>
                            <a:lnTo>
                              <a:pt x="129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40" name=""/>
                    <p:cNvGrpSpPr/>
                    <p:nvPr/>
                  </p:nvGrpSpPr>
                  <p:grpSpPr>
                    <a:xfrm>
                      <a:off x="7564320" y="3725640"/>
                      <a:ext cx="684360" cy="667080"/>
                      <a:chOff x="7564320" y="3725640"/>
                      <a:chExt cx="684360" cy="667080"/>
                    </a:xfrm>
                  </p:grpSpPr>
                  <p:sp>
                    <p:nvSpPr>
                      <p:cNvPr id="1841" name=""/>
                      <p:cNvSpPr/>
                      <p:nvPr/>
                    </p:nvSpPr>
                    <p:spPr>
                      <a:xfrm>
                        <a:off x="7564320" y="3725640"/>
                        <a:ext cx="669960" cy="66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3" h="840">
                            <a:moveTo>
                              <a:pt x="0" y="215"/>
                            </a:moveTo>
                            <a:lnTo>
                              <a:pt x="58" y="340"/>
                            </a:lnTo>
                            <a:lnTo>
                              <a:pt x="97" y="401"/>
                            </a:lnTo>
                            <a:lnTo>
                              <a:pt x="130" y="440"/>
                            </a:lnTo>
                            <a:lnTo>
                              <a:pt x="175" y="476"/>
                            </a:lnTo>
                            <a:lnTo>
                              <a:pt x="178" y="503"/>
                            </a:lnTo>
                            <a:lnTo>
                              <a:pt x="175" y="535"/>
                            </a:lnTo>
                            <a:lnTo>
                              <a:pt x="168" y="578"/>
                            </a:lnTo>
                            <a:lnTo>
                              <a:pt x="163" y="611"/>
                            </a:lnTo>
                            <a:lnTo>
                              <a:pt x="165" y="631"/>
                            </a:lnTo>
                            <a:lnTo>
                              <a:pt x="175" y="653"/>
                            </a:lnTo>
                            <a:lnTo>
                              <a:pt x="192" y="665"/>
                            </a:lnTo>
                            <a:lnTo>
                              <a:pt x="214" y="671"/>
                            </a:lnTo>
                            <a:lnTo>
                              <a:pt x="242" y="668"/>
                            </a:lnTo>
                            <a:lnTo>
                              <a:pt x="260" y="671"/>
                            </a:lnTo>
                            <a:lnTo>
                              <a:pt x="287" y="708"/>
                            </a:lnTo>
                            <a:lnTo>
                              <a:pt x="294" y="728"/>
                            </a:lnTo>
                            <a:lnTo>
                              <a:pt x="309" y="735"/>
                            </a:lnTo>
                            <a:lnTo>
                              <a:pt x="327" y="731"/>
                            </a:lnTo>
                            <a:lnTo>
                              <a:pt x="337" y="730"/>
                            </a:lnTo>
                            <a:lnTo>
                              <a:pt x="342" y="745"/>
                            </a:lnTo>
                            <a:lnTo>
                              <a:pt x="347" y="761"/>
                            </a:lnTo>
                            <a:lnTo>
                              <a:pt x="362" y="771"/>
                            </a:lnTo>
                            <a:lnTo>
                              <a:pt x="382" y="778"/>
                            </a:lnTo>
                            <a:lnTo>
                              <a:pt x="397" y="776"/>
                            </a:lnTo>
                            <a:lnTo>
                              <a:pt x="416" y="791"/>
                            </a:lnTo>
                            <a:lnTo>
                              <a:pt x="432" y="805"/>
                            </a:lnTo>
                            <a:lnTo>
                              <a:pt x="442" y="821"/>
                            </a:lnTo>
                            <a:lnTo>
                              <a:pt x="474" y="836"/>
                            </a:lnTo>
                            <a:lnTo>
                              <a:pt x="501" y="840"/>
                            </a:lnTo>
                            <a:lnTo>
                              <a:pt x="534" y="828"/>
                            </a:lnTo>
                            <a:lnTo>
                              <a:pt x="566" y="806"/>
                            </a:lnTo>
                            <a:lnTo>
                              <a:pt x="594" y="780"/>
                            </a:lnTo>
                            <a:lnTo>
                              <a:pt x="623" y="741"/>
                            </a:lnTo>
                            <a:lnTo>
                              <a:pt x="653" y="733"/>
                            </a:lnTo>
                            <a:lnTo>
                              <a:pt x="720" y="663"/>
                            </a:lnTo>
                            <a:lnTo>
                              <a:pt x="843" y="515"/>
                            </a:lnTo>
                            <a:lnTo>
                              <a:pt x="822" y="456"/>
                            </a:lnTo>
                            <a:lnTo>
                              <a:pt x="782" y="253"/>
                            </a:lnTo>
                            <a:lnTo>
                              <a:pt x="681" y="116"/>
                            </a:lnTo>
                            <a:lnTo>
                              <a:pt x="526" y="28"/>
                            </a:lnTo>
                            <a:lnTo>
                              <a:pt x="329" y="0"/>
                            </a:lnTo>
                            <a:lnTo>
                              <a:pt x="107" y="38"/>
                            </a:lnTo>
                            <a:lnTo>
                              <a:pt x="28" y="98"/>
                            </a:lnTo>
                            <a:lnTo>
                              <a:pt x="0" y="215"/>
                            </a:lnTo>
                            <a:close/>
                          </a:path>
                        </a:pathLst>
                      </a:custGeom>
                      <a:solidFill>
                        <a:srgbClr val="ff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42" name=""/>
                      <p:cNvGrpSpPr/>
                      <p:nvPr/>
                    </p:nvGrpSpPr>
                    <p:grpSpPr>
                      <a:xfrm>
                        <a:off x="7721640" y="3825360"/>
                        <a:ext cx="527040" cy="567360"/>
                        <a:chOff x="7721640" y="3825360"/>
                        <a:chExt cx="527040" cy="567360"/>
                      </a:xfrm>
                    </p:grpSpPr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>
                          <a:off x="7869240" y="4302720"/>
                          <a:ext cx="58680" cy="5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65">
                              <a:moveTo>
                                <a:pt x="0" y="47"/>
                              </a:moveTo>
                              <a:lnTo>
                                <a:pt x="35" y="5"/>
                              </a:lnTo>
                              <a:lnTo>
                                <a:pt x="53" y="7"/>
                              </a:lnTo>
                              <a:lnTo>
                                <a:pt x="73" y="0"/>
                              </a:lnTo>
                              <a:lnTo>
                                <a:pt x="47" y="35"/>
                              </a:lnTo>
                              <a:lnTo>
                                <a:pt x="28" y="65"/>
                              </a:lnTo>
                              <a:lnTo>
                                <a:pt x="17" y="55"/>
                              </a:lnTo>
                              <a:lnTo>
                                <a:pt x="0" y="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0" bIns="3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>
                          <a:off x="7740720" y="3825360"/>
                          <a:ext cx="507960" cy="51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2" h="653">
                              <a:moveTo>
                                <a:pt x="0" y="166"/>
                              </a:moveTo>
                              <a:lnTo>
                                <a:pt x="85" y="200"/>
                              </a:lnTo>
                              <a:lnTo>
                                <a:pt x="131" y="213"/>
                              </a:lnTo>
                              <a:lnTo>
                                <a:pt x="184" y="220"/>
                              </a:lnTo>
                              <a:lnTo>
                                <a:pt x="234" y="223"/>
                              </a:lnTo>
                              <a:lnTo>
                                <a:pt x="222" y="251"/>
                              </a:lnTo>
                              <a:lnTo>
                                <a:pt x="212" y="291"/>
                              </a:lnTo>
                              <a:lnTo>
                                <a:pt x="206" y="331"/>
                              </a:lnTo>
                              <a:lnTo>
                                <a:pt x="191" y="348"/>
                              </a:lnTo>
                              <a:lnTo>
                                <a:pt x="166" y="363"/>
                              </a:lnTo>
                              <a:lnTo>
                                <a:pt x="127" y="380"/>
                              </a:lnTo>
                              <a:lnTo>
                                <a:pt x="111" y="401"/>
                              </a:lnTo>
                              <a:lnTo>
                                <a:pt x="105" y="428"/>
                              </a:lnTo>
                              <a:lnTo>
                                <a:pt x="111" y="461"/>
                              </a:lnTo>
                              <a:lnTo>
                                <a:pt x="126" y="493"/>
                              </a:lnTo>
                              <a:lnTo>
                                <a:pt x="141" y="516"/>
                              </a:lnTo>
                              <a:lnTo>
                                <a:pt x="166" y="538"/>
                              </a:lnTo>
                              <a:lnTo>
                                <a:pt x="179" y="530"/>
                              </a:lnTo>
                              <a:lnTo>
                                <a:pt x="197" y="525"/>
                              </a:lnTo>
                              <a:lnTo>
                                <a:pt x="216" y="528"/>
                              </a:lnTo>
                              <a:lnTo>
                                <a:pt x="206" y="578"/>
                              </a:lnTo>
                              <a:lnTo>
                                <a:pt x="227" y="590"/>
                              </a:lnTo>
                              <a:lnTo>
                                <a:pt x="247" y="603"/>
                              </a:lnTo>
                              <a:lnTo>
                                <a:pt x="263" y="626"/>
                              </a:lnTo>
                              <a:lnTo>
                                <a:pt x="271" y="643"/>
                              </a:lnTo>
                              <a:lnTo>
                                <a:pt x="289" y="651"/>
                              </a:lnTo>
                              <a:lnTo>
                                <a:pt x="309" y="653"/>
                              </a:lnTo>
                              <a:lnTo>
                                <a:pt x="338" y="635"/>
                              </a:lnTo>
                              <a:lnTo>
                                <a:pt x="361" y="611"/>
                              </a:lnTo>
                              <a:lnTo>
                                <a:pt x="374" y="591"/>
                              </a:lnTo>
                              <a:lnTo>
                                <a:pt x="383" y="551"/>
                              </a:lnTo>
                              <a:lnTo>
                                <a:pt x="391" y="506"/>
                              </a:lnTo>
                              <a:lnTo>
                                <a:pt x="411" y="488"/>
                              </a:lnTo>
                              <a:lnTo>
                                <a:pt x="488" y="461"/>
                              </a:lnTo>
                              <a:lnTo>
                                <a:pt x="558" y="433"/>
                              </a:lnTo>
                              <a:lnTo>
                                <a:pt x="608" y="403"/>
                              </a:lnTo>
                              <a:lnTo>
                                <a:pt x="642" y="365"/>
                              </a:lnTo>
                              <a:lnTo>
                                <a:pt x="582" y="128"/>
                              </a:lnTo>
                              <a:lnTo>
                                <a:pt x="206" y="0"/>
                              </a:lnTo>
                              <a:lnTo>
                                <a:pt x="0" y="1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5" name=""/>
                        <p:cNvSpPr/>
                        <p:nvPr/>
                      </p:nvSpPr>
                      <p:spPr>
                        <a:xfrm>
                          <a:off x="7721640" y="4177440"/>
                          <a:ext cx="102960" cy="82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0" h="103">
                              <a:moveTo>
                                <a:pt x="15" y="98"/>
                              </a:moveTo>
                              <a:lnTo>
                                <a:pt x="0" y="91"/>
                              </a:lnTo>
                              <a:lnTo>
                                <a:pt x="0" y="78"/>
                              </a:lnTo>
                              <a:lnTo>
                                <a:pt x="13" y="73"/>
                              </a:lnTo>
                              <a:lnTo>
                                <a:pt x="37" y="70"/>
                              </a:lnTo>
                              <a:lnTo>
                                <a:pt x="58" y="73"/>
                              </a:lnTo>
                              <a:lnTo>
                                <a:pt x="83" y="81"/>
                              </a:lnTo>
                              <a:lnTo>
                                <a:pt x="98" y="53"/>
                              </a:lnTo>
                              <a:lnTo>
                                <a:pt x="98" y="33"/>
                              </a:lnTo>
                              <a:lnTo>
                                <a:pt x="92" y="16"/>
                              </a:lnTo>
                              <a:lnTo>
                                <a:pt x="75" y="11"/>
                              </a:lnTo>
                              <a:lnTo>
                                <a:pt x="60" y="16"/>
                              </a:lnTo>
                              <a:lnTo>
                                <a:pt x="48" y="26"/>
                              </a:lnTo>
                              <a:lnTo>
                                <a:pt x="52" y="11"/>
                              </a:lnTo>
                              <a:lnTo>
                                <a:pt x="67" y="0"/>
                              </a:lnTo>
                              <a:lnTo>
                                <a:pt x="88" y="0"/>
                              </a:lnTo>
                              <a:lnTo>
                                <a:pt x="115" y="10"/>
                              </a:lnTo>
                              <a:lnTo>
                                <a:pt x="127" y="25"/>
                              </a:lnTo>
                              <a:lnTo>
                                <a:pt x="130" y="43"/>
                              </a:lnTo>
                              <a:lnTo>
                                <a:pt x="127" y="66"/>
                              </a:lnTo>
                              <a:lnTo>
                                <a:pt x="113" y="90"/>
                              </a:lnTo>
                              <a:lnTo>
                                <a:pt x="97" y="100"/>
                              </a:lnTo>
                              <a:lnTo>
                                <a:pt x="70" y="103"/>
                              </a:lnTo>
                              <a:lnTo>
                                <a:pt x="53" y="98"/>
                              </a:lnTo>
                              <a:lnTo>
                                <a:pt x="37" y="93"/>
                              </a:lnTo>
                              <a:lnTo>
                                <a:pt x="15" y="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6" name=""/>
                        <p:cNvSpPr/>
                        <p:nvPr/>
                      </p:nvSpPr>
                      <p:spPr>
                        <a:xfrm>
                          <a:off x="7916760" y="4353480"/>
                          <a:ext cx="82440" cy="39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50">
                              <a:moveTo>
                                <a:pt x="0" y="32"/>
                              </a:moveTo>
                              <a:lnTo>
                                <a:pt x="25" y="20"/>
                              </a:lnTo>
                              <a:lnTo>
                                <a:pt x="51" y="0"/>
                              </a:lnTo>
                              <a:lnTo>
                                <a:pt x="62" y="9"/>
                              </a:lnTo>
                              <a:lnTo>
                                <a:pt x="76" y="19"/>
                              </a:lnTo>
                              <a:lnTo>
                                <a:pt x="89" y="24"/>
                              </a:lnTo>
                              <a:lnTo>
                                <a:pt x="104" y="27"/>
                              </a:lnTo>
                              <a:lnTo>
                                <a:pt x="79" y="42"/>
                              </a:lnTo>
                              <a:lnTo>
                                <a:pt x="56" y="50"/>
                              </a:lnTo>
                              <a:lnTo>
                                <a:pt x="36" y="49"/>
                              </a:lnTo>
                              <a:lnTo>
                                <a:pt x="19" y="44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7791480" y="4241160"/>
                    <a:ext cx="119160" cy="102600"/>
                    <a:chOff x="7791480" y="4241160"/>
                    <a:chExt cx="119160" cy="10260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804080" y="4244040"/>
                      <a:ext cx="10476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05">
                          <a:moveTo>
                            <a:pt x="0" y="70"/>
                          </a:moveTo>
                          <a:lnTo>
                            <a:pt x="31" y="75"/>
                          </a:lnTo>
                          <a:lnTo>
                            <a:pt x="44" y="95"/>
                          </a:lnTo>
                          <a:lnTo>
                            <a:pt x="52" y="105"/>
                          </a:lnTo>
                          <a:lnTo>
                            <a:pt x="101" y="87"/>
                          </a:lnTo>
                          <a:lnTo>
                            <a:pt x="114" y="62"/>
                          </a:lnTo>
                          <a:lnTo>
                            <a:pt x="132" y="0"/>
                          </a:lnTo>
                          <a:lnTo>
                            <a:pt x="112" y="10"/>
                          </a:lnTo>
                          <a:lnTo>
                            <a:pt x="0" y="70"/>
                          </a:lnTo>
                          <a:close/>
                        </a:path>
                      </a:pathLst>
                    </a:custGeom>
                    <a:solidFill>
                      <a:srgbClr val="e04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7815240" y="4242240"/>
                      <a:ext cx="9216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95">
                          <a:moveTo>
                            <a:pt x="0" y="67"/>
                          </a:moveTo>
                          <a:lnTo>
                            <a:pt x="27" y="95"/>
                          </a:lnTo>
                          <a:lnTo>
                            <a:pt x="44" y="90"/>
                          </a:lnTo>
                          <a:lnTo>
                            <a:pt x="114" y="10"/>
                          </a:lnTo>
                          <a:lnTo>
                            <a:pt x="116" y="0"/>
                          </a:lnTo>
                          <a:lnTo>
                            <a:pt x="0" y="6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7791480" y="4241160"/>
                      <a:ext cx="11916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86">
                          <a:moveTo>
                            <a:pt x="149" y="0"/>
                          </a:moveTo>
                          <a:lnTo>
                            <a:pt x="124" y="13"/>
                          </a:lnTo>
                          <a:lnTo>
                            <a:pt x="86" y="28"/>
                          </a:lnTo>
                          <a:lnTo>
                            <a:pt x="46" y="35"/>
                          </a:lnTo>
                          <a:lnTo>
                            <a:pt x="17" y="51"/>
                          </a:lnTo>
                          <a:lnTo>
                            <a:pt x="5" y="61"/>
                          </a:lnTo>
                          <a:lnTo>
                            <a:pt x="0" y="78"/>
                          </a:lnTo>
                          <a:lnTo>
                            <a:pt x="9" y="86"/>
                          </a:lnTo>
                          <a:lnTo>
                            <a:pt x="24" y="86"/>
                          </a:lnTo>
                          <a:lnTo>
                            <a:pt x="37" y="85"/>
                          </a:lnTo>
                          <a:lnTo>
                            <a:pt x="64" y="71"/>
                          </a:lnTo>
                          <a:lnTo>
                            <a:pt x="92" y="50"/>
                          </a:lnTo>
                          <a:lnTo>
                            <a:pt x="141" y="13"/>
                          </a:lnTo>
                          <a:lnTo>
                            <a:pt x="149" y="0"/>
                          </a:lnTo>
                          <a:close/>
                        </a:path>
                      </a:pathLst>
                    </a:cu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832520" y="4242240"/>
                      <a:ext cx="7812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129">
                          <a:moveTo>
                            <a:pt x="97" y="0"/>
                          </a:moveTo>
                          <a:lnTo>
                            <a:pt x="74" y="45"/>
                          </a:lnTo>
                          <a:lnTo>
                            <a:pt x="52" y="70"/>
                          </a:lnTo>
                          <a:lnTo>
                            <a:pt x="40" y="90"/>
                          </a:lnTo>
                          <a:lnTo>
                            <a:pt x="27" y="97"/>
                          </a:lnTo>
                          <a:lnTo>
                            <a:pt x="15" y="97"/>
                          </a:lnTo>
                          <a:lnTo>
                            <a:pt x="0" y="92"/>
                          </a:lnTo>
                          <a:lnTo>
                            <a:pt x="4" y="107"/>
                          </a:lnTo>
                          <a:lnTo>
                            <a:pt x="12" y="114"/>
                          </a:lnTo>
                          <a:lnTo>
                            <a:pt x="34" y="125"/>
                          </a:lnTo>
                          <a:lnTo>
                            <a:pt x="47" y="129"/>
                          </a:lnTo>
                          <a:lnTo>
                            <a:pt x="62" y="127"/>
                          </a:lnTo>
                          <a:lnTo>
                            <a:pt x="75" y="114"/>
                          </a:lnTo>
                          <a:lnTo>
                            <a:pt x="87" y="97"/>
                          </a:lnTo>
                          <a:lnTo>
                            <a:pt x="92" y="75"/>
                          </a:lnTo>
                          <a:lnTo>
                            <a:pt x="89" y="50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2" name=""/>
                  <p:cNvSpPr/>
                  <p:nvPr/>
                </p:nvSpPr>
                <p:spPr>
                  <a:xfrm>
                    <a:off x="7729560" y="4033080"/>
                    <a:ext cx="93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08">
                        <a:moveTo>
                          <a:pt x="0" y="58"/>
                        </a:moveTo>
                        <a:lnTo>
                          <a:pt x="13" y="40"/>
                        </a:lnTo>
                        <a:lnTo>
                          <a:pt x="35" y="25"/>
                        </a:lnTo>
                        <a:lnTo>
                          <a:pt x="62" y="12"/>
                        </a:lnTo>
                        <a:lnTo>
                          <a:pt x="87" y="5"/>
                        </a:lnTo>
                        <a:lnTo>
                          <a:pt x="115" y="0"/>
                        </a:lnTo>
                        <a:lnTo>
                          <a:pt x="117" y="17"/>
                        </a:lnTo>
                        <a:lnTo>
                          <a:pt x="118" y="38"/>
                        </a:lnTo>
                        <a:lnTo>
                          <a:pt x="113" y="63"/>
                        </a:lnTo>
                        <a:lnTo>
                          <a:pt x="102" y="85"/>
                        </a:lnTo>
                        <a:lnTo>
                          <a:pt x="83" y="100"/>
                        </a:lnTo>
                        <a:lnTo>
                          <a:pt x="60" y="108"/>
                        </a:lnTo>
                        <a:lnTo>
                          <a:pt x="50" y="90"/>
                        </a:lnTo>
                        <a:lnTo>
                          <a:pt x="35" y="80"/>
                        </a:lnTo>
                        <a:lnTo>
                          <a:pt x="27" y="72"/>
                        </a:lnTo>
                        <a:lnTo>
                          <a:pt x="10" y="6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7773840" y="4034880"/>
                    <a:ext cx="47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5">
                        <a:moveTo>
                          <a:pt x="0" y="38"/>
                        </a:moveTo>
                        <a:lnTo>
                          <a:pt x="25" y="65"/>
                        </a:lnTo>
                        <a:lnTo>
                          <a:pt x="43" y="43"/>
                        </a:lnTo>
                        <a:lnTo>
                          <a:pt x="58" y="13"/>
                        </a:lnTo>
                        <a:lnTo>
                          <a:pt x="60" y="0"/>
                        </a:lnTo>
                        <a:lnTo>
                          <a:pt x="38" y="10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solidFill>
                    <a:srgbClr val="ffff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7751880" y="4033080"/>
                    <a:ext cx="712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02">
                        <a:moveTo>
                          <a:pt x="0" y="85"/>
                        </a:moveTo>
                        <a:lnTo>
                          <a:pt x="9" y="77"/>
                        </a:lnTo>
                        <a:lnTo>
                          <a:pt x="20" y="55"/>
                        </a:lnTo>
                        <a:lnTo>
                          <a:pt x="42" y="39"/>
                        </a:lnTo>
                        <a:lnTo>
                          <a:pt x="65" y="22"/>
                        </a:lnTo>
                        <a:lnTo>
                          <a:pt x="84" y="9"/>
                        </a:lnTo>
                        <a:lnTo>
                          <a:pt x="77" y="29"/>
                        </a:lnTo>
                        <a:lnTo>
                          <a:pt x="65" y="49"/>
                        </a:lnTo>
                        <a:lnTo>
                          <a:pt x="55" y="60"/>
                        </a:lnTo>
                        <a:lnTo>
                          <a:pt x="44" y="85"/>
                        </a:lnTo>
                        <a:lnTo>
                          <a:pt x="42" y="102"/>
                        </a:lnTo>
                        <a:lnTo>
                          <a:pt x="49" y="82"/>
                        </a:lnTo>
                        <a:lnTo>
                          <a:pt x="59" y="67"/>
                        </a:lnTo>
                        <a:lnTo>
                          <a:pt x="77" y="44"/>
                        </a:lnTo>
                        <a:lnTo>
                          <a:pt x="84" y="25"/>
                        </a:lnTo>
                        <a:lnTo>
                          <a:pt x="89" y="12"/>
                        </a:lnTo>
                        <a:lnTo>
                          <a:pt x="90" y="0"/>
                        </a:lnTo>
                        <a:lnTo>
                          <a:pt x="77" y="10"/>
                        </a:lnTo>
                        <a:lnTo>
                          <a:pt x="55" y="20"/>
                        </a:lnTo>
                        <a:lnTo>
                          <a:pt x="35" y="34"/>
                        </a:lnTo>
                        <a:lnTo>
                          <a:pt x="19" y="49"/>
                        </a:lnTo>
                        <a:lnTo>
                          <a:pt x="4" y="67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7759800" y="4057200"/>
                    <a:ext cx="396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0" y="27"/>
                        </a:moveTo>
                        <a:lnTo>
                          <a:pt x="0" y="47"/>
                        </a:lnTo>
                        <a:lnTo>
                          <a:pt x="14" y="55"/>
                        </a:lnTo>
                        <a:lnTo>
                          <a:pt x="34" y="50"/>
                        </a:lnTo>
                        <a:lnTo>
                          <a:pt x="50" y="30"/>
                        </a:lnTo>
                        <a:lnTo>
                          <a:pt x="50" y="15"/>
                        </a:lnTo>
                        <a:lnTo>
                          <a:pt x="32" y="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604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7761240" y="4052160"/>
                    <a:ext cx="475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27"/>
                        </a:moveTo>
                        <a:lnTo>
                          <a:pt x="0" y="55"/>
                        </a:lnTo>
                        <a:lnTo>
                          <a:pt x="15" y="67"/>
                        </a:lnTo>
                        <a:lnTo>
                          <a:pt x="40" y="64"/>
                        </a:lnTo>
                        <a:lnTo>
                          <a:pt x="60" y="39"/>
                        </a:lnTo>
                        <a:lnTo>
                          <a:pt x="60" y="15"/>
                        </a:lnTo>
                        <a:lnTo>
                          <a:pt x="43" y="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7764480" y="4066560"/>
                    <a:ext cx="34920" cy="37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7734240" y="4033080"/>
                    <a:ext cx="87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0">
                        <a:moveTo>
                          <a:pt x="0" y="60"/>
                        </a:moveTo>
                        <a:lnTo>
                          <a:pt x="1" y="48"/>
                        </a:lnTo>
                        <a:lnTo>
                          <a:pt x="10" y="35"/>
                        </a:lnTo>
                        <a:lnTo>
                          <a:pt x="21" y="25"/>
                        </a:lnTo>
                        <a:lnTo>
                          <a:pt x="38" y="13"/>
                        </a:lnTo>
                        <a:lnTo>
                          <a:pt x="60" y="5"/>
                        </a:lnTo>
                        <a:lnTo>
                          <a:pt x="83" y="0"/>
                        </a:lnTo>
                        <a:lnTo>
                          <a:pt x="108" y="2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7704000" y="4055400"/>
                    <a:ext cx="5868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60">
                        <a:moveTo>
                          <a:pt x="0" y="0"/>
                        </a:moveTo>
                        <a:lnTo>
                          <a:pt x="30" y="21"/>
                        </a:lnTo>
                        <a:lnTo>
                          <a:pt x="74" y="41"/>
                        </a:lnTo>
                        <a:lnTo>
                          <a:pt x="54" y="66"/>
                        </a:lnTo>
                        <a:lnTo>
                          <a:pt x="47" y="88"/>
                        </a:lnTo>
                        <a:lnTo>
                          <a:pt x="52" y="118"/>
                        </a:lnTo>
                        <a:lnTo>
                          <a:pt x="70" y="160"/>
                        </a:lnTo>
                        <a:lnTo>
                          <a:pt x="55" y="136"/>
                        </a:lnTo>
                        <a:lnTo>
                          <a:pt x="39" y="113"/>
                        </a:lnTo>
                        <a:lnTo>
                          <a:pt x="25" y="85"/>
                        </a:lnTo>
                        <a:lnTo>
                          <a:pt x="12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8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7691400" y="3950640"/>
                    <a:ext cx="1112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58">
                        <a:moveTo>
                          <a:pt x="37" y="153"/>
                        </a:moveTo>
                        <a:lnTo>
                          <a:pt x="39" y="130"/>
                        </a:lnTo>
                        <a:lnTo>
                          <a:pt x="41" y="103"/>
                        </a:lnTo>
                        <a:lnTo>
                          <a:pt x="54" y="83"/>
                        </a:lnTo>
                        <a:lnTo>
                          <a:pt x="94" y="57"/>
                        </a:lnTo>
                        <a:lnTo>
                          <a:pt x="134" y="22"/>
                        </a:lnTo>
                        <a:lnTo>
                          <a:pt x="141" y="0"/>
                        </a:lnTo>
                        <a:lnTo>
                          <a:pt x="86" y="45"/>
                        </a:lnTo>
                        <a:lnTo>
                          <a:pt x="29" y="67"/>
                        </a:lnTo>
                        <a:lnTo>
                          <a:pt x="7" y="97"/>
                        </a:lnTo>
                        <a:lnTo>
                          <a:pt x="0" y="125"/>
                        </a:lnTo>
                        <a:lnTo>
                          <a:pt x="0" y="145"/>
                        </a:lnTo>
                        <a:lnTo>
                          <a:pt x="7" y="155"/>
                        </a:lnTo>
                        <a:lnTo>
                          <a:pt x="20" y="158"/>
                        </a:lnTo>
                        <a:lnTo>
                          <a:pt x="37" y="153"/>
                        </a:lnTo>
                        <a:close/>
                      </a:path>
                    </a:pathLst>
                  </a:custGeom>
                  <a:solidFill>
                    <a:srgbClr val="a08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7773840" y="4071240"/>
                    <a:ext cx="1440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2" name=""/>
                <p:cNvGrpSpPr/>
                <p:nvPr/>
              </p:nvGrpSpPr>
              <p:grpSpPr>
                <a:xfrm>
                  <a:off x="7450200" y="3505320"/>
                  <a:ext cx="979560" cy="709200"/>
                  <a:chOff x="7450200" y="3505320"/>
                  <a:chExt cx="979560" cy="70920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7450200" y="3505320"/>
                    <a:ext cx="979560" cy="70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5" h="894">
                        <a:moveTo>
                          <a:pt x="216" y="140"/>
                        </a:moveTo>
                        <a:lnTo>
                          <a:pt x="184" y="159"/>
                        </a:lnTo>
                        <a:lnTo>
                          <a:pt x="156" y="184"/>
                        </a:lnTo>
                        <a:lnTo>
                          <a:pt x="122" y="222"/>
                        </a:lnTo>
                        <a:lnTo>
                          <a:pt x="97" y="242"/>
                        </a:lnTo>
                        <a:lnTo>
                          <a:pt x="74" y="270"/>
                        </a:lnTo>
                        <a:lnTo>
                          <a:pt x="61" y="292"/>
                        </a:lnTo>
                        <a:lnTo>
                          <a:pt x="54" y="315"/>
                        </a:lnTo>
                        <a:lnTo>
                          <a:pt x="51" y="337"/>
                        </a:lnTo>
                        <a:lnTo>
                          <a:pt x="54" y="359"/>
                        </a:lnTo>
                        <a:lnTo>
                          <a:pt x="59" y="387"/>
                        </a:lnTo>
                        <a:lnTo>
                          <a:pt x="46" y="410"/>
                        </a:lnTo>
                        <a:lnTo>
                          <a:pt x="35" y="427"/>
                        </a:lnTo>
                        <a:lnTo>
                          <a:pt x="30" y="449"/>
                        </a:lnTo>
                        <a:lnTo>
                          <a:pt x="25" y="475"/>
                        </a:lnTo>
                        <a:lnTo>
                          <a:pt x="14" y="505"/>
                        </a:lnTo>
                        <a:lnTo>
                          <a:pt x="5" y="530"/>
                        </a:lnTo>
                        <a:lnTo>
                          <a:pt x="0" y="559"/>
                        </a:lnTo>
                        <a:lnTo>
                          <a:pt x="4" y="595"/>
                        </a:lnTo>
                        <a:lnTo>
                          <a:pt x="15" y="630"/>
                        </a:lnTo>
                        <a:lnTo>
                          <a:pt x="25" y="655"/>
                        </a:lnTo>
                        <a:lnTo>
                          <a:pt x="39" y="679"/>
                        </a:lnTo>
                        <a:lnTo>
                          <a:pt x="57" y="695"/>
                        </a:lnTo>
                        <a:lnTo>
                          <a:pt x="84" y="712"/>
                        </a:lnTo>
                        <a:lnTo>
                          <a:pt x="72" y="697"/>
                        </a:lnTo>
                        <a:lnTo>
                          <a:pt x="74" y="687"/>
                        </a:lnTo>
                        <a:lnTo>
                          <a:pt x="87" y="680"/>
                        </a:lnTo>
                        <a:lnTo>
                          <a:pt x="101" y="682"/>
                        </a:lnTo>
                        <a:lnTo>
                          <a:pt x="116" y="689"/>
                        </a:lnTo>
                        <a:lnTo>
                          <a:pt x="127" y="702"/>
                        </a:lnTo>
                        <a:lnTo>
                          <a:pt x="146" y="715"/>
                        </a:lnTo>
                        <a:lnTo>
                          <a:pt x="136" y="699"/>
                        </a:lnTo>
                        <a:lnTo>
                          <a:pt x="134" y="687"/>
                        </a:lnTo>
                        <a:lnTo>
                          <a:pt x="161" y="690"/>
                        </a:lnTo>
                        <a:lnTo>
                          <a:pt x="184" y="687"/>
                        </a:lnTo>
                        <a:lnTo>
                          <a:pt x="206" y="675"/>
                        </a:lnTo>
                        <a:lnTo>
                          <a:pt x="221" y="659"/>
                        </a:lnTo>
                        <a:lnTo>
                          <a:pt x="236" y="635"/>
                        </a:lnTo>
                        <a:lnTo>
                          <a:pt x="271" y="644"/>
                        </a:lnTo>
                        <a:lnTo>
                          <a:pt x="304" y="645"/>
                        </a:lnTo>
                        <a:lnTo>
                          <a:pt x="341" y="640"/>
                        </a:lnTo>
                        <a:lnTo>
                          <a:pt x="376" y="630"/>
                        </a:lnTo>
                        <a:lnTo>
                          <a:pt x="410" y="612"/>
                        </a:lnTo>
                        <a:lnTo>
                          <a:pt x="440" y="589"/>
                        </a:lnTo>
                        <a:lnTo>
                          <a:pt x="461" y="565"/>
                        </a:lnTo>
                        <a:lnTo>
                          <a:pt x="483" y="550"/>
                        </a:lnTo>
                        <a:lnTo>
                          <a:pt x="508" y="539"/>
                        </a:lnTo>
                        <a:lnTo>
                          <a:pt x="542" y="544"/>
                        </a:lnTo>
                        <a:lnTo>
                          <a:pt x="583" y="545"/>
                        </a:lnTo>
                        <a:lnTo>
                          <a:pt x="602" y="574"/>
                        </a:lnTo>
                        <a:lnTo>
                          <a:pt x="627" y="605"/>
                        </a:lnTo>
                        <a:lnTo>
                          <a:pt x="662" y="630"/>
                        </a:lnTo>
                        <a:lnTo>
                          <a:pt x="705" y="655"/>
                        </a:lnTo>
                        <a:lnTo>
                          <a:pt x="724" y="672"/>
                        </a:lnTo>
                        <a:lnTo>
                          <a:pt x="734" y="699"/>
                        </a:lnTo>
                        <a:lnTo>
                          <a:pt x="727" y="719"/>
                        </a:lnTo>
                        <a:lnTo>
                          <a:pt x="725" y="739"/>
                        </a:lnTo>
                        <a:lnTo>
                          <a:pt x="732" y="754"/>
                        </a:lnTo>
                        <a:lnTo>
                          <a:pt x="744" y="772"/>
                        </a:lnTo>
                        <a:lnTo>
                          <a:pt x="747" y="807"/>
                        </a:lnTo>
                        <a:lnTo>
                          <a:pt x="744" y="849"/>
                        </a:lnTo>
                        <a:lnTo>
                          <a:pt x="734" y="894"/>
                        </a:lnTo>
                        <a:lnTo>
                          <a:pt x="776" y="882"/>
                        </a:lnTo>
                        <a:lnTo>
                          <a:pt x="834" y="864"/>
                        </a:lnTo>
                        <a:lnTo>
                          <a:pt x="902" y="840"/>
                        </a:lnTo>
                        <a:lnTo>
                          <a:pt x="963" y="810"/>
                        </a:lnTo>
                        <a:lnTo>
                          <a:pt x="1006" y="782"/>
                        </a:lnTo>
                        <a:lnTo>
                          <a:pt x="1043" y="752"/>
                        </a:lnTo>
                        <a:lnTo>
                          <a:pt x="1076" y="744"/>
                        </a:lnTo>
                        <a:lnTo>
                          <a:pt x="1111" y="727"/>
                        </a:lnTo>
                        <a:lnTo>
                          <a:pt x="1140" y="704"/>
                        </a:lnTo>
                        <a:lnTo>
                          <a:pt x="1161" y="672"/>
                        </a:lnTo>
                        <a:lnTo>
                          <a:pt x="1178" y="642"/>
                        </a:lnTo>
                        <a:lnTo>
                          <a:pt x="1193" y="602"/>
                        </a:lnTo>
                        <a:lnTo>
                          <a:pt x="1198" y="565"/>
                        </a:lnTo>
                        <a:lnTo>
                          <a:pt x="1193" y="535"/>
                        </a:lnTo>
                        <a:lnTo>
                          <a:pt x="1215" y="507"/>
                        </a:lnTo>
                        <a:lnTo>
                          <a:pt x="1230" y="470"/>
                        </a:lnTo>
                        <a:lnTo>
                          <a:pt x="1235" y="434"/>
                        </a:lnTo>
                        <a:lnTo>
                          <a:pt x="1228" y="400"/>
                        </a:lnTo>
                        <a:lnTo>
                          <a:pt x="1213" y="364"/>
                        </a:lnTo>
                        <a:lnTo>
                          <a:pt x="1180" y="304"/>
                        </a:lnTo>
                        <a:lnTo>
                          <a:pt x="1135" y="245"/>
                        </a:lnTo>
                        <a:lnTo>
                          <a:pt x="1095" y="194"/>
                        </a:lnTo>
                        <a:lnTo>
                          <a:pt x="1058" y="150"/>
                        </a:lnTo>
                        <a:lnTo>
                          <a:pt x="1026" y="125"/>
                        </a:lnTo>
                        <a:lnTo>
                          <a:pt x="1003" y="112"/>
                        </a:lnTo>
                        <a:lnTo>
                          <a:pt x="971" y="95"/>
                        </a:lnTo>
                        <a:lnTo>
                          <a:pt x="941" y="74"/>
                        </a:lnTo>
                        <a:lnTo>
                          <a:pt x="924" y="39"/>
                        </a:lnTo>
                        <a:lnTo>
                          <a:pt x="901" y="19"/>
                        </a:lnTo>
                        <a:lnTo>
                          <a:pt x="871" y="5"/>
                        </a:lnTo>
                        <a:lnTo>
                          <a:pt x="817" y="0"/>
                        </a:lnTo>
                        <a:lnTo>
                          <a:pt x="772" y="4"/>
                        </a:lnTo>
                        <a:lnTo>
                          <a:pt x="737" y="10"/>
                        </a:lnTo>
                        <a:lnTo>
                          <a:pt x="702" y="17"/>
                        </a:lnTo>
                        <a:lnTo>
                          <a:pt x="660" y="20"/>
                        </a:lnTo>
                        <a:lnTo>
                          <a:pt x="615" y="17"/>
                        </a:lnTo>
                        <a:lnTo>
                          <a:pt x="575" y="10"/>
                        </a:lnTo>
                        <a:lnTo>
                          <a:pt x="533" y="4"/>
                        </a:lnTo>
                        <a:lnTo>
                          <a:pt x="498" y="2"/>
                        </a:lnTo>
                        <a:lnTo>
                          <a:pt x="463" y="9"/>
                        </a:lnTo>
                        <a:lnTo>
                          <a:pt x="430" y="17"/>
                        </a:lnTo>
                        <a:lnTo>
                          <a:pt x="400" y="30"/>
                        </a:lnTo>
                        <a:lnTo>
                          <a:pt x="366" y="39"/>
                        </a:lnTo>
                        <a:lnTo>
                          <a:pt x="333" y="49"/>
                        </a:lnTo>
                        <a:lnTo>
                          <a:pt x="311" y="70"/>
                        </a:lnTo>
                        <a:lnTo>
                          <a:pt x="288" y="99"/>
                        </a:lnTo>
                        <a:lnTo>
                          <a:pt x="261" y="122"/>
                        </a:lnTo>
                        <a:lnTo>
                          <a:pt x="216" y="140"/>
                        </a:lnTo>
                        <a:close/>
                      </a:path>
                    </a:pathLst>
                  </a:custGeom>
                  <a:solidFill>
                    <a:srgbClr val="604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7945560" y="3598560"/>
                    <a:ext cx="46656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8" h="515">
                        <a:moveTo>
                          <a:pt x="0" y="221"/>
                        </a:moveTo>
                        <a:lnTo>
                          <a:pt x="35" y="238"/>
                        </a:lnTo>
                        <a:lnTo>
                          <a:pt x="70" y="253"/>
                        </a:lnTo>
                        <a:lnTo>
                          <a:pt x="102" y="273"/>
                        </a:lnTo>
                        <a:lnTo>
                          <a:pt x="132" y="295"/>
                        </a:lnTo>
                        <a:lnTo>
                          <a:pt x="156" y="315"/>
                        </a:lnTo>
                        <a:lnTo>
                          <a:pt x="171" y="335"/>
                        </a:lnTo>
                        <a:lnTo>
                          <a:pt x="192" y="385"/>
                        </a:lnTo>
                        <a:lnTo>
                          <a:pt x="214" y="471"/>
                        </a:lnTo>
                        <a:lnTo>
                          <a:pt x="229" y="443"/>
                        </a:lnTo>
                        <a:lnTo>
                          <a:pt x="227" y="473"/>
                        </a:lnTo>
                        <a:lnTo>
                          <a:pt x="219" y="515"/>
                        </a:lnTo>
                        <a:lnTo>
                          <a:pt x="244" y="500"/>
                        </a:lnTo>
                        <a:lnTo>
                          <a:pt x="257" y="481"/>
                        </a:lnTo>
                        <a:lnTo>
                          <a:pt x="266" y="456"/>
                        </a:lnTo>
                        <a:lnTo>
                          <a:pt x="269" y="425"/>
                        </a:lnTo>
                        <a:lnTo>
                          <a:pt x="281" y="445"/>
                        </a:lnTo>
                        <a:lnTo>
                          <a:pt x="284" y="468"/>
                        </a:lnTo>
                        <a:lnTo>
                          <a:pt x="279" y="481"/>
                        </a:lnTo>
                        <a:lnTo>
                          <a:pt x="298" y="470"/>
                        </a:lnTo>
                        <a:lnTo>
                          <a:pt x="313" y="453"/>
                        </a:lnTo>
                        <a:lnTo>
                          <a:pt x="343" y="463"/>
                        </a:lnTo>
                        <a:lnTo>
                          <a:pt x="336" y="446"/>
                        </a:lnTo>
                        <a:lnTo>
                          <a:pt x="338" y="428"/>
                        </a:lnTo>
                        <a:lnTo>
                          <a:pt x="343" y="408"/>
                        </a:lnTo>
                        <a:lnTo>
                          <a:pt x="361" y="411"/>
                        </a:lnTo>
                        <a:lnTo>
                          <a:pt x="381" y="425"/>
                        </a:lnTo>
                        <a:lnTo>
                          <a:pt x="369" y="401"/>
                        </a:lnTo>
                        <a:lnTo>
                          <a:pt x="363" y="375"/>
                        </a:lnTo>
                        <a:lnTo>
                          <a:pt x="366" y="345"/>
                        </a:lnTo>
                        <a:lnTo>
                          <a:pt x="389" y="355"/>
                        </a:lnTo>
                        <a:lnTo>
                          <a:pt x="414" y="370"/>
                        </a:lnTo>
                        <a:lnTo>
                          <a:pt x="431" y="390"/>
                        </a:lnTo>
                        <a:lnTo>
                          <a:pt x="426" y="425"/>
                        </a:lnTo>
                        <a:lnTo>
                          <a:pt x="450" y="380"/>
                        </a:lnTo>
                        <a:lnTo>
                          <a:pt x="450" y="350"/>
                        </a:lnTo>
                        <a:lnTo>
                          <a:pt x="455" y="301"/>
                        </a:lnTo>
                        <a:lnTo>
                          <a:pt x="431" y="236"/>
                        </a:lnTo>
                        <a:lnTo>
                          <a:pt x="453" y="251"/>
                        </a:lnTo>
                        <a:lnTo>
                          <a:pt x="475" y="270"/>
                        </a:lnTo>
                        <a:lnTo>
                          <a:pt x="486" y="301"/>
                        </a:lnTo>
                        <a:lnTo>
                          <a:pt x="501" y="293"/>
                        </a:lnTo>
                        <a:lnTo>
                          <a:pt x="510" y="275"/>
                        </a:lnTo>
                        <a:lnTo>
                          <a:pt x="513" y="250"/>
                        </a:lnTo>
                        <a:lnTo>
                          <a:pt x="510" y="231"/>
                        </a:lnTo>
                        <a:lnTo>
                          <a:pt x="501" y="200"/>
                        </a:lnTo>
                        <a:lnTo>
                          <a:pt x="486" y="163"/>
                        </a:lnTo>
                        <a:lnTo>
                          <a:pt x="508" y="170"/>
                        </a:lnTo>
                        <a:lnTo>
                          <a:pt x="525" y="191"/>
                        </a:lnTo>
                        <a:lnTo>
                          <a:pt x="533" y="220"/>
                        </a:lnTo>
                        <a:lnTo>
                          <a:pt x="548" y="246"/>
                        </a:lnTo>
                        <a:lnTo>
                          <a:pt x="566" y="258"/>
                        </a:lnTo>
                        <a:lnTo>
                          <a:pt x="588" y="266"/>
                        </a:lnTo>
                        <a:lnTo>
                          <a:pt x="563" y="216"/>
                        </a:lnTo>
                        <a:lnTo>
                          <a:pt x="535" y="173"/>
                        </a:lnTo>
                        <a:lnTo>
                          <a:pt x="490" y="115"/>
                        </a:lnTo>
                        <a:lnTo>
                          <a:pt x="451" y="66"/>
                        </a:lnTo>
                        <a:lnTo>
                          <a:pt x="408" y="28"/>
                        </a:lnTo>
                        <a:lnTo>
                          <a:pt x="366" y="0"/>
                        </a:lnTo>
                        <a:lnTo>
                          <a:pt x="353" y="25"/>
                        </a:lnTo>
                        <a:lnTo>
                          <a:pt x="331" y="40"/>
                        </a:lnTo>
                        <a:lnTo>
                          <a:pt x="373" y="68"/>
                        </a:lnTo>
                        <a:lnTo>
                          <a:pt x="396" y="95"/>
                        </a:lnTo>
                        <a:lnTo>
                          <a:pt x="419" y="126"/>
                        </a:lnTo>
                        <a:lnTo>
                          <a:pt x="435" y="153"/>
                        </a:lnTo>
                        <a:lnTo>
                          <a:pt x="446" y="183"/>
                        </a:lnTo>
                        <a:lnTo>
                          <a:pt x="455" y="211"/>
                        </a:lnTo>
                        <a:lnTo>
                          <a:pt x="436" y="198"/>
                        </a:lnTo>
                        <a:lnTo>
                          <a:pt x="411" y="188"/>
                        </a:lnTo>
                        <a:lnTo>
                          <a:pt x="401" y="206"/>
                        </a:lnTo>
                        <a:lnTo>
                          <a:pt x="374" y="158"/>
                        </a:lnTo>
                        <a:lnTo>
                          <a:pt x="348" y="120"/>
                        </a:lnTo>
                        <a:lnTo>
                          <a:pt x="306" y="66"/>
                        </a:lnTo>
                        <a:lnTo>
                          <a:pt x="264" y="20"/>
                        </a:lnTo>
                        <a:lnTo>
                          <a:pt x="304" y="85"/>
                        </a:lnTo>
                        <a:lnTo>
                          <a:pt x="326" y="126"/>
                        </a:lnTo>
                        <a:lnTo>
                          <a:pt x="348" y="170"/>
                        </a:lnTo>
                        <a:lnTo>
                          <a:pt x="373" y="223"/>
                        </a:lnTo>
                        <a:lnTo>
                          <a:pt x="401" y="291"/>
                        </a:lnTo>
                        <a:lnTo>
                          <a:pt x="374" y="260"/>
                        </a:lnTo>
                        <a:lnTo>
                          <a:pt x="348" y="241"/>
                        </a:lnTo>
                        <a:lnTo>
                          <a:pt x="354" y="270"/>
                        </a:lnTo>
                        <a:lnTo>
                          <a:pt x="348" y="295"/>
                        </a:lnTo>
                        <a:lnTo>
                          <a:pt x="338" y="310"/>
                        </a:lnTo>
                        <a:lnTo>
                          <a:pt x="326" y="250"/>
                        </a:lnTo>
                        <a:lnTo>
                          <a:pt x="311" y="196"/>
                        </a:lnTo>
                        <a:lnTo>
                          <a:pt x="289" y="148"/>
                        </a:lnTo>
                        <a:lnTo>
                          <a:pt x="262" y="105"/>
                        </a:lnTo>
                        <a:lnTo>
                          <a:pt x="237" y="70"/>
                        </a:lnTo>
                        <a:lnTo>
                          <a:pt x="204" y="33"/>
                        </a:lnTo>
                        <a:lnTo>
                          <a:pt x="157" y="0"/>
                        </a:lnTo>
                        <a:lnTo>
                          <a:pt x="189" y="46"/>
                        </a:lnTo>
                        <a:lnTo>
                          <a:pt x="212" y="78"/>
                        </a:lnTo>
                        <a:lnTo>
                          <a:pt x="236" y="116"/>
                        </a:lnTo>
                        <a:lnTo>
                          <a:pt x="262" y="165"/>
                        </a:lnTo>
                        <a:lnTo>
                          <a:pt x="283" y="215"/>
                        </a:lnTo>
                        <a:lnTo>
                          <a:pt x="298" y="280"/>
                        </a:lnTo>
                        <a:lnTo>
                          <a:pt x="303" y="380"/>
                        </a:lnTo>
                        <a:lnTo>
                          <a:pt x="279" y="310"/>
                        </a:lnTo>
                        <a:lnTo>
                          <a:pt x="252" y="221"/>
                        </a:lnTo>
                        <a:lnTo>
                          <a:pt x="256" y="278"/>
                        </a:lnTo>
                        <a:lnTo>
                          <a:pt x="252" y="331"/>
                        </a:lnTo>
                        <a:lnTo>
                          <a:pt x="246" y="368"/>
                        </a:lnTo>
                        <a:lnTo>
                          <a:pt x="237" y="403"/>
                        </a:lnTo>
                        <a:lnTo>
                          <a:pt x="226" y="363"/>
                        </a:lnTo>
                        <a:lnTo>
                          <a:pt x="214" y="330"/>
                        </a:lnTo>
                        <a:lnTo>
                          <a:pt x="197" y="291"/>
                        </a:lnTo>
                        <a:lnTo>
                          <a:pt x="204" y="270"/>
                        </a:lnTo>
                        <a:lnTo>
                          <a:pt x="209" y="248"/>
                        </a:lnTo>
                        <a:lnTo>
                          <a:pt x="202" y="221"/>
                        </a:lnTo>
                        <a:lnTo>
                          <a:pt x="196" y="248"/>
                        </a:lnTo>
                        <a:lnTo>
                          <a:pt x="191" y="265"/>
                        </a:lnTo>
                        <a:lnTo>
                          <a:pt x="176" y="285"/>
                        </a:lnTo>
                        <a:lnTo>
                          <a:pt x="149" y="266"/>
                        </a:lnTo>
                        <a:lnTo>
                          <a:pt x="122" y="248"/>
                        </a:lnTo>
                        <a:lnTo>
                          <a:pt x="92" y="235"/>
                        </a:lnTo>
                        <a:lnTo>
                          <a:pt x="64" y="226"/>
                        </a:lnTo>
                        <a:lnTo>
                          <a:pt x="30" y="220"/>
                        </a:lnTo>
                        <a:lnTo>
                          <a:pt x="0" y="221"/>
                        </a:lnTo>
                        <a:close/>
                      </a:path>
                    </a:pathLst>
                  </a:custGeom>
                  <a:solidFill>
                    <a:srgbClr val="806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65" name="">
            <a:hlinkClick r:id="rId1"/>
          </p:cNvPr>
          <p:cNvSpPr/>
          <p:nvPr/>
        </p:nvSpPr>
        <p:spPr>
          <a:xfrm>
            <a:off x="0" y="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rot="17216400">
            <a:off x="5697720" y="5807520"/>
            <a:ext cx="2133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pp. 195</a:t>
            </a:r>
            <a:br>
              <a:rPr sz="1600"/>
            </a:b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-1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2" name="Finger2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"/>
          <p:cNvGrpSpPr/>
          <p:nvPr/>
        </p:nvGrpSpPr>
        <p:grpSpPr>
          <a:xfrm>
            <a:off x="4805280" y="1181160"/>
            <a:ext cx="4300560" cy="5640480"/>
            <a:chOff x="4805280" y="1181160"/>
            <a:chExt cx="4300560" cy="5640480"/>
          </a:xfrm>
        </p:grpSpPr>
        <p:sp>
          <p:nvSpPr>
            <p:cNvPr id="1868" name=""/>
            <p:cNvSpPr/>
            <p:nvPr/>
          </p:nvSpPr>
          <p:spPr>
            <a:xfrm>
              <a:off x="5805360" y="6342120"/>
              <a:ext cx="2262240" cy="245880"/>
            </a:xfrm>
            <a:custGeom>
              <a:avLst/>
              <a:gdLst/>
              <a:ahLst/>
              <a:rect l="l" t="t" r="r" b="b"/>
              <a:pathLst>
                <a:path w="1425" h="155">
                  <a:moveTo>
                    <a:pt x="10" y="0"/>
                  </a:moveTo>
                  <a:lnTo>
                    <a:pt x="0" y="155"/>
                  </a:lnTo>
                  <a:lnTo>
                    <a:pt x="1419" y="155"/>
                  </a:lnTo>
                  <a:lnTo>
                    <a:pt x="1425" y="2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4805280" y="3027240"/>
              <a:ext cx="3730680" cy="3478320"/>
              <a:chOff x="4805280" y="3027240"/>
              <a:chExt cx="3730680" cy="3478320"/>
            </a:xfrm>
          </p:grpSpPr>
          <p:sp>
            <p:nvSpPr>
              <p:cNvPr id="1870" name=""/>
              <p:cNvSpPr/>
              <p:nvPr/>
            </p:nvSpPr>
            <p:spPr>
              <a:xfrm>
                <a:off x="4805280" y="3027240"/>
                <a:ext cx="3730680" cy="3478320"/>
              </a:xfrm>
              <a:custGeom>
                <a:avLst/>
                <a:gdLst/>
                <a:ahLst/>
                <a:rect l="l" t="t" r="r" b="b"/>
                <a:pathLst>
                  <a:path w="2350" h="2191">
                    <a:moveTo>
                      <a:pt x="530" y="1456"/>
                    </a:moveTo>
                    <a:lnTo>
                      <a:pt x="476" y="1482"/>
                    </a:lnTo>
                    <a:lnTo>
                      <a:pt x="18" y="1329"/>
                    </a:lnTo>
                    <a:lnTo>
                      <a:pt x="0" y="1231"/>
                    </a:lnTo>
                    <a:lnTo>
                      <a:pt x="72" y="1132"/>
                    </a:lnTo>
                    <a:lnTo>
                      <a:pt x="171" y="961"/>
                    </a:lnTo>
                    <a:lnTo>
                      <a:pt x="404" y="539"/>
                    </a:lnTo>
                    <a:lnTo>
                      <a:pt x="448" y="341"/>
                    </a:lnTo>
                    <a:lnTo>
                      <a:pt x="521" y="302"/>
                    </a:lnTo>
                    <a:lnTo>
                      <a:pt x="638" y="267"/>
                    </a:lnTo>
                    <a:lnTo>
                      <a:pt x="781" y="231"/>
                    </a:lnTo>
                    <a:lnTo>
                      <a:pt x="915" y="144"/>
                    </a:lnTo>
                    <a:lnTo>
                      <a:pt x="1131" y="99"/>
                    </a:lnTo>
                    <a:lnTo>
                      <a:pt x="1220" y="0"/>
                    </a:lnTo>
                    <a:lnTo>
                      <a:pt x="1660" y="9"/>
                    </a:lnTo>
                    <a:lnTo>
                      <a:pt x="1723" y="81"/>
                    </a:lnTo>
                    <a:lnTo>
                      <a:pt x="1775" y="125"/>
                    </a:lnTo>
                    <a:lnTo>
                      <a:pt x="1812" y="116"/>
                    </a:lnTo>
                    <a:lnTo>
                      <a:pt x="1866" y="144"/>
                    </a:lnTo>
                    <a:lnTo>
                      <a:pt x="1920" y="116"/>
                    </a:lnTo>
                    <a:lnTo>
                      <a:pt x="2045" y="116"/>
                    </a:lnTo>
                    <a:lnTo>
                      <a:pt x="2125" y="144"/>
                    </a:lnTo>
                    <a:lnTo>
                      <a:pt x="2260" y="233"/>
                    </a:lnTo>
                    <a:lnTo>
                      <a:pt x="2314" y="315"/>
                    </a:lnTo>
                    <a:lnTo>
                      <a:pt x="2314" y="395"/>
                    </a:lnTo>
                    <a:lnTo>
                      <a:pt x="2314" y="440"/>
                    </a:lnTo>
                    <a:lnTo>
                      <a:pt x="2332" y="512"/>
                    </a:lnTo>
                    <a:lnTo>
                      <a:pt x="2350" y="620"/>
                    </a:lnTo>
                    <a:lnTo>
                      <a:pt x="2332" y="736"/>
                    </a:lnTo>
                    <a:lnTo>
                      <a:pt x="2332" y="773"/>
                    </a:lnTo>
                    <a:lnTo>
                      <a:pt x="2242" y="782"/>
                    </a:lnTo>
                    <a:lnTo>
                      <a:pt x="2224" y="871"/>
                    </a:lnTo>
                    <a:lnTo>
                      <a:pt x="2179" y="997"/>
                    </a:lnTo>
                    <a:lnTo>
                      <a:pt x="2170" y="1240"/>
                    </a:lnTo>
                    <a:lnTo>
                      <a:pt x="2188" y="1482"/>
                    </a:lnTo>
                    <a:lnTo>
                      <a:pt x="2162" y="1689"/>
                    </a:lnTo>
                    <a:lnTo>
                      <a:pt x="2099" y="1869"/>
                    </a:lnTo>
                    <a:lnTo>
                      <a:pt x="2162" y="2039"/>
                    </a:lnTo>
                    <a:lnTo>
                      <a:pt x="2117" y="2120"/>
                    </a:lnTo>
                    <a:lnTo>
                      <a:pt x="1928" y="2174"/>
                    </a:lnTo>
                    <a:lnTo>
                      <a:pt x="1723" y="2174"/>
                    </a:lnTo>
                    <a:lnTo>
                      <a:pt x="1444" y="2191"/>
                    </a:lnTo>
                    <a:lnTo>
                      <a:pt x="1202" y="2174"/>
                    </a:lnTo>
                    <a:lnTo>
                      <a:pt x="1059" y="2129"/>
                    </a:lnTo>
                    <a:lnTo>
                      <a:pt x="924" y="2129"/>
                    </a:lnTo>
                    <a:lnTo>
                      <a:pt x="861" y="2147"/>
                    </a:lnTo>
                    <a:lnTo>
                      <a:pt x="664" y="2076"/>
                    </a:lnTo>
                    <a:lnTo>
                      <a:pt x="575" y="2093"/>
                    </a:lnTo>
                    <a:lnTo>
                      <a:pt x="512" y="2003"/>
                    </a:lnTo>
                    <a:lnTo>
                      <a:pt x="547" y="1832"/>
                    </a:lnTo>
                    <a:lnTo>
                      <a:pt x="547" y="1797"/>
                    </a:lnTo>
                    <a:lnTo>
                      <a:pt x="619" y="1581"/>
                    </a:lnTo>
                    <a:lnTo>
                      <a:pt x="530" y="1456"/>
                    </a:lnTo>
                    <a:close/>
                  </a:path>
                </a:pathLst>
              </a:custGeom>
              <a:solidFill>
                <a:srgbClr val="00c0c0"/>
              </a:solidFill>
              <a:ln w="14400">
                <a:solidFill>
                  <a:srgbClr val="0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666200" y="4268880"/>
                <a:ext cx="699840" cy="1157040"/>
              </a:xfrm>
              <a:custGeom>
                <a:avLst/>
                <a:gdLst/>
                <a:ahLst/>
                <a:rect l="l" t="t" r="r" b="b"/>
                <a:pathLst>
                  <a:path w="441" h="729">
                    <a:moveTo>
                      <a:pt x="44" y="36"/>
                    </a:moveTo>
                    <a:lnTo>
                      <a:pt x="128" y="89"/>
                    </a:lnTo>
                    <a:lnTo>
                      <a:pt x="178" y="89"/>
                    </a:lnTo>
                    <a:lnTo>
                      <a:pt x="262" y="71"/>
                    </a:lnTo>
                    <a:lnTo>
                      <a:pt x="378" y="0"/>
                    </a:lnTo>
                    <a:lnTo>
                      <a:pt x="441" y="0"/>
                    </a:lnTo>
                    <a:lnTo>
                      <a:pt x="400" y="143"/>
                    </a:lnTo>
                    <a:lnTo>
                      <a:pt x="378" y="210"/>
                    </a:lnTo>
                    <a:lnTo>
                      <a:pt x="378" y="295"/>
                    </a:lnTo>
                    <a:lnTo>
                      <a:pt x="360" y="403"/>
                    </a:lnTo>
                    <a:lnTo>
                      <a:pt x="360" y="469"/>
                    </a:lnTo>
                    <a:lnTo>
                      <a:pt x="378" y="622"/>
                    </a:lnTo>
                    <a:lnTo>
                      <a:pt x="374" y="729"/>
                    </a:lnTo>
                    <a:lnTo>
                      <a:pt x="347" y="639"/>
                    </a:lnTo>
                    <a:lnTo>
                      <a:pt x="325" y="511"/>
                    </a:lnTo>
                    <a:lnTo>
                      <a:pt x="285" y="394"/>
                    </a:lnTo>
                    <a:lnTo>
                      <a:pt x="267" y="290"/>
                    </a:lnTo>
                    <a:lnTo>
                      <a:pt x="258" y="309"/>
                    </a:lnTo>
                    <a:lnTo>
                      <a:pt x="196" y="255"/>
                    </a:lnTo>
                    <a:lnTo>
                      <a:pt x="222" y="335"/>
                    </a:lnTo>
                    <a:lnTo>
                      <a:pt x="218" y="420"/>
                    </a:lnTo>
                    <a:lnTo>
                      <a:pt x="231" y="506"/>
                    </a:lnTo>
                    <a:lnTo>
                      <a:pt x="236" y="644"/>
                    </a:lnTo>
                    <a:lnTo>
                      <a:pt x="213" y="573"/>
                    </a:lnTo>
                    <a:lnTo>
                      <a:pt x="200" y="483"/>
                    </a:lnTo>
                    <a:lnTo>
                      <a:pt x="196" y="448"/>
                    </a:lnTo>
                    <a:lnTo>
                      <a:pt x="173" y="375"/>
                    </a:lnTo>
                    <a:lnTo>
                      <a:pt x="128" y="313"/>
                    </a:lnTo>
                    <a:lnTo>
                      <a:pt x="114" y="353"/>
                    </a:lnTo>
                    <a:lnTo>
                      <a:pt x="89" y="554"/>
                    </a:lnTo>
                    <a:lnTo>
                      <a:pt x="0" y="689"/>
                    </a:lnTo>
                    <a:lnTo>
                      <a:pt x="57" y="523"/>
                    </a:lnTo>
                    <a:lnTo>
                      <a:pt x="85" y="363"/>
                    </a:lnTo>
                    <a:lnTo>
                      <a:pt x="89" y="300"/>
                    </a:lnTo>
                    <a:lnTo>
                      <a:pt x="98" y="210"/>
                    </a:lnTo>
                    <a:lnTo>
                      <a:pt x="98" y="157"/>
                    </a:lnTo>
                    <a:lnTo>
                      <a:pt x="85" y="85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43800" y="4060800"/>
                <a:ext cx="111240" cy="23184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9" y="0"/>
                    </a:moveTo>
                    <a:lnTo>
                      <a:pt x="0" y="67"/>
                    </a:lnTo>
                    <a:lnTo>
                      <a:pt x="9" y="146"/>
                    </a:lnTo>
                    <a:lnTo>
                      <a:pt x="70" y="129"/>
                    </a:lnTo>
                    <a:lnTo>
                      <a:pt x="61" y="7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615080" y="4052880"/>
                <a:ext cx="587520" cy="276120"/>
              </a:xfrm>
              <a:custGeom>
                <a:avLst/>
                <a:gdLst/>
                <a:ahLst/>
                <a:rect l="l" t="t" r="r" b="b"/>
                <a:pathLst>
                  <a:path w="370" h="174">
                    <a:moveTo>
                      <a:pt x="0" y="0"/>
                    </a:moveTo>
                    <a:lnTo>
                      <a:pt x="72" y="130"/>
                    </a:lnTo>
                    <a:lnTo>
                      <a:pt x="129" y="155"/>
                    </a:lnTo>
                    <a:lnTo>
                      <a:pt x="146" y="126"/>
                    </a:lnTo>
                    <a:lnTo>
                      <a:pt x="179" y="151"/>
                    </a:lnTo>
                    <a:lnTo>
                      <a:pt x="236" y="169"/>
                    </a:lnTo>
                    <a:lnTo>
                      <a:pt x="273" y="174"/>
                    </a:lnTo>
                    <a:lnTo>
                      <a:pt x="312" y="165"/>
                    </a:lnTo>
                    <a:lnTo>
                      <a:pt x="370" y="134"/>
                    </a:lnTo>
                    <a:lnTo>
                      <a:pt x="370" y="107"/>
                    </a:lnTo>
                    <a:lnTo>
                      <a:pt x="325" y="126"/>
                    </a:lnTo>
                    <a:lnTo>
                      <a:pt x="191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199360" y="3768840"/>
                <a:ext cx="81000" cy="295200"/>
              </a:xfrm>
              <a:custGeom>
                <a:avLst/>
                <a:gdLst/>
                <a:ahLst/>
                <a:rect l="l" t="t" r="r" b="b"/>
                <a:pathLst>
                  <a:path w="51" h="186">
                    <a:moveTo>
                      <a:pt x="0" y="0"/>
                    </a:moveTo>
                    <a:lnTo>
                      <a:pt x="0" y="70"/>
                    </a:lnTo>
                    <a:lnTo>
                      <a:pt x="16" y="80"/>
                    </a:lnTo>
                    <a:lnTo>
                      <a:pt x="42" y="138"/>
                    </a:lnTo>
                    <a:lnTo>
                      <a:pt x="51" y="186"/>
                    </a:lnTo>
                    <a:lnTo>
                      <a:pt x="51" y="107"/>
                    </a:lnTo>
                    <a:lnTo>
                      <a:pt x="34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013600" y="3490920"/>
                <a:ext cx="395280" cy="487440"/>
              </a:xfrm>
              <a:custGeom>
                <a:avLst/>
                <a:gdLst/>
                <a:ahLst/>
                <a:rect l="l" t="t" r="r" b="b"/>
                <a:pathLst>
                  <a:path w="249" h="307">
                    <a:moveTo>
                      <a:pt x="0" y="0"/>
                    </a:moveTo>
                    <a:lnTo>
                      <a:pt x="58" y="35"/>
                    </a:lnTo>
                    <a:lnTo>
                      <a:pt x="75" y="97"/>
                    </a:lnTo>
                    <a:lnTo>
                      <a:pt x="84" y="84"/>
                    </a:lnTo>
                    <a:lnTo>
                      <a:pt x="125" y="133"/>
                    </a:lnTo>
                    <a:lnTo>
                      <a:pt x="151" y="201"/>
                    </a:lnTo>
                    <a:lnTo>
                      <a:pt x="174" y="235"/>
                    </a:lnTo>
                    <a:lnTo>
                      <a:pt x="213" y="235"/>
                    </a:lnTo>
                    <a:lnTo>
                      <a:pt x="222" y="272"/>
                    </a:lnTo>
                    <a:lnTo>
                      <a:pt x="218" y="307"/>
                    </a:lnTo>
                    <a:lnTo>
                      <a:pt x="249" y="214"/>
                    </a:lnTo>
                    <a:lnTo>
                      <a:pt x="244" y="170"/>
                    </a:lnTo>
                    <a:lnTo>
                      <a:pt x="204" y="120"/>
                    </a:lnTo>
                    <a:lnTo>
                      <a:pt x="165" y="79"/>
                    </a:lnTo>
                    <a:lnTo>
                      <a:pt x="10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07400" y="3370320"/>
                <a:ext cx="557280" cy="438120"/>
              </a:xfrm>
              <a:custGeom>
                <a:avLst/>
                <a:gdLst/>
                <a:ahLst/>
                <a:rect l="l" t="t" r="r" b="b"/>
                <a:pathLst>
                  <a:path w="351" h="276">
                    <a:moveTo>
                      <a:pt x="0" y="0"/>
                    </a:moveTo>
                    <a:lnTo>
                      <a:pt x="4" y="26"/>
                    </a:lnTo>
                    <a:lnTo>
                      <a:pt x="62" y="45"/>
                    </a:lnTo>
                    <a:lnTo>
                      <a:pt x="93" y="45"/>
                    </a:lnTo>
                    <a:lnTo>
                      <a:pt x="133" y="62"/>
                    </a:lnTo>
                    <a:lnTo>
                      <a:pt x="187" y="106"/>
                    </a:lnTo>
                    <a:lnTo>
                      <a:pt x="232" y="124"/>
                    </a:lnTo>
                    <a:lnTo>
                      <a:pt x="289" y="173"/>
                    </a:lnTo>
                    <a:lnTo>
                      <a:pt x="316" y="212"/>
                    </a:lnTo>
                    <a:lnTo>
                      <a:pt x="334" y="276"/>
                    </a:lnTo>
                    <a:lnTo>
                      <a:pt x="351" y="217"/>
                    </a:lnTo>
                    <a:lnTo>
                      <a:pt x="334" y="169"/>
                    </a:lnTo>
                    <a:lnTo>
                      <a:pt x="297" y="119"/>
                    </a:lnTo>
                    <a:lnTo>
                      <a:pt x="241" y="75"/>
                    </a:lnTo>
                    <a:lnTo>
                      <a:pt x="164" y="31"/>
                    </a:lnTo>
                    <a:lnTo>
                      <a:pt x="124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077320" y="3325680"/>
                <a:ext cx="368280" cy="246240"/>
              </a:xfrm>
              <a:custGeom>
                <a:avLst/>
                <a:gdLst/>
                <a:ahLst/>
                <a:rect l="l" t="t" r="r" b="b"/>
                <a:pathLst>
                  <a:path w="232" h="155">
                    <a:moveTo>
                      <a:pt x="0" y="0"/>
                    </a:moveTo>
                    <a:lnTo>
                      <a:pt x="45" y="5"/>
                    </a:lnTo>
                    <a:lnTo>
                      <a:pt x="89" y="23"/>
                    </a:lnTo>
                    <a:lnTo>
                      <a:pt x="147" y="58"/>
                    </a:lnTo>
                    <a:lnTo>
                      <a:pt x="160" y="67"/>
                    </a:lnTo>
                    <a:lnTo>
                      <a:pt x="195" y="107"/>
                    </a:lnTo>
                    <a:lnTo>
                      <a:pt x="232" y="155"/>
                    </a:lnTo>
                    <a:lnTo>
                      <a:pt x="213" y="89"/>
                    </a:lnTo>
                    <a:lnTo>
                      <a:pt x="178" y="58"/>
                    </a:lnTo>
                    <a:lnTo>
                      <a:pt x="139" y="28"/>
                    </a:lnTo>
                    <a:lnTo>
                      <a:pt x="89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857840" y="4881600"/>
                <a:ext cx="110880" cy="210960"/>
              </a:xfrm>
              <a:custGeom>
                <a:avLst/>
                <a:gdLst/>
                <a:ahLst/>
                <a:rect l="l" t="t" r="r" b="b"/>
                <a:pathLst>
                  <a:path w="70" h="133">
                    <a:moveTo>
                      <a:pt x="70" y="0"/>
                    </a:moveTo>
                    <a:lnTo>
                      <a:pt x="9" y="27"/>
                    </a:lnTo>
                    <a:lnTo>
                      <a:pt x="0" y="43"/>
                    </a:lnTo>
                    <a:lnTo>
                      <a:pt x="0" y="88"/>
                    </a:lnTo>
                    <a:lnTo>
                      <a:pt x="0" y="13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484960" y="4746600"/>
                <a:ext cx="323640" cy="801720"/>
              </a:xfrm>
              <a:custGeom>
                <a:avLst/>
                <a:gdLst/>
                <a:ahLst/>
                <a:rect l="l" t="t" r="r" b="b"/>
                <a:pathLst>
                  <a:path w="204" h="505">
                    <a:moveTo>
                      <a:pt x="66" y="0"/>
                    </a:moveTo>
                    <a:lnTo>
                      <a:pt x="62" y="63"/>
                    </a:lnTo>
                    <a:lnTo>
                      <a:pt x="31" y="71"/>
                    </a:lnTo>
                    <a:lnTo>
                      <a:pt x="4" y="44"/>
                    </a:lnTo>
                    <a:lnTo>
                      <a:pt x="0" y="98"/>
                    </a:lnTo>
                    <a:lnTo>
                      <a:pt x="40" y="156"/>
                    </a:lnTo>
                    <a:lnTo>
                      <a:pt x="45" y="205"/>
                    </a:lnTo>
                    <a:lnTo>
                      <a:pt x="4" y="168"/>
                    </a:lnTo>
                    <a:lnTo>
                      <a:pt x="31" y="254"/>
                    </a:lnTo>
                    <a:lnTo>
                      <a:pt x="57" y="344"/>
                    </a:lnTo>
                    <a:lnTo>
                      <a:pt x="57" y="392"/>
                    </a:lnTo>
                    <a:lnTo>
                      <a:pt x="120" y="376"/>
                    </a:lnTo>
                    <a:lnTo>
                      <a:pt x="195" y="505"/>
                    </a:lnTo>
                    <a:lnTo>
                      <a:pt x="186" y="451"/>
                    </a:lnTo>
                    <a:lnTo>
                      <a:pt x="195" y="376"/>
                    </a:lnTo>
                    <a:lnTo>
                      <a:pt x="204" y="326"/>
                    </a:lnTo>
                    <a:lnTo>
                      <a:pt x="159" y="322"/>
                    </a:lnTo>
                    <a:lnTo>
                      <a:pt x="142" y="295"/>
                    </a:lnTo>
                    <a:lnTo>
                      <a:pt x="181" y="16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697360" y="5551560"/>
                <a:ext cx="331920" cy="566640"/>
              </a:xfrm>
              <a:custGeom>
                <a:avLst/>
                <a:gdLst/>
                <a:ahLst/>
                <a:rect l="l" t="t" r="r" b="b"/>
                <a:pathLst>
                  <a:path w="209" h="357">
                    <a:moveTo>
                      <a:pt x="67" y="0"/>
                    </a:moveTo>
                    <a:lnTo>
                      <a:pt x="89" y="49"/>
                    </a:lnTo>
                    <a:lnTo>
                      <a:pt x="62" y="133"/>
                    </a:lnTo>
                    <a:lnTo>
                      <a:pt x="93" y="255"/>
                    </a:lnTo>
                    <a:lnTo>
                      <a:pt x="209" y="357"/>
                    </a:lnTo>
                    <a:lnTo>
                      <a:pt x="80" y="224"/>
                    </a:lnTo>
                    <a:lnTo>
                      <a:pt x="49" y="174"/>
                    </a:lnTo>
                    <a:lnTo>
                      <a:pt x="0" y="17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6421320" y="1181160"/>
              <a:ext cx="1374840" cy="2019240"/>
              <a:chOff x="6421320" y="1181160"/>
              <a:chExt cx="1374840" cy="2019240"/>
            </a:xfrm>
          </p:grpSpPr>
          <p:sp>
            <p:nvSpPr>
              <p:cNvPr id="1882" name=""/>
              <p:cNvSpPr/>
              <p:nvPr/>
            </p:nvSpPr>
            <p:spPr>
              <a:xfrm>
                <a:off x="6421320" y="1181160"/>
                <a:ext cx="1373400" cy="1039680"/>
              </a:xfrm>
              <a:custGeom>
                <a:avLst/>
                <a:gdLst/>
                <a:ahLst/>
                <a:rect l="l" t="t" r="r" b="b"/>
                <a:pathLst>
                  <a:path w="865" h="655">
                    <a:moveTo>
                      <a:pt x="75" y="589"/>
                    </a:moveTo>
                    <a:lnTo>
                      <a:pt x="35" y="570"/>
                    </a:lnTo>
                    <a:lnTo>
                      <a:pt x="10" y="543"/>
                    </a:lnTo>
                    <a:lnTo>
                      <a:pt x="0" y="509"/>
                    </a:lnTo>
                    <a:lnTo>
                      <a:pt x="3" y="480"/>
                    </a:lnTo>
                    <a:lnTo>
                      <a:pt x="26" y="457"/>
                    </a:lnTo>
                    <a:lnTo>
                      <a:pt x="31" y="392"/>
                    </a:lnTo>
                    <a:lnTo>
                      <a:pt x="75" y="343"/>
                    </a:lnTo>
                    <a:lnTo>
                      <a:pt x="85" y="278"/>
                    </a:lnTo>
                    <a:lnTo>
                      <a:pt x="104" y="220"/>
                    </a:lnTo>
                    <a:lnTo>
                      <a:pt x="144" y="157"/>
                    </a:lnTo>
                    <a:lnTo>
                      <a:pt x="179" y="108"/>
                    </a:lnTo>
                    <a:lnTo>
                      <a:pt x="209" y="72"/>
                    </a:lnTo>
                    <a:lnTo>
                      <a:pt x="233" y="49"/>
                    </a:lnTo>
                    <a:lnTo>
                      <a:pt x="287" y="33"/>
                    </a:lnTo>
                    <a:lnTo>
                      <a:pt x="363" y="10"/>
                    </a:lnTo>
                    <a:lnTo>
                      <a:pt x="411" y="0"/>
                    </a:lnTo>
                    <a:lnTo>
                      <a:pt x="440" y="4"/>
                    </a:lnTo>
                    <a:lnTo>
                      <a:pt x="489" y="9"/>
                    </a:lnTo>
                    <a:lnTo>
                      <a:pt x="528" y="10"/>
                    </a:lnTo>
                    <a:lnTo>
                      <a:pt x="582" y="27"/>
                    </a:lnTo>
                    <a:lnTo>
                      <a:pt x="622" y="37"/>
                    </a:lnTo>
                    <a:lnTo>
                      <a:pt x="667" y="67"/>
                    </a:lnTo>
                    <a:lnTo>
                      <a:pt x="716" y="118"/>
                    </a:lnTo>
                    <a:lnTo>
                      <a:pt x="761" y="180"/>
                    </a:lnTo>
                    <a:lnTo>
                      <a:pt x="796" y="230"/>
                    </a:lnTo>
                    <a:lnTo>
                      <a:pt x="820" y="302"/>
                    </a:lnTo>
                    <a:lnTo>
                      <a:pt x="833" y="374"/>
                    </a:lnTo>
                    <a:lnTo>
                      <a:pt x="853" y="436"/>
                    </a:lnTo>
                    <a:lnTo>
                      <a:pt x="865" y="481"/>
                    </a:lnTo>
                    <a:lnTo>
                      <a:pt x="865" y="534"/>
                    </a:lnTo>
                    <a:lnTo>
                      <a:pt x="865" y="584"/>
                    </a:lnTo>
                    <a:lnTo>
                      <a:pt x="861" y="603"/>
                    </a:lnTo>
                    <a:lnTo>
                      <a:pt x="848" y="624"/>
                    </a:lnTo>
                    <a:lnTo>
                      <a:pt x="789" y="655"/>
                    </a:lnTo>
                    <a:lnTo>
                      <a:pt x="75" y="589"/>
                    </a:lnTo>
                    <a:close/>
                  </a:path>
                </a:pathLst>
              </a:custGeom>
              <a:solidFill>
                <a:srgbClr val="0000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462720" y="1965240"/>
                <a:ext cx="1246320" cy="1147680"/>
              </a:xfrm>
              <a:custGeom>
                <a:avLst/>
                <a:gdLst/>
                <a:ahLst/>
                <a:rect l="l" t="t" r="r" b="b"/>
                <a:pathLst>
                  <a:path w="785" h="723">
                    <a:moveTo>
                      <a:pt x="50" y="238"/>
                    </a:moveTo>
                    <a:lnTo>
                      <a:pt x="46" y="284"/>
                    </a:lnTo>
                    <a:lnTo>
                      <a:pt x="49" y="341"/>
                    </a:lnTo>
                    <a:lnTo>
                      <a:pt x="55" y="365"/>
                    </a:lnTo>
                    <a:lnTo>
                      <a:pt x="63" y="391"/>
                    </a:lnTo>
                    <a:lnTo>
                      <a:pt x="75" y="404"/>
                    </a:lnTo>
                    <a:lnTo>
                      <a:pt x="89" y="433"/>
                    </a:lnTo>
                    <a:lnTo>
                      <a:pt x="89" y="475"/>
                    </a:lnTo>
                    <a:lnTo>
                      <a:pt x="103" y="518"/>
                    </a:lnTo>
                    <a:lnTo>
                      <a:pt x="109" y="543"/>
                    </a:lnTo>
                    <a:lnTo>
                      <a:pt x="113" y="579"/>
                    </a:lnTo>
                    <a:lnTo>
                      <a:pt x="121" y="630"/>
                    </a:lnTo>
                    <a:lnTo>
                      <a:pt x="138" y="665"/>
                    </a:lnTo>
                    <a:lnTo>
                      <a:pt x="198" y="715"/>
                    </a:lnTo>
                    <a:lnTo>
                      <a:pt x="273" y="723"/>
                    </a:lnTo>
                    <a:lnTo>
                      <a:pt x="364" y="705"/>
                    </a:lnTo>
                    <a:lnTo>
                      <a:pt x="489" y="686"/>
                    </a:lnTo>
                    <a:lnTo>
                      <a:pt x="556" y="660"/>
                    </a:lnTo>
                    <a:lnTo>
                      <a:pt x="596" y="616"/>
                    </a:lnTo>
                    <a:lnTo>
                      <a:pt x="620" y="572"/>
                    </a:lnTo>
                    <a:lnTo>
                      <a:pt x="632" y="531"/>
                    </a:lnTo>
                    <a:lnTo>
                      <a:pt x="704" y="482"/>
                    </a:lnTo>
                    <a:lnTo>
                      <a:pt x="768" y="346"/>
                    </a:lnTo>
                    <a:lnTo>
                      <a:pt x="777" y="307"/>
                    </a:lnTo>
                    <a:lnTo>
                      <a:pt x="766" y="243"/>
                    </a:lnTo>
                    <a:lnTo>
                      <a:pt x="781" y="233"/>
                    </a:lnTo>
                    <a:lnTo>
                      <a:pt x="785" y="212"/>
                    </a:lnTo>
                    <a:lnTo>
                      <a:pt x="762" y="185"/>
                    </a:lnTo>
                    <a:lnTo>
                      <a:pt x="758" y="105"/>
                    </a:lnTo>
                    <a:lnTo>
                      <a:pt x="744" y="71"/>
                    </a:lnTo>
                    <a:lnTo>
                      <a:pt x="685" y="32"/>
                    </a:lnTo>
                    <a:lnTo>
                      <a:pt x="620" y="13"/>
                    </a:lnTo>
                    <a:lnTo>
                      <a:pt x="470" y="1"/>
                    </a:lnTo>
                    <a:lnTo>
                      <a:pt x="319" y="0"/>
                    </a:lnTo>
                    <a:lnTo>
                      <a:pt x="161" y="0"/>
                    </a:lnTo>
                    <a:lnTo>
                      <a:pt x="72" y="0"/>
                    </a:lnTo>
                    <a:lnTo>
                      <a:pt x="10" y="1"/>
                    </a:lnTo>
                    <a:lnTo>
                      <a:pt x="0" y="23"/>
                    </a:lnTo>
                    <a:lnTo>
                      <a:pt x="0" y="49"/>
                    </a:lnTo>
                    <a:lnTo>
                      <a:pt x="54" y="94"/>
                    </a:lnTo>
                    <a:lnTo>
                      <a:pt x="38" y="179"/>
                    </a:lnTo>
                    <a:lnTo>
                      <a:pt x="54" y="179"/>
                    </a:lnTo>
                    <a:lnTo>
                      <a:pt x="55" y="197"/>
                    </a:lnTo>
                    <a:lnTo>
                      <a:pt x="50" y="238"/>
                    </a:lnTo>
                    <a:close/>
                  </a:path>
                </a:pathLst>
              </a:custGeom>
              <a:solidFill>
                <a:srgbClr val="ffc080"/>
              </a:solidFill>
              <a:ln w="144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62720" y="1965240"/>
                <a:ext cx="1243080" cy="1122480"/>
              </a:xfrm>
              <a:custGeom>
                <a:avLst/>
                <a:gdLst/>
                <a:ahLst/>
                <a:rect l="l" t="t" r="r" b="b"/>
                <a:pathLst>
                  <a:path w="783" h="707">
                    <a:moveTo>
                      <a:pt x="58" y="94"/>
                    </a:moveTo>
                    <a:lnTo>
                      <a:pt x="4" y="49"/>
                    </a:lnTo>
                    <a:lnTo>
                      <a:pt x="0" y="26"/>
                    </a:lnTo>
                    <a:lnTo>
                      <a:pt x="13" y="6"/>
                    </a:lnTo>
                    <a:lnTo>
                      <a:pt x="161" y="0"/>
                    </a:lnTo>
                    <a:lnTo>
                      <a:pt x="370" y="1"/>
                    </a:lnTo>
                    <a:lnTo>
                      <a:pt x="551" y="6"/>
                    </a:lnTo>
                    <a:lnTo>
                      <a:pt x="629" y="15"/>
                    </a:lnTo>
                    <a:lnTo>
                      <a:pt x="694" y="41"/>
                    </a:lnTo>
                    <a:lnTo>
                      <a:pt x="738" y="74"/>
                    </a:lnTo>
                    <a:lnTo>
                      <a:pt x="752" y="95"/>
                    </a:lnTo>
                    <a:lnTo>
                      <a:pt x="760" y="154"/>
                    </a:lnTo>
                    <a:lnTo>
                      <a:pt x="760" y="183"/>
                    </a:lnTo>
                    <a:lnTo>
                      <a:pt x="783" y="211"/>
                    </a:lnTo>
                    <a:lnTo>
                      <a:pt x="778" y="232"/>
                    </a:lnTo>
                    <a:lnTo>
                      <a:pt x="763" y="238"/>
                    </a:lnTo>
                    <a:lnTo>
                      <a:pt x="775" y="305"/>
                    </a:lnTo>
                    <a:lnTo>
                      <a:pt x="768" y="335"/>
                    </a:lnTo>
                    <a:lnTo>
                      <a:pt x="723" y="429"/>
                    </a:lnTo>
                    <a:lnTo>
                      <a:pt x="692" y="488"/>
                    </a:lnTo>
                    <a:lnTo>
                      <a:pt x="638" y="523"/>
                    </a:lnTo>
                    <a:lnTo>
                      <a:pt x="629" y="531"/>
                    </a:lnTo>
                    <a:lnTo>
                      <a:pt x="608" y="591"/>
                    </a:lnTo>
                    <a:lnTo>
                      <a:pt x="559" y="654"/>
                    </a:lnTo>
                    <a:lnTo>
                      <a:pt x="447" y="694"/>
                    </a:lnTo>
                    <a:lnTo>
                      <a:pt x="384" y="707"/>
                    </a:lnTo>
                    <a:lnTo>
                      <a:pt x="321" y="694"/>
                    </a:lnTo>
                    <a:lnTo>
                      <a:pt x="345" y="673"/>
                    </a:lnTo>
                    <a:lnTo>
                      <a:pt x="368" y="633"/>
                    </a:lnTo>
                    <a:lnTo>
                      <a:pt x="332" y="600"/>
                    </a:lnTo>
                    <a:lnTo>
                      <a:pt x="308" y="595"/>
                    </a:lnTo>
                    <a:lnTo>
                      <a:pt x="281" y="588"/>
                    </a:lnTo>
                    <a:lnTo>
                      <a:pt x="245" y="585"/>
                    </a:lnTo>
                    <a:lnTo>
                      <a:pt x="255" y="574"/>
                    </a:lnTo>
                    <a:lnTo>
                      <a:pt x="286" y="573"/>
                    </a:lnTo>
                    <a:lnTo>
                      <a:pt x="319" y="568"/>
                    </a:lnTo>
                    <a:lnTo>
                      <a:pt x="313" y="546"/>
                    </a:lnTo>
                    <a:lnTo>
                      <a:pt x="294" y="542"/>
                    </a:lnTo>
                    <a:lnTo>
                      <a:pt x="283" y="536"/>
                    </a:lnTo>
                    <a:lnTo>
                      <a:pt x="296" y="506"/>
                    </a:lnTo>
                    <a:lnTo>
                      <a:pt x="304" y="457"/>
                    </a:lnTo>
                    <a:lnTo>
                      <a:pt x="314" y="457"/>
                    </a:lnTo>
                    <a:lnTo>
                      <a:pt x="317" y="434"/>
                    </a:lnTo>
                    <a:lnTo>
                      <a:pt x="304" y="427"/>
                    </a:lnTo>
                    <a:lnTo>
                      <a:pt x="291" y="425"/>
                    </a:lnTo>
                    <a:lnTo>
                      <a:pt x="278" y="435"/>
                    </a:lnTo>
                    <a:lnTo>
                      <a:pt x="269" y="425"/>
                    </a:lnTo>
                    <a:lnTo>
                      <a:pt x="278" y="390"/>
                    </a:lnTo>
                    <a:lnTo>
                      <a:pt x="294" y="395"/>
                    </a:lnTo>
                    <a:lnTo>
                      <a:pt x="294" y="380"/>
                    </a:lnTo>
                    <a:lnTo>
                      <a:pt x="283" y="364"/>
                    </a:lnTo>
                    <a:lnTo>
                      <a:pt x="313" y="211"/>
                    </a:lnTo>
                    <a:lnTo>
                      <a:pt x="328" y="188"/>
                    </a:lnTo>
                    <a:lnTo>
                      <a:pt x="321" y="177"/>
                    </a:lnTo>
                    <a:lnTo>
                      <a:pt x="348" y="144"/>
                    </a:lnTo>
                    <a:lnTo>
                      <a:pt x="457" y="145"/>
                    </a:lnTo>
                    <a:lnTo>
                      <a:pt x="394" y="111"/>
                    </a:lnTo>
                    <a:lnTo>
                      <a:pt x="403" y="71"/>
                    </a:lnTo>
                    <a:lnTo>
                      <a:pt x="296" y="67"/>
                    </a:lnTo>
                    <a:lnTo>
                      <a:pt x="274" y="85"/>
                    </a:lnTo>
                    <a:lnTo>
                      <a:pt x="263" y="67"/>
                    </a:lnTo>
                    <a:lnTo>
                      <a:pt x="134" y="80"/>
                    </a:lnTo>
                    <a:lnTo>
                      <a:pt x="104" y="64"/>
                    </a:lnTo>
                    <a:lnTo>
                      <a:pt x="99" y="67"/>
                    </a:lnTo>
                    <a:lnTo>
                      <a:pt x="112" y="90"/>
                    </a:lnTo>
                    <a:lnTo>
                      <a:pt x="98" y="154"/>
                    </a:lnTo>
                    <a:lnTo>
                      <a:pt x="82" y="163"/>
                    </a:lnTo>
                    <a:lnTo>
                      <a:pt x="85" y="184"/>
                    </a:lnTo>
                    <a:lnTo>
                      <a:pt x="55" y="238"/>
                    </a:lnTo>
                    <a:lnTo>
                      <a:pt x="59" y="193"/>
                    </a:lnTo>
                    <a:lnTo>
                      <a:pt x="54" y="178"/>
                    </a:lnTo>
                    <a:lnTo>
                      <a:pt x="40" y="175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95960" y="2430360"/>
                <a:ext cx="265320" cy="122400"/>
              </a:xfrm>
              <a:custGeom>
                <a:avLst/>
                <a:gdLst/>
                <a:ahLst/>
                <a:rect l="l" t="t" r="r" b="b"/>
                <a:pathLst>
                  <a:path w="167" h="77">
                    <a:moveTo>
                      <a:pt x="48" y="0"/>
                    </a:moveTo>
                    <a:lnTo>
                      <a:pt x="54" y="31"/>
                    </a:lnTo>
                    <a:lnTo>
                      <a:pt x="0" y="48"/>
                    </a:lnTo>
                    <a:lnTo>
                      <a:pt x="31" y="70"/>
                    </a:lnTo>
                    <a:lnTo>
                      <a:pt x="43" y="61"/>
                    </a:lnTo>
                    <a:lnTo>
                      <a:pt x="67" y="65"/>
                    </a:lnTo>
                    <a:lnTo>
                      <a:pt x="67" y="77"/>
                    </a:lnTo>
                    <a:lnTo>
                      <a:pt x="108" y="77"/>
                    </a:lnTo>
                    <a:lnTo>
                      <a:pt x="102" y="69"/>
                    </a:lnTo>
                    <a:lnTo>
                      <a:pt x="74" y="59"/>
                    </a:lnTo>
                    <a:lnTo>
                      <a:pt x="126" y="39"/>
                    </a:lnTo>
                    <a:lnTo>
                      <a:pt x="108" y="26"/>
                    </a:lnTo>
                    <a:lnTo>
                      <a:pt x="155" y="24"/>
                    </a:lnTo>
                    <a:lnTo>
                      <a:pt x="167" y="8"/>
                    </a:lnTo>
                    <a:lnTo>
                      <a:pt x="150" y="8"/>
                    </a:lnTo>
                    <a:lnTo>
                      <a:pt x="127" y="3"/>
                    </a:lnTo>
                    <a:lnTo>
                      <a:pt x="81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088040" y="2249640"/>
                <a:ext cx="217800" cy="74520"/>
              </a:xfrm>
              <a:custGeom>
                <a:avLst/>
                <a:gdLst/>
                <a:ahLst/>
                <a:rect l="l" t="t" r="r" b="b"/>
                <a:pathLst>
                  <a:path w="137" h="47">
                    <a:moveTo>
                      <a:pt x="5" y="45"/>
                    </a:moveTo>
                    <a:lnTo>
                      <a:pt x="0" y="31"/>
                    </a:lnTo>
                    <a:lnTo>
                      <a:pt x="15" y="6"/>
                    </a:lnTo>
                    <a:lnTo>
                      <a:pt x="59" y="0"/>
                    </a:lnTo>
                    <a:lnTo>
                      <a:pt x="98" y="0"/>
                    </a:lnTo>
                    <a:lnTo>
                      <a:pt x="106" y="9"/>
                    </a:lnTo>
                    <a:lnTo>
                      <a:pt x="132" y="18"/>
                    </a:lnTo>
                    <a:lnTo>
                      <a:pt x="137" y="45"/>
                    </a:lnTo>
                    <a:lnTo>
                      <a:pt x="123" y="40"/>
                    </a:lnTo>
                    <a:lnTo>
                      <a:pt x="94" y="13"/>
                    </a:lnTo>
                    <a:lnTo>
                      <a:pt x="72" y="13"/>
                    </a:lnTo>
                    <a:lnTo>
                      <a:pt x="84" y="32"/>
                    </a:lnTo>
                    <a:lnTo>
                      <a:pt x="72" y="47"/>
                    </a:lnTo>
                    <a:lnTo>
                      <a:pt x="54" y="47"/>
                    </a:lnTo>
                    <a:lnTo>
                      <a:pt x="35" y="43"/>
                    </a:lnTo>
                    <a:lnTo>
                      <a:pt x="37" y="1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10360" y="2265480"/>
                <a:ext cx="166680" cy="88920"/>
              </a:xfrm>
              <a:custGeom>
                <a:avLst/>
                <a:gdLst/>
                <a:ahLst/>
                <a:rect l="l" t="t" r="r" b="b"/>
                <a:pathLst>
                  <a:path w="105" h="56">
                    <a:moveTo>
                      <a:pt x="0" y="38"/>
                    </a:moveTo>
                    <a:lnTo>
                      <a:pt x="19" y="56"/>
                    </a:lnTo>
                    <a:lnTo>
                      <a:pt x="49" y="56"/>
                    </a:lnTo>
                    <a:lnTo>
                      <a:pt x="92" y="46"/>
                    </a:lnTo>
                    <a:lnTo>
                      <a:pt x="105" y="36"/>
                    </a:lnTo>
                    <a:lnTo>
                      <a:pt x="72" y="0"/>
                    </a:lnTo>
                    <a:lnTo>
                      <a:pt x="65" y="5"/>
                    </a:lnTo>
                    <a:lnTo>
                      <a:pt x="68" y="27"/>
                    </a:lnTo>
                    <a:lnTo>
                      <a:pt x="58" y="42"/>
                    </a:lnTo>
                    <a:lnTo>
                      <a:pt x="24" y="34"/>
                    </a:lnTo>
                    <a:lnTo>
                      <a:pt x="24" y="1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554880" y="2178000"/>
                <a:ext cx="303120" cy="919080"/>
              </a:xfrm>
              <a:custGeom>
                <a:avLst/>
                <a:gdLst/>
                <a:ahLst/>
                <a:rect l="l" t="t" r="r" b="b"/>
                <a:pathLst>
                  <a:path w="191" h="579">
                    <a:moveTo>
                      <a:pt x="99" y="0"/>
                    </a:moveTo>
                    <a:lnTo>
                      <a:pt x="59" y="6"/>
                    </a:lnTo>
                    <a:lnTo>
                      <a:pt x="40" y="23"/>
                    </a:lnTo>
                    <a:lnTo>
                      <a:pt x="37" y="34"/>
                    </a:lnTo>
                    <a:lnTo>
                      <a:pt x="37" y="51"/>
                    </a:lnTo>
                    <a:lnTo>
                      <a:pt x="22" y="96"/>
                    </a:lnTo>
                    <a:lnTo>
                      <a:pt x="9" y="132"/>
                    </a:lnTo>
                    <a:lnTo>
                      <a:pt x="9" y="162"/>
                    </a:lnTo>
                    <a:lnTo>
                      <a:pt x="0" y="175"/>
                    </a:lnTo>
                    <a:lnTo>
                      <a:pt x="1" y="185"/>
                    </a:lnTo>
                    <a:lnTo>
                      <a:pt x="15" y="192"/>
                    </a:lnTo>
                    <a:lnTo>
                      <a:pt x="15" y="248"/>
                    </a:lnTo>
                    <a:lnTo>
                      <a:pt x="41" y="288"/>
                    </a:lnTo>
                    <a:lnTo>
                      <a:pt x="36" y="338"/>
                    </a:lnTo>
                    <a:lnTo>
                      <a:pt x="53" y="386"/>
                    </a:lnTo>
                    <a:lnTo>
                      <a:pt x="59" y="426"/>
                    </a:lnTo>
                    <a:lnTo>
                      <a:pt x="63" y="476"/>
                    </a:lnTo>
                    <a:lnTo>
                      <a:pt x="75" y="516"/>
                    </a:lnTo>
                    <a:lnTo>
                      <a:pt x="139" y="574"/>
                    </a:lnTo>
                    <a:lnTo>
                      <a:pt x="191" y="579"/>
                    </a:lnTo>
                    <a:lnTo>
                      <a:pt x="113" y="519"/>
                    </a:lnTo>
                    <a:lnTo>
                      <a:pt x="102" y="476"/>
                    </a:lnTo>
                    <a:lnTo>
                      <a:pt x="93" y="440"/>
                    </a:lnTo>
                    <a:lnTo>
                      <a:pt x="102" y="432"/>
                    </a:lnTo>
                    <a:lnTo>
                      <a:pt x="111" y="414"/>
                    </a:lnTo>
                    <a:lnTo>
                      <a:pt x="93" y="408"/>
                    </a:lnTo>
                    <a:lnTo>
                      <a:pt x="70" y="386"/>
                    </a:lnTo>
                    <a:lnTo>
                      <a:pt x="70" y="363"/>
                    </a:lnTo>
                    <a:lnTo>
                      <a:pt x="75" y="349"/>
                    </a:lnTo>
                    <a:lnTo>
                      <a:pt x="84" y="319"/>
                    </a:lnTo>
                    <a:lnTo>
                      <a:pt x="84" y="306"/>
                    </a:lnTo>
                    <a:lnTo>
                      <a:pt x="72" y="291"/>
                    </a:lnTo>
                    <a:lnTo>
                      <a:pt x="75" y="248"/>
                    </a:lnTo>
                    <a:lnTo>
                      <a:pt x="79" y="210"/>
                    </a:lnTo>
                    <a:lnTo>
                      <a:pt x="102" y="185"/>
                    </a:lnTo>
                    <a:lnTo>
                      <a:pt x="108" y="181"/>
                    </a:lnTo>
                    <a:lnTo>
                      <a:pt x="115" y="153"/>
                    </a:lnTo>
                    <a:lnTo>
                      <a:pt x="115" y="142"/>
                    </a:lnTo>
                    <a:lnTo>
                      <a:pt x="133" y="113"/>
                    </a:lnTo>
                    <a:lnTo>
                      <a:pt x="139" y="90"/>
                    </a:lnTo>
                    <a:lnTo>
                      <a:pt x="115" y="88"/>
                    </a:lnTo>
                    <a:lnTo>
                      <a:pt x="98" y="73"/>
                    </a:lnTo>
                    <a:lnTo>
                      <a:pt x="75" y="55"/>
                    </a:lnTo>
                    <a:lnTo>
                      <a:pt x="70" y="43"/>
                    </a:lnTo>
                    <a:lnTo>
                      <a:pt x="63" y="36"/>
                    </a:lnTo>
                    <a:lnTo>
                      <a:pt x="62" y="2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718320" y="2492280"/>
                <a:ext cx="131760" cy="166680"/>
              </a:xfrm>
              <a:custGeom>
                <a:avLst/>
                <a:gdLst/>
                <a:ahLst/>
                <a:rect l="l" t="t" r="r" b="b"/>
                <a:pathLst>
                  <a:path w="83" h="105">
                    <a:moveTo>
                      <a:pt x="65" y="43"/>
                    </a:moveTo>
                    <a:lnTo>
                      <a:pt x="83" y="43"/>
                    </a:lnTo>
                    <a:lnTo>
                      <a:pt x="83" y="9"/>
                    </a:lnTo>
                    <a:lnTo>
                      <a:pt x="71" y="0"/>
                    </a:lnTo>
                    <a:lnTo>
                      <a:pt x="54" y="26"/>
                    </a:lnTo>
                    <a:lnTo>
                      <a:pt x="23" y="23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48"/>
                    </a:lnTo>
                    <a:lnTo>
                      <a:pt x="15" y="58"/>
                    </a:lnTo>
                    <a:lnTo>
                      <a:pt x="10" y="77"/>
                    </a:lnTo>
                    <a:lnTo>
                      <a:pt x="10" y="105"/>
                    </a:lnTo>
                    <a:lnTo>
                      <a:pt x="15" y="105"/>
                    </a:lnTo>
                    <a:lnTo>
                      <a:pt x="21" y="80"/>
                    </a:lnTo>
                    <a:lnTo>
                      <a:pt x="36" y="76"/>
                    </a:lnTo>
                    <a:lnTo>
                      <a:pt x="36" y="58"/>
                    </a:lnTo>
                    <a:lnTo>
                      <a:pt x="44" y="43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784920" y="2281320"/>
                <a:ext cx="74520" cy="10296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38" y="0"/>
                    </a:moveTo>
                    <a:lnTo>
                      <a:pt x="47" y="28"/>
                    </a:lnTo>
                    <a:lnTo>
                      <a:pt x="17" y="39"/>
                    </a:lnTo>
                    <a:lnTo>
                      <a:pt x="16" y="60"/>
                    </a:lnTo>
                    <a:lnTo>
                      <a:pt x="0" y="65"/>
                    </a:lnTo>
                    <a:lnTo>
                      <a:pt x="8" y="2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711840" y="2138400"/>
                <a:ext cx="146160" cy="6012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0" y="10"/>
                    </a:moveTo>
                    <a:lnTo>
                      <a:pt x="27" y="13"/>
                    </a:lnTo>
                    <a:lnTo>
                      <a:pt x="45" y="24"/>
                    </a:lnTo>
                    <a:lnTo>
                      <a:pt x="35" y="29"/>
                    </a:lnTo>
                    <a:lnTo>
                      <a:pt x="69" y="38"/>
                    </a:lnTo>
                    <a:lnTo>
                      <a:pt x="92" y="15"/>
                    </a:lnTo>
                    <a:lnTo>
                      <a:pt x="69" y="13"/>
                    </a:lnTo>
                    <a:lnTo>
                      <a:pt x="57" y="13"/>
                    </a:lnTo>
                    <a:lnTo>
                      <a:pt x="4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883560" y="225900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12" h="119">
                    <a:moveTo>
                      <a:pt x="4" y="0"/>
                    </a:moveTo>
                    <a:lnTo>
                      <a:pt x="12" y="33"/>
                    </a:lnTo>
                    <a:lnTo>
                      <a:pt x="12" y="89"/>
                    </a:lnTo>
                    <a:lnTo>
                      <a:pt x="0" y="119"/>
                    </a:lnTo>
                    <a:lnTo>
                      <a:pt x="3" y="7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678720" y="2193840"/>
                <a:ext cx="220680" cy="82800"/>
              </a:xfrm>
              <a:custGeom>
                <a:avLst/>
                <a:gdLst/>
                <a:ahLst/>
                <a:rect l="l" t="t" r="r" b="b"/>
                <a:pathLst>
                  <a:path w="139" h="52">
                    <a:moveTo>
                      <a:pt x="25" y="16"/>
                    </a:moveTo>
                    <a:lnTo>
                      <a:pt x="0" y="22"/>
                    </a:lnTo>
                    <a:lnTo>
                      <a:pt x="8" y="9"/>
                    </a:lnTo>
                    <a:lnTo>
                      <a:pt x="48" y="0"/>
                    </a:lnTo>
                    <a:lnTo>
                      <a:pt x="83" y="0"/>
                    </a:lnTo>
                    <a:lnTo>
                      <a:pt x="98" y="9"/>
                    </a:lnTo>
                    <a:lnTo>
                      <a:pt x="122" y="18"/>
                    </a:lnTo>
                    <a:lnTo>
                      <a:pt x="137" y="40"/>
                    </a:lnTo>
                    <a:lnTo>
                      <a:pt x="139" y="48"/>
                    </a:lnTo>
                    <a:lnTo>
                      <a:pt x="127" y="51"/>
                    </a:lnTo>
                    <a:lnTo>
                      <a:pt x="114" y="39"/>
                    </a:lnTo>
                    <a:lnTo>
                      <a:pt x="101" y="18"/>
                    </a:lnTo>
                    <a:lnTo>
                      <a:pt x="79" y="13"/>
                    </a:lnTo>
                    <a:lnTo>
                      <a:pt x="66" y="13"/>
                    </a:lnTo>
                    <a:lnTo>
                      <a:pt x="74" y="22"/>
                    </a:lnTo>
                    <a:lnTo>
                      <a:pt x="66" y="51"/>
                    </a:lnTo>
                    <a:lnTo>
                      <a:pt x="48" y="52"/>
                    </a:lnTo>
                    <a:lnTo>
                      <a:pt x="35" y="47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97520" y="2773440"/>
                <a:ext cx="309600" cy="6516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0" y="19"/>
                    </a:moveTo>
                    <a:lnTo>
                      <a:pt x="24" y="8"/>
                    </a:lnTo>
                    <a:lnTo>
                      <a:pt x="58" y="3"/>
                    </a:lnTo>
                    <a:lnTo>
                      <a:pt x="94" y="0"/>
                    </a:lnTo>
                    <a:lnTo>
                      <a:pt x="150" y="14"/>
                    </a:lnTo>
                    <a:lnTo>
                      <a:pt x="195" y="41"/>
                    </a:lnTo>
                    <a:lnTo>
                      <a:pt x="176" y="33"/>
                    </a:lnTo>
                    <a:lnTo>
                      <a:pt x="142" y="24"/>
                    </a:lnTo>
                    <a:lnTo>
                      <a:pt x="108" y="29"/>
                    </a:lnTo>
                    <a:lnTo>
                      <a:pt x="36" y="28"/>
                    </a:lnTo>
                    <a:lnTo>
                      <a:pt x="24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762600" y="1560600"/>
                <a:ext cx="139680" cy="253800"/>
              </a:xfrm>
              <a:custGeom>
                <a:avLst/>
                <a:gdLst/>
                <a:ahLst/>
                <a:rect l="l" t="t" r="r" b="b"/>
                <a:pathLst>
                  <a:path w="88" h="160">
                    <a:moveTo>
                      <a:pt x="22" y="0"/>
                    </a:moveTo>
                    <a:lnTo>
                      <a:pt x="0" y="60"/>
                    </a:lnTo>
                    <a:lnTo>
                      <a:pt x="14" y="69"/>
                    </a:lnTo>
                    <a:lnTo>
                      <a:pt x="9" y="137"/>
                    </a:lnTo>
                    <a:lnTo>
                      <a:pt x="22" y="160"/>
                    </a:lnTo>
                    <a:lnTo>
                      <a:pt x="69" y="154"/>
                    </a:lnTo>
                    <a:lnTo>
                      <a:pt x="88" y="118"/>
                    </a:lnTo>
                    <a:lnTo>
                      <a:pt x="88" y="4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684840" y="1681200"/>
                <a:ext cx="71640" cy="1602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34" y="0"/>
                    </a:moveTo>
                    <a:lnTo>
                      <a:pt x="45" y="14"/>
                    </a:lnTo>
                    <a:lnTo>
                      <a:pt x="29" y="33"/>
                    </a:lnTo>
                    <a:lnTo>
                      <a:pt x="34" y="65"/>
                    </a:lnTo>
                    <a:lnTo>
                      <a:pt x="25" y="101"/>
                    </a:lnTo>
                    <a:lnTo>
                      <a:pt x="0" y="84"/>
                    </a:lnTo>
                    <a:lnTo>
                      <a:pt x="9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188120" y="1735200"/>
                <a:ext cx="41400" cy="824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0" y="0"/>
                    </a:moveTo>
                    <a:lnTo>
                      <a:pt x="0" y="52"/>
                    </a:lnTo>
                    <a:lnTo>
                      <a:pt x="2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23000" y="1657440"/>
                <a:ext cx="173160" cy="469800"/>
              </a:xfrm>
              <a:custGeom>
                <a:avLst/>
                <a:gdLst/>
                <a:ahLst/>
                <a:rect l="l" t="t" r="r" b="b"/>
                <a:pathLst>
                  <a:path w="109" h="296">
                    <a:moveTo>
                      <a:pt x="52" y="0"/>
                    </a:moveTo>
                    <a:lnTo>
                      <a:pt x="57" y="107"/>
                    </a:lnTo>
                    <a:lnTo>
                      <a:pt x="49" y="91"/>
                    </a:lnTo>
                    <a:lnTo>
                      <a:pt x="36" y="95"/>
                    </a:lnTo>
                    <a:lnTo>
                      <a:pt x="58" y="126"/>
                    </a:lnTo>
                    <a:lnTo>
                      <a:pt x="47" y="206"/>
                    </a:lnTo>
                    <a:lnTo>
                      <a:pt x="0" y="199"/>
                    </a:lnTo>
                    <a:lnTo>
                      <a:pt x="22" y="215"/>
                    </a:lnTo>
                    <a:lnTo>
                      <a:pt x="52" y="223"/>
                    </a:lnTo>
                    <a:lnTo>
                      <a:pt x="76" y="251"/>
                    </a:lnTo>
                    <a:lnTo>
                      <a:pt x="91" y="269"/>
                    </a:lnTo>
                    <a:lnTo>
                      <a:pt x="100" y="296"/>
                    </a:lnTo>
                    <a:lnTo>
                      <a:pt x="109" y="249"/>
                    </a:lnTo>
                    <a:lnTo>
                      <a:pt x="109" y="189"/>
                    </a:lnTo>
                    <a:lnTo>
                      <a:pt x="93" y="136"/>
                    </a:lnTo>
                    <a:lnTo>
                      <a:pt x="76" y="82"/>
                    </a:lnTo>
                    <a:lnTo>
                      <a:pt x="75" y="6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973920" y="2906640"/>
                <a:ext cx="463680" cy="293760"/>
              </a:xfrm>
              <a:custGeom>
                <a:avLst/>
                <a:gdLst/>
                <a:ahLst/>
                <a:rect l="l" t="t" r="r" b="b"/>
                <a:pathLst>
                  <a:path w="292" h="185">
                    <a:moveTo>
                      <a:pt x="292" y="0"/>
                    </a:moveTo>
                    <a:lnTo>
                      <a:pt x="284" y="62"/>
                    </a:lnTo>
                    <a:lnTo>
                      <a:pt x="284" y="113"/>
                    </a:lnTo>
                    <a:lnTo>
                      <a:pt x="274" y="150"/>
                    </a:lnTo>
                    <a:lnTo>
                      <a:pt x="220" y="185"/>
                    </a:lnTo>
                    <a:lnTo>
                      <a:pt x="0" y="118"/>
                    </a:lnTo>
                    <a:lnTo>
                      <a:pt x="211" y="82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804000"/>
              </a:solidFill>
              <a:ln w="144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786720" y="26258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0"/>
                    </a:moveTo>
                    <a:lnTo>
                      <a:pt x="17" y="2"/>
                    </a:lnTo>
                    <a:lnTo>
                      <a:pt x="35" y="8"/>
                    </a:lnTo>
                    <a:lnTo>
                      <a:pt x="47" y="12"/>
                    </a:lnTo>
                    <a:lnTo>
                      <a:pt x="2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437160" y="1930320"/>
                <a:ext cx="1338480" cy="285840"/>
              </a:xfrm>
              <a:custGeom>
                <a:avLst/>
                <a:gdLst/>
                <a:ahLst/>
                <a:rect l="l" t="t" r="r" b="b"/>
                <a:pathLst>
                  <a:path w="843" h="180">
                    <a:moveTo>
                      <a:pt x="40" y="101"/>
                    </a:moveTo>
                    <a:lnTo>
                      <a:pt x="8" y="75"/>
                    </a:lnTo>
                    <a:lnTo>
                      <a:pt x="0" y="42"/>
                    </a:lnTo>
                    <a:lnTo>
                      <a:pt x="6" y="22"/>
                    </a:lnTo>
                    <a:lnTo>
                      <a:pt x="16" y="9"/>
                    </a:lnTo>
                    <a:lnTo>
                      <a:pt x="62" y="0"/>
                    </a:lnTo>
                    <a:lnTo>
                      <a:pt x="137" y="0"/>
                    </a:lnTo>
                    <a:lnTo>
                      <a:pt x="370" y="0"/>
                    </a:lnTo>
                    <a:lnTo>
                      <a:pt x="611" y="5"/>
                    </a:lnTo>
                    <a:lnTo>
                      <a:pt x="688" y="19"/>
                    </a:lnTo>
                    <a:lnTo>
                      <a:pt x="762" y="44"/>
                    </a:lnTo>
                    <a:lnTo>
                      <a:pt x="808" y="78"/>
                    </a:lnTo>
                    <a:lnTo>
                      <a:pt x="833" y="106"/>
                    </a:lnTo>
                    <a:lnTo>
                      <a:pt x="843" y="121"/>
                    </a:lnTo>
                    <a:lnTo>
                      <a:pt x="840" y="132"/>
                    </a:lnTo>
                    <a:lnTo>
                      <a:pt x="827" y="151"/>
                    </a:lnTo>
                    <a:lnTo>
                      <a:pt x="779" y="180"/>
                    </a:lnTo>
                    <a:lnTo>
                      <a:pt x="779" y="149"/>
                    </a:lnTo>
                    <a:lnTo>
                      <a:pt x="771" y="112"/>
                    </a:lnTo>
                    <a:lnTo>
                      <a:pt x="759" y="87"/>
                    </a:lnTo>
                    <a:lnTo>
                      <a:pt x="730" y="71"/>
                    </a:lnTo>
                    <a:lnTo>
                      <a:pt x="695" y="47"/>
                    </a:lnTo>
                    <a:lnTo>
                      <a:pt x="654" y="37"/>
                    </a:lnTo>
                    <a:lnTo>
                      <a:pt x="617" y="30"/>
                    </a:lnTo>
                    <a:lnTo>
                      <a:pt x="458" y="22"/>
                    </a:lnTo>
                    <a:lnTo>
                      <a:pt x="105" y="22"/>
                    </a:lnTo>
                    <a:lnTo>
                      <a:pt x="44" y="22"/>
                    </a:lnTo>
                    <a:lnTo>
                      <a:pt x="21" y="27"/>
                    </a:lnTo>
                    <a:lnTo>
                      <a:pt x="12" y="37"/>
                    </a:lnTo>
                    <a:lnTo>
                      <a:pt x="16" y="53"/>
                    </a:lnTo>
                    <a:lnTo>
                      <a:pt x="40" y="10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469200" y="1881360"/>
                <a:ext cx="141120" cy="44280"/>
              </a:xfrm>
              <a:custGeom>
                <a:avLst/>
                <a:gdLst/>
                <a:ahLst/>
                <a:rect l="l" t="t" r="r" b="b"/>
                <a:pathLst>
                  <a:path w="89" h="28">
                    <a:moveTo>
                      <a:pt x="0" y="15"/>
                    </a:moveTo>
                    <a:lnTo>
                      <a:pt x="35" y="15"/>
                    </a:lnTo>
                    <a:lnTo>
                      <a:pt x="63" y="4"/>
                    </a:lnTo>
                    <a:lnTo>
                      <a:pt x="89" y="0"/>
                    </a:lnTo>
                    <a:lnTo>
                      <a:pt x="45" y="2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556320" y="1928880"/>
                <a:ext cx="257400" cy="25200"/>
              </a:xfrm>
              <a:custGeom>
                <a:avLst/>
                <a:gdLst/>
                <a:ahLst/>
                <a:rect l="l" t="t" r="r" b="b"/>
                <a:pathLst>
                  <a:path w="162" h="16">
                    <a:moveTo>
                      <a:pt x="19" y="1"/>
                    </a:moveTo>
                    <a:lnTo>
                      <a:pt x="0" y="16"/>
                    </a:lnTo>
                    <a:lnTo>
                      <a:pt x="154" y="13"/>
                    </a:lnTo>
                    <a:lnTo>
                      <a:pt x="162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875640" y="2701800"/>
                <a:ext cx="12600" cy="5904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8" y="0"/>
                    </a:moveTo>
                    <a:lnTo>
                      <a:pt x="0" y="15"/>
                    </a:lnTo>
                    <a:lnTo>
                      <a:pt x="7" y="3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5438880" y="2506680"/>
              <a:ext cx="2752560" cy="1771560"/>
              <a:chOff x="5438880" y="2506680"/>
              <a:chExt cx="2752560" cy="1771560"/>
            </a:xfrm>
          </p:grpSpPr>
          <p:sp>
            <p:nvSpPr>
              <p:cNvPr id="1906" name=""/>
              <p:cNvSpPr/>
              <p:nvPr/>
            </p:nvSpPr>
            <p:spPr>
              <a:xfrm>
                <a:off x="5438880" y="2506680"/>
                <a:ext cx="2752560" cy="1771560"/>
              </a:xfrm>
              <a:custGeom>
                <a:avLst/>
                <a:gdLst/>
                <a:ahLst/>
                <a:rect l="l" t="t" r="r" b="b"/>
                <a:pathLst>
                  <a:path w="1734" h="1116">
                    <a:moveTo>
                      <a:pt x="94" y="87"/>
                    </a:moveTo>
                    <a:lnTo>
                      <a:pt x="43" y="77"/>
                    </a:lnTo>
                    <a:lnTo>
                      <a:pt x="7" y="58"/>
                    </a:lnTo>
                    <a:lnTo>
                      <a:pt x="2" y="36"/>
                    </a:lnTo>
                    <a:lnTo>
                      <a:pt x="5" y="15"/>
                    </a:lnTo>
                    <a:lnTo>
                      <a:pt x="15" y="5"/>
                    </a:lnTo>
                    <a:lnTo>
                      <a:pt x="78" y="0"/>
                    </a:lnTo>
                    <a:lnTo>
                      <a:pt x="162" y="0"/>
                    </a:lnTo>
                    <a:lnTo>
                      <a:pt x="197" y="15"/>
                    </a:lnTo>
                    <a:lnTo>
                      <a:pt x="244" y="31"/>
                    </a:lnTo>
                    <a:lnTo>
                      <a:pt x="291" y="46"/>
                    </a:lnTo>
                    <a:lnTo>
                      <a:pt x="352" y="58"/>
                    </a:lnTo>
                    <a:lnTo>
                      <a:pt x="364" y="72"/>
                    </a:lnTo>
                    <a:lnTo>
                      <a:pt x="382" y="77"/>
                    </a:lnTo>
                    <a:lnTo>
                      <a:pt x="410" y="78"/>
                    </a:lnTo>
                    <a:lnTo>
                      <a:pt x="439" y="92"/>
                    </a:lnTo>
                    <a:lnTo>
                      <a:pt x="451" y="108"/>
                    </a:lnTo>
                    <a:lnTo>
                      <a:pt x="502" y="166"/>
                    </a:lnTo>
                    <a:lnTo>
                      <a:pt x="540" y="203"/>
                    </a:lnTo>
                    <a:lnTo>
                      <a:pt x="625" y="256"/>
                    </a:lnTo>
                    <a:lnTo>
                      <a:pt x="715" y="303"/>
                    </a:lnTo>
                    <a:lnTo>
                      <a:pt x="763" y="310"/>
                    </a:lnTo>
                    <a:lnTo>
                      <a:pt x="817" y="316"/>
                    </a:lnTo>
                    <a:lnTo>
                      <a:pt x="872" y="345"/>
                    </a:lnTo>
                    <a:lnTo>
                      <a:pt x="939" y="378"/>
                    </a:lnTo>
                    <a:lnTo>
                      <a:pt x="1030" y="383"/>
                    </a:lnTo>
                    <a:lnTo>
                      <a:pt x="1173" y="419"/>
                    </a:lnTo>
                    <a:lnTo>
                      <a:pt x="1295" y="456"/>
                    </a:lnTo>
                    <a:lnTo>
                      <a:pt x="1429" y="510"/>
                    </a:lnTo>
                    <a:lnTo>
                      <a:pt x="1555" y="604"/>
                    </a:lnTo>
                    <a:lnTo>
                      <a:pt x="1654" y="712"/>
                    </a:lnTo>
                    <a:lnTo>
                      <a:pt x="1689" y="828"/>
                    </a:lnTo>
                    <a:lnTo>
                      <a:pt x="1730" y="958"/>
                    </a:lnTo>
                    <a:lnTo>
                      <a:pt x="1734" y="1043"/>
                    </a:lnTo>
                    <a:lnTo>
                      <a:pt x="1711" y="1116"/>
                    </a:lnTo>
                    <a:lnTo>
                      <a:pt x="1577" y="1053"/>
                    </a:lnTo>
                    <a:lnTo>
                      <a:pt x="1330" y="954"/>
                    </a:lnTo>
                    <a:lnTo>
                      <a:pt x="1111" y="864"/>
                    </a:lnTo>
                    <a:lnTo>
                      <a:pt x="867" y="629"/>
                    </a:lnTo>
                    <a:lnTo>
                      <a:pt x="700" y="531"/>
                    </a:lnTo>
                    <a:lnTo>
                      <a:pt x="580" y="473"/>
                    </a:lnTo>
                    <a:lnTo>
                      <a:pt x="491" y="477"/>
                    </a:lnTo>
                    <a:lnTo>
                      <a:pt x="395" y="444"/>
                    </a:lnTo>
                    <a:lnTo>
                      <a:pt x="341" y="472"/>
                    </a:lnTo>
                    <a:lnTo>
                      <a:pt x="345" y="522"/>
                    </a:lnTo>
                    <a:lnTo>
                      <a:pt x="305" y="554"/>
                    </a:lnTo>
                    <a:lnTo>
                      <a:pt x="280" y="539"/>
                    </a:lnTo>
                    <a:lnTo>
                      <a:pt x="271" y="467"/>
                    </a:lnTo>
                    <a:lnTo>
                      <a:pt x="288" y="427"/>
                    </a:lnTo>
                    <a:lnTo>
                      <a:pt x="260" y="451"/>
                    </a:lnTo>
                    <a:lnTo>
                      <a:pt x="242" y="446"/>
                    </a:lnTo>
                    <a:lnTo>
                      <a:pt x="239" y="433"/>
                    </a:lnTo>
                    <a:lnTo>
                      <a:pt x="239" y="409"/>
                    </a:lnTo>
                    <a:lnTo>
                      <a:pt x="242" y="356"/>
                    </a:lnTo>
                    <a:lnTo>
                      <a:pt x="202" y="364"/>
                    </a:lnTo>
                    <a:lnTo>
                      <a:pt x="177" y="355"/>
                    </a:lnTo>
                    <a:lnTo>
                      <a:pt x="158" y="328"/>
                    </a:lnTo>
                    <a:lnTo>
                      <a:pt x="155" y="310"/>
                    </a:lnTo>
                    <a:lnTo>
                      <a:pt x="171" y="275"/>
                    </a:lnTo>
                    <a:lnTo>
                      <a:pt x="208" y="247"/>
                    </a:lnTo>
                    <a:lnTo>
                      <a:pt x="274" y="208"/>
                    </a:lnTo>
                    <a:lnTo>
                      <a:pt x="274" y="184"/>
                    </a:lnTo>
                    <a:lnTo>
                      <a:pt x="221" y="158"/>
                    </a:lnTo>
                    <a:lnTo>
                      <a:pt x="181" y="157"/>
                    </a:lnTo>
                    <a:lnTo>
                      <a:pt x="127" y="163"/>
                    </a:lnTo>
                    <a:lnTo>
                      <a:pt x="69" y="168"/>
                    </a:lnTo>
                    <a:lnTo>
                      <a:pt x="15" y="163"/>
                    </a:lnTo>
                    <a:lnTo>
                      <a:pt x="0" y="153"/>
                    </a:lnTo>
                    <a:lnTo>
                      <a:pt x="0" y="117"/>
                    </a:lnTo>
                    <a:lnTo>
                      <a:pt x="15" y="95"/>
                    </a:lnTo>
                    <a:lnTo>
                      <a:pt x="32" y="89"/>
                    </a:lnTo>
                    <a:lnTo>
                      <a:pt x="94" y="87"/>
                    </a:lnTo>
                    <a:close/>
                  </a:path>
                </a:pathLst>
              </a:custGeom>
              <a:solidFill>
                <a:srgbClr val="a05000"/>
              </a:solidFill>
              <a:ln w="144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445000" y="2584440"/>
                <a:ext cx="648000" cy="142920"/>
              </a:xfrm>
              <a:custGeom>
                <a:avLst/>
                <a:gdLst/>
                <a:ahLst/>
                <a:rect l="l" t="t" r="r" b="b"/>
                <a:pathLst>
                  <a:path w="408" h="90">
                    <a:moveTo>
                      <a:pt x="5" y="85"/>
                    </a:moveTo>
                    <a:lnTo>
                      <a:pt x="34" y="90"/>
                    </a:lnTo>
                    <a:lnTo>
                      <a:pt x="43" y="68"/>
                    </a:lnTo>
                    <a:lnTo>
                      <a:pt x="79" y="70"/>
                    </a:lnTo>
                    <a:lnTo>
                      <a:pt x="99" y="54"/>
                    </a:lnTo>
                    <a:lnTo>
                      <a:pt x="195" y="45"/>
                    </a:lnTo>
                    <a:lnTo>
                      <a:pt x="248" y="30"/>
                    </a:lnTo>
                    <a:lnTo>
                      <a:pt x="295" y="30"/>
                    </a:lnTo>
                    <a:lnTo>
                      <a:pt x="353" y="39"/>
                    </a:lnTo>
                    <a:lnTo>
                      <a:pt x="384" y="49"/>
                    </a:lnTo>
                    <a:lnTo>
                      <a:pt x="399" y="67"/>
                    </a:lnTo>
                    <a:lnTo>
                      <a:pt x="408" y="45"/>
                    </a:lnTo>
                    <a:lnTo>
                      <a:pt x="362" y="30"/>
                    </a:lnTo>
                    <a:lnTo>
                      <a:pt x="344" y="15"/>
                    </a:lnTo>
                    <a:lnTo>
                      <a:pt x="234" y="11"/>
                    </a:lnTo>
                    <a:lnTo>
                      <a:pt x="220" y="0"/>
                    </a:lnTo>
                    <a:lnTo>
                      <a:pt x="162" y="14"/>
                    </a:lnTo>
                    <a:lnTo>
                      <a:pt x="109" y="35"/>
                    </a:lnTo>
                    <a:lnTo>
                      <a:pt x="88" y="37"/>
                    </a:lnTo>
                    <a:lnTo>
                      <a:pt x="48" y="39"/>
                    </a:lnTo>
                    <a:lnTo>
                      <a:pt x="24" y="45"/>
                    </a:lnTo>
                    <a:lnTo>
                      <a:pt x="0" y="6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446800" y="2508120"/>
                <a:ext cx="290520" cy="81000"/>
              </a:xfrm>
              <a:custGeom>
                <a:avLst/>
                <a:gdLst/>
                <a:ahLst/>
                <a:rect l="l" t="t" r="r" b="b"/>
                <a:pathLst>
                  <a:path w="183" h="51">
                    <a:moveTo>
                      <a:pt x="8" y="51"/>
                    </a:moveTo>
                    <a:lnTo>
                      <a:pt x="23" y="38"/>
                    </a:lnTo>
                    <a:lnTo>
                      <a:pt x="33" y="38"/>
                    </a:lnTo>
                    <a:lnTo>
                      <a:pt x="40" y="16"/>
                    </a:lnTo>
                    <a:lnTo>
                      <a:pt x="52" y="16"/>
                    </a:lnTo>
                    <a:lnTo>
                      <a:pt x="75" y="36"/>
                    </a:lnTo>
                    <a:lnTo>
                      <a:pt x="85" y="13"/>
                    </a:lnTo>
                    <a:lnTo>
                      <a:pt x="120" y="27"/>
                    </a:lnTo>
                    <a:lnTo>
                      <a:pt x="183" y="27"/>
                    </a:lnTo>
                    <a:lnTo>
                      <a:pt x="164" y="4"/>
                    </a:lnTo>
                    <a:lnTo>
                      <a:pt x="86" y="0"/>
                    </a:lnTo>
                    <a:lnTo>
                      <a:pt x="36" y="4"/>
                    </a:lnTo>
                    <a:lnTo>
                      <a:pt x="4" y="9"/>
                    </a:lnTo>
                    <a:lnTo>
                      <a:pt x="0" y="28"/>
                    </a:lnTo>
                    <a:lnTo>
                      <a:pt x="8" y="51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689440" y="2887560"/>
                <a:ext cx="130320" cy="14616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80" y="0"/>
                    </a:moveTo>
                    <a:lnTo>
                      <a:pt x="82" y="30"/>
                    </a:lnTo>
                    <a:lnTo>
                      <a:pt x="52" y="30"/>
                    </a:lnTo>
                    <a:lnTo>
                      <a:pt x="70" y="53"/>
                    </a:lnTo>
                    <a:lnTo>
                      <a:pt x="61" y="78"/>
                    </a:lnTo>
                    <a:lnTo>
                      <a:pt x="38" y="87"/>
                    </a:lnTo>
                    <a:lnTo>
                      <a:pt x="14" y="92"/>
                    </a:lnTo>
                    <a:lnTo>
                      <a:pt x="0" y="69"/>
                    </a:lnTo>
                    <a:lnTo>
                      <a:pt x="18" y="38"/>
                    </a:lnTo>
                    <a:lnTo>
                      <a:pt x="43" y="1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826240" y="2879640"/>
                <a:ext cx="109440" cy="328680"/>
              </a:xfrm>
              <a:custGeom>
                <a:avLst/>
                <a:gdLst/>
                <a:ahLst/>
                <a:rect l="l" t="t" r="r" b="b"/>
                <a:pathLst>
                  <a:path w="69" h="207">
                    <a:moveTo>
                      <a:pt x="30" y="0"/>
                    </a:moveTo>
                    <a:lnTo>
                      <a:pt x="46" y="36"/>
                    </a:lnTo>
                    <a:lnTo>
                      <a:pt x="69" y="55"/>
                    </a:lnTo>
                    <a:lnTo>
                      <a:pt x="44" y="93"/>
                    </a:lnTo>
                    <a:lnTo>
                      <a:pt x="44" y="129"/>
                    </a:lnTo>
                    <a:lnTo>
                      <a:pt x="16" y="160"/>
                    </a:lnTo>
                    <a:lnTo>
                      <a:pt x="12" y="207"/>
                    </a:lnTo>
                    <a:lnTo>
                      <a:pt x="0" y="199"/>
                    </a:lnTo>
                    <a:lnTo>
                      <a:pt x="0" y="139"/>
                    </a:lnTo>
                    <a:lnTo>
                      <a:pt x="5" y="89"/>
                    </a:lnTo>
                    <a:lnTo>
                      <a:pt x="12" y="4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83120" y="3036960"/>
                <a:ext cx="138240" cy="334800"/>
              </a:xfrm>
              <a:custGeom>
                <a:avLst/>
                <a:gdLst/>
                <a:ahLst/>
                <a:rect l="l" t="t" r="r" b="b"/>
                <a:pathLst>
                  <a:path w="87" h="211">
                    <a:moveTo>
                      <a:pt x="86" y="0"/>
                    </a:moveTo>
                    <a:lnTo>
                      <a:pt x="77" y="16"/>
                    </a:lnTo>
                    <a:lnTo>
                      <a:pt x="87" y="53"/>
                    </a:lnTo>
                    <a:lnTo>
                      <a:pt x="47" y="83"/>
                    </a:lnTo>
                    <a:lnTo>
                      <a:pt x="34" y="107"/>
                    </a:lnTo>
                    <a:lnTo>
                      <a:pt x="24" y="164"/>
                    </a:lnTo>
                    <a:lnTo>
                      <a:pt x="24" y="211"/>
                    </a:lnTo>
                    <a:lnTo>
                      <a:pt x="3" y="199"/>
                    </a:lnTo>
                    <a:lnTo>
                      <a:pt x="0" y="171"/>
                    </a:lnTo>
                    <a:lnTo>
                      <a:pt x="0" y="118"/>
                    </a:lnTo>
                    <a:lnTo>
                      <a:pt x="9" y="102"/>
                    </a:lnTo>
                    <a:lnTo>
                      <a:pt x="22" y="71"/>
                    </a:lnTo>
                    <a:lnTo>
                      <a:pt x="44" y="3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524640" y="300528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0"/>
                    </a:moveTo>
                    <a:lnTo>
                      <a:pt x="4" y="41"/>
                    </a:lnTo>
                    <a:lnTo>
                      <a:pt x="2" y="76"/>
                    </a:lnTo>
                    <a:lnTo>
                      <a:pt x="49" y="41"/>
                    </a:lnTo>
                    <a:lnTo>
                      <a:pt x="49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047000" y="3137040"/>
                <a:ext cx="720720" cy="266400"/>
              </a:xfrm>
              <a:custGeom>
                <a:avLst/>
                <a:gdLst/>
                <a:ahLst/>
                <a:rect l="l" t="t" r="r" b="b"/>
                <a:pathLst>
                  <a:path w="454" h="168">
                    <a:moveTo>
                      <a:pt x="0" y="0"/>
                    </a:moveTo>
                    <a:lnTo>
                      <a:pt x="106" y="66"/>
                    </a:lnTo>
                    <a:lnTo>
                      <a:pt x="222" y="75"/>
                    </a:lnTo>
                    <a:lnTo>
                      <a:pt x="369" y="124"/>
                    </a:lnTo>
                    <a:lnTo>
                      <a:pt x="454" y="168"/>
                    </a:lnTo>
                    <a:lnTo>
                      <a:pt x="351" y="98"/>
                    </a:lnTo>
                    <a:lnTo>
                      <a:pt x="258" y="53"/>
                    </a:lnTo>
                    <a:lnTo>
                      <a:pt x="150" y="27"/>
                    </a:lnTo>
                    <a:lnTo>
                      <a:pt x="89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4" name=""/>
            <p:cNvSpPr/>
            <p:nvPr/>
          </p:nvSpPr>
          <p:spPr>
            <a:xfrm>
              <a:off x="4805280" y="3222720"/>
              <a:ext cx="4300560" cy="3598920"/>
            </a:xfrm>
            <a:custGeom>
              <a:avLst/>
              <a:gdLst/>
              <a:ahLst/>
              <a:rect l="l" t="t" r="r" b="b"/>
              <a:pathLst>
                <a:path w="2709" h="2267">
                  <a:moveTo>
                    <a:pt x="72" y="0"/>
                  </a:moveTo>
                  <a:lnTo>
                    <a:pt x="32" y="65"/>
                  </a:lnTo>
                  <a:lnTo>
                    <a:pt x="18" y="106"/>
                  </a:lnTo>
                  <a:lnTo>
                    <a:pt x="49" y="165"/>
                  </a:lnTo>
                  <a:lnTo>
                    <a:pt x="88" y="219"/>
                  </a:lnTo>
                  <a:lnTo>
                    <a:pt x="145" y="261"/>
                  </a:lnTo>
                  <a:lnTo>
                    <a:pt x="368" y="315"/>
                  </a:lnTo>
                  <a:lnTo>
                    <a:pt x="709" y="224"/>
                  </a:lnTo>
                  <a:lnTo>
                    <a:pt x="1005" y="116"/>
                  </a:lnTo>
                  <a:lnTo>
                    <a:pt x="1229" y="45"/>
                  </a:lnTo>
                  <a:lnTo>
                    <a:pt x="2709" y="2111"/>
                  </a:lnTo>
                  <a:lnTo>
                    <a:pt x="2517" y="2068"/>
                  </a:lnTo>
                  <a:lnTo>
                    <a:pt x="2419" y="2060"/>
                  </a:lnTo>
                  <a:lnTo>
                    <a:pt x="2325" y="2064"/>
                  </a:lnTo>
                  <a:lnTo>
                    <a:pt x="2186" y="2064"/>
                  </a:lnTo>
                  <a:lnTo>
                    <a:pt x="2090" y="2057"/>
                  </a:lnTo>
                  <a:lnTo>
                    <a:pt x="1980" y="2037"/>
                  </a:lnTo>
                  <a:lnTo>
                    <a:pt x="1844" y="2006"/>
                  </a:lnTo>
                  <a:lnTo>
                    <a:pt x="1759" y="2006"/>
                  </a:lnTo>
                  <a:lnTo>
                    <a:pt x="1684" y="2028"/>
                  </a:lnTo>
                  <a:lnTo>
                    <a:pt x="1641" y="2075"/>
                  </a:lnTo>
                  <a:lnTo>
                    <a:pt x="1602" y="2127"/>
                  </a:lnTo>
                  <a:lnTo>
                    <a:pt x="1548" y="2186"/>
                  </a:lnTo>
                  <a:lnTo>
                    <a:pt x="1494" y="2226"/>
                  </a:lnTo>
                  <a:lnTo>
                    <a:pt x="1427" y="2254"/>
                  </a:lnTo>
                  <a:lnTo>
                    <a:pt x="1343" y="2267"/>
                  </a:lnTo>
                  <a:lnTo>
                    <a:pt x="1266" y="2239"/>
                  </a:lnTo>
                  <a:lnTo>
                    <a:pt x="1212" y="2204"/>
                  </a:lnTo>
                  <a:lnTo>
                    <a:pt x="1176" y="2174"/>
                  </a:lnTo>
                  <a:lnTo>
                    <a:pt x="22" y="170"/>
                  </a:lnTo>
                  <a:lnTo>
                    <a:pt x="0" y="116"/>
                  </a:lnTo>
                  <a:lnTo>
                    <a:pt x="8" y="75"/>
                  </a:lnTo>
                  <a:lnTo>
                    <a:pt x="28" y="3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0e0e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834080" y="3230640"/>
              <a:ext cx="546120" cy="492120"/>
            </a:xfrm>
            <a:custGeom>
              <a:avLst/>
              <a:gdLst/>
              <a:ahLst/>
              <a:rect l="l" t="t" r="r" b="b"/>
              <a:pathLst>
                <a:path w="344" h="310">
                  <a:moveTo>
                    <a:pt x="54" y="0"/>
                  </a:moveTo>
                  <a:lnTo>
                    <a:pt x="80" y="79"/>
                  </a:lnTo>
                  <a:lnTo>
                    <a:pt x="133" y="150"/>
                  </a:lnTo>
                  <a:lnTo>
                    <a:pt x="216" y="232"/>
                  </a:lnTo>
                  <a:lnTo>
                    <a:pt x="300" y="291"/>
                  </a:lnTo>
                  <a:lnTo>
                    <a:pt x="344" y="310"/>
                  </a:lnTo>
                  <a:lnTo>
                    <a:pt x="120" y="251"/>
                  </a:lnTo>
                  <a:lnTo>
                    <a:pt x="70" y="218"/>
                  </a:lnTo>
                  <a:lnTo>
                    <a:pt x="35" y="160"/>
                  </a:lnTo>
                  <a:lnTo>
                    <a:pt x="0" y="101"/>
                  </a:lnTo>
                  <a:lnTo>
                    <a:pt x="21" y="4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0c0c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4870440" y="3963960"/>
              <a:ext cx="770040" cy="1789200"/>
              <a:chOff x="4870440" y="3963960"/>
              <a:chExt cx="770040" cy="1789200"/>
            </a:xfrm>
          </p:grpSpPr>
          <p:sp>
            <p:nvSpPr>
              <p:cNvPr id="1917" name=""/>
              <p:cNvSpPr/>
              <p:nvPr/>
            </p:nvSpPr>
            <p:spPr>
              <a:xfrm>
                <a:off x="4870440" y="4692600"/>
                <a:ext cx="712800" cy="1060560"/>
              </a:xfrm>
              <a:custGeom>
                <a:avLst/>
                <a:gdLst/>
                <a:ahLst/>
                <a:rect l="l" t="t" r="r" b="b"/>
                <a:pathLst>
                  <a:path w="449" h="668">
                    <a:moveTo>
                      <a:pt x="129" y="8"/>
                    </a:moveTo>
                    <a:lnTo>
                      <a:pt x="62" y="158"/>
                    </a:lnTo>
                    <a:lnTo>
                      <a:pt x="12" y="256"/>
                    </a:lnTo>
                    <a:lnTo>
                      <a:pt x="0" y="300"/>
                    </a:lnTo>
                    <a:lnTo>
                      <a:pt x="7" y="354"/>
                    </a:lnTo>
                    <a:lnTo>
                      <a:pt x="21" y="422"/>
                    </a:lnTo>
                    <a:lnTo>
                      <a:pt x="27" y="466"/>
                    </a:lnTo>
                    <a:lnTo>
                      <a:pt x="47" y="526"/>
                    </a:lnTo>
                    <a:lnTo>
                      <a:pt x="75" y="566"/>
                    </a:lnTo>
                    <a:lnTo>
                      <a:pt x="104" y="601"/>
                    </a:lnTo>
                    <a:lnTo>
                      <a:pt x="115" y="616"/>
                    </a:lnTo>
                    <a:lnTo>
                      <a:pt x="137" y="652"/>
                    </a:lnTo>
                    <a:lnTo>
                      <a:pt x="165" y="668"/>
                    </a:lnTo>
                    <a:lnTo>
                      <a:pt x="209" y="659"/>
                    </a:lnTo>
                    <a:lnTo>
                      <a:pt x="235" y="645"/>
                    </a:lnTo>
                    <a:lnTo>
                      <a:pt x="260" y="645"/>
                    </a:lnTo>
                    <a:lnTo>
                      <a:pt x="308" y="611"/>
                    </a:lnTo>
                    <a:lnTo>
                      <a:pt x="381" y="551"/>
                    </a:lnTo>
                    <a:lnTo>
                      <a:pt x="420" y="508"/>
                    </a:lnTo>
                    <a:lnTo>
                      <a:pt x="437" y="471"/>
                    </a:lnTo>
                    <a:lnTo>
                      <a:pt x="449" y="432"/>
                    </a:lnTo>
                    <a:lnTo>
                      <a:pt x="437" y="350"/>
                    </a:lnTo>
                    <a:lnTo>
                      <a:pt x="420" y="295"/>
                    </a:lnTo>
                    <a:lnTo>
                      <a:pt x="403" y="251"/>
                    </a:lnTo>
                    <a:lnTo>
                      <a:pt x="388" y="215"/>
                    </a:lnTo>
                    <a:lnTo>
                      <a:pt x="380" y="176"/>
                    </a:lnTo>
                    <a:lnTo>
                      <a:pt x="381" y="90"/>
                    </a:lnTo>
                    <a:lnTo>
                      <a:pt x="375" y="16"/>
                    </a:lnTo>
                    <a:lnTo>
                      <a:pt x="375" y="0"/>
                    </a:lnTo>
                    <a:lnTo>
                      <a:pt x="129" y="8"/>
                    </a:lnTo>
                    <a:close/>
                  </a:path>
                </a:pathLst>
              </a:custGeom>
              <a:solidFill>
                <a:srgbClr val="a05000"/>
              </a:solidFill>
              <a:ln w="144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881600" y="4726080"/>
                <a:ext cx="358560" cy="820800"/>
              </a:xfrm>
              <a:custGeom>
                <a:avLst/>
                <a:gdLst/>
                <a:ahLst/>
                <a:rect l="l" t="t" r="r" b="b"/>
                <a:pathLst>
                  <a:path w="226" h="517">
                    <a:moveTo>
                      <a:pt x="214" y="29"/>
                    </a:moveTo>
                    <a:lnTo>
                      <a:pt x="209" y="61"/>
                    </a:lnTo>
                    <a:lnTo>
                      <a:pt x="218" y="134"/>
                    </a:lnTo>
                    <a:lnTo>
                      <a:pt x="226" y="238"/>
                    </a:lnTo>
                    <a:lnTo>
                      <a:pt x="219" y="332"/>
                    </a:lnTo>
                    <a:lnTo>
                      <a:pt x="196" y="389"/>
                    </a:lnTo>
                    <a:lnTo>
                      <a:pt x="161" y="430"/>
                    </a:lnTo>
                    <a:lnTo>
                      <a:pt x="145" y="435"/>
                    </a:lnTo>
                    <a:lnTo>
                      <a:pt x="125" y="430"/>
                    </a:lnTo>
                    <a:lnTo>
                      <a:pt x="121" y="399"/>
                    </a:lnTo>
                    <a:lnTo>
                      <a:pt x="121" y="347"/>
                    </a:lnTo>
                    <a:lnTo>
                      <a:pt x="131" y="273"/>
                    </a:lnTo>
                    <a:lnTo>
                      <a:pt x="148" y="216"/>
                    </a:lnTo>
                    <a:lnTo>
                      <a:pt x="170" y="176"/>
                    </a:lnTo>
                    <a:lnTo>
                      <a:pt x="186" y="140"/>
                    </a:lnTo>
                    <a:lnTo>
                      <a:pt x="136" y="215"/>
                    </a:lnTo>
                    <a:lnTo>
                      <a:pt x="107" y="287"/>
                    </a:lnTo>
                    <a:lnTo>
                      <a:pt x="71" y="367"/>
                    </a:lnTo>
                    <a:lnTo>
                      <a:pt x="68" y="434"/>
                    </a:lnTo>
                    <a:lnTo>
                      <a:pt x="67" y="506"/>
                    </a:lnTo>
                    <a:lnTo>
                      <a:pt x="58" y="517"/>
                    </a:lnTo>
                    <a:lnTo>
                      <a:pt x="36" y="458"/>
                    </a:lnTo>
                    <a:lnTo>
                      <a:pt x="6" y="337"/>
                    </a:lnTo>
                    <a:lnTo>
                      <a:pt x="0" y="273"/>
                    </a:lnTo>
                    <a:lnTo>
                      <a:pt x="31" y="197"/>
                    </a:lnTo>
                    <a:lnTo>
                      <a:pt x="68" y="122"/>
                    </a:lnTo>
                    <a:lnTo>
                      <a:pt x="93" y="59"/>
                    </a:lnTo>
                    <a:lnTo>
                      <a:pt x="125" y="0"/>
                    </a:lnTo>
                    <a:lnTo>
                      <a:pt x="214" y="29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005440" y="3963960"/>
                <a:ext cx="635040" cy="790560"/>
              </a:xfrm>
              <a:custGeom>
                <a:avLst/>
                <a:gdLst/>
                <a:ahLst/>
                <a:rect l="l" t="t" r="r" b="b"/>
                <a:pathLst>
                  <a:path w="400" h="498">
                    <a:moveTo>
                      <a:pt x="269" y="148"/>
                    </a:moveTo>
                    <a:lnTo>
                      <a:pt x="266" y="112"/>
                    </a:lnTo>
                    <a:lnTo>
                      <a:pt x="248" y="90"/>
                    </a:lnTo>
                    <a:lnTo>
                      <a:pt x="211" y="47"/>
                    </a:lnTo>
                    <a:lnTo>
                      <a:pt x="162" y="16"/>
                    </a:lnTo>
                    <a:lnTo>
                      <a:pt x="129" y="0"/>
                    </a:lnTo>
                    <a:lnTo>
                      <a:pt x="108" y="3"/>
                    </a:lnTo>
                    <a:lnTo>
                      <a:pt x="75" y="27"/>
                    </a:lnTo>
                    <a:lnTo>
                      <a:pt x="66" y="43"/>
                    </a:lnTo>
                    <a:lnTo>
                      <a:pt x="66" y="84"/>
                    </a:lnTo>
                    <a:lnTo>
                      <a:pt x="79" y="115"/>
                    </a:lnTo>
                    <a:lnTo>
                      <a:pt x="94" y="138"/>
                    </a:lnTo>
                    <a:lnTo>
                      <a:pt x="52" y="146"/>
                    </a:lnTo>
                    <a:lnTo>
                      <a:pt x="22" y="160"/>
                    </a:lnTo>
                    <a:lnTo>
                      <a:pt x="7" y="198"/>
                    </a:lnTo>
                    <a:lnTo>
                      <a:pt x="9" y="211"/>
                    </a:lnTo>
                    <a:lnTo>
                      <a:pt x="25" y="233"/>
                    </a:lnTo>
                    <a:lnTo>
                      <a:pt x="49" y="246"/>
                    </a:lnTo>
                    <a:lnTo>
                      <a:pt x="25" y="261"/>
                    </a:lnTo>
                    <a:lnTo>
                      <a:pt x="7" y="277"/>
                    </a:lnTo>
                    <a:lnTo>
                      <a:pt x="0" y="295"/>
                    </a:lnTo>
                    <a:lnTo>
                      <a:pt x="0" y="317"/>
                    </a:lnTo>
                    <a:lnTo>
                      <a:pt x="5" y="337"/>
                    </a:lnTo>
                    <a:lnTo>
                      <a:pt x="16" y="353"/>
                    </a:lnTo>
                    <a:lnTo>
                      <a:pt x="7" y="377"/>
                    </a:lnTo>
                    <a:lnTo>
                      <a:pt x="5" y="394"/>
                    </a:lnTo>
                    <a:lnTo>
                      <a:pt x="19" y="420"/>
                    </a:lnTo>
                    <a:lnTo>
                      <a:pt x="36" y="425"/>
                    </a:lnTo>
                    <a:lnTo>
                      <a:pt x="36" y="456"/>
                    </a:lnTo>
                    <a:lnTo>
                      <a:pt x="71" y="489"/>
                    </a:lnTo>
                    <a:lnTo>
                      <a:pt x="153" y="498"/>
                    </a:lnTo>
                    <a:lnTo>
                      <a:pt x="207" y="479"/>
                    </a:lnTo>
                    <a:lnTo>
                      <a:pt x="272" y="467"/>
                    </a:lnTo>
                    <a:lnTo>
                      <a:pt x="298" y="449"/>
                    </a:lnTo>
                    <a:lnTo>
                      <a:pt x="345" y="421"/>
                    </a:lnTo>
                    <a:lnTo>
                      <a:pt x="352" y="400"/>
                    </a:lnTo>
                    <a:lnTo>
                      <a:pt x="376" y="396"/>
                    </a:lnTo>
                    <a:lnTo>
                      <a:pt x="395" y="386"/>
                    </a:lnTo>
                    <a:lnTo>
                      <a:pt x="400" y="364"/>
                    </a:lnTo>
                    <a:lnTo>
                      <a:pt x="399" y="346"/>
                    </a:lnTo>
                    <a:lnTo>
                      <a:pt x="386" y="327"/>
                    </a:lnTo>
                    <a:lnTo>
                      <a:pt x="384" y="312"/>
                    </a:lnTo>
                    <a:lnTo>
                      <a:pt x="386" y="291"/>
                    </a:lnTo>
                    <a:lnTo>
                      <a:pt x="386" y="269"/>
                    </a:lnTo>
                    <a:lnTo>
                      <a:pt x="371" y="247"/>
                    </a:lnTo>
                    <a:lnTo>
                      <a:pt x="340" y="228"/>
                    </a:lnTo>
                    <a:lnTo>
                      <a:pt x="322" y="200"/>
                    </a:lnTo>
                    <a:lnTo>
                      <a:pt x="296" y="180"/>
                    </a:lnTo>
                    <a:lnTo>
                      <a:pt x="269" y="148"/>
                    </a:lnTo>
                    <a:close/>
                  </a:path>
                </a:pathLst>
              </a:custGeom>
              <a:solidFill>
                <a:srgbClr val="a05000"/>
              </a:solidFill>
              <a:ln w="144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124600" y="3968640"/>
                <a:ext cx="225360" cy="168480"/>
              </a:xfrm>
              <a:custGeom>
                <a:avLst/>
                <a:gdLst/>
                <a:ahLst/>
                <a:rect l="l" t="t" r="r" b="b"/>
                <a:pathLst>
                  <a:path w="142" h="106">
                    <a:moveTo>
                      <a:pt x="0" y="55"/>
                    </a:moveTo>
                    <a:lnTo>
                      <a:pt x="31" y="88"/>
                    </a:lnTo>
                    <a:lnTo>
                      <a:pt x="77" y="106"/>
                    </a:lnTo>
                    <a:lnTo>
                      <a:pt x="106" y="103"/>
                    </a:lnTo>
                    <a:lnTo>
                      <a:pt x="134" y="94"/>
                    </a:lnTo>
                    <a:lnTo>
                      <a:pt x="142" y="63"/>
                    </a:lnTo>
                    <a:lnTo>
                      <a:pt x="141" y="48"/>
                    </a:lnTo>
                    <a:lnTo>
                      <a:pt x="97" y="19"/>
                    </a:lnTo>
                    <a:lnTo>
                      <a:pt x="62" y="0"/>
                    </a:lnTo>
                    <a:lnTo>
                      <a:pt x="35" y="0"/>
                    </a:lnTo>
                    <a:lnTo>
                      <a:pt x="4" y="3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019840" y="4184640"/>
                <a:ext cx="264960" cy="185760"/>
              </a:xfrm>
              <a:custGeom>
                <a:avLst/>
                <a:gdLst/>
                <a:ahLst/>
                <a:rect l="l" t="t" r="r" b="b"/>
                <a:pathLst>
                  <a:path w="167" h="117">
                    <a:moveTo>
                      <a:pt x="84" y="0"/>
                    </a:moveTo>
                    <a:lnTo>
                      <a:pt x="167" y="16"/>
                    </a:lnTo>
                    <a:lnTo>
                      <a:pt x="141" y="60"/>
                    </a:lnTo>
                    <a:lnTo>
                      <a:pt x="139" y="74"/>
                    </a:lnTo>
                    <a:lnTo>
                      <a:pt x="141" y="117"/>
                    </a:lnTo>
                    <a:lnTo>
                      <a:pt x="61" y="108"/>
                    </a:lnTo>
                    <a:lnTo>
                      <a:pt x="26" y="95"/>
                    </a:lnTo>
                    <a:lnTo>
                      <a:pt x="10" y="79"/>
                    </a:lnTo>
                    <a:lnTo>
                      <a:pt x="0" y="69"/>
                    </a:lnTo>
                    <a:lnTo>
                      <a:pt x="5" y="47"/>
                    </a:lnTo>
                    <a:lnTo>
                      <a:pt x="18" y="27"/>
                    </a:lnTo>
                    <a:lnTo>
                      <a:pt x="44" y="1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016600" y="436392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182" h="190">
                    <a:moveTo>
                      <a:pt x="51" y="0"/>
                    </a:moveTo>
                    <a:lnTo>
                      <a:pt x="102" y="11"/>
                    </a:lnTo>
                    <a:lnTo>
                      <a:pt x="173" y="25"/>
                    </a:lnTo>
                    <a:lnTo>
                      <a:pt x="159" y="48"/>
                    </a:lnTo>
                    <a:lnTo>
                      <a:pt x="157" y="73"/>
                    </a:lnTo>
                    <a:lnTo>
                      <a:pt x="174" y="106"/>
                    </a:lnTo>
                    <a:lnTo>
                      <a:pt x="182" y="118"/>
                    </a:lnTo>
                    <a:lnTo>
                      <a:pt x="111" y="102"/>
                    </a:lnTo>
                    <a:lnTo>
                      <a:pt x="85" y="93"/>
                    </a:lnTo>
                    <a:lnTo>
                      <a:pt x="33" y="97"/>
                    </a:lnTo>
                    <a:lnTo>
                      <a:pt x="86" y="118"/>
                    </a:lnTo>
                    <a:lnTo>
                      <a:pt x="146" y="132"/>
                    </a:lnTo>
                    <a:lnTo>
                      <a:pt x="182" y="133"/>
                    </a:lnTo>
                    <a:lnTo>
                      <a:pt x="182" y="166"/>
                    </a:lnTo>
                    <a:lnTo>
                      <a:pt x="182" y="184"/>
                    </a:lnTo>
                    <a:lnTo>
                      <a:pt x="138" y="189"/>
                    </a:lnTo>
                    <a:lnTo>
                      <a:pt x="76" y="190"/>
                    </a:lnTo>
                    <a:lnTo>
                      <a:pt x="46" y="180"/>
                    </a:lnTo>
                    <a:lnTo>
                      <a:pt x="29" y="166"/>
                    </a:lnTo>
                    <a:lnTo>
                      <a:pt x="12" y="159"/>
                    </a:lnTo>
                    <a:lnTo>
                      <a:pt x="7" y="142"/>
                    </a:lnTo>
                    <a:lnTo>
                      <a:pt x="9" y="128"/>
                    </a:lnTo>
                    <a:lnTo>
                      <a:pt x="18" y="97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4"/>
                    </a:lnTo>
                    <a:lnTo>
                      <a:pt x="14" y="2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254560" y="4221000"/>
                <a:ext cx="366840" cy="438480"/>
              </a:xfrm>
              <a:custGeom>
                <a:avLst/>
                <a:gdLst/>
                <a:ahLst/>
                <a:rect l="l" t="t" r="r" b="b"/>
                <a:pathLst>
                  <a:path w="231" h="276">
                    <a:moveTo>
                      <a:pt x="36" y="0"/>
                    </a:moveTo>
                    <a:lnTo>
                      <a:pt x="122" y="37"/>
                    </a:lnTo>
                    <a:lnTo>
                      <a:pt x="156" y="62"/>
                    </a:lnTo>
                    <a:lnTo>
                      <a:pt x="167" y="71"/>
                    </a:lnTo>
                    <a:lnTo>
                      <a:pt x="177" y="84"/>
                    </a:lnTo>
                    <a:lnTo>
                      <a:pt x="215" y="103"/>
                    </a:lnTo>
                    <a:lnTo>
                      <a:pt x="212" y="138"/>
                    </a:lnTo>
                    <a:lnTo>
                      <a:pt x="204" y="160"/>
                    </a:lnTo>
                    <a:lnTo>
                      <a:pt x="212" y="167"/>
                    </a:lnTo>
                    <a:lnTo>
                      <a:pt x="231" y="196"/>
                    </a:lnTo>
                    <a:lnTo>
                      <a:pt x="231" y="208"/>
                    </a:lnTo>
                    <a:lnTo>
                      <a:pt x="215" y="219"/>
                    </a:lnTo>
                    <a:lnTo>
                      <a:pt x="173" y="222"/>
                    </a:lnTo>
                    <a:lnTo>
                      <a:pt x="169" y="240"/>
                    </a:lnTo>
                    <a:lnTo>
                      <a:pt x="143" y="264"/>
                    </a:lnTo>
                    <a:lnTo>
                      <a:pt x="81" y="276"/>
                    </a:lnTo>
                    <a:lnTo>
                      <a:pt x="51" y="276"/>
                    </a:lnTo>
                    <a:lnTo>
                      <a:pt x="50" y="226"/>
                    </a:lnTo>
                    <a:lnTo>
                      <a:pt x="110" y="217"/>
                    </a:lnTo>
                    <a:lnTo>
                      <a:pt x="70" y="201"/>
                    </a:lnTo>
                    <a:lnTo>
                      <a:pt x="40" y="198"/>
                    </a:lnTo>
                    <a:lnTo>
                      <a:pt x="20" y="162"/>
                    </a:lnTo>
                    <a:lnTo>
                      <a:pt x="27" y="130"/>
                    </a:lnTo>
                    <a:lnTo>
                      <a:pt x="31" y="121"/>
                    </a:lnTo>
                    <a:lnTo>
                      <a:pt x="66" y="119"/>
                    </a:lnTo>
                    <a:lnTo>
                      <a:pt x="133" y="125"/>
                    </a:lnTo>
                    <a:lnTo>
                      <a:pt x="84" y="110"/>
                    </a:lnTo>
                    <a:lnTo>
                      <a:pt x="9" y="94"/>
                    </a:lnTo>
                    <a:lnTo>
                      <a:pt x="0" y="60"/>
                    </a:lnTo>
                    <a:lnTo>
                      <a:pt x="5" y="3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234040" y="4062240"/>
                <a:ext cx="182520" cy="157320"/>
              </a:xfrm>
              <a:custGeom>
                <a:avLst/>
                <a:gdLst/>
                <a:ahLst/>
                <a:rect l="l" t="t" r="r" b="b"/>
                <a:pathLst>
                  <a:path w="115" h="99">
                    <a:moveTo>
                      <a:pt x="81" y="0"/>
                    </a:moveTo>
                    <a:lnTo>
                      <a:pt x="79" y="36"/>
                    </a:lnTo>
                    <a:lnTo>
                      <a:pt x="58" y="51"/>
                    </a:lnTo>
                    <a:lnTo>
                      <a:pt x="0" y="51"/>
                    </a:lnTo>
                    <a:lnTo>
                      <a:pt x="18" y="68"/>
                    </a:lnTo>
                    <a:lnTo>
                      <a:pt x="52" y="93"/>
                    </a:lnTo>
                    <a:lnTo>
                      <a:pt x="100" y="99"/>
                    </a:lnTo>
                    <a:lnTo>
                      <a:pt x="111" y="75"/>
                    </a:lnTo>
                    <a:lnTo>
                      <a:pt x="115" y="58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5" name=""/>
          <p:cNvSpPr/>
          <p:nvPr/>
        </p:nvSpPr>
        <p:spPr>
          <a:xfrm>
            <a:off x="376200" y="1747800"/>
            <a:ext cx="4353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good framework is the best foundatio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0880" y="266760"/>
            <a:ext cx="8686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7c18"/>
                </a:solidFill>
                <a:latin typeface="Arial"/>
              </a:rPr>
              <a:t>Almost Finish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19680000">
            <a:off x="5943600" y="3428640"/>
            <a:ext cx="17524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may skip from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. 186 (FASB Framework Project) t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. 195 (Summary of Significant Accounting Polici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376200" y="1747800"/>
            <a:ext cx="8234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rtual Keypad 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0880" y="266760"/>
            <a:ext cx="86868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7c18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0" name="Keypad-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257640"/>
            <a:ext cx="160020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877760"/>
            <a:ext cx="8184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ccounting theory provides a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logic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framewor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or accounting practic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25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19520" y="4646520"/>
            <a:ext cx="3475080" cy="1130400"/>
            <a:chOff x="2819520" y="4646520"/>
            <a:chExt cx="3475080" cy="1130400"/>
          </a:xfrm>
        </p:grpSpPr>
        <p:grpSp>
          <p:nvGrpSpPr>
            <p:cNvPr id="169" name=""/>
            <p:cNvGrpSpPr/>
            <p:nvPr/>
          </p:nvGrpSpPr>
          <p:grpSpPr>
            <a:xfrm>
              <a:off x="2819520" y="4646520"/>
              <a:ext cx="3475080" cy="1130400"/>
              <a:chOff x="2819520" y="4646520"/>
              <a:chExt cx="3475080" cy="1130400"/>
            </a:xfrm>
          </p:grpSpPr>
          <p:sp>
            <p:nvSpPr>
              <p:cNvPr id="170" name=""/>
              <p:cNvSpPr/>
              <p:nvPr/>
            </p:nvSpPr>
            <p:spPr>
              <a:xfrm>
                <a:off x="5489640" y="4646520"/>
                <a:ext cx="804960" cy="1128960"/>
              </a:xfrm>
              <a:custGeom>
                <a:avLst/>
                <a:gdLst/>
                <a:ahLst/>
                <a:rect l="l" t="t" r="r" b="b"/>
                <a:pathLst>
                  <a:path w="507" h="711">
                    <a:moveTo>
                      <a:pt x="0" y="194"/>
                    </a:moveTo>
                    <a:lnTo>
                      <a:pt x="300" y="710"/>
                    </a:lnTo>
                    <a:lnTo>
                      <a:pt x="506" y="446"/>
                    </a:lnTo>
                    <a:lnTo>
                      <a:pt x="146" y="0"/>
                    </a:lnTo>
                    <a:lnTo>
                      <a:pt x="0" y="194"/>
                    </a:lnTo>
                  </a:path>
                </a:pathLst>
              </a:custGeom>
              <a:solidFill>
                <a:srgbClr val="bf5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87880" y="4646520"/>
                <a:ext cx="2433600" cy="306360"/>
              </a:xfrm>
              <a:custGeom>
                <a:avLst/>
                <a:gdLst/>
                <a:ahLst/>
                <a:rect l="l" t="t" r="r" b="b"/>
                <a:pathLst>
                  <a:path w="1533" h="193">
                    <a:moveTo>
                      <a:pt x="0" y="192"/>
                    </a:moveTo>
                    <a:lnTo>
                      <a:pt x="1386" y="192"/>
                    </a:lnTo>
                    <a:lnTo>
                      <a:pt x="1532" y="0"/>
                    </a:lnTo>
                    <a:lnTo>
                      <a:pt x="388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5f00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19520" y="4951440"/>
                <a:ext cx="3146400" cy="825480"/>
              </a:xfrm>
              <a:custGeom>
                <a:avLst/>
                <a:gdLst/>
                <a:ahLst/>
                <a:rect l="l" t="t" r="r" b="b"/>
                <a:pathLst>
                  <a:path w="1982" h="520">
                    <a:moveTo>
                      <a:pt x="0" y="519"/>
                    </a:moveTo>
                    <a:lnTo>
                      <a:pt x="1981" y="519"/>
                    </a:lnTo>
                    <a:lnTo>
                      <a:pt x="1681" y="0"/>
                    </a:lnTo>
                    <a:lnTo>
                      <a:pt x="295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9f3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252240" y="5181480"/>
              <a:ext cx="2414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77760"/>
            <a:ext cx="81849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ccounting theory provides a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logic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framewor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or accounting practic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4646520"/>
            <a:ext cx="3475080" cy="1130400"/>
            <a:chOff x="2819520" y="4646520"/>
            <a:chExt cx="3475080" cy="1130400"/>
          </a:xfrm>
        </p:grpSpPr>
        <p:sp>
          <p:nvSpPr>
            <p:cNvPr id="177" name=""/>
            <p:cNvSpPr/>
            <p:nvPr/>
          </p:nvSpPr>
          <p:spPr>
            <a:xfrm>
              <a:off x="5489640" y="4646520"/>
              <a:ext cx="804960" cy="1128960"/>
            </a:xfrm>
            <a:custGeom>
              <a:avLst/>
              <a:gdLst/>
              <a:ahLst/>
              <a:rect l="l" t="t" r="r" b="b"/>
              <a:pathLst>
                <a:path w="507" h="711">
                  <a:moveTo>
                    <a:pt x="0" y="194"/>
                  </a:moveTo>
                  <a:lnTo>
                    <a:pt x="300" y="710"/>
                  </a:lnTo>
                  <a:lnTo>
                    <a:pt x="506" y="446"/>
                  </a:lnTo>
                  <a:lnTo>
                    <a:pt x="146" y="0"/>
                  </a:lnTo>
                  <a:lnTo>
                    <a:pt x="0" y="194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87880" y="4646520"/>
              <a:ext cx="2433600" cy="306360"/>
            </a:xfrm>
            <a:custGeom>
              <a:avLst/>
              <a:gdLst/>
              <a:ahLst/>
              <a:rect l="l" t="t" r="r" b="b"/>
              <a:pathLst>
                <a:path w="1533" h="193">
                  <a:moveTo>
                    <a:pt x="0" y="192"/>
                  </a:moveTo>
                  <a:lnTo>
                    <a:pt x="1386" y="192"/>
                  </a:lnTo>
                  <a:lnTo>
                    <a:pt x="1532" y="0"/>
                  </a:lnTo>
                  <a:lnTo>
                    <a:pt x="388" y="0"/>
                  </a:lnTo>
                  <a:lnTo>
                    <a:pt x="0" y="192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520" y="4951440"/>
              <a:ext cx="3146400" cy="825480"/>
            </a:xfrm>
            <a:custGeom>
              <a:avLst/>
              <a:gdLst/>
              <a:ahLst/>
              <a:rect l="l" t="t" r="r" b="b"/>
              <a:pathLst>
                <a:path w="1982" h="520">
                  <a:moveTo>
                    <a:pt x="0" y="519"/>
                  </a:moveTo>
                  <a:lnTo>
                    <a:pt x="1981" y="519"/>
                  </a:lnTo>
                  <a:lnTo>
                    <a:pt x="1681" y="0"/>
                  </a:lnTo>
                  <a:lnTo>
                    <a:pt x="295" y="0"/>
                  </a:lnTo>
                  <a:lnTo>
                    <a:pt x="0" y="519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252240" y="51814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368520" y="3825720"/>
            <a:ext cx="2265480" cy="989280"/>
            <a:chOff x="3368520" y="3825720"/>
            <a:chExt cx="2265480" cy="989280"/>
          </a:xfrm>
        </p:grpSpPr>
        <p:grpSp>
          <p:nvGrpSpPr>
            <p:cNvPr id="182" name=""/>
            <p:cNvGrpSpPr/>
            <p:nvPr/>
          </p:nvGrpSpPr>
          <p:grpSpPr>
            <a:xfrm>
              <a:off x="3368520" y="3825720"/>
              <a:ext cx="2265480" cy="989280"/>
              <a:chOff x="3368520" y="3825720"/>
              <a:chExt cx="2265480" cy="989280"/>
            </a:xfrm>
          </p:grpSpPr>
          <p:sp>
            <p:nvSpPr>
              <p:cNvPr id="183" name=""/>
              <p:cNvSpPr/>
              <p:nvPr/>
            </p:nvSpPr>
            <p:spPr>
              <a:xfrm>
                <a:off x="4940280" y="3827520"/>
                <a:ext cx="693720" cy="987480"/>
              </a:xfrm>
              <a:custGeom>
                <a:avLst/>
                <a:gdLst/>
                <a:ahLst/>
                <a:rect l="l" t="t" r="r" b="b"/>
                <a:pathLst>
                  <a:path w="437" h="622">
                    <a:moveTo>
                      <a:pt x="298" y="621"/>
                    </a:moveTo>
                    <a:lnTo>
                      <a:pt x="436" y="443"/>
                    </a:lnTo>
                    <a:lnTo>
                      <a:pt x="75" y="0"/>
                    </a:lnTo>
                    <a:lnTo>
                      <a:pt x="0" y="94"/>
                    </a:lnTo>
                    <a:lnTo>
                      <a:pt x="298" y="621"/>
                    </a:lnTo>
                  </a:path>
                </a:pathLst>
              </a:custGeom>
              <a:solidFill>
                <a:srgbClr val="ff9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46600" y="3825720"/>
                <a:ext cx="1214280" cy="149400"/>
              </a:xfrm>
              <a:custGeom>
                <a:avLst/>
                <a:gdLst/>
                <a:ahLst/>
                <a:rect l="l" t="t" r="r" b="b"/>
                <a:pathLst>
                  <a:path w="765" h="94">
                    <a:moveTo>
                      <a:pt x="0" y="93"/>
                    </a:moveTo>
                    <a:lnTo>
                      <a:pt x="689" y="93"/>
                    </a:lnTo>
                    <a:lnTo>
                      <a:pt x="764" y="0"/>
                    </a:lnTo>
                    <a:lnTo>
                      <a:pt x="238" y="0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b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68520" y="3973680"/>
                <a:ext cx="2046600" cy="841320"/>
              </a:xfrm>
              <a:custGeom>
                <a:avLst/>
                <a:gdLst/>
                <a:ahLst/>
                <a:rect l="l" t="t" r="r" b="b"/>
                <a:pathLst>
                  <a:path w="1289" h="530">
                    <a:moveTo>
                      <a:pt x="0" y="529"/>
                    </a:moveTo>
                    <a:lnTo>
                      <a:pt x="1288" y="529"/>
                    </a:lnTo>
                    <a:lnTo>
                      <a:pt x="989" y="0"/>
                    </a:lnTo>
                    <a:lnTo>
                      <a:pt x="300" y="0"/>
                    </a:lnTo>
                    <a:lnTo>
                      <a:pt x="0" y="529"/>
                    </a:lnTo>
                  </a:path>
                </a:pathLst>
              </a:custGeom>
              <a:solidFill>
                <a:srgbClr val="ff5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553200" y="4295880"/>
              <a:ext cx="170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INCI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520" y="1877760"/>
            <a:ext cx="8184960" cy="13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ccounting theory provides a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logical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framework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or accounting practic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19520" y="4646520"/>
            <a:ext cx="3475080" cy="1130400"/>
            <a:chOff x="2819520" y="4646520"/>
            <a:chExt cx="3475080" cy="1130400"/>
          </a:xfrm>
        </p:grpSpPr>
        <p:sp>
          <p:nvSpPr>
            <p:cNvPr id="190" name=""/>
            <p:cNvSpPr/>
            <p:nvPr/>
          </p:nvSpPr>
          <p:spPr>
            <a:xfrm>
              <a:off x="5489640" y="4646520"/>
              <a:ext cx="804960" cy="1128960"/>
            </a:xfrm>
            <a:custGeom>
              <a:avLst/>
              <a:gdLst/>
              <a:ahLst/>
              <a:rect l="l" t="t" r="r" b="b"/>
              <a:pathLst>
                <a:path w="507" h="711">
                  <a:moveTo>
                    <a:pt x="0" y="194"/>
                  </a:moveTo>
                  <a:lnTo>
                    <a:pt x="300" y="710"/>
                  </a:lnTo>
                  <a:lnTo>
                    <a:pt x="506" y="446"/>
                  </a:lnTo>
                  <a:lnTo>
                    <a:pt x="146" y="0"/>
                  </a:lnTo>
                  <a:lnTo>
                    <a:pt x="0" y="194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7880" y="4646520"/>
              <a:ext cx="2433600" cy="306360"/>
            </a:xfrm>
            <a:custGeom>
              <a:avLst/>
              <a:gdLst/>
              <a:ahLst/>
              <a:rect l="l" t="t" r="r" b="b"/>
              <a:pathLst>
                <a:path w="1533" h="193">
                  <a:moveTo>
                    <a:pt x="0" y="192"/>
                  </a:moveTo>
                  <a:lnTo>
                    <a:pt x="1386" y="192"/>
                  </a:lnTo>
                  <a:lnTo>
                    <a:pt x="1532" y="0"/>
                  </a:lnTo>
                  <a:lnTo>
                    <a:pt x="388" y="0"/>
                  </a:lnTo>
                  <a:lnTo>
                    <a:pt x="0" y="192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951440"/>
              <a:ext cx="3146400" cy="825480"/>
            </a:xfrm>
            <a:custGeom>
              <a:avLst/>
              <a:gdLst/>
              <a:ahLst/>
              <a:rect l="l" t="t" r="r" b="b"/>
              <a:pathLst>
                <a:path w="1982" h="520">
                  <a:moveTo>
                    <a:pt x="0" y="519"/>
                  </a:moveTo>
                  <a:lnTo>
                    <a:pt x="1981" y="519"/>
                  </a:lnTo>
                  <a:lnTo>
                    <a:pt x="1681" y="0"/>
                  </a:lnTo>
                  <a:lnTo>
                    <a:pt x="295" y="0"/>
                  </a:lnTo>
                  <a:lnTo>
                    <a:pt x="0" y="519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368520" y="3825720"/>
            <a:ext cx="2265480" cy="989280"/>
            <a:chOff x="3368520" y="3825720"/>
            <a:chExt cx="2265480" cy="989280"/>
          </a:xfrm>
        </p:grpSpPr>
        <p:sp>
          <p:nvSpPr>
            <p:cNvPr id="194" name=""/>
            <p:cNvSpPr/>
            <p:nvPr/>
          </p:nvSpPr>
          <p:spPr>
            <a:xfrm>
              <a:off x="4940280" y="3827520"/>
              <a:ext cx="693720" cy="987480"/>
            </a:xfrm>
            <a:custGeom>
              <a:avLst/>
              <a:gdLst/>
              <a:ahLst/>
              <a:rect l="l" t="t" r="r" b="b"/>
              <a:pathLst>
                <a:path w="437" h="622">
                  <a:moveTo>
                    <a:pt x="298" y="621"/>
                  </a:moveTo>
                  <a:lnTo>
                    <a:pt x="436" y="443"/>
                  </a:lnTo>
                  <a:lnTo>
                    <a:pt x="75" y="0"/>
                  </a:lnTo>
                  <a:lnTo>
                    <a:pt x="0" y="94"/>
                  </a:lnTo>
                  <a:lnTo>
                    <a:pt x="298" y="621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46600" y="3825720"/>
              <a:ext cx="1214280" cy="149400"/>
            </a:xfrm>
            <a:custGeom>
              <a:avLst/>
              <a:gdLst/>
              <a:ahLst/>
              <a:rect l="l" t="t" r="r" b="b"/>
              <a:pathLst>
                <a:path w="765" h="94">
                  <a:moveTo>
                    <a:pt x="0" y="93"/>
                  </a:moveTo>
                  <a:lnTo>
                    <a:pt x="689" y="93"/>
                  </a:lnTo>
                  <a:lnTo>
                    <a:pt x="764" y="0"/>
                  </a:lnTo>
                  <a:lnTo>
                    <a:pt x="238" y="0"/>
                  </a:lnTo>
                  <a:lnTo>
                    <a:pt x="0" y="9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68520" y="3973680"/>
              <a:ext cx="2046600" cy="841320"/>
            </a:xfrm>
            <a:custGeom>
              <a:avLst/>
              <a:gdLst/>
              <a:ahLst/>
              <a:rect l="l" t="t" r="r" b="b"/>
              <a:pathLst>
                <a:path w="1289" h="530">
                  <a:moveTo>
                    <a:pt x="0" y="529"/>
                  </a:moveTo>
                  <a:lnTo>
                    <a:pt x="1288" y="529"/>
                  </a:lnTo>
                  <a:lnTo>
                    <a:pt x="989" y="0"/>
                  </a:lnTo>
                  <a:lnTo>
                    <a:pt x="300" y="0"/>
                  </a:lnTo>
                  <a:lnTo>
                    <a:pt x="0" y="529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52240" y="51814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53200" y="4295880"/>
            <a:ext cx="1707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914640" y="3009960"/>
            <a:ext cx="1059120" cy="848880"/>
            <a:chOff x="3914640" y="3009960"/>
            <a:chExt cx="1059120" cy="848880"/>
          </a:xfrm>
        </p:grpSpPr>
        <p:grpSp>
          <p:nvGrpSpPr>
            <p:cNvPr id="200" name=""/>
            <p:cNvGrpSpPr/>
            <p:nvPr/>
          </p:nvGrpSpPr>
          <p:grpSpPr>
            <a:xfrm>
              <a:off x="3914640" y="3009960"/>
              <a:ext cx="1059120" cy="838080"/>
              <a:chOff x="3914640" y="3009960"/>
              <a:chExt cx="105912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4389480" y="3009960"/>
                <a:ext cx="584280" cy="838080"/>
              </a:xfrm>
              <a:custGeom>
                <a:avLst/>
                <a:gdLst/>
                <a:ahLst/>
                <a:rect l="l" t="t" r="r" b="b"/>
                <a:pathLst>
                  <a:path w="368" h="528">
                    <a:moveTo>
                      <a:pt x="298" y="527"/>
                    </a:moveTo>
                    <a:lnTo>
                      <a:pt x="367" y="445"/>
                    </a:lnTo>
                    <a:lnTo>
                      <a:pt x="0" y="0"/>
                    </a:lnTo>
                    <a:lnTo>
                      <a:pt x="298" y="527"/>
                    </a:lnTo>
                  </a:path>
                </a:pathLst>
              </a:custGeom>
              <a:solidFill>
                <a:srgbClr val="ffb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14640" y="3009960"/>
                <a:ext cx="949320" cy="838080"/>
              </a:xfrm>
              <a:custGeom>
                <a:avLst/>
                <a:gdLst/>
                <a:ahLst/>
                <a:rect l="l" t="t" r="r" b="b"/>
                <a:pathLst>
                  <a:path w="598" h="528">
                    <a:moveTo>
                      <a:pt x="0" y="527"/>
                    </a:moveTo>
                    <a:lnTo>
                      <a:pt x="597" y="527"/>
                    </a:lnTo>
                    <a:lnTo>
                      <a:pt x="299" y="0"/>
                    </a:lnTo>
                    <a:lnTo>
                      <a:pt x="0" y="527"/>
                    </a:lnTo>
                  </a:path>
                </a:pathLst>
              </a:custGeom>
              <a:solidFill>
                <a:srgbClr val="ff9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002120" y="3495600"/>
              <a:ext cx="955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U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655560" y="2608200"/>
            <a:ext cx="7794720" cy="3084480"/>
            <a:chOff x="655560" y="2608200"/>
            <a:chExt cx="7794720" cy="3084480"/>
          </a:xfrm>
        </p:grpSpPr>
        <p:grpSp>
          <p:nvGrpSpPr>
            <p:cNvPr id="206" name=""/>
            <p:cNvGrpSpPr/>
            <p:nvPr/>
          </p:nvGrpSpPr>
          <p:grpSpPr>
            <a:xfrm>
              <a:off x="655560" y="2608200"/>
              <a:ext cx="7794720" cy="3084480"/>
              <a:chOff x="655560" y="2608200"/>
              <a:chExt cx="7794720" cy="30844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655560" y="2608200"/>
                <a:ext cx="7794720" cy="3084480"/>
                <a:chOff x="655560" y="2608200"/>
                <a:chExt cx="7794720" cy="308448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655560" y="2608200"/>
                  <a:ext cx="7794720" cy="3084480"/>
                  <a:chOff x="655560" y="2608200"/>
                  <a:chExt cx="7794720" cy="3084480"/>
                </a:xfrm>
              </p:grpSpPr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655560" y="5032440"/>
                    <a:ext cx="7450200" cy="660240"/>
                    <a:chOff x="655560" y="5032440"/>
                    <a:chExt cx="7450200" cy="6602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655560" y="5073480"/>
                      <a:ext cx="7450200" cy="619200"/>
                      <a:chOff x="655560" y="5073480"/>
                      <a:chExt cx="7450200" cy="61920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55560" y="5291280"/>
                        <a:ext cx="797040" cy="24768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946080" y="5119560"/>
                        <a:ext cx="795240" cy="24948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1440000" y="5141880"/>
                        <a:ext cx="798480" cy="24912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2309760" y="5280120"/>
                        <a:ext cx="836640" cy="31572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1206360" y="5321160"/>
                        <a:ext cx="1184400" cy="37152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3025800" y="5337000"/>
                        <a:ext cx="795240" cy="24768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3646440" y="5313240"/>
                        <a:ext cx="657360" cy="30492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210200" y="5313240"/>
                        <a:ext cx="658800" cy="32868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678200" y="5394240"/>
                        <a:ext cx="685800" cy="25884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5311800" y="5245200"/>
                        <a:ext cx="452520" cy="36180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5656320" y="5073480"/>
                        <a:ext cx="660240" cy="41940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6124680" y="5130720"/>
                        <a:ext cx="741240" cy="40824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6688080" y="5199120"/>
                        <a:ext cx="812880" cy="33984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337520" y="5130720"/>
                        <a:ext cx="768240" cy="37332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7419960" y="5032440"/>
                      <a:ext cx="574560" cy="32868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2693880" y="2608200"/>
                    <a:ext cx="5756400" cy="2954520"/>
                    <a:chOff x="2693880" y="2608200"/>
                    <a:chExt cx="5756400" cy="295452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3728880" y="2693880"/>
                      <a:ext cx="809640" cy="68580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622760" y="2608200"/>
                      <a:ext cx="809640" cy="68760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3079800" y="3046320"/>
                      <a:ext cx="809640" cy="68760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2693880" y="3651120"/>
                      <a:ext cx="811440" cy="68760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2971800" y="4929120"/>
                      <a:ext cx="628560" cy="53172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2903400" y="4265640"/>
                      <a:ext cx="476280" cy="40176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2841480" y="4521240"/>
                      <a:ext cx="530280" cy="44748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025880" y="5037120"/>
                      <a:ext cx="1370160" cy="52560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6049800" y="2743200"/>
                      <a:ext cx="809640" cy="69048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356600" y="2670120"/>
                      <a:ext cx="550800" cy="47304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105680" y="2847960"/>
                      <a:ext cx="406440" cy="34308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7256520" y="2865600"/>
                      <a:ext cx="1193760" cy="101412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605720" y="4365720"/>
                      <a:ext cx="685800" cy="58716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7070760" y="4552920"/>
                      <a:ext cx="914400" cy="784080"/>
                    </a:xfrm>
                    <a:prstGeom prst="ellipse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112160" y="2709720"/>
                  <a:ext cx="731520" cy="519120"/>
                  <a:chOff x="7112160" y="2709720"/>
                  <a:chExt cx="731520" cy="5191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364520" y="2709720"/>
                    <a:ext cx="479160" cy="395280"/>
                  </a:xfrm>
                  <a:prstGeom prst="ellipse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112160" y="2900520"/>
                    <a:ext cx="369720" cy="328320"/>
                  </a:xfrm>
                  <a:prstGeom prst="ellipse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2762280" y="2617920"/>
                <a:ext cx="5605560" cy="2947680"/>
                <a:chOff x="2762280" y="2617920"/>
                <a:chExt cx="5605560" cy="29476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811680" y="2747880"/>
                  <a:ext cx="698400" cy="57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00520" y="4599000"/>
                  <a:ext cx="480960" cy="396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572240" y="4064040"/>
                  <a:ext cx="478080" cy="396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688080" y="2913120"/>
                  <a:ext cx="522360" cy="4428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2600" y="2743200"/>
                  <a:ext cx="477720" cy="396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02080" y="2924280"/>
                  <a:ext cx="480960" cy="396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41960" y="5043600"/>
                  <a:ext cx="480960" cy="3952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545080" y="2833560"/>
                  <a:ext cx="646200" cy="487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86280" y="2617920"/>
                  <a:ext cx="754200" cy="625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41880" y="2798640"/>
                  <a:ext cx="754200" cy="6256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149640" y="3119400"/>
                  <a:ext cx="822240" cy="61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762280" y="3700440"/>
                  <a:ext cx="757080" cy="6238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5400" y="4349880"/>
                  <a:ext cx="754200" cy="622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64240" y="4656240"/>
                  <a:ext cx="757440" cy="625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564000" y="4929120"/>
                  <a:ext cx="809640" cy="636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038400" y="4951440"/>
                  <a:ext cx="646200" cy="5335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02440" y="4576680"/>
                  <a:ext cx="782640" cy="6476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29320" y="4508640"/>
                  <a:ext cx="1084320" cy="8985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57560" y="4381560"/>
                  <a:ext cx="1389240" cy="11034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70360" y="4292640"/>
                  <a:ext cx="396720" cy="3268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669080" y="3790800"/>
                  <a:ext cx="395280" cy="3286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143840" y="2890800"/>
                  <a:ext cx="1224000" cy="1011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3164040" y="3032280"/>
              <a:ext cx="4773600" cy="2158920"/>
            </a:xfrm>
            <a:custGeom>
              <a:avLst/>
              <a:gdLst/>
              <a:ahLst/>
              <a:rect l="l" t="t" r="r" b="b"/>
              <a:pathLst>
                <a:path w="3007" h="1360">
                  <a:moveTo>
                    <a:pt x="615" y="64"/>
                  </a:moveTo>
                  <a:lnTo>
                    <a:pt x="278" y="100"/>
                  </a:lnTo>
                  <a:lnTo>
                    <a:pt x="0" y="974"/>
                  </a:lnTo>
                  <a:lnTo>
                    <a:pt x="217" y="1231"/>
                  </a:lnTo>
                  <a:lnTo>
                    <a:pt x="831" y="1216"/>
                  </a:lnTo>
                  <a:lnTo>
                    <a:pt x="1482" y="1360"/>
                  </a:lnTo>
                  <a:lnTo>
                    <a:pt x="1821" y="1267"/>
                  </a:lnTo>
                  <a:lnTo>
                    <a:pt x="2739" y="1110"/>
                  </a:lnTo>
                  <a:lnTo>
                    <a:pt x="2887" y="996"/>
                  </a:lnTo>
                  <a:lnTo>
                    <a:pt x="2852" y="759"/>
                  </a:lnTo>
                  <a:lnTo>
                    <a:pt x="3007" y="529"/>
                  </a:lnTo>
                  <a:lnTo>
                    <a:pt x="2591" y="236"/>
                  </a:lnTo>
                  <a:lnTo>
                    <a:pt x="2409" y="115"/>
                  </a:lnTo>
                  <a:lnTo>
                    <a:pt x="1342" y="0"/>
                  </a:lnTo>
                  <a:lnTo>
                    <a:pt x="615" y="6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3520" y="6172200"/>
            <a:ext cx="8381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 theory is somewhat like a cloud, i.e. not well-defi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02040" y="3122640"/>
            <a:ext cx="5167080" cy="2185920"/>
            <a:chOff x="3002040" y="3122640"/>
            <a:chExt cx="5167080" cy="2185920"/>
          </a:xfrm>
        </p:grpSpPr>
        <p:sp>
          <p:nvSpPr>
            <p:cNvPr id="270" name=""/>
            <p:cNvSpPr/>
            <p:nvPr/>
          </p:nvSpPr>
          <p:spPr>
            <a:xfrm>
              <a:off x="3195720" y="4614840"/>
              <a:ext cx="758880" cy="62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02040" y="3556080"/>
              <a:ext cx="761760" cy="62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10600" y="3122640"/>
              <a:ext cx="758520" cy="62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83600" y="4010040"/>
              <a:ext cx="62064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7200" y="3635280"/>
              <a:ext cx="795240" cy="65880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6480" y="4648320"/>
              <a:ext cx="795240" cy="66024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23120" y="3179880"/>
              <a:ext cx="795240" cy="65700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6280" y="3976560"/>
              <a:ext cx="685800" cy="56700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29040" y="3884760"/>
              <a:ext cx="734760" cy="56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21200" y="3895560"/>
              <a:ext cx="688680" cy="56844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83280" y="3191040"/>
              <a:ext cx="760680" cy="62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93000" y="3247920"/>
              <a:ext cx="687240" cy="56844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12120" y="4397400"/>
              <a:ext cx="501480" cy="4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75400" y="4419720"/>
              <a:ext cx="463680" cy="38736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90680" y="2508120"/>
            <a:ext cx="3367080" cy="3029040"/>
            <a:chOff x="490680" y="2508120"/>
            <a:chExt cx="3367080" cy="3029040"/>
          </a:xfrm>
        </p:grpSpPr>
        <p:grpSp>
          <p:nvGrpSpPr>
            <p:cNvPr id="285" name=""/>
            <p:cNvGrpSpPr/>
            <p:nvPr/>
          </p:nvGrpSpPr>
          <p:grpSpPr>
            <a:xfrm>
              <a:off x="490680" y="2508120"/>
              <a:ext cx="2746080" cy="3029040"/>
              <a:chOff x="490680" y="2508120"/>
              <a:chExt cx="2746080" cy="30290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993600" y="2508120"/>
                <a:ext cx="874800" cy="1076400"/>
                <a:chOff x="993600" y="2508120"/>
                <a:chExt cx="874800" cy="10764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1098720" y="2987640"/>
                  <a:ext cx="769680" cy="596880"/>
                  <a:chOff x="1098720" y="2987640"/>
                  <a:chExt cx="769680" cy="5968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1152360" y="3006720"/>
                    <a:ext cx="716040" cy="577800"/>
                    <a:chOff x="1152360" y="3006720"/>
                    <a:chExt cx="716040" cy="577800"/>
                  </a:xfrm>
                </p:grpSpPr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1152360" y="3006720"/>
                      <a:ext cx="716040" cy="577800"/>
                      <a:chOff x="1152360" y="3006720"/>
                      <a:chExt cx="716040" cy="577800"/>
                    </a:xfrm>
                  </p:grpSpPr>
                  <p:grpSp>
                    <p:nvGrpSpPr>
                      <p:cNvPr id="290" name=""/>
                      <p:cNvGrpSpPr/>
                      <p:nvPr/>
                    </p:nvGrpSpPr>
                    <p:grpSpPr>
                      <a:xfrm>
                        <a:off x="1152360" y="3006720"/>
                        <a:ext cx="716040" cy="577800"/>
                        <a:chOff x="1152360" y="3006720"/>
                        <a:chExt cx="716040" cy="577800"/>
                      </a:xfrm>
                    </p:grpSpPr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1219320" y="3006720"/>
                          <a:ext cx="637920" cy="57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64">
                              <a:moveTo>
                                <a:pt x="345" y="28"/>
                              </a:moveTo>
                              <a:lnTo>
                                <a:pt x="336" y="18"/>
                              </a:lnTo>
                              <a:lnTo>
                                <a:pt x="313" y="0"/>
                              </a:lnTo>
                              <a:lnTo>
                                <a:pt x="177" y="10"/>
                              </a:lnTo>
                              <a:lnTo>
                                <a:pt x="55" y="92"/>
                              </a:lnTo>
                              <a:lnTo>
                                <a:pt x="0" y="210"/>
                              </a:lnTo>
                              <a:lnTo>
                                <a:pt x="19" y="235"/>
                              </a:lnTo>
                              <a:lnTo>
                                <a:pt x="79" y="288"/>
                              </a:lnTo>
                              <a:lnTo>
                                <a:pt x="77" y="299"/>
                              </a:lnTo>
                              <a:lnTo>
                                <a:pt x="80" y="310"/>
                              </a:lnTo>
                              <a:lnTo>
                                <a:pt x="89" y="317"/>
                              </a:lnTo>
                              <a:lnTo>
                                <a:pt x="100" y="324"/>
                              </a:lnTo>
                              <a:lnTo>
                                <a:pt x="113" y="331"/>
                              </a:lnTo>
                              <a:lnTo>
                                <a:pt x="125" y="337"/>
                              </a:lnTo>
                              <a:lnTo>
                                <a:pt x="139" y="343"/>
                              </a:lnTo>
                              <a:lnTo>
                                <a:pt x="155" y="349"/>
                              </a:lnTo>
                              <a:lnTo>
                                <a:pt x="170" y="353"/>
                              </a:lnTo>
                              <a:lnTo>
                                <a:pt x="189" y="358"/>
                              </a:lnTo>
                              <a:lnTo>
                                <a:pt x="206" y="361"/>
                              </a:lnTo>
                              <a:lnTo>
                                <a:pt x="223" y="364"/>
                              </a:lnTo>
                              <a:lnTo>
                                <a:pt x="239" y="360"/>
                              </a:lnTo>
                              <a:lnTo>
                                <a:pt x="250" y="356"/>
                              </a:lnTo>
                              <a:lnTo>
                                <a:pt x="261" y="348"/>
                              </a:lnTo>
                              <a:lnTo>
                                <a:pt x="270" y="342"/>
                              </a:lnTo>
                              <a:lnTo>
                                <a:pt x="280" y="348"/>
                              </a:lnTo>
                              <a:lnTo>
                                <a:pt x="293" y="353"/>
                              </a:lnTo>
                              <a:lnTo>
                                <a:pt x="313" y="355"/>
                              </a:lnTo>
                              <a:lnTo>
                                <a:pt x="328" y="350"/>
                              </a:lnTo>
                              <a:lnTo>
                                <a:pt x="339" y="342"/>
                              </a:lnTo>
                              <a:lnTo>
                                <a:pt x="348" y="332"/>
                              </a:lnTo>
                              <a:lnTo>
                                <a:pt x="354" y="318"/>
                              </a:lnTo>
                              <a:lnTo>
                                <a:pt x="402" y="264"/>
                              </a:lnTo>
                              <a:lnTo>
                                <a:pt x="358" y="188"/>
                              </a:lnTo>
                              <a:lnTo>
                                <a:pt x="345" y="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1152360" y="3267000"/>
                          <a:ext cx="141480" cy="1144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1257480" y="3330720"/>
                          <a:ext cx="160200" cy="13464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658880" y="3333600"/>
                          <a:ext cx="209520" cy="17964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1608120" y="3429000"/>
                          <a:ext cx="179280" cy="1476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1185840" y="3267000"/>
                        <a:ext cx="657360" cy="200160"/>
                        <a:chOff x="1185840" y="3267000"/>
                        <a:chExt cx="657360" cy="200160"/>
                      </a:xfrm>
                    </p:grpSpPr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1459080" y="3267000"/>
                          <a:ext cx="220320" cy="1778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1185840" y="3294000"/>
                          <a:ext cx="92160" cy="716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1603440" y="3362400"/>
                          <a:ext cx="239760" cy="104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1617840" y="3359160"/>
                          <a:ext cx="225360" cy="936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440" bIns="19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1187280" y="3303720"/>
                          <a:ext cx="92160" cy="648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1440000" y="3281400"/>
                          <a:ext cx="225360" cy="15696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1460520" y="3281400"/>
                          <a:ext cx="225360" cy="15084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1562040" y="3038400"/>
                      <a:ext cx="297000" cy="339840"/>
                      <a:chOff x="1562040" y="3038400"/>
                      <a:chExt cx="297000" cy="339840"/>
                    </a:xfrm>
                  </p:grpSpPr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1562040" y="3038400"/>
                        <a:ext cx="257400" cy="247680"/>
                        <a:chOff x="1562040" y="3038400"/>
                        <a:chExt cx="257400" cy="247680"/>
                      </a:xfrm>
                    </p:grpSpPr>
                    <p:grpSp>
                      <p:nvGrpSpPr>
                        <p:cNvPr id="306" name=""/>
                        <p:cNvGrpSpPr/>
                        <p:nvPr/>
                      </p:nvGrpSpPr>
                      <p:grpSpPr>
                        <a:xfrm>
                          <a:off x="1562040" y="3038400"/>
                          <a:ext cx="257400" cy="247680"/>
                          <a:chOff x="1562040" y="3038400"/>
                          <a:chExt cx="257400" cy="247680"/>
                        </a:xfrm>
                      </p:grpSpPr>
                      <p:grpSp>
                        <p:nvGrpSpPr>
                          <p:cNvPr id="307" name=""/>
                          <p:cNvGrpSpPr/>
                          <p:nvPr/>
                        </p:nvGrpSpPr>
                        <p:grpSpPr>
                          <a:xfrm>
                            <a:off x="1562040" y="3065400"/>
                            <a:ext cx="257400" cy="220680"/>
                            <a:chOff x="1562040" y="3065400"/>
                            <a:chExt cx="257400" cy="220680"/>
                          </a:xfrm>
                        </p:grpSpPr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1562040" y="3065400"/>
                              <a:ext cx="174600" cy="2206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" name=""/>
                            <p:cNvSpPr/>
                            <p:nvPr/>
                          </p:nvSpPr>
                          <p:spPr>
                            <a:xfrm>
                              <a:off x="1698480" y="3065400"/>
                              <a:ext cx="120960" cy="19692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0" name=""/>
                          <p:cNvGrpSpPr/>
                          <p:nvPr/>
                        </p:nvGrpSpPr>
                        <p:grpSpPr>
                          <a:xfrm>
                            <a:off x="1576440" y="3073320"/>
                            <a:ext cx="241200" cy="212760"/>
                            <a:chOff x="1576440" y="3073320"/>
                            <a:chExt cx="241200" cy="212760"/>
                          </a:xfrm>
                        </p:grpSpPr>
                        <p:sp>
                          <p:nvSpPr>
                            <p:cNvPr id="311" name=""/>
                            <p:cNvSpPr/>
                            <p:nvPr/>
                          </p:nvSpPr>
                          <p:spPr>
                            <a:xfrm>
                              <a:off x="1576440" y="3075120"/>
                              <a:ext cx="158760" cy="2109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>
                              <a:off x="1695600" y="3073320"/>
                              <a:ext cx="122040" cy="2062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13" name=""/>
                          <p:cNvGrpSpPr/>
                          <p:nvPr/>
                        </p:nvGrpSpPr>
                        <p:grpSpPr>
                          <a:xfrm>
                            <a:off x="1616040" y="3038400"/>
                            <a:ext cx="166680" cy="76320"/>
                            <a:chOff x="1616040" y="3038400"/>
                            <a:chExt cx="166680" cy="76320"/>
                          </a:xfrm>
                        </p:grpSpPr>
                        <p:sp>
                          <p:nvSpPr>
                            <p:cNvPr id="314" name=""/>
                            <p:cNvSpPr/>
                            <p:nvPr/>
                          </p:nvSpPr>
                          <p:spPr>
                            <a:xfrm>
                              <a:off x="1728720" y="3038400"/>
                              <a:ext cx="54000" cy="74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4" h="47">
                                  <a:moveTo>
                                    <a:pt x="0" y="30"/>
                                  </a:moveTo>
                                  <a:lnTo>
                                    <a:pt x="8" y="47"/>
                                  </a:lnTo>
                                  <a:lnTo>
                                    <a:pt x="34" y="16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0" y="3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5" name=""/>
                            <p:cNvSpPr/>
                            <p:nvPr/>
                          </p:nvSpPr>
                          <p:spPr>
                            <a:xfrm>
                              <a:off x="1616040" y="3044880"/>
                              <a:ext cx="112680" cy="69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1" h="44">
                                  <a:moveTo>
                                    <a:pt x="10" y="0"/>
                                  </a:moveTo>
                                  <a:lnTo>
                                    <a:pt x="71" y="30"/>
                                  </a:lnTo>
                                  <a:lnTo>
                                    <a:pt x="66" y="44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1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1684440" y="3187800"/>
                          <a:ext cx="133200" cy="91800"/>
                          <a:chOff x="1684440" y="3187800"/>
                          <a:chExt cx="133200" cy="91800"/>
                        </a:xfrm>
                      </p:grpSpPr>
                      <p:grpSp>
                        <p:nvGrpSpPr>
                          <p:cNvPr id="317" name=""/>
                          <p:cNvGrpSpPr/>
                          <p:nvPr/>
                        </p:nvGrpSpPr>
                        <p:grpSpPr>
                          <a:xfrm>
                            <a:off x="1684440" y="3187800"/>
                            <a:ext cx="55440" cy="91800"/>
                            <a:chOff x="1684440" y="3187800"/>
                            <a:chExt cx="55440" cy="91800"/>
                          </a:xfrm>
                        </p:grpSpPr>
                        <p:sp>
                          <p:nvSpPr>
                            <p:cNvPr id="318" name=""/>
                            <p:cNvSpPr/>
                            <p:nvPr/>
                          </p:nvSpPr>
                          <p:spPr>
                            <a:xfrm>
                              <a:off x="1690560" y="3187800"/>
                              <a:ext cx="49320" cy="918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360" bIns="18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19" name=""/>
                            <p:cNvSpPr/>
                            <p:nvPr/>
                          </p:nvSpPr>
                          <p:spPr>
                            <a:xfrm>
                              <a:off x="1684440" y="3216240"/>
                              <a:ext cx="25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" h="7">
                                  <a:moveTo>
                                    <a:pt x="3" y="0"/>
                                  </a:moveTo>
                                  <a:lnTo>
                                    <a:pt x="16" y="7"/>
                                  </a:lnTo>
                                  <a:lnTo>
                                    <a:pt x="0" y="7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0" name=""/>
                          <p:cNvGrpSpPr/>
                          <p:nvPr/>
                        </p:nvGrpSpPr>
                        <p:grpSpPr>
                          <a:xfrm>
                            <a:off x="1762200" y="3187800"/>
                            <a:ext cx="55440" cy="91800"/>
                            <a:chOff x="1762200" y="3187800"/>
                            <a:chExt cx="55440" cy="91800"/>
                          </a:xfrm>
                        </p:grpSpPr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>
                              <a:off x="1770120" y="3187800"/>
                              <a:ext cx="47520" cy="918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8360" bIns="18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2" name=""/>
                            <p:cNvSpPr/>
                            <p:nvPr/>
                          </p:nvSpPr>
                          <p:spPr>
                            <a:xfrm>
                              <a:off x="1762200" y="3216240"/>
                              <a:ext cx="25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" h="7">
                                  <a:moveTo>
                                    <a:pt x="3" y="0"/>
                                  </a:moveTo>
                                  <a:lnTo>
                                    <a:pt x="16" y="7"/>
                                  </a:lnTo>
                                  <a:lnTo>
                                    <a:pt x="0" y="7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1684440" y="3254400"/>
                        <a:ext cx="174600" cy="123840"/>
                        <a:chOff x="1684440" y="3254400"/>
                        <a:chExt cx="174600" cy="123840"/>
                      </a:xfrm>
                    </p:grpSpPr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1684440" y="3265560"/>
                          <a:ext cx="164880" cy="112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1693800" y="3254400"/>
                          <a:ext cx="165240" cy="11412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1098720" y="2987640"/>
                    <a:ext cx="48384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199">
                        <a:moveTo>
                          <a:pt x="37" y="35"/>
                        </a:moveTo>
                        <a:lnTo>
                          <a:pt x="21" y="52"/>
                        </a:lnTo>
                        <a:lnTo>
                          <a:pt x="10" y="67"/>
                        </a:lnTo>
                        <a:lnTo>
                          <a:pt x="2" y="89"/>
                        </a:lnTo>
                        <a:lnTo>
                          <a:pt x="0" y="113"/>
                        </a:lnTo>
                        <a:lnTo>
                          <a:pt x="1" y="132"/>
                        </a:lnTo>
                        <a:lnTo>
                          <a:pt x="8" y="151"/>
                        </a:lnTo>
                        <a:lnTo>
                          <a:pt x="17" y="169"/>
                        </a:lnTo>
                        <a:lnTo>
                          <a:pt x="30" y="186"/>
                        </a:lnTo>
                        <a:lnTo>
                          <a:pt x="43" y="199"/>
                        </a:lnTo>
                        <a:lnTo>
                          <a:pt x="53" y="191"/>
                        </a:lnTo>
                        <a:lnTo>
                          <a:pt x="65" y="184"/>
                        </a:lnTo>
                        <a:lnTo>
                          <a:pt x="79" y="180"/>
                        </a:lnTo>
                        <a:lnTo>
                          <a:pt x="94" y="178"/>
                        </a:lnTo>
                        <a:lnTo>
                          <a:pt x="110" y="179"/>
                        </a:lnTo>
                        <a:lnTo>
                          <a:pt x="126" y="182"/>
                        </a:lnTo>
                        <a:lnTo>
                          <a:pt x="139" y="190"/>
                        </a:lnTo>
                        <a:lnTo>
                          <a:pt x="149" y="192"/>
                        </a:lnTo>
                        <a:lnTo>
                          <a:pt x="147" y="167"/>
                        </a:lnTo>
                        <a:lnTo>
                          <a:pt x="152" y="149"/>
                        </a:lnTo>
                        <a:lnTo>
                          <a:pt x="159" y="132"/>
                        </a:lnTo>
                        <a:lnTo>
                          <a:pt x="171" y="115"/>
                        </a:lnTo>
                        <a:lnTo>
                          <a:pt x="184" y="100"/>
                        </a:lnTo>
                        <a:lnTo>
                          <a:pt x="197" y="85"/>
                        </a:lnTo>
                        <a:lnTo>
                          <a:pt x="215" y="68"/>
                        </a:lnTo>
                        <a:lnTo>
                          <a:pt x="233" y="55"/>
                        </a:lnTo>
                        <a:lnTo>
                          <a:pt x="255" y="44"/>
                        </a:lnTo>
                        <a:lnTo>
                          <a:pt x="276" y="34"/>
                        </a:lnTo>
                        <a:lnTo>
                          <a:pt x="305" y="20"/>
                        </a:lnTo>
                        <a:lnTo>
                          <a:pt x="175" y="0"/>
                        </a:lnTo>
                        <a:lnTo>
                          <a:pt x="37" y="35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993600" y="2508120"/>
                  <a:ext cx="858960" cy="685800"/>
                  <a:chOff x="993600" y="2508120"/>
                  <a:chExt cx="858960" cy="68580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1160640" y="2508120"/>
                    <a:ext cx="615600" cy="314280"/>
                    <a:chOff x="1160640" y="2508120"/>
                    <a:chExt cx="615600" cy="31428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160640" y="2540160"/>
                      <a:ext cx="610920" cy="28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178">
                          <a:moveTo>
                            <a:pt x="0" y="0"/>
                          </a:moveTo>
                          <a:lnTo>
                            <a:pt x="10" y="178"/>
                          </a:lnTo>
                          <a:lnTo>
                            <a:pt x="373" y="176"/>
                          </a:lnTo>
                          <a:lnTo>
                            <a:pt x="385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1160640" y="2508120"/>
                      <a:ext cx="615600" cy="68400"/>
                    </a:xfrm>
                    <a:prstGeom prst="ellipse">
                      <a:avLst/>
                    </a:pr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993600" y="2703600"/>
                    <a:ext cx="858960" cy="490320"/>
                    <a:chOff x="993600" y="2703600"/>
                    <a:chExt cx="858960" cy="49032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1171440" y="2703600"/>
                      <a:ext cx="590760" cy="315720"/>
                      <a:chOff x="1171440" y="2703600"/>
                      <a:chExt cx="590760" cy="3157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1171440" y="2762280"/>
                        <a:ext cx="586080" cy="25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9" h="162">
                            <a:moveTo>
                              <a:pt x="0" y="0"/>
                            </a:moveTo>
                            <a:lnTo>
                              <a:pt x="10" y="154"/>
                            </a:lnTo>
                            <a:lnTo>
                              <a:pt x="362" y="162"/>
                            </a:lnTo>
                            <a:lnTo>
                              <a:pt x="36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1176480" y="2703600"/>
                        <a:ext cx="585720" cy="12996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993600" y="2970360"/>
                      <a:ext cx="8589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1" h="141">
                          <a:moveTo>
                            <a:pt x="121" y="3"/>
                          </a:moveTo>
                          <a:lnTo>
                            <a:pt x="151" y="0"/>
                          </a:lnTo>
                          <a:lnTo>
                            <a:pt x="192" y="0"/>
                          </a:lnTo>
                          <a:lnTo>
                            <a:pt x="238" y="3"/>
                          </a:lnTo>
                          <a:lnTo>
                            <a:pt x="280" y="9"/>
                          </a:lnTo>
                          <a:lnTo>
                            <a:pt x="322" y="15"/>
                          </a:lnTo>
                          <a:lnTo>
                            <a:pt x="367" y="21"/>
                          </a:lnTo>
                          <a:lnTo>
                            <a:pt x="399" y="24"/>
                          </a:lnTo>
                          <a:lnTo>
                            <a:pt x="423" y="25"/>
                          </a:lnTo>
                          <a:lnTo>
                            <a:pt x="458" y="24"/>
                          </a:lnTo>
                          <a:lnTo>
                            <a:pt x="490" y="23"/>
                          </a:lnTo>
                          <a:lnTo>
                            <a:pt x="512" y="21"/>
                          </a:lnTo>
                          <a:lnTo>
                            <a:pt x="541" y="18"/>
                          </a:lnTo>
                          <a:lnTo>
                            <a:pt x="541" y="31"/>
                          </a:lnTo>
                          <a:lnTo>
                            <a:pt x="513" y="35"/>
                          </a:lnTo>
                          <a:lnTo>
                            <a:pt x="478" y="36"/>
                          </a:lnTo>
                          <a:lnTo>
                            <a:pt x="436" y="37"/>
                          </a:lnTo>
                          <a:lnTo>
                            <a:pt x="389" y="36"/>
                          </a:lnTo>
                          <a:lnTo>
                            <a:pt x="342" y="36"/>
                          </a:lnTo>
                          <a:lnTo>
                            <a:pt x="294" y="35"/>
                          </a:lnTo>
                          <a:lnTo>
                            <a:pt x="248" y="35"/>
                          </a:lnTo>
                          <a:lnTo>
                            <a:pt x="213" y="36"/>
                          </a:lnTo>
                          <a:lnTo>
                            <a:pt x="181" y="41"/>
                          </a:lnTo>
                          <a:lnTo>
                            <a:pt x="152" y="48"/>
                          </a:lnTo>
                          <a:lnTo>
                            <a:pt x="128" y="58"/>
                          </a:lnTo>
                          <a:lnTo>
                            <a:pt x="108" y="69"/>
                          </a:lnTo>
                          <a:lnTo>
                            <a:pt x="89" y="83"/>
                          </a:lnTo>
                          <a:lnTo>
                            <a:pt x="77" y="97"/>
                          </a:lnTo>
                          <a:lnTo>
                            <a:pt x="68" y="111"/>
                          </a:lnTo>
                          <a:lnTo>
                            <a:pt x="67" y="125"/>
                          </a:lnTo>
                          <a:lnTo>
                            <a:pt x="68" y="141"/>
                          </a:lnTo>
                          <a:lnTo>
                            <a:pt x="50" y="137"/>
                          </a:lnTo>
                          <a:lnTo>
                            <a:pt x="37" y="132"/>
                          </a:lnTo>
                          <a:lnTo>
                            <a:pt x="21" y="123"/>
                          </a:lnTo>
                          <a:lnTo>
                            <a:pt x="9" y="111"/>
                          </a:lnTo>
                          <a:lnTo>
                            <a:pt x="2" y="97"/>
                          </a:lnTo>
                          <a:lnTo>
                            <a:pt x="0" y="82"/>
                          </a:lnTo>
                          <a:lnTo>
                            <a:pt x="2" y="67"/>
                          </a:lnTo>
                          <a:lnTo>
                            <a:pt x="6" y="54"/>
                          </a:lnTo>
                          <a:lnTo>
                            <a:pt x="15" y="43"/>
                          </a:lnTo>
                          <a:lnTo>
                            <a:pt x="26" y="35"/>
                          </a:lnTo>
                          <a:lnTo>
                            <a:pt x="41" y="27"/>
                          </a:lnTo>
                          <a:lnTo>
                            <a:pt x="60" y="18"/>
                          </a:lnTo>
                          <a:lnTo>
                            <a:pt x="79" y="12"/>
                          </a:lnTo>
                          <a:lnTo>
                            <a:pt x="99" y="7"/>
                          </a:lnTo>
                          <a:lnTo>
                            <a:pt x="121" y="3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490680" y="2882880"/>
                <a:ext cx="2746080" cy="2654280"/>
                <a:chOff x="490680" y="2882880"/>
                <a:chExt cx="2746080" cy="26542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957240" y="5025960"/>
                  <a:ext cx="1758960" cy="511200"/>
                  <a:chOff x="957240" y="5025960"/>
                  <a:chExt cx="1758960" cy="5112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1911240" y="5075280"/>
                    <a:ext cx="804960" cy="3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26">
                        <a:moveTo>
                          <a:pt x="66" y="7"/>
                        </a:moveTo>
                        <a:lnTo>
                          <a:pt x="51" y="16"/>
                        </a:lnTo>
                        <a:lnTo>
                          <a:pt x="38" y="29"/>
                        </a:lnTo>
                        <a:lnTo>
                          <a:pt x="24" y="47"/>
                        </a:lnTo>
                        <a:lnTo>
                          <a:pt x="12" y="64"/>
                        </a:lnTo>
                        <a:lnTo>
                          <a:pt x="5" y="83"/>
                        </a:lnTo>
                        <a:lnTo>
                          <a:pt x="0" y="107"/>
                        </a:lnTo>
                        <a:lnTo>
                          <a:pt x="5" y="129"/>
                        </a:lnTo>
                        <a:lnTo>
                          <a:pt x="16" y="154"/>
                        </a:lnTo>
                        <a:lnTo>
                          <a:pt x="29" y="159"/>
                        </a:lnTo>
                        <a:lnTo>
                          <a:pt x="60" y="157"/>
                        </a:lnTo>
                        <a:lnTo>
                          <a:pt x="66" y="173"/>
                        </a:lnTo>
                        <a:lnTo>
                          <a:pt x="74" y="192"/>
                        </a:lnTo>
                        <a:lnTo>
                          <a:pt x="89" y="199"/>
                        </a:lnTo>
                        <a:lnTo>
                          <a:pt x="116" y="210"/>
                        </a:lnTo>
                        <a:lnTo>
                          <a:pt x="145" y="217"/>
                        </a:lnTo>
                        <a:lnTo>
                          <a:pt x="180" y="223"/>
                        </a:lnTo>
                        <a:lnTo>
                          <a:pt x="212" y="226"/>
                        </a:lnTo>
                        <a:lnTo>
                          <a:pt x="248" y="225"/>
                        </a:lnTo>
                        <a:lnTo>
                          <a:pt x="286" y="222"/>
                        </a:lnTo>
                        <a:lnTo>
                          <a:pt x="321" y="217"/>
                        </a:lnTo>
                        <a:lnTo>
                          <a:pt x="360" y="210"/>
                        </a:lnTo>
                        <a:lnTo>
                          <a:pt x="397" y="201"/>
                        </a:lnTo>
                        <a:lnTo>
                          <a:pt x="426" y="190"/>
                        </a:lnTo>
                        <a:lnTo>
                          <a:pt x="452" y="178"/>
                        </a:lnTo>
                        <a:lnTo>
                          <a:pt x="478" y="161"/>
                        </a:lnTo>
                        <a:lnTo>
                          <a:pt x="493" y="147"/>
                        </a:lnTo>
                        <a:lnTo>
                          <a:pt x="503" y="132"/>
                        </a:lnTo>
                        <a:lnTo>
                          <a:pt x="507" y="120"/>
                        </a:lnTo>
                        <a:lnTo>
                          <a:pt x="505" y="106"/>
                        </a:lnTo>
                        <a:lnTo>
                          <a:pt x="497" y="91"/>
                        </a:lnTo>
                        <a:lnTo>
                          <a:pt x="489" y="82"/>
                        </a:lnTo>
                        <a:lnTo>
                          <a:pt x="476" y="75"/>
                        </a:lnTo>
                        <a:lnTo>
                          <a:pt x="460" y="70"/>
                        </a:lnTo>
                        <a:lnTo>
                          <a:pt x="431" y="63"/>
                        </a:lnTo>
                        <a:lnTo>
                          <a:pt x="383" y="51"/>
                        </a:lnTo>
                        <a:lnTo>
                          <a:pt x="334" y="39"/>
                        </a:lnTo>
                        <a:lnTo>
                          <a:pt x="287" y="29"/>
                        </a:lnTo>
                        <a:lnTo>
                          <a:pt x="260" y="24"/>
                        </a:lnTo>
                        <a:lnTo>
                          <a:pt x="248" y="16"/>
                        </a:lnTo>
                        <a:lnTo>
                          <a:pt x="221" y="0"/>
                        </a:lnTo>
                        <a:lnTo>
                          <a:pt x="66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957240" y="5025960"/>
                    <a:ext cx="83340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322">
                        <a:moveTo>
                          <a:pt x="316" y="2"/>
                        </a:moveTo>
                        <a:lnTo>
                          <a:pt x="293" y="16"/>
                        </a:lnTo>
                        <a:lnTo>
                          <a:pt x="260" y="31"/>
                        </a:lnTo>
                        <a:lnTo>
                          <a:pt x="226" y="49"/>
                        </a:lnTo>
                        <a:lnTo>
                          <a:pt x="203" y="62"/>
                        </a:lnTo>
                        <a:lnTo>
                          <a:pt x="178" y="76"/>
                        </a:lnTo>
                        <a:lnTo>
                          <a:pt x="155" y="88"/>
                        </a:lnTo>
                        <a:lnTo>
                          <a:pt x="129" y="102"/>
                        </a:lnTo>
                        <a:lnTo>
                          <a:pt x="94" y="120"/>
                        </a:lnTo>
                        <a:lnTo>
                          <a:pt x="58" y="137"/>
                        </a:lnTo>
                        <a:lnTo>
                          <a:pt x="45" y="144"/>
                        </a:lnTo>
                        <a:lnTo>
                          <a:pt x="31" y="160"/>
                        </a:lnTo>
                        <a:lnTo>
                          <a:pt x="19" y="176"/>
                        </a:lnTo>
                        <a:lnTo>
                          <a:pt x="9" y="199"/>
                        </a:lnTo>
                        <a:lnTo>
                          <a:pt x="3" y="218"/>
                        </a:lnTo>
                        <a:lnTo>
                          <a:pt x="0" y="239"/>
                        </a:lnTo>
                        <a:lnTo>
                          <a:pt x="0" y="262"/>
                        </a:lnTo>
                        <a:lnTo>
                          <a:pt x="3" y="282"/>
                        </a:lnTo>
                        <a:lnTo>
                          <a:pt x="10" y="301"/>
                        </a:lnTo>
                        <a:lnTo>
                          <a:pt x="16" y="307"/>
                        </a:lnTo>
                        <a:lnTo>
                          <a:pt x="32" y="314"/>
                        </a:lnTo>
                        <a:lnTo>
                          <a:pt x="55" y="319"/>
                        </a:lnTo>
                        <a:lnTo>
                          <a:pt x="90" y="322"/>
                        </a:lnTo>
                        <a:lnTo>
                          <a:pt x="128" y="320"/>
                        </a:lnTo>
                        <a:lnTo>
                          <a:pt x="170" y="317"/>
                        </a:lnTo>
                        <a:lnTo>
                          <a:pt x="207" y="313"/>
                        </a:lnTo>
                        <a:lnTo>
                          <a:pt x="245" y="307"/>
                        </a:lnTo>
                        <a:lnTo>
                          <a:pt x="284" y="300"/>
                        </a:lnTo>
                        <a:lnTo>
                          <a:pt x="320" y="292"/>
                        </a:lnTo>
                        <a:lnTo>
                          <a:pt x="348" y="276"/>
                        </a:lnTo>
                        <a:lnTo>
                          <a:pt x="373" y="251"/>
                        </a:lnTo>
                        <a:lnTo>
                          <a:pt x="391" y="224"/>
                        </a:lnTo>
                        <a:lnTo>
                          <a:pt x="409" y="199"/>
                        </a:lnTo>
                        <a:lnTo>
                          <a:pt x="428" y="178"/>
                        </a:lnTo>
                        <a:lnTo>
                          <a:pt x="445" y="160"/>
                        </a:lnTo>
                        <a:lnTo>
                          <a:pt x="468" y="151"/>
                        </a:lnTo>
                        <a:lnTo>
                          <a:pt x="493" y="138"/>
                        </a:lnTo>
                        <a:lnTo>
                          <a:pt x="513" y="126"/>
                        </a:lnTo>
                        <a:lnTo>
                          <a:pt x="520" y="106"/>
                        </a:lnTo>
                        <a:lnTo>
                          <a:pt x="523" y="84"/>
                        </a:lnTo>
                        <a:lnTo>
                          <a:pt x="525" y="67"/>
                        </a:lnTo>
                        <a:lnTo>
                          <a:pt x="517" y="50"/>
                        </a:lnTo>
                        <a:lnTo>
                          <a:pt x="506" y="36"/>
                        </a:lnTo>
                        <a:lnTo>
                          <a:pt x="494" y="24"/>
                        </a:lnTo>
                        <a:lnTo>
                          <a:pt x="480" y="13"/>
                        </a:lnTo>
                        <a:lnTo>
                          <a:pt x="454" y="0"/>
                        </a:lnTo>
                        <a:lnTo>
                          <a:pt x="31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90680" y="2882880"/>
                  <a:ext cx="2746080" cy="2249640"/>
                  <a:chOff x="490680" y="2882880"/>
                  <a:chExt cx="2746080" cy="224964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490680" y="2882880"/>
                    <a:ext cx="2746080" cy="2249640"/>
                    <a:chOff x="490680" y="2882880"/>
                    <a:chExt cx="2746080" cy="2249640"/>
                  </a:xfrm>
                </p:grpSpPr>
                <p:grpSp>
                  <p:nvGrpSpPr>
                    <p:cNvPr id="342" name=""/>
                    <p:cNvGrpSpPr/>
                    <p:nvPr/>
                  </p:nvGrpSpPr>
                  <p:grpSpPr>
                    <a:xfrm>
                      <a:off x="2570040" y="2882880"/>
                      <a:ext cx="666720" cy="469800"/>
                      <a:chOff x="2570040" y="2882880"/>
                      <a:chExt cx="666720" cy="469800"/>
                    </a:xfrm>
                  </p:grpSpPr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570040" y="2882880"/>
                        <a:ext cx="666720" cy="46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0" h="296">
                            <a:moveTo>
                              <a:pt x="0" y="190"/>
                            </a:moveTo>
                            <a:lnTo>
                              <a:pt x="19" y="180"/>
                            </a:lnTo>
                            <a:lnTo>
                              <a:pt x="43" y="172"/>
                            </a:lnTo>
                            <a:lnTo>
                              <a:pt x="69" y="163"/>
                            </a:lnTo>
                            <a:lnTo>
                              <a:pt x="74" y="144"/>
                            </a:lnTo>
                            <a:lnTo>
                              <a:pt x="81" y="124"/>
                            </a:lnTo>
                            <a:lnTo>
                              <a:pt x="87" y="107"/>
                            </a:lnTo>
                            <a:lnTo>
                              <a:pt x="97" y="89"/>
                            </a:lnTo>
                            <a:lnTo>
                              <a:pt x="111" y="72"/>
                            </a:lnTo>
                            <a:lnTo>
                              <a:pt x="124" y="62"/>
                            </a:lnTo>
                            <a:lnTo>
                              <a:pt x="137" y="54"/>
                            </a:lnTo>
                            <a:lnTo>
                              <a:pt x="153" y="48"/>
                            </a:lnTo>
                            <a:lnTo>
                              <a:pt x="174" y="43"/>
                            </a:lnTo>
                            <a:lnTo>
                              <a:pt x="200" y="41"/>
                            </a:lnTo>
                            <a:lnTo>
                              <a:pt x="230" y="43"/>
                            </a:lnTo>
                            <a:lnTo>
                              <a:pt x="234" y="28"/>
                            </a:lnTo>
                            <a:lnTo>
                              <a:pt x="242" y="12"/>
                            </a:lnTo>
                            <a:lnTo>
                              <a:pt x="261" y="7"/>
                            </a:lnTo>
                            <a:lnTo>
                              <a:pt x="282" y="4"/>
                            </a:lnTo>
                            <a:lnTo>
                              <a:pt x="308" y="0"/>
                            </a:lnTo>
                            <a:lnTo>
                              <a:pt x="318" y="2"/>
                            </a:lnTo>
                            <a:lnTo>
                              <a:pt x="329" y="6"/>
                            </a:lnTo>
                            <a:lnTo>
                              <a:pt x="334" y="11"/>
                            </a:lnTo>
                            <a:lnTo>
                              <a:pt x="337" y="18"/>
                            </a:lnTo>
                            <a:lnTo>
                              <a:pt x="336" y="28"/>
                            </a:lnTo>
                            <a:lnTo>
                              <a:pt x="331" y="37"/>
                            </a:lnTo>
                            <a:lnTo>
                              <a:pt x="323" y="46"/>
                            </a:lnTo>
                            <a:lnTo>
                              <a:pt x="314" y="50"/>
                            </a:lnTo>
                            <a:lnTo>
                              <a:pt x="300" y="58"/>
                            </a:lnTo>
                            <a:lnTo>
                              <a:pt x="285" y="62"/>
                            </a:lnTo>
                            <a:lnTo>
                              <a:pt x="287" y="73"/>
                            </a:lnTo>
                            <a:lnTo>
                              <a:pt x="301" y="76"/>
                            </a:lnTo>
                            <a:lnTo>
                              <a:pt x="317" y="79"/>
                            </a:lnTo>
                            <a:lnTo>
                              <a:pt x="331" y="84"/>
                            </a:lnTo>
                            <a:lnTo>
                              <a:pt x="345" y="91"/>
                            </a:lnTo>
                            <a:lnTo>
                              <a:pt x="355" y="101"/>
                            </a:lnTo>
                            <a:lnTo>
                              <a:pt x="359" y="116"/>
                            </a:lnTo>
                            <a:lnTo>
                              <a:pt x="356" y="132"/>
                            </a:lnTo>
                            <a:lnTo>
                              <a:pt x="376" y="133"/>
                            </a:lnTo>
                            <a:lnTo>
                              <a:pt x="400" y="137"/>
                            </a:lnTo>
                            <a:lnTo>
                              <a:pt x="410" y="149"/>
                            </a:lnTo>
                            <a:lnTo>
                              <a:pt x="417" y="172"/>
                            </a:lnTo>
                            <a:lnTo>
                              <a:pt x="420" y="193"/>
                            </a:lnTo>
                            <a:lnTo>
                              <a:pt x="418" y="214"/>
                            </a:lnTo>
                            <a:lnTo>
                              <a:pt x="414" y="234"/>
                            </a:lnTo>
                            <a:lnTo>
                              <a:pt x="405" y="257"/>
                            </a:lnTo>
                            <a:lnTo>
                              <a:pt x="397" y="275"/>
                            </a:lnTo>
                            <a:lnTo>
                              <a:pt x="389" y="292"/>
                            </a:lnTo>
                            <a:lnTo>
                              <a:pt x="362" y="295"/>
                            </a:lnTo>
                            <a:lnTo>
                              <a:pt x="339" y="296"/>
                            </a:lnTo>
                            <a:lnTo>
                              <a:pt x="321" y="294"/>
                            </a:lnTo>
                            <a:lnTo>
                              <a:pt x="301" y="288"/>
                            </a:lnTo>
                            <a:lnTo>
                              <a:pt x="281" y="283"/>
                            </a:lnTo>
                            <a:lnTo>
                              <a:pt x="258" y="286"/>
                            </a:lnTo>
                            <a:lnTo>
                              <a:pt x="240" y="289"/>
                            </a:lnTo>
                            <a:lnTo>
                              <a:pt x="214" y="292"/>
                            </a:lnTo>
                            <a:lnTo>
                              <a:pt x="191" y="289"/>
                            </a:lnTo>
                            <a:lnTo>
                              <a:pt x="169" y="284"/>
                            </a:lnTo>
                            <a:lnTo>
                              <a:pt x="146" y="276"/>
                            </a:lnTo>
                            <a:lnTo>
                              <a:pt x="130" y="268"/>
                            </a:lnTo>
                            <a:lnTo>
                              <a:pt x="114" y="260"/>
                            </a:lnTo>
                            <a:lnTo>
                              <a:pt x="101" y="269"/>
                            </a:lnTo>
                            <a:lnTo>
                              <a:pt x="87" y="276"/>
                            </a:lnTo>
                            <a:lnTo>
                              <a:pt x="66" y="282"/>
                            </a:lnTo>
                            <a:lnTo>
                              <a:pt x="0" y="19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774880" y="3048120"/>
                        <a:ext cx="10476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74">
                            <a:moveTo>
                              <a:pt x="0" y="74"/>
                            </a:moveTo>
                            <a:lnTo>
                              <a:pt x="27" y="22"/>
                            </a:lnTo>
                            <a:lnTo>
                              <a:pt x="66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2817720" y="3090960"/>
                        <a:ext cx="141480" cy="9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62">
                            <a:moveTo>
                              <a:pt x="0" y="62"/>
                            </a:moveTo>
                            <a:lnTo>
                              <a:pt x="35" y="17"/>
                            </a:lnTo>
                            <a:lnTo>
                              <a:pt x="8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6" name=""/>
                    <p:cNvGrpSpPr/>
                    <p:nvPr/>
                  </p:nvGrpSpPr>
                  <p:grpSpPr>
                    <a:xfrm>
                      <a:off x="490680" y="3170160"/>
                      <a:ext cx="2208240" cy="1962360"/>
                      <a:chOff x="490680" y="3170160"/>
                      <a:chExt cx="2208240" cy="1962360"/>
                    </a:xfrm>
                  </p:grpSpPr>
                  <p:grpSp>
                    <p:nvGrpSpPr>
                      <p:cNvPr id="347" name=""/>
                      <p:cNvGrpSpPr/>
                      <p:nvPr/>
                    </p:nvGrpSpPr>
                    <p:grpSpPr>
                      <a:xfrm>
                        <a:off x="490680" y="3170160"/>
                        <a:ext cx="2208240" cy="1962360"/>
                        <a:chOff x="490680" y="3170160"/>
                        <a:chExt cx="2208240" cy="1962360"/>
                      </a:xfrm>
                    </p:grpSpPr>
                    <p:grpSp>
                      <p:nvGrpSpPr>
                        <p:cNvPr id="348" name=""/>
                        <p:cNvGrpSpPr/>
                        <p:nvPr/>
                      </p:nvGrpSpPr>
                      <p:grpSpPr>
                        <a:xfrm>
                          <a:off x="490680" y="3524400"/>
                          <a:ext cx="1245960" cy="793440"/>
                          <a:chOff x="490680" y="3524400"/>
                          <a:chExt cx="1245960" cy="793440"/>
                        </a:xfrm>
                      </p:grpSpPr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909720" y="3736800"/>
                            <a:ext cx="826920" cy="58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1" h="366">
                                <a:moveTo>
                                  <a:pt x="0" y="198"/>
                                </a:moveTo>
                                <a:lnTo>
                                  <a:pt x="20" y="204"/>
                                </a:lnTo>
                                <a:lnTo>
                                  <a:pt x="35" y="212"/>
                                </a:lnTo>
                                <a:lnTo>
                                  <a:pt x="50" y="223"/>
                                </a:lnTo>
                                <a:lnTo>
                                  <a:pt x="61" y="235"/>
                                </a:lnTo>
                                <a:lnTo>
                                  <a:pt x="72" y="249"/>
                                </a:lnTo>
                                <a:lnTo>
                                  <a:pt x="84" y="266"/>
                                </a:lnTo>
                                <a:lnTo>
                                  <a:pt x="95" y="284"/>
                                </a:lnTo>
                                <a:lnTo>
                                  <a:pt x="107" y="298"/>
                                </a:lnTo>
                                <a:lnTo>
                                  <a:pt x="117" y="313"/>
                                </a:lnTo>
                                <a:lnTo>
                                  <a:pt x="130" y="327"/>
                                </a:lnTo>
                                <a:lnTo>
                                  <a:pt x="149" y="342"/>
                                </a:lnTo>
                                <a:lnTo>
                                  <a:pt x="165" y="351"/>
                                </a:lnTo>
                                <a:lnTo>
                                  <a:pt x="188" y="358"/>
                                </a:lnTo>
                                <a:lnTo>
                                  <a:pt x="210" y="363"/>
                                </a:lnTo>
                                <a:lnTo>
                                  <a:pt x="237" y="366"/>
                                </a:lnTo>
                                <a:lnTo>
                                  <a:pt x="262" y="364"/>
                                </a:lnTo>
                                <a:lnTo>
                                  <a:pt x="290" y="358"/>
                                </a:lnTo>
                                <a:lnTo>
                                  <a:pt x="430" y="312"/>
                                </a:lnTo>
                                <a:lnTo>
                                  <a:pt x="521" y="177"/>
                                </a:lnTo>
                                <a:lnTo>
                                  <a:pt x="521" y="40"/>
                                </a:lnTo>
                                <a:lnTo>
                                  <a:pt x="434" y="0"/>
                                </a:lnTo>
                                <a:lnTo>
                                  <a:pt x="353" y="78"/>
                                </a:lnTo>
                                <a:lnTo>
                                  <a:pt x="0" y="1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>
                            <a:off x="606600" y="3524400"/>
                            <a:ext cx="1001520" cy="30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1" h="191">
                                <a:moveTo>
                                  <a:pt x="195" y="183"/>
                                </a:moveTo>
                                <a:lnTo>
                                  <a:pt x="18" y="191"/>
                                </a:lnTo>
                                <a:lnTo>
                                  <a:pt x="0" y="161"/>
                                </a:lnTo>
                                <a:lnTo>
                                  <a:pt x="31" y="166"/>
                                </a:lnTo>
                                <a:lnTo>
                                  <a:pt x="53" y="165"/>
                                </a:lnTo>
                                <a:lnTo>
                                  <a:pt x="78" y="164"/>
                                </a:lnTo>
                                <a:lnTo>
                                  <a:pt x="107" y="159"/>
                                </a:lnTo>
                                <a:lnTo>
                                  <a:pt x="133" y="152"/>
                                </a:lnTo>
                                <a:lnTo>
                                  <a:pt x="159" y="143"/>
                                </a:lnTo>
                                <a:lnTo>
                                  <a:pt x="182" y="132"/>
                                </a:lnTo>
                                <a:lnTo>
                                  <a:pt x="202" y="122"/>
                                </a:lnTo>
                                <a:lnTo>
                                  <a:pt x="218" y="110"/>
                                </a:lnTo>
                                <a:lnTo>
                                  <a:pt x="234" y="95"/>
                                </a:lnTo>
                                <a:lnTo>
                                  <a:pt x="250" y="78"/>
                                </a:lnTo>
                                <a:lnTo>
                                  <a:pt x="265" y="63"/>
                                </a:lnTo>
                                <a:lnTo>
                                  <a:pt x="278" y="48"/>
                                </a:lnTo>
                                <a:lnTo>
                                  <a:pt x="292" y="35"/>
                                </a:lnTo>
                                <a:lnTo>
                                  <a:pt x="310" y="23"/>
                                </a:lnTo>
                                <a:lnTo>
                                  <a:pt x="328" y="14"/>
                                </a:lnTo>
                                <a:lnTo>
                                  <a:pt x="350" y="8"/>
                                </a:lnTo>
                                <a:lnTo>
                                  <a:pt x="372" y="4"/>
                                </a:lnTo>
                                <a:lnTo>
                                  <a:pt x="398" y="2"/>
                                </a:lnTo>
                                <a:lnTo>
                                  <a:pt x="424" y="0"/>
                                </a:lnTo>
                                <a:lnTo>
                                  <a:pt x="452" y="2"/>
                                </a:lnTo>
                                <a:lnTo>
                                  <a:pt x="476" y="4"/>
                                </a:lnTo>
                                <a:lnTo>
                                  <a:pt x="504" y="6"/>
                                </a:lnTo>
                                <a:lnTo>
                                  <a:pt x="531" y="10"/>
                                </a:lnTo>
                                <a:lnTo>
                                  <a:pt x="559" y="14"/>
                                </a:lnTo>
                                <a:lnTo>
                                  <a:pt x="585" y="17"/>
                                </a:lnTo>
                                <a:lnTo>
                                  <a:pt x="615" y="21"/>
                                </a:lnTo>
                                <a:lnTo>
                                  <a:pt x="631" y="64"/>
                                </a:lnTo>
                                <a:lnTo>
                                  <a:pt x="394" y="95"/>
                                </a:lnTo>
                                <a:lnTo>
                                  <a:pt x="195" y="18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>
                            <a:off x="490680" y="3598920"/>
                            <a:ext cx="1120680" cy="46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6" h="295">
                                <a:moveTo>
                                  <a:pt x="672" y="6"/>
                                </a:moveTo>
                                <a:lnTo>
                                  <a:pt x="646" y="3"/>
                                </a:lnTo>
                                <a:lnTo>
                                  <a:pt x="620" y="1"/>
                                </a:lnTo>
                                <a:lnTo>
                                  <a:pt x="594" y="0"/>
                                </a:lnTo>
                                <a:lnTo>
                                  <a:pt x="556" y="3"/>
                                </a:lnTo>
                                <a:lnTo>
                                  <a:pt x="525" y="6"/>
                                </a:lnTo>
                                <a:lnTo>
                                  <a:pt x="488" y="11"/>
                                </a:lnTo>
                                <a:lnTo>
                                  <a:pt x="459" y="17"/>
                                </a:lnTo>
                                <a:lnTo>
                                  <a:pt x="432" y="25"/>
                                </a:lnTo>
                                <a:lnTo>
                                  <a:pt x="414" y="36"/>
                                </a:lnTo>
                                <a:lnTo>
                                  <a:pt x="397" y="48"/>
                                </a:lnTo>
                                <a:lnTo>
                                  <a:pt x="378" y="61"/>
                                </a:lnTo>
                                <a:lnTo>
                                  <a:pt x="364" y="72"/>
                                </a:lnTo>
                                <a:lnTo>
                                  <a:pt x="348" y="81"/>
                                </a:lnTo>
                                <a:lnTo>
                                  <a:pt x="326" y="93"/>
                                </a:lnTo>
                                <a:lnTo>
                                  <a:pt x="301" y="103"/>
                                </a:lnTo>
                                <a:lnTo>
                                  <a:pt x="280" y="112"/>
                                </a:lnTo>
                                <a:lnTo>
                                  <a:pt x="254" y="119"/>
                                </a:lnTo>
                                <a:lnTo>
                                  <a:pt x="229" y="124"/>
                                </a:lnTo>
                                <a:lnTo>
                                  <a:pt x="201" y="127"/>
                                </a:lnTo>
                                <a:lnTo>
                                  <a:pt x="175" y="129"/>
                                </a:lnTo>
                                <a:lnTo>
                                  <a:pt x="149" y="127"/>
                                </a:lnTo>
                                <a:lnTo>
                                  <a:pt x="123" y="126"/>
                                </a:lnTo>
                                <a:lnTo>
                                  <a:pt x="96" y="121"/>
                                </a:lnTo>
                                <a:lnTo>
                                  <a:pt x="71" y="118"/>
                                </a:lnTo>
                                <a:lnTo>
                                  <a:pt x="46" y="111"/>
                                </a:lnTo>
                                <a:lnTo>
                                  <a:pt x="22" y="99"/>
                                </a:lnTo>
                                <a:lnTo>
                                  <a:pt x="4" y="88"/>
                                </a:lnTo>
                                <a:lnTo>
                                  <a:pt x="2" y="101"/>
                                </a:lnTo>
                                <a:lnTo>
                                  <a:pt x="0" y="117"/>
                                </a:lnTo>
                                <a:lnTo>
                                  <a:pt x="0" y="131"/>
                                </a:lnTo>
                                <a:lnTo>
                                  <a:pt x="3" y="147"/>
                                </a:lnTo>
                                <a:lnTo>
                                  <a:pt x="7" y="162"/>
                                </a:lnTo>
                                <a:lnTo>
                                  <a:pt x="15" y="179"/>
                                </a:lnTo>
                                <a:lnTo>
                                  <a:pt x="25" y="193"/>
                                </a:lnTo>
                                <a:lnTo>
                                  <a:pt x="35" y="208"/>
                                </a:lnTo>
                                <a:lnTo>
                                  <a:pt x="48" y="220"/>
                                </a:lnTo>
                                <a:lnTo>
                                  <a:pt x="62" y="232"/>
                                </a:lnTo>
                                <a:lnTo>
                                  <a:pt x="77" y="241"/>
                                </a:lnTo>
                                <a:lnTo>
                                  <a:pt x="93" y="251"/>
                                </a:lnTo>
                                <a:lnTo>
                                  <a:pt x="113" y="261"/>
                                </a:lnTo>
                                <a:lnTo>
                                  <a:pt x="133" y="268"/>
                                </a:lnTo>
                                <a:lnTo>
                                  <a:pt x="155" y="275"/>
                                </a:lnTo>
                                <a:lnTo>
                                  <a:pt x="177" y="281"/>
                                </a:lnTo>
                                <a:lnTo>
                                  <a:pt x="201" y="287"/>
                                </a:lnTo>
                                <a:lnTo>
                                  <a:pt x="229" y="292"/>
                                </a:lnTo>
                                <a:lnTo>
                                  <a:pt x="261" y="294"/>
                                </a:lnTo>
                                <a:lnTo>
                                  <a:pt x="291" y="295"/>
                                </a:lnTo>
                                <a:lnTo>
                                  <a:pt x="313" y="294"/>
                                </a:lnTo>
                                <a:lnTo>
                                  <a:pt x="342" y="292"/>
                                </a:lnTo>
                                <a:lnTo>
                                  <a:pt x="371" y="288"/>
                                </a:lnTo>
                                <a:lnTo>
                                  <a:pt x="406" y="282"/>
                                </a:lnTo>
                                <a:lnTo>
                                  <a:pt x="432" y="275"/>
                                </a:lnTo>
                                <a:lnTo>
                                  <a:pt x="458" y="268"/>
                                </a:lnTo>
                                <a:lnTo>
                                  <a:pt x="481" y="261"/>
                                </a:lnTo>
                                <a:lnTo>
                                  <a:pt x="509" y="251"/>
                                </a:lnTo>
                                <a:lnTo>
                                  <a:pt x="540" y="238"/>
                                </a:lnTo>
                                <a:lnTo>
                                  <a:pt x="568" y="225"/>
                                </a:lnTo>
                                <a:lnTo>
                                  <a:pt x="593" y="213"/>
                                </a:lnTo>
                                <a:lnTo>
                                  <a:pt x="620" y="198"/>
                                </a:lnTo>
                                <a:lnTo>
                                  <a:pt x="646" y="181"/>
                                </a:lnTo>
                                <a:lnTo>
                                  <a:pt x="698" y="89"/>
                                </a:lnTo>
                                <a:lnTo>
                                  <a:pt x="706" y="52"/>
                                </a:lnTo>
                                <a:lnTo>
                                  <a:pt x="67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2" name=""/>
                        <p:cNvGrpSpPr/>
                        <p:nvPr/>
                      </p:nvGrpSpPr>
                      <p:grpSpPr>
                        <a:xfrm>
                          <a:off x="1224000" y="3170160"/>
                          <a:ext cx="1474920" cy="1962360"/>
                          <a:chOff x="1224000" y="3170160"/>
                          <a:chExt cx="1474920" cy="1962360"/>
                        </a:xfrm>
                      </p:grpSpPr>
                      <p:grpSp>
                        <p:nvGrpSpPr>
                          <p:cNvPr id="353" name=""/>
                          <p:cNvGrpSpPr/>
                          <p:nvPr/>
                        </p:nvGrpSpPr>
                        <p:grpSpPr>
                          <a:xfrm>
                            <a:off x="1224000" y="3170160"/>
                            <a:ext cx="1474920" cy="1962360"/>
                            <a:chOff x="1224000" y="3170160"/>
                            <a:chExt cx="1474920" cy="1962360"/>
                          </a:xfrm>
                        </p:grpSpPr>
                        <p:grpSp>
                          <p:nvGrpSpPr>
                            <p:cNvPr id="354" name=""/>
                            <p:cNvGrpSpPr/>
                            <p:nvPr/>
                          </p:nvGrpSpPr>
                          <p:grpSpPr>
                            <a:xfrm>
                              <a:off x="1432080" y="3170160"/>
                              <a:ext cx="1266840" cy="1962360"/>
                              <a:chOff x="1432080" y="3170160"/>
                              <a:chExt cx="1266840" cy="1962360"/>
                            </a:xfrm>
                          </p:grpSpPr>
                          <p:grpSp>
                            <p:nvGrpSpPr>
                              <p:cNvPr id="355" name=""/>
                              <p:cNvGrpSpPr/>
                              <p:nvPr/>
                            </p:nvGrpSpPr>
                            <p:grpSpPr>
                              <a:xfrm>
                                <a:off x="1762200" y="3170160"/>
                                <a:ext cx="936720" cy="1567080"/>
                                <a:chOff x="1762200" y="3170160"/>
                                <a:chExt cx="936720" cy="1567080"/>
                              </a:xfrm>
                            </p:grpSpPr>
                            <p:sp>
                              <p:nvSpPr>
                                <p:cNvPr id="356" name=""/>
                                <p:cNvSpPr/>
                                <p:nvPr/>
                              </p:nvSpPr>
                              <p:spPr>
                                <a:xfrm>
                                  <a:off x="1886040" y="3170160"/>
                                  <a:ext cx="812880" cy="495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12" h="312">
                                      <a:moveTo>
                                        <a:pt x="0" y="219"/>
                                      </a:moveTo>
                                      <a:lnTo>
                                        <a:pt x="24" y="210"/>
                                      </a:lnTo>
                                      <a:lnTo>
                                        <a:pt x="70" y="193"/>
                                      </a:lnTo>
                                      <a:lnTo>
                                        <a:pt x="112" y="178"/>
                                      </a:lnTo>
                                      <a:lnTo>
                                        <a:pt x="151" y="166"/>
                                      </a:lnTo>
                                      <a:lnTo>
                                        <a:pt x="184" y="155"/>
                                      </a:lnTo>
                                      <a:lnTo>
                                        <a:pt x="215" y="145"/>
                                      </a:lnTo>
                                      <a:lnTo>
                                        <a:pt x="241" y="127"/>
                                      </a:lnTo>
                                      <a:lnTo>
                                        <a:pt x="274" y="106"/>
                                      </a:lnTo>
                                      <a:lnTo>
                                        <a:pt x="306" y="85"/>
                                      </a:lnTo>
                                      <a:lnTo>
                                        <a:pt x="338" y="67"/>
                                      </a:lnTo>
                                      <a:lnTo>
                                        <a:pt x="364" y="49"/>
                                      </a:lnTo>
                                      <a:lnTo>
                                        <a:pt x="392" y="27"/>
                                      </a:lnTo>
                                      <a:lnTo>
                                        <a:pt x="425" y="0"/>
                                      </a:lnTo>
                                      <a:lnTo>
                                        <a:pt x="445" y="18"/>
                                      </a:lnTo>
                                      <a:lnTo>
                                        <a:pt x="464" y="40"/>
                                      </a:lnTo>
                                      <a:lnTo>
                                        <a:pt x="486" y="69"/>
                                      </a:lnTo>
                                      <a:lnTo>
                                        <a:pt x="500" y="85"/>
                                      </a:lnTo>
                                      <a:lnTo>
                                        <a:pt x="512" y="102"/>
                                      </a:lnTo>
                                      <a:lnTo>
                                        <a:pt x="490" y="119"/>
                                      </a:lnTo>
                                      <a:lnTo>
                                        <a:pt x="464" y="137"/>
                                      </a:lnTo>
                                      <a:lnTo>
                                        <a:pt x="439" y="154"/>
                                      </a:lnTo>
                                      <a:lnTo>
                                        <a:pt x="416" y="171"/>
                                      </a:lnTo>
                                      <a:lnTo>
                                        <a:pt x="392" y="184"/>
                                      </a:lnTo>
                                      <a:lnTo>
                                        <a:pt x="366" y="199"/>
                                      </a:lnTo>
                                      <a:lnTo>
                                        <a:pt x="337" y="214"/>
                                      </a:lnTo>
                                      <a:lnTo>
                                        <a:pt x="315" y="225"/>
                                      </a:lnTo>
                                      <a:lnTo>
                                        <a:pt x="287" y="237"/>
                                      </a:lnTo>
                                      <a:lnTo>
                                        <a:pt x="260" y="249"/>
                                      </a:lnTo>
                                      <a:lnTo>
                                        <a:pt x="241" y="257"/>
                                      </a:lnTo>
                                      <a:lnTo>
                                        <a:pt x="218" y="269"/>
                                      </a:lnTo>
                                      <a:lnTo>
                                        <a:pt x="195" y="281"/>
                                      </a:lnTo>
                                      <a:lnTo>
                                        <a:pt x="174" y="293"/>
                                      </a:lnTo>
                                      <a:lnTo>
                                        <a:pt x="141" y="312"/>
                                      </a:lnTo>
                                      <a:lnTo>
                                        <a:pt x="63" y="294"/>
                                      </a:lnTo>
                                      <a:lnTo>
                                        <a:pt x="0" y="21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7" name=""/>
                                <p:cNvSpPr/>
                                <p:nvPr/>
                              </p:nvSpPr>
                              <p:spPr>
                                <a:xfrm>
                                  <a:off x="1843200" y="3521160"/>
                                  <a:ext cx="358560" cy="396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26" h="250">
                                      <a:moveTo>
                                        <a:pt x="0" y="1"/>
                                      </a:moveTo>
                                      <a:lnTo>
                                        <a:pt x="97" y="0"/>
                                      </a:lnTo>
                                      <a:lnTo>
                                        <a:pt x="97" y="61"/>
                                      </a:lnTo>
                                      <a:lnTo>
                                        <a:pt x="167" y="44"/>
                                      </a:lnTo>
                                      <a:lnTo>
                                        <a:pt x="175" y="110"/>
                                      </a:lnTo>
                                      <a:lnTo>
                                        <a:pt x="224" y="227"/>
                                      </a:lnTo>
                                      <a:lnTo>
                                        <a:pt x="226" y="246"/>
                                      </a:lnTo>
                                      <a:lnTo>
                                        <a:pt x="211" y="250"/>
                                      </a:lnTo>
                                      <a:lnTo>
                                        <a:pt x="159" y="188"/>
                                      </a:lnTo>
                                      <a:lnTo>
                                        <a:pt x="51" y="103"/>
                                      </a:lnTo>
                                      <a:lnTo>
                                        <a:pt x="6" y="78"/>
                                      </a:lnTo>
                                      <a:lnTo>
                                        <a:pt x="0" y="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58" name=""/>
                                <p:cNvSpPr/>
                                <p:nvPr/>
                              </p:nvSpPr>
                              <p:spPr>
                                <a:xfrm>
                                  <a:off x="1762200" y="4214880"/>
                                  <a:ext cx="325440" cy="522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5" h="329">
                                      <a:moveTo>
                                        <a:pt x="205" y="33"/>
                                      </a:moveTo>
                                      <a:lnTo>
                                        <a:pt x="200" y="44"/>
                                      </a:lnTo>
                                      <a:lnTo>
                                        <a:pt x="196" y="55"/>
                                      </a:lnTo>
                                      <a:lnTo>
                                        <a:pt x="187" y="63"/>
                                      </a:lnTo>
                                      <a:lnTo>
                                        <a:pt x="177" y="72"/>
                                      </a:lnTo>
                                      <a:lnTo>
                                        <a:pt x="165" y="79"/>
                                      </a:lnTo>
                                      <a:lnTo>
                                        <a:pt x="152" y="86"/>
                                      </a:lnTo>
                                      <a:lnTo>
                                        <a:pt x="141" y="92"/>
                                      </a:lnTo>
                                      <a:lnTo>
                                        <a:pt x="126" y="99"/>
                                      </a:lnTo>
                                      <a:lnTo>
                                        <a:pt x="107" y="110"/>
                                      </a:lnTo>
                                      <a:lnTo>
                                        <a:pt x="94" y="120"/>
                                      </a:lnTo>
                                      <a:lnTo>
                                        <a:pt x="86" y="128"/>
                                      </a:lnTo>
                                      <a:lnTo>
                                        <a:pt x="76" y="139"/>
                                      </a:lnTo>
                                      <a:lnTo>
                                        <a:pt x="67" y="152"/>
                                      </a:lnTo>
                                      <a:lnTo>
                                        <a:pt x="61" y="167"/>
                                      </a:lnTo>
                                      <a:lnTo>
                                        <a:pt x="55" y="181"/>
                                      </a:lnTo>
                                      <a:lnTo>
                                        <a:pt x="52" y="195"/>
                                      </a:lnTo>
                                      <a:lnTo>
                                        <a:pt x="51" y="212"/>
                                      </a:lnTo>
                                      <a:lnTo>
                                        <a:pt x="52" y="230"/>
                                      </a:lnTo>
                                      <a:lnTo>
                                        <a:pt x="54" y="247"/>
                                      </a:lnTo>
                                      <a:lnTo>
                                        <a:pt x="60" y="263"/>
                                      </a:lnTo>
                                      <a:lnTo>
                                        <a:pt x="67" y="278"/>
                                      </a:lnTo>
                                      <a:lnTo>
                                        <a:pt x="78" y="290"/>
                                      </a:lnTo>
                                      <a:lnTo>
                                        <a:pt x="93" y="305"/>
                                      </a:lnTo>
                                      <a:lnTo>
                                        <a:pt x="107" y="315"/>
                                      </a:lnTo>
                                      <a:lnTo>
                                        <a:pt x="126" y="329"/>
                                      </a:lnTo>
                                      <a:lnTo>
                                        <a:pt x="102" y="325"/>
                                      </a:lnTo>
                                      <a:lnTo>
                                        <a:pt x="87" y="318"/>
                                      </a:lnTo>
                                      <a:lnTo>
                                        <a:pt x="74" y="311"/>
                                      </a:lnTo>
                                      <a:lnTo>
                                        <a:pt x="60" y="301"/>
                                      </a:lnTo>
                                      <a:lnTo>
                                        <a:pt x="48" y="291"/>
                                      </a:lnTo>
                                      <a:lnTo>
                                        <a:pt x="36" y="283"/>
                                      </a:lnTo>
                                      <a:lnTo>
                                        <a:pt x="28" y="273"/>
                                      </a:lnTo>
                                      <a:lnTo>
                                        <a:pt x="18" y="260"/>
                                      </a:lnTo>
                                      <a:lnTo>
                                        <a:pt x="7" y="247"/>
                                      </a:lnTo>
                                      <a:lnTo>
                                        <a:pt x="0" y="230"/>
                                      </a:lnTo>
                                      <a:lnTo>
                                        <a:pt x="90" y="31"/>
                                      </a:lnTo>
                                      <a:lnTo>
                                        <a:pt x="131" y="0"/>
                                      </a:lnTo>
                                      <a:lnTo>
                                        <a:pt x="181" y="5"/>
                                      </a:lnTo>
                                      <a:lnTo>
                                        <a:pt x="200" y="18"/>
                                      </a:lnTo>
                                      <a:lnTo>
                                        <a:pt x="205" y="3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59" name=""/>
                              <p:cNvSpPr/>
                              <p:nvPr/>
                            </p:nvSpPr>
                            <p:spPr>
                              <a:xfrm>
                                <a:off x="1432080" y="3627360"/>
                                <a:ext cx="866520" cy="1505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46" h="948">
                                    <a:moveTo>
                                      <a:pt x="269" y="0"/>
                                    </a:moveTo>
                                    <a:lnTo>
                                      <a:pt x="308" y="22"/>
                                    </a:lnTo>
                                    <a:lnTo>
                                      <a:pt x="343" y="45"/>
                                    </a:lnTo>
                                    <a:lnTo>
                                      <a:pt x="379" y="71"/>
                                    </a:lnTo>
                                    <a:lnTo>
                                      <a:pt x="411" y="100"/>
                                    </a:lnTo>
                                    <a:lnTo>
                                      <a:pt x="443" y="129"/>
                                    </a:lnTo>
                                    <a:lnTo>
                                      <a:pt x="468" y="153"/>
                                    </a:lnTo>
                                    <a:lnTo>
                                      <a:pt x="478" y="166"/>
                                    </a:lnTo>
                                    <a:lnTo>
                                      <a:pt x="517" y="357"/>
                                    </a:lnTo>
                                    <a:lnTo>
                                      <a:pt x="517" y="819"/>
                                    </a:lnTo>
                                    <a:lnTo>
                                      <a:pt x="528" y="873"/>
                                    </a:lnTo>
                                    <a:lnTo>
                                      <a:pt x="546" y="900"/>
                                    </a:lnTo>
                                    <a:lnTo>
                                      <a:pt x="505" y="933"/>
                                    </a:lnTo>
                                    <a:lnTo>
                                      <a:pt x="424" y="948"/>
                                    </a:lnTo>
                                    <a:lnTo>
                                      <a:pt x="362" y="937"/>
                                    </a:lnTo>
                                    <a:lnTo>
                                      <a:pt x="376" y="829"/>
                                    </a:lnTo>
                                    <a:lnTo>
                                      <a:pt x="385" y="750"/>
                                    </a:lnTo>
                                    <a:lnTo>
                                      <a:pt x="410" y="551"/>
                                    </a:lnTo>
                                    <a:lnTo>
                                      <a:pt x="415" y="448"/>
                                    </a:lnTo>
                                    <a:lnTo>
                                      <a:pt x="414" y="429"/>
                                    </a:lnTo>
                                    <a:lnTo>
                                      <a:pt x="413" y="413"/>
                                    </a:lnTo>
                                    <a:lnTo>
                                      <a:pt x="408" y="397"/>
                                    </a:lnTo>
                                    <a:lnTo>
                                      <a:pt x="402" y="387"/>
                                    </a:lnTo>
                                    <a:lnTo>
                                      <a:pt x="391" y="378"/>
                                    </a:lnTo>
                                    <a:lnTo>
                                      <a:pt x="378" y="375"/>
                                    </a:lnTo>
                                    <a:lnTo>
                                      <a:pt x="362" y="372"/>
                                    </a:lnTo>
                                    <a:lnTo>
                                      <a:pt x="344" y="373"/>
                                    </a:lnTo>
                                    <a:lnTo>
                                      <a:pt x="331" y="377"/>
                                    </a:lnTo>
                                    <a:lnTo>
                                      <a:pt x="320" y="387"/>
                                    </a:lnTo>
                                    <a:lnTo>
                                      <a:pt x="307" y="403"/>
                                    </a:lnTo>
                                    <a:lnTo>
                                      <a:pt x="237" y="549"/>
                                    </a:lnTo>
                                    <a:lnTo>
                                      <a:pt x="202" y="618"/>
                                    </a:lnTo>
                                    <a:lnTo>
                                      <a:pt x="171" y="790"/>
                                    </a:lnTo>
                                    <a:lnTo>
                                      <a:pt x="169" y="925"/>
                                    </a:lnTo>
                                    <a:lnTo>
                                      <a:pt x="0" y="903"/>
                                    </a:lnTo>
                                    <a:lnTo>
                                      <a:pt x="23" y="862"/>
                                    </a:lnTo>
                                    <a:lnTo>
                                      <a:pt x="36" y="804"/>
                                    </a:lnTo>
                                    <a:lnTo>
                                      <a:pt x="85" y="670"/>
                                    </a:lnTo>
                                    <a:lnTo>
                                      <a:pt x="133" y="532"/>
                                    </a:lnTo>
                                    <a:lnTo>
                                      <a:pt x="179" y="406"/>
                                    </a:lnTo>
                                    <a:lnTo>
                                      <a:pt x="266" y="304"/>
                                    </a:lnTo>
                                    <a:lnTo>
                                      <a:pt x="257" y="154"/>
                                    </a:lnTo>
                                    <a:lnTo>
                                      <a:pt x="162" y="7"/>
                                    </a:lnTo>
                                    <a:lnTo>
                                      <a:pt x="26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3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0" name=""/>
                            <p:cNvSpPr/>
                            <p:nvPr/>
                          </p:nvSpPr>
                          <p:spPr>
                            <a:xfrm>
                              <a:off x="1224000" y="3627360"/>
                              <a:ext cx="655560" cy="1023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13" h="645">
                                  <a:moveTo>
                                    <a:pt x="167" y="0"/>
                                  </a:moveTo>
                                  <a:lnTo>
                                    <a:pt x="289" y="0"/>
                                  </a:lnTo>
                                  <a:lnTo>
                                    <a:pt x="310" y="18"/>
                                  </a:lnTo>
                                  <a:lnTo>
                                    <a:pt x="325" y="33"/>
                                  </a:lnTo>
                                  <a:lnTo>
                                    <a:pt x="341" y="54"/>
                                  </a:lnTo>
                                  <a:lnTo>
                                    <a:pt x="357" y="76"/>
                                  </a:lnTo>
                                  <a:lnTo>
                                    <a:pt x="371" y="99"/>
                                  </a:lnTo>
                                  <a:lnTo>
                                    <a:pt x="384" y="121"/>
                                  </a:lnTo>
                                  <a:lnTo>
                                    <a:pt x="397" y="142"/>
                                  </a:lnTo>
                                  <a:lnTo>
                                    <a:pt x="410" y="163"/>
                                  </a:lnTo>
                                  <a:lnTo>
                                    <a:pt x="413" y="184"/>
                                  </a:lnTo>
                                  <a:lnTo>
                                    <a:pt x="407" y="300"/>
                                  </a:lnTo>
                                  <a:lnTo>
                                    <a:pt x="397" y="322"/>
                                  </a:lnTo>
                                  <a:lnTo>
                                    <a:pt x="387" y="341"/>
                                  </a:lnTo>
                                  <a:lnTo>
                                    <a:pt x="375" y="358"/>
                                  </a:lnTo>
                                  <a:lnTo>
                                    <a:pt x="361" y="373"/>
                                  </a:lnTo>
                                  <a:lnTo>
                                    <a:pt x="345" y="389"/>
                                  </a:lnTo>
                                  <a:lnTo>
                                    <a:pt x="323" y="402"/>
                                  </a:lnTo>
                                  <a:lnTo>
                                    <a:pt x="303" y="413"/>
                                  </a:lnTo>
                                  <a:lnTo>
                                    <a:pt x="277" y="423"/>
                                  </a:lnTo>
                                  <a:lnTo>
                                    <a:pt x="252" y="431"/>
                                  </a:lnTo>
                                  <a:lnTo>
                                    <a:pt x="226" y="439"/>
                                  </a:lnTo>
                                  <a:lnTo>
                                    <a:pt x="202" y="448"/>
                                  </a:lnTo>
                                  <a:lnTo>
                                    <a:pt x="178" y="454"/>
                                  </a:lnTo>
                                  <a:lnTo>
                                    <a:pt x="152" y="462"/>
                                  </a:lnTo>
                                  <a:lnTo>
                                    <a:pt x="132" y="469"/>
                                  </a:lnTo>
                                  <a:lnTo>
                                    <a:pt x="112" y="479"/>
                                  </a:lnTo>
                                  <a:lnTo>
                                    <a:pt x="90" y="491"/>
                                  </a:lnTo>
                                  <a:lnTo>
                                    <a:pt x="73" y="504"/>
                                  </a:lnTo>
                                  <a:lnTo>
                                    <a:pt x="58" y="519"/>
                                  </a:lnTo>
                                  <a:lnTo>
                                    <a:pt x="47" y="535"/>
                                  </a:lnTo>
                                  <a:lnTo>
                                    <a:pt x="36" y="553"/>
                                  </a:lnTo>
                                  <a:lnTo>
                                    <a:pt x="26" y="574"/>
                                  </a:lnTo>
                                  <a:lnTo>
                                    <a:pt x="19" y="593"/>
                                  </a:lnTo>
                                  <a:lnTo>
                                    <a:pt x="13" y="615"/>
                                  </a:lnTo>
                                  <a:lnTo>
                                    <a:pt x="9" y="639"/>
                                  </a:lnTo>
                                  <a:lnTo>
                                    <a:pt x="6" y="645"/>
                                  </a:lnTo>
                                  <a:lnTo>
                                    <a:pt x="0" y="595"/>
                                  </a:lnTo>
                                  <a:lnTo>
                                    <a:pt x="3" y="561"/>
                                  </a:lnTo>
                                  <a:lnTo>
                                    <a:pt x="6" y="534"/>
                                  </a:lnTo>
                                  <a:lnTo>
                                    <a:pt x="12" y="515"/>
                                  </a:lnTo>
                                  <a:lnTo>
                                    <a:pt x="18" y="495"/>
                                  </a:lnTo>
                                  <a:lnTo>
                                    <a:pt x="29" y="479"/>
                                  </a:lnTo>
                                  <a:lnTo>
                                    <a:pt x="39" y="465"/>
                                  </a:lnTo>
                                  <a:lnTo>
                                    <a:pt x="52" y="450"/>
                                  </a:lnTo>
                                  <a:lnTo>
                                    <a:pt x="70" y="435"/>
                                  </a:lnTo>
                                  <a:lnTo>
                                    <a:pt x="86" y="423"/>
                                  </a:lnTo>
                                  <a:lnTo>
                                    <a:pt x="105" y="408"/>
                                  </a:lnTo>
                                  <a:lnTo>
                                    <a:pt x="126" y="393"/>
                                  </a:lnTo>
                                  <a:lnTo>
                                    <a:pt x="151" y="375"/>
                                  </a:lnTo>
                                  <a:lnTo>
                                    <a:pt x="171" y="359"/>
                                  </a:lnTo>
                                  <a:lnTo>
                                    <a:pt x="190" y="342"/>
                                  </a:lnTo>
                                  <a:lnTo>
                                    <a:pt x="206" y="325"/>
                                  </a:lnTo>
                                  <a:lnTo>
                                    <a:pt x="219" y="309"/>
                                  </a:lnTo>
                                  <a:lnTo>
                                    <a:pt x="232" y="292"/>
                                  </a:lnTo>
                                  <a:lnTo>
                                    <a:pt x="242" y="273"/>
                                  </a:lnTo>
                                  <a:lnTo>
                                    <a:pt x="252" y="252"/>
                                  </a:lnTo>
                                  <a:lnTo>
                                    <a:pt x="258" y="238"/>
                                  </a:lnTo>
                                  <a:lnTo>
                                    <a:pt x="16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1" name=""/>
                          <p:cNvGrpSpPr/>
                          <p:nvPr/>
                        </p:nvGrpSpPr>
                        <p:grpSpPr>
                          <a:xfrm>
                            <a:off x="1346040" y="3646440"/>
                            <a:ext cx="768600" cy="484200"/>
                            <a:chOff x="1346040" y="3646440"/>
                            <a:chExt cx="768600" cy="484200"/>
                          </a:xfrm>
                        </p:grpSpPr>
                        <p:sp>
                          <p:nvSpPr>
                            <p:cNvPr id="362" name=""/>
                            <p:cNvSpPr/>
                            <p:nvPr/>
                          </p:nvSpPr>
                          <p:spPr>
                            <a:xfrm>
                              <a:off x="1346040" y="3646440"/>
                              <a:ext cx="657360" cy="4762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14" h="300">
                                  <a:moveTo>
                                    <a:pt x="122" y="9"/>
                                  </a:moveTo>
                                  <a:lnTo>
                                    <a:pt x="103" y="4"/>
                                  </a:lnTo>
                                  <a:lnTo>
                                    <a:pt x="78" y="0"/>
                                  </a:lnTo>
                                  <a:lnTo>
                                    <a:pt x="57" y="3"/>
                                  </a:lnTo>
                                  <a:lnTo>
                                    <a:pt x="35" y="7"/>
                                  </a:lnTo>
                                  <a:lnTo>
                                    <a:pt x="17" y="17"/>
                                  </a:lnTo>
                                  <a:lnTo>
                                    <a:pt x="9" y="28"/>
                                  </a:lnTo>
                                  <a:lnTo>
                                    <a:pt x="3" y="43"/>
                                  </a:lnTo>
                                  <a:lnTo>
                                    <a:pt x="0" y="58"/>
                                  </a:lnTo>
                                  <a:lnTo>
                                    <a:pt x="1" y="72"/>
                                  </a:lnTo>
                                  <a:lnTo>
                                    <a:pt x="4" y="89"/>
                                  </a:lnTo>
                                  <a:lnTo>
                                    <a:pt x="9" y="111"/>
                                  </a:lnTo>
                                  <a:lnTo>
                                    <a:pt x="13" y="120"/>
                                  </a:lnTo>
                                  <a:lnTo>
                                    <a:pt x="35" y="130"/>
                                  </a:lnTo>
                                  <a:lnTo>
                                    <a:pt x="52" y="138"/>
                                  </a:lnTo>
                                  <a:lnTo>
                                    <a:pt x="70" y="147"/>
                                  </a:lnTo>
                                  <a:lnTo>
                                    <a:pt x="87" y="157"/>
                                  </a:lnTo>
                                  <a:lnTo>
                                    <a:pt x="104" y="169"/>
                                  </a:lnTo>
                                  <a:lnTo>
                                    <a:pt x="120" y="180"/>
                                  </a:lnTo>
                                  <a:lnTo>
                                    <a:pt x="136" y="191"/>
                                  </a:lnTo>
                                  <a:lnTo>
                                    <a:pt x="154" y="207"/>
                                  </a:lnTo>
                                  <a:lnTo>
                                    <a:pt x="171" y="225"/>
                                  </a:lnTo>
                                  <a:lnTo>
                                    <a:pt x="187" y="240"/>
                                  </a:lnTo>
                                  <a:lnTo>
                                    <a:pt x="193" y="245"/>
                                  </a:lnTo>
                                  <a:lnTo>
                                    <a:pt x="220" y="252"/>
                                  </a:lnTo>
                                  <a:lnTo>
                                    <a:pt x="256" y="262"/>
                                  </a:lnTo>
                                  <a:lnTo>
                                    <a:pt x="291" y="274"/>
                                  </a:lnTo>
                                  <a:lnTo>
                                    <a:pt x="323" y="286"/>
                                  </a:lnTo>
                                  <a:lnTo>
                                    <a:pt x="351" y="293"/>
                                  </a:lnTo>
                                  <a:lnTo>
                                    <a:pt x="384" y="300"/>
                                  </a:lnTo>
                                  <a:lnTo>
                                    <a:pt x="414" y="300"/>
                                  </a:lnTo>
                                  <a:lnTo>
                                    <a:pt x="397" y="165"/>
                                  </a:lnTo>
                                  <a:lnTo>
                                    <a:pt x="359" y="167"/>
                                  </a:lnTo>
                                  <a:lnTo>
                                    <a:pt x="327" y="163"/>
                                  </a:lnTo>
                                  <a:lnTo>
                                    <a:pt x="301" y="159"/>
                                  </a:lnTo>
                                  <a:lnTo>
                                    <a:pt x="277" y="154"/>
                                  </a:lnTo>
                                  <a:lnTo>
                                    <a:pt x="258" y="142"/>
                                  </a:lnTo>
                                  <a:lnTo>
                                    <a:pt x="241" y="131"/>
                                  </a:lnTo>
                                  <a:lnTo>
                                    <a:pt x="219" y="119"/>
                                  </a:lnTo>
                                  <a:lnTo>
                                    <a:pt x="198" y="109"/>
                                  </a:lnTo>
                                  <a:lnTo>
                                    <a:pt x="188" y="103"/>
                                  </a:lnTo>
                                  <a:lnTo>
                                    <a:pt x="175" y="82"/>
                                  </a:lnTo>
                                  <a:lnTo>
                                    <a:pt x="156" y="59"/>
                                  </a:lnTo>
                                  <a:lnTo>
                                    <a:pt x="142" y="35"/>
                                  </a:lnTo>
                                  <a:lnTo>
                                    <a:pt x="122" y="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bf5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3" name=""/>
                            <p:cNvSpPr/>
                            <p:nvPr/>
                          </p:nvSpPr>
                          <p:spPr>
                            <a:xfrm>
                              <a:off x="1893960" y="3905280"/>
                              <a:ext cx="220680" cy="225360"/>
                            </a:xfrm>
                            <a:prstGeom prst="ellipse">
                              <a:avLst/>
                            </a:pr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64" name=""/>
                      <p:cNvGrpSpPr/>
                      <p:nvPr/>
                    </p:nvGrpSpPr>
                    <p:grpSpPr>
                      <a:xfrm>
                        <a:off x="1544760" y="3494160"/>
                        <a:ext cx="384120" cy="226800"/>
                        <a:chOff x="1544760" y="3494160"/>
                        <a:chExt cx="384120" cy="226800"/>
                      </a:xfrm>
                    </p:grpSpPr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>
                          <a:off x="1544760" y="3494160"/>
                          <a:ext cx="384120" cy="22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2" h="143">
                              <a:moveTo>
                                <a:pt x="133" y="40"/>
                              </a:moveTo>
                              <a:lnTo>
                                <a:pt x="156" y="1"/>
                              </a:lnTo>
                              <a:lnTo>
                                <a:pt x="173" y="0"/>
                              </a:lnTo>
                              <a:lnTo>
                                <a:pt x="189" y="3"/>
                              </a:lnTo>
                              <a:lnTo>
                                <a:pt x="205" y="7"/>
                              </a:lnTo>
                              <a:lnTo>
                                <a:pt x="218" y="15"/>
                              </a:lnTo>
                              <a:lnTo>
                                <a:pt x="229" y="25"/>
                              </a:lnTo>
                              <a:lnTo>
                                <a:pt x="237" y="37"/>
                              </a:lnTo>
                              <a:lnTo>
                                <a:pt x="242" y="53"/>
                              </a:lnTo>
                              <a:lnTo>
                                <a:pt x="240" y="71"/>
                              </a:lnTo>
                              <a:lnTo>
                                <a:pt x="233" y="85"/>
                              </a:lnTo>
                              <a:lnTo>
                                <a:pt x="224" y="99"/>
                              </a:lnTo>
                              <a:lnTo>
                                <a:pt x="215" y="108"/>
                              </a:lnTo>
                              <a:lnTo>
                                <a:pt x="207" y="117"/>
                              </a:lnTo>
                              <a:lnTo>
                                <a:pt x="129" y="89"/>
                              </a:lnTo>
                              <a:lnTo>
                                <a:pt x="107" y="96"/>
                              </a:lnTo>
                              <a:lnTo>
                                <a:pt x="52" y="143"/>
                              </a:lnTo>
                              <a:lnTo>
                                <a:pt x="39" y="137"/>
                              </a:lnTo>
                              <a:lnTo>
                                <a:pt x="30" y="131"/>
                              </a:lnTo>
                              <a:lnTo>
                                <a:pt x="21" y="123"/>
                              </a:lnTo>
                              <a:lnTo>
                                <a:pt x="13" y="112"/>
                              </a:lnTo>
                              <a:lnTo>
                                <a:pt x="4" y="99"/>
                              </a:lnTo>
                              <a:lnTo>
                                <a:pt x="0" y="83"/>
                              </a:lnTo>
                              <a:lnTo>
                                <a:pt x="0" y="66"/>
                              </a:lnTo>
                              <a:lnTo>
                                <a:pt x="3" y="52"/>
                              </a:lnTo>
                              <a:lnTo>
                                <a:pt x="7" y="37"/>
                              </a:lnTo>
                              <a:lnTo>
                                <a:pt x="13" y="28"/>
                              </a:lnTo>
                              <a:lnTo>
                                <a:pt x="20" y="17"/>
                              </a:lnTo>
                              <a:lnTo>
                                <a:pt x="94" y="42"/>
                              </a:lnTo>
                              <a:lnTo>
                                <a:pt x="133" y="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1668600" y="3546360"/>
                          <a:ext cx="153720" cy="1098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1644480" y="3548160"/>
                          <a:ext cx="154080" cy="1094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960" bIns="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1657440" y="3546360"/>
                          <a:ext cx="153720" cy="10980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1965240" y="3800520"/>
                    <a:ext cx="704880" cy="442800"/>
                    <a:chOff x="1965240" y="3800520"/>
                    <a:chExt cx="704880" cy="44280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1965240" y="3948120"/>
                      <a:ext cx="184320" cy="152280"/>
                      <a:chOff x="1965240" y="3948120"/>
                      <a:chExt cx="184320" cy="15228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965240" y="3956040"/>
                        <a:ext cx="163440" cy="144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1987560" y="3948120"/>
                        <a:ext cx="162000" cy="144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2084400" y="3800520"/>
                      <a:ext cx="585720" cy="442800"/>
                      <a:chOff x="2084400" y="3800520"/>
                      <a:chExt cx="585720" cy="442800"/>
                    </a:xfrm>
                  </p:grpSpPr>
                  <p:grpSp>
                    <p:nvGrpSpPr>
                      <p:cNvPr id="374" name=""/>
                      <p:cNvGrpSpPr/>
                      <p:nvPr/>
                    </p:nvGrpSpPr>
                    <p:grpSpPr>
                      <a:xfrm>
                        <a:off x="2089080" y="3813120"/>
                        <a:ext cx="581040" cy="430200"/>
                        <a:chOff x="2089080" y="3813120"/>
                        <a:chExt cx="581040" cy="430200"/>
                      </a:xfrm>
                    </p:grpSpPr>
                    <p:grpSp>
                      <p:nvGrpSpPr>
                        <p:cNvPr id="375" name=""/>
                        <p:cNvGrpSpPr/>
                        <p:nvPr/>
                      </p:nvGrpSpPr>
                      <p:grpSpPr>
                        <a:xfrm>
                          <a:off x="2089080" y="3813120"/>
                          <a:ext cx="581040" cy="430200"/>
                          <a:chOff x="2089080" y="3813120"/>
                          <a:chExt cx="581040" cy="430200"/>
                        </a:xfrm>
                      </p:grpSpPr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2089080" y="3884760"/>
                            <a:ext cx="381240" cy="2905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>
                            <a:off x="2571840" y="4017960"/>
                            <a:ext cx="95040" cy="824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>
                            <a:off x="2467080" y="4113360"/>
                            <a:ext cx="90360" cy="824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"/>
                          <p:cNvSpPr/>
                          <p:nvPr/>
                        </p:nvSpPr>
                        <p:spPr>
                          <a:xfrm>
                            <a:off x="2336760" y="4170240"/>
                            <a:ext cx="85680" cy="730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400" bIns="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" name=""/>
                          <p:cNvSpPr/>
                          <p:nvPr/>
                        </p:nvSpPr>
                        <p:spPr>
                          <a:xfrm>
                            <a:off x="2583000" y="3913200"/>
                            <a:ext cx="87120" cy="763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1" name=""/>
                          <p:cNvSpPr/>
                          <p:nvPr/>
                        </p:nvSpPr>
                        <p:spPr>
                          <a:xfrm>
                            <a:off x="2374920" y="3813120"/>
                            <a:ext cx="120600" cy="1094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2217600" y="3817800"/>
                          <a:ext cx="411480" cy="41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9" h="259">
                              <a:moveTo>
                                <a:pt x="26" y="42"/>
                              </a:moveTo>
                              <a:lnTo>
                                <a:pt x="119" y="0"/>
                              </a:lnTo>
                              <a:lnTo>
                                <a:pt x="165" y="57"/>
                              </a:lnTo>
                              <a:lnTo>
                                <a:pt x="119" y="81"/>
                              </a:lnTo>
                              <a:lnTo>
                                <a:pt x="251" y="60"/>
                              </a:lnTo>
                              <a:lnTo>
                                <a:pt x="259" y="106"/>
                              </a:lnTo>
                              <a:lnTo>
                                <a:pt x="170" y="120"/>
                              </a:lnTo>
                              <a:lnTo>
                                <a:pt x="251" y="125"/>
                              </a:lnTo>
                              <a:lnTo>
                                <a:pt x="249" y="177"/>
                              </a:lnTo>
                              <a:lnTo>
                                <a:pt x="167" y="167"/>
                              </a:lnTo>
                              <a:lnTo>
                                <a:pt x="204" y="193"/>
                              </a:lnTo>
                              <a:lnTo>
                                <a:pt x="167" y="231"/>
                              </a:lnTo>
                              <a:lnTo>
                                <a:pt x="116" y="208"/>
                              </a:lnTo>
                              <a:lnTo>
                                <a:pt x="128" y="240"/>
                              </a:lnTo>
                              <a:lnTo>
                                <a:pt x="81" y="259"/>
                              </a:lnTo>
                              <a:lnTo>
                                <a:pt x="0" y="216"/>
                              </a:lnTo>
                              <a:lnTo>
                                <a:pt x="26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3" name=""/>
                      <p:cNvGrpSpPr/>
                      <p:nvPr/>
                    </p:nvGrpSpPr>
                    <p:grpSpPr>
                      <a:xfrm>
                        <a:off x="2084400" y="3800520"/>
                        <a:ext cx="582480" cy="431640"/>
                        <a:chOff x="2084400" y="3800520"/>
                        <a:chExt cx="582480" cy="431640"/>
                      </a:xfrm>
                    </p:grpSpPr>
                    <p:grpSp>
                      <p:nvGrpSpPr>
                        <p:cNvPr id="384" name=""/>
                        <p:cNvGrpSpPr/>
                        <p:nvPr/>
                      </p:nvGrpSpPr>
                      <p:grpSpPr>
                        <a:xfrm>
                          <a:off x="2084400" y="3800520"/>
                          <a:ext cx="582480" cy="431640"/>
                          <a:chOff x="2084400" y="3800520"/>
                          <a:chExt cx="582480" cy="431640"/>
                        </a:xfrm>
                      </p:grpSpPr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>
                            <a:off x="2084400" y="3873600"/>
                            <a:ext cx="382680" cy="288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2567160" y="4006800"/>
                            <a:ext cx="95040" cy="82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>
                            <a:off x="2462040" y="4102200"/>
                            <a:ext cx="92160" cy="82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2333520" y="4159080"/>
                            <a:ext cx="84240" cy="73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5400" bIns="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>
                            <a:off x="2579760" y="3902040"/>
                            <a:ext cx="87120" cy="76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0" name=""/>
                          <p:cNvSpPr/>
                          <p:nvPr/>
                        </p:nvSpPr>
                        <p:spPr>
                          <a:xfrm>
                            <a:off x="2370240" y="3800520"/>
                            <a:ext cx="120600" cy="111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040" bIns="32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2212920" y="3807000"/>
                          <a:ext cx="412920" cy="411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259">
                              <a:moveTo>
                                <a:pt x="26" y="42"/>
                              </a:moveTo>
                              <a:lnTo>
                                <a:pt x="119" y="0"/>
                              </a:lnTo>
                              <a:lnTo>
                                <a:pt x="165" y="56"/>
                              </a:lnTo>
                              <a:lnTo>
                                <a:pt x="119" y="80"/>
                              </a:lnTo>
                              <a:lnTo>
                                <a:pt x="251" y="60"/>
                              </a:lnTo>
                              <a:lnTo>
                                <a:pt x="260" y="106"/>
                              </a:lnTo>
                              <a:lnTo>
                                <a:pt x="170" y="120"/>
                              </a:lnTo>
                              <a:lnTo>
                                <a:pt x="251" y="125"/>
                              </a:lnTo>
                              <a:lnTo>
                                <a:pt x="249" y="176"/>
                              </a:lnTo>
                              <a:lnTo>
                                <a:pt x="167" y="167"/>
                              </a:lnTo>
                              <a:lnTo>
                                <a:pt x="204" y="193"/>
                              </a:lnTo>
                              <a:lnTo>
                                <a:pt x="168" y="230"/>
                              </a:lnTo>
                              <a:lnTo>
                                <a:pt x="116" y="208"/>
                              </a:lnTo>
                              <a:lnTo>
                                <a:pt x="128" y="240"/>
                              </a:lnTo>
                              <a:lnTo>
                                <a:pt x="81" y="259"/>
                              </a:lnTo>
                              <a:lnTo>
                                <a:pt x="0" y="216"/>
                              </a:lnTo>
                              <a:lnTo>
                                <a:pt x="26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2" name=""/>
                      <p:cNvGrpSpPr/>
                      <p:nvPr/>
                    </p:nvGrpSpPr>
                    <p:grpSpPr>
                      <a:xfrm>
                        <a:off x="2162160" y="3984480"/>
                        <a:ext cx="177840" cy="104760"/>
                        <a:chOff x="2162160" y="3984480"/>
                        <a:chExt cx="177840" cy="104760"/>
                      </a:xfrm>
                    </p:grpSpPr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flipV="1">
                          <a:off x="2182680" y="3984480"/>
                          <a:ext cx="142920" cy="79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>
                          <a:off x="2162160" y="4044960"/>
                          <a:ext cx="177840" cy="44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395" name=""/>
            <p:cNvGrpSpPr/>
            <p:nvPr/>
          </p:nvGrpSpPr>
          <p:grpSpPr>
            <a:xfrm>
              <a:off x="3054240" y="3193920"/>
              <a:ext cx="803520" cy="470160"/>
              <a:chOff x="3054240" y="3193920"/>
              <a:chExt cx="803520" cy="470160"/>
            </a:xfrm>
          </p:grpSpPr>
          <p:sp>
            <p:nvSpPr>
              <p:cNvPr id="396" name=""/>
              <p:cNvSpPr/>
              <p:nvPr/>
            </p:nvSpPr>
            <p:spPr>
              <a:xfrm>
                <a:off x="3054240" y="3193920"/>
                <a:ext cx="58680" cy="399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62160" y="3195720"/>
                <a:ext cx="462240" cy="266760"/>
              </a:xfrm>
              <a:custGeom>
                <a:avLst/>
                <a:gdLst/>
                <a:ahLst/>
                <a:rect l="l" t="t" r="r" b="b"/>
                <a:pathLst>
                  <a:path w="291" h="168">
                    <a:moveTo>
                      <a:pt x="23" y="0"/>
                    </a:moveTo>
                    <a:lnTo>
                      <a:pt x="291" y="141"/>
                    </a:lnTo>
                    <a:lnTo>
                      <a:pt x="261" y="168"/>
                    </a:lnTo>
                    <a:lnTo>
                      <a:pt x="0" y="2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68600" y="3422520"/>
                <a:ext cx="324000" cy="204840"/>
              </a:xfrm>
              <a:custGeom>
                <a:avLst/>
                <a:gdLst/>
                <a:ahLst/>
                <a:rect l="l" t="t" r="r" b="b"/>
                <a:pathLst>
                  <a:path w="204" h="129">
                    <a:moveTo>
                      <a:pt x="34" y="0"/>
                    </a:moveTo>
                    <a:lnTo>
                      <a:pt x="204" y="87"/>
                    </a:lnTo>
                    <a:lnTo>
                      <a:pt x="170" y="129"/>
                    </a:lnTo>
                    <a:lnTo>
                      <a:pt x="0" y="2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57440" y="3416400"/>
                <a:ext cx="82800" cy="5076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28880" y="3556080"/>
                <a:ext cx="12888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6520" y="3570120"/>
                <a:ext cx="92160" cy="78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3505320" y="3224160"/>
            <a:ext cx="39621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xHeavy"/>
              </a:rPr>
              <a:t>Accou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xHeavy"/>
              </a:rPr>
              <a:t>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36360" y="1447920"/>
            <a:ext cx="9029880" cy="5256360"/>
            <a:chOff x="36360" y="1447920"/>
            <a:chExt cx="9029880" cy="5256360"/>
          </a:xfrm>
        </p:grpSpPr>
        <p:grpSp>
          <p:nvGrpSpPr>
            <p:cNvPr id="405" name=""/>
            <p:cNvGrpSpPr/>
            <p:nvPr/>
          </p:nvGrpSpPr>
          <p:grpSpPr>
            <a:xfrm>
              <a:off x="36360" y="1447920"/>
              <a:ext cx="9029880" cy="5251680"/>
              <a:chOff x="36360" y="1447920"/>
              <a:chExt cx="9029880" cy="52516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36360" y="1447920"/>
                <a:ext cx="9029880" cy="5251680"/>
                <a:chOff x="36360" y="1447920"/>
                <a:chExt cx="9029880" cy="52516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659960" y="1600200"/>
                  <a:ext cx="1270080" cy="12189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062160" y="1447920"/>
                  <a:ext cx="1270080" cy="1222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41520" y="2226600"/>
                  <a:ext cx="1270080" cy="1222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6360" y="3301560"/>
                  <a:ext cx="1272600" cy="1222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2320" y="5573160"/>
                  <a:ext cx="986040" cy="9450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65040" y="4393800"/>
                  <a:ext cx="747000" cy="7138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7840" y="4848120"/>
                  <a:ext cx="831600" cy="7952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125800" y="5765400"/>
                  <a:ext cx="2149200" cy="934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300640" y="1687680"/>
                  <a:ext cx="1270080" cy="12272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350840" y="1557720"/>
                  <a:ext cx="864000" cy="8406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57360" y="1873800"/>
                  <a:ext cx="637560" cy="6094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193880" y="1905120"/>
                  <a:ext cx="1872360" cy="18025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41800" y="4571640"/>
                  <a:ext cx="1075680" cy="10436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02280" y="4904640"/>
                  <a:ext cx="1434240" cy="1393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773640" y="2201760"/>
                <a:ext cx="7488720" cy="3837600"/>
              </a:xfrm>
              <a:custGeom>
                <a:avLst/>
                <a:gdLst/>
                <a:ahLst/>
                <a:rect l="l" t="t" r="r" b="b"/>
                <a:pathLst>
                  <a:path w="3007" h="1360">
                    <a:moveTo>
                      <a:pt x="615" y="64"/>
                    </a:moveTo>
                    <a:lnTo>
                      <a:pt x="278" y="100"/>
                    </a:lnTo>
                    <a:lnTo>
                      <a:pt x="0" y="974"/>
                    </a:lnTo>
                    <a:lnTo>
                      <a:pt x="217" y="1231"/>
                    </a:lnTo>
                    <a:lnTo>
                      <a:pt x="831" y="1216"/>
                    </a:lnTo>
                    <a:lnTo>
                      <a:pt x="1482" y="1360"/>
                    </a:lnTo>
                    <a:lnTo>
                      <a:pt x="1821" y="1267"/>
                    </a:lnTo>
                    <a:lnTo>
                      <a:pt x="2739" y="1110"/>
                    </a:lnTo>
                    <a:lnTo>
                      <a:pt x="2887" y="996"/>
                    </a:lnTo>
                    <a:lnTo>
                      <a:pt x="2852" y="759"/>
                    </a:lnTo>
                    <a:lnTo>
                      <a:pt x="3007" y="529"/>
                    </a:lnTo>
                    <a:lnTo>
                      <a:pt x="2591" y="236"/>
                    </a:lnTo>
                    <a:lnTo>
                      <a:pt x="2409" y="115"/>
                    </a:lnTo>
                    <a:lnTo>
                      <a:pt x="1342" y="0"/>
                    </a:lnTo>
                    <a:lnTo>
                      <a:pt x="615" y="6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43640" y="1464840"/>
              <a:ext cx="8794080" cy="5239440"/>
              <a:chOff x="143640" y="1464840"/>
              <a:chExt cx="8794080" cy="5239440"/>
            </a:xfrm>
          </p:grpSpPr>
          <p:sp>
            <p:nvSpPr>
              <p:cNvPr id="423" name=""/>
              <p:cNvSpPr/>
              <p:nvPr/>
            </p:nvSpPr>
            <p:spPr>
              <a:xfrm>
                <a:off x="1789920" y="1695600"/>
                <a:ext cx="1095480" cy="10242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0360" y="4986360"/>
                <a:ext cx="754200" cy="7048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89600" y="4035240"/>
                <a:ext cx="749880" cy="7048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02520" y="1989360"/>
                <a:ext cx="819360" cy="7869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71960" y="1687320"/>
                <a:ext cx="749160" cy="7048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16200" y="2009160"/>
                <a:ext cx="754200" cy="7048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033800" y="5776560"/>
                <a:ext cx="754200" cy="7023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09360" y="1847880"/>
                <a:ext cx="1013760" cy="8661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75800" y="1464840"/>
                <a:ext cx="1182960" cy="11113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88760" y="1785960"/>
                <a:ext cx="1182960" cy="11120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1320" y="2356200"/>
                <a:ext cx="1289880" cy="10890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3640" y="3389040"/>
                <a:ext cx="1187640" cy="11088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37680" y="4543560"/>
                <a:ext cx="1182960" cy="11055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08120" y="5087880"/>
                <a:ext cx="1188000" cy="11113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01120" y="5573160"/>
                <a:ext cx="1270080" cy="11311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720" y="5612760"/>
                <a:ext cx="1013760" cy="9482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52320" y="4946760"/>
                <a:ext cx="1227600" cy="11509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41480" y="4825800"/>
                <a:ext cx="1701000" cy="15969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175480" y="4599720"/>
                <a:ext cx="2179440" cy="19612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9800" y="4441680"/>
                <a:ext cx="622080" cy="5810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41520" y="3549600"/>
                <a:ext cx="619920" cy="5839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17480" y="1949760"/>
                <a:ext cx="1920240" cy="17974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597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terms "assumptions", "principles", "rules", "concepts", "postulates", "standards", etc. are used many different ways in the profession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refore, the authors' classification of        these terms is </a:t>
            </a:r>
            <a:r>
              <a:rPr b="1" lang="en-US" sz="3200" spc="-1" strike="noStrike" u="sng">
                <a:solidFill>
                  <a:srgbClr val="00279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important to us in this cours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i.e., you do not have to understand the authors’ theory structure - just know the meaning and relevance of the items/“ideas” on the following slides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Structure of Accounting Theo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ormal</a:t>
            </a:r>
            <a:r>
              <a:rPr b="1" lang="en-US" sz="3600" spc="-1" strike="noStrike">
                <a:solidFill>
                  <a:srgbClr val="247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247c18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bf69"/>
            </a:gs>
            <a:gs pos="100000">
              <a:srgbClr val="f9de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47480" y="1606680"/>
            <a:ext cx="6251400" cy="471168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ach business has an identity separate from its owners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247c1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business is the accounting entity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247c1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2e00"/>
                </a:solidFill>
                <a:latin typeface="Arial"/>
              </a:rPr>
              <a:t>Financial statements report only the activities, resources, and obligations of that business.</a:t>
            </a:r>
            <a:endParaRPr b="1" lang="en-US" sz="2800" spc="-1" strike="noStrike">
              <a:solidFill>
                <a:srgbClr val="4c2e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7c18"/>
                </a:solidFill>
                <a:latin typeface="Arial"/>
              </a:rPr>
              <a:t>Business Entity “Idea”</a:t>
            </a:r>
            <a:endParaRPr b="1" lang="en-US" sz="4000" spc="-1" strike="noStrike">
              <a:solidFill>
                <a:srgbClr val="247c18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66688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09T16:16:16Z</dcterms:created>
  <dc:creator>E. Barry Rice &amp; Richard S. Rand</dc:creator>
  <dc:description/>
  <dc:language>en-US</dc:language>
  <cp:lastModifiedBy>E. Barry Rice</cp:lastModifiedBy>
  <dcterms:modified xsi:type="dcterms:W3CDTF">1999-03-03T15:53:57Z</dcterms:modified>
  <cp:revision>110</cp:revision>
  <dc:subject/>
  <dc:title>Chapter 5 - Accounting Theory</dc:title>
</cp:coreProperties>
</file>