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902-4655-48B2-975D-1F148410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707-4AA6-4FAD-B2C1-148ED588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4E0-4C3E-4A9E-A31D-8755C7F9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519-FDC5-4FE2-A130-D5AEF4CD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30FE-3C10-4ED2-847F-107F3D69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6F04-B51E-40A1-A194-1D8CC65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B772-16BC-49B1-BB7F-70CC3F1D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5EB4-1D76-4FBC-82A1-91341ED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1EB0-3280-4C9F-AB4F-F80D707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1D8-3598-4E4C-BB65-8B57778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B213-5B66-4976-91C1-C6B9202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A48-2765-4C3B-91B7-FC88AE15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4DCE-00CD-4742-9A66-17839AD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D031-5B36-41F1-8EE2-142C427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A9C-AB5B-48BA-A8E0-BE680780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5B1A-EECA-4138-8B94-278E38CA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EA91-73A1-40A8-887B-D0A6044E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2141-C65E-4230-A0DB-FE1B9A44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DBCA-BB0D-4E47-9FA1-2BE85C9C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156F-FE38-482B-950D-F62A470D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94E0-FB72-4AD7-89DE-CAB51049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2290-951B-46E6-AA4D-8AE0FCF1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282-B167-482D-88B9-DF2BF429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4A76-F4E7-4A15-9702-D39341F6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B177-8AD3-46D0-88E3-5EE0D77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6CFC-9ACA-40DF-8E79-BB1A99D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5941-54B6-4352-A444-B1772D3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2281-6207-4C51-9F68-0E51E3C0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10EA-F5B4-4256-8A1A-5F52E7A9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BC63-9496-4945-9EBF-CADE24CC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36DA-B71C-4EC0-A906-3104F45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B73C-55AF-41CC-9302-57F02BF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51F2-E1D6-4AA2-B851-FC4F224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230-AB57-4EC6-904D-B4345AD9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0C38-FAA8-4F1E-B104-DDF7D77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F519-08AC-4514-AC81-8D838CD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9838-1AE9-4779-BE4F-61D28904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C66D-6404-4824-9364-6CB936C9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C324-B9DE-4CBE-ADDB-55701C77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EECB-7799-4640-89DB-17E225B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8137-3613-4026-A0F8-D58AB57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2197-B8E9-4D25-B5D2-15C28AD3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7577-6F05-4045-9B9C-9A1E77E9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5A2A-CE90-4BC7-9310-2DE08C1C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5DD-01F1-4786-89C5-4D37F6C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3063-1820-4DCD-9BFB-FD969FA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653C0-E1AC-405E-85BD-37FD863D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332C9-0980-44B8-BE6A-9F7A7424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EF63-D0C2-4D10-A41D-95A7F84D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6E05D-3FCF-4840-9788-1CDDDDD5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6182-6BDB-4305-B6B0-0AB9971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4B30-F939-4366-8C36-19ED957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EC1E-4682-4C46-8CB1-5437BE3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D623-9FFB-4346-B6FB-09A9FCA4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491C-529E-4C30-8E2C-B263555F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217-7BF0-459C-8F04-E44C8A5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7071-9D8A-4222-ADF2-FF435898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4EC-08E5-4BEB-9F63-127C4CD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D34-E590-44C3-9DCB-9583C086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909-98A2-4518-99C9-C5C1BDA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DC5-13A3-464C-9DF2-70E3463F00B5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21E0-DABB-4C41-9A6A-325A882C2D5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86E-29A4-433A-8F6A-08993E0AAF69}" type="datetime3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BE22-A993-4BBF-AD6A-77556EF4461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601-8962-4EF2-B125-085E389C1A74}" type="datetime3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330E-11D0-4F35-80D0-F1D4E25A43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DCC1-3DFF-4E49-93D1-0E252B7FFD04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8DBB-088A-4283-A75E-DAD4EDE387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B780-FF3D-4F81-BCA6-0102C973FDB6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D75-4DAA-4EFF-BB6E-27D5B7FBBA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78;&#1601;&#1575;&#1593;&#1604;_&#1603;&#1610;&#1605;&#1610;&#1575;&#1574;&#1610;" TargetMode="External"/><Relationship Id="rId2" Type="http://schemas.openxmlformats.org/officeDocument/2006/relationships/hyperlink" Target="http://ar.wikipedia.org/wiki/&#1578;&#1601;&#1575;&#1593;&#1604;_&#1603;&#1610;&#1605;&#1610;&#1575;&#1574;&#1610;" TargetMode="External"/><Relationship Id="rId3" Type="http://schemas.openxmlformats.org/officeDocument/2006/relationships/hyperlink" Target="http://ar.wikipedia.org/wiki/&#1594;&#1584;&#1575;&#1569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583400" cy="2560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551-647B-4585-9B37-A7E23DACF1AF}" type="datetime3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819F-C8CB-4CAB-9442-77AA58E645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عنوان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86" name="عنصر نائب للتاريخ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233-EDD2-47C7-89F9-2076F6186532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FCC-0F10-479C-90B6-84EB7126AB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عنوان 1"/>
          <p:cNvSpPr/>
          <p:nvPr/>
        </p:nvSpPr>
        <p:spPr>
          <a:xfrm>
            <a:off x="533520" y="274320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609480" y="1549440"/>
            <a:ext cx="85345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+ 6O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→  6CO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+6H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 + 686 kcal          ( in La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          ( 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in the cell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)</a:t>
            </a:r>
            <a:r>
              <a:rPr b="1" lang="ar-IQ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+ 6O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 → 6CO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+6H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 + 38 ATP</a:t>
            </a:r>
            <a:r>
              <a:rPr b="1" lang="ar-IQ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ATP + H</a:t>
            </a:r>
            <a:r>
              <a:rPr b="1" lang="en-US" sz="2400" spc="-1" strike="noStrike" baseline="-30000">
                <a:solidFill>
                  <a:srgbClr val="222222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  →   ADP+ Pi + 7.3 k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38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x7.3  = 278 k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278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/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686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40%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efficiency</a:t>
            </a:r>
            <a:r>
              <a:rPr b="1" lang="en-US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24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عنوان 1" descr=""/>
          <p:cNvPicPr/>
          <p:nvPr/>
        </p:nvPicPr>
        <p:blipFill>
          <a:blip r:embed="rId1"/>
          <a:stretch/>
        </p:blipFill>
        <p:spPr>
          <a:xfrm>
            <a:off x="669960" y="225360"/>
            <a:ext cx="7870680" cy="1457280"/>
          </a:xfrm>
          <a:prstGeom prst="rect">
            <a:avLst/>
          </a:prstGeom>
          <a:ln w="0">
            <a:noFill/>
          </a:ln>
        </p:spPr>
      </p:pic>
      <p:sp>
        <p:nvSpPr>
          <p:cNvPr id="292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C3F4-D1EA-4668-8462-BB29BA7514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صورة 5" descr="C:\Users\User\Desktop\images.png"/>
          <p:cNvPicPr/>
          <p:nvPr/>
        </p:nvPicPr>
        <p:blipFill>
          <a:blip r:embed="rId2"/>
          <a:stretch/>
        </p:blipFill>
        <p:spPr>
          <a:xfrm>
            <a:off x="2514600" y="1600200"/>
            <a:ext cx="4143240" cy="2781360"/>
          </a:xfrm>
          <a:prstGeom prst="rect">
            <a:avLst/>
          </a:prstGeom>
          <a:ln w="0">
            <a:noFill/>
          </a:ln>
        </p:spPr>
      </p:pic>
      <p:pic>
        <p:nvPicPr>
          <p:cNvPr id="294" name="صورة 6" descr=""/>
          <p:cNvPicPr/>
          <p:nvPr/>
        </p:nvPicPr>
        <p:blipFill>
          <a:blip r:embed="rId3"/>
          <a:stretch/>
        </p:blipFill>
        <p:spPr>
          <a:xfrm>
            <a:off x="1905120" y="4952880"/>
            <a:ext cx="52290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عنوان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AAE-315F-4676-89C8-3A2F826D86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صورة 5" descr="C:\Users\User\Desktop\320px-FAD.png"/>
          <p:cNvPicPr/>
          <p:nvPr/>
        </p:nvPicPr>
        <p:blipFill>
          <a:blip r:embed="rId2"/>
          <a:stretch/>
        </p:blipFill>
        <p:spPr>
          <a:xfrm>
            <a:off x="2438280" y="1866960"/>
            <a:ext cx="38386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4" descr=""/>
          <p:cNvPicPr/>
          <p:nvPr/>
        </p:nvPicPr>
        <p:blipFill>
          <a:blip r:embed="rId1"/>
          <a:stretch/>
        </p:blipFill>
        <p:spPr>
          <a:xfrm>
            <a:off x="208080" y="622440"/>
            <a:ext cx="8564400" cy="1230120"/>
          </a:xfrm>
          <a:prstGeom prst="rect">
            <a:avLst/>
          </a:prstGeom>
          <a:ln w="0">
            <a:noFill/>
          </a:ln>
        </p:spPr>
      </p:pic>
      <p:sp>
        <p:nvSpPr>
          <p:cNvPr id="29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CEB6-93F9-4364-9EF7-C5C18815C30F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8B8E-3698-447B-8C6C-78C34391CE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0" y="1295280"/>
            <a:ext cx="9144000" cy="192276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lycolysis occurs in all human cells. Glycolysis is believed to be among the oldest of all the biochemical pathway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Aerobic: Gluco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 Pyru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Anaerobic: Gluco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"/>
              </a:rPr>
              <a:t> Lactate (or ethanol &amp; acet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0" y="2895480"/>
            <a:ext cx="9144000" cy="390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lycolysis (10 reactions in 3 stages, all in cytopla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1) Priming stag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-Glucose + 2ATP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-fructose 1,6-biphosphate + 2ADP + 2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c6febe"/>
                </a:solidFill>
                <a:uFillTx/>
                <a:latin typeface="Times New Roman"/>
              </a:rPr>
              <a:t>2) Splitting stage :</a:t>
            </a:r>
            <a:r>
              <a:rPr b="1" lang="en-US" sz="2400" spc="-1" strike="noStrike">
                <a:solidFill>
                  <a:srgbClr val="c6febe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c6febe"/>
                </a:solidFill>
                <a:latin typeface="Times New Roman"/>
              </a:rPr>
              <a:t>D-Fructose 1,6-biphosphate </a:t>
            </a:r>
            <a:r>
              <a:rPr b="0" lang="en-GB" sz="2000" spc="-1" strike="noStrike">
                <a:solidFill>
                  <a:srgbClr val="c6feb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c6febe"/>
                </a:solidFill>
                <a:latin typeface="Times New Roman"/>
              </a:rPr>
              <a:t> 2 D-Glyceraldehyde 3-phosph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e2a7"/>
                </a:solidFill>
                <a:uFillTx/>
                <a:latin typeface="Times New Roman"/>
              </a:rPr>
              <a:t>3) Oxidoreduction – Phosphorylation stage:</a:t>
            </a:r>
            <a:r>
              <a:rPr b="1" lang="en-US" sz="2400" spc="-1" strike="noStrike" u="sng">
                <a:solidFill>
                  <a:srgbClr val="ffe2a7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e2a7"/>
                </a:solidFill>
                <a:latin typeface="Times New Roman"/>
              </a:rPr>
              <a:t>2 D-Glyceraldehyde 3-phosphate + 4ADP + 2Pi + 2H+ </a:t>
            </a:r>
            <a:r>
              <a:rPr b="0" lang="en-GB" sz="2000" spc="-1" strike="noStrike">
                <a:solidFill>
                  <a:srgbClr val="ffe2a7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e2a7"/>
                </a:solidFill>
                <a:latin typeface="Times New Roman"/>
              </a:rPr>
              <a:t> 2Lactate + 4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ucose + 2ADP + 2Pi ----- 2 Lactate + 2ATP + 2H2O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naerob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ucose + 2ADP + 2Pi + 2NA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- 2 pyruvate + 2ATP + 2NADH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erob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mmon Abbreviations &amp; Alternative Nam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3CE8-AFE7-4663-B4A3-3FA37B99DAFE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90E-E576-4B0F-8E29-1C736F8763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F39E-1FFA-461E-B422-1D7F67AB2F01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2DC-53A9-409D-A856-A6C2940B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rcRect l="11945" t="35486" r="39606" b="20969"/>
          <a:stretch/>
        </p:blipFill>
        <p:spPr>
          <a:xfrm>
            <a:off x="228600" y="1752480"/>
            <a:ext cx="8610480" cy="4310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5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DA0D-836D-474D-9314-7A65C491EC8E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812E-8FD6-42E1-87FB-868C446488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434340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1) Priming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0" y="15238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0" y="685800"/>
            <a:ext cx="4343400" cy="62391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lnSpc>
                <a:spcPct val="103000"/>
              </a:lnSpc>
              <a:spcBef>
                <a:spcPts val="1312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dbf5f9"/>
                </a:solidFill>
                <a:uFillTx/>
                <a:latin typeface="Times New Roman"/>
              </a:rPr>
              <a:t>Glucose (and other hexoses) are phosphorylated immediately upon entry into the cell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. </a:t>
            </a:r>
            <a:r>
              <a:rPr b="0" lang="en-US" sz="2100" spc="-1" strike="noStrike">
                <a:solidFill>
                  <a:srgbClr val="dbf5f9"/>
                </a:solidFill>
                <a:latin typeface="Times New Roman"/>
              </a:rPr>
              <a:t>Phosphorylation prevents transport of glucose out of the cell and increases the reactivity of oxygen in the resulting phosphate est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3000"/>
              </a:lnSpc>
              <a:spcBef>
                <a:spcPts val="1312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dbf5f9"/>
                </a:solidFill>
                <a:uFillTx/>
                <a:latin typeface="Times New Roman"/>
              </a:rPr>
              <a:t>Several isoenzymes of hexokinase with different Km values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en-GB" sz="2100" spc="-1" strike="noStrike" u="sng">
                <a:solidFill>
                  <a:srgbClr val="dbf5f9"/>
                </a:solidFill>
                <a:uFillTx/>
                <a:latin typeface="Times New Roman"/>
              </a:rPr>
              <a:t>for glucose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 are located in different tissues. Brain hexokinase has a particularly low K</a:t>
            </a:r>
            <a:r>
              <a:rPr b="0" lang="en-GB" sz="2100" spc="-1" strike="noStrike" baseline="-25000">
                <a:solidFill>
                  <a:srgbClr val="dbf5f9"/>
                </a:solidFill>
                <a:latin typeface="Times New Roman"/>
              </a:rPr>
              <a:t>m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 for glucos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3000"/>
              </a:lnSpc>
              <a:spcBef>
                <a:spcPts val="1312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The major enzyme for phosphorylating glucose in </a:t>
            </a:r>
            <a:r>
              <a:rPr b="0" lang="en-GB" sz="2100" spc="-1" strike="noStrike" u="sng">
                <a:solidFill>
                  <a:srgbClr val="dbf5f9"/>
                </a:solidFill>
                <a:uFillTx/>
                <a:latin typeface="Times New Roman"/>
              </a:rPr>
              <a:t>liver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  is </a:t>
            </a:r>
            <a:r>
              <a:rPr b="1" i="1" lang="en-GB" sz="2100" spc="-1" strike="noStrike">
                <a:solidFill>
                  <a:srgbClr val="dbf5f9"/>
                </a:solidFill>
                <a:latin typeface="Times New Roman"/>
              </a:rPr>
              <a:t>glucokinase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3000"/>
              </a:lnSpc>
              <a:spcBef>
                <a:spcPts val="1312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Steps catalyzed by hexokinase &amp; PFK-1 are </a:t>
            </a:r>
            <a:r>
              <a:rPr b="0" lang="en-GB" sz="2100" spc="-1" strike="noStrike" u="sng">
                <a:solidFill>
                  <a:srgbClr val="dbf5f9"/>
                </a:solidFill>
                <a:uFillTx/>
                <a:latin typeface="Times New Roman"/>
              </a:rPr>
              <a:t>irreversible</a:t>
            </a:r>
            <a:r>
              <a:rPr b="0" lang="en-GB" sz="2100" spc="-1" strike="noStrike">
                <a:solidFill>
                  <a:srgbClr val="dbf5f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495680" y="25909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4876920" y="1143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17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5FE4-04C7-495D-8E00-468F166BC5AA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EB5A-3445-4EEB-9DFC-07A491D97C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91440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Tahoma"/>
              </a:rPr>
              <a:t>Differences between Glucokinase &amp; 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1371600"/>
          <a:ext cx="9144000" cy="5472000"/>
        </p:xfrm>
        <a:graphic>
          <a:graphicData uri="http://schemas.openxmlformats.org/drawingml/2006/table">
            <a:tbl>
              <a:tblPr/>
              <a:tblGrid>
                <a:gridCol w="4114800"/>
                <a:gridCol w="5029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f6fc6"/>
                          </a:solidFill>
                          <a:latin typeface="Times New Roman"/>
                          <a:ea typeface="Times New Roman"/>
                        </a:rPr>
                        <a:t>Hexokinase</a:t>
                      </a:r>
                      <a:r>
                        <a:rPr b="0" lang="en-US" sz="2400" spc="-1" strike="noStrike">
                          <a:solidFill>
                            <a:srgbClr val="0f6fc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f6fc6"/>
                          </a:solidFill>
                          <a:latin typeface="Times New Roman"/>
                          <a:ea typeface="Times New Roman"/>
                        </a:rPr>
                        <a:t>Gluco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Present in all tissu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Liver on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Low K</a:t>
                      </a:r>
                      <a:r>
                        <a:rPr b="1" lang="en-GB" sz="2200" spc="-1" strike="noStrike" baseline="-25000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GB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 for glucose (&lt;0.1 mM)</a:t>
                      </a: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Higher K</a:t>
                      </a:r>
                      <a:r>
                        <a:rPr b="1" lang="en-GB" sz="2200" spc="-1" strike="noStrike" baseline="-25000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GB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 for glucose</a:t>
                      </a: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Strongly inhibited by G6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Not inhibited by G6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Non-inducible enzyme, not affected by diabetes or insul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Inducible, synthesis induced by insulin &amp; repressed in diabet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Level of enzyme is not affected  by fasting or high CHO die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Depends on glucose concent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3680" indent="-463680"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Act on glucose, fructose and galacto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3680" indent="-463680" algn="just"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Glucose on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3680" indent="-463680"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Wingdings" charset="2"/>
                        <a:buChar char="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bf5f9"/>
                      </a:solidFill>
                    </a:lnL>
                    <a:lnR w="5760">
                      <a:solidFill>
                        <a:srgbClr val="dbf5f9"/>
                      </a:solidFill>
                    </a:lnR>
                    <a:lnT w="5760">
                      <a:solidFill>
                        <a:srgbClr val="dbf5f9"/>
                      </a:solidFill>
                    </a:lnT>
                    <a:lnB w="5760">
                      <a:solidFill>
                        <a:srgbClr val="dbf5f9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888-815D-4DA3-932A-DF954E363C6A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0EB3-8A7B-4A0A-9C97-F337A745BD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472428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Calibri"/>
              </a:rPr>
              <a:t>2) Splitting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0" y="685800"/>
            <a:ext cx="4724280" cy="613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lnSpc>
                <a:spcPct val="102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The reaction catalysed by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aldolase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is the reverse of aldol condens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2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Although th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cleavage of F1,6BP is energetically unfavourable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, rapid removal of the product drives the reaction forwar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2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Of the two products of the aldolase reaction,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only GAP (or G3P)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serves as a substrate  for the next reaction in glycolys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2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To prevent the loss of the other three-carbon unit, triose phosphate isomerase catalyses the interconversion of DHAP &amp; G3P. Because of this reaction, the original molecule of glucose has now been converted to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two molecules of G3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4724280" y="1447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3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1480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E517-7A6E-49B0-A367-09208C5ED489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C03D-ADF1-452C-9814-82998E9A02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4267080" cy="1066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dbf5f9"/>
                </a:solidFill>
                <a:latin typeface="Tahoma"/>
              </a:rPr>
              <a:t>Oxidoreduction – Phosphorylation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0" y="1066680"/>
            <a:ext cx="4267080" cy="582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lnSpc>
                <a:spcPct val="105000"/>
              </a:lnSpc>
              <a:spcBef>
                <a:spcPts val="1500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-3-P dehydrogenase is a tetramer, each subunit contains 1 binding site for G3P &amp; another for NA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A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man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und to the enzy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5000"/>
              </a:lnSpc>
              <a:spcBef>
                <a:spcPts val="1500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3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,3-BP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PG and PE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yruvate are examples of 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strate–level” phosphory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5000"/>
              </a:lnSpc>
              <a:spcBef>
                <a:spcPts val="1500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P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-PG is mediated by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[2,3-BPG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Most cells have low amounts of 2,3-BPG except in RBCs, which act as allosteric modifier of Hb-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lnSpc>
                <a:spcPct val="105000"/>
              </a:lnSpc>
              <a:spcBef>
                <a:spcPts val="1500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uvate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“irreversible reaction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e to free energy loss associated with tautomerization of the enol to the more stable keto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48320" y="1523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7B7-EDC5-477F-B6A1-887206F0349A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F707-DE8F-4F47-AB4E-AC84CE90A4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447920" y="3886200"/>
            <a:ext cx="5790960" cy="12452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P is converted to ATP by the direct transfer of a phosphoryl group from a high energy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838080" y="2133720"/>
            <a:ext cx="6705720" cy="1371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43000" y="22096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"/>
              </a:rPr>
              <a:t>What is meant by  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“substrate–level phosphorylation” </a:t>
            </a:r>
            <a:r>
              <a:rPr b="0" lang="en-GB" sz="3200" spc="-1" strike="noStrike">
                <a:solidFill>
                  <a:srgbClr val="000000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 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abo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أيض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استقلاب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أ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أيض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أ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عملية التمثيل الغذائي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: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etabolism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هي مجموعة من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cs typeface="Times New Roman"/>
                <a:hlinkClick r:id="rId1"/>
              </a:rPr>
              <a:t>التفاعلات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cs typeface="Times New Roman"/>
                <a:hlinkClick r:id="rId2"/>
              </a:rPr>
              <a:t>الكيميائية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التي تحدث في الكائنات الحية على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cs typeface="Times New Roman"/>
                <a:hlinkClick r:id="rId3"/>
              </a:rPr>
              <a:t>المواد الغذائية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مختلفة بواسطة العوامل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إنزيمية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لغرض الحصول على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طاقة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أو بناء الأنسجة وينقسم التمثيل الغذائي إلى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هدم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 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atabolism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 : 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هي عملية تكسير المواد الغذائية الرئيسية سوا</a:t>
            </a:r>
            <a:r>
              <a:rPr b="1" lang="ar-IQ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ء 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كانت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كربوهيدرات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 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أ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بروتينات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أ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دهون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خلال طرق مختلفة من التفاعلات الحيوية إلى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جزيئات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بسيطة وينتج عن ذلك الحصول على الطاقة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البناء 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nabolism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: 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الجزيئات البسيطة الناتجة من عملية الهدم يمكن استخدامها كنواة لبناء مواد أكثر تعقيدا سواء كانت بروتينية أو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أحماض نووية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r>
              <a:rPr b="1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من خلال سلسلة من التفاعلات وذلك لبناء الأنسجة وتستهلك طاقة في تلك التفاعلات</a:t>
            </a:r>
            <a:r>
              <a:rPr b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351-0A2C-47E8-A101-82094CA0C523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8133-C1F4-4CD6-A62A-673AF854EB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7014-2C7F-47C7-A216-7C85E0429AE9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32E-BD57-482E-B806-E1CBF76FB3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838080" y="1523880"/>
            <a:ext cx="6705720" cy="228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066680" y="160020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Rockwell"/>
              </a:rPr>
              <a:t>Why glycolysis unde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Rockwell"/>
              </a:rPr>
              <a:t>anaerobic</a:t>
            </a:r>
            <a:r>
              <a:rPr b="0" lang="en-GB" sz="3200" spc="-1" strike="noStrike">
                <a:solidFill>
                  <a:srgbClr val="000000"/>
                </a:solidFill>
                <a:latin typeface="Rockwell"/>
              </a:rPr>
              <a:t> conditions proceed to lactate and not just stop at pyruvate forma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838080" y="4038480"/>
            <a:ext cx="723924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reaction of lactate dehydrogenase is essential in anaerobic glycolysis , as it is the mean for reoxidizing NADH formed in the G-3-P dehydrogenase step  to re-enter into the glycolysis cycle. In aerobic glycolysis reoxidation takes place in mitochondria by the respiratory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Calibri"/>
              </a:rPr>
              <a:t>Overall pathway of Glycolysis &amp; ATP Form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0" y="1295280"/>
          <a:ext cx="3352680" cy="5531040"/>
        </p:xfrm>
        <a:graphic>
          <a:graphicData uri="http://schemas.openxmlformats.org/drawingml/2006/table">
            <a:tbl>
              <a:tblPr/>
              <a:tblGrid>
                <a:gridCol w="1219320"/>
                <a:gridCol w="990360"/>
                <a:gridCol w="1143000"/>
              </a:tblGrid>
              <a:tr h="709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Number of ATP generated from glycolysis</a:t>
                      </a: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Enzy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Aero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Anaero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Hexokin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-1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-1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PFK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-1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-1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G-3-P dehydro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6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Phospho-glycerate kin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2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2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Pyruvate kin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2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2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8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f5f9"/>
                          </a:solidFill>
                          <a:latin typeface="Times New Roman"/>
                          <a:ea typeface="Times New Roman"/>
                        </a:rPr>
                        <a:t>+2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</a:tbl>
          </a:graphicData>
        </a:graphic>
      </p:graphicFrame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A8E9-4FAA-4329-978B-CCBC46C78C42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C58-AE34-4476-8F15-F90A19636B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h_glycolysisPathway"/>
          <p:cNvPicPr/>
          <p:nvPr/>
        </p:nvPicPr>
        <p:blipFill>
          <a:blip r:embed="rId1"/>
          <a:stretch/>
        </p:blipFill>
        <p:spPr>
          <a:xfrm>
            <a:off x="3352680" y="1298520"/>
            <a:ext cx="5791320" cy="55594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A5C-8C0E-4904-BF21-2E6911EEBB7C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5DF0-850F-47D1-9B2B-82B19C7E2A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67600" y="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Tahoma"/>
                <a:ea typeface="Tahoma"/>
              </a:rPr>
              <a:t>Study Question 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0" y="762120"/>
            <a:ext cx="6934320" cy="4038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" y="838080"/>
            <a:ext cx="662940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d0d0d"/>
                </a:solidFill>
                <a:latin typeface="Rockwell"/>
              </a:rPr>
              <a:t>Louis Pasteur, the great 19th century French chemist and microbiologist, was the first scientist to observe the following phenomenon. “Cells that can oxidize glucose completely to CO</a:t>
            </a:r>
            <a:r>
              <a:rPr b="0" lang="en-GB" sz="2200" spc="-1" strike="noStrike" baseline="-25000">
                <a:solidFill>
                  <a:srgbClr val="0d0d0d"/>
                </a:solidFill>
                <a:latin typeface="Rockwell"/>
              </a:rPr>
              <a:t>2</a:t>
            </a:r>
            <a:r>
              <a:rPr b="0" lang="en-GB" sz="2200" spc="-1" strike="noStrike">
                <a:solidFill>
                  <a:srgbClr val="0d0d0d"/>
                </a:solidFill>
                <a:latin typeface="Rockwell"/>
              </a:rPr>
              <a:t> and H</a:t>
            </a:r>
            <a:r>
              <a:rPr b="0" lang="en-GB" sz="2200" spc="-1" strike="noStrike" baseline="-25000">
                <a:solidFill>
                  <a:srgbClr val="0d0d0d"/>
                </a:solidFill>
                <a:latin typeface="Rockwell"/>
              </a:rPr>
              <a:t>2</a:t>
            </a:r>
            <a:r>
              <a:rPr b="0" lang="en-GB" sz="2200" spc="-1" strike="noStrike">
                <a:solidFill>
                  <a:srgbClr val="0d0d0d"/>
                </a:solidFill>
                <a:latin typeface="Rockwell"/>
              </a:rPr>
              <a:t>O utilize glucose more rapidly in the absence of O</a:t>
            </a:r>
            <a:r>
              <a:rPr b="0" lang="en-GB" sz="2200" spc="-1" strike="noStrike" baseline="-25000">
                <a:solidFill>
                  <a:srgbClr val="0d0d0d"/>
                </a:solidFill>
                <a:latin typeface="Rockwell"/>
              </a:rPr>
              <a:t>2</a:t>
            </a:r>
            <a:r>
              <a:rPr b="0" lang="en-GB" sz="2200" spc="-1" strike="noStrike">
                <a:solidFill>
                  <a:srgbClr val="0d0d0d"/>
                </a:solidFill>
                <a:latin typeface="Rockwell"/>
              </a:rPr>
              <a:t> than in its presence”. It would appear that O</a:t>
            </a:r>
            <a:r>
              <a:rPr b="0" lang="en-GB" sz="2200" spc="-1" strike="noStrike" baseline="-25000">
                <a:solidFill>
                  <a:srgbClr val="0d0d0d"/>
                </a:solidFill>
                <a:latin typeface="Rockwell"/>
              </a:rPr>
              <a:t>2</a:t>
            </a:r>
            <a:r>
              <a:rPr b="0" lang="en-GB" sz="2200" spc="-1" strike="noStrike">
                <a:solidFill>
                  <a:srgbClr val="0d0d0d"/>
                </a:solidFill>
                <a:latin typeface="Rockwell"/>
              </a:rPr>
              <a:t> inhibits glucose consumption. Thus, another definition for Pasteur effect is: inhibition of glucose utilization and lactate accumulation by the initiation of respiration (O</a:t>
            </a:r>
            <a:r>
              <a:rPr b="0" lang="en-GB" sz="2200" spc="-1" strike="noStrike" baseline="-25000">
                <a:solidFill>
                  <a:srgbClr val="0d0d0d"/>
                </a:solidFill>
                <a:latin typeface="Rockwell"/>
              </a:rPr>
              <a:t>2</a:t>
            </a:r>
            <a:r>
              <a:rPr b="0" lang="en-GB" sz="2200" spc="-1" strike="noStrike">
                <a:solidFill>
                  <a:srgbClr val="0d0d0d"/>
                </a:solidFill>
                <a:latin typeface="Rockwell"/>
              </a:rPr>
              <a:t> consumption)… </a:t>
            </a:r>
            <a:r>
              <a:rPr b="0" lang="en-GB" sz="2200" spc="-1" strike="noStrike">
                <a:solidFill>
                  <a:srgbClr val="0000ff"/>
                </a:solidFill>
                <a:latin typeface="Rockwell"/>
              </a:rPr>
              <a:t>Can you explain why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8" descr="image?id=3400&amp;rendTypeId=4"/>
          <p:cNvPicPr/>
          <p:nvPr/>
        </p:nvPicPr>
        <p:blipFill>
          <a:blip r:embed="rId1"/>
          <a:stretch/>
        </p:blipFill>
        <p:spPr>
          <a:xfrm>
            <a:off x="6961320" y="0"/>
            <a:ext cx="2182680" cy="32004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9"/>
          <p:cNvSpPr/>
          <p:nvPr/>
        </p:nvSpPr>
        <p:spPr>
          <a:xfrm>
            <a:off x="6934320" y="3200400"/>
            <a:ext cx="2209680" cy="825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uis Pasteur (1822 - 18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0" y="4952880"/>
            <a:ext cx="9144000" cy="17697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reason behind this phenomenon is that complete oxidation of glucose under aerobic conditions yield much more ATP (~38 ATP) than anaerobic glycolysis (~2ATP). Thus it is anticipated that the rate of glucose consumption will be 19-20 times faster under anaerobic condition to meet the metabolic demand in a way equivalent to aerobic condi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2895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alibri"/>
              </a:rPr>
              <a:t>Regulation of Glyco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8C89-82BC-4E14-8D55-88F22DF950FC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034-8413-4EBB-8098-F74C8B1EFA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267080" y="0"/>
            <a:ext cx="4876920" cy="1349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glycolysis is controlled primarily by allosteric regulation of the 3 key enzymes (irreversible steps), hexokinase, PFK-1, and pyruvate kin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267080" y="1371600"/>
          <a:ext cx="4876920" cy="2811600"/>
        </p:xfrm>
        <a:graphic>
          <a:graphicData uri="http://schemas.openxmlformats.org/drawingml/2006/table">
            <a:tbl>
              <a:tblPr/>
              <a:tblGrid>
                <a:gridCol w="1405080"/>
                <a:gridCol w="1606680"/>
                <a:gridCol w="186516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Hexokin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AMP, ADP, 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G-6-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PFK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F-6-P, AMP, F-2,6-DP (liver on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NADH, H</a:t>
                      </a:r>
                      <a:r>
                        <a:rPr b="0" lang="pt-PT" sz="1800" spc="-1" strike="noStrike" baseline="30000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pt-PT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pt-PT" sz="1800" spc="-1" strike="noStrike" baseline="30000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PT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citrate, AT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Pyruvate kin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AMP, F-1,6-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bf5f9"/>
                          </a:solidFill>
                          <a:latin typeface="Arial"/>
                          <a:ea typeface="Arial"/>
                        </a:rPr>
                        <a:t>ATP, acetyl CoA, phosphory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70" name="Text Box 57"/>
          <p:cNvSpPr/>
          <p:nvPr/>
        </p:nvSpPr>
        <p:spPr>
          <a:xfrm>
            <a:off x="0" y="1295280"/>
            <a:ext cx="4267080" cy="5595120"/>
          </a:xfrm>
          <a:prstGeom prst="rect">
            <a:avLst/>
          </a:prstGeom>
          <a:solidFill>
            <a:srgbClr val="660066"/>
          </a:solidFill>
          <a:ln cap="sq" w="1260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250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bf5f9"/>
                </a:solidFill>
                <a:uFillTx/>
                <a:latin typeface="Times New Roman"/>
              </a:rPr>
              <a:t>PFK-1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</a:rPr>
              <a:t> is the major regulatory enzyme of glycolysis.</a:t>
            </a:r>
            <a:r>
              <a:rPr b="1" lang="en-US" sz="20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dbf5f9"/>
                </a:solidFill>
                <a:latin typeface="Times New Roman"/>
              </a:rPr>
              <a:t>In the </a:t>
            </a:r>
            <a:r>
              <a:rPr b="0" lang="en-GB" sz="2000" spc="-1" strike="noStrike" u="sng">
                <a:solidFill>
                  <a:srgbClr val="dbf5f9"/>
                </a:solidFill>
                <a:uFillTx/>
                <a:latin typeface="Times New Roman"/>
              </a:rPr>
              <a:t>liver only</a:t>
            </a:r>
            <a:r>
              <a:rPr b="0" lang="en-GB" sz="2000" spc="-1" strike="noStrike">
                <a:solidFill>
                  <a:srgbClr val="dbf5f9"/>
                </a:solidFill>
                <a:latin typeface="Times New Roman"/>
              </a:rPr>
              <a:t>, PFK-1 is activated by </a:t>
            </a:r>
            <a:r>
              <a:rPr b="1" lang="en-GB" sz="2000" spc="-1" strike="noStrike" u="sng">
                <a:solidFill>
                  <a:srgbClr val="dbf5f9"/>
                </a:solidFill>
                <a:uFillTx/>
                <a:latin typeface="Times New Roman"/>
              </a:rPr>
              <a:t>fructose-2,6-diphosphate</a:t>
            </a:r>
            <a:r>
              <a:rPr b="1" lang="en-GB" sz="2000" spc="-1" strike="noStrike">
                <a:solidFill>
                  <a:srgbClr val="dbf5f9"/>
                </a:solidFill>
                <a:latin typeface="Times New Roman"/>
              </a:rPr>
              <a:t> (F-2,6-DP)</a:t>
            </a:r>
            <a:r>
              <a:rPr b="0" lang="en-GB" sz="2000" spc="-1" strike="noStrike">
                <a:solidFill>
                  <a:srgbClr val="dbf5f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spcBef>
                <a:spcPts val="1250"/>
              </a:spcBef>
              <a:buClr>
                <a:srgbClr val="dbf5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dbf5f9"/>
                </a:solidFill>
                <a:uFillTx/>
                <a:latin typeface="Times New Roman"/>
              </a:rPr>
              <a:t>PFK-2</a:t>
            </a:r>
            <a:r>
              <a:rPr b="0" lang="en-GB" sz="2000" spc="-1" strike="noStrike">
                <a:solidFill>
                  <a:srgbClr val="dbf5f9"/>
                </a:solidFill>
                <a:latin typeface="Times New Roman"/>
              </a:rPr>
              <a:t>, the enzyme that synthesize the activator F-2,6-DP, is itself a regulatory enzyme. It is inhibited by citrate &amp; ATP and by phosphorylation. The reverse reaction is catalyzed by </a:t>
            </a:r>
            <a:r>
              <a:rPr b="1" lang="en-GB" sz="2000" spc="-1" strike="noStrike" u="sng">
                <a:solidFill>
                  <a:srgbClr val="dbf5f9"/>
                </a:solidFill>
                <a:uFillTx/>
                <a:latin typeface="Times New Roman"/>
              </a:rPr>
              <a:t>fructose-2,6-diphosphatase</a:t>
            </a:r>
            <a:r>
              <a:rPr b="1" lang="en-GB" sz="2000" spc="-1" strike="noStrike">
                <a:solidFill>
                  <a:srgbClr val="dbf5f9"/>
                </a:solidFill>
                <a:latin typeface="Times New Roman"/>
              </a:rPr>
              <a:t>(F-2,6-DPa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just"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ff"/>
                </a:solidFill>
                <a:uFillTx/>
                <a:latin typeface="Times New Roman"/>
              </a:rPr>
              <a:t>Hormones</a:t>
            </a:r>
            <a:r>
              <a:rPr b="0" lang="en-GB" sz="2000" spc="-1" strike="noStrike">
                <a:solidFill>
                  <a:srgbClr val="dbf5f9"/>
                </a:solidFill>
                <a:latin typeface="Times New Roman"/>
              </a:rPr>
              <a:t> also regulate glycolysis e.g., glucagon inhibits glycolysis by repressing the synthesis of F-2,6-DP. Insulin promotes glycolysis by stimulating the synthesis of F-2,6-D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9"/>
          <p:cNvSpPr/>
          <p:nvPr/>
        </p:nvSpPr>
        <p:spPr>
          <a:xfrm>
            <a:off x="3657600" y="53341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60" descr="ch15_PFK2_FBP2"/>
          <p:cNvPicPr/>
          <p:nvPr/>
        </p:nvPicPr>
        <p:blipFill>
          <a:blip r:embed="rId1"/>
          <a:srcRect l="0" t="14858" r="0" b="53337"/>
          <a:stretch/>
        </p:blipFill>
        <p:spPr>
          <a:xfrm>
            <a:off x="4267080" y="4191120"/>
            <a:ext cx="4876920" cy="26668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373" name="Oval 77"/>
          <p:cNvSpPr/>
          <p:nvPr/>
        </p:nvSpPr>
        <p:spPr>
          <a:xfrm>
            <a:off x="5486400" y="2666880"/>
            <a:ext cx="1523880" cy="685800"/>
          </a:xfrm>
          <a:prstGeom prst="ellipse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5" descr=""/>
          <p:cNvPicPr/>
          <p:nvPr/>
        </p:nvPicPr>
        <p:blipFill>
          <a:blip r:embed="rId1"/>
          <a:stretch/>
        </p:blipFill>
        <p:spPr>
          <a:xfrm>
            <a:off x="665280" y="146160"/>
            <a:ext cx="4601880" cy="1079280"/>
          </a:xfrm>
          <a:prstGeom prst="rect">
            <a:avLst/>
          </a:prstGeom>
          <a:ln w="0">
            <a:noFill/>
          </a:ln>
        </p:spPr>
      </p:pic>
      <p:sp>
        <p:nvSpPr>
          <p:cNvPr id="37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307A-69D5-4BB6-8A1E-C4C5725F58D6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AE85-F0E5-4BD5-A5F6-4C6EFCBD05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380880" y="2438280"/>
            <a:ext cx="8305920" cy="129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09480" y="25146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What effects do fluoride and magnesium have on glycolysi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2DD-C5EE-4BDD-B4B3-CDA34368DFCC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B1A-60B5-479F-B5E6-4566E01889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80880" y="5562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62120" y="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Tahoma"/>
              </a:rPr>
              <a:t>Comments on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0" y="522360"/>
            <a:ext cx="9144000" cy="55861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spcBef>
                <a:spcPts val="9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Times New Roman"/>
              </a:rPr>
              <a:t>Glycolysis is the </a:t>
            </a:r>
            <a:r>
              <a:rPr b="0" lang="en-GB" sz="2400" spc="-1" strike="noStrike" u="sng">
                <a:solidFill>
                  <a:srgbClr val="00ff99"/>
                </a:solidFill>
                <a:uFillTx/>
                <a:latin typeface="Times New Roman"/>
              </a:rPr>
              <a:t>only</a:t>
            </a:r>
            <a:r>
              <a:rPr b="0" lang="en-GB" sz="2400" spc="-1" strike="noStrike">
                <a:solidFill>
                  <a:srgbClr val="00ff99"/>
                </a:solidFill>
                <a:latin typeface="Times New Roman"/>
              </a:rPr>
              <a:t> pathway that produce ATP in </a:t>
            </a:r>
            <a:r>
              <a:rPr b="0" lang="en-GB" sz="2400" spc="-1" strike="noStrike" u="sng">
                <a:solidFill>
                  <a:srgbClr val="00ff99"/>
                </a:solidFill>
                <a:uFillTx/>
                <a:latin typeface="Times New Roman"/>
              </a:rPr>
              <a:t>absence</a:t>
            </a:r>
            <a:r>
              <a:rPr b="0" lang="en-GB" sz="2400" spc="-1" strike="noStrike">
                <a:solidFill>
                  <a:srgbClr val="00ff99"/>
                </a:solidFill>
                <a:latin typeface="Times New Roman"/>
              </a:rPr>
              <a:t> of O</a:t>
            </a:r>
            <a:r>
              <a:rPr b="0" lang="en-GB" sz="2400" spc="-1" strike="noStrike" baseline="-25000">
                <a:solidFill>
                  <a:srgbClr val="00ff99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ff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st know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hibitors of the glycolytic pathw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senate and  iodoacetate:  inhibi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glyceraldehydes-3-phosph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hydrogenase which has cysteine residue in the activ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uorid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potent inhibito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ol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us, fluoride is usually added to blood samples to inhibit glycolysis before estimation of blood gluc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gnesiu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required for kinase reactions by forming Mg-ATP co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ccumulation of </a:t>
            </a:r>
            <a:r>
              <a:rPr b="0" lang="en-GB" sz="2400" spc="-1" strike="noStrike" u="sng">
                <a:solidFill>
                  <a:srgbClr val="66ffff"/>
                </a:solidFill>
                <a:uFillTx/>
                <a:latin typeface="Times New Roman"/>
              </a:rPr>
              <a:t>lactate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 is responsible for muscle fatigue and cramps observed under heavy exercise (anaerobic glycoly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In </a:t>
            </a:r>
            <a:r>
              <a:rPr b="0" lang="en-GB" sz="2400" spc="-1" strike="noStrike" u="sng">
                <a:solidFill>
                  <a:srgbClr val="660066"/>
                </a:solidFill>
                <a:uFillTx/>
                <a:latin typeface="Times New Roman"/>
              </a:rPr>
              <a:t>RBCs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, glycolysis is the major source of ATP since RBCs lack mitochondrial oxi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351-BB9E-4816-9145-E11DB03A5120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0B21-9C71-4E5A-A777-5A5807E56D2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صورة 5" descr="C:\Users\User\Desktop\shuttle3.gif"/>
          <p:cNvPicPr/>
          <p:nvPr/>
        </p:nvPicPr>
        <p:blipFill>
          <a:blip r:embed="rId1"/>
          <a:stretch/>
        </p:blipFill>
        <p:spPr>
          <a:xfrm>
            <a:off x="1981080" y="2362320"/>
            <a:ext cx="5114880" cy="35719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8"/>
          <p:cNvSpPr/>
          <p:nvPr/>
        </p:nvSpPr>
        <p:spPr>
          <a:xfrm>
            <a:off x="838080" y="-187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Black"/>
                <a:ea typeface="Arial"/>
              </a:rPr>
              <a:t>Malate shu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66ff"/>
                </a:solidFill>
                <a:latin typeface="Arial"/>
                <a:cs typeface="Arial"/>
              </a:rPr>
              <a:t>في القلب والكلية والكبد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DE92-4FAB-4144-8337-E48E9E0B8D1F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71AA-3904-4104-BC01-06D21D77B0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838080" y="2253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4617b"/>
                </a:solidFill>
                <a:latin typeface="Times New Roman"/>
                <a:cs typeface="Majalla UI"/>
              </a:rPr>
              <a:t>في العضلات الهيكلية والدما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صورة 6" descr="C:\Users\User\Desktop\slide_14.jpg"/>
          <p:cNvPicPr/>
          <p:nvPr/>
        </p:nvPicPr>
        <p:blipFill>
          <a:blip r:embed="rId1"/>
          <a:stretch/>
        </p:blipFill>
        <p:spPr>
          <a:xfrm>
            <a:off x="1523880" y="2209680"/>
            <a:ext cx="594360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عنصر نائب للتاريخ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FD0-DAFD-431D-8B48-CD8DECE86B53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عنصر نائب للتذييل 2"/>
          <p:cNvSpPr/>
          <p:nvPr/>
        </p:nvSpPr>
        <p:spPr>
          <a:xfrm>
            <a:off x="609480" y="1905120"/>
            <a:ext cx="77724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66ff"/>
                </a:solidFill>
                <a:latin typeface="Times New Roman"/>
                <a:cs typeface="Majalla UI"/>
              </a:rPr>
              <a:t>هي سلسلة من التفاعلات التي تنتج معظم جزيئات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TP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ar-IQ" sz="2400" spc="-1" strike="noStrike">
                <a:solidFill>
                  <a:srgbClr val="0066ff"/>
                </a:solidFill>
                <a:latin typeface="Times New Roman"/>
                <a:cs typeface="Majalla UI"/>
              </a:rPr>
              <a:t>المتكونة من أكسدة الكلوكوز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ea typeface="Majalla UI"/>
              </a:rPr>
              <a:t>- يمر الهيدروجين والالكترونات العالية الطاقة والمحمولة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NADH , FADH</a:t>
            </a:r>
            <a:r>
              <a:rPr b="0" lang="en-US" sz="24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Majalla UI"/>
              </a:rPr>
              <a:t>على كما في شكل (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ea typeface="Majalla UI"/>
              </a:rPr>
              <a:t>) خلال تتابع من مساعدات الأنزيمات في الغشاء الداخلي للميتوكوندريا </a:t>
            </a:r>
            <a:r>
              <a:rPr b="1" lang="ar-SA" sz="2400" spc="-1" strike="noStrike">
                <a:solidFill>
                  <a:srgbClr val="0066ff"/>
                </a:solidFill>
                <a:latin typeface="Times New Roman"/>
                <a:cs typeface="Majalla UI"/>
              </a:rPr>
              <a:t>تسمى السيتوكرومات أو حاملات الالكترونات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ea typeface="Majalla UI"/>
              </a:rPr>
              <a:t> وتحمل الالكترونات على مستويات طاقة مختلفة وبمرور الالكترونات من جزئ لآخر من السيتوكرومات تنطلق طاقة لتكون جزيئات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Majalla UI"/>
              </a:rPr>
              <a:t>من جزيئات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DP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Majalla UI"/>
              </a:rPr>
              <a:t>وتعرف بالفسفرة التأكسدية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 </a:t>
            </a:r>
            <a:r>
              <a:rPr b="0" lang="ar-SA" sz="2400" spc="-1" strike="noStrike">
                <a:solidFill>
                  <a:srgbClr val="0066ff"/>
                </a:solidFill>
                <a:latin typeface="Times New Roman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E5D-B5F4-4752-B42D-84B8F131E4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مستطيل 5"/>
          <p:cNvSpPr/>
          <p:nvPr/>
        </p:nvSpPr>
        <p:spPr>
          <a:xfrm>
            <a:off x="2530440" y="304920"/>
            <a:ext cx="531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66ff"/>
                </a:solidFill>
                <a:latin typeface="Times New Roman"/>
                <a:cs typeface="Majalla UI"/>
              </a:rPr>
              <a:t>سلسلة نقل الالكترون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عنصر نائب للتاريخ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ED19-0257-4A77-BF3C-C6792F386984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عنصر نائب للتذييل 2"/>
          <p:cNvSpPr/>
          <p:nvPr/>
        </p:nvSpPr>
        <p:spPr>
          <a:xfrm>
            <a:off x="609480" y="1905120"/>
            <a:ext cx="77724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هي سلسلة من التفاعلات التي تنتج معظم جزيئات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TP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IQ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المتكونة من أكسدة الكلوكوز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ea typeface="Majalla UI"/>
              </a:rPr>
              <a:t>- يمر الهيدروجين والالكترونات العالية الطاقة والمحمولة</a:t>
            </a:r>
            <a:r>
              <a:rPr b="0" lang="ar-IQ" sz="2400" spc="-1" strike="noStrike">
                <a:solidFill>
                  <a:srgbClr val="660066"/>
                </a:solidFill>
                <a:latin typeface="Times New Roman"/>
                <a:ea typeface="Majalla UI"/>
              </a:rPr>
              <a:t> على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ea typeface="Majalla UI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DH FADH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خلال تتابع من مساعدات الأنزيمات في الغشاء الداخلي للميتوكوندريا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تسمى السيتوكرومات أو حاملات الالكترونات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ea typeface="Majalla UI"/>
              </a:rPr>
              <a:t> وتحمل الالكترونات على مستويات طاقة مختلفة وبمرور الالكترونات من جزئ لآخر من السيتوكرومات تنطلق طاقة لتكون جزيئات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من جزيئات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DP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وتعرف بالفسفرة التأكسدية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 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ar-IQ" sz="2400" spc="-1" strike="noStrike">
                <a:solidFill>
                  <a:srgbClr val="660066"/>
                </a:solidFill>
                <a:latin typeface="Times New Roman"/>
                <a:ea typeface="Majalla UI"/>
              </a:rPr>
              <a:t>-  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يعتبر الأكسجين هو المستقبل الأخير في سلسلة نقل الالكترونات حيث يتحد كل إلكترونين مع بروتونين مع ذرة أكسجين لتكوين الماء </a:t>
            </a:r>
            <a:r>
              <a:rPr b="0" lang="ar-IQ" sz="2400" spc="-1" strike="noStrike">
                <a:solidFill>
                  <a:srgbClr val="660066"/>
                </a:solidFill>
                <a:latin typeface="Times New Roman"/>
                <a:cs typeface="Majalla UI"/>
              </a:rPr>
              <a:t>كما في المخطط التال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5"/>
          <p:cNvSpPr/>
          <p:nvPr/>
        </p:nvSpPr>
        <p:spPr>
          <a:xfrm>
            <a:off x="2530440" y="304920"/>
            <a:ext cx="531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66ff"/>
                </a:solidFill>
                <a:latin typeface="Times New Roman"/>
                <a:cs typeface="Majalla UI"/>
              </a:rPr>
              <a:t>سلسلة نقل الالكترون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ثيل الغذائي للكربوهيدرات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Constantia"/>
                <a:cs typeface="Majalla UI"/>
              </a:rPr>
              <a:t>في الفم: 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يتم تحليل النشاء إلى مالتوز وسلاسل من عديدات السكريات بواسطة أنزيم اميليز اللعاب وذلك بكسر الرابطة الجلايكوسيديه </a:t>
            </a:r>
            <a:r>
              <a:rPr b="1" lang="el-GR" sz="2000" spc="-1" strike="noStrike">
                <a:solidFill>
                  <a:srgbClr val="04617b"/>
                </a:solidFill>
                <a:latin typeface="Constantia"/>
              </a:rPr>
              <a:t>α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(1→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يتوقف عمل الأنزيم عند وصوله مع الطعام إلى المعدة نظرا لأنها شديدة الحموضة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Constantia"/>
                <a:cs typeface="Majalla UI"/>
              </a:rPr>
              <a:t>في المعدة: 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لا يوجد هضم للسكريات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Constantia"/>
                <a:cs typeface="Majalla UI"/>
              </a:rPr>
              <a:t>في الأمعاء: 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يوجد أنزيم أملييز الأمعاء الذي يكمل ما بدءه املييز اللعاب ويحطم المزيد من الروابط الجلاكوسيدية. وينتج منها خليط من السكريات الثنائي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تفرز الأنزيمات الخاصة بهضم السكريات الثنائية مثل أنزيم اللاكتيز,السكريز, مالتييز</a:t>
            </a:r>
            <a:r>
              <a:rPr b="1" lang="ar-IQ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ل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يكون الناتج سكريات أحاد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لا يمكن هضم السليلوز لعدم وجود الأنزيمات المخصصة لذل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3E30-D45C-4EC8-9B0C-50354753FF0E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عنصر نائب لرقم الشريحة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888-2415-46B4-982E-754B70C8ED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عنصر نائب للتاريخ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6F2B-7234-4420-9D33-9205D2BE0AD2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عنصر نائب للتذييل 2"/>
          <p:cNvSpPr/>
          <p:nvPr/>
        </p:nvSpPr>
        <p:spPr>
          <a:xfrm>
            <a:off x="609480" y="1905120"/>
            <a:ext cx="77724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مستطيل 5"/>
          <p:cNvSpPr/>
          <p:nvPr/>
        </p:nvSpPr>
        <p:spPr>
          <a:xfrm>
            <a:off x="2530440" y="304920"/>
            <a:ext cx="531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660066"/>
                </a:solidFill>
                <a:latin typeface="Times New Roman"/>
                <a:cs typeface="Majalla UI"/>
              </a:rPr>
              <a:t>سلسلة نقل الإلكترون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صورة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   </a:t>
            </a: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صير الجلوكوز في الد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يتم نقله بواسطة الدم إلى الأنسجة المختلفة في الجسم ليتم استغلاله بالطرق التال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r" rtl="1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أكسدة الجلوكوز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لإنتاج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H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O  CO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onstantia"/>
              </a:rPr>
              <a:t>2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و 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والطاقة عن طريق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Glycolysis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ودورة كريب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r" rtl="1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تحويل الجلوكوز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إلى مكونات أخرى ذات أهميه بيولوجيه مثل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الريبوز والديوكسي رابيوز لتصنيع الأحماض النووي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الفركتوز يدخل في تكوين السائل المنوي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حمض الجلوكيورونيك في الكبد وهو هام للتفاعلات التي يتم فيها تحويل المواد السامة إلى مواد غير سام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سكريات أمينيه لصنع السكريات المخاطي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التخزين: يتم تخزين الجلوكوز في الكبد والعضلات على هيئة جلايكوجين بواسطة عملية تسمى الجلايكوجينسيس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Glycogenesis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 (عملية تكوين الغليكوجين) . ويتم تخزينه في الكبد والنسيج الشحمي على هيئة دهون متعادلة عن طريق عملية تسمى ليبوجنيسس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Lipogenesis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	</a:t>
            </a:r>
            <a:r>
              <a:rPr b="0" lang="ar-IQ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( عملية تكوين الدهون )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	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960D-5FA8-4776-B2B9-11519E494F84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عنصر نائب لرقم الشريحة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11D3-C399-4915-93CE-CD8B0E8E1C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   </a:t>
            </a: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صير الجلوكوز في الد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يتم نقله بواسطة الدم إلى الأنسجة المختلفة في الجسم ليتم استغلاله بالطرق التال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r" rtl="1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أكسدة الجلوكوز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لإنتاج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H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O  CO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onstantia"/>
              </a:rPr>
              <a:t>2</a:t>
            </a:r>
            <a:r>
              <a:rPr b="0" lang="en-US" sz="2000" spc="-1" strike="noStrike" baseline="-25000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و 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والطاقة عن طريق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Glycolysis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ودورة كريب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r" rtl="1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تحويل الجلوكوز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إلى مكونات أخرى ذات أهميه بيولوجيه مثل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الريبوز والديوكسي رابيوز لتصنيع الأحماض النووي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الفركتوز يدخل في تكوين السائل المنوي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حمض الجلوكيورونيك في الكبد وهو هام للتفاعلات التي يتم فيها تحويل المواد السامة إلى مواد غير سام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 algn="r" rtl="1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سكريات أمينيه لصنع السكريات المخاطية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4617b"/>
                </a:solidFill>
                <a:latin typeface="Constantia"/>
                <a:cs typeface="Majalla UI"/>
              </a:rPr>
              <a:t>التخزين: يتم تخزين الجلوكوز في الكبد والعضلات على هيئة جلايكوجين بواسطة عملية تسمى الجلايكوجينسيس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Glycogenesis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  (عملية تكوين الغليكوجين) . ويتم تخزينه في الكبد والنسيج الشحمي على هيئة دهون متعادلة عن طريق عملية تسمى ليبوجنيسس 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Lipogenesis</a:t>
            </a:r>
            <a:r>
              <a:rPr b="0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	</a:t>
            </a:r>
            <a:r>
              <a:rPr b="0" lang="ar-IQ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( عملية تكوين الدهون )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	</a:t>
            </a:r>
            <a:r>
              <a:rPr b="1" lang="ar-SA" sz="2000" spc="-1" strike="noStrike">
                <a:solidFill>
                  <a:srgbClr val="04617b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64C-1189-4C1E-B151-D7C5E9DCD7A2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عنصر نائب لرقم الشريحة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08F1-90EF-4B0C-9819-50EA47F78D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C1AF-A24E-40A7-859D-4E1055920758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E323-D899-42E6-900D-7EC82D8FBB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9144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bf5f9"/>
                </a:solidFill>
                <a:latin typeface="Tahoma"/>
              </a:rPr>
              <a:t>A Map of The Major Metabolic </a:t>
            </a:r>
            <a:br>
              <a:rPr sz="2800"/>
            </a:br>
            <a:r>
              <a:rPr b="0" lang="en-GB" sz="2800" spc="-1" strike="noStrike">
                <a:solidFill>
                  <a:srgbClr val="dbf5f9"/>
                </a:solidFill>
                <a:latin typeface="Tahoma"/>
              </a:rPr>
              <a:t>Pathways in A Typical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52280" y="1523880"/>
            <a:ext cx="2667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1"/>
          <a:srcRect l="0" t="1387" r="0" b="0"/>
          <a:stretch/>
        </p:blipFill>
        <p:spPr>
          <a:xfrm>
            <a:off x="76320" y="1066680"/>
            <a:ext cx="9138960" cy="55659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0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e Diagram was taken from “Biochemistry” by Voet &amp; Voet (2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edition, 1995, John Wiley &amp; Sons, pg. 4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2"/>
          <a:stretch/>
        </p:blipFill>
        <p:spPr>
          <a:xfrm>
            <a:off x="7143840" y="-6480"/>
            <a:ext cx="200664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Calibri"/>
              </a:rPr>
              <a:t>Learning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y the end of this session you should be able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cc009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nstantia"/>
              </a:rPr>
              <a:t>Outline the three stages of glycolysi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cc009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nstantia"/>
              </a:rPr>
              <a:t>Describe the steps of glycolysis between glucose and pyruvate and recognize all the intermediates and enzymes and the cofactors that participate in the reac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cc009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nstantia"/>
              </a:rPr>
              <a:t>Mention ATP-generating reac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cc009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nstantia"/>
              </a:rPr>
              <a:t>Illustrate the regulation of glycolysi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700"/>
              </a:spcBef>
              <a:buClr>
                <a:srgbClr val="cc009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37AE-B77D-4F4F-8177-C6E72C55CDF7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53A4-2B1C-4B14-A34E-0F63BB5F72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5" descr=""/>
          <p:cNvPicPr/>
          <p:nvPr/>
        </p:nvPicPr>
        <p:blipFill>
          <a:blip r:embed="rId1"/>
          <a:stretch/>
        </p:blipFill>
        <p:spPr>
          <a:xfrm>
            <a:off x="512640" y="146160"/>
            <a:ext cx="7497720" cy="1079280"/>
          </a:xfrm>
          <a:prstGeom prst="rect">
            <a:avLst/>
          </a:prstGeom>
          <a:ln w="0">
            <a:noFill/>
          </a:ln>
        </p:spPr>
      </p:pic>
      <p:sp>
        <p:nvSpPr>
          <p:cNvPr id="27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D55-467E-47A5-9BDC-2312A61A5AE2}" type="datetime3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. Mohamed Z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F342-5A18-4F68-8E68-F6A40DE120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5010120" y="2514600"/>
            <a:ext cx="4133880" cy="4343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80" name="Text Box 6"/>
          <p:cNvSpPr/>
          <p:nvPr/>
        </p:nvSpPr>
        <p:spPr>
          <a:xfrm>
            <a:off x="0" y="1279440"/>
            <a:ext cx="5029200" cy="558252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 metabolism in mammalian cells can be classified i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Glycolysi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xidation of glucose to pyruvate (aerobic state) or lactate (anaerobic sta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Krebs cycl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fter oxidation of pyruvate to acetyl CoA, acetyl CoA enters the Krebs cycle for the aim of production of A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Hexose monophosphate shunt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ables cells to produce ribose-5-phosphate and NAD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Glycogenesi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ynthesis of glycogen from glucose, when glucose levels ar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Glycogenolysi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gradation of glycogen to glucose when glucose in short sup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Gluconeogenesi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mation of glucose from noncarbohydrate 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105520" y="1371600"/>
            <a:ext cx="3886200" cy="10674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lucose is the major fuel of most organisms. The major pathways of CHO metabolism either begin or end with gluco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5000" spc="-1" strike="noStrike">
              <a:solidFill>
                <a:srgbClr val="04617b"/>
              </a:solidFill>
              <a:latin typeface="Calibri"/>
              <a:ea typeface="Traditional Arabic"/>
            </a:endParaRPr>
          </a:p>
        </p:txBody>
      </p:sp>
      <p:sp>
        <p:nvSpPr>
          <p:cNvPr id="283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948-1678-4E27-8A9E-75E21C27E9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صورة 5" descr="C:\Users\User\Desktop\atp-adp-2_med.jpeg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271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9:25:51Z</dcterms:created>
  <dc:creator>mohamed z gad</dc:creator>
  <dc:description/>
  <cp:keywords/>
  <dc:language>en-US</dc:language>
  <cp:lastModifiedBy>DR.Ahmed Saker 2O14</cp:lastModifiedBy>
  <dcterms:modified xsi:type="dcterms:W3CDTF">2019-01-21T16:55:05Z</dcterms:modified>
  <cp:revision>463</cp:revision>
  <dc:subject/>
  <dc:title>Carbohydrate Metabol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33</vt:lpwstr>
  </property>
</Properties>
</file>