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69A8-2190-46C2-A30D-D597A34DC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93B2-617C-4AF1-AB78-ED8A68887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0A98-0F9E-49AD-9138-0CA2EBDB2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171A-38CF-4DAC-8319-CA27813A0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E564-1DA7-44D4-9CB9-53F9D3C07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C6EF-8E27-4015-ABB8-1A17D6D3E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CBEE-FFA6-4011-835C-3AE4DF78C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3AAC-0E4E-4A76-B3FF-A0A89DE3A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EB1F-5CB4-458C-A598-7C86530F3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4635-9981-4881-B694-EDDABF6AD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0A7E-034F-4A45-BD13-38551D6D7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7E48-E713-47B1-A535-6930A42B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D98B9-E0A9-4D3E-96A7-1E53E9A561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لجلايكوليسس ودورة كرب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glycpth2pl2"/>
          <p:cNvPicPr/>
          <p:nvPr/>
        </p:nvPicPr>
        <p:blipFill>
          <a:blip r:embed="rId1"/>
          <a:stretch/>
        </p:blipFill>
        <p:spPr>
          <a:xfrm>
            <a:off x="380880" y="609480"/>
            <a:ext cx="6096240" cy="4714920"/>
          </a:xfrm>
          <a:prstGeom prst="rect">
            <a:avLst/>
          </a:prstGeom>
          <a:ln w="0">
            <a:noFill/>
          </a:ln>
        </p:spPr>
      </p:pic>
      <p:sp>
        <p:nvSpPr>
          <p:cNvPr id="63" name="AutoShape 5"/>
          <p:cNvSpPr/>
          <p:nvPr/>
        </p:nvSpPr>
        <p:spPr>
          <a:xfrm>
            <a:off x="6477120" y="1523880"/>
            <a:ext cx="2666880" cy="2667240"/>
          </a:xfrm>
          <a:custGeom>
            <a:avLst/>
            <a:gdLst>
              <a:gd name="textAreaLeft" fmla="*/ 608760 w 2666880"/>
              <a:gd name="textAreaRight" fmla="*/ 2058120 w 2666880"/>
              <a:gd name="textAreaTop" fmla="*/ 608760 h 2667240"/>
              <a:gd name="textAreaBottom" fmla="*/ 2058480 h 2667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6553080" y="25146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حسبي الطاقه ل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لوكو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7467480" y="1981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تنظيم الجلايكوليس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42160" indent="-54216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يتم التنظيم خلال ثلاث نقاط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عند تحويل الجلايكوجين الى جلوكوز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-فوسفيت عن طريق انزيم الجلايكوجين فوسفورلي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عند تحول الجلوكوز الى جلوكوز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-فوسفيت عن طريق انزيم الهكسوكيني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عند تحول الفركتوز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-فوسفيت الى فركتو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–ثنائي الفوسفيت بواسطة فوسفوفركتوكيني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يتم التثبيط من خلال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-47448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تثبيط هذه الأنزيمات بالتغذية المرتده (رد الفعل العكسي ) بواسطة النتائج النهائية للمسا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-47448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نسبة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P/A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-47448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اذا كانت النسبة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P/ATP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مرتفعه (اي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P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قليل) ذلك يحفز الجلايكوليسس لتزويد الطاق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-47448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إذا كانت النسبة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P/ATP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منخفضة (اي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P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عالي) ذلك يثبط  الجلايكوليس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هرمونات تقوم بدور تنظيم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صير الجلوكوز في الد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يتم نقله بواسطة الدم الى الأنسجة المختلفة في الجس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يتم استغلاله في الأنسجة المختلفة بالطرق التالي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أكسدة الجلوكوز لإنتاج الماء وثاني أكسيد الكربون والطاقة عن طريق الجلايكوليسس ودورة كرب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تحويل الجلوكوز إلى مكونات أخرى ذات أهميه بيولوجيه مثل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ريبوز والدي وكسي رابيوز لتصنيع الأحماض النوو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حمض الجلوكيورنيك في الكبد وهو هام للتفاعلات التى يتم فيها تحويل المواد السامة إلى مواد غير سام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مسارات أخر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تخزين: يتم تخزين الجلوكوز في الكبد والعضلات على هيئة جليكوجين بواسطة عملية تسمى الجليكوجينسي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ويتم تخزينه في الكبد والنسيج ألشحمي على هيئة دهون متعادلة عن طريق عملية تسمى ليبوجنيسس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تحلل السكر الجلايكوليسس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lyco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هي العملية التي يقوم بها الكائن الحي بتحطيم سكر الجلوكوز وتحويله إلى بيروفيت ومن ثم ال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حمض اللاكتيت في عدم وجود الهواء في الكائنات الراقيه اما في الخمائر والفطريات يتم تحويلها الى كحول الإيثانول وتسمى بالتخم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سيتل 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في وجود الهواء وتسمى دائرة كري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9" name="صورة 3" descr="C:\Users\hp\Pictures\h_glycolysisPathway.gif"/>
          <p:cNvPicPr/>
          <p:nvPr/>
        </p:nvPicPr>
        <p:blipFill>
          <a:blip r:embed="rId2"/>
          <a:stretch/>
        </p:blipFill>
        <p:spPr>
          <a:xfrm>
            <a:off x="1447920" y="228600"/>
            <a:ext cx="62640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6840" y="685440"/>
            <a:ext cx="85345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عند تحويل الجلوكوز الى البيروفيت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تتم هذه العمليه في السيتوبلاز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بشكل عام جميع المركبات الوسطيه بين الجلوكوز والبايروفي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ترتبط برابط استرى مع مجموعة فوسفات واحده على الأق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مجموعات الفوسفات تساعد على عدم خروج المركبات الوسطيه الى الخارج بسبب وجود الشحنات السالب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مكن نقل مجموعة الفوسفات ذات الطاقه العالية من المركبات الوسطيه الى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P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مباشرة لاعطاء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تحتوي على عشر خطوات وتقسم الى مرحلتي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مرحله الاولى:تبدء بالجلوكوز وتنتهي بالجليسر ألدهيد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- فوسفيت وتسخدم فيها طاقة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مرحلة الثانيه : تبدء بالجليسيرألدهيد-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-فوسفيت وتنتهي بالبيروفيت وتنتج فيها طاقه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لمرحلة الاول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تبدأ بتجميع السكريات البسيطه وتنتهي بتحويلها الى جليسرألدهيد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-فوسفيت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في التفاعل الاول    :انزيم الهكسوكينيز يحفز التفاعلات في جميع الانسجه اما انزيم الجلكوكينيز في يعمل الكب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تفاعل غير عكسي, منظم يثبط بالزيادة في الجلوكوز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-فوسفيت.تفاعل يحتاج الى طاقه  تفاعل فسفره يحتاج الى مغنسيوم كعامل مساع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في التفاعل الثاني  : أنزيم الفسفوهكسوزأيزوميريز تفاعل عكس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يتحول من ألدوز الى كيتو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في التفاعل الثالث  تفاعل يحتاج الى طاقه تفاعل فسفره يحتاج الى مغنسيوم كعامل مساع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تفاعل غير عكسي, تفاعل منظم يحف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P&amp;ADP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و الفركتوز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-فوسفيت يثبط بالزيادة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P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ي ان الخلية لا تحتاج الى المزيد من الطاق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6248520" y="220968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6477120" y="4495680"/>
            <a:ext cx="19047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6400800" y="3657600"/>
            <a:ext cx="20574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تفاعل الرابع: يتم كسرجزيء الفركتو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ar-IQ" sz="2800" spc="-1" strike="noStrike">
                <a:solidFill>
                  <a:srgbClr val="000000"/>
                </a:solidFill>
                <a:latin typeface="Arial"/>
              </a:rPr>
              <a:t>ثنائي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فوسفيت (سداسي الكربون) إلى مركبين الجليسر الدهيد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-فوسفيت وثنائي هيدروكسي اسيتون (ثلاثيات الكربون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تفاعل عكس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تفاعل الخامس: تحويل وثنائي هيدروكسي اسيتون الى جزيء ثاني من الجليسر الدهيد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-فوسفي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000000"/>
                </a:solidFill>
                <a:uFillTx/>
                <a:latin typeface="Arial"/>
              </a:rPr>
              <a:t>نهاية المرحلة الاول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بجزئين من الجليسر الدهيد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-فوسفيت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C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ستهلاك جزيئين من الطاقه على شكل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P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وتحويلها الى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لمرحلة الاول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لمرحلة الثانيه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تتضمن خطوات الاكسدة والاختزال والفسفره وانتاج الطاق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هذه التفاعلات تكون 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لجزيئ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في التفاعل السادس: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تتأكسد مجموعة الكربونيل الى مجموعة كربوكسيل, الطاقة تختزن على شكل مجموعة فوسفات الكربوكسيل , يتم نزع هيدروجين واختزال جزي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ى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DH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مركب طاق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في التفاعل السابع: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تنقل الطاقه من مجموعة الفسفات الى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وتنتج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في التفاعل الثامن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:اعادة ترتيب مجموعة الفسفات من الكربونه الطرفيه الثالثه الى ذرة الكربون الثاني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في التفاعل التاسع: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يتم نزع جزي ماء, ينتج مركب غير مشبع, يحتوي على مجموعة فسفات عالية الطاق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في التفاعل العاشر :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تنقل الطاقه من مجموعة الفسفات الى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وتنتج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من تفاعل ايض جزي واحدمن جلوكوز</a:t>
            </a:r>
            <a:br>
              <a:rPr sz="4000"/>
            </a:b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(حساب الطاقه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م استهلاك جزيئين من الطاقة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P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إنتاج أربعة جزيئات من الطاقة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P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تكون المحصلة النهائية إنتاج جزيئين من الطاقة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P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جزيئين من الطاقة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DH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الذي تتم أكسدته في المتوكوندريا ليعطي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P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( كل جزي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DH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يعطي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جزيئات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P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عدد الكلي لجزيئات الطاقة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P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الناتجه هي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في السيتوبلازم و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في المتوكوندري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16:46:18Z</dcterms:created>
  <dc:creator>Mona </dc:creator>
  <dc:description/>
  <dc:language>en-US</dc:language>
  <cp:lastModifiedBy>DR.Ahmed Saker 2O14</cp:lastModifiedBy>
  <dcterms:modified xsi:type="dcterms:W3CDTF">2018-09-25T19:00:52Z</dcterms:modified>
  <cp:revision>19</cp:revision>
  <dc:subject/>
  <dc:title>ايض الكربوهيدرات</dc:title>
</cp:coreProperties>
</file>