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3.png" ContentType="image/png"/>
  <Override PartName="/ppt/media/image12.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0.jpeg" ContentType="image/jpe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 id="29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slide" Target="slides/slide3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9" name="PlaceHolder 2"/>
          <p:cNvSpPr>
            <a:spLocks noGrp="1"/>
          </p:cNvSpPr>
          <p:nvPr>
            <p:ph type="dt" idx="112"/>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00000"/>
                </a:solidFill>
                <a:latin typeface="Tahoma"/>
              </a:rPr>
              <a:t>&lt;date/time&gt;</a:t>
            </a:r>
            <a:endParaRPr b="0" lang="en-US" sz="1200" spc="-1" strike="noStrike">
              <a:solidFill>
                <a:srgbClr val="000000"/>
              </a:solidFill>
              <a:latin typeface="Tahoma"/>
            </a:endParaRPr>
          </a:p>
        </p:txBody>
      </p:sp>
      <p:sp>
        <p:nvSpPr>
          <p:cNvPr id="15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2" name="PlaceHolder 5"/>
          <p:cNvSpPr>
            <a:spLocks noGrp="1"/>
          </p:cNvSpPr>
          <p:nvPr>
            <p:ph type="ftr" idx="113"/>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3" name="PlaceHolder 6"/>
          <p:cNvSpPr>
            <a:spLocks noGrp="1"/>
          </p:cNvSpPr>
          <p:nvPr>
            <p:ph type="sldNum" idx="114"/>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75BF-83AF-4F32-B6EC-73D13F34911A}" type="slidenum">
              <a:rPr b="0" lang="ar-IQ"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883C-286D-452E-87FD-83A99363E090}"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9EE3-4973-4ECF-82D8-401F9A95E29A}"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C960-D52F-476A-901B-DF5AED43A05C}"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391F-2C48-4D6E-B95F-761CF59F83C0}"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D905-E43A-499C-9B99-799C40C5773B}"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27AB-0683-4F8B-9E4D-3E7F952F42B7}"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86DD-526F-4DFA-A3F6-8655FE10A016}"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501C-8A58-4DDF-8A48-8A3D8D72A624}"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AA00D-9587-42BB-A4A1-70CE4DF6E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8367-0D89-41A4-AF6C-41386F43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CFBA5-A1B4-4278-A962-C1FCEFFB5C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7C0E24-1E12-4199-9E0A-C63D88E031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30478F-965D-48F8-B1AB-BE45D24EE0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73928-7100-4B24-BA2F-79142F4A5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85295-27A5-46F6-9306-99439809A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34BBE-BDCE-48C1-A2A8-EDC77284F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12062-8632-4337-A509-10D41C67E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7714F6-AC3B-44FC-8B6F-B4CD625C6D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510AF9-F78C-434D-901A-A7BCFD6403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52A9A1-3D73-41F6-9295-0EA901D800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60DDE-AA47-40AD-B584-1921EDC80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A568E0-E65F-488F-8F8C-4B7B844C82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6BF4D2-7F4F-4B65-9CC8-CF6BAB05F8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676E6F-4ABC-4A6C-B6DF-CD5D0F30B7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438B3C-2A70-4BD1-92CD-71CF3C387A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4C529E-2B14-4A17-B72D-E1094C0431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23F600-3EBC-434E-9FD1-93ABA727A8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241C3C-E18D-426A-B4DD-CCE70D9A64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65627D-2BE2-4035-8B93-85AC2D3126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5955CE-5E97-4353-8026-57EB44D004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D5597D-1939-42F4-A248-9206F5FDF3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48177-A434-4D75-AE2A-9077190F7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8B90B1-8F2F-4404-9456-1A6F6C3FE0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DFE7D5-2931-4948-B393-6E7D780DB6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E66B84-29F0-4279-81C5-A77B7D1174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D2021D-BE30-4E5C-AE52-1A44262EA3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03DE27-E047-473F-B168-997C108132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26D95F-4BBB-4F7B-8E31-6EF18DAF73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26A74C-336A-4486-BBD6-14BBC636B4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7FE8F6-5D2E-41A8-95C5-470C6BEE0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810813-128B-4F76-8803-06347825C1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A47ADB-EFD0-469D-95A2-FAD1EEE1B0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17272-D3BD-4659-AFE1-2C6D63744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237FB4-D737-40C2-9967-1DD08A2706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B4158D-2FCB-466A-B234-B623247CED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F324D4-1D1F-4275-B9FD-A39FDC7640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ADF6E2-420F-4BE1-BB13-711AEF668E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FCC226-DBB5-46F4-ACE6-9D6DF2A2DB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0C89C8-6349-4D74-8141-AF835A63C2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D988F8-D6D5-49C0-A437-1AFFB54ED2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722589-BF62-4C36-9964-6B2435DE40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60F71E-A464-498C-B20D-68755B7C13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9FBDE0-3191-4090-991C-5210C4E9A7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6EEB6-D05F-42BA-92C0-CED0C5C07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D4C912-7037-4FE8-B39F-7EFFFDA44D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08EC4A-D149-4378-A264-44DA23F5D1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FAD9E1-0C01-4FF9-B48A-5F3C659128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A1E073-3DD4-468B-802E-D010C89FAA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B529B3-0130-4A11-B648-F2FFD67443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79F655-0263-4551-9609-F41FAA60D9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576B18-82E9-42A6-8176-068445FA62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15CC12-B51F-4560-BEF7-F7F6AA0DCA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4234D3-DBF2-4F6B-B4FB-CDE0A6110E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8CBC86-88D2-4D3C-860C-68D9DEB5DC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8FE7F-F284-4C6B-9613-B0BE27F84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C95F65-10F2-4315-A2A5-0BF6B73A6C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93AC32-D845-4329-BBA1-DC83FC4C95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BC080D-47A2-4335-9FE2-1D67C8FFEA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C6E8F4-2D55-454B-82EB-06C91D7CDB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1142F2-F37F-407C-B9B5-309759D9D1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B026136-6DD0-4806-BDA2-3DF30AB6A9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801BCD-A592-4939-A8D3-E3F4C6F444A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9F36C65-02B4-4E3A-9FF7-3A0F191708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D6B8CB-B060-4FCC-B54F-75E96E8FF2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32976B-D49B-4593-A740-8C60879961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44AEC-C415-40D8-9F47-3EED577A0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2CA383-ED2C-4ACB-A443-DB1CA33C55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C62760-984C-4109-A675-6EAA1DE64D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FCA6BA-923B-46DC-A4A4-2FEB6BAAFD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25490B-436B-4C8D-B19A-158C197340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1841F6-06B0-4DB9-ACAF-2FA65506C8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34D04C-1494-455D-BAE5-789A43811B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670D76-7901-4D32-A1C7-6A5230283E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A48D73-B444-4F8A-97C3-C83288D377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668D7D7-1B35-46A4-A0F8-02222D6E4A9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422547-9C8D-4626-B908-8960A2FE924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BCEF0-BEC4-4E73-9F4B-26C5D9C44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5446E3-6CE0-4CEE-B0D0-1F3C01737E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704CC4-CF0D-4B51-B1D2-CA5C29A2D5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545EA9-DE1B-49A0-8156-3A33436785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7AD174-5F58-4586-B33A-1E5E839FAF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04756D-7547-4131-A1F4-18E0D0E3B6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82DD7F-B7EF-434C-8402-B3C7B735F0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77C221-1A02-4A4B-BD88-F2F464FCC4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399BD1-4114-46D4-8802-73C7A89DBA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3D1C87-AD97-480C-A742-FB446232F5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EC066EE-DA2E-4677-BF15-4A5CA01D633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382C4-B536-46B2-AC40-A8933B218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3D6E3DF-861D-482B-AD05-917FA7D880F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30A825-514C-4FBF-A801-18CCA195CE6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E43127-FFDD-4468-98E5-1C4F18400EB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BBAA5B-5D0C-4BF2-83AA-E767A91A83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6CB1CE-0FD2-4AF2-ADA0-E8CF5E1890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40C833-7256-4D3D-B83E-74D2701255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7DAB09E-26B2-44FA-A87C-FA940939E4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398858-46F5-4445-B754-C1B9FF6DF9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22FE61-F6CB-40F6-95DD-89E3F74F6E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FB962C-CCAD-4A7F-8B15-4A9E9878AC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95DD3-A9F3-481C-BDD1-CFEF7271C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6FA096-DECB-421D-B5C6-7654BC2EAE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6EB6FDB-0AB4-49B7-8360-39BA1B43204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A27967D-3702-4615-B82F-94CFE1A3840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D0F5FAE-A4D2-4CDE-81DB-7424F41D4D4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FBB5D3-D5B5-4746-BF52-334C8EC3CF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A534C2-A2CF-4981-A032-AC2EC3D49C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ACF603-4C9D-4E8E-A0E9-C6EEEBD61C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AE425AD-E7C7-4E99-B066-9579CEA4922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F493920-1A18-450C-8CFD-16D5FD86BC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AB90B4-B470-4329-9CF6-11197554CE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C1FAD-8CA0-4615-9BB3-D80E8DC49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12F7-3D9B-4319-8AF7-DAF9C57C9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E3BB3D-7162-4BF5-BD79-6B794E8D8B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626699-0E3C-4428-9F6C-8B7CE38520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0E3D33-1EED-4E62-A1B6-49ED5A38A5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B05C477-4408-46BC-819E-A49698FEEC4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55FA43A-1804-468A-AF52-CD989187C71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2F462E8-B79B-44FA-B14F-D027A2A248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53DEA4-F7DC-4A55-A95E-24C0CB565F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9CA0DF4-E058-4EBD-93CA-85DE0F79A5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E055BC-DECB-4820-AFAD-FF6B390CF7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78BAE2A-7718-4E7B-9BAA-351E2D89C6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73E09-A5F3-4140-AE26-B983AF577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3F3D0F-1EF0-4D55-A52B-BA2DF98F9B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DD4D62-A818-40AF-8836-9A8A7C9ABC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3E78F4-E2C1-4F42-8ABE-A1D97C6E6F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6B3E88-8A30-46EB-93D6-FC684E0E01F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7FE17D-9B26-44B7-9DC0-03901C5E13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965D2AD-9935-409E-983E-871A190EB66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9E8473B-DC01-436D-AB4B-D5EA3EF9EFE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9F15161-3838-4D54-BF39-94C52B79143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B73B90-8A00-448A-8994-D182916E49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4BE42A0-B8E5-4704-AE5F-FD6964EB4A5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91366-A39B-4FF7-83DD-A96591841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F3818A7-FB3F-4EE5-A400-5A35E73593B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A896BF-C6E8-4D88-BF43-54A44EB78E7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0525708-37E6-4A0E-BF30-A6F0EADFBBE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270D98-B98A-4C3F-AB74-066A1B5D227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5D3C90-9530-4AF2-9F4E-BA8C1AF20B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6EC3F2-2B64-4B2A-9DB8-29DF28BA9C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DF1FA7-D64A-4CE9-AA12-63EFE18DFD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117785B-8A52-44A7-8A6E-C19F9732EE2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0469BBA-DC4E-485C-BCBA-A5E5C04BB29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71A33F5-232A-4001-91AF-A3DD45EECBB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137D2-92DC-4B2C-8A68-BB7B3C2D9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FD68CC-A809-43F2-A702-2BA5F298275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8B61639-98DB-4C51-943F-605D9B607FA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BAF3C21-D3C8-4D1E-8D57-DA1B61BDB7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1DF6BB7-8814-4823-BC96-06FD74901D8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B9311A6-9D7A-4A9C-9A22-CB27EE68F3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DC0879-D61D-4496-BC61-CEF3C59436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24E73E7-74AA-475D-BE3E-F429571452F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651E37-5DC0-4084-81A7-FCF1A95A30C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DD01FC1-3144-47FF-B790-61E57B76C4B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CED646F-7C95-474B-A1FC-DEFAB04B1DD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30468-FF3C-41BE-97B1-D8F0909B7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1BA84C2-5A15-4D29-A37D-450A80BF584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144E0BB-372B-4402-8AD4-1909A9DA482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F693C29-18BE-4FA8-8BE4-EC925DB205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B114B65-43A1-41F5-9F9B-11FABCD460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942D50F-A3DF-41E8-9380-24289F38C6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A382428-CD8F-4880-B0D4-5FF7705DB6A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1E38D60-320F-46D1-8AEE-B2113CE122F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FB101F-F755-4FBE-8278-9A17C9979AC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448111E-8DB1-472C-9647-4DDAE6667B3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83F687D-3859-4479-9BC6-4187559B3D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4E34A3-1753-41AA-BC48-7E93915EF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756D2B1-FB28-4630-9B82-83570FA4763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BBA6ACE-C733-4832-9C4C-12EAC1F49AD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33EA714-BC2A-4DB1-BBBE-2B5DEF95A95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552E1E6-2D40-44F4-A2A5-9BBF43185FB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964993A-8453-4690-B851-7010F0FAED6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C3D66EE-13B5-459C-990D-BBD9F705EBE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331940A-4A33-4CA9-B789-74D6CBF9F68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306150D-0F7C-42F4-BC7B-A90EB8A2681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FE9C34A-4B00-4799-B9AB-A26578B4BEA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77D66C9-E59B-4A05-A92E-332E9CA7A9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070A4-A680-462F-8450-81D651429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F159A30-84BE-44D4-A75E-2E5D358919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84F02A-DF67-4D89-AD06-EDF9A1D772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7DC5304-33F7-481B-9BDD-1F6B2F7288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82794CB-E312-4F24-A6DC-858918F4FC6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6E05D37-C4F0-4C71-B459-1DFC32EED10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67C7C91-4F44-4BC1-BACD-BCFE7A2EC0B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5DA8B19-8AAB-414B-BCF3-692D65E8E50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41BEAAD-7240-46ED-83E2-C25648B2316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6E08993-B2F9-47A6-AC3E-6FAA3C7B757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657ECB1-C3AA-4E97-9850-361B561019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E8EFA-2345-4761-8328-A7E2D0EEA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E2361CE-A91F-48F5-86B8-9102D9B6FB0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A7C357-DBED-4908-AC50-AB1BDAEC33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42551C9-0223-4382-9365-7C3D71F70F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B231B4A-033E-47F2-A8D3-AF561750EB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7B7438B-9C6A-459E-A1E3-D34B55ED76A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F22A345-CAF9-4E54-A355-D572F52D6C3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6106DA1-6D8F-448B-9486-038EA9036ED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CE7E64C-881D-4CCD-AAB7-F85232DC601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0DC256C-8083-4CEF-AEB3-475E756D105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39390BA-210D-4F00-945E-FE05D8FE47F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B20AB-D8F8-4C46-986F-83DCC979C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77103FC-7AE4-46DC-ADE5-366B17E0522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D49862A-F861-4CC2-BF16-ADB5388217E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6222FFD-D4F2-4045-BF31-F2AF090ACEF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215B739-16C1-404C-8DF1-9668CB13D97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BA1755E-9A59-40F9-BE12-D00E2E19EA8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7DA574A-70D4-4DBC-A8BE-4D59DA24FE2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D8D9DEF-85FD-4AE1-9F2B-44DC3BFCE4D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8813409-F2C7-4DEF-8571-3612154A483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1C800BA-F05A-4E9F-96DF-3AEABE7CC49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119406B-B4BA-495F-88CA-40886BE9C0A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DF143-0C67-4614-99A1-38993BBBB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8C8CE98-DB33-4100-91EB-F45B01C0B96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25BF78A-3BD0-4593-876F-AA9DB634FA7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2F6644D-6F7D-4642-B72B-C1541D80C70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331E2F6-325F-4827-9BD9-E45265DBA4F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4757E7B-5DAB-435E-AF63-7F1DF280CE7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9B21A4E-0E3A-4AA7-B6B8-3589FAE93C7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3C814FC-21C7-47E1-B743-F7319EBD4CC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1FB53DE-3D76-4328-8A2D-246A4E4E7AB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92ECDDC-3CA7-493B-85D9-AD4F7568527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B75FC56-635E-4E35-B4C4-64B9BE32D82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F5491-00F0-444D-A39D-7FF13DBD8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9CC9E-5C96-4CDA-8C49-D4BEBE961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DBE9B25-B4D8-4962-A36D-42460E0BBC5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9901F5A-6688-435B-AA6A-2EDC9CA339A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A600553-D69D-4DCD-877D-E8D4104D8EC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82199BC-DCA4-41C4-9E4A-BF03A908E80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2EF0477-2020-4A04-BD5F-8517BC20B1C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E2F5E2A-DD81-4609-A58D-F5CC3641D5D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D2B2E05-C938-41B3-AED4-0770F5F906D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9825672-2201-4304-8867-E77DCEABB6F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4DDE5E3-CB7C-417A-8373-560F621288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5AAB7A4-5C2D-41F5-9A94-E6D61EE7B28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641B0-CC7D-46D0-BF3E-D86DC278C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9B30ED8-2633-4CB4-BB6F-F44E4FD887D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30FA12F-0340-4061-B5D9-6F02279052B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A1FA427-5746-48EA-A1D5-5B66B114EB2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66F4C45-4E37-451D-9177-ACFDCE5FDA8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6FDD51C-AE41-4CBD-B986-9B4BC7FED65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C688785-33E1-4884-8931-E57FB01CBDC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FFD78F3-34CE-424D-9FBC-4FF8C000AF7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10DA600-8C1A-45EF-8DB7-9F1A1AA7EBC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A136B3F-992F-46B5-8D61-E45D3A2802A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C650BD0-14DA-4CD4-9535-CED74E08FD5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758B4-8F18-4DA3-B771-1AE97D7D9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56DF724-9242-40A6-A051-18106EC1BD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FA8365-0F83-49B3-B979-9684AF86701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0605E64-FD5D-4020-B234-DD31A097997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E53353E-1251-4F77-8ED6-08230B98672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5DE7B23-8C3C-4242-B50A-1D4C3DD6865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89230B3-2E18-4F4C-B3D9-15A8CBCA374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CD66D31-CD7C-4915-BFFE-37BC90C803D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E749CBD-99D6-418A-B65A-7BDB91800C5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0FD6CBD-0FF8-4770-A089-AE84E60C1E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1CC31E8-476E-4741-9130-9F78626B903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597F0-07B8-416F-85FA-21CA87EC8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17F11F3-CCDF-4F87-9472-6BF5067BC1B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B62F33F-58C6-41E7-8EB5-C7B30774E26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2E1E600-4ECF-489E-89B5-BE697A56434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B1B8DA5-87DD-407A-9D28-982E4DDDF0A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1542D40-C003-48DC-9C4C-E9E68E407F3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F7C20CB-380C-4124-BCB2-FD3A889582F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029380D-687E-4801-A45E-6FC31FEFEB0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0713C10-DFA4-4EA7-AEAE-B73D6D4F96A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FBBB63A-7498-4EC6-A655-9CD2ECC12F3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7B51DC3-7F95-42E6-BA49-4FDD755E397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42A94-9651-4B33-AF0A-DF8379C8A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AE300F2-7736-484A-9A40-E70F70E0558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75D9EA5-ECA0-4C25-986D-5793F5D6521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52E3A8D-45B7-4E3B-B056-E46CF1FBDDE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ED6D767-0257-43FC-A396-DAE0CB48F33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37F6C54-8AF5-4F90-9384-1CF322EE740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74B2123-EB7C-445E-BD87-3ECE87C8F69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6C382CA-716A-47B4-A26F-6671EE27849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CE37D89-A902-4E42-A8FC-2683089FB79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5C67BF8-7F3E-4B08-B636-8B518B80E6D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64B2C16-45AC-4C84-9309-546A3758FDF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4F2E00-3CAF-4742-B078-6FB8485554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F024F1D-75BD-48E9-A73A-4CEBE05022D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912BAB6-8FF0-458C-951A-A32C19C4E5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5F055FE-BDE0-4249-816C-A99C5C98F0E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CF6B3C8-39DB-4AFF-A09C-A5ECF062250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4E4493F-0FED-4E82-984C-E5F4D5DAD97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86A359D-CDD1-43CA-B012-084AF8BBCAC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C62C0CC-0761-4079-88F4-091313472AA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ABAC54D-E009-46CE-B7C2-7F209D88BFB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7631B5-2B6D-4CCE-91C7-C17B7D16D4D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374F5EB-99B3-4E08-8763-14456D54271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5B87DA-3C6F-4E57-B79B-656A3EA63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00FE715-DD73-443C-B4D8-644C4DFC3A6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EC42C98-3853-45C4-AC87-4C56A98727A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39A9301-619E-4C94-9CD5-29EDDC69862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843596A-1053-4EE1-AD75-5C462277B1A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085C0AB-B095-4949-BB79-24E68D305AB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3F3AF4F-B8B2-4539-866F-EB21084C6D1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28478A1-7F07-4C45-A0B9-73EDE257C57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75287C7-80F3-4AED-B7D1-E84922175DE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A9C4246-A3F9-4CD4-929A-9A61C854FDE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16CA89F-B992-4C81-86C1-7ECD74CB800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11966-E82F-47E0-A9A6-701A550840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37BDDB8-2743-4243-B62A-17DA4749856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E408213-8537-4DA2-9F01-C535CD5538B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5B44A66-8846-4BAE-9EE6-7C2C5636CD3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54A6901-2A96-4F56-8B65-449B8030B68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1A4B868-978D-45B1-9674-DA7684E1D60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D5F4743-910A-4562-925B-6F52BBBB2EE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88DF5CE-2C2D-4107-819B-E3057E3EC48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501739F-005E-4A7B-941A-83C02D9056D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13652E0-3689-41F0-AAF2-C98882C3E95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4063BC0-494D-4D35-88C8-CE4CBE08CF5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6C49B-BE57-45CB-B60D-B2C9DA860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6C16B04-FD97-4E3A-87BC-14EBCDB39B2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C282D6-A6C7-430C-B9FF-387C3E1D4BF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C838B71-1D3C-4F7F-8E6A-2B5D3214D65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77021CC-617F-42C6-9E45-47FF43A8BF5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560732B-E872-4D40-977A-96AB67BD7BB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D657EAF-F111-4C30-87A6-1525013EEE8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76BDF4E-B3DC-484A-B929-C244BC8B788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B0280A1-2D64-4C90-BDF2-BE11A139F26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F07C95D-6E8F-4272-9AA7-AE5C2D1AD84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23CD853-82D7-4554-AF97-0E696DCA160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52432-31CA-4AC7-851F-56EF168B0D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9D22E66-26FA-4D2E-959C-8307BBB87E9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553F28E-554D-4727-B2A6-AE3D8454E6E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694237-1EA5-4A2B-BB54-7F639A88EA3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6921F32-8CC1-418B-AA56-E53477479EB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70DD4A9-FB88-4CCA-984E-97943077482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ADC80FC-37B2-4C9D-BB56-43B5D6B8208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5BEB493-5809-4934-9F61-05F71FEFBAB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B879CE5-EFF5-457A-B00B-13953666694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39A55D7-F300-4977-BBEC-02D3EF6335B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A459C29-07F3-4793-A126-4F8D8AD5DC7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0E8B-09E6-4CDA-A465-74E91D677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E3F72-3842-497B-86FB-F725B7CB2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59CB5F9-23A5-4831-87E9-160BC946BB6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5204AB1-B02E-4239-BE97-067A5AD7971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61507DA-C67A-47A1-845E-42B23673AD4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83B9681-6F49-4453-BCCB-26C74A746D3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5C8D1FD-D87C-4AF3-BAC6-A1BAFB6A1BE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69DF7A3-9019-4292-9FE0-C316A832851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8D1BCCF-C026-46D0-9271-EC6BD9DA01E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F057862-96FB-405E-89B4-D00CC154120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AAEB0772-701F-4417-8A91-BE476ED841D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39207EC-66B2-4118-A0EB-CE18D968BF8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29C53-C552-45CB-AE83-10DBEA00A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FD45773-B8F1-487D-BE6B-8442906F137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93CF5C1-014E-402B-AD1F-E30A6811759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219E23B-2F8B-44DD-A01B-FB540FD573A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3AE2AE5-E89E-4348-8BB7-E95B10CFECB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554AA4F-263A-4814-8BFB-35294969EEB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9E606CC-DC0C-4A75-A5BF-3AAF365E2E8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36B3805-9550-4BC3-989D-6C396D0FFC2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17B23B4-1F9A-47A4-AC4C-DCD67419E99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DB28075-9B51-4E5D-B462-776C0A8E961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8B6F320-674E-4FEB-90A4-020F1AF7AB4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48306-C66F-4003-85FD-2B659FA6F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7228D3A-9ACF-48D2-A5CE-BE227FABC9D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CC4A008-7469-4B0C-A841-FB3E64E9176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B2756D6-4E39-4091-B3B8-4348F84862C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EB3F65C-CDD7-4C1D-AC2B-D4B4E6767AD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F46E467-46EB-4507-AA39-E6B08BAB8EA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D96E809-4106-4D68-A8E9-BE70980E3D3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DE553A0-4283-47F8-B688-83D5F5DCBD7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DE7BF53-7F88-45B2-800A-1E06CE4907C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D8ACEE4-4EA6-4EA5-8080-A96AD8E53E9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BAE8EB9-33A6-446C-B874-590C8E984D9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C8458-0DDA-4C9F-B4A6-F40243838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C4CCF7A-292B-4067-B00F-EA833614766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B6A2A3B-C32F-4B27-BCAD-15A22D4890D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8090ECE-7500-4D49-84A0-97002D96D5A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704827E-14CC-4285-81CC-C152CF74F14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BDF170E-8343-4019-97AB-D16608C46BB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2520E67-92C9-45DB-837C-9498EC1B0D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A230DB8-F968-4CE3-96C5-2985C77C9F8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011A1DA-C013-41D7-942A-F73C0F50986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70ADFA3-7E7C-44B4-A327-C4B3B4D472F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E7D7311-DA2C-4E6C-99BE-2270D74E7F5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E55AC-9C0C-4572-8F1C-24B657AE3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28160B9-D14F-4F05-B137-113934CD543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20A02CB-7F9C-4E62-9602-01171836574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DE72B11-7DA6-4614-BFC2-9DD70EB00B5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C7A3D0C-ADF6-42E9-BF9B-7AF6662BECF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DCE8F177-C5B2-497E-AEC1-4FC56A5CC25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EC0A9-58E0-41FA-9F61-462C74E43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BE366-194B-4D96-AB15-0021C7956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DF91AE-4FB7-45F3-B653-46360F9886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48E0C-C57B-4561-92B9-7927CF11C3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A2AD96-8B30-4A26-B1CF-012C038D8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E3B7A-E873-405F-BC35-E102702D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0070D-E12D-4B4E-83F7-CDC237DDF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F41D1-61B8-4F33-8FD2-15EAE1EFF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3F5A0-5674-494E-82B1-7FB45AEC7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DF84D-CC2D-4AC5-84D6-C0CF3CB8A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E00D52-90E5-42AD-BA58-A9970B5BA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778FA-9336-41AF-A78C-5F59A15ED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087FF-4025-4274-9A02-35A7C0FC3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0376E-D595-4BDC-B2DC-D32D218FB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F14AA-5945-4C2B-B9AB-51374D86E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DC218E-D965-4FC7-96E4-F8C7AEBD40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42B36-2BC0-4C67-834B-F3E769D7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ECA66-46FF-4491-9ED4-B72286B009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DEFB48-932D-4A1D-8993-2BD82CFF45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56618-B65C-4B05-914A-4243EDE52B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3E9B0-C5C0-4B78-9D42-D09D59525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051E04-BAFC-439E-B7A3-3CD246291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64808-14B9-43A6-8C36-13B83AA63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C2F0B3-B5F0-40E8-BF41-E74D18057A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D1D52-BEA4-4B5B-A8F8-5F165A144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45487-6B03-4C55-8BAC-79B7A36A6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A3593-811E-4EE0-BFF7-92316BAE7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3C63A-91EC-43E9-BA1C-71190112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BA9A5F-CF4F-49B4-9C50-D5BAB67FA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3E950-E0FB-4946-9149-22ADD14528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5374DC-5BCC-49FC-B744-F49AE74EA7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5C1877-0CF2-46AB-A30D-9C452ADD4E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87DE2-BB84-43C6-8C2C-478B9103D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75BA1-05CC-42AA-AFF5-C5FFF412D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C112D-EFF2-47F3-A7AD-E03EF395A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8D301-321D-4385-9080-82A10C693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6942B3-B25F-443A-9C34-CE078A68F7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FE6C7-C4D1-4263-8674-3FA2B52FB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E6EF-82FE-427A-A97A-C3C76897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849B12-1561-48A4-A292-DC171770A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33A9D-C330-4C83-8F24-0ECB15D39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30B7E-C94E-4779-AF6E-0979373A7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AC1D3-8675-4C7F-AEE0-8EB07D7547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B1A8A6-CAEE-45DC-9FF0-C14780F362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F5D9C3-7184-4F0F-81C6-2A2CBF39A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640302-AF5B-47BC-8354-B2A880803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9C862B-3B46-46FE-A29C-B8C144238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1FE57-4D0A-476D-8C52-1803D39E43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BEE7E-2FCA-4C4F-9160-A0853558E0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51A6-C7A5-4862-81DD-F02012F1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9A92C-FC7E-4144-82F9-49D7636BC3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7D2CA1-8CD6-4A09-B029-C07AF73E6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7338A5-B814-4A5D-BE21-AF5CDF78C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AB58D-8855-45C4-8304-E8A5F5317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0E4DA-2247-4340-9F19-126084AF3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37B89F-B62E-475F-8F46-625151767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2F0A26-483D-4424-B0D0-20AB4EC41A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BD9FBC-B201-401B-92FB-0A609428B4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00B358-546F-486D-AA5A-D120E05BED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953C2-78D7-4E3C-9F3B-3BEA9110BA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B91D-91FC-4FD6-A295-D661613DB46C}"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7703-C3EE-4A41-9930-12209E6F6509}"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CB26-5D31-4771-A7A5-4D97C40ECB60}"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B1C8-167B-4E80-9CE5-37C6DDD955AF}"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B5DC-2364-4BDD-BAB5-09856A8BD9C3}"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7FED-1D36-4911-8249-1479A1FD7978}"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55D0-760B-4D21-9E48-D229E6CFFEF7}"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47EE-6812-41E8-85E1-3B25BFA0DD1F}"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0256-5F20-4B61-9FFD-DF7862F55948}"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D005-9D5C-47F6-9A78-7B41F4C9D188}"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74EF-8410-497D-B7CD-98F03C34D8F6}"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F03B-454E-4626-9D4F-BF272B380F08}" type="slidenum">
              <a:rPr b="0" lang="ar-IQ"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006B-32C0-420C-A762-EDB8F2A02160}"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EBA1-8A4A-482E-B75A-FC4E314F77E3}"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9C80-EFFC-495C-A049-0264A24E355D}"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8F63-537C-4331-A475-6B3CB886DA2B}"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9E0D-BDDD-4B5D-AA86-CBAA270D0B88}"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78B6-FA72-451D-B6DE-5C7AC5E419DB}"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7" name="PlaceHolder 3"/>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8"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9" name="PlaceHolder 5"/>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5BE4-CD86-4E57-9950-19926608A75C}"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8" name="PlaceHolder 3"/>
          <p:cNvSpPr>
            <a:spLocks noGrp="1"/>
          </p:cNvSpPr>
          <p:nvPr>
            <p:ph type="dt" idx="7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0" name="PlaceHolder 5"/>
          <p:cNvSpPr>
            <a:spLocks noGrp="1"/>
          </p:cNvSpPr>
          <p:nvPr>
            <p:ph type="sldNum" idx="81"/>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10E2-1D56-404C-BD4A-D0865F804E2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9" name="PlaceHolder 3"/>
          <p:cNvSpPr>
            <a:spLocks noGrp="1"/>
          </p:cNvSpPr>
          <p:nvPr>
            <p:ph type="dt" idx="8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0"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1" name="PlaceHolder 5"/>
          <p:cNvSpPr>
            <a:spLocks noGrp="1"/>
          </p:cNvSpPr>
          <p:nvPr>
            <p:ph type="sldNum" idx="84"/>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5CE7-FCA5-4A8A-BCEF-C6495CD0D7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0" name="PlaceHolder 3"/>
          <p:cNvSpPr>
            <a:spLocks noGrp="1"/>
          </p:cNvSpPr>
          <p:nvPr>
            <p:ph type="dt" idx="8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1"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2" name="PlaceHolder 5"/>
          <p:cNvSpPr>
            <a:spLocks noGrp="1"/>
          </p:cNvSpPr>
          <p:nvPr>
            <p:ph type="sldNum" idx="87"/>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84E6-2763-4C3C-801C-2CD4EEEF64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DEEC-C937-4507-8E1B-8BB636FF796D}" type="slidenum">
              <a:rPr b="0" lang="ar-IQ"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1" name="PlaceHolder 3"/>
          <p:cNvSpPr>
            <a:spLocks noGrp="1"/>
          </p:cNvSpPr>
          <p:nvPr>
            <p:ph type="dt" idx="8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PlaceHolder 5"/>
          <p:cNvSpPr>
            <a:spLocks noGrp="1"/>
          </p:cNvSpPr>
          <p:nvPr>
            <p:ph type="sldNum" idx="90"/>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08A5-5D1A-4924-9AC2-4178616AD9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2" name="PlaceHolder 3"/>
          <p:cNvSpPr>
            <a:spLocks noGrp="1"/>
          </p:cNvSpPr>
          <p:nvPr>
            <p:ph type="dt" idx="9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PlaceHolder 5"/>
          <p:cNvSpPr>
            <a:spLocks noGrp="1"/>
          </p:cNvSpPr>
          <p:nvPr>
            <p:ph type="sldNum" idx="9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42C3-8BE7-44BE-84BE-2FF25AA727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3" name="PlaceHolder 3"/>
          <p:cNvSpPr>
            <a:spLocks noGrp="1"/>
          </p:cNvSpPr>
          <p:nvPr>
            <p:ph type="dt" idx="9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5" name="PlaceHolder 5"/>
          <p:cNvSpPr>
            <a:spLocks noGrp="1"/>
          </p:cNvSpPr>
          <p:nvPr>
            <p:ph type="sldNum" idx="96"/>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75DF-252D-48B0-A3B3-E6E6D5E4A4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4" name="PlaceHolder 3"/>
          <p:cNvSpPr>
            <a:spLocks noGrp="1"/>
          </p:cNvSpPr>
          <p:nvPr>
            <p:ph type="dt" idx="9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6" name="PlaceHolder 5"/>
          <p:cNvSpPr>
            <a:spLocks noGrp="1"/>
          </p:cNvSpPr>
          <p:nvPr>
            <p:ph type="sldNum" idx="99"/>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5604-77B5-48DC-B84E-01745F4E25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5" name="PlaceHolder 3"/>
          <p:cNvSpPr>
            <a:spLocks noGrp="1"/>
          </p:cNvSpPr>
          <p:nvPr>
            <p:ph type="dt" idx="10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6"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7" name="PlaceHolder 5"/>
          <p:cNvSpPr>
            <a:spLocks noGrp="1"/>
          </p:cNvSpPr>
          <p:nvPr>
            <p:ph type="sldNum" idx="102"/>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4C95-F6D9-4C0D-B67C-7EEB454BD9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6" name="PlaceHolder 3"/>
          <p:cNvSpPr>
            <a:spLocks noGrp="1"/>
          </p:cNvSpPr>
          <p:nvPr>
            <p:ph type="dt" idx="10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7"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8" name="PlaceHolder 5"/>
          <p:cNvSpPr>
            <a:spLocks noGrp="1"/>
          </p:cNvSpPr>
          <p:nvPr>
            <p:ph type="sldNum" idx="105"/>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DDA1-A788-484C-890F-CD05C47C4A7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7" name="PlaceHolder 3"/>
          <p:cNvSpPr>
            <a:spLocks noGrp="1"/>
          </p:cNvSpPr>
          <p:nvPr>
            <p:ph type="dt" idx="10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8"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PlaceHolder 5"/>
          <p:cNvSpPr>
            <a:spLocks noGrp="1"/>
          </p:cNvSpPr>
          <p:nvPr>
            <p:ph type="sldNum" idx="108"/>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0C7A-1005-4A96-B2AE-F10C9034E71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8" name="PlaceHolder 3"/>
          <p:cNvSpPr>
            <a:spLocks noGrp="1"/>
          </p:cNvSpPr>
          <p:nvPr>
            <p:ph type="dt" idx="10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9"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PlaceHolder 5"/>
          <p:cNvSpPr>
            <a:spLocks noGrp="1"/>
          </p:cNvSpPr>
          <p:nvPr>
            <p:ph type="sldNum" idx="111"/>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7111-D0AF-48CA-AE64-09827473ED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2E5E-2DE5-413B-8D3A-9C78DE6CBAEF}"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1288-76F6-42DD-B02E-5839C73D559E}"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8EAB-E98F-4A59-B639-EEFC167A8E76}"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382C-E361-47FA-A917-5CB36750A462}"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289D-8465-4A88-BC9F-FD0BEA92D102}"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2DCF-6CC0-444F-AD64-1919E977BF2C}"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Bronchiectasis</a:t>
            </a:r>
            <a:br>
              <a:rPr sz="3200"/>
            </a:br>
            <a:br>
              <a:rPr sz="3200"/>
            </a:br>
            <a:br>
              <a:rPr sz="3200"/>
            </a:br>
            <a:br>
              <a:rPr sz="3200"/>
            </a:br>
            <a:br>
              <a:rPr sz="3200"/>
            </a:br>
            <a:br>
              <a:rPr sz="3200"/>
            </a:br>
            <a:br>
              <a:rPr sz="3200"/>
            </a:br>
            <a:br>
              <a:rPr sz="3200"/>
            </a:br>
            <a:r>
              <a:rPr b="1" i="1" lang="en-US" sz="3200" spc="-1" strike="noStrike">
                <a:solidFill>
                  <a:srgbClr val="002060"/>
                </a:solidFill>
                <a:latin typeface="Times New Roman"/>
              </a:rPr>
              <a:t>DR.AYSER HAMEED</a:t>
            </a:r>
            <a:br>
              <a:rPr sz="3200"/>
            </a:br>
            <a:r>
              <a:rPr b="1" i="1" lang="en-US" sz="3200" spc="-1" strike="noStrike">
                <a:solidFill>
                  <a:srgbClr val="002060"/>
                </a:solidFill>
                <a:latin typeface="Times New Roman"/>
              </a:rPr>
              <a:t>LEC.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7" name="Object 4"/>
          <p:cNvGraphicFramePr/>
          <p:nvPr/>
        </p:nvGraphicFramePr>
        <p:xfrm>
          <a:off x="3733920" y="609480"/>
          <a:ext cx="5410080" cy="6248520"/>
        </p:xfrm>
        <a:graphic>
          <a:graphicData uri="http://schemas.openxmlformats.org/presentationml/2006/ole">
            <p:oleObj r:id="rId1" spid="">
              <p:embed/>
              <p:pic>
                <p:nvPicPr>
                  <p:cNvPr id="1538" name="Object 4" descr=""/>
                  <p:cNvPicPr/>
                  <p:nvPr/>
                </p:nvPicPr>
                <p:blipFill>
                  <a:blip r:embed="rId2"/>
                  <a:stretch/>
                </p:blipFill>
                <p:spPr>
                  <a:xfrm>
                    <a:off x="3733920" y="609480"/>
                    <a:ext cx="5410080" cy="6248520"/>
                  </a:xfrm>
                  <a:prstGeom prst="rect">
                    <a:avLst/>
                  </a:prstGeom>
                  <a:ln w="0">
                    <a:noFill/>
                  </a:ln>
                </p:spPr>
              </p:pic>
            </p:oleObj>
          </a:graphicData>
        </a:graphic>
      </p:graphicFrame>
      <p:sp>
        <p:nvSpPr>
          <p:cNvPr id="1539" name="Text Box 5"/>
          <p:cNvSpPr/>
          <p:nvPr/>
        </p:nvSpPr>
        <p:spPr>
          <a:xfrm>
            <a:off x="0" y="1219320"/>
            <a:ext cx="3886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gmental distribution of bronchiectasis. The bronchi are dilated into cavities. The dilated bronchi are filled with gelatinous inspissated mucus.</a:t>
            </a:r>
            <a:endParaRPr b="0" lang="en-US" sz="2800" spc="-1" strike="noStrike">
              <a:solidFill>
                <a:srgbClr val="000000"/>
              </a:solidFill>
              <a:latin typeface="Tahoma"/>
            </a:endParaRPr>
          </a:p>
        </p:txBody>
      </p:sp>
      <p:sp>
        <p:nvSpPr>
          <p:cNvPr id="1540" name="Rectangle 6"/>
          <p:cNvSpPr/>
          <p:nvPr/>
        </p:nvSpPr>
        <p:spPr>
          <a:xfrm>
            <a:off x="0" y="0"/>
            <a:ext cx="9144000" cy="609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gmental Bronchiectasis</a:t>
            </a:r>
            <a:r>
              <a:rPr b="1" lang="en-US" sz="3200" spc="-1" strike="noStrike">
                <a:solidFill>
                  <a:srgbClr val="000000"/>
                </a:solidFill>
                <a:latin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Bronchiectasis</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542" name="Picture 4" descr="cystic_fibrosis"/>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4"/>
          <p:cNvSpPr/>
          <p:nvPr/>
        </p:nvSpPr>
        <p:spPr>
          <a:xfrm>
            <a:off x="0" y="506736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id lower portion of this photomicrograph demonstrates a dilated bronchus in which the mucosa and wall is not clearly seen because of the necrotizing inflammation with destruction. </a:t>
            </a:r>
            <a:endParaRPr b="0" lang="en-US" sz="2800" spc="-1" strike="noStrike">
              <a:solidFill>
                <a:srgbClr val="000000"/>
              </a:solidFill>
              <a:latin typeface="Tahoma"/>
            </a:endParaRPr>
          </a:p>
        </p:txBody>
      </p:sp>
      <p:sp>
        <p:nvSpPr>
          <p:cNvPr id="1544"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ectasis</a:t>
            </a:r>
            <a:endParaRPr b="0" lang="en-US" sz="3200" spc="-1" strike="noStrike">
              <a:solidFill>
                <a:srgbClr val="000000"/>
              </a:solidFill>
              <a:latin typeface="Tahoma"/>
            </a:endParaRPr>
          </a:p>
        </p:txBody>
      </p:sp>
      <p:pic>
        <p:nvPicPr>
          <p:cNvPr id="1545" name="Picture 6" descr="LUNG054"/>
          <p:cNvPicPr/>
          <p:nvPr/>
        </p:nvPicPr>
        <p:blipFill>
          <a:blip r:embed="rId1"/>
          <a:stretch/>
        </p:blipFill>
        <p:spPr>
          <a:xfrm>
            <a:off x="0" y="584280"/>
            <a:ext cx="9144000" cy="4483080"/>
          </a:xfrm>
          <a:prstGeom prst="rect">
            <a:avLst/>
          </a:prstGeom>
          <a:ln w="0">
            <a:noFill/>
          </a:ln>
        </p:spPr>
      </p:pic>
      <p:sp>
        <p:nvSpPr>
          <p:cNvPr id="1546" name="Rectangle 7"/>
          <p:cNvSpPr/>
          <p:nvPr/>
        </p:nvSpPr>
        <p:spPr>
          <a:xfrm>
            <a:off x="0" y="4343400"/>
            <a:ext cx="9144000" cy="1447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txBox="1"/>
          <p:nvPr/>
        </p:nvSpPr>
        <p:spPr>
          <a:xfrm>
            <a:off x="0" y="0"/>
            <a:ext cx="9144000" cy="6858000"/>
          </a:xfrm>
          <a:prstGeom prst="rect">
            <a:avLst/>
          </a:prstGeom>
          <a:noFill/>
          <a:ln w="0">
            <a:noFill/>
          </a:ln>
        </p:spPr>
        <p:txBody>
          <a:bodyPr anchor="t">
            <a:normAutofit/>
          </a:bodyPr>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Clinical Course.</a:t>
            </a:r>
            <a:endParaRPr b="0" lang="en-US" sz="32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vere, persistent productive cough, offensive, sputum (frank hemoptysis). Clubbing of the fingers may develop.</a:t>
            </a:r>
            <a:endParaRPr b="0" lang="en-US" sz="32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ymptoms usually precipitated by upper respiratory tract infections.</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Complications:</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Obstructive ventilatory defects (respiratory failure).</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ulmonary hypertension. </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r pulmonale. </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Metastatic brain abscesses.</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Reactive Amyloidosis.</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Malignancy of lu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
          <p:cNvSpPr txBox="1"/>
          <p:nvPr/>
        </p:nvSpPr>
        <p:spPr>
          <a:xfrm>
            <a:off x="0" y="0"/>
            <a:ext cx="9144000" cy="6858000"/>
          </a:xfrm>
          <a:prstGeom prst="rect">
            <a:avLst/>
          </a:prstGeom>
          <a:noFill/>
          <a:ln w="0">
            <a:noFill/>
          </a:ln>
        </p:spPr>
        <p:txBody>
          <a:bodyPr anchor="t">
            <a:normAutofit/>
          </a:bodyPr>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Restrictive Lung Diseases: </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e characterized by reduced compliance (i.e. more pressure is required to expand the lungs because they are stiff).</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Two general features of restrictive pulmonary diseases:-</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1" i="1" lang="en-US" sz="3200" spc="-1" strike="noStrike">
                <a:solidFill>
                  <a:srgbClr val="000000"/>
                </a:solidFill>
                <a:latin typeface="Times New Roman"/>
                <a:ea typeface="Times New Roman"/>
              </a:rPr>
              <a:t>Initiating injury affects either endothelial or alveolar or both</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with chronicity, </a:t>
            </a:r>
            <a:r>
              <a:rPr b="0" lang="en-US" sz="3200" spc="-1" strike="noStrike">
                <a:solidFill>
                  <a:srgbClr val="000000"/>
                </a:solidFill>
                <a:latin typeface="Times New Roman"/>
                <a:ea typeface="Times New Roman"/>
              </a:rPr>
              <a:t>injurious changes are </a:t>
            </a:r>
            <a:r>
              <a:rPr b="1" i="1" lang="en-US" sz="3200" spc="-1" strike="noStrike">
                <a:solidFill>
                  <a:srgbClr val="000000"/>
                </a:solidFill>
                <a:latin typeface="Times New Roman"/>
                <a:ea typeface="Times New Roman"/>
              </a:rPr>
              <a:t>restricted to Interstitium (</a:t>
            </a:r>
            <a:r>
              <a:rPr b="0" i="1" lang="en-US" sz="3200" spc="-1" strike="noStrike">
                <a:solidFill>
                  <a:srgbClr val="000000"/>
                </a:solidFill>
                <a:latin typeface="Times New Roman"/>
                <a:ea typeface="Times New Roman"/>
              </a:rPr>
              <a:t>interstitial lung disease).</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1" i="1" lang="en-US" sz="3200" spc="-1" strike="noStrike">
                <a:solidFill>
                  <a:srgbClr val="000000"/>
                </a:solidFill>
                <a:latin typeface="Times New Roman"/>
                <a:ea typeface="Times New Roman"/>
              </a:rPr>
              <a:t>Interstitial fibrosis produces a "stiff lung</a:t>
            </a:r>
            <a:r>
              <a:rPr b="0" lang="en-US" sz="3200" spc="-1" strike="noStrike">
                <a:solidFill>
                  <a:srgbClr val="000000"/>
                </a:solidFill>
                <a:latin typeface="Times New Roman"/>
                <a:ea typeface="Times New Roman"/>
              </a:rPr>
              <a:t>" which in turn reduces lung compliance…….(dyspnea)……. Hypoxia.</a:t>
            </a:r>
            <a:endParaRPr b="0" lang="en-US" sz="3200" spc="-1" strike="noStrike">
              <a:solidFill>
                <a:srgbClr val="000000"/>
              </a:solidFill>
              <a:latin typeface="Calibri"/>
            </a:endParaRPr>
          </a:p>
          <a:p>
            <a:pPr marL="457200" indent="-4572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ypes of Restrictive lung disease </a:t>
            </a:r>
            <a:r>
              <a:rPr b="0" lang="en-US" sz="2800" spc="-1" strike="noStrike">
                <a:solidFill>
                  <a:srgbClr val="000000"/>
                </a:solidFill>
                <a:latin typeface="Times New Roman"/>
                <a:ea typeface="Times New Roman"/>
              </a:rPr>
              <a:t>can be either: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Acute,    </a:t>
            </a:r>
            <a:r>
              <a:rPr b="0" lang="en-US" sz="2800" spc="-1" strike="noStrike">
                <a:solidFill>
                  <a:srgbClr val="000000"/>
                </a:solidFill>
                <a:latin typeface="Times New Roman"/>
                <a:ea typeface="Times New Roman"/>
              </a:rPr>
              <a:t>(pulmonary edema, often with accompanying inflamma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2)  Chronic </a:t>
            </a:r>
            <a:r>
              <a:rPr b="0" lang="en-US" sz="2800" spc="-1" strike="noStrike">
                <a:solidFill>
                  <a:srgbClr val="000000"/>
                </a:solidFill>
                <a:latin typeface="Times New Roman"/>
                <a:ea typeface="Times New Roman"/>
              </a:rPr>
              <a:t> (chronic inflammation and fibrosi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ACUTE RESTRICTIVE LUNG DISEAS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cute Lung Injury and Acute Respiratory Distress Syndrome</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ined b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Acute onset of </a:t>
            </a:r>
            <a:r>
              <a:rPr b="1" i="1" lang="en-US" sz="2800" spc="-1" strike="noStrike">
                <a:solidFill>
                  <a:srgbClr val="000000"/>
                </a:solidFill>
                <a:latin typeface="Times New Roman"/>
                <a:ea typeface="Times New Roman"/>
              </a:rPr>
              <a:t>dyspnea</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a:t>
            </a:r>
            <a:r>
              <a:rPr b="1" i="1" lang="en-US" sz="2800" spc="-1" strike="noStrike">
                <a:solidFill>
                  <a:srgbClr val="000000"/>
                </a:solidFill>
                <a:latin typeface="Times New Roman"/>
                <a:ea typeface="Times New Roman"/>
              </a:rPr>
              <a:t>Hypoxemia</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Development </a:t>
            </a:r>
            <a:r>
              <a:rPr b="1" i="1" lang="en-US" sz="2800" spc="-1" strike="noStrike">
                <a:solidFill>
                  <a:srgbClr val="000000"/>
                </a:solidFill>
                <a:latin typeface="Times New Roman"/>
                <a:ea typeface="Times New Roman"/>
              </a:rPr>
              <a:t>of bilateral pulmonary infiltrates on radiographs</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a:t>
            </a:r>
            <a:r>
              <a:rPr b="1" i="1" lang="en-US" sz="2800" spc="-1" strike="noStrike">
                <a:solidFill>
                  <a:srgbClr val="000000"/>
                </a:solidFill>
                <a:latin typeface="Times New Roman"/>
                <a:ea typeface="Times New Roman"/>
              </a:rPr>
              <a:t>Absence of clinical evidence of primary left-sided heart failure</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resent the most common cause of </a:t>
            </a:r>
            <a:r>
              <a:rPr b="0" i="1" lang="en-US" sz="2800" spc="-1" strike="noStrike">
                <a:solidFill>
                  <a:srgbClr val="000000"/>
                </a:solidFill>
                <a:latin typeface="Times New Roman"/>
                <a:ea typeface="Times New Roman"/>
              </a:rPr>
              <a:t>non cardiogenic pulmonary edema</a:t>
            </a:r>
            <a:r>
              <a:rPr b="0" i="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0" y="0"/>
            <a:ext cx="9144000" cy="68580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rPr>
              <a:t>Causes: </a:t>
            </a:r>
            <a:endParaRPr b="0" lang="en-US" sz="3200" spc="-1" strike="noStrike">
              <a:solidFill>
                <a:srgbClr val="000000"/>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1.Direct Lung Injury:</a:t>
            </a:r>
            <a:endParaRPr b="0" lang="en-US" sz="3200" spc="-1" strike="noStrike">
              <a:solidFill>
                <a:srgbClr val="000000"/>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Common Causes:</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neumonia. </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piration of gastric contents.</a:t>
            </a:r>
            <a:endParaRPr b="0" lang="en-US" sz="3200" spc="-1" strike="noStrike">
              <a:solidFill>
                <a:srgbClr val="000000"/>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Uncommon Causes</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lmonary contusion.</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t embolism.</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ar-drowning.</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halational injury</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st-lung transplantation reperfusion inj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Indirect Lung Injur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Common Causes:-</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si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e trauma with shoc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Uncommon causes:-</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diopulmonary bypa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ute pancreat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overdos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fusion of blood produ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emia.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athogenesi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i="1" lang="en-US" sz="3200" spc="-1" strike="noStrike">
                <a:solidFill>
                  <a:srgbClr val="000000"/>
                </a:solidFill>
                <a:latin typeface="Times New Roman"/>
                <a:ea typeface="Times New Roman"/>
              </a:rPr>
              <a:t>alveolar capillary membrane</a:t>
            </a:r>
            <a:r>
              <a:rPr b="0" lang="en-US" sz="3200" spc="-1" strike="noStrike">
                <a:solidFill>
                  <a:srgbClr val="000000"/>
                </a:solidFill>
                <a:latin typeface="Times New Roman"/>
                <a:ea typeface="Times New Roman"/>
              </a:rPr>
              <a:t>  is formed by </a:t>
            </a:r>
            <a:r>
              <a:rPr b="0" i="1" lang="en-US" sz="3200" spc="-1" strike="noStrike">
                <a:solidFill>
                  <a:srgbClr val="000000"/>
                </a:solidFill>
                <a:latin typeface="Times New Roman"/>
                <a:ea typeface="Times New Roman"/>
              </a:rPr>
              <a:t>two separate barriers-the microvascular endothelium and the alveolar epitheliu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n ALI and ARDS</a:t>
            </a:r>
            <a:r>
              <a:rPr b="0" lang="en-US" sz="3200" spc="-1" strike="noStrike">
                <a:solidFill>
                  <a:srgbClr val="000000"/>
                </a:solidFill>
                <a:latin typeface="Times New Roman"/>
                <a:ea typeface="Times New Roman"/>
              </a:rPr>
              <a:t>  the integrity of this </a:t>
            </a:r>
            <a:r>
              <a:rPr b="0" i="1" lang="en-US" sz="3200" spc="-1" strike="noStrike">
                <a:solidFill>
                  <a:srgbClr val="000000"/>
                </a:solidFill>
                <a:latin typeface="Times New Roman"/>
                <a:ea typeface="Times New Roman"/>
              </a:rPr>
              <a:t>barrier is compromised by either endothelial or epithelial injury or more commonly, bo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veolar capillary membrane injury…………..widespread surfactant abnormalities caused by damage to type II pnumocy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nt work suggests that </a:t>
            </a:r>
            <a:r>
              <a:rPr b="0" i="1" lang="en-US" sz="3200" spc="-1" strike="noStrike">
                <a:solidFill>
                  <a:srgbClr val="000000"/>
                </a:solidFill>
                <a:latin typeface="Times New Roman"/>
                <a:ea typeface="Times New Roman"/>
              </a:rPr>
              <a:t>lung injury is caused by an imbalance of pro -inflammatory and anti-inflammatory cytokine by  (unknown mechanism; could be due to secretion of interleukins by alveolar macrophages…….. attract &amp; activate neutrophils to secrete proteases &amp; oxidants……….active tissue damage).</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txBox="1"/>
          <p:nvPr/>
        </p:nvSpPr>
        <p:spPr>
          <a:xfrm>
            <a:off x="0" y="0"/>
            <a:ext cx="9144000" cy="68580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ronchiectasis:</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Is the </a:t>
            </a:r>
            <a:r>
              <a:rPr b="1" lang="en-US" sz="3200" spc="-1" strike="noStrike" u="sng">
                <a:solidFill>
                  <a:srgbClr val="00b050"/>
                </a:solidFill>
                <a:uFillTx/>
                <a:latin typeface="Times New Roman"/>
                <a:ea typeface="Times New Roman"/>
              </a:rPr>
              <a:t>permanent</a:t>
            </a:r>
            <a:r>
              <a:rPr b="1" lang="en-US" sz="3200" spc="-1" strike="noStrike">
                <a:solidFill>
                  <a:srgbClr val="00b050"/>
                </a:solidFill>
                <a:latin typeface="Times New Roman"/>
                <a:ea typeface="Times New Roman"/>
              </a:rPr>
              <a:t> dilation of bronchi and bronchioles caused by destruction of the muscle and elastic supporting tissue, resulting from or associated with chronic necrotizing infections. </a:t>
            </a:r>
            <a:endParaRPr b="0" lang="en-US" sz="3200" spc="-1" strike="noStrike">
              <a:solidFill>
                <a:srgbClr val="000000"/>
              </a:solidFill>
              <a:latin typeface="Calibri"/>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not a primary disease but rather is secondary to persisting infection or obstruction caused by a variety of conditions.</a:t>
            </a:r>
            <a:endParaRPr b="0" lang="en-US" sz="3200" spc="-1" strike="noStrike">
              <a:solidFill>
                <a:srgbClr val="000000"/>
              </a:solidFill>
              <a:latin typeface="Calibri"/>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redispose conditions to Bronchiectasis</a:t>
            </a:r>
            <a:r>
              <a:rPr b="0" lang="en-US" sz="3200" spc="-1" strike="noStrike">
                <a:solidFill>
                  <a:srgbClr val="000000"/>
                </a:solidFill>
                <a:latin typeface="Times New Roman"/>
                <a:ea typeface="Times New Roman"/>
              </a:rPr>
              <a:t> include the following:</a:t>
            </a:r>
            <a:endParaRPr b="0" lang="en-US" sz="3200" spc="-1" strike="noStrike">
              <a:solidFill>
                <a:srgbClr val="000000"/>
              </a:solidFill>
              <a:latin typeface="Calibri"/>
            </a:endParaRPr>
          </a:p>
          <a:p>
            <a:pPr marL="457200" indent="-4572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ronchial obstruction</a:t>
            </a:r>
            <a:r>
              <a:rPr b="0" lang="en-US" sz="3200" spc="-1" strike="noStrike">
                <a:solidFill>
                  <a:srgbClr val="000000"/>
                </a:solidFill>
                <a:latin typeface="Times New Roman"/>
                <a:ea typeface="Times New Roman"/>
              </a:rPr>
              <a:t>. Common causes are tumors, foreign bodies, and occasionally impaction of mucu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ORPHOLOG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ross</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lungs resemble the </a:t>
            </a:r>
            <a:r>
              <a:rPr b="1" i="1" lang="en-US" sz="3200" spc="-1" strike="noStrike">
                <a:solidFill>
                  <a:srgbClr val="000000"/>
                </a:solidFill>
                <a:latin typeface="Times New Roman"/>
                <a:ea typeface="Times New Roman"/>
              </a:rPr>
              <a:t>liver; they are dark red, firm, airless</a:t>
            </a:r>
            <a:r>
              <a:rPr b="0" i="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icroscop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most characteristic finding, however, is hyaline membranes formation, particularly lining the distended alveolar ducts</a:t>
            </a:r>
            <a:r>
              <a:rPr b="0" lang="en-US" sz="3200" spc="-1" strike="noStrike">
                <a:solidFill>
                  <a:srgbClr val="000000"/>
                </a:solidFill>
                <a:latin typeface="Times New Roman"/>
                <a:ea typeface="Times New Roman"/>
              </a:rPr>
              <a:t> such membranes consist of protein-rich edema fluid admixed with remnants of necrotic epithelial ce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rative phenomenon….. Proliferation of fibroblasts &amp; hyperplasia of pnumocytes type II…….diffuse interstitial fibrosi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terspersed with dilated and distorted airspaces (honeycomb lu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Clinically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yspne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chypne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reasing cyano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nd up with RESPIRATORY FAILURE.</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Text Box 4"/>
          <p:cNvSpPr/>
          <p:nvPr/>
        </p:nvSpPr>
        <p:spPr>
          <a:xfrm>
            <a:off x="0" y="378936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 the healing stage there is resorption of hyaline membranes with thickened alveolar septa containing inflammatory cells, fibroblasts, and collagen. Numerous regenerating type II pneumocytes are seen at this stage (arrows).</a:t>
            </a:r>
            <a:endParaRPr b="0" lang="en-US" sz="2400" spc="-1" strike="noStrike">
              <a:solidFill>
                <a:srgbClr val="000000"/>
              </a:solidFill>
              <a:latin typeface="Tahoma"/>
            </a:endParaRPr>
          </a:p>
        </p:txBody>
      </p:sp>
      <p:sp>
        <p:nvSpPr>
          <p:cNvPr id="1557"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DS</a:t>
            </a:r>
            <a:endParaRPr b="0" lang="en-US" sz="3200" spc="-1" strike="noStrike">
              <a:solidFill>
                <a:srgbClr val="000000"/>
              </a:solidFill>
              <a:latin typeface="Tahoma"/>
            </a:endParaRPr>
          </a:p>
        </p:txBody>
      </p:sp>
      <p:pic>
        <p:nvPicPr>
          <p:cNvPr id="1558" name="Picture 6" descr=""/>
          <p:cNvPicPr/>
          <p:nvPr/>
        </p:nvPicPr>
        <p:blipFill>
          <a:blip r:embed="rId1"/>
          <a:stretch/>
        </p:blipFill>
        <p:spPr>
          <a:xfrm>
            <a:off x="0" y="584280"/>
            <a:ext cx="4500720" cy="3205080"/>
          </a:xfrm>
          <a:prstGeom prst="rect">
            <a:avLst/>
          </a:prstGeom>
          <a:ln w="0">
            <a:noFill/>
          </a:ln>
        </p:spPr>
      </p:pic>
      <p:pic>
        <p:nvPicPr>
          <p:cNvPr id="1559" name="Picture 7" descr=""/>
          <p:cNvPicPr/>
          <p:nvPr/>
        </p:nvPicPr>
        <p:blipFill>
          <a:blip r:embed="rId2"/>
          <a:stretch/>
        </p:blipFill>
        <p:spPr>
          <a:xfrm>
            <a:off x="4643280" y="3573360"/>
            <a:ext cx="4500720" cy="3284640"/>
          </a:xfrm>
          <a:prstGeom prst="rect">
            <a:avLst/>
          </a:prstGeom>
          <a:ln w="0">
            <a:noFill/>
          </a:ln>
        </p:spPr>
      </p:pic>
      <p:sp>
        <p:nvSpPr>
          <p:cNvPr id="1560" name="Text Box 8"/>
          <p:cNvSpPr/>
          <p:nvPr/>
        </p:nvSpPr>
        <p:spPr>
          <a:xfrm>
            <a:off x="4643280" y="765000"/>
            <a:ext cx="4500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Diffuse alveolar damage in ARDS. Some alveoli are collapsed; others are distended. Many are lined by bright pink hyaline membranes (arrows). </a:t>
            </a:r>
            <a:endParaRPr b="0" lang="en-US" sz="2800" spc="-1" strike="noStrike">
              <a:solidFill>
                <a:srgbClr val="000000"/>
              </a:solidFill>
              <a:latin typeface="Tahoma"/>
            </a:endParaRPr>
          </a:p>
        </p:txBody>
      </p:sp>
      <p:sp>
        <p:nvSpPr>
          <p:cNvPr id="1561" name="Line 9"/>
          <p:cNvSpPr/>
          <p:nvPr/>
        </p:nvSpPr>
        <p:spPr>
          <a:xfrm>
            <a:off x="6300720" y="558792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2" name="Line 10"/>
          <p:cNvSpPr/>
          <p:nvPr/>
        </p:nvSpPr>
        <p:spPr>
          <a:xfrm flipH="1" flipV="1">
            <a:off x="2842920" y="1700280"/>
            <a:ext cx="43164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Line 11"/>
          <p:cNvSpPr/>
          <p:nvPr/>
        </p:nvSpPr>
        <p:spPr>
          <a:xfrm>
            <a:off x="3276720" y="1916280"/>
            <a:ext cx="215640" cy="57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4" name="Picture 4" descr="hyaline membrane disease"/>
          <p:cNvPicPr/>
          <p:nvPr/>
        </p:nvPicPr>
        <p:blipFill>
          <a:blip r:embed="rId1">
            <a:lum bright="12000"/>
          </a:blip>
          <a:stretch/>
        </p:blipFill>
        <p:spPr>
          <a:xfrm>
            <a:off x="0" y="0"/>
            <a:ext cx="4343400" cy="5867280"/>
          </a:xfrm>
          <a:prstGeom prst="rect">
            <a:avLst/>
          </a:prstGeom>
          <a:ln w="0">
            <a:noFill/>
          </a:ln>
        </p:spPr>
      </p:pic>
      <p:pic>
        <p:nvPicPr>
          <p:cNvPr id="1565" name="Picture 5" descr="hyaline_membrane_disease_respiratory_distress_syndrome_detail_01"/>
          <p:cNvPicPr/>
          <p:nvPr/>
        </p:nvPicPr>
        <p:blipFill>
          <a:blip r:embed="rId2">
            <a:lum bright="12000"/>
          </a:blip>
          <a:stretch/>
        </p:blipFill>
        <p:spPr>
          <a:xfrm>
            <a:off x="4495680" y="0"/>
            <a:ext cx="4648320" cy="5867280"/>
          </a:xfrm>
          <a:prstGeom prst="rect">
            <a:avLst/>
          </a:prstGeom>
          <a:ln w="0">
            <a:noFill/>
          </a:ln>
        </p:spPr>
      </p:pic>
      <p:sp>
        <p:nvSpPr>
          <p:cNvPr id="1566" name="Text Box 6"/>
          <p:cNvSpPr/>
          <p:nvPr/>
        </p:nvSpPr>
        <p:spPr>
          <a:xfrm>
            <a:off x="350640" y="6208560"/>
            <a:ext cx="829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yaline membrane disease (Acute lung inj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diopathic Pulmonary Fibrosis</a:t>
            </a:r>
            <a:r>
              <a:rPr b="0" i="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Known as cryptogenic fibrosing alveolitis which  refers to a pulmonary disorder of unknown etiology characterized histologically by diffuse interstitial fibrosis, which in advanced cases results in severe hypoxemia and cyanosis, </a:t>
            </a:r>
            <a:r>
              <a:rPr b="1" i="1" lang="en-US" sz="3200" spc="-1" strike="noStrike" u="sng">
                <a:solidFill>
                  <a:srgbClr val="7030a0"/>
                </a:solidFill>
                <a:uFillTx/>
                <a:latin typeface="Times New Roman"/>
                <a:ea typeface="Times New Roman"/>
              </a:rPr>
              <a:t>asbestosis, the connective tissue diseases SHOULD BE EXCLU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s older than 60 year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Pathogene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Persistence of the injurious agent……..</a:t>
            </a:r>
            <a:r>
              <a:rPr b="0" i="1" lang="en-US" sz="3200" spc="-1" strike="noStrike">
                <a:solidFill>
                  <a:srgbClr val="000000"/>
                </a:solidFill>
                <a:latin typeface="Times New Roman"/>
                <a:ea typeface="Times New Roman"/>
              </a:rPr>
              <a:t>cellular interactions involving lymphocytes, macrophages, neutrophils, and alveolar epithelial cells lead to proliferation of fibroblasts and progressive interstitial fibro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Immune mechanisms: (circulating immune complexes)…… activate alveolar macrophages &amp;  T-cells.</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MORPH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brosis &amp; pneumonitis </a:t>
            </a:r>
            <a:r>
              <a:rPr b="1" lang="en-US" sz="3200" spc="-1" strike="noStrike">
                <a:solidFill>
                  <a:srgbClr val="000000"/>
                </a:solidFill>
                <a:latin typeface="Times New Roman"/>
                <a:ea typeface="Times New Roman"/>
              </a:rPr>
              <a:t>(interstitial pneumonia)</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allmark of interstitial fibrosis is at low power shows alternating areas of interstitial inflammation, with areas of normal lung &amp; fibrosi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neycomb lung.</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1" lang="en-GB" sz="4400" spc="-1" strike="noStrike">
                <a:solidFill>
                  <a:srgbClr val="000000"/>
                </a:solidFill>
                <a:latin typeface="Calibri"/>
              </a:rPr>
              <a:t>Honeycomb lung</a:t>
            </a:r>
            <a:endParaRPr b="0" lang="en-US" sz="4400" spc="-1" strike="noStrike">
              <a:solidFill>
                <a:srgbClr val="000000"/>
              </a:solidFill>
              <a:latin typeface="Calibri"/>
            </a:endParaRPr>
          </a:p>
        </p:txBody>
      </p:sp>
      <p:pic>
        <p:nvPicPr>
          <p:cNvPr id="1571" name="Picture 3" descr="grs027"/>
          <p:cNvPicPr/>
          <p:nvPr/>
        </p:nvPicPr>
        <p:blipFill>
          <a:blip r:embed="rId1"/>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0" y="0"/>
            <a:ext cx="9144000" cy="533520"/>
          </a:xfrm>
          <a:prstGeom prst="rect">
            <a:avLst/>
          </a:prstGeom>
          <a:solidFill>
            <a:srgbClr val="ff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NEYCOMB LUNG</a:t>
            </a:r>
            <a:endParaRPr b="0" lang="en-US" sz="3200" spc="-1" strike="noStrike">
              <a:solidFill>
                <a:srgbClr val="000000"/>
              </a:solidFill>
              <a:latin typeface="Times New Roman"/>
            </a:endParaRPr>
          </a:p>
        </p:txBody>
      </p:sp>
      <p:sp>
        <p:nvSpPr>
          <p:cNvPr id="1573" name="Text Box 3"/>
          <p:cNvSpPr/>
          <p:nvPr/>
        </p:nvSpPr>
        <p:spPr>
          <a:xfrm>
            <a:off x="0" y="54784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ung has a honeycomb appearance grossly. There is prominent interstitial fibrosis. Etiologies include  interstitial pneumonitis associated with collagen vascular diseases, asbestosis, berylliosis, sarcoidosis,  recurrent aspiration, allergic alveolitis, and idiopathic.</a:t>
            </a:r>
            <a:endParaRPr b="0" lang="en-US" sz="2000" spc="-1" strike="noStrike">
              <a:solidFill>
                <a:srgbClr val="000000"/>
              </a:solidFill>
              <a:latin typeface="Tahoma"/>
            </a:endParaRPr>
          </a:p>
        </p:txBody>
      </p:sp>
      <p:pic>
        <p:nvPicPr>
          <p:cNvPr id="1574" name="Picture 4" descr="Honeycomb_lung"/>
          <p:cNvPicPr/>
          <p:nvPr/>
        </p:nvPicPr>
        <p:blipFill>
          <a:blip r:embed="rId1"/>
          <a:srcRect l="3961" t="0" r="4992" b="15834"/>
          <a:stretch/>
        </p:blipFill>
        <p:spPr>
          <a:xfrm>
            <a:off x="0" y="533520"/>
            <a:ext cx="9144000" cy="494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Sarcoidosi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Multi systemic disease of unknown etiology characterized by non caseating granulomas in many tissues and organs.</a:t>
            </a:r>
            <a:endParaRPr b="0" lang="en-US" sz="3200" spc="-1" strike="noStrike">
              <a:solidFill>
                <a:srgbClr val="000000"/>
              </a:solidFill>
              <a:latin typeface="Calibri"/>
            </a:endParaRPr>
          </a:p>
          <a:p>
            <a:pPr marL="343080" indent="-343080">
              <a:lnSpc>
                <a:spcPct val="8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6c0a"/>
                </a:solidFill>
                <a:latin typeface="Times New Roman"/>
                <a:ea typeface="Times New Roman"/>
              </a:rPr>
              <a:t>Mycobacterial or fungal infections and berylliosis, sometimes also produce noncaseating granulomas; therefore, the histologic diagnosis of sarcoidosis is one of exclus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ilateral hilar lymphadenopathy or lung involvement (or both), visible on chest radiographs, is the major presenting manifestation in most ca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ye and skin involvement each occur in about 25% of cases may be the  presenting feature of the dis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0" y="0"/>
            <a:ext cx="9144000" cy="6858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2. Congenital or hereditary conditions:</a:t>
            </a:r>
            <a:r>
              <a:rPr b="0" i="1" lang="en-US" sz="3200" spc="-1" strike="noStrike">
                <a:solidFill>
                  <a:srgbClr val="000000"/>
                </a:solidFill>
                <a:latin typeface="Times New Roman"/>
                <a:ea typeface="Times New Roman"/>
              </a:rPr>
              <a:t> are includ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n cystic fibrosis</a:t>
            </a:r>
            <a:r>
              <a:rPr b="0" i="1" lang="en-US" sz="3200" spc="-1" strike="noStrike">
                <a:solidFill>
                  <a:srgbClr val="000000"/>
                </a:solidFill>
                <a:latin typeface="Times New Roman"/>
                <a:ea typeface="Times New Roman"/>
              </a:rPr>
              <a:t>:  viscid mucus…….. obstruction &amp; pulmonary infection……..bronchiectasis.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n immunodeficiency states e.g.  immunoglobulin deficiencies…….repeated bacterial infections…..bronchiectasi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Kartagener syndrome</a:t>
            </a:r>
            <a:r>
              <a:rPr b="0" lang="en-US" sz="3200" spc="-1" strike="noStrike">
                <a:solidFill>
                  <a:srgbClr val="000000"/>
                </a:solidFill>
                <a:latin typeface="Times New Roman"/>
                <a:ea typeface="Times New Roman"/>
              </a:rPr>
              <a:t>: an </a:t>
            </a:r>
            <a:r>
              <a:rPr b="0" i="1" lang="en-US" sz="3200" spc="-1" strike="noStrike">
                <a:solidFill>
                  <a:srgbClr val="000000"/>
                </a:solidFill>
                <a:latin typeface="Times New Roman"/>
                <a:ea typeface="Times New Roman"/>
              </a:rPr>
              <a:t>autosomal recessive disorder</a:t>
            </a:r>
            <a:r>
              <a:rPr b="0" lang="en-US" sz="3200" spc="-1" strike="noStrike">
                <a:solidFill>
                  <a:srgbClr val="000000"/>
                </a:solidFill>
                <a:latin typeface="Times New Roman"/>
                <a:ea typeface="Times New Roman"/>
              </a:rPr>
              <a:t>, develop </a:t>
            </a:r>
            <a:r>
              <a:rPr b="0" i="1" lang="en-US" sz="3200" spc="-1" strike="noStrike">
                <a:solidFill>
                  <a:srgbClr val="000000"/>
                </a:solidFill>
                <a:latin typeface="Times New Roman"/>
                <a:ea typeface="Times New Roman"/>
              </a:rPr>
              <a:t>impair mucociliary clearance in the airways &amp; reduce mobility of spermatozoa </a:t>
            </a:r>
            <a:r>
              <a:rPr b="0" lang="en-US" sz="3200" spc="-1" strike="noStrike">
                <a:solidFill>
                  <a:srgbClr val="000000"/>
                </a:solidFill>
                <a:latin typeface="Times New Roman"/>
                <a:ea typeface="Times New Roman"/>
              </a:rPr>
              <a:t>leading to persistent infections…… </a:t>
            </a:r>
            <a:r>
              <a:rPr b="0" i="1" lang="en-US" sz="3200" spc="-1" strike="noStrike">
                <a:solidFill>
                  <a:srgbClr val="000000"/>
                </a:solidFill>
                <a:latin typeface="Times New Roman"/>
                <a:ea typeface="Times New Roman"/>
              </a:rPr>
              <a:t>bronchiectasis, and sterility in male.</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Epidemiolog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fecting both sexes and all races and age (mainly adults younger than 40 yea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high incidence has been noted in the Danish and Swedish population and among US black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rcoidosis is one of the few pulmonary diseases with a higher prevalence among </a:t>
            </a:r>
            <a:r>
              <a:rPr b="0" i="1" lang="en-US" sz="3200" spc="-1" strike="noStrike">
                <a:solidFill>
                  <a:srgbClr val="000000"/>
                </a:solidFill>
                <a:latin typeface="Times New Roman"/>
                <a:ea typeface="Times New Roman"/>
              </a:rPr>
              <a:t>nonsmokers</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Etiology and Pathogenesi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mainly unknown (suggestion of  genetic causes, environmental agents &amp; </a:t>
            </a:r>
            <a:r>
              <a:rPr b="0" i="1" lang="en-US" sz="3200" spc="-1" strike="noStrike">
                <a:solidFill>
                  <a:srgbClr val="000000"/>
                </a:solidFill>
                <a:latin typeface="Times New Roman"/>
                <a:ea typeface="Times New Roman"/>
              </a:rPr>
              <a:t>immunologic abnormalities</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ORPHOLOG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The hallmark of Sarcoidosis is non caseating granuloma that involve many organ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anulomas consists of collection of epithelioid cells surrounding by a rim of lymphocytes (CD4 + T-cells) &amp; sometimes intermixed with multinucleated giant cells, thin layer of fibroblasts (in advanced cases result in formation of scar tiss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other microscopic features are sometimes seen in the granuloma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1) Schaumann bodies, laminated concretions composed of calcium and protein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2) asteroid bodies</a:t>
            </a:r>
            <a:r>
              <a:rPr b="0" lang="en-US" sz="3200" spc="-1" strike="noStrike">
                <a:solidFill>
                  <a:srgbClr val="000000"/>
                </a:solidFill>
                <a:latin typeface="Times New Roman"/>
                <a:ea typeface="Times New Roman"/>
              </a:rPr>
              <a:t>, stellate inclusions enclosed within giant cells (not diagnosti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seation necrosis typical of tuberculosis is abs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rathoracic hilar and paratracheal </a:t>
            </a:r>
            <a:r>
              <a:rPr b="1" lang="en-US" sz="3200" spc="-1" strike="noStrike">
                <a:solidFill>
                  <a:srgbClr val="000000"/>
                </a:solidFill>
                <a:latin typeface="Times New Roman"/>
                <a:ea typeface="Times New Roman"/>
              </a:rPr>
              <a:t>lymph nodes</a:t>
            </a:r>
            <a:r>
              <a:rPr b="0" lang="en-US" sz="3200" spc="-1" strike="noStrike">
                <a:solidFill>
                  <a:srgbClr val="000000"/>
                </a:solidFill>
                <a:latin typeface="Times New Roman"/>
                <a:ea typeface="Times New Roman"/>
              </a:rPr>
              <a:t> are enlarged in 75% to 90% of patients</a:t>
            </a:r>
            <a:r>
              <a:rPr b="1" i="1" lang="en-US" sz="3200" spc="-1" strike="noStrike">
                <a:solidFill>
                  <a:srgbClr val="000000"/>
                </a:solidFill>
                <a:latin typeface="Times New Roman"/>
                <a:ea typeface="Times New Roman"/>
              </a:rPr>
              <a:t> (non matte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lungs</a:t>
            </a:r>
            <a:r>
              <a:rPr b="0" lang="en-US" sz="3200" spc="-1" strike="noStrike">
                <a:solidFill>
                  <a:srgbClr val="000000"/>
                </a:solidFill>
                <a:latin typeface="Times New Roman"/>
                <a:ea typeface="Times New Roman"/>
              </a:rPr>
              <a:t> are involved in 90% of patient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ranulomas predominantly involve the Interstitium rather than air spaces……… later result in honeycomb lung…….. pulmonary hypertension &amp; cor pulomanle.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0" y="0"/>
            <a:ext cx="9144000" cy="533520"/>
          </a:xfrm>
          <a:prstGeom prst="rect">
            <a:avLst/>
          </a:prstGeom>
          <a:solidFill>
            <a:srgbClr val="ff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rcoidosis lung</a:t>
            </a:r>
            <a:endParaRPr b="0" lang="en-US" sz="3200" spc="-1" strike="noStrike">
              <a:solidFill>
                <a:srgbClr val="000000"/>
              </a:solidFill>
              <a:latin typeface="Times New Roman"/>
            </a:endParaRPr>
          </a:p>
        </p:txBody>
      </p:sp>
      <p:sp>
        <p:nvSpPr>
          <p:cNvPr id="1580" name="Text Box 3"/>
          <p:cNvSpPr/>
          <p:nvPr/>
        </p:nvSpPr>
        <p:spPr>
          <a:xfrm>
            <a:off x="0" y="50292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t. Low poer: non caseating  granulomas are present in the lung parenchyma. The inciting agent for this granulomatous disease is unknown - speculation ranges from an unidentified microorganism to tree pollen!. Sarcoidosis typically presents with non-caseating granuloma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  Medium power: there is interstitial non-caseating granulomatous inflammation. Giant cells and histiocytes form nodular aggregates without necrosis</a:t>
            </a:r>
            <a:endParaRPr b="0" lang="en-US" sz="1800" spc="-1" strike="noStrike">
              <a:solidFill>
                <a:srgbClr val="000000"/>
              </a:solidFill>
              <a:latin typeface="Tahoma"/>
            </a:endParaRPr>
          </a:p>
        </p:txBody>
      </p:sp>
      <p:pic>
        <p:nvPicPr>
          <p:cNvPr id="1581" name="Picture 4" descr="main"/>
          <p:cNvPicPr/>
          <p:nvPr/>
        </p:nvPicPr>
        <p:blipFill>
          <a:blip r:embed="rId1"/>
          <a:stretch/>
        </p:blipFill>
        <p:spPr>
          <a:xfrm>
            <a:off x="0" y="533520"/>
            <a:ext cx="4419720" cy="4495680"/>
          </a:xfrm>
          <a:prstGeom prst="rect">
            <a:avLst/>
          </a:prstGeom>
          <a:ln w="0">
            <a:noFill/>
          </a:ln>
        </p:spPr>
      </p:pic>
      <p:pic>
        <p:nvPicPr>
          <p:cNvPr id="1582" name="Picture 5" descr="LungSarcoidosis"/>
          <p:cNvPicPr/>
          <p:nvPr/>
        </p:nvPicPr>
        <p:blipFill>
          <a:blip r:embed="rId2"/>
          <a:stretch/>
        </p:blipFill>
        <p:spPr>
          <a:xfrm>
            <a:off x="4800600" y="533520"/>
            <a:ext cx="4343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Text Box 4"/>
          <p:cNvSpPr/>
          <p:nvPr/>
        </p:nvSpPr>
        <p:spPr>
          <a:xfrm>
            <a:off x="0" y="5715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 power: characteristic sarcoid noncaseating granulomas in lung with many giant cells. </a:t>
            </a:r>
            <a:endParaRPr b="0" lang="en-US" sz="2800" spc="-1" strike="noStrike">
              <a:solidFill>
                <a:srgbClr val="000000"/>
              </a:solidFill>
              <a:latin typeface="Tahoma"/>
            </a:endParaRPr>
          </a:p>
        </p:txBody>
      </p:sp>
      <p:sp>
        <p:nvSpPr>
          <p:cNvPr id="1584"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rcoidosis</a:t>
            </a:r>
            <a:r>
              <a:rPr b="1" lang="en-US" sz="2400" spc="-1" strike="noStrike">
                <a:solidFill>
                  <a:srgbClr val="000000"/>
                </a:solidFill>
                <a:latin typeface="Times New Roman"/>
              </a:rPr>
              <a:t> </a:t>
            </a:r>
            <a:endParaRPr b="0" lang="en-US" sz="2400" spc="-1" strike="noStrike">
              <a:solidFill>
                <a:srgbClr val="000000"/>
              </a:solidFill>
              <a:latin typeface="Tahoma"/>
            </a:endParaRPr>
          </a:p>
        </p:txBody>
      </p:sp>
      <p:pic>
        <p:nvPicPr>
          <p:cNvPr id="1585" name="Picture 6" descr=""/>
          <p:cNvPicPr/>
          <p:nvPr/>
        </p:nvPicPr>
        <p:blipFill>
          <a:blip r:embed="rId1">
            <a:lum bright="-24000"/>
          </a:blip>
          <a:stretch/>
        </p:blipFill>
        <p:spPr>
          <a:xfrm>
            <a:off x="0" y="584280"/>
            <a:ext cx="9144000" cy="513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6" name="Picture 4" descr="schaumann"/>
          <p:cNvPicPr/>
          <p:nvPr/>
        </p:nvPicPr>
        <p:blipFill>
          <a:blip r:embed="rId1"/>
          <a:stretch/>
        </p:blipFill>
        <p:spPr>
          <a:xfrm>
            <a:off x="0" y="0"/>
            <a:ext cx="9144000" cy="5486400"/>
          </a:xfrm>
          <a:prstGeom prst="rect">
            <a:avLst/>
          </a:prstGeom>
          <a:ln w="0">
            <a:noFill/>
          </a:ln>
        </p:spPr>
      </p:pic>
      <p:sp>
        <p:nvSpPr>
          <p:cNvPr id="1587" name="Text Box 5"/>
          <p:cNvSpPr/>
          <p:nvPr/>
        </p:nvSpPr>
        <p:spPr>
          <a:xfrm>
            <a:off x="2374920" y="5715000"/>
            <a:ext cx="376380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humann bod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28800" y="14040"/>
            <a:ext cx="91724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Asteroid body</a:t>
            </a:r>
            <a:r>
              <a:rPr b="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589" name="Picture 4" descr="Asteroid_Body_in_Sarcoidosis"/>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a:solidFill>
                  <a:srgbClr val="000000"/>
                </a:solidFill>
                <a:latin typeface="Times New Roman"/>
                <a:ea typeface="Times New Roman"/>
              </a:rPr>
              <a:t>Necrotizing or suppurative, pneumonia</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Staphylococcus aureus</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Klebsiella</a:t>
            </a:r>
            <a:r>
              <a:rPr b="0" lang="en-US" sz="3200" spc="-1" strike="noStrike">
                <a:solidFill>
                  <a:srgbClr val="000000"/>
                </a:solidFill>
                <a:latin typeface="Times New Roman"/>
                <a:ea typeface="Times New Roman"/>
              </a:rPr>
              <a:t> spp.</a:t>
            </a:r>
            <a:endParaRPr b="0" lang="en-US" sz="3200" spc="-1" strike="noStrike">
              <a:solidFill>
                <a:srgbClr val="000000"/>
              </a:solidFill>
              <a:latin typeface="Calibri"/>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ildhood pneumonias that complicated </a:t>
            </a:r>
            <a:r>
              <a:rPr b="0" i="1" lang="en-US" sz="3200" spc="-1" strike="noStrike">
                <a:solidFill>
                  <a:srgbClr val="000000"/>
                </a:solidFill>
                <a:latin typeface="Times New Roman"/>
                <a:ea typeface="Times New Roman"/>
              </a:rPr>
              <a:t>measles, whooping cough, and influenza. </a:t>
            </a:r>
            <a:endParaRPr b="0" lang="en-US" sz="3200" spc="-1" strike="noStrike">
              <a:solidFill>
                <a:srgbClr val="000000"/>
              </a:solidFill>
              <a:latin typeface="Calibri"/>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ost-tubercular Bronchiectasis</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athogenesis.</a:t>
            </a:r>
            <a:r>
              <a:rPr b="0" i="1" lang="en-US" sz="3200" spc="-1" strike="noStrike">
                <a:solidFill>
                  <a:srgbClr val="000000"/>
                </a:solidFill>
                <a:latin typeface="Times New Roman"/>
                <a:ea typeface="Times New Roman"/>
              </a:rPr>
              <a:t> Two processes are critical  in the pathogenesis of bronchiectasis: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 obstruction.</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chronic persistent infection</a:t>
            </a:r>
            <a:r>
              <a:rPr b="0" i="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Either of these two processes may come firs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ulmonary obstruction</a:t>
            </a:r>
            <a:r>
              <a:rPr b="0" lang="en-US" sz="3200" spc="-1" strike="noStrike">
                <a:solidFill>
                  <a:srgbClr val="000000"/>
                </a:solidFill>
                <a:latin typeface="Times New Roman"/>
                <a:ea typeface="Times New Roman"/>
              </a:rPr>
              <a:t> (bronchogenic carcinoma or a foreign body)…….. impairs clearance of secretions……….. superimposed infection……….inflammatory damage to the bronchial wall &amp; irreversible dilation.</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sistent necrotizing inflammation</a:t>
            </a:r>
            <a:r>
              <a:rPr b="0" lang="en-US" sz="3200" spc="-1" strike="noStrike">
                <a:solidFill>
                  <a:srgbClr val="000000"/>
                </a:solidFill>
                <a:latin typeface="Times New Roman"/>
                <a:ea typeface="Times New Roman"/>
              </a:rPr>
              <a:t> in the bronchi or bronchioles may cause obstructive secretions &amp; inflammation…….wall destruction &amp; fibrosis.</a:t>
            </a:r>
            <a:endParaRPr b="0" lang="en-US" sz="3200" spc="-1" strike="noStrike">
              <a:solidFill>
                <a:srgbClr val="000000"/>
              </a:solidFill>
              <a:latin typeface="Calibri"/>
            </a:endParaRPr>
          </a:p>
          <a:p>
            <a:pPr marL="609480" indent="-60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ually </a:t>
            </a:r>
            <a:r>
              <a:rPr b="1" i="1" lang="en-US" sz="3200" spc="-1" strike="noStrike">
                <a:solidFill>
                  <a:srgbClr val="000000"/>
                </a:solidFill>
                <a:latin typeface="Times New Roman"/>
                <a:ea typeface="Times New Roman"/>
              </a:rPr>
              <a:t>mixed flora</a:t>
            </a:r>
            <a:r>
              <a:rPr b="0" lang="en-US" sz="3200" spc="-1" strike="noStrike">
                <a:solidFill>
                  <a:srgbClr val="000000"/>
                </a:solidFill>
                <a:latin typeface="Times New Roman"/>
                <a:ea typeface="Times New Roman"/>
              </a:rPr>
              <a:t> can be cultured from the involved bronchi, including </a:t>
            </a:r>
            <a:r>
              <a:rPr b="1" i="1" lang="en-US" sz="3200" spc="-1" strike="noStrike">
                <a:solidFill>
                  <a:srgbClr val="000000"/>
                </a:solidFill>
                <a:latin typeface="Times New Roman"/>
                <a:ea typeface="Times New Roman"/>
              </a:rPr>
              <a:t>staphylococci, streptococci, Pneumococci</a:t>
            </a:r>
            <a:r>
              <a:rPr b="0" lang="en-US" sz="3200" spc="-1" strike="noStrike">
                <a:solidFill>
                  <a:srgbClr val="000000"/>
                </a:solidFill>
                <a:latin typeface="Times New Roman"/>
                <a:ea typeface="Times New Roman"/>
              </a:rPr>
              <a:t>, enteric organisms, anaerobic and  </a:t>
            </a:r>
            <a:r>
              <a:rPr b="1" i="1" lang="en-US" sz="3200" spc="-1" strike="noStrike">
                <a:solidFill>
                  <a:srgbClr val="000000"/>
                </a:solidFill>
                <a:latin typeface="Times New Roman"/>
                <a:ea typeface="Times New Roman"/>
              </a:rPr>
              <a:t>Haemophilus influenzae and Pseudomonas aeruginosa</a:t>
            </a:r>
            <a:r>
              <a:rPr b="0" lang="en-US" sz="3200" spc="-1" strike="noStrike">
                <a:solidFill>
                  <a:srgbClr val="000000"/>
                </a:solidFill>
                <a:latin typeface="Times New Roman"/>
                <a:ea typeface="Times New Roman"/>
              </a:rPr>
              <a:t> in children.</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ORPHOLOGY: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ros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Site:</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lower lobes, bilaterally</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onchiectasis due to tumors or aspiration of foreign bodies localized to a single segment of the lung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ffected airways are </a:t>
            </a:r>
            <a:r>
              <a:rPr b="1" lang="en-US" sz="3200" spc="-1" strike="noStrike">
                <a:solidFill>
                  <a:srgbClr val="000000"/>
                </a:solidFill>
                <a:latin typeface="Times New Roman"/>
                <a:ea typeface="Times New Roman"/>
              </a:rPr>
              <a:t>dilated</a:t>
            </a:r>
            <a:r>
              <a:rPr b="0" lang="en-US" sz="3200" spc="-1" strike="noStrike">
                <a:solidFill>
                  <a:srgbClr val="000000"/>
                </a:solidFill>
                <a:latin typeface="Times New Roman"/>
                <a:ea typeface="Times New Roman"/>
              </a:rPr>
              <a:t> (cylindroid, fusiform or saccular dis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Mi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a:t>
            </a:r>
            <a:r>
              <a:rPr b="0" i="1" lang="en-US" sz="3200" spc="-1" strike="noStrike">
                <a:solidFill>
                  <a:srgbClr val="000000"/>
                </a:solidFill>
                <a:latin typeface="Times New Roman"/>
                <a:ea typeface="Times New Roman"/>
              </a:rPr>
              <a:t>acute and chronic inflammatory exudate</a:t>
            </a:r>
            <a:r>
              <a:rPr b="0" lang="en-US" sz="3200" spc="-1" strike="noStrike">
                <a:solidFill>
                  <a:srgbClr val="000000"/>
                </a:solidFill>
                <a:latin typeface="Times New Roman"/>
                <a:ea typeface="Times New Roman"/>
              </a:rPr>
              <a:t> within the walls of the bronchi and bronchioles (in severe ca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esquamation </a:t>
            </a:r>
            <a:r>
              <a:rPr b="0" lang="en-US" sz="3200" spc="-1" strike="noStrike">
                <a:solidFill>
                  <a:srgbClr val="000000"/>
                </a:solidFill>
                <a:latin typeface="Times New Roman"/>
                <a:ea typeface="Times New Roman"/>
              </a:rPr>
              <a:t>of lining epithelium cause extensive areas of </a:t>
            </a:r>
            <a:r>
              <a:rPr b="0" i="1" lang="en-US" sz="3200" spc="-1" strike="noStrike">
                <a:solidFill>
                  <a:srgbClr val="000000"/>
                </a:solidFill>
                <a:latin typeface="Times New Roman"/>
                <a:ea typeface="Times New Roman"/>
              </a:rPr>
              <a:t>ulcera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ibrosis </a:t>
            </a:r>
            <a:r>
              <a:rPr b="0" lang="en-US" sz="3200" spc="-1" strike="noStrike">
                <a:solidFill>
                  <a:srgbClr val="000000"/>
                </a:solidFill>
                <a:latin typeface="Times New Roman"/>
                <a:ea typeface="Times New Roman"/>
              </a:rPr>
              <a:t>of the bronchial and bronchiolar walls in more chronic ca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e necrosi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estroys the bronchial or bronchiolar walls and</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forms a lung absc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crosis of the </a:t>
            </a:r>
            <a:r>
              <a:rPr b="1" lang="en-US" sz="3200" spc="-1" strike="noStrike">
                <a:solidFill>
                  <a:srgbClr val="000000"/>
                </a:solidFill>
                <a:latin typeface="Times New Roman"/>
                <a:ea typeface="Times New Roman"/>
              </a:rPr>
              <a:t>cartilage</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eudo-stratification of the columnar cells or </a:t>
            </a:r>
            <a:r>
              <a:rPr b="1" lang="en-US" sz="3200" spc="-1" strike="noStrike">
                <a:solidFill>
                  <a:srgbClr val="000000"/>
                </a:solidFill>
                <a:latin typeface="Times New Roman"/>
                <a:ea typeface="Times New Roman"/>
              </a:rPr>
              <a:t>squamous metaplasia</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0" y="0"/>
            <a:ext cx="9144000" cy="457200"/>
          </a:xfrm>
          <a:prstGeom prst="rect">
            <a:avLst/>
          </a:prstGeom>
          <a:solidFill>
            <a:srgbClr val="ff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ectasi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2" name="Picture 3" descr=""/>
          <p:cNvPicPr/>
          <p:nvPr/>
        </p:nvPicPr>
        <p:blipFill>
          <a:blip r:embed="rId1"/>
          <a:srcRect l="3227" t="0" r="3330" b="8641"/>
          <a:stretch/>
        </p:blipFill>
        <p:spPr>
          <a:xfrm>
            <a:off x="0" y="457200"/>
            <a:ext cx="9144000" cy="4937040"/>
          </a:xfrm>
          <a:prstGeom prst="rect">
            <a:avLst/>
          </a:prstGeom>
          <a:ln w="0">
            <a:noFill/>
          </a:ln>
        </p:spPr>
      </p:pic>
      <p:sp>
        <p:nvSpPr>
          <p:cNvPr id="1533" name="Text Box 4"/>
          <p:cNvSpPr/>
          <p:nvPr/>
        </p:nvSpPr>
        <p:spPr>
          <a:xfrm>
            <a:off x="0" y="5411880"/>
            <a:ext cx="9144000" cy="1313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tensive bilateral bronchiectasis; the massively dilated bronchi extend almost to the pleura. Widespread bronchiectasis is typical for patients with cystic fibrosis who have recurrent infections and obstruction of airways by mucus throughout the lung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Text Box 4"/>
          <p:cNvSpPr/>
          <p:nvPr/>
        </p:nvSpPr>
        <p:spPr>
          <a:xfrm>
            <a:off x="0" y="5791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oss-section of lung demonstrating dilated bronchi extending almost to the pleura. </a:t>
            </a:r>
            <a:endParaRPr b="0" lang="en-US" sz="2800" spc="-1" strike="noStrike">
              <a:solidFill>
                <a:srgbClr val="000000"/>
              </a:solidFill>
              <a:latin typeface="Tahoma"/>
            </a:endParaRPr>
          </a:p>
        </p:txBody>
      </p:sp>
      <p:sp>
        <p:nvSpPr>
          <p:cNvPr id="1535"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ectasis</a:t>
            </a:r>
            <a:endParaRPr b="0" lang="en-US" sz="3200" spc="-1" strike="noStrike">
              <a:solidFill>
                <a:srgbClr val="000000"/>
              </a:solidFill>
              <a:latin typeface="Tahoma"/>
            </a:endParaRPr>
          </a:p>
        </p:txBody>
      </p:sp>
      <p:pic>
        <p:nvPicPr>
          <p:cNvPr id="1536" name="Picture 6" descr=""/>
          <p:cNvPicPr/>
          <p:nvPr/>
        </p:nvPicPr>
        <p:blipFill>
          <a:blip r:embed="rId1"/>
          <a:stretch/>
        </p:blipFill>
        <p:spPr>
          <a:xfrm>
            <a:off x="0" y="584280"/>
            <a:ext cx="9144000" cy="50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Ahmed Saker 2o1O</cp:lastModifiedBy>
  <dcterms:modified xsi:type="dcterms:W3CDTF">2015-02-21T14:30:4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