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75.xml" ContentType="application/vnd.openxmlformats-officedocument.theme+xml"/>
  <Override PartName="/ppt/theme/theme63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</p:sldMasterIdLst>
  <p:notesMasterIdLst>
    <p:notesMasterId r:id="rId76"/>
  </p:notesMasterIdLst>
  <p:sldIdLst>
    <p:sldId id="256" r:id="rId77"/>
    <p:sldId id="257" r:id="rId78"/>
    <p:sldId id="258" r:id="rId79"/>
    <p:sldId id="259" r:id="rId80"/>
    <p:sldId id="260" r:id="rId81"/>
    <p:sldId id="261" r:id="rId82"/>
    <p:sldId id="262" r:id="rId83"/>
    <p:sldId id="263" r:id="rId84"/>
    <p:sldId id="264" r:id="rId85"/>
    <p:sldId id="265" r:id="rId86"/>
    <p:sldId id="266" r:id="rId87"/>
    <p:sldId id="267" r:id="rId88"/>
    <p:sldId id="268" r:id="rId89"/>
    <p:sldId id="269" r:id="rId90"/>
    <p:sldId id="270" r:id="rId91"/>
    <p:sldId id="271" r:id="rId92"/>
    <p:sldId id="272" r:id="rId93"/>
    <p:sldId id="273" r:id="rId94"/>
    <p:sldId id="274" r:id="rId95"/>
    <p:sldId id="275" r:id="rId96"/>
    <p:sldId id="276" r:id="rId97"/>
    <p:sldId id="277" r:id="rId98"/>
    <p:sldId id="278" r:id="rId99"/>
    <p:sldId id="279" r:id="rId100"/>
    <p:sldId id="280" r:id="rId101"/>
    <p:sldId id="281" r:id="rId102"/>
    <p:sldId id="282" r:id="rId103"/>
    <p:sldId id="283" r:id="rId104"/>
    <p:sldId id="284" r:id="rId105"/>
    <p:sldId id="285" r:id="rId106"/>
    <p:sldId id="286" r:id="rId107"/>
    <p:sldId id="287" r:id="rId108"/>
    <p:sldId id="288" r:id="rId109"/>
    <p:sldId id="289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notesMaster" Target="notesMasters/notesMaster1.xml"/><Relationship Id="rId77" Type="http://schemas.openxmlformats.org/officeDocument/2006/relationships/slide" Target="slides/slide1.xml"/><Relationship Id="rId78" Type="http://schemas.openxmlformats.org/officeDocument/2006/relationships/slide" Target="slides/slide2.xml"/><Relationship Id="rId79" Type="http://schemas.openxmlformats.org/officeDocument/2006/relationships/slide" Target="slides/slide3.xml"/><Relationship Id="rId80" Type="http://schemas.openxmlformats.org/officeDocument/2006/relationships/slide" Target="slides/slide4.xml"/><Relationship Id="rId81" Type="http://schemas.openxmlformats.org/officeDocument/2006/relationships/slide" Target="slides/slide5.xml"/><Relationship Id="rId82" Type="http://schemas.openxmlformats.org/officeDocument/2006/relationships/slide" Target="slides/slide6.xml"/><Relationship Id="rId83" Type="http://schemas.openxmlformats.org/officeDocument/2006/relationships/slide" Target="slides/slide7.xml"/><Relationship Id="rId84" Type="http://schemas.openxmlformats.org/officeDocument/2006/relationships/slide" Target="slides/slide8.xml"/><Relationship Id="rId85" Type="http://schemas.openxmlformats.org/officeDocument/2006/relationships/slide" Target="slides/slide9.xml"/><Relationship Id="rId86" Type="http://schemas.openxmlformats.org/officeDocument/2006/relationships/slide" Target="slides/slide10.xml"/><Relationship Id="rId87" Type="http://schemas.openxmlformats.org/officeDocument/2006/relationships/slide" Target="slides/slide11.xml"/><Relationship Id="rId88" Type="http://schemas.openxmlformats.org/officeDocument/2006/relationships/slide" Target="slides/slide12.xml"/><Relationship Id="rId89" Type="http://schemas.openxmlformats.org/officeDocument/2006/relationships/slide" Target="slides/slide13.xml"/><Relationship Id="rId90" Type="http://schemas.openxmlformats.org/officeDocument/2006/relationships/slide" Target="slides/slide14.xml"/><Relationship Id="rId91" Type="http://schemas.openxmlformats.org/officeDocument/2006/relationships/slide" Target="slides/slide15.xml"/><Relationship Id="rId92" Type="http://schemas.openxmlformats.org/officeDocument/2006/relationships/slide" Target="slides/slide16.xml"/><Relationship Id="rId93" Type="http://schemas.openxmlformats.org/officeDocument/2006/relationships/slide" Target="slides/slide17.xml"/><Relationship Id="rId94" Type="http://schemas.openxmlformats.org/officeDocument/2006/relationships/slide" Target="slides/slide18.xml"/><Relationship Id="rId95" Type="http://schemas.openxmlformats.org/officeDocument/2006/relationships/slide" Target="slides/slide19.xml"/><Relationship Id="rId96" Type="http://schemas.openxmlformats.org/officeDocument/2006/relationships/slide" Target="slides/slide20.xml"/><Relationship Id="rId97" Type="http://schemas.openxmlformats.org/officeDocument/2006/relationships/slide" Target="slides/slide21.xml"/><Relationship Id="rId98" Type="http://schemas.openxmlformats.org/officeDocument/2006/relationships/slide" Target="slides/slide22.xml"/><Relationship Id="rId99" Type="http://schemas.openxmlformats.org/officeDocument/2006/relationships/slide" Target="slides/slide23.xml"/><Relationship Id="rId100" Type="http://schemas.openxmlformats.org/officeDocument/2006/relationships/slide" Target="slides/slide24.xml"/><Relationship Id="rId101" Type="http://schemas.openxmlformats.org/officeDocument/2006/relationships/slide" Target="slides/slide25.xml"/><Relationship Id="rId102" Type="http://schemas.openxmlformats.org/officeDocument/2006/relationships/slide" Target="slides/slide26.xml"/><Relationship Id="rId103" Type="http://schemas.openxmlformats.org/officeDocument/2006/relationships/slide" Target="slides/slide27.xml"/><Relationship Id="rId104" Type="http://schemas.openxmlformats.org/officeDocument/2006/relationships/slide" Target="slides/slide28.xml"/><Relationship Id="rId105" Type="http://schemas.openxmlformats.org/officeDocument/2006/relationships/slide" Target="slides/slide29.xml"/><Relationship Id="rId106" Type="http://schemas.openxmlformats.org/officeDocument/2006/relationships/slide" Target="slides/slide30.xml"/><Relationship Id="rId107" Type="http://schemas.openxmlformats.org/officeDocument/2006/relationships/slide" Target="slides/slide31.xml"/><Relationship Id="rId108" Type="http://schemas.openxmlformats.org/officeDocument/2006/relationships/slide" Target="slides/slide32.xml"/><Relationship Id="rId109" Type="http://schemas.openxmlformats.org/officeDocument/2006/relationships/slide" Target="slides/slide33.xml"/><Relationship Id="rId110" Type="http://schemas.openxmlformats.org/officeDocument/2006/relationships/slide" Target="slides/slide34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 type="dt" idx="22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5"/>
          <p:cNvSpPr>
            <a:spLocks noGrp="1"/>
          </p:cNvSpPr>
          <p:nvPr>
            <p:ph type="ftr" idx="22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0" name="PlaceHolder 6"/>
          <p:cNvSpPr>
            <a:spLocks noGrp="1"/>
          </p:cNvSpPr>
          <p:nvPr>
            <p:ph type="sldNum" idx="22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98E3-810E-4021-9DC1-0F8B301F3E26}" type="slidenum">
              <a:rPr b="0" lang="ar-IQ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17BE-5054-47F6-8773-8A460D7C1716}" type="slidenum">
              <a:rPr b="0" lang="ar-IQ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E1FA-A801-4CFE-9370-67983A0E0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squamous cell carcinoma starting in a large bronchus centrally, with bronchial obstr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carcinomas tend to be more peripheral. Note the features of malignant cells on sputum cyt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BDB-B791-4B49-BE1C-4D5A1EC25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four most common histologic patterns of lung carcinoma and explain w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mous, adeno, large, small, going clockwi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3ADE-4145-4891-B97E-6D009CF72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thelial cells have MANY more microvilli than most epithelial cells and express a protein called CALRETIN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iation between mesothelioma and carcinoma may be crucially importa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74A-921A-4980-AD1B-037D520E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78F-F0A8-4A86-8C2F-847CBDB4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AB485-5F26-4C6F-92C9-11597A0B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F4470-1021-4EB4-AFEA-26F045B1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35122-5162-4791-AFFC-12B4F4D5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50567-E14D-41A7-80C9-07BCF110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FC500-4FB9-42E1-B6FF-95CCFCC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8A296-C9C0-4DF0-89B8-C7EB2B23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AFBCB-07CC-4B27-9BBE-E27FBB24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4BC6E-1869-446C-A57A-F1AB5D81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B57A3-80D6-4256-AEF1-97B51E47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7112B-4A0E-4A97-9147-66A37887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231-36C0-4F12-B96A-27B51295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CFCB3-43D1-4C6E-ACB1-8B8C65B4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8BBD0-8684-4D93-B994-B277AC31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D25B9-4D14-479C-9071-A30A5836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34B50-4CA4-43F2-A882-D8274382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4C6C7-3819-4C51-B04B-603E1743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BF808-211B-4B78-BD76-FE214D6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B4392-A530-445F-811D-2D7204E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7F864-3336-4DF0-AE19-5F8EF2F3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83BA2-A214-4750-A460-4616552A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E810D-0CB7-4FD6-AA68-2565F1E8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2EA-94B2-4F47-AAF3-E4B96267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56AEC-95F1-4D7A-857A-8D40D321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6B005-C1F9-45AF-9150-55390A11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36E1A-7C11-403F-9AD3-E884EA56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24F71-EF1F-4978-877A-D1937CE0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F1E82-E24D-466E-B333-9EE2E137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34EEF-4BD9-4C21-B776-80B1A1E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919DB-46B0-47DE-B44F-B4D8E15D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D3D5A-0103-426D-BCB0-01AD6BA7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B90D5-F3FF-4847-A300-4D958650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F2B16-5725-43EA-83D2-030741B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DDA9-8747-4149-B5FF-FF1FC18D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91226-FB87-4340-AC56-0A12EB00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AED70-AAC6-4540-8A0E-AADD97FC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7941E-B3D3-44D7-AACB-C1DB072D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82574-6A78-45F7-A76C-60114183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8D301-0FC3-4AFC-A076-3BC1B3E9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87C38-D3DA-48A9-BEFA-B2C8AB68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F8D7B-DF53-4C00-86CF-83AEFF96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1E53B-9AD5-4AF7-898F-931E4AB0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FB583-CFBF-44B7-9C77-81E07BF8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C47A9-8611-4E65-A1CB-A2F4CEA3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5492-E28D-4352-AD43-24CD946F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015A0-144A-4C68-B203-A9838E1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2D6AF-51FF-4D84-9733-BB727E84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83CCA-03EE-4A43-A72A-845F112F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E7AF2-B28D-4D50-B39B-4646145A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39550-9E63-4884-850D-8085105A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97DE4-9570-4B82-81BC-A1476B1C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AB292-DDF5-4337-9BE0-8A271CEB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72100-7DFF-497D-8DA7-293D190B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3B8AB-2D37-4F94-9048-11A419D0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2D92E-FBCE-4202-9522-AB6B0EAF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D205-341B-4161-99F4-4C887569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7AA27-8B67-4595-AB7C-1B1ED79D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7C3E5-5A59-4B17-BEEE-025A5045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0E81F-B311-4792-8AED-E28C43F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843B3-CD49-49F4-B5B1-0E32DF3B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D6932-07A5-4A6A-8CFD-C8BAAB6D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FCF40-9AA8-45CB-9CE2-9CBF4B44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7AD89-4F62-4305-90AD-92400CD7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6EBF7-BC5D-4EAA-8817-5D6C1CAB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F8C1F-86E8-486F-84DB-92E87616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B8C60-16CE-44A4-AF6A-D602ACB5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63B3-ECE3-4B5F-9074-1D83AE7C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90992-3777-43B6-BCDF-1C498907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10CD2-059B-4FB7-A66B-8B895C18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3AA2A-0EDA-44DC-9950-AB3EC124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32BB0-F26A-4D8C-80B7-5015961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40C5B-D22A-4B6E-9187-58206F19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923EF-6486-4E25-B1E9-673FC8CE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A9C30-DD11-4680-9AAA-C114E0C4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C37D6-204B-4C5D-A27D-7F4543EA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54E1F-C348-4BC6-A973-E0181CE2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171C9-AADE-44FA-8924-856F91DD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BD04-1FD9-417D-8875-709E845C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E8D86-453C-4164-98C1-2AC8B3FF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AC757-0148-4D00-AAE5-DB7D8AB7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9846C-33FF-4B4C-8C46-102251B8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94E2C-B2C9-4BCB-9521-951A307E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FC69B-4E87-4F98-80F6-99692843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DB98C-998A-4EFB-9D79-79DAD8F0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7F073-C5BA-46A0-843E-602C4526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EF073-1A99-43B7-8804-F2D8481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FFFF6-2642-4416-81AF-2C139606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400C3-B756-4B6C-975D-3122FCD8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C4B4-80A8-4D74-ABE9-B2178ABB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CF210-56D7-482D-A90F-0A5DA940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797F1-0082-4CBD-A3C7-B75C85A8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BC1E4-65E9-40CC-BC05-08D85CB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51F72-F96A-4A86-9DD8-27341C7B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2A7AC-DF66-44FC-B306-F254AE55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AB614-8148-4554-8594-0FB35C1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27DD4-B00B-4305-9C8A-6061E88D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A601C-A347-4643-82F9-A22C1C90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D7142-40D4-46F9-9098-F70D5DDB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6A9EE-E94D-4FED-8A10-91EFECF2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2F84-9B39-47C0-86E2-45646B1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B5DB0-50F2-4556-B9E3-9B889DF0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711075-1C74-408D-BD05-16A78F89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B910B9-1399-4BF5-8422-1058F7F0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444C6D-0BA6-4FA9-8E38-77CA07AE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6EFCF-6E26-44FA-B058-6FA91A65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67281-F3A9-46BB-88D2-8C4B72F0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5CEB3-FD42-4C27-81BE-CEA560E0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ACC55-0FC3-4E22-BD49-EC9F9F64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8860E-6B31-43A5-9A0A-F4DDAB69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F1808-D137-4AA1-88F0-739436B7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FF7-5E4C-489E-8548-E318F515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7F0A-D0B7-4DF5-96B6-3845FA19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1E13B-31D8-4F21-9559-BFD2BBB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18C72-8B22-4F85-BB56-850DE330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444225-9C17-406E-8CE2-82ABA365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FF466-CBFC-4987-87B4-CEF0C643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B9577-8C80-4E88-B1E5-02CAA6F0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76C4F-8CA2-420F-B238-9F14CFDB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AB069-7768-414F-B3F0-D5B747B0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3267A-8065-43CE-9236-06991211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24AE9-4572-4574-B66D-4AD75444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20697-666F-4BC9-A7B8-ED0737E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4E85-E7E3-420D-A388-018152ED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DA09B-7E26-45D4-B252-F53D74F9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40445-0182-4E13-8CB6-6E07355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A954E-39F0-4517-A3A1-C571C72A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BBEE6-62ED-468A-BC41-250454EC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2CA13-38CC-4F4B-8AC6-D51D74ED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1F997-6E60-40EF-BEBB-274882B5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02D63-7537-4F52-85EB-11E703D8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8ACDCA-E54A-4E25-A2C8-413DA5D7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31E3F-C0DD-43BD-8CA1-C6A68499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A6143-6D56-4FAC-9C79-DF52C612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1D3E-97B2-41F3-8EC2-D04B4B65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E1801-A13F-46E0-B44D-A0D61530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9C8FF-345E-4C5F-8AFF-954B1F5F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D9EE9-0575-4457-8B67-98470B0C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9DA54-2354-4E09-BB03-336D4E0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A7D4B-4ACC-4272-84C4-3EF76504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452252-654C-4527-8240-CACBC352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5E0E5-4F01-4B24-9B0D-2448F9B5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22714-10F0-4A97-B8DE-A3510332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525B1F-8EFF-417E-A54A-9EF3B1EA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62885-161B-4CBF-8225-AD95CD88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FDC1-DB29-4F16-909C-92980D73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BF9B1-4F98-4498-B9E6-464461F6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EB92C-B3AD-4727-B8A9-F4392E6A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ABEB5E-D819-4738-B307-6224399E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8CE3DE-CE5B-4E4E-91C1-41B02BC5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F94F1-6F92-4EAD-9892-642B912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B72FE8-C382-4994-B274-F5A775E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41FFA-8FBE-43CB-99FD-2333BDE5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E5E2E-82C2-437B-A8CA-0B5DF1C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1EEF1A-D336-4497-9C72-35821527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1D6D3-887B-4132-94FC-567BBA28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ABC8-5E41-4FA9-9FED-F0106A54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F4B74-ABCC-4F9F-A45D-8F1E134E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DFC10D-ACBF-42C1-8F1D-05E2168C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547EC-DB97-4839-92A9-EC22F110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F07F1-12A1-46A0-94A8-DB2D1F16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351CB-F1DA-45B1-9C64-1D4DE92E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3E25C3-ABB8-4390-A140-FD52940F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2BE9F-34C4-49A4-84CA-2B5DE1A9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D25BD4-F4BC-4DBE-9EDF-0E2BC714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11421D-2DC1-4DEC-81CC-5C9A1B9B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89B3F0-94B5-4A55-AC84-A6210C4A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B715-8815-4BC4-A83C-E4AB2E6B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D0B97-366D-44B1-966E-6E817909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A13A0-0CA9-4360-A306-4D9B072D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61B35-7331-4939-B4DE-948098AA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2656D8-EE34-4F59-A000-B7D05CBD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F65C6-E2A0-4353-A10D-718CC9CC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C3E64B-C300-4C5D-BBF3-407DD24D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592D3D-9604-430B-B6AB-B82168FA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B590F-BB79-45C1-9FF1-48691EB9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528A69-3A6A-4253-A777-E780B7D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E4CD7D-016C-42CD-AD09-28D5B83B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9E70-81B8-4356-A1CE-8D78A0EA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D4A48F-6237-4283-A90F-28C75C9F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745C52-0DC8-42DD-8668-5267A190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02613D-2C86-4766-9266-AA5F00B0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639A81-5ECC-4D29-AD25-8A9369D1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2DD86C-069D-4A27-B634-B7BDEBE2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C0A4F1-2255-45ED-8D3F-3D21B4D3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2DD2D6-EA2B-4327-9F8E-2F7AC0E9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FDA436-9870-4A31-8BD6-F2069A01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35F4E0-D0ED-4722-BE43-8E3F7EFB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DBBBB0-2FFD-4B5B-91FF-5B9AA40C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F24D-94E1-4FE7-8A3A-7F8E7047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8A5507-2839-4AAD-BC4A-5F57D534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7CA405-CE7F-4927-99BA-7972F3C7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82A235-7B68-4E3D-BEAD-9EE8BA34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FF8143-644C-415D-92E9-0B88CD47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BF8553-72F6-491D-AE4A-F1DC187D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F98E2B-58C9-4491-92DE-9664A1FC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78F77A-2957-40A1-8DD9-86601AEA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609FC9-D815-4AE1-BE47-FA9C3A23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3C10E1-3887-412E-8C95-59599F26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1D83B1-F1B1-4ED2-BB71-AD72656C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F35F-B933-45EB-9184-983620FB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A58AF6-242E-4142-B29B-CC0C806F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69A8DA-EA73-42EB-AAB0-C5F104ED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977E2E-9581-497A-981A-72E3A957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B481CF-25CB-4284-9AE9-65464BB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0F562F-C153-4D80-90F8-F5BDE9C0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2D8C5A-EFE2-40E1-AAD1-AF4D0D42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2B7D9C-8C46-421F-8CC6-F7DD0A6B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CF5FD8-8C59-421B-8F31-268EEB55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A139A3-E7D2-44B8-813B-526DC574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B7A627-8F63-4D99-A7C1-D84798BD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8ED2-1324-4C32-873E-5C75F2A9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A1A730-B4E7-4CF8-8904-DC7A630A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3BF603-9C0C-4F09-9BB5-CE0B084F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FAA41F-8673-4907-BF03-572358B6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5DFD3F-6A61-4DDC-9A1C-3D612AB5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69759B-0B32-4F6C-81C9-850FE2C1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02E09E-1A06-4B2E-9F5E-D1E8C1E6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7E5211-73CB-45BB-8CDE-E40DFA73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9065A0-D54D-4450-8BB6-9814CA1F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C1635A-F11C-41A8-819A-32E173A8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89281B-F226-4A21-85E4-E4FC20D3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FC4-BAE2-4863-896A-84044E96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E5042-9A80-4728-AB89-58203F5B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8A985A-BA46-4361-BE6F-E7316905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86617D-361E-4AAA-A3EC-3D0822C2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0F7A28-E81A-4A56-A4C4-81FABFFF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B9F639-1043-4721-8BC9-E6158686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EB0897-1C25-40BE-9BED-D1C885F1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674A48-334D-4B75-87C1-9B7AB5F2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A86F43-480F-4542-B6CA-4178ACBB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4DF22F-CCDE-472D-A442-980D788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CA45E5-B6A7-4D24-BC72-D34F077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6C7967-F009-43CE-A7D2-FB34955C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7AF18-5B85-4FA7-ACFF-DAEB1D15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E6DE23-1067-4B04-93F0-37196FE1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3B8274-1CA3-4C8E-8DBD-17DA970E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785FB9-DC54-4C3C-9AD6-092D8205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339CAB-C355-4605-914D-459AB8C1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6520A6-F480-44FD-B354-C8763265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4F74A6-0D65-429D-8BE8-D9C9BC44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49D2C7-F39C-4689-B9F7-49AFA72D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ACDBDE-29A2-4C7D-AA9B-4362396C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BD61DC-6B56-49E8-B5FA-CD2D4AE4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2C9735-CAAF-4CC9-9BF5-795E4DD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AFCF9-9BC4-4C07-8E00-3D5377CB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D5151B-F886-49A6-ACB1-3E3FE879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02155A-36EB-4D8C-A7D7-20B32D54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8B280A-F21B-4074-BB90-6EEEC75F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92AF3F-C4EB-4138-8F16-ABBCC371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BFA31D-938F-439C-9827-D1F59B01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F0CADE-1530-47DD-BC39-32707E3E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323D13-965C-4BA1-BD0D-DC4CCD40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C00C48-2AE5-4646-BE4D-22D65F51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329A91-B62E-46AA-8800-9D1D1A0F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70D53E-121B-4BFC-A001-F2465C52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88AD-1402-4C56-981F-FDE1C6C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4420FE-8CC1-49FC-8310-CD2A36D0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1C601C-FC4F-4A7F-9124-AE3FFE3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1513A9-FDAA-4D4B-9F94-CF86E0A9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191A9E-244F-4A31-B8A3-3D102CC9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B93FE2-5FEB-4547-A7C1-5BF97B73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B60CBC-C0A7-45F3-9B11-D1542BC2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3C90D5-795C-4BD8-85F1-29BA6298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EC785D-1D26-4510-9BF7-08996D48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DF95E9-FE2E-4209-BF17-8F5AE809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55C9C4-C672-48F8-BE84-A48EEC59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4605-68DD-4BEE-9BBA-4EB7FDB2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7A7BC3-385A-4DCE-A4B6-B8422353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296E81-9920-400C-A851-6DC3AFA6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0E4295-BB1C-4AF4-98B0-D0CEF031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8E2ABB-E457-40E0-83D7-C7A054C3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08B15E-3D7C-44AF-9E32-D9CB9CC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CB0D37-1091-466A-8297-EA3F012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6FF89A-79D1-4069-B114-B705089D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AE4023-663C-4F10-A237-9593F705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B0B0BA-41DD-42E3-B460-0FB1121E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6B4BB2-30FC-4CCC-B17F-B8285736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ACF7-3F35-4AFE-B1FC-68DE72C9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1C2DC4-F483-4FC0-9D6B-E1B2E04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87BE94-0B08-4FFD-A2BE-89308E37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432916-2F85-4FE2-9807-B81C39F9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FD2D03-31CE-4CEB-BA50-553AC565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A64C53-05D3-4300-B5FF-720B0E11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A0761C-45F8-4CF0-A70D-E243C580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0FAF77-FFE3-4026-80CB-A2C447C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FB33CD-5C65-4D58-82B8-E7264A99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62F445-6785-425A-B1E4-9A0C9BA6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8A76C5-685B-487D-84F2-EE45FC2E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D6F2-156F-4BFA-A1FB-8FEFBE24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22BB1F-7F90-4EFD-9BCB-55B654FC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8C289D-10EB-4494-B0D4-E18B9D0F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75B14B-2705-4FED-8AF2-E0F821D7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2B8EE9-7021-4240-ABDD-53338716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F21066-6572-46B5-BBDD-78F39684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ECB80D-67D5-4380-85A0-3025FA74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8D83E7-DC16-40AD-9A6D-A550B971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BB5D91-0854-4C57-8D55-C1514AF5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2ED72B-BF48-4DF7-B194-2898870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FBA387-1587-4241-9C70-E5362C0B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2D19-7F83-4FD8-9B4C-5E37F6AF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5F077A-0138-4A78-8CCF-1B7D866B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CDB85F-CB90-435A-A76A-B946CF8F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929BC6-2577-4D97-A628-DFDF1428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B88FF4-4D08-44B6-B901-221284ED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E674CB-A08D-4AB8-9BFC-E3004432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8BEBDC-0692-4470-A2E1-E4AEDFDC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DAE9D2-BD53-40D9-9E90-1E3C9FFE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2E240C-4912-4941-9B23-24C408CB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CE9AE3-2B21-4498-BFBD-CD17623A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91570F-30C3-4398-9399-FED2C7BD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B6D7A-421C-47C0-921B-C4130BA3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EBA00D-A386-482A-A4FF-DC1BFFC9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3EF03B-9ADD-4A4D-B6BF-4638B8E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8886E3-DDCA-4FE9-A150-6189659E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099930-789A-432E-AC72-D7A3ACC3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50C485-2D78-4082-84F4-9748CB13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89A45D-C6A4-470A-8FA1-3E512E46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64FD89-E559-4702-82A5-43E7A259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0EF2B0-4314-433A-BB9A-2B885362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BA5E73-169B-4FF1-89A3-153D8699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302703-0E0E-434B-BA1D-AB1428C1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76BE-8AA4-4576-95B1-132737E9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D16FB3-B067-484F-B64B-D1D334B8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E7BA08-D218-43C5-AD84-5A6A475A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945CE4-0DAE-4F30-ABC0-EA534956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9722F4-9AF2-41A4-B4B3-EA33522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7DDD96-CE74-43C6-A00A-0E09FD65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62E56E-622B-4700-B529-5152C2B1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3D7F3A-1815-4C4B-BCF8-26EBA6FD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D85DB8-7B45-42C2-B93A-1DA11060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52221E-2FFC-49CF-859C-9EA56C9A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79EC8E-FBDA-4BCE-ADD6-C1D264B2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D3D-04EF-4973-8562-BB361B5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201A-0D81-4CD8-9CA0-C98D025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1F90A6-D0BC-49C1-BAFF-A0588481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3458BD-E3F8-4E46-8704-23C2ADC7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7F6D5B-ABDA-43E7-8DBE-E9744C2E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158313-4349-4C80-A714-F280AE77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EF47F6-1349-4403-A025-07621C2F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E19B0B-4BEF-4AA0-A450-5B7388D5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3F078C-7AD2-44F1-A929-A32123CF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2A3D77-FB5B-4DA7-B2B5-E008CFD4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D51474-3505-4DD1-B4BA-520EF193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800F04-4186-4849-9D01-3B0A7F76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0920C-F627-4517-BF38-9D3C2FBA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2E0138-39B4-4461-B00F-FCF2C812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4F8B12-F04F-47B3-B8E1-2FEF21E1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D280E9-B483-47D5-A038-AB9D9A25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B7DA35-7364-4C8C-8648-E3F3B05A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185910-99BA-448B-8377-1AFA5257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60595D-A53D-4BB7-B802-CDCD2E3F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0A2DCB-1BBB-4C75-884C-05DB465A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3C62FB-ACE5-4717-9423-A81CF40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95FE40-677C-44D5-A10A-3659A6A4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A43DD8-1265-42D4-AB72-A7B338C1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8CC8-D7BF-4DE6-9813-03D73304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DEC185-48D4-4C57-99CA-34FE8357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47FDAA-6672-46AA-89C8-B282B1B5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C33E96-BAC5-44D5-A9F9-B42FD386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B70DC5-DC79-4FDA-B2D1-A07BB2BD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723FD1-5489-4923-9DAB-C8E0905E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B73692-32C1-49C9-A21C-96D437EB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B7CA7C-687F-42F8-98B3-DEE934C4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8588EE-CC02-466D-99D5-52A2C586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B5590E-8F34-4C31-9663-D4555D6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AB8CA5-9086-45E7-A4CF-A2A28839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5DA4-E678-484E-9ED3-D8D728C4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81804C-97F5-4920-BE83-F87C584A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484E7A-F638-45EC-AEA6-BB01BB4E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48B508-5B67-44BB-971C-B1E065B2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33F006-CA81-479A-B228-C33B9360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0EE9E6-C008-4145-9336-16A2B49A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78D1A2-06C5-463F-B6D1-6E1BF353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FB5189-B418-49EF-B693-31A83C46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DFCAD4-A05A-4146-AF45-2A78C0D4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6A99A4-EF4F-48C4-8E40-BE28D66B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379751-6806-48EC-90C0-AC8872C5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4432-D45A-457C-B61B-C977FF14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D1B255-759F-4899-BD1F-6B47A2B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44F6B6-F7D7-4E0C-85CE-C50930BF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F142FB-5876-46CE-8F11-59A68935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D13111-6BF9-4E0E-A39C-37F8F15D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E80D41-D05B-4B34-8F28-EC3C01F1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CC755F-8D04-4BEF-8762-D4BF1936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C61387-467A-4DE7-87CE-E9DF16FA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C3BC4A-D662-4A07-B133-F5EAEE5B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C3D5E9-AC11-4081-AB74-AEA65326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6328E8-7DDB-491B-80B3-05E3BD60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AD97B-63A6-41D6-A96F-23B3E467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7A6116-0D42-4EB4-A7B3-4E706320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BB29DC-970A-4443-95D2-71C3AD5E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B5DA59-714E-4D4E-9BA4-4E288DD0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505872-80BA-48F8-9075-ACC483A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64011B-71C0-4F5C-9DEC-42CE946E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3E79FD-46D1-424A-8493-330787A8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CCB4169-077A-4264-A98D-F53C08CB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910B54-D863-42D2-8733-397A152F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D18EEE-8AA9-4E65-B5FA-B47AD74B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7BE98AA-FFAE-4221-91CE-DEE932CE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1FEC4-E41F-4B1D-B276-E2DBFC1E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A7F423-A638-48A2-875F-550593A4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1C5AA87-2C9F-48A6-8335-61927011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70F24F-0A5D-492E-A572-D6BF2A02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2EC2D6-BCA8-4873-BFA8-B5B102CC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EF8730-65E5-4232-8466-C3B9925E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05B247-5EE8-4934-AC72-E4DFA8BC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5AC749-EC62-4D99-B0CE-9BAD9776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366E5A-74BD-4F6C-82C6-7E04C3D6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02E46B-C253-4F1F-A661-D28FB3ED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51F08C-C671-4B93-B484-86E557F8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6225D-70E5-4680-99AC-8928F726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B01C41-E6F2-4F91-AD7F-DF3DD84E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BAAE61-F9DE-43B6-B608-F6AD7D0E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DC71DA-06AA-463E-8060-2113C111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386935-9798-46D4-AB51-50EA8792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473CB9-4899-4583-978B-30ECDDFD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6DA1F1-FE44-4215-82A8-B810CFB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C6B525-5EAD-42DA-81FA-A470062E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23C110-7D35-43EC-8454-4F7B823C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A398CD9-5396-40A9-BCE6-6A11E7B3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BB7DC5-9A80-4E2A-959E-6A4F9295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2B60-940B-4C91-A64A-96FF67B2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9A1A42-33B9-45D7-A5CA-6BB9CF1E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4CEBC4-948B-4D4F-A787-33BB89D2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E67CCB9-20D3-485C-870C-6FC0FEA1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73B306-B4C7-41F6-831C-AE455DDF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DEA21C2-7B38-4C7F-A672-55C308B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FF356C8-1B21-42A6-B038-1A08D44E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6FCF2D-F6E9-4A75-9C95-00AABD8E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5CD6358-BCEC-4E70-B1CD-36DF101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6CD60F-0ED6-46F7-9A0A-4AE58FA6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C44E8E-05AD-4531-A489-71272E28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97514-1D13-48A7-808F-699C64E1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747593-C215-484A-8F31-E7260421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0F5D73-B90A-462B-85C1-259E54C8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52D3FF-FFE7-46EE-8FA2-D4D1F04A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35806C2-078C-4666-B8F1-ABEF86EA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315C8A-0089-4897-8EE1-83E22EB0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C04A0B-17E9-46F5-9F95-458EE9D6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6C294B-FFD6-440C-8126-560AD6DB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B9272E7-7CA4-44A1-9C1C-E7E2ACCB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B6B069-2F2E-480A-B73E-8B3CEE80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E5B212-BFDE-4E42-95C3-EF978249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758-E749-47B3-A575-31D32D0F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32DFB-FA2A-42C0-981D-B373DABB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01A432F-6AEA-4B5C-B16F-94A32279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3882AC-7AA5-4840-8CE8-2E3020F5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1A61B07-8DED-4D88-ADB7-894B857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FD194D-1F88-470A-8DB6-DB685465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419642-1956-4426-A22D-598B9489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5F4BCD9-D7C9-4210-9522-9B78CEBD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A29D4DA-97A5-4BD5-A90B-AE3A0FEA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4FB85C-CC15-4601-896A-CB68FB3A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473CC3A-B510-409F-871A-CE4E847C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A12D0B-F192-4B7B-91B0-6F7A36E9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2098F-CCDE-4D21-84DF-15E28E39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1F9BE9F-7FEA-4082-9000-236348F8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3B52C1-66DC-4001-885E-F32439A3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50B60C1-C189-4934-B0B4-E6C7CF01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280B5E-0D6B-45C6-B2AA-E90CD400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98B5F6-2A67-4CEB-877B-5A63C153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9DD7797-60EA-468F-8A79-85A318EE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31068E3-4423-49B4-8D19-F1A9E8B8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E7EB339-7CC9-4889-A09E-A2D1270F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D36AA7-E1EE-40F1-957E-18CE0034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85124A-3700-4BE2-935B-918AB6D2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F5311-0861-423C-9A62-DB98DF7B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CB091B-8AA3-4DF8-809A-63950CEA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4D7691-7E93-44CD-9FC2-87CBB346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C357ABB-807A-4D6F-9A82-F2864CBE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2513E3-CF55-407B-888A-2984536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65BCE96-C9C6-4067-82A5-E99A4E3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AA640C-09AE-44E2-B6C1-A523B6B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149636-6549-4B0E-A3E7-FB2187A6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5572D3B-0BFB-48BC-916C-838A70D3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676F59F-05A9-4FBA-99EC-E72D8FCF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C108E1-A05E-4F95-A24E-4D9E36F8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C881-051F-49FA-BB83-499825CE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24C740-7453-432A-8630-69FDEEF5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18C714A-8F7F-4C4A-B5D9-7B2E9E65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5E69B37-8CAD-4A53-88E1-0C35952E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47130DA-08BE-43C7-A73A-69826F7F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6A0D968-2281-46FB-A9C8-B047A1F5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F02884-BCD8-480E-B6AE-09C9E14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6CEFB6A-BC80-4E6D-B7B1-749EEE5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AE7E461-DB7A-4D18-93FA-1F115EF3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2CB824-1579-42BA-AEDB-FDFD6951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3FD5C21-CFEB-406E-8252-534CCB83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4040-E7B8-4F52-8BEC-F884B01D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6EEEE7-7E3D-45C2-B6DB-203A18DF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11BBD40-305A-484B-89AD-08EBA5C1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0EFD023-8B99-4DF4-A972-ED4781D4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10B2024-1E1D-48F1-A386-C9341BFB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CCF4E6-4DF2-48D1-92B4-3DA170BB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5C02133-BA73-40B3-942E-31ADEF79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5E34B48-573D-4C73-AF19-08391B84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7F01AE-818B-4501-9542-40E405E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9F60CFB-5D3B-4437-B851-9DA5170D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C260B2-8C83-49E9-942C-4B64EF6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BEA5-66DC-4FB2-AD33-F7D0AEF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44A8D7A-82EB-46C8-B4AA-F7B23AB9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AD03D7-95CC-4DB6-9474-DC022AAC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0F08606-0A91-435C-BAD7-DC30E5A1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EE0D51-F6A6-4D77-9AF3-5FB5B1BC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5DE349A-7C4C-448F-8812-72F87236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EEC97F-560F-4C72-A0E3-69B3C951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3CCF70-2584-4F5C-88A2-6916D00E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B66E2B-4A38-4428-85DE-65275B40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521BEF1-675D-467B-B907-2BD073A7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321D81-1C20-4A99-8720-E2644C7D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7E116-661A-4FD3-A00D-F67AE877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3D8639E-A352-415F-B341-D2A3FD2F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04C7941-308A-43FD-BDB0-91E7C7AC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82888D6-4AE7-4FA1-BB10-02175284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4E1298A-09CC-4A9D-A9AB-8580F538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C363E1-07EB-48DF-826B-401D4C06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16CDE8-7224-4D98-A194-0A7950DC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7CE9E84-58D1-43F9-ADAE-C6510B29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CDCBE4-C762-451E-BA01-4BCD9391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DF22E64-0C63-49C4-BFE6-877347A1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F4C254C-C5C9-4563-B366-36EC28D9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79789-3C9F-41F2-A33D-2AE97975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BA1D38-BDE8-4B34-8BD8-6A619D6F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878754-9B0C-4D91-A47D-5CA8DFB3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9C412F-7B6E-4942-AC11-81E5211A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3015DC-D4C9-4E93-942C-FD2A44AF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013301-7CCA-46BE-B1FF-3508D298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DFE810-95C7-4953-99B9-D399F072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952870-3EA2-48B0-9320-0B2B7F91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0F11109-51C7-4900-814A-25B25D2C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AFD0487-7114-4A03-B80D-270BFD91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C691E1B-135B-41F5-966A-99581107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B7E16-0DE3-449A-82E1-10FF8999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6A26EC7-2BAC-4EF4-B4CE-B8345AC4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CC72253-2530-4077-BAA7-8521E26C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15BFAB5-272D-49DF-B809-EF8DF131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4987425-022A-4083-8053-68F62D03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ACDFB1-090A-4263-A590-3D3A8060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33F6218-3D0A-4EE1-B9FF-A15D3E4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B91A47A-E3FE-4533-B9FB-D060FA8A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1A36AE-FFD0-4A82-888F-682F8883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404469-037F-4D6D-9CE3-F8D272EF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A5BE70-23BD-44AA-81E6-E9C28036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8E86E-2E55-483D-A683-06D945AE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A40BD61-3371-423E-906E-822AB3B4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EDDC89-AE3F-471F-A8C7-8B701396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E8A40BD-C0D3-44B9-9A95-5D9A5178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68D4DA-13C1-4E88-9838-F01A1B41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6C03DA9-CF4C-48E9-82D4-5E669C8D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A532148-22D2-4E3C-8CEE-F094DB4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9D4AA87-92D8-4ED5-B9EA-E90268D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9CA0E7E-9AF9-4E10-B0CC-C9385C6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6669FA-7F29-4D35-865D-D68FE004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EE70397-9CEC-4DE4-B25B-67E3A5C6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2AF-CBC6-4A9C-A1B9-D1AA48EA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B0D4F-320C-4FE4-B213-456E338B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130B9B-F327-42C7-BBAF-9614DBB7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C8F7779-3373-420C-A5B3-B06B1646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93B4A86-1B8C-4C14-9746-567A8362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DAB62D1-70AC-43E4-8ECB-3EB6219A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2B9B35D-F033-49BE-89FD-E2978605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D176439-0886-4E6E-B4BC-35BAFBEE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210BDA9-7882-4CC2-8D15-7516C58A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803E45A-0CC6-466F-9AEA-AFB9C9B7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8205011-37A7-45D2-804F-A714B0C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9DBBF41-5263-4DA7-8AE9-088D91B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6D04A-A08F-4D0A-A236-C7990B22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2CE23B6-B9DE-4557-BCBD-3BDAE46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04F59C0-C492-4D9C-AC1D-9FBD47B4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6EB47AD-6B83-49D8-B73A-16678B40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F9C000C-B98A-488D-8C4B-6F0F29EC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A42334E-508F-44CA-A33B-F1059B51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C3A3F8-1AD3-4CDB-91E7-5E172540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4BC9CF2-7FCC-439D-ADBB-305597A3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439952-04DF-453D-B146-D5D824BF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C86730B-F913-4C19-9BF8-F9A48C79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DC944BA-3C38-4465-9224-EF25C8D3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B825D-A88E-4CC9-A1FA-F28C9AA7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13EA0AF-DC69-47F1-955E-E4230C63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2D3E3F9-C93F-49DB-BF0F-F61B690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2A8D73-43B4-46F6-A443-C069FF21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6D89201-605A-4BEC-8F00-07932D14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F13C891-18CF-494E-B6A4-FD78A022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AA5196D-8FA4-4380-8DE7-F3D67E91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2991D5-9F50-4980-A42B-C651A811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12F236C-C365-4393-BA37-BDCFC4BA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56EDF43-5BCD-4063-B46E-4AD78258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3C89633-F7A8-4E4F-9131-D3D20E2D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EC5CB-3679-4A93-BA48-FDE4EE76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D651D6D-50F6-4E6B-B150-0B7FA1F7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CD379AF-0189-4671-9934-D31290C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59BA89B-3F5C-45E7-B8CF-B698621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BB412BD-B83E-4A21-9E14-A8989503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8FFD83D-0C8D-4F70-AE1D-B4BDF585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D94C5B8-C97A-4760-B2BE-97C7B2F4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F60E0EF-7016-4C12-8BB6-6CA15958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15A08F3-B80C-421E-AD2E-686E9B4D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213FF3-572A-4077-8147-F743BCE2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E21D953-ADE8-45B4-8275-BBB0EAFD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9F7DF-FEDC-46A8-BDC9-E634BB0E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5C98112-591D-4871-8894-13210036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F6EDF0B-8E35-4774-B9DD-40B3FBB8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45D2255-D26E-4AE5-A47C-55BF03E6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94284F-5141-46B2-A4A0-687FE78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987400-87AA-46A5-A0CA-66C0675B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92C5142-7883-4FE5-8209-39782FD2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A3ED61F-F18D-42D4-8327-E9B36608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C30864F-D66B-4351-B5B1-59F2B18C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F2B7DE2-0CCC-41AA-87EA-64D782C8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8083D20-C2CC-4F1B-81DE-2B68FD51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C3779-F51D-4E37-8491-941AA3C3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EE2E4D-4473-4222-B673-9D95E1BD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412D12A-07F8-4C89-B7C5-A98CCEF6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2988D74-3A6E-4F34-89D9-7E9A54EE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5943CD0-8783-45B5-98BF-954C154C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0EF79AC-036F-4DDD-A398-6D9A5672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FDDFEDD-61E9-4136-BBF6-67B635C5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BDD2138-7FE6-4664-A1BE-85C63AE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6C7E0B9-C29D-4850-B9A5-69633AA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E781F44-9361-446F-9027-311ED01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101613F-A0A8-4404-ABF4-8A2C59C9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D178D-60A3-4E84-A4BD-FEBDCD83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3C1F29D-1EE3-4DF3-A228-FD78BB15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C62AD89-5D18-440A-887A-7BDE5F24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8D242F4-3ABA-4DE3-AFB2-EE8E0E8F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D12C3AE-B1C6-4E17-A605-F1CEA805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D2C3A49-2C5A-4F7F-B098-E14745D6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7C799C2-3D51-4BC3-AAA6-FD50E44D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375AA62-8F5F-49C1-819B-AC283447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AC70BAA-929E-47A0-8751-7A012C6E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A6CF88D-BD3E-43D6-9E98-6FC88F56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E39BE4F-B680-4444-A3D7-5344E17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A43CF-D14C-495B-BAE5-5DD8F7A4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4D8D037-34B2-47EE-9AB7-88ADCF42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658F93C-81BF-460C-BD61-FD92D267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25CBC55-A2BF-4776-B387-FC7B69FE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FD12FD8-5B54-468F-9FA4-4F37AFF6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9E7BFD-9292-477B-BAC3-71500D90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B82694C-8F60-4043-88C5-AD0B7881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3007252-DDB5-4D13-929D-44C6173A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F44214B-1B3D-456C-B260-C98F20A4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3D9D581-099A-437B-85D4-CF999008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72C3FCB-A5F6-4709-A868-1EE423E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C711-C881-438F-A35F-48198E3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536E803-ED6D-4A49-B0F5-E331696F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27A45E3-B3CC-42E1-9954-EF6D130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BE7411C-646B-4637-B178-61548FAA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BCB3F2A-C5CF-49E9-8A26-E709BB09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E0B135-4975-4E82-B7FD-8E8EF29B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A44FF05-3234-4574-9734-7FA3B57D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6224F6-D8B6-4A1B-8345-6B2E3E6E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09D1B27-9976-46FD-B347-79047471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3EE1E5B-ABFC-4CCC-B940-4BCD131A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4DE0AFB-B36D-4C79-A25B-AEDF2A46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05166-ED0C-4F03-8C12-B7157D43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DDA1B69-126C-4F3F-AA0B-D705304D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4865DA3-346B-4C90-8CF5-82E0FB0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DB7192E-5273-4298-BD09-75B7D62A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5DE74C4-BEB4-41BC-8B81-35AD7293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57A0798-EB8C-4120-896C-C8D51659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EE53EC2-C728-47FE-AAD2-B0E6B6E7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3C95872-186F-4E53-AE57-AEA9795A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C1D5F12-2E94-4E92-95BC-0AA4FB1D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538074C-578D-4829-8549-F1BA109C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92CE55D-BDD0-468F-B114-2ECA0DD9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012-5C90-48C9-A42A-95C9D26F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98D26-9938-4FCC-A932-49D5417F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448B6CC-8E4E-4FE7-B5BA-F536C25F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7E760B2-B701-4B58-BE68-D4F4E295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9378257-7CD0-4E62-A5E7-C18A1933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F647C95-EAC5-4865-A7AF-B97D311C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F09057A-B20C-4C4C-B6B0-FB118A61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2C0C055-0E56-4659-9669-0BA9C9C7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3453FCC-CA16-4627-B7FC-3412867D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1F751DB-8321-46F8-812F-D574B0E1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F843B0C-21E6-4884-A68D-B07C00AE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6EF951A-FD04-4960-8979-D48D33E7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FD002-4559-4B42-9BD3-CF71F6C6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4B3E1DF-B467-49AA-B28E-B98E6964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C86FD7D-CD35-47E2-8418-0883737B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4361659-0AD8-49E8-9D6D-755F94C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C9DC26A-C282-4FFE-B4B7-E1A286AB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FF25E07-1505-402B-9B80-8B949C44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1ACAE5F-18DE-4A05-AD15-E23E68FC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3636B17-CCCE-4F13-8E02-3AB8FEC7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A098205-248A-4491-874A-1234113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019C908-1462-4136-A9C0-11909565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7CF09EB-71DC-4F56-B279-27C82341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546B6-43C3-4714-90AB-61F7FD9D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EDE099A-8975-4D1E-BAD8-D7ED195A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3339999-AF95-4B7D-A07A-AC6E490A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0A95DD8-FA5E-42CA-BBCA-90340EA6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7137347-E735-4BB7-A660-378E1739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DB61A62-FD6D-4D53-94A9-BDD16433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8E2FF79-297E-4D29-B810-BC0E84FC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C310C1E-4897-4C33-9DC7-ED4F4573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C4A3139-1596-466B-8772-5EB8F436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1DEF57-D484-41C5-BF1E-E9841621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CCB5B30-0121-4E5F-9154-69F1EFA1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42546-231D-42EB-AE12-10A750BF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9D93A78-3A9A-490D-8B91-F99C0126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A5AA57B-1313-4DA9-8C71-F10E649B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13685F2-6C12-46F1-8621-1D58E9D8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4942B18-DF52-4B3E-A32F-6A413121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F09F2E2-ED83-4C78-8686-C1734A8D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E9D0C76-7064-455F-8C50-40750C6D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3847404-2617-4FCB-B3C7-F9E13AC4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4170B08-031A-4972-A49E-CB9E6A7A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091B805-8497-43FF-888F-B290F1F6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6E92D5E-9678-46BE-996B-48C1E0AB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60A57-2D00-485A-83E7-26F747D0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D049E2A-FF7C-424D-8FF6-3C728BB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5192117-46D1-4481-BEFC-0F7BA984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F763C7A-A8E3-40E9-BE31-7CE4825B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5914F7A-19ED-49A3-A50D-ADC56574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25C82E3-E462-4D7F-A1D2-D09EABFF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9D03374-68E4-48E9-870A-2B829B8B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6CD3A32-4A5A-4A5B-8E58-B7E7F64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70FEDC7-D7B7-43FD-8A84-93C6CE05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6D19892-07D4-4CD7-AA10-0CE80773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EA14DAE-3226-40AD-9530-D94FC960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1832F-74BF-4478-9254-A8FBE14C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4417028-4805-4351-9955-C2E9683D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F969483-E301-4A66-BF77-9F37E6AC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72AF1A4-E844-44A5-A185-B1DA3A47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35AEF05-4148-482F-ABC7-14F387F3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0A5086E-87ED-489E-BD30-7BB43F0B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97795E7-DF34-45E2-A02C-B5D659FB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6A70F6D-BFD8-4E89-8AAF-7CCAC233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0288E04-AF52-4E11-827D-F1CE08BC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40469D3-0712-4253-A91E-B0ED2C0E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1BFFBE6-CA12-41DE-9092-E44B4DBA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2D96-9D97-4F52-98ED-6F71F929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99E0BED-8AB0-43EE-9281-87A6F73F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A1772D5-D703-406D-9F83-E506B3D4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2D40118-ED56-49F2-AA44-1152BBCA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17F7B31-1456-46E6-8AB4-6511881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5157B9C-D027-4CBD-BA7F-0E1F2370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0F34DCB-C74E-46CE-9835-598CB2C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415569E-DFFF-4793-958F-F41C43EB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4BEC6F6-A0CA-4B59-AAD2-878D5E4C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5FEAD41-8505-4B27-B47D-0DBC0AF9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0C91B7B-35D7-4AAD-90DD-05DADE5B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0AA83-E8F6-4FF0-8AF1-B61722CF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7D3F5C7-4789-461B-8528-A0185C62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80C73DB-E9C8-4AF8-ABB1-04622F5D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C1A76A1-B7C4-4FF5-A541-9F8DB187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735EA6A-CA1C-41FB-AB77-18B7FEB2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A6D62FA-20A8-49FE-A7A8-4F3AE155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0300689-C6BE-47D4-8F95-5E68B9B5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C5B74C2-D76E-41DB-A86D-CC5F0F50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0A1A736-1A29-4071-BA40-7FE0026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53851FC-7B31-4830-8327-754504BF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4E09C6B-1F84-4351-8C17-C8BA6B3C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33EFE-CE4B-41FD-B670-66ED05EF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5C3E75A-4115-4145-BE3D-762DFFA4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941FAB6-5693-4560-BEF4-EFF8A458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BE15557-97B4-4894-9B11-B62A4B8D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403000C-7DDF-49C0-8D63-BC936FF0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56831CE-1E0C-45C8-B160-DBCDBF9A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88420A3-A3D4-44D4-8BF3-66C7E9A6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8B3185A-F676-4A68-894A-8215F23B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5F3FBE2-9761-4A1F-967C-60183AB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FA90DBB-39D7-4EB9-B679-DA2B25F1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7692EFA-233D-45E8-BEEA-89D9010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FEA9A-A371-4076-AE45-88C738AE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EE5A88D-9B9A-4291-A03A-2CEF3343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23747BC-89C4-45A4-A597-5FBBF499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71EC558-217A-4621-AEAA-FC0425E2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B689ECA-7DC2-431E-906D-4EFECDDA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A79B992-D1B3-494B-B8C2-923AE474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4439667-E422-4B73-A183-B145032D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EEA3FF2-9479-40CB-B907-9F37A565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F32BD2C-6670-43CB-A4D3-26A20D36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D5E1F5D-FAAE-4022-949C-F1B5C46C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9AFDA84-832F-4406-B4E2-7A725CE3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0D8-5463-41D8-ADC5-68007360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AA1F8-0241-40CA-B0FB-DC01275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A9B7145-4B53-48A8-8E72-BC5A501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02434E6-06B5-47D4-AD8C-B79C0BAA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34DD337-0D21-4A57-9BD0-C97F8BBD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881A6A0-A88E-4E48-A6BB-6A7B17F7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25DFF7F-3DA7-48C2-B5B9-D57694F9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B897799-D660-45E3-8F72-E7687D95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D37D21E-F044-4628-9DDF-EEEFD191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80D9837-AD0E-4F59-8680-E598F85D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8BF168E-8BD5-4590-BCDD-84E72B62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70ADE3D-08B3-4459-AB87-95BDEDD8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F6CAD-5388-41B7-A5AE-A63FD27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3309C88-7E8A-4075-9BB9-A5328D43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E7CF3E5-B6A9-4B14-8CEC-B590A37C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FBF6C65-3E57-4D2E-A623-2A744A9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EBB5C67-BD56-495A-9001-BA42E3D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3F41D1B-A5BF-4DEB-8536-602CE1B6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CE637C6-221D-45E2-9372-7E7EE0AC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E95631F-2A24-4586-BC4D-53914442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6D80970-0E70-43C3-A783-31EEF6C8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B3CECF2-A2E8-4DE2-BEDB-99DB8818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DADC45C-7095-48EF-8D36-248A50A3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B4B1E-8237-4F03-86C3-937866A8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548B95A-C414-4419-A2C6-01EF3EDD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6A506FC-CABF-43F6-9BF0-FDFAEF4B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C3B0889-D8E0-4260-9131-F7C50484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0028635-FF6A-4E0D-A469-79EF9FEB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279D560-823C-4E48-B74A-10EB2AC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9A84823-1179-484B-A8FB-BEAD2B80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F1A5F60-7FE0-4053-B0C6-8082F52F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99CC74E-1FA3-45D0-B54D-C0F76C58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C6DDC83-8956-4F12-AADD-84C3AC69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E3821CB-7F36-4603-988F-999DFE10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FE628-5D7F-40B1-990D-572814C6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758F237-026C-429F-BA78-7AECB05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DAC461B-583C-4F56-BC4E-24CD0B63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C102ED9-8E6F-484C-B376-3BA9F54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441DA3B-77A9-4207-859C-46934F13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3C3DC7D-76AF-4862-9D86-0C01E0CF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61A879B-1FDB-4C2D-860F-D49A09E7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E17D4F8-B7CB-4441-B6FE-631896F3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80F4ED4-1DCF-4193-BCDF-BE1BA36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0515864-D7A3-41E6-ACD1-3F512945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9843074-9C18-4493-9AB8-1420AAB4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07B8E-62A8-40E5-BCCE-55511CFD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3D037C1-DBB6-4195-B9CA-43BA1ACD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7823CF5-5FB2-4A4D-92AC-8639158F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011337B-BD8C-4AF7-939A-0B885760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84EB035-308A-4E88-8C89-4FB2E550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0F97D7F-5AB7-446D-A770-4657FF78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85C49D5-1D4F-4D4B-9C60-491C9A44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E53E283-CCF6-489C-8817-EC6E0DBB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32271AC-65B9-4C0F-BD13-8DF806A8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3D88561-FE57-46AA-B65D-60768C1E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CC9874E-8CF2-442B-ADC2-DEE9D7CA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BD016-B2E5-477A-90EE-F8CB25D3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AF3EA09-2CBD-4660-AEEF-61EA7DA7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B214B78-42B7-4CA1-A70B-5F9336EF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5B7376B-CD52-43FF-9259-92B7308E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FA84EAC-E723-4286-A322-CB6C7E07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50E5DC8-C220-47F1-8277-ACCCB456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41B1F5B-95F9-48BF-B356-D52DAA7B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B0F0235-E7D3-4D27-B94C-F526E691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D78CA79-214A-4BB9-B273-2A2D3377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4A98007-1B26-4A1B-A263-8A29B19F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98975E3-27B1-4BE0-B089-17E0E98C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53083-87D4-46E6-B911-51AE5C9B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5CA26A8-6FA6-4083-A111-E776201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5DBF473-A569-4154-B50F-86F09B8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09D172F-9308-42B8-B12B-E55B1BA4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95D6362-8F8F-4FEB-9872-FB08C8FB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46C09C6-5B48-459F-84B8-FB645B39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D2BC7B7-75A9-4A6A-879A-5179003C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9E6F642-92F1-49BB-9DEE-4A8C71C4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93DD131-3CAE-4EB0-A971-5F4CAF1C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4174E0C-E124-4956-9CC9-61A61B53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F620ABF-240A-417B-9E55-3D6C5421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942C5-1861-486B-8714-7A1904C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C4DCA37-FF3C-454F-A982-84A511C8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12D90A3-A63B-4DE6-91EF-CB17F8E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8185F74-8D02-4745-964A-0584F0B2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A31AF95-12F3-48B3-BAD3-9DCC9BB8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DDC7167-F1EA-48C5-8F18-03A68215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4AD8463-118B-49BC-9827-2BED594F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E976B2D-064D-48AA-8424-0F60E9B9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59A1891-8AB3-4A62-8B6F-521D2348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6571F04-1E85-46E9-8458-18BC6FAB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16C6114-4826-47E5-A1B0-88A44F32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71D8F-822E-486C-A3DA-DA1D44B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D780491-E13F-4E3C-A74F-3E24C8C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ADDF699-CFCD-46FE-B402-E7BFEC4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E9C5E9E-2733-4D42-8070-DB15303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D396DD2-F27E-4E3B-B754-E8A3E961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A318904-4221-4054-9629-F5472485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182AF1C-2560-4F93-AA24-CB81F22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2EA4FAA-2F93-4932-965F-840E8EC0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9573EB4-0549-4098-83E4-F08D37FC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86F8D6E-B37B-4B0A-9EFB-14A34246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D4D7F-B0B2-48ED-BEEB-5D833C6A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997-ACDE-4F30-BBAD-2275FD7B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D4F91-7072-43ED-A426-62CA5F70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9C840-2D06-44DF-808B-FCC71343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FEB8-2937-4309-97A6-F740608E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B468B-EC39-400C-ACDE-84468144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F84A7-B0B9-4EAD-9092-BF51656E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CF33C-9064-42C5-903A-283837ED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3DF32-9A54-4F78-93A9-F169F267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F8C56-77D1-4C8D-8D4D-2057D132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12A16-6E94-4691-9146-97B9A20C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81347-0146-4F46-A36F-9B096841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306B-F03B-4A05-8079-70AA3F6FA7CD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25E2-AD96-4701-8C5E-CBADEC19B8F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0E1E-092E-4DAC-B2AA-8A1126258D5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FE12-8BAE-46C5-ABED-2D4DB6F215A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9C03-6BF3-4286-A3E7-C999FDD0FD5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EC39-58E1-48D8-872F-8954C801BDA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919B-BA56-4BAF-9EA8-251DA066DBE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AC2E-BCEC-4832-AC62-A8B940CF44B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9E8C-DF87-486D-BF3F-2E163B68F09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086C-D99E-4966-A257-E3B5C8BFFE3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0436-88D4-4850-9654-440D65C1896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8399-ACA4-4931-9662-F66BBE2866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104F-03F7-4F63-9A33-A8AA7C1A123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9F8-283C-4E0E-A371-393AFF34641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E8DE-34DA-44F5-B5D8-91EC3DF3E75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5B32-00C3-4316-BCD1-24BB8C957A8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F073-8E81-478C-B8FC-832F8311B59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BC30-7766-4876-8CFC-6417EFD83FC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415D-4B11-41A8-BBB5-07CCEFDEFC2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E4D0-9CDD-4F6E-8F56-DFD519661B4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80CD-AA95-487F-9DCC-3EC24AA4C95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7280-1C96-42CE-979B-9C534EA5DF2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FB5F-9696-46EC-81F2-8932DDF567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9745-3685-4789-BA76-9307693E040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A963-FDBE-4483-8B53-91CD82A27F6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1ED1-4F23-4FEA-9467-8D0990FA7E0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EB49-ED06-472E-9E96-E7DB32AE7E1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5918-4FF8-4D03-8E60-E75FC273714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9AC1-EA34-434F-89FF-8B34F95D708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84A3-BF40-41D7-8BCA-D9DAD850738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B466-4E1A-4DDD-A673-FE3E297A2EE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7AF1-E01B-4378-87F3-EFF03E5D740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52BA-3067-492E-870B-0AB0053462F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D379-346A-42A8-B236-AE688D6678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A2A7-5404-493F-9614-03C6828FE50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0CF9-0BED-4D07-B21E-6E010754C39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40E1-0493-4180-BB3A-0C03E822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E671-1FEE-4591-B556-B98BBA11F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61E4-6A88-498D-BA9C-8D09DA446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B3D8-D805-483A-B7F3-516C39B4F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4DDE-7D0E-4FDE-8952-D8F15FAAD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5C2B-18B9-463E-9DBA-4270420CC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DFDD-464B-4165-988F-75204435B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2E32-152B-4404-8AAB-70FB21B30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88FC-F87E-4418-B773-93E9CBB72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4BC2-8205-4286-BC43-C5992EBF9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1B3D-4F4C-4D9E-A7AE-A91DC5B65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9E8D-EA26-4FF1-B032-388406313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F83E-AD81-47C6-B0BE-33D1D6133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5A51-BB49-41E1-82FE-CE8FCCA5D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BF9C-924C-41E1-8C1B-111E2B9C0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11FE-0851-47BE-831E-665FDF063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237F-5E4C-448A-BD2C-B79766E3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8DD1-07C6-4E68-BCAF-782642927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335D-36D1-4B1B-AE34-CC68B877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BDD6-2360-4068-AA53-B4F2C3D97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366B-AC4D-44FC-B162-757281DF4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74FB-E07E-4A77-B19B-D689A287F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6C86-DFA0-4F1D-9CE5-BB8CB81C7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9AF3-94D5-4416-912A-E8BCBD430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0FC4-CFE0-40F9-B7F1-D0D606B0D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D50C-C8C1-45CA-981D-5B41DB46B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5536-B606-43E5-BAD8-B4F746FA8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E2B4-6433-425D-A1CE-1D79A134A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146A-2325-4698-BDC8-A07B1768D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0A20-FC34-4047-9115-AC1CDE7B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206-E708-41F5-9891-1F4E8B03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6CBD-91BD-41EA-81E8-50B741E8F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3E9B-6443-458E-8550-32E415BBB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68E0-C1DD-4D1E-B1C7-0E1A96AEB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2896-D093-4DF6-A7BE-C6178341D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5329-1248-44E3-905F-EA35F4236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5FB6-897D-4B65-BC38-CF619933F579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3C01-4501-4CD9-983C-F616524D5FD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2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6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97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53735"/>
                </a:solidFill>
                <a:latin typeface="Calibri"/>
                <a:ea typeface="Arial"/>
              </a:rPr>
              <a:t>Tumors of lung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DR. AYSER HAMEED</a:t>
            </a: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LEC.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quamous cell carcinoma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in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ma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lated to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moking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is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entral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hilar origin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reas of metaplasia , dysplasia are seen in the adjacent mucos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4514760"/>
          </a:xfrm>
          <a:prstGeom prst="rect">
            <a:avLst/>
          </a:prstGeom>
          <a:ln w="0">
            <a:noFill/>
          </a:ln>
        </p:spPr>
      </p:pic>
      <p:pic>
        <p:nvPicPr>
          <p:cNvPr id="3052" name="Picture 5" descr=""/>
          <p:cNvPicPr/>
          <p:nvPr/>
        </p:nvPicPr>
        <p:blipFill>
          <a:blip r:embed="rId2"/>
          <a:stretch/>
        </p:blipFill>
        <p:spPr>
          <a:xfrm>
            <a:off x="0" y="4495680"/>
            <a:ext cx="7238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3" name="Picture 4" descr="scc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054" name="Text Box 5"/>
          <p:cNvSpPr/>
          <p:nvPr/>
        </p:nvSpPr>
        <p:spPr>
          <a:xfrm>
            <a:off x="1653120" y="6093000"/>
            <a:ext cx="583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mous cell carcinom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uamous cell carci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6" name="Picture 4" descr="LUNG06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uamous cell carci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8" name="Picture 4" descr="NEO097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denocarcinom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wo fo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1. Bronch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2. Bronchoalveolar (from the terminal bronchiole &amp; alveolar wal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t is characteriz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n commonly i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em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ommon type seen i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on smok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arises in mor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eripheral loc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ize of the mass is smaller than squamous cell 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rows mor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low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it i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een near areas of scarring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denocarcinom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1" name="Picture 4" descr="LUNG070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denocarci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3" name="Picture 4" descr="LUNG12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mall cell carcinom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ghly malignant,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most aggressiv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Metastasize wide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Not cured by surger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trong relation to smokin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is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entrally (hilar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ells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ppear small ( 2x the size of lymphocyte), dark nucleus, thin cytoplasm hence the name OAT CELL CARCINOM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5" name="Picture 4" descr="LUNG068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3066" name="Text Box 5"/>
          <p:cNvSpPr/>
          <p:nvPr/>
        </p:nvSpPr>
        <p:spPr>
          <a:xfrm>
            <a:off x="1405440" y="6032520"/>
            <a:ext cx="63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cell carcinoma of lu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umors of lu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-95% of lung tumors are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bronchogenic carcinoma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rise from respiratory epithelium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% are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arcinoid tumo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-5% are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esenchymal tum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mall cell carci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8" name="Picture 4" descr="LUNG073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mall cell carci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0" name="Picture 4" descr="LUNG075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1" name="Picture 4" descr="scellcar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4724280" cy="5902200"/>
          </a:xfrm>
          <a:prstGeom prst="rect">
            <a:avLst/>
          </a:prstGeom>
          <a:ln w="0">
            <a:noFill/>
          </a:ln>
        </p:spPr>
      </p:pic>
      <p:pic>
        <p:nvPicPr>
          <p:cNvPr id="3072" name="Picture 5" descr="SCCLun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800600" y="0"/>
            <a:ext cx="4343400" cy="5902200"/>
          </a:xfrm>
          <a:prstGeom prst="rect">
            <a:avLst/>
          </a:prstGeom>
          <a:ln w="0">
            <a:noFill/>
          </a:ln>
        </p:spPr>
      </p:pic>
      <p:sp>
        <p:nvSpPr>
          <p:cNvPr id="3073" name="Text Box 6"/>
          <p:cNvSpPr/>
          <p:nvPr/>
        </p:nvSpPr>
        <p:spPr>
          <a:xfrm>
            <a:off x="1736640" y="553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Text Box 7"/>
          <p:cNvSpPr/>
          <p:nvPr/>
        </p:nvSpPr>
        <p:spPr>
          <a:xfrm>
            <a:off x="2565720" y="6172200"/>
            <a:ext cx="43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cell carcinom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cell carcin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anaplastic tum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represent poorly differentiated squamous or adenocarcino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lls appear so large, bizarre, and even giant cells could be s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linical presentation of bronchogenic carcinom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ge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ound 50 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onsidered a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st aggressive neopla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ing symptoms: cough, weight loss, chest pain, dyspnea,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putum prod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st commonly it is discovered by its secondary spre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putum cyt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quamous cell carcino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ronchial wash and bru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denocarcino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e needle aspi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ytological ex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"/>
          <p:cNvSpPr txBox="1"/>
          <p:nvPr/>
        </p:nvSpPr>
        <p:spPr>
          <a:xfrm>
            <a:off x="457200" y="19047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9" name="Picture 5" descr="Robbins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692600"/>
          </a:xfrm>
          <a:prstGeom prst="rect">
            <a:avLst/>
          </a:prstGeom>
          <a:ln w="0">
            <a:noFill/>
          </a:ln>
        </p:spPr>
      </p:pic>
      <p:sp>
        <p:nvSpPr>
          <p:cNvPr id="3080" name="Text Box 6"/>
          <p:cNvSpPr/>
          <p:nvPr/>
        </p:nvSpPr>
        <p:spPr>
          <a:xfrm>
            <a:off x="-14400" y="5894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-  Squamous cell carcino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1" name="Text Box 7"/>
          <p:cNvSpPr/>
          <p:nvPr/>
        </p:nvSpPr>
        <p:spPr>
          <a:xfrm>
            <a:off x="4648320" y="5938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- adenocarcino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rognosi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q. cell ca and adenoca. tend to be localized for a longer period than small and large cell ca.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slightly better prognosi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mall cell ca. ..once it is discovered , it is beyond surgery, but it is radiosensitive &amp; chemosensitiv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Its survival rate is not more than 1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euroendocrine tum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ronchial carcin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ehavi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ost carcinoid tumors DO NOT metastasize , DO NOT secrete hormones (like that of the appendix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ght show metastasis to the local L.N and some may secrete horm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reat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ical re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rcinoid tum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5" name="Picture 4" descr="GI134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static tum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ung is a frequent site of metastatic tumors from all over the body, it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re common than the prim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reaches the lung by lymphatic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lood 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direct continuity as in esophageal carcino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umor of ple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involved by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imary or secondary tum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secondary involvement is more comm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secondary come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rom the lung and breast carcino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ronchogenic carcin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mos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lignancy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n m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ntly it is also becoming the cause of death in female more than breast carcin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tiology and pathogene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- Tobacco smo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great relation between lung carcinoma and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mou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daily smoking , tendency to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nha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ur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moking hab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litary fibrous tumor (pleural mesotheliom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lled benign mesotheliom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is a localized growth , 1-2 cm in size, confined to the surfa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Grossl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looks like a mass of fibrous tissu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ic.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nds of collagen &amp; reticulin fib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alignant Mesotheliom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ise from visceral or parietal surfa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is closely related to asbest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ossl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lung is enclosed by a thick, soft, gelatinous, gray-white tumo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c.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wo types of cells seen in the mic. Sec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-Epithelial lik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flat, cuboidal, columnar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- Mesenchym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tromal cells ( spindle shape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3" descr=""/>
          <p:cNvPicPr/>
          <p:nvPr/>
        </p:nvPicPr>
        <p:blipFill>
          <a:blip r:embed="rId1"/>
          <a:stretch/>
        </p:blipFill>
        <p:spPr>
          <a:xfrm>
            <a:off x="3530520" y="2440080"/>
            <a:ext cx="2082960" cy="2846160"/>
          </a:xfrm>
          <a:prstGeom prst="rect">
            <a:avLst/>
          </a:prstGeom>
          <a:ln w="0">
            <a:noFill/>
          </a:ln>
        </p:spPr>
      </p:pic>
      <p:pic>
        <p:nvPicPr>
          <p:cNvPr id="3090" name="Picture 4" descr="Robbins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091" name="Text Box 5"/>
          <p:cNvSpPr/>
          <p:nvPr/>
        </p:nvSpPr>
        <p:spPr>
          <a:xfrm>
            <a:off x="2505240" y="6278400"/>
            <a:ext cx="46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lignant Mesothelio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68560"/>
          </a:xfrm>
          <a:prstGeom prst="rect">
            <a:avLst/>
          </a:prstGeom>
          <a:ln w="0">
            <a:noFill/>
          </a:ln>
        </p:spPr>
      </p:pic>
      <p:pic>
        <p:nvPicPr>
          <p:cNvPr id="3093" name="Picture 5" descr=""/>
          <p:cNvPicPr/>
          <p:nvPr/>
        </p:nvPicPr>
        <p:blipFill>
          <a:blip r:embed="rId2"/>
          <a:stretch/>
        </p:blipFill>
        <p:spPr>
          <a:xfrm>
            <a:off x="0" y="3008160"/>
            <a:ext cx="6477120" cy="3849840"/>
          </a:xfrm>
          <a:prstGeom prst="rect">
            <a:avLst/>
          </a:prstGeom>
          <a:ln w="0">
            <a:noFill/>
          </a:ln>
        </p:spPr>
      </p:pic>
      <p:sp>
        <p:nvSpPr>
          <p:cNvPr id="3094" name="Text Box 6"/>
          <p:cNvSpPr/>
          <p:nvPr/>
        </p:nvSpPr>
        <p:spPr>
          <a:xfrm>
            <a:off x="670572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5" name="Text Box 7"/>
          <p:cNvSpPr/>
          <p:nvPr/>
        </p:nvSpPr>
        <p:spPr>
          <a:xfrm>
            <a:off x="6629400" y="3886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&amp;E, IMMUNOCHEMIS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Line 8"/>
          <p:cNvSpPr/>
          <p:nvPr/>
        </p:nvSpPr>
        <p:spPr>
          <a:xfrm flipH="1" flipV="1">
            <a:off x="7467120" y="3123720"/>
            <a:ext cx="38124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tistical eviden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mokers have 10x risk than non smo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eavy smokers have 20x the risk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80% of lung ca. occur in smok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* Clinical eviden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istological changes of the lining epithelium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(metaplasia- atypical hyperplasia) more in smo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97% of cigarette smokers show some Atypical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bronchial tree compared to 1% in non smo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* Experimental wor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s on animals found out that more tha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200 substances found in cig. Smoke, most are carcinog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- Industrial hazards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adiation. e.g. (Hiroshima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Uranium. carries 4x the risk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sbesto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- Air pollutions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roblem of indoor pollutions e.g. 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adon (radioactive gas) exposure in miner workers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lung c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- Molecular genetic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ominant oncogene is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-myc in small cell ca. , k- ras in adenocarcinom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eleted (inactive gene) is P53, Rb ge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ccasional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familial clustering suggests a genetic predisposi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- Scarring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ome adenoca. arise near a scarred pulmonary tissue (old infarct., granuloma..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lassifica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ed on the WHO classification, they are divided in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quamous cell carcinoma 25-40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denocarcinoma 25- 40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mall cell carcinoma 20-25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arge cell carcinoma 10-15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orph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idence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enoc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it forms the common type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m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quamous cell ca. &amp; small cell c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greatly related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ok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ronchogenic ca. starts as an area of in-situ cytological atypical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thick mucosa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elevate or erode the lining epithelium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then it m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Fungate into the lum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Penetrate the wa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Expand forming cauliflower mass pushing the lung substance.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tumor m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xtend to the pleural, pericardial surf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pread to the lymph n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ematogenous sp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ronchog. Ca. spread early in their evolution both by lymphatic and hematogenous pathways &amp; often the metastatic deposit represents the first manifes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most common organs involved by secondary deposit are: adrenals, liver, brain, b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hmed Saker 2o1O</cp:lastModifiedBy>
  <dcterms:modified xsi:type="dcterms:W3CDTF">2015-02-23T14:54:0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