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4.xml.rels" ContentType="application/vnd.openxmlformats-package.relationships+xml"/>
  <Override PartName="/ppt/slideMasters/_rels/slideMaster73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3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7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73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52.xml" ContentType="application/vnd.openxmlformats-officedocument.theme+xml"/>
  <Override PartName="/ppt/theme/theme51.xml" ContentType="application/vnd.openxmlformats-officedocument.theme+xml"/>
  <Override PartName="/ppt/theme/theme50.xml" ContentType="application/vnd.openxmlformats-officedocument.theme+xml"/>
  <Override PartName="/ppt/theme/theme46.xml" ContentType="application/vnd.openxmlformats-officedocument.theme+xml"/>
  <Override PartName="/ppt/theme/theme45.xml" ContentType="application/vnd.openxmlformats-officedocument.theme+xml"/>
  <Override PartName="/ppt/theme/theme44.xml" ContentType="application/vnd.openxmlformats-officedocument.theme+xml"/>
  <Override PartName="/ppt/theme/theme43.xml" ContentType="application/vnd.openxmlformats-officedocument.theme+xml"/>
  <Override PartName="/ppt/theme/theme42.xml" ContentType="application/vnd.openxmlformats-officedocument.theme+xml"/>
  <Override PartName="/ppt/theme/theme41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38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19.xml" ContentType="application/vnd.openxmlformats-officedocument.theme+xml"/>
  <Override PartName="/ppt/theme/theme61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18.xml" ContentType="application/vnd.openxmlformats-officedocument.theme+xml"/>
  <Override PartName="/ppt/theme/theme60.xml" ContentType="application/vnd.openxmlformats-officedocument.theme+xml"/>
  <Override PartName="/ppt/theme/theme57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theme/theme62.xml" ContentType="application/vnd.openxmlformats-officedocument.theme+xml"/>
  <Override PartName="/ppt/theme/theme75.xml" ContentType="application/vnd.openxmlformats-officedocument.theme+xml"/>
  <Override PartName="/ppt/theme/theme63.xml" ContentType="application/vnd.openxmlformats-officedocument.theme+xml"/>
  <Override PartName="/ppt/theme/theme74.xml" ContentType="application/vnd.openxmlformats-officedocument.theme+xml"/>
  <Override PartName="/ppt/theme/theme73.xml" ContentType="application/vnd.openxmlformats-officedocument.theme+xml"/>
  <Override PartName="/ppt/theme/theme72.xml" ContentType="application/vnd.openxmlformats-officedocument.theme+xml"/>
  <Override PartName="/ppt/theme/theme71.xml" ContentType="application/vnd.openxmlformats-officedocument.theme+xml"/>
  <Override PartName="/ppt/theme/theme29.xml" ContentType="application/vnd.openxmlformats-officedocument.theme+xml"/>
  <Override PartName="/ppt/theme/theme69.xml" ContentType="application/vnd.openxmlformats-officedocument.theme+xml"/>
  <Override PartName="/ppt/theme/theme32.xml" ContentType="application/vnd.openxmlformats-officedocument.theme+xml"/>
  <Override PartName="/ppt/theme/theme70.xml" ContentType="application/vnd.openxmlformats-officedocument.theme+xml"/>
  <Override PartName="/ppt/theme/theme28.xml" ContentType="application/vnd.openxmlformats-officedocument.theme+xml"/>
  <Override PartName="/ppt/theme/theme68.xml" ContentType="application/vnd.openxmlformats-officedocument.theme+xml"/>
  <Override PartName="/ppt/theme/theme31.xml" ContentType="application/vnd.openxmlformats-officedocument.theme+xml"/>
  <Override PartName="/ppt/theme/theme67.xml" ContentType="application/vnd.openxmlformats-officedocument.theme+xml"/>
  <Override PartName="/ppt/theme/theme30.xml" ContentType="application/vnd.openxmlformats-officedocument.theme+xml"/>
  <Override PartName="/ppt/theme/theme66.xml" ContentType="application/vnd.openxmlformats-officedocument.theme+xml"/>
  <Override PartName="/ppt/theme/theme65.xml" ContentType="application/vnd.openxmlformats-officedocument.theme+xml"/>
  <Override PartName="/ppt/theme/theme64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20.xml" ContentType="application/vnd.openxmlformats-officedocument.theme+xml"/>
  <Override PartName="/ppt/theme/theme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notesSlides/_rels/notesSlide3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881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80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888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887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872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873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874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879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8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865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88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866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878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876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882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875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8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877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8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869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870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8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886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88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88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273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884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883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882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876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887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75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86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74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885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6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5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867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868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869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877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878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879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87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72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87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870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88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17.png" ContentType="image/png"/>
  <Override PartName="/ppt/media/image16.wmf" ContentType="image/x-wmf"/>
  <Override PartName="/ppt/media/image4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  <p:sldMasterId id="2147484584" r:id="rId74"/>
    <p:sldMasterId id="2147484597" r:id="rId75"/>
  </p:sldMasterIdLst>
  <p:notesMasterIdLst>
    <p:notesMasterId r:id="rId76"/>
  </p:notesMasterIdLst>
  <p:sldIdLst>
    <p:sldId id="256" r:id="rId77"/>
    <p:sldId id="257" r:id="rId78"/>
    <p:sldId id="258" r:id="rId79"/>
    <p:sldId id="259" r:id="rId80"/>
    <p:sldId id="260" r:id="rId81"/>
    <p:sldId id="261" r:id="rId82"/>
    <p:sldId id="262" r:id="rId83"/>
    <p:sldId id="263" r:id="rId84"/>
    <p:sldId id="264" r:id="rId85"/>
    <p:sldId id="265" r:id="rId86"/>
    <p:sldId id="266" r:id="rId87"/>
    <p:sldId id="267" r:id="rId88"/>
    <p:sldId id="268" r:id="rId89"/>
    <p:sldId id="269" r:id="rId90"/>
    <p:sldId id="270" r:id="rId91"/>
    <p:sldId id="271" r:id="rId92"/>
    <p:sldId id="272" r:id="rId93"/>
    <p:sldId id="273" r:id="rId94"/>
    <p:sldId id="274" r:id="rId95"/>
    <p:sldId id="275" r:id="rId96"/>
    <p:sldId id="276" r:id="rId97"/>
    <p:sldId id="277" r:id="rId98"/>
    <p:sldId id="278" r:id="rId99"/>
    <p:sldId id="279" r:id="rId100"/>
    <p:sldId id="280" r:id="rId101"/>
    <p:sldId id="281" r:id="rId102"/>
    <p:sldId id="282" r:id="rId103"/>
    <p:sldId id="283" r:id="rId104"/>
    <p:sldId id="284" r:id="rId105"/>
    <p:sldId id="285" r:id="rId106"/>
    <p:sldId id="286" r:id="rId107"/>
    <p:sldId id="287" r:id="rId108"/>
    <p:sldId id="288" r:id="rId109"/>
    <p:sldId id="289" r:id="rId1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Master" Target="slideMasters/slideMaster73.xml"/><Relationship Id="rId75" Type="http://schemas.openxmlformats.org/officeDocument/2006/relationships/slideMaster" Target="slideMasters/slideMaster74.xml"/><Relationship Id="rId76" Type="http://schemas.openxmlformats.org/officeDocument/2006/relationships/notesMaster" Target="notesMasters/notesMaster1.xml"/><Relationship Id="rId77" Type="http://schemas.openxmlformats.org/officeDocument/2006/relationships/slide" Target="slides/slide1.xml"/><Relationship Id="rId78" Type="http://schemas.openxmlformats.org/officeDocument/2006/relationships/slide" Target="slides/slide2.xml"/><Relationship Id="rId79" Type="http://schemas.openxmlformats.org/officeDocument/2006/relationships/slide" Target="slides/slide3.xml"/><Relationship Id="rId80" Type="http://schemas.openxmlformats.org/officeDocument/2006/relationships/slide" Target="slides/slide4.xml"/><Relationship Id="rId81" Type="http://schemas.openxmlformats.org/officeDocument/2006/relationships/slide" Target="slides/slide5.xml"/><Relationship Id="rId82" Type="http://schemas.openxmlformats.org/officeDocument/2006/relationships/slide" Target="slides/slide6.xml"/><Relationship Id="rId83" Type="http://schemas.openxmlformats.org/officeDocument/2006/relationships/slide" Target="slides/slide7.xml"/><Relationship Id="rId84" Type="http://schemas.openxmlformats.org/officeDocument/2006/relationships/slide" Target="slides/slide8.xml"/><Relationship Id="rId85" Type="http://schemas.openxmlformats.org/officeDocument/2006/relationships/slide" Target="slides/slide9.xml"/><Relationship Id="rId86" Type="http://schemas.openxmlformats.org/officeDocument/2006/relationships/slide" Target="slides/slide10.xml"/><Relationship Id="rId87" Type="http://schemas.openxmlformats.org/officeDocument/2006/relationships/slide" Target="slides/slide11.xml"/><Relationship Id="rId88" Type="http://schemas.openxmlformats.org/officeDocument/2006/relationships/slide" Target="slides/slide12.xml"/><Relationship Id="rId89" Type="http://schemas.openxmlformats.org/officeDocument/2006/relationships/slide" Target="slides/slide13.xml"/><Relationship Id="rId90" Type="http://schemas.openxmlformats.org/officeDocument/2006/relationships/slide" Target="slides/slide14.xml"/><Relationship Id="rId91" Type="http://schemas.openxmlformats.org/officeDocument/2006/relationships/slide" Target="slides/slide15.xml"/><Relationship Id="rId92" Type="http://schemas.openxmlformats.org/officeDocument/2006/relationships/slide" Target="slides/slide16.xml"/><Relationship Id="rId93" Type="http://schemas.openxmlformats.org/officeDocument/2006/relationships/slide" Target="slides/slide17.xml"/><Relationship Id="rId94" Type="http://schemas.openxmlformats.org/officeDocument/2006/relationships/slide" Target="slides/slide18.xml"/><Relationship Id="rId95" Type="http://schemas.openxmlformats.org/officeDocument/2006/relationships/slide" Target="slides/slide19.xml"/><Relationship Id="rId96" Type="http://schemas.openxmlformats.org/officeDocument/2006/relationships/slide" Target="slides/slide20.xml"/><Relationship Id="rId97" Type="http://schemas.openxmlformats.org/officeDocument/2006/relationships/slide" Target="slides/slide21.xml"/><Relationship Id="rId98" Type="http://schemas.openxmlformats.org/officeDocument/2006/relationships/slide" Target="slides/slide22.xml"/><Relationship Id="rId99" Type="http://schemas.openxmlformats.org/officeDocument/2006/relationships/slide" Target="slides/slide23.xml"/><Relationship Id="rId100" Type="http://schemas.openxmlformats.org/officeDocument/2006/relationships/slide" Target="slides/slide24.xml"/><Relationship Id="rId101" Type="http://schemas.openxmlformats.org/officeDocument/2006/relationships/slide" Target="slides/slide25.xml"/><Relationship Id="rId102" Type="http://schemas.openxmlformats.org/officeDocument/2006/relationships/slide" Target="slides/slide26.xml"/><Relationship Id="rId103" Type="http://schemas.openxmlformats.org/officeDocument/2006/relationships/slide" Target="slides/slide27.xml"/><Relationship Id="rId104" Type="http://schemas.openxmlformats.org/officeDocument/2006/relationships/slide" Target="slides/slide28.xml"/><Relationship Id="rId105" Type="http://schemas.openxmlformats.org/officeDocument/2006/relationships/slide" Target="slides/slide29.xml"/><Relationship Id="rId106" Type="http://schemas.openxmlformats.org/officeDocument/2006/relationships/slide" Target="slides/slide30.xml"/><Relationship Id="rId107" Type="http://schemas.openxmlformats.org/officeDocument/2006/relationships/slide" Target="slides/slide31.xml"/><Relationship Id="rId108" Type="http://schemas.openxmlformats.org/officeDocument/2006/relationships/slide" Target="slides/slide32.xml"/><Relationship Id="rId109" Type="http://schemas.openxmlformats.org/officeDocument/2006/relationships/slide" Target="slides/slide33.xml"/><Relationship Id="rId110" Type="http://schemas.openxmlformats.org/officeDocument/2006/relationships/slide" Target="slides/slide34.xml"/><Relationship Id="rId1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5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6" name="PlaceHolder 2"/>
          <p:cNvSpPr>
            <a:spLocks noGrp="1"/>
          </p:cNvSpPr>
          <p:nvPr>
            <p:ph type="dt" idx="223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IQ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9" name="PlaceHolder 5"/>
          <p:cNvSpPr>
            <a:spLocks noGrp="1"/>
          </p:cNvSpPr>
          <p:nvPr>
            <p:ph type="ftr" idx="224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0" name="PlaceHolder 6"/>
          <p:cNvSpPr>
            <a:spLocks noGrp="1"/>
          </p:cNvSpPr>
          <p:nvPr>
            <p:ph type="sldNum" idx="225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IQ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3E3EA-417D-4D87-AC7D-D0AB419016A4}" type="slidenum">
              <a:rPr b="0" lang="ar-IQ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C7E5D-2724-4776-A75C-CEC2C0C92F1D}" type="slidenum">
              <a:rPr b="0" lang="ar-IQ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67B37-4E4F-4C8E-B786-2FFF2119DE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ical squamous cell carcinoma starting in a large bronchus centrally, with bronchial obstru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enocarcinomas tend to be more peripheral. Note the features of malignant cells on sputum cytolo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90A16-3655-4B8E-AC30-76EE504BEC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the four most common histologic patterns of lung carcinoma and explain wh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mous, adeno, large, small, going clockwis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C45A9-CABE-44E5-936B-00E7F7DABB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othelial cells have MANY more microvilli than most epithelial cells and express a protein called CALRETIN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fferentiation between mesothelioma and carcinoma may be crucially importan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75B0-F03C-4FAB-BFC9-23072BCDD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F786-DEB1-462A-8CF9-5F7A75724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5FBA8F-5081-4065-B7AD-BDA91C631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50C8E3-6BD0-4A18-B50A-934BE20E6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7269D3-A7E7-46AE-ACEE-9C42E196C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9AE5B1-B0C2-4641-97E7-D965FB6EA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2D6C44-79E9-430A-BEA8-30E74D9B1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4BD963-47E5-4D96-967D-288041073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E2D056-0B3B-4494-B96B-60CE3F8B1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FA5C0D-2FE0-4BBB-968A-F646C5B7E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8AA175-C368-43CB-8A4B-58E6C3857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1AA793-AC0E-4334-A750-20D668A0E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05C4-4E1A-469D-848A-E20A601A6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6FB897-E1A7-4B67-8997-024C1D3B5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56DC9F-B3E3-4CA9-BD09-25D5B9C00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F949F1-27C1-4410-8FE6-16F045D57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8179DD-4C44-4AF6-99B9-142E783AA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0FF7C6-FB8F-4DA6-89F6-BEE72A316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363C1E-DAAC-4A25-B505-B07DD88B9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57F2CF-FA55-497A-9641-ACEEA4646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1FE37D-7262-4AB2-9FDE-C96E3DDCA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B3C181-1D76-41C9-947C-F84CB4AC6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3AFA04-841E-4350-BBA6-B968E9FF9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279E-6C8A-43F8-9E08-9742A748F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40627B-D062-424F-8A2E-6CF2F3AE2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FCA261-2D2F-46C4-84E9-990308ABE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FF7858-CD21-4919-8F20-E301A7FA3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43D1D1-4E9D-4D1A-9DFA-6882BE124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F965D9-6FCF-44CC-A0B3-4C6B571D2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FE1BA2-7D60-49EF-BFA5-06244034C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E92FF4-40A9-4CF8-9593-08DD40D30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A86623-CE80-4B74-B14E-E2BA8B210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E124E2-9657-470E-B298-1C94F6F12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2EC9DA-384E-4BAF-974B-5A0090FBD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EE7A7-988D-42F9-9AB9-5CD26BF4A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41C834-BC01-4758-8030-D5647725A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0E58FE-0803-4B08-8F13-36FF0D606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ABED1D-99A5-4A7B-9224-F6B1ACC06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AEFBFB-C2B1-42CF-9DBF-4ABA0A411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5B8A61-DFE1-4DB5-9B7B-F9172596D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943A24-25F4-4C4A-80E4-BCBF64B87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DB2123-CD6E-4191-BCC8-A4B43046C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75C9A2-3792-4FD5-A794-657984BB3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780640-38B5-4D85-9607-2F4BD4B4D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93C0C3-0713-4293-9DB6-FB3BD9637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DF3E5-7A4B-44F1-877D-A50D767C4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2CD0C2-1310-47A5-85D3-D2BEBFB18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060DF9-A69D-4E66-9C09-03C13D7BD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04B1E1-16A3-4EDC-A1C0-93A985367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831844-97F9-44F9-BEE1-259C484BB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217346-269B-4280-986A-FB5AC378C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3ECF78-8396-4C05-972A-B05A6BB80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AD7525-6C0E-4990-B5B2-74DD4A259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731A8B-F2D6-41D3-876A-56F38552B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067352-A954-426F-AF09-EBEC6E0D0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5F5D7D-2CAF-403C-BFCA-7E8B842C7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A0D42-3BD6-4553-9E5B-63A82F89A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76EC5B-B912-4A93-8617-C0979E5C2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D3C71E-35C7-4F1F-909D-461459A99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411605-B28B-4823-9FA0-FAC97DAED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701FAA-7506-4F39-8350-D0BD456F5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3861C3-C511-418D-B75B-CDE51E6BC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CCAC5D-ABB3-4654-B63A-E47D31C72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B7C71C-156D-4EC1-86D8-FFDD060C8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7BC07E-0B4C-44DA-8494-D670ED6AF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B79074-FC84-4C72-8B89-1BDB6A6E1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1462A6-1511-4B7E-9AAA-3ED01FC5F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46E35-C1E2-441F-B7D8-9475C53B5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98BC8E-1B52-4721-9BBC-3A1F2334C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597416-9B8A-472E-A9A0-631E512C3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1BE611-053B-484A-B900-ABC14D413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29040E-07D0-46F8-A359-DA0F7D325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BBB8C7-C749-4D8B-A0FD-14B2A10F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5C159D-8EB9-4D45-AAAE-C770A0921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CB3128-1C34-4981-B7E8-87986AE1E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F63D20-CAF3-49A1-A049-1C3D93381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D02374-C195-49D5-9090-B2750F33F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FE97A5-EDA2-4B9F-A1D1-2644983A8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5513B-5F65-4C83-B6CA-0AD7BDECB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2710BA-6527-480F-A240-230BA7B45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BE7198-13EA-44CD-BECC-10469B066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9F8CAC-5048-4944-8C13-CA11030D7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ACCB57-9BDE-40CC-B15E-785CAD2FB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DC0D54-5627-453D-B3F1-9AF3CFB6B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1A1743-5E3D-4601-8CE0-143575066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313E6B-2D23-4C36-B2E1-1A3907E28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FFE54E-E8B4-4188-B478-89FDE8233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715F92-8F30-4C31-B1A9-7A0B80EA7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1B468F-6877-4410-8D97-94BEE9740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D8849-72BF-4633-91BF-110034F5C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CD6C2F-7F49-4D5F-BEEC-8FCADA27E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B3020A-45B5-4F6E-BD57-6C55FAF87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0B4F40-5B81-4448-A6C7-78403AD66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BE1E4D-DF01-4C79-A2EC-D5A63A546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4C4B80-548A-44AF-9F05-7B7DC19A0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051130-6B65-4558-96C0-6A69A2F69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AAED36-E023-4A7B-91C7-71DFFEF96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24942B-C943-4BF1-B4A6-BD838B1BA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C43371-4FC9-4C83-B2C5-4CA444063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7C9EBB-30BC-4F92-9CFE-F8647C475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7BD6C-34D6-403D-8639-2B0896B59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2F5290-59EF-47DB-8F11-577CD792D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76D049-D8F6-470E-8D38-C4EBE205D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0D260A-A40F-405E-B69D-76CE29ED8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DF505A-B18E-49E1-9C0A-3CCB8FA46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7E9D9F-7447-42C8-8C2F-844A3CDAB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8BBA8B-E8B6-4EC7-905E-83DC67DC4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A32BB6-AC55-4851-94F3-70FDF6327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6148F7-901B-4196-AB3D-2EEACE6B3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9952C7-5ED7-4DDD-9326-EE5FB85FA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AF0D82-F95F-4169-B5ED-605421BAF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5141-DA06-48E9-95F3-86221229E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8BB6E-9E8C-4B0F-A70B-689FC648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D41B15-41E2-4458-A119-7F105171F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D6C3DC-AD77-448C-B7E3-6B56AA29C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C73D2C-0A96-49D0-8F1B-F6C644AA9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A649F1-E55D-40AD-9A0F-273C9CC6C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294B59-E6D9-474B-9881-7D05AB018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37CB3B-F686-4B23-9956-221F19173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BBF7CB-3BE9-4D75-B744-16BDAEF68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C38506-3C1B-465C-B34D-181E611B4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8560FF-F7AD-40B2-8864-BE718738D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2C1F0A-5743-493A-8B2F-2F8A05980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977CC-A650-4F1B-8C7F-C873AADEF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50C0F2-C64B-456A-BD29-E551B2905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03E4A9-6B99-4D6C-B24C-16BD920DB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56BDC4-3CD8-4E64-9C33-BF68CA3F2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D23742-63FA-4D80-A707-5F310B53A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C5A5F7-0601-4C25-B3FE-B4558DCBB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65C739-5FDF-4F0D-9F5F-C36E4FC77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2FA4BD-ECDA-4CCD-86DE-AE27CAC13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5CFC84-9A67-48BC-9B3A-6443CF03B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F6B063-985C-4241-85F4-0898EDAFB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8146ED-44E8-4B6A-92CB-822164F85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6C9ED-81E7-473D-9626-4202A2FA2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5A7932-59B9-44CC-B7E0-E83E003B0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B3635B-400C-4347-BF18-0CC3D7B0C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0921A8-ACEE-48CA-9763-CB8FB7031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94D52C-F042-4790-88B7-DCDBC4C83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C142D1-99CA-4070-84DC-5A424E229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36683F-CC88-4650-B60F-EDB818851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0B1EBF-5B0F-4B3A-B18B-58275CF45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8326EE-90D8-4518-B4E7-095BB6BEA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7F4C1B-EBE2-4B7F-A64F-F8F0F6E9D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91D991-F88D-41FA-AFD6-BC9CA32CC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E87CC-35BF-479F-8351-0BDBA307A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86558F-755D-48AA-81F1-86323583B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8D492A-3DEA-4BD7-B124-5EE9A0452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4008FD-0353-4230-BAD5-E14297B99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B1711F-6778-40E4-9F60-B65C18603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F1DF66-7412-402E-ACFF-1E12074C0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308528-B2F8-4ADD-ACCC-7E58301A1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FC1CD1-EEEE-4670-BD88-A0E388116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DF8D85-D8BE-4654-BBCA-83661FF34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C5D07E-DBE0-4A54-BAEB-F6FE06E28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AC4BCD-2A0B-4E6F-BF86-E647B9368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0607C-037D-4A7F-9F7E-509767E4E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54A684-4BAC-4295-9902-3671E1D2C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6F4A66A-755C-4964-8735-F684DDFB3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FD29959-4E6B-4C38-8815-D7A99903A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F47AA8-D0EB-4850-A804-CB4152CE3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25A1D18-4701-48B2-88EA-91A0EBAEE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7B56591-9525-407C-B03A-575141959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0F7E23D-1E43-4201-BAF1-BE43DD1A6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D17D08C-6327-48C7-8451-E056368A0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AB83B8F-EE52-4153-BE70-89639A8A4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2350B7E-C519-464C-9C35-FCF145447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670FC-1086-44C5-9AC4-F4A8EE032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4994195-1B4D-4F8D-B950-A4548BFE3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A24C435-CDAF-4702-AD5C-BD0247589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3DA1CB-FB61-4A91-B9CD-787E1B2C7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186E63C-877C-493C-9518-813F6D696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651AB4E-A045-4E78-843C-95310D851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352D325-BE34-40D0-9079-8F25AB08F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699D04B-C8C7-4E5F-AED9-F8EB458C5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F5FD6E0-798B-47E4-9062-6F3DF9DB1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113E734-0A31-418E-9F54-0E93FAA18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04A22AB-637D-471C-A42F-AD92D8F21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15518-188F-470A-9D82-DAD7CADC2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22D7F55-4B25-428F-861A-5A8ADBDB3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D99BC7F-A3A5-45B9-A1B1-9BDBD84F1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3927DAD-FAB2-4E9E-9149-0962A73FF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66F2C0C-561C-4208-810C-6135522C6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17DB5B5-CD68-4AF4-B6F4-88C2F800C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499D8A1-7681-4CFF-910D-026A092E8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37D5A5B-20B9-4856-9A24-93D7EC04D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4AB1199-0F7A-492E-A3F2-BC4CB4706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D0535BF-62AC-4083-A2AA-54F6E3B84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7A2FECD-7B5E-4D77-A782-65A425D91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56310-7EC5-4004-8AE5-8FCD29101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16CB57B-F346-4A59-8122-5078D2F97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D7BD8E2-63F7-4FA2-A466-F8D4C35A4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D51B9F6-91C7-45E4-8EF0-0890784BA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814EE6A-0B60-4BFB-A80E-E047708FE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B18D323-2531-46AA-A1E3-7F2CB7A17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B553518-DDB2-4D17-BB49-65BB2C2B7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71C7DB0-1A08-4541-B8F8-B1A81FD8B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07B1F2D-94CD-4A72-B159-9B8D6093C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21129EB-00FD-4F43-A32B-851B013EA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A19EE16-C77C-4CE1-B497-29D9BDEA0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CBE5D-963C-4CC4-B9AC-C3B5625E4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41706EE-073F-4A22-9767-0687D2DDE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DC5BBA7-918D-4CD0-B9F5-E570740E1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CAA213E-CBDB-451D-86C7-43866B520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998994E-0ABD-4A53-A4AB-77BA978B8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CB1B344-59E4-4C5B-9AD2-4D591914F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B3AB91E-E796-4C32-B82C-F96710E5E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9C269AF-43FD-4589-8A5A-048FE3105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B1166F9-FC19-46F4-9803-F11FDA3B0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C48EF59-A59B-49B9-AC42-C4413388C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3BBCEE3-9990-48D4-8A1A-3ABD89177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93D6A-DB97-4E19-B420-A601BAABB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32B0EA5-AF56-404A-B866-8576E04FA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C1DB398-97D7-44A0-B3D6-A435B1B28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F95A644-0D68-4588-AC4A-397DA3453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E476244-3EE6-49DD-BEE5-F9ABDE53A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30EAEDE-2351-4A39-83A3-E783409E9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47BE749-BF9A-4290-AB29-57D49DAAD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E9EADF3-7B50-47C3-98B2-D485B4E11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C62A9B5-6C6F-4E39-A980-B1CE65BD1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F71BC42-51D9-4E89-8CAF-663D592A9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02EE7F7-32D6-42C9-B026-FE5AF79F4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D3EF-A89B-4105-8A12-13E0BC1E1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392B0-0054-4A8B-80E9-604C5B460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3FE46C5-347F-4FCA-9210-F779AD0E5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15A8AF4-CBA4-40F8-ACD4-3E6A093D7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1D044A3-D6BF-4BB4-8EBB-D2008CA50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4879723-670C-409C-BC2E-1FAAB33C8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3C1F64B-4E7E-4CCE-9C13-93F6AB00B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D5392B4-41E8-431F-A694-741C72CCE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9A867E4-64CB-4CBA-85FE-9991A88C4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621D639-5EF9-4F47-9D95-CB940D87F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7FE399D-BCAF-4807-B2B8-7E4F8C156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7D50766-E28C-4723-84F7-F3BA47198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D7965-AE06-40D4-B717-40CF56BE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18318A2-D77E-42D5-B9EF-691207356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B6022BB-6212-47D6-814F-FBD011252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5D488C0-3470-4F60-B8E8-C1868E888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47BAA23-E9A7-4F48-8B80-42D5CB39A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04D6182-5C6A-4F5A-A2AD-BA4822871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2752843-B0DF-415E-AA1E-BF24A8C83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D684A46-5BAD-4C4D-BEC6-2D67E0709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489150F-49CD-4923-9D5F-6E43CDCAE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7D22DD8-4C37-44F2-91C8-D49D21ED1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CF8C9F8-A4DB-4605-9234-A90CFC562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B0B84-5DD3-4DB3-B6F9-830A921DF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85EFD11-C943-40BF-8ECB-28E3C462A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FFC475E-C932-40CF-9005-4C07E4C79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C1A400C-5406-4828-B629-D54C4A131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04B5FD8-9013-4945-8057-8AFE1717C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460C152-CF97-4FE6-B56B-63BA4FDBA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F08DE52-AB94-46CE-9071-2C4AFF5E7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B026A8D-02AF-4018-90AD-74AD47179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CA1CC62-73B9-42D2-A830-6FF51FE18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AD8F28A-21CD-4F01-BFAD-D4B52E76F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EEB5118-C867-45AF-B14B-D2D483ADB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3F1E6-AB7F-439B-B7B5-1CD3F6172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FE142C3-9F44-4B05-8FD1-E267CD4EC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6457D73-2F38-4A99-A64D-2A63A4BA0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B236101-D5DB-4D99-A887-AFD261737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05D6352-E370-4A2A-B7C4-68EF7CF2C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EE36453-E791-4B19-A582-12871EAFB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4256BA7-BAE6-4B87-A756-6E38DF5F7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F1E8D62-B700-454A-88E1-7AD9B9F28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3E2FC4E-7FCA-4091-9618-BD7AA27A5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9A59513-1EC4-4BAC-817D-642DFF911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785A187-A225-441B-B532-C4FAD9B91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5E735-68FF-4B10-8B4C-96CFDFF13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DBF26C4-C9CD-406F-8A40-A1B574607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A531CDF-9123-4851-A964-5A273914E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CC4FD5E-343C-4E79-A7C1-C974DE1FF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2108186-B179-4AFC-8212-D09312E3D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3F88590-E90A-4FFC-ACC8-77D9750DB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C745D9C-2B78-49A3-96FE-12BD1761B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77236B5-37B2-489E-BC96-DE9B2A56F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1FBD6BF-BD28-4780-A0CF-1BDC8A11F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28A502D-530A-4EFF-83E5-30BD8EFDA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3F66A12-D8DC-4C0F-8F4E-11565AFCD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173BB-3878-49C0-A5A3-59ADFE97D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20D3E24-0CCF-480A-958D-480C04819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0D93A53-8439-44DD-80F5-5B271036E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4D01EF9-896F-4A22-A6D1-8922E1B4B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1FA3F2F-F32D-41F5-B96C-E88B03320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AE41E86-86CC-40E6-A8C7-3FAC8705D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EA66042-20FE-4355-8AD3-0EBE0EC62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4BE436D-3D86-44A7-98CD-7699B4273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F96177B-ACEF-4DE7-B6BC-416FF1BBE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D715696-7A84-4EF6-8039-3D171E02A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368F159-EAB7-4C84-B0A8-4E70CFFC3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41693-D14B-4CE8-96DB-22D875D88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D102CA2-DB1A-4595-B82F-F00D35C30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78A9039-CF0D-42B2-B40B-7405C90EC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576130D-ABAD-4BF3-89A3-C20F283B8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9F7810F-4EFD-48A9-840D-331FD9F98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3351447-C1B0-4CB0-957A-7728D8ABB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9BC3374-1747-4D53-AE87-E1A8A02BA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A05772C-04F9-4757-8DA8-D2065BAEF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36D56DC-0DCF-4D3E-91EC-6BA9CB04C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653CE0C-E8D1-4633-B153-FBDE97168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37B0240-B166-41D1-81D9-1D5540BE5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9392D-F60E-4853-9294-A584322E9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9F63B2D-F57E-41DE-B6E3-9F62F5C46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E13DBD4-762D-4E39-A208-D1633B702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383061C-C191-45A0-AAF3-32C37779D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A6CA852-350A-4B7A-BD7B-EAE08AF0A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13003AF-C4AE-44BE-99E2-4269939CE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4BD3CCC-3171-419C-AAED-84199E4A3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D54B0B9-63FA-404F-905D-FC69B80A6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CC370F7-2A76-45DB-85D2-9341C5C08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6469F60-58C6-416F-9A9D-70894D9B1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9768A46-8D7F-4A28-938C-016A59CC7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4C592-5500-43E1-B7C8-96DDB0D10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2F710B4-366F-4A0A-BFCA-98B0FF099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90EB7C3-B6DA-4CF8-82B0-74EF168B7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3A4B54A-0F9F-4869-B070-226C9B44A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206A282-B858-49BA-883D-018014F75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F0AD5FA-C12F-4FB2-A745-9E7F90455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B0CFE81-9654-49B6-9B7C-F18B83BC7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A8036A5-1231-42DB-B910-9D1EBBBF3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47B1C15-B7FC-45AE-ADFA-0385D7D2C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4865D46-14AF-424E-B13C-50339D45F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A160A38-05D6-4215-991A-807E724F1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33049-3180-4F75-8F23-F0C4A9DD5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5E95EFC-65D4-467A-84D5-1B303563A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51BBF71-0CBC-49F2-8764-99DF603C2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1BEB407-41E9-4581-A1BA-47B275B06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3EB10A1-8F24-4365-B4B9-DCD86461D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691CD24-7DD5-4FE3-908B-D7B7B04B5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E57940C-AB31-49EF-9A68-ECF002118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C4B1D06-0555-4FFC-83F6-5F1E479A3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39CF90B-04A5-428F-913A-9702F705F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3A82F37-B8D5-4A8A-8098-F59EC6F49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744C9B2-C6DF-4B40-9A18-EF2027286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3643-D91A-4F77-9727-DB2230953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EA8BE4-F783-4087-A4D6-293759ABD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4A11CE4-A52D-4EC7-9B18-CC98DB3C6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773ED21-7A0D-4CE6-9D8F-87B324582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749E2E6-F4DF-48C2-BFDB-AD3155420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5775D5E-5B63-4B8A-A867-06854D52A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F07E11A-CFC5-41AE-9B05-0BDFCFDFC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7E9BC41-8331-4B0E-B836-A325DD2D4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B8DBFDD-09EF-4295-B81C-5C5A2D456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55F9D48-5543-4C8D-ABA5-BFDC9CB37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ADC473B-B9A9-430D-9FC7-C3CD699BC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FD43386-0F84-42D1-9D0D-85392A4F2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0765D-C9F8-4C10-B3DE-52FFFD09D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5FCE195-84A4-4D34-AC5F-EE9A7C827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527E94B-BAF3-4A9F-BFFA-C24FCAE66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26E1F45-B059-45E0-919B-3924864A8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7395F26-F2EF-4EB9-B55F-6FA8801C9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6014516-671F-4902-B58F-4566B011D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869E3AF-D6B1-4905-840F-AB81FE930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EBCB209-A383-4A81-915E-6F2A67CDC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4B7F93C-E500-4B47-818D-8C76C90A6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DEF173E-FAD0-4AA9-8E24-8E50E13EB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8D40379-8639-4BEB-8D39-BB8A6E3AA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71576-2156-482F-A1B6-9E4D7BE18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285DA39-1CBA-4377-B8FF-78A175448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C1AED77-69D0-4246-8DEB-C3654308D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F1CC581-1597-4703-BD4B-44B8414D0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7F33B48-C9A2-4747-BE8E-37EBCC276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C7FA137-9E07-4DD8-A724-B3EF60D86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EC94B71-96BD-4224-B780-245BA3E72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47C6442-6D52-48F3-AAA5-2C952F208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C1A0074-E021-4A28-A561-24EB5DCF3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691C567-8292-4D6F-AB3D-144F0538F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17073E9-6AA1-409B-89CE-26CD394DB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271C5-045C-4765-B352-64909213A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13C4E57-2BC3-4CD1-AC08-D1140F16A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F2C7CB1-D1EF-49D1-AB22-A1A2A08E8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66AD26F-1160-4250-BDCE-C41DFBD72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705D4EC-4FE0-439F-9991-61A7590EE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C04C70E-D652-4346-B8F4-26CCDF28B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7D42DE4-F4AA-436E-8D72-43997F808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BB830BE-3597-440D-A9D0-D8A0620C2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AE28A3C-D8F5-4FAA-9479-3ED19AE34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82CA0DC-8990-4E1A-900D-E93FACEEB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895034F-55F8-443A-AC9A-1B8AC838B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0340A-5D3F-4DAE-BC00-817A805D5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5644A47-033B-45C4-A567-AABF3E88F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B9078EC-4EAB-41C3-B0D1-2B7D5F90D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56CDA74-C8DF-4206-9484-CC194A044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01A6B3F-72DC-47A5-ACBC-D462A6428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C9EA672-AB24-456F-92BA-2D5675409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EADBADF-118C-4A69-82D5-03856C340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44E8625-105E-4B16-A2B9-8FA698B27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C165468-66C7-4CE5-928A-80C2F1AEB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D3526FB-DCA1-4E0C-88DD-88F227C50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675FDEA-021B-4DD1-B37B-8082C01FA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8A5F5-7EF0-4130-9360-F71909B07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FCFBE75-13A9-4CD0-9789-6A79A79DD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87C8E5E-FFA3-45C2-9EC5-7A11516CB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39B4839-CF53-49D8-97EC-9A60B5FB7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648A400-D194-493C-9011-D417038AC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3BEC2F2-4EEB-4CE0-808A-3C810B82F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2655FDF-4693-4E8F-9FE5-484E64E58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4DBF273-4895-4A2D-AD18-85A25B96F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F76F302-0A34-4D73-BFA7-733F2AEB0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EF1C56C-2F2F-48BF-AD09-B6C2C92EF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3471C58-AAA7-477B-B5AE-4850D87E1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6F46B-55A2-4DE3-9FCF-ABA5B1863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8E7CB11-B490-4C35-96F6-2276E44A1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73BF3D9-653A-4164-9AB7-3DC009181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22EEA57-36F6-4954-A516-CE790BB3B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69B339B-5BEF-4568-8F47-B3E6C79FF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01B76A4-967B-4354-9B49-3B5827591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D53C9B8-2A53-41AA-8C8F-CF0E2C976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8F81239-E749-426C-9A94-9E18BC250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8315C39-0A43-42E1-87A3-E779C94B1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E8D84F2-5302-4B45-A9E3-4C42F81D2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F17D878-FFB9-4C9F-BCFA-E5F49217C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E4A171-4E7D-458D-B151-EE05404ED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B98EEDF-BA6E-4CC4-BB2F-0734DCDFB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DDC2D0C-24EA-4301-8754-C62830996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BA4B878-8E76-4E5B-9AF3-EFF9B6301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AFE39B8-8C0D-4CE4-9206-4DA882B84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38FC08E-02EE-4D0D-A91A-D52A4FF4E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289EFF2-191E-453E-AAFB-A0D97CF6C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B189224-3395-43B3-9591-F33ABBD20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CE6B3A9-F0CE-4D9C-9F7C-127AFD9D7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A3F86B4-3B5F-4626-90CF-526277263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ED3DC96-ED6E-413B-80DB-4B65D47DE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5D6CF-7C38-44A3-B41C-6624E390B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ED9104D-F3C9-4FC1-8B6E-33BE58420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808A8B1-5347-4A39-AE86-0B3A3CB8C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80FD85E-80C2-4F19-B7EB-07D031CA5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E85F460-C266-450B-8C56-DD846695D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15A6405-552C-4814-84BD-A4DF4487B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3C986CB-C4CB-4399-B2FF-F919D8B0D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997F77F-3259-4129-84B8-287752FFE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D29357A-AD2F-41F4-995F-914D563B4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061D34E-F5A3-4C04-8912-476733E83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78FC125-6320-44B4-8BDB-5F8241191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A4B604-E394-4ED1-B23B-3F5382480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D4A8945-B4D7-4F5A-A3E9-14E355823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9124414-D058-4284-A2A7-B93487E9D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EC3BA8C-5D95-4150-A2E2-21E715DB4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174931D-E2A1-48D5-B996-43413B8F1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33BAB81-65E2-4DD6-9BB5-D17453A85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7C148C7-466E-4AB3-8D83-C9D4AE8BE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91CE6D9-5B20-41CB-9486-C1DD4B8A8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CF95F52-BC0D-45A7-B8E9-E617C52C8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E13C11A-9EEE-4099-B8A0-E377053E8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1CAFBB8-B1D9-4282-BAD1-97ABABA70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BA7A-5290-46D4-900F-68C22D924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31FA9E-4708-4047-9B09-9A36E4EC6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4C805D6-4A7C-48D5-9912-CE5B4A450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7068226-5C2F-4D02-AE64-088F91EDE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E92EEC7-BEAE-4949-B133-27360DB41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3DB5139-B53E-4475-AF73-2D1860FBF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9CBF03F-64B8-4EEE-B74B-93246D886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13D1BCE-6D44-43A3-8DD5-A4D0C3A0C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41D15CC1-E4D8-4C5E-B4E0-FCCE2EA6F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4C97C687-FD0A-4C4B-BFA5-0C83685C1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1F0D1DB-9B98-44BD-94AF-834176C1E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DC36235-1D3D-4694-AA5E-20810BC00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405C25-1A0D-4F4C-84AA-EC34EA83B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C4D8088-1049-4152-849F-6F3DCBBA1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D3EA8F7-46EB-441A-81D5-9ED183BFA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AA38DBB-1076-43D4-91A3-F61646121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0A4E532-9CA5-4515-BB49-568B0D3C7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ECA10E9-9CE6-4B4D-8B10-10771890E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7121D75-E792-4D32-AFFA-32181064B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94F428E-0445-4F22-92CC-AC98389B8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E9FF8F3-132A-4D45-B88B-1420920F8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E5286D4-5129-4E67-A042-0FB2F02D9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8C0DF2F-45B0-4CA4-B8EA-7866FD20F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40DF7C-5566-46F2-818A-FDB851AF6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9E8D6CF-07C3-45E7-9724-8B2235B17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EFE4241-2AA6-4208-ABF1-D6C658E52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D182076-B5BE-4CA0-83D8-17D8F50C2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CBE1B30-4210-4451-9E11-4DB5C1A23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3B053F6-8377-4CDC-B96A-614A71190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0698B61-6D4D-4C1D-B58D-421B7730E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7BB7C37-C0CC-413F-A8F7-85B029A7D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0B58E70-9ADA-40CD-9E59-C8F0FDB6A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62174992-57BD-44BA-BB25-EE4CD077F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E088076-48FA-49B9-A542-D632B460A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3093D0-BAC1-44D1-A813-DB5AF1548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4C2E93E0-E823-43F2-9170-57F6F74A9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9755B85-520E-4C7B-ABA8-138B34C23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FB2CAA3-E58D-42DE-BD0B-851E06811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0F7CE74F-9036-49E0-A82A-80699FEC9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0DAD9D21-77DF-4022-B5AE-6BD177C52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9E4D3AE4-CA31-4D2C-A694-1F1F57EEC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757BA67-FF29-410E-80B8-9E950843C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A5ABE00-A756-4331-B195-CC91AF201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F8EB3E53-A2A6-4005-AB61-0027134C7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0A41C20-26B1-46FD-A867-1F94821F8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2C1C72-F910-494A-9E9D-790E76DC6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680B6CA2-026F-4882-B5D2-7C3E62310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29A9DC4-5E04-4E0B-ABE8-FADB2F688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AE1F8AF3-389F-4AA7-BD1C-63A48A5A3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53EDAF5-4202-4B6A-B54B-4D24E1847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079F10D-2496-4179-9915-80C93BA98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27FAC98-298C-49A5-B3AD-FE6862B8B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6BE14C60-24A3-4E7F-BB3E-9EBDC5A40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A0B3E5F-1DCC-456C-B7F8-24C114C75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4E4020F-03DB-443B-924D-2C123B18C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0E949C6-AD83-4CEF-9B46-1B0DCCBD6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D8396A-A618-40E2-ADC8-73F800ECE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D7014A9-5C44-4811-B24C-F8A5FFD09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AA112494-EBE1-4DC1-A0A9-9D6EA1340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A824557-7BA4-4882-8521-98D6CE0AB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3722DE2F-6F92-421C-966C-3EC2E154D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8378DABD-5828-4428-9942-2D177C72D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01117528-905F-4834-8900-1443AEA1C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DC0CC1C1-C5C1-4444-BFE3-038B19158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F09B6B1-6A27-4BDC-A3FA-EBD384A4F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33D2EB2-B27F-4AE6-95DF-D4F20EC36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DA6E000-B0D5-4949-AEBB-6578E205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4BC94B-C63C-48DB-B9D7-4100741C7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069DF71-B2C0-4E5B-BD6D-2D01633E9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D6FAF74-D09A-4C15-BCF6-0C22EAE28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51E4BC2F-493E-41A0-AFEE-51DE3E43F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9D47FC9-6F78-4199-B395-936AD8683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C75A64B-8025-4767-88AD-E9F63D49C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16EDA55-62F7-4841-9485-F8E67ED10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AE55AF8-33C2-4795-8326-9FBFA4D77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4D565ED-A123-4BB3-8C61-BBAE9A652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46F4DC2-583F-4F38-B91D-21C09FC9A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73D91DF-90C5-4EB0-9A06-E7FD391D4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E25D5B-09D6-40F7-85FB-CF2D7619C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BE89EAD-3F51-4932-BEFB-F39A0197E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D67DA80-6CAB-4342-BCAA-2B420B715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F95CCA7-9F99-4C51-A95E-2A9D6A1A4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EEDF73D-D3C0-442B-BBCD-8B5770D4F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3BB993F-679F-45D5-8C49-ED37A6BEB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BD9FADC-8971-4A43-BF95-EAC7542FB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5BEC4A2-2FF5-4ACB-A1AC-550F181AA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4795FECF-A2A6-4EFA-9AB1-623677BD4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C9998BA2-49ED-4C8A-B890-97519F6B4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F3686FC0-556D-45FA-AA90-43BD24518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7D7655-C5C0-4A31-8088-D9CEEDEBC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03058EB8-B0FD-4386-8422-B50C7A85B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DD433F87-7201-4917-94F9-022E1D3C2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9244091E-4D4F-41C5-BCF1-E8E75DE98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D9877D54-3BBA-4672-9020-12ACCE60B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5647BF4-BF67-429A-A6AB-C8365C8A1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6C9A0AE6-C234-4175-B47C-74B50F59D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4BB740C6-2608-46C4-8192-74A4A25AB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8E760365-33D6-4F32-BA97-D53985001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65DC3C91-C81E-4DEE-91E9-512F82828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AF7ED862-1FA4-4576-8727-059B4EA73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2BC044-3ACE-436E-AB55-D97EA5884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E90CB404-28F1-4AF5-8644-9F52D9757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7D256405-9E13-4913-A3BE-80327933D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1B3972D4-3021-42AC-A448-933609C50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C811DE86-1894-48E6-8F20-9B4CC2663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B269BDC3-92FD-419C-94F2-33200A04D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9FD73DE8-347F-4B61-92EA-14F1C3D5D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12F3A0B0-73F2-4E45-B5CD-43263BDC1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1389D992-539E-46E6-BDFD-8B90CC1D7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5EF8482B-6CBE-4074-B7ED-428F86CF9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97AFAD78-DD37-4540-91A4-A3447C8F2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8C02-E3E1-432F-8C2C-419B3A06A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0FC563-ED56-4129-8EB5-2171E24E3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67E06434-6E9A-4E28-8DD7-F1655AAB7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5974DCC6-DA3F-47E7-9825-B7BBCF127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712EEA04-4DA7-4C5A-AD6B-9C2BC8373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46B291CE-BFA1-4557-8585-4D535C282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7FC679B8-6636-4341-B913-0398D2FCB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16A6FA94-8475-4684-BC16-C98A13CF5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4B3E5B7B-075A-4B09-8829-B7E25F44F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E2C8BE39-E031-4984-A294-40D10ED28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250F6198-B88C-490F-A8DF-CE9E5B8CD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845B3019-8F9B-4D16-B70C-7B81C3D13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B57396-F760-475D-B195-3AB9954FC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D25DAEB3-1690-4D4E-A798-93E04C2D8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B3056A96-B96F-41C4-9A1B-29CA8A111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9A4A869E-738C-4797-BCB5-996AD0EC2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D9AACB2E-D7D8-41C1-82BE-9A9247817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ADAF871C-9E08-4413-B8CB-9717709F5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5667893C-4C2C-48DB-A367-FD744E1BA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74D5B4CD-55CC-47CF-BCFB-C46BABF78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CD3E22A2-8674-4627-BBE5-D527963CD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C6DD9B7D-1AE8-489C-9245-B5B436D6F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2DD098E4-55F0-440F-B659-6F3AA5E1B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067BC9-F1D9-4E0E-9123-FE1F192C2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2E07151A-4F0C-46FA-94DB-AB18CC3D2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3C055FD3-39C0-40EB-9F7E-53B16BBF3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61B7287E-13A3-4D3C-9E67-9EC5DA203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9013F795-7F77-453A-B686-D5CA86B3F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9470D73D-2E52-4964-B1BC-D828C74A6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1B8E55E5-5183-447D-ADB9-835740604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A6AAB9DD-C93A-4B8B-BD07-CF2F5CD3E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664855E0-1088-4E3C-BE2D-A871DFC63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C472A637-E42F-4A32-A968-3FD2BD5EB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CD0DD7D7-458C-4CDB-9491-F25706FF7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0275FF-B55C-4961-B915-664EB5722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C5D525C0-DE6F-4496-9023-78E134074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9339FBA1-0C1C-49E9-80DD-3DE4C0199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C0FF05CD-EA91-4C65-8AF4-FF5E0DAB4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3282215B-BDA0-4AF4-890F-6E858CC48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8CD6DF62-3288-406C-A70A-B67498F29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22A43808-C40C-49D3-8CE5-A636A5FED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90074B24-DF9F-4838-9EDD-58D768427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2B5E48CC-0CA7-4C27-BF86-9F8CB66CC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17B840A5-F71E-4A19-B148-D09697C67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209151F2-1F4F-4349-82E1-94D528387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40035C-3A5E-4C61-90FC-797E019D2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AC761569-DF20-4709-B2C0-3B72F37D6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5D1E7B69-D2E2-4519-A626-7DB253875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ACF2773F-1535-4912-8D74-0D15F2F1B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6C74E131-21C0-4542-A3BB-7B6C8B5B1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7DBA7DBC-AD7D-4741-B311-C3DB6502F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40696BAD-7ED8-46A3-A240-023BDC999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61170603-7451-47C5-982D-C2D32C4D1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8BDE7000-C758-40DC-9472-0D00991F2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0B554857-6A2A-45F6-AE96-D10F3B537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3B98EEC8-D6F9-4701-A588-040AD7247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4CD0AE-4E04-4F87-A8DF-F2E5A1893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A1C2F6CB-6FBD-450E-A335-82316D721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68CC36E3-A3AC-4A93-8A3A-5A57C1158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A990F40B-0D37-43CC-B9DE-27A492FC3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77778B2F-2820-4347-9A1B-8A4C9F80A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65189673-591A-49B3-88B3-ADB367134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46F8D2A1-1273-47E4-AC6C-70C993DCF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F721265C-D883-438A-895F-64312CA47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8AA9DFA8-4841-4C10-9D08-4BEB463A4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4775A6DF-4EB7-4647-BF6B-42530C17A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8422F50F-9ED6-477E-9BC8-3C627A7BC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7F7520-91F6-484F-9C14-6EC107F1A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7082C204-9046-4730-9427-58E4B96BA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DD755FDB-E96E-4EE4-83BC-0D08E5806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37AE7679-2194-4C7C-A127-95FFB5B14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92A5DB7A-276D-43B7-93E1-05E7F50DB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822FB49E-3D22-4892-8D0C-07C9711BA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5A661E5F-0486-4DE3-ACED-0EE30BCDD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9A796913-3532-436C-97FD-7C5EA47B3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C2226237-1969-4E2C-9691-8060825DD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65971677-093B-4153-95F0-A35691328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D095A7A4-B494-4226-8C0D-5A28C1834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3B13C2-6086-41EB-8150-7D051C537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BE4BEF06-EAFC-4131-86F7-AF4BEF12D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4E4BBACC-2D64-46BA-9B30-DC16C1EC3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6D74CD5B-6F82-4210-85DB-09B7565AC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A329B9A8-34DA-44DD-861F-52A5C28D8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044478B7-73F8-495B-A33D-DAE3A4B2A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D968EC33-594E-4122-BC12-151210E33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9EAC55D7-BFA7-438E-AB94-9A32A5922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7EE6D9AF-6E50-4DA8-A3B7-846BEFF65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6EC8B12A-9984-42C7-A6DB-62DE288A7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C95CEB2A-46FB-48D3-8BE3-AE56D691F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AB0CB7-FF56-4A61-9E42-03A39B096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4864420F-28C2-4560-80B5-2C84EA521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C8F7A57F-CFBE-4407-B19C-4B5A9513F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12DE547C-1273-4ABA-9B0D-00E86F3B6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546EC3EB-362D-4B1C-9C12-5FB491112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E6B696DC-C421-4C21-96F2-AD5EF0741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EEEB7A58-1254-4C92-9C84-4A9142EB2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52B28926-24CD-42E7-8D03-1EC6A3CA5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4AA68192-93EF-4CD0-BECD-47DA4E07D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90166EAA-169F-4914-9D88-AFBB4E33D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B0E51083-43BB-429F-8DD6-8C83F1DEB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B89145-17E7-4CD4-9D0F-5EA48A936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94DD45CD-68F1-47AC-988E-4E0FA96AC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1B94725A-87D6-4273-A678-79A75A54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31D65B91-1CA1-4D0C-8133-5E309AB75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1DD4FCF0-D763-4D33-989F-A29805214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957CB51A-E922-44C4-A631-4E3EBCD74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83A085C0-4AA2-4316-994C-59193DF24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5F5C7F88-130F-4D0B-9607-F7D83D486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913BA1FA-F22C-43F5-B5E0-CA51D91D9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BEB4F34B-AD93-46DD-A9E3-D630799EC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FAB2DB0B-60B1-48A7-BFF4-4FD47162D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C2D7-F1EC-4902-BFB7-96EA6D242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257902-8098-4D68-B27C-A58E32C8B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12D7FA4E-85A3-4576-9B79-BA52E5537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5837FC0B-67D7-4401-82E4-A7E2D73B6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78D1DADD-BC3B-468E-9B22-1C1430C4F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8D2AE325-EBDD-4BD0-8828-E75ED1D78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52DAC576-49DD-46E5-B085-28450C985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2E8D1536-2D6C-4F23-90EA-70BA67B7F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0B6E4684-56F8-4EB5-AD1F-2CCB6FE28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D1307746-8E45-4329-A2A9-CD63A6107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40435E15-56BC-4AD7-A002-03D667BA9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E4BCC7D7-F3B8-4733-B41A-6BEB0FB65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7AC6DD-9CFC-4430-B919-B2E8A2C80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CF370283-425B-4478-AF3A-00BF8676E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9908FB6C-4E5C-4804-A0FD-60CF39FC0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73071208-27BE-437A-A51C-47FC45749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A50CF473-9371-4749-97C9-8C253F81E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01410225-AF6A-40BE-B354-F2D738BA5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4DEC698F-E8C4-4381-9A0F-1FE3A3141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950EF6AB-A38E-4F55-92F9-F97D45861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B8701973-E62E-41FB-B9AE-F8FFE7D1A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A529043C-E335-45BA-98BF-9D80A3948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40AF3BC8-38E4-464A-A6C6-75365AB2A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1449BC-EDAA-417B-9C35-662B3EF22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A7297569-DBC9-4E8B-A9BA-A7942A9B8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11C53935-1453-4632-94CD-BB4973590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2C116A29-1212-4B8A-B59E-206098F03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66095198-86EA-4B77-AF17-BDF2D4C34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EA31216E-E3CA-4366-94D2-09DFEC5AC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7FDCF641-04B1-4B04-A9B0-EC727E8D2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ED0A8D4F-119B-406A-878B-A0C8A95E2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EFB97B6A-3E7C-4E8C-81D3-7AA40F6B3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CF639A66-4A90-46FE-8464-82234B395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D7B9BCAE-1DFA-48E7-8BB1-0B024A065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5FADB6-360B-4FCB-BF14-59E4B3324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EA4659E7-3ABE-4875-8292-755477A6F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CEAB9949-A015-495F-B17C-CFAB297FD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C48700DE-6E14-4559-9D54-2F59B7444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70DD8A65-9CC5-43BE-BA62-8A9F04A79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0FE8FBD1-75EB-460A-85BE-8086A18DD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F414F1D0-645B-422C-8F8C-B22BED519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C38E72C9-484A-4B56-828A-32CA8A178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77D39DCF-7DE9-466E-A1BE-6AEF4826C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8B73C1E4-DA72-4102-B00B-EC539F1F3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974BFDDC-2BFB-4D3E-97E9-7B3AA9B96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9C8281-14BC-412E-B714-C94875143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43F14B2B-3729-4484-94C4-0D439E201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3B904FDE-89C4-4B7C-8E97-2FD905B6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CD6CDA4A-0272-410C-AA0C-24C847108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FEDBB7A6-4D1F-41CC-908F-679C4368C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9ADF5B00-878E-40E6-8BBF-29F479150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6A5F488D-B619-4474-BE59-7C953E1F6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5173262B-A0E2-426D-B40B-515E5A4CE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76B108B6-4378-4283-9A71-CCEBD6AA5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C95FC387-6AA8-4F9C-869C-B49F5A3BD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4D22963E-AC27-4EAD-B6A9-645EE38DF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7B7093-EB37-4DDE-8BDB-42331474A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412F11F1-9ACC-42D4-A91F-E70AD9778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DFA34C07-BABD-4357-A64F-89CC5751E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53469789-0D8A-4A6E-B979-8D85DD414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76785001-DA24-473F-B81E-E76C02F4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BD7CE9D6-E5C6-4333-9C3F-CCC772D36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55FA0963-42CE-407D-A4C4-B6B956093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3BE5290B-C5CC-4F40-8861-8868AE400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5400F6D5-EC38-4D0A-8EA7-ABA1CA9EC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6B88D291-1F38-4DF2-89C6-3CD4E12AA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FF9E76BC-B0AF-45E9-B327-31322B6CA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6F2709-B25A-470D-936F-122308B23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764A0A22-FE06-4CC2-93A3-E07DA635A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71C3DD64-3854-4875-AB71-F3380EA62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6173165A-94E0-4797-819A-F14ECC05E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E875B06C-EE3C-440F-980B-69D389541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031A9DE5-234D-4852-8DF4-EAF98ECAA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D507C2C8-4B4E-4B40-98D7-C18087A0F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A8B510E2-03C0-4173-A2CC-1AF89FB87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FA82A852-7542-4B02-940E-EBB5DB8FE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340CCC08-473B-421E-94C4-805F9079C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074957B9-9851-41A0-B2EF-CC36E9FA0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CA32FF-A9CB-4E83-B63E-E6F4945D7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1D7C9577-011A-47FA-A1EC-E7AF0BD80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574EDADC-AA81-428F-A345-162807F9E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CF4301B0-4A85-44E7-BBC0-33DD24DA1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BFB58302-5E06-474A-A4A0-E9CD1105C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AB7D1318-7BFB-47D4-A70C-C8C192457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2191C0CA-9334-4452-9D36-FD6D14D37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7567DD3D-C511-4DF5-8967-3BD220F45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7810B803-B672-4308-B8A9-608BCB4C6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644AF2B2-A14D-4C0E-ABCB-48D98018D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BAB2912F-09CD-4AD6-B791-9DF16CF7B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F16CD6-4099-426F-A6F7-EDE9518DF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5374C6C0-C11C-4E44-9924-2931356E3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DAC81802-7D7D-41FB-88BC-F39DC0A31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9573A737-C8D0-4CAB-AB13-914299913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DCD57B11-260D-463D-BD3C-67A5CE2E6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6291A930-B078-43E5-A049-7877AA554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775BA4B5-84CB-4657-BC07-2F211808D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B8BC7BCF-56AE-40EF-8475-EEA0B5CBE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4933EB98-ACE0-4024-BEDD-8791DAB2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367C4477-6E61-4F66-B611-E2A188403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C6934E56-5795-4DB3-A970-EFCFB421A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1B0176-11DB-4CEE-AC86-1AF50F71B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CD2E23EC-0018-4325-ACAD-09A34383E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F87DE184-9A97-486F-B68B-45E5C8489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15DFACB7-6F5B-4E96-8587-A2FDFEC00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D06C873D-11E2-4461-9B65-31D9C9578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30356B01-03E1-4FFB-9DD3-753B293B3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216FC66F-02F3-4272-9CA7-4EDEEC0C9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6DC09D6A-3BE1-469E-9E19-067386D9D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03FBF773-A9F5-4C64-9CB6-45DAC0C3B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7E2EBF2C-7D32-4545-9A06-CCBB0CDCE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B18EE781-2F9B-4128-955F-1E3EC22F6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9650-7BAC-4B2D-A991-3C16718CF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82D8BC-10F3-4F5D-BAB6-FC05E5C67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952CBD17-5F26-4907-92DC-5C83972C5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ED0DE41C-0991-4455-A4A5-8EA371F6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5402C814-4182-4CC2-9826-FE5FD1599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EF589D19-279E-4D43-83CF-3FC2369FB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19320344-1310-4266-95DE-7839E71B2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9B90122B-878E-4C93-A094-D908B6542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BA088397-BEA5-4177-9246-01871D4C2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2906DCBB-D6BD-4ED9-B746-2FD45368B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34FC9808-1CBD-4E50-B798-DE8D34C5E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CFDCE6AB-9D59-470F-BB6B-FFE02756B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9E0861-BF61-49F3-AA5E-F9F80828B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382CDC1A-130B-4B6E-80F3-BFA2162BD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9629D54D-0E7D-46C8-ABBC-CB4710BA5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8195FF9F-8489-42A0-AA51-21A3A7CB9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B48549DA-1BCE-46CC-A755-DFA66658B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7ABED768-9419-4308-B1EC-178859C2C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4915D1E3-A9A7-4487-A33F-8747C5702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ACE0D5B4-766B-40E0-93AF-E859F9BCD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AD3751F5-1B3D-4519-8F2D-2ED04C0FE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F28BBC3E-B814-418A-8E71-4F4B0808E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F9CE8F5D-C045-4496-BD1F-AD7821765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7AE4C0-13C9-4E6C-9C95-1CED45415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30AA97F3-912E-41FD-90A6-736F13F81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8EFC68C9-AAFA-41C4-B26F-67F0594B0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BCC292FB-5F41-48AA-A9B0-766CAAC2E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98545BC5-E59A-461D-B25A-D2A030D4A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60308797-67DB-4177-9580-B1D366C5A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ABA5D392-9825-4930-AA59-E428610B8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DBDD35AB-1B3E-4963-B1A3-B1FBA0051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6CC89BDD-DF23-4839-986B-B55292D7F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32024B1D-2173-44B1-B51B-E04BC91F6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98BAE253-F3A6-4443-9D2F-79D7B3F95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9574B1-09FA-4578-A2BD-39E85C8FF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5C40B873-08BE-454D-AA5A-463F139F7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7BFDA4E2-4BDE-4B99-B5EC-A118EF9A4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8255E5F3-DB81-4247-A476-6F37CEA69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7DA26FCE-D324-45B2-BF11-D1071EF01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ACCD851A-CC04-41B5-B27F-89780B156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27DCE003-1946-4104-8CAE-6DFAB0DFF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682BE792-A8F6-4255-9E04-5712DEA7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BFE2AEFC-3500-4C80-ADE1-D8385DE84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371F07C4-B7B4-40CE-94AD-C3FEF67FD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2486E5D2-04BE-48E3-8D1A-4F35D3240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242966-7CEB-4F60-9288-CE23CC086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AB939826-5196-4872-86BF-7F4857E27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A59D3407-1798-4CE9-996F-9BDCAEC62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670E5B91-6EEE-4016-9785-90F977AC7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1242A96A-BA71-4E01-A994-823D2C242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EEF844EF-357F-43F5-9A8E-D9B3DD867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1B7A19DC-EBA7-4916-AD7D-475BA07E4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F1A65190-8E6E-47DA-9C4B-AD63A39DE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7513606D-31A6-4747-9C80-150AACB50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C45CB3A1-2423-4C6C-AF2D-D2DF22196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E13BA62A-3EF7-463A-BF98-FE97AE042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33E4B0-48FD-47ED-815F-379282E1C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611CDE44-D354-4737-B9B9-6C568BB80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7289C6E7-D0F9-4257-9B9D-137392F4F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FF72CE52-3192-4F0F-85D0-7ED49CBB1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900343F5-7537-4994-83B8-B9FED77B4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5EE0FDE4-4E0F-4BF3-AE2F-52E2F6749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ADD307A4-B30F-49D7-99D1-0FBB95E47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664403CF-0089-4EDA-958B-6E92A607F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AF8FE670-974D-4DDD-BC28-7DEE7A021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23890979-D53B-453E-8E6A-7070562BE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6622749E-2177-4A52-87F1-972BA0B61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B52B46-229A-4BEC-A7D7-06E195680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7759012A-1E18-480F-8BF1-AEAE7B5B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3F79C0CB-F84E-4A5E-B8CD-58BEB7A21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6FBF6E72-8726-48AF-8681-8356364EF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DB33A33B-F952-4BAD-A450-06798C603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05FE31C8-8EF0-493A-B691-ADFEC6A7E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3678D5C2-8C41-44A7-8B76-C4E407928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67508366-B342-4873-8532-8E29FF828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C5D2A7DD-46FF-492E-9FEE-9BBD77273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E6316461-EA4A-4D9D-837F-C9BF10165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AFEA662F-01FB-4044-BD83-42EA9D22C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6AE814-566A-4A97-817D-A40DA6A44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743DC1F2-BF46-4EB9-8983-6B54B3D8C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A8C6EA96-A4CD-4072-BD85-6AD39D95F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9B1E2DDB-8974-42B7-A031-38DAAEA07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D071D3DE-DED5-486C-9CB8-44E00B502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B6510C58-E91A-4D3B-82D1-7019875E6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858C372C-1E06-4B53-92F5-D4599C4BF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3FEF8C8A-7964-4FE1-8A8C-14F12142B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27006FB0-D955-4C92-A744-9D8F2F8C4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26420FAA-01FB-4AE2-8884-913FE0BAC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D5E9F16B-5047-4051-A1FA-945BD97D7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41CC42-2386-431A-BD60-A0384EFD6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E2FA17ED-9592-4586-AC18-6BFE4666F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DA93DA7B-7432-46CC-A928-335902B7D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EF6DDB4C-B8F2-4305-927D-BE16E19C1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DBB34540-DADB-4605-9098-E604F7C26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C044B249-4D34-4286-8DA1-A55A551BF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4013469B-DED3-4E55-8F75-545308F0B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1FFCECAE-F5B5-40A3-B83D-E06FA3258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B185CC49-361B-4600-8A3C-C862DCB19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30ACF1E5-8B99-4E7D-B08F-DDFAD495A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3D8B51-364A-4A91-8961-CF53A3641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BA2A-4EB6-49A0-B0F6-407C5AFA6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88F9E6-B080-4C9A-962A-35DD5324B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BF7CDD-7FD7-41B2-962C-6B25F9FF2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953204-1775-4D7B-B812-E4BF73FBB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A78849-D001-4983-80D0-EA6BD4270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687360-D8BF-48D8-9F04-5CCD9E939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C7CA00-215F-4CC1-8492-198FC5A70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8FE87D-7E8F-4EB7-9AAA-199C71908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9E215D-0A1F-4791-B074-AD550421F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1252B1-1278-46B4-87DF-D9C313AA3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1D7107-3382-4652-B0E6-EB2145358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slideLayout" Target="../slideLayouts/slideLayout685.xml"/><Relationship Id="rId3" Type="http://schemas.openxmlformats.org/officeDocument/2006/relationships/slideLayout" Target="../slideLayouts/slideLayout686.xml"/><Relationship Id="rId4" Type="http://schemas.openxmlformats.org/officeDocument/2006/relationships/slideLayout" Target="../slideLayouts/slideLayout687.xml"/><Relationship Id="rId5" Type="http://schemas.openxmlformats.org/officeDocument/2006/relationships/slideLayout" Target="../slideLayouts/slideLayout688.xml"/><Relationship Id="rId6" Type="http://schemas.openxmlformats.org/officeDocument/2006/relationships/slideLayout" Target="../slideLayouts/slideLayout689.xml"/><Relationship Id="rId7" Type="http://schemas.openxmlformats.org/officeDocument/2006/relationships/slideLayout" Target="../slideLayouts/slideLayout690.xml"/><Relationship Id="rId8" Type="http://schemas.openxmlformats.org/officeDocument/2006/relationships/slideLayout" Target="../slideLayouts/slideLayout691.xml"/><Relationship Id="rId9" Type="http://schemas.openxmlformats.org/officeDocument/2006/relationships/slideLayout" Target="../slideLayouts/slideLayout692.xml"/><Relationship Id="rId10" Type="http://schemas.openxmlformats.org/officeDocument/2006/relationships/slideLayout" Target="../slideLayouts/slideLayout693.xml"/><Relationship Id="rId11" Type="http://schemas.openxmlformats.org/officeDocument/2006/relationships/slideLayout" Target="../slideLayouts/slideLayout694.xml"/><Relationship Id="rId12" Type="http://schemas.openxmlformats.org/officeDocument/2006/relationships/slideLayout" Target="../slideLayouts/slideLayout695.xml"/><Relationship Id="rId13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slideLayout" Target="../slideLayouts/slideLayout721.xml"/><Relationship Id="rId3" Type="http://schemas.openxmlformats.org/officeDocument/2006/relationships/slideLayout" Target="../slideLayouts/slideLayout722.xml"/><Relationship Id="rId4" Type="http://schemas.openxmlformats.org/officeDocument/2006/relationships/slideLayout" Target="../slideLayouts/slideLayout723.xml"/><Relationship Id="rId5" Type="http://schemas.openxmlformats.org/officeDocument/2006/relationships/slideLayout" Target="../slideLayouts/slideLayout724.xml"/><Relationship Id="rId6" Type="http://schemas.openxmlformats.org/officeDocument/2006/relationships/slideLayout" Target="../slideLayouts/slideLayout725.xml"/><Relationship Id="rId7" Type="http://schemas.openxmlformats.org/officeDocument/2006/relationships/slideLayout" Target="../slideLayouts/slideLayout726.xml"/><Relationship Id="rId8" Type="http://schemas.openxmlformats.org/officeDocument/2006/relationships/slideLayout" Target="../slideLayouts/slideLayout727.xml"/><Relationship Id="rId9" Type="http://schemas.openxmlformats.org/officeDocument/2006/relationships/slideLayout" Target="../slideLayouts/slideLayout728.xml"/><Relationship Id="rId10" Type="http://schemas.openxmlformats.org/officeDocument/2006/relationships/slideLayout" Target="../slideLayouts/slideLayout729.xml"/><Relationship Id="rId11" Type="http://schemas.openxmlformats.org/officeDocument/2006/relationships/slideLayout" Target="../slideLayouts/slideLayout730.xml"/><Relationship Id="rId12" Type="http://schemas.openxmlformats.org/officeDocument/2006/relationships/slideLayout" Target="../slideLayouts/slideLayout731.xml"/><Relationship Id="rId13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slideLayout" Target="../slideLayouts/slideLayout733.xml"/><Relationship Id="rId3" Type="http://schemas.openxmlformats.org/officeDocument/2006/relationships/slideLayout" Target="../slideLayouts/slideLayout734.xml"/><Relationship Id="rId4" Type="http://schemas.openxmlformats.org/officeDocument/2006/relationships/slideLayout" Target="../slideLayouts/slideLayout735.xml"/><Relationship Id="rId5" Type="http://schemas.openxmlformats.org/officeDocument/2006/relationships/slideLayout" Target="../slideLayouts/slideLayout736.xml"/><Relationship Id="rId6" Type="http://schemas.openxmlformats.org/officeDocument/2006/relationships/slideLayout" Target="../slideLayouts/slideLayout737.xml"/><Relationship Id="rId7" Type="http://schemas.openxmlformats.org/officeDocument/2006/relationships/slideLayout" Target="../slideLayouts/slideLayout738.xml"/><Relationship Id="rId8" Type="http://schemas.openxmlformats.org/officeDocument/2006/relationships/slideLayout" Target="../slideLayouts/slideLayout739.xml"/><Relationship Id="rId9" Type="http://schemas.openxmlformats.org/officeDocument/2006/relationships/slideLayout" Target="../slideLayouts/slideLayout740.xml"/><Relationship Id="rId10" Type="http://schemas.openxmlformats.org/officeDocument/2006/relationships/slideLayout" Target="../slideLayouts/slideLayout741.xml"/><Relationship Id="rId11" Type="http://schemas.openxmlformats.org/officeDocument/2006/relationships/slideLayout" Target="../slideLayouts/slideLayout742.xml"/><Relationship Id="rId12" Type="http://schemas.openxmlformats.org/officeDocument/2006/relationships/slideLayout" Target="../slideLayouts/slideLayout743.xml"/><Relationship Id="rId13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slideLayout" Target="../slideLayouts/slideLayout745.xml"/><Relationship Id="rId3" Type="http://schemas.openxmlformats.org/officeDocument/2006/relationships/slideLayout" Target="../slideLayouts/slideLayout746.xml"/><Relationship Id="rId4" Type="http://schemas.openxmlformats.org/officeDocument/2006/relationships/slideLayout" Target="../slideLayouts/slideLayout747.xml"/><Relationship Id="rId5" Type="http://schemas.openxmlformats.org/officeDocument/2006/relationships/slideLayout" Target="../slideLayouts/slideLayout748.xml"/><Relationship Id="rId6" Type="http://schemas.openxmlformats.org/officeDocument/2006/relationships/slideLayout" Target="../slideLayouts/slideLayout749.xml"/><Relationship Id="rId7" Type="http://schemas.openxmlformats.org/officeDocument/2006/relationships/slideLayout" Target="../slideLayouts/slideLayout750.xml"/><Relationship Id="rId8" Type="http://schemas.openxmlformats.org/officeDocument/2006/relationships/slideLayout" Target="../slideLayouts/slideLayout751.xml"/><Relationship Id="rId9" Type="http://schemas.openxmlformats.org/officeDocument/2006/relationships/slideLayout" Target="../slideLayouts/slideLayout752.xml"/><Relationship Id="rId10" Type="http://schemas.openxmlformats.org/officeDocument/2006/relationships/slideLayout" Target="../slideLayouts/slideLayout753.xml"/><Relationship Id="rId11" Type="http://schemas.openxmlformats.org/officeDocument/2006/relationships/slideLayout" Target="../slideLayouts/slideLayout754.xml"/><Relationship Id="rId12" Type="http://schemas.openxmlformats.org/officeDocument/2006/relationships/slideLayout" Target="../slideLayouts/slideLayout755.xml"/><Relationship Id="rId13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slideLayout" Target="../slideLayouts/slideLayout757.xml"/><Relationship Id="rId3" Type="http://schemas.openxmlformats.org/officeDocument/2006/relationships/slideLayout" Target="../slideLayouts/slideLayout758.xml"/><Relationship Id="rId4" Type="http://schemas.openxmlformats.org/officeDocument/2006/relationships/slideLayout" Target="../slideLayouts/slideLayout759.xml"/><Relationship Id="rId5" Type="http://schemas.openxmlformats.org/officeDocument/2006/relationships/slideLayout" Target="../slideLayouts/slideLayout760.xml"/><Relationship Id="rId6" Type="http://schemas.openxmlformats.org/officeDocument/2006/relationships/slideLayout" Target="../slideLayouts/slideLayout761.xml"/><Relationship Id="rId7" Type="http://schemas.openxmlformats.org/officeDocument/2006/relationships/slideLayout" Target="../slideLayouts/slideLayout762.xml"/><Relationship Id="rId8" Type="http://schemas.openxmlformats.org/officeDocument/2006/relationships/slideLayout" Target="../slideLayouts/slideLayout763.xml"/><Relationship Id="rId9" Type="http://schemas.openxmlformats.org/officeDocument/2006/relationships/slideLayout" Target="../slideLayouts/slideLayout764.xml"/><Relationship Id="rId10" Type="http://schemas.openxmlformats.org/officeDocument/2006/relationships/slideLayout" Target="../slideLayouts/slideLayout765.xml"/><Relationship Id="rId11" Type="http://schemas.openxmlformats.org/officeDocument/2006/relationships/slideLayout" Target="../slideLayouts/slideLayout766.xml"/><Relationship Id="rId12" Type="http://schemas.openxmlformats.org/officeDocument/2006/relationships/slideLayout" Target="../slideLayouts/slideLayout767.xml"/><Relationship Id="rId13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slideLayout" Target="../slideLayouts/slideLayout769.xml"/><Relationship Id="rId3" Type="http://schemas.openxmlformats.org/officeDocument/2006/relationships/slideLayout" Target="../slideLayouts/slideLayout770.xml"/><Relationship Id="rId4" Type="http://schemas.openxmlformats.org/officeDocument/2006/relationships/slideLayout" Target="../slideLayouts/slideLayout771.xml"/><Relationship Id="rId5" Type="http://schemas.openxmlformats.org/officeDocument/2006/relationships/slideLayout" Target="../slideLayouts/slideLayout772.xml"/><Relationship Id="rId6" Type="http://schemas.openxmlformats.org/officeDocument/2006/relationships/slideLayout" Target="../slideLayouts/slideLayout773.xml"/><Relationship Id="rId7" Type="http://schemas.openxmlformats.org/officeDocument/2006/relationships/slideLayout" Target="../slideLayouts/slideLayout774.xml"/><Relationship Id="rId8" Type="http://schemas.openxmlformats.org/officeDocument/2006/relationships/slideLayout" Target="../slideLayouts/slideLayout775.xml"/><Relationship Id="rId9" Type="http://schemas.openxmlformats.org/officeDocument/2006/relationships/slideLayout" Target="../slideLayouts/slideLayout776.xml"/><Relationship Id="rId10" Type="http://schemas.openxmlformats.org/officeDocument/2006/relationships/slideLayout" Target="../slideLayouts/slideLayout777.xml"/><Relationship Id="rId11" Type="http://schemas.openxmlformats.org/officeDocument/2006/relationships/slideLayout" Target="../slideLayouts/slideLayout778.xml"/><Relationship Id="rId12" Type="http://schemas.openxmlformats.org/officeDocument/2006/relationships/slideLayout" Target="../slideLayouts/slideLayout779.xml"/><Relationship Id="rId13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slideLayout" Target="../slideLayouts/slideLayout781.xml"/><Relationship Id="rId3" Type="http://schemas.openxmlformats.org/officeDocument/2006/relationships/slideLayout" Target="../slideLayouts/slideLayout782.xml"/><Relationship Id="rId4" Type="http://schemas.openxmlformats.org/officeDocument/2006/relationships/slideLayout" Target="../slideLayouts/slideLayout783.xml"/><Relationship Id="rId5" Type="http://schemas.openxmlformats.org/officeDocument/2006/relationships/slideLayout" Target="../slideLayouts/slideLayout784.xml"/><Relationship Id="rId6" Type="http://schemas.openxmlformats.org/officeDocument/2006/relationships/slideLayout" Target="../slideLayouts/slideLayout785.xml"/><Relationship Id="rId7" Type="http://schemas.openxmlformats.org/officeDocument/2006/relationships/slideLayout" Target="../slideLayouts/slideLayout786.xml"/><Relationship Id="rId8" Type="http://schemas.openxmlformats.org/officeDocument/2006/relationships/slideLayout" Target="../slideLayouts/slideLayout787.xml"/><Relationship Id="rId9" Type="http://schemas.openxmlformats.org/officeDocument/2006/relationships/slideLayout" Target="../slideLayouts/slideLayout788.xml"/><Relationship Id="rId10" Type="http://schemas.openxmlformats.org/officeDocument/2006/relationships/slideLayout" Target="../slideLayouts/slideLayout789.xml"/><Relationship Id="rId11" Type="http://schemas.openxmlformats.org/officeDocument/2006/relationships/slideLayout" Target="../slideLayouts/slideLayout790.xml"/><Relationship Id="rId12" Type="http://schemas.openxmlformats.org/officeDocument/2006/relationships/slideLayout" Target="../slideLayouts/slideLayout791.xml"/><Relationship Id="rId13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slideLayout" Target="../slideLayouts/slideLayout793.xml"/><Relationship Id="rId3" Type="http://schemas.openxmlformats.org/officeDocument/2006/relationships/slideLayout" Target="../slideLayouts/slideLayout794.xml"/><Relationship Id="rId4" Type="http://schemas.openxmlformats.org/officeDocument/2006/relationships/slideLayout" Target="../slideLayouts/slideLayout795.xml"/><Relationship Id="rId5" Type="http://schemas.openxmlformats.org/officeDocument/2006/relationships/slideLayout" Target="../slideLayouts/slideLayout796.xml"/><Relationship Id="rId6" Type="http://schemas.openxmlformats.org/officeDocument/2006/relationships/slideLayout" Target="../slideLayouts/slideLayout797.xml"/><Relationship Id="rId7" Type="http://schemas.openxmlformats.org/officeDocument/2006/relationships/slideLayout" Target="../slideLayouts/slideLayout798.xml"/><Relationship Id="rId8" Type="http://schemas.openxmlformats.org/officeDocument/2006/relationships/slideLayout" Target="../slideLayouts/slideLayout799.xml"/><Relationship Id="rId9" Type="http://schemas.openxmlformats.org/officeDocument/2006/relationships/slideLayout" Target="../slideLayouts/slideLayout800.xml"/><Relationship Id="rId10" Type="http://schemas.openxmlformats.org/officeDocument/2006/relationships/slideLayout" Target="../slideLayouts/slideLayout801.xml"/><Relationship Id="rId11" Type="http://schemas.openxmlformats.org/officeDocument/2006/relationships/slideLayout" Target="../slideLayouts/slideLayout802.xml"/><Relationship Id="rId12" Type="http://schemas.openxmlformats.org/officeDocument/2006/relationships/slideLayout" Target="../slideLayouts/slideLayout803.xml"/><Relationship Id="rId13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slideLayout" Target="../slideLayouts/slideLayout805.xml"/><Relationship Id="rId3" Type="http://schemas.openxmlformats.org/officeDocument/2006/relationships/slideLayout" Target="../slideLayouts/slideLayout806.xml"/><Relationship Id="rId4" Type="http://schemas.openxmlformats.org/officeDocument/2006/relationships/slideLayout" Target="../slideLayouts/slideLayout807.xml"/><Relationship Id="rId5" Type="http://schemas.openxmlformats.org/officeDocument/2006/relationships/slideLayout" Target="../slideLayouts/slideLayout808.xml"/><Relationship Id="rId6" Type="http://schemas.openxmlformats.org/officeDocument/2006/relationships/slideLayout" Target="../slideLayouts/slideLayout809.xml"/><Relationship Id="rId7" Type="http://schemas.openxmlformats.org/officeDocument/2006/relationships/slideLayout" Target="../slideLayouts/slideLayout810.xml"/><Relationship Id="rId8" Type="http://schemas.openxmlformats.org/officeDocument/2006/relationships/slideLayout" Target="../slideLayouts/slideLayout811.xml"/><Relationship Id="rId9" Type="http://schemas.openxmlformats.org/officeDocument/2006/relationships/slideLayout" Target="../slideLayouts/slideLayout812.xml"/><Relationship Id="rId10" Type="http://schemas.openxmlformats.org/officeDocument/2006/relationships/slideLayout" Target="../slideLayouts/slideLayout813.xml"/><Relationship Id="rId11" Type="http://schemas.openxmlformats.org/officeDocument/2006/relationships/slideLayout" Target="../slideLayouts/slideLayout814.xml"/><Relationship Id="rId12" Type="http://schemas.openxmlformats.org/officeDocument/2006/relationships/slideLayout" Target="../slideLayouts/slideLayout815.xml"/><Relationship Id="rId13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slideLayout" Target="../slideLayouts/slideLayout817.xml"/><Relationship Id="rId3" Type="http://schemas.openxmlformats.org/officeDocument/2006/relationships/slideLayout" Target="../slideLayouts/slideLayout818.xml"/><Relationship Id="rId4" Type="http://schemas.openxmlformats.org/officeDocument/2006/relationships/slideLayout" Target="../slideLayouts/slideLayout819.xml"/><Relationship Id="rId5" Type="http://schemas.openxmlformats.org/officeDocument/2006/relationships/slideLayout" Target="../slideLayouts/slideLayout820.xml"/><Relationship Id="rId6" Type="http://schemas.openxmlformats.org/officeDocument/2006/relationships/slideLayout" Target="../slideLayouts/slideLayout821.xml"/><Relationship Id="rId7" Type="http://schemas.openxmlformats.org/officeDocument/2006/relationships/slideLayout" Target="../slideLayouts/slideLayout822.xml"/><Relationship Id="rId8" Type="http://schemas.openxmlformats.org/officeDocument/2006/relationships/slideLayout" Target="../slideLayouts/slideLayout823.xml"/><Relationship Id="rId9" Type="http://schemas.openxmlformats.org/officeDocument/2006/relationships/slideLayout" Target="../slideLayouts/slideLayout824.xml"/><Relationship Id="rId10" Type="http://schemas.openxmlformats.org/officeDocument/2006/relationships/slideLayout" Target="../slideLayouts/slideLayout825.xml"/><Relationship Id="rId11" Type="http://schemas.openxmlformats.org/officeDocument/2006/relationships/slideLayout" Target="../slideLayouts/slideLayout826.xml"/><Relationship Id="rId12" Type="http://schemas.openxmlformats.org/officeDocument/2006/relationships/slideLayout" Target="../slideLayouts/slideLayout827.xml"/><Relationship Id="rId13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slideLayout" Target="../slideLayouts/slideLayout829.xml"/><Relationship Id="rId3" Type="http://schemas.openxmlformats.org/officeDocument/2006/relationships/slideLayout" Target="../slideLayouts/slideLayout830.xml"/><Relationship Id="rId4" Type="http://schemas.openxmlformats.org/officeDocument/2006/relationships/slideLayout" Target="../slideLayouts/slideLayout831.xml"/><Relationship Id="rId5" Type="http://schemas.openxmlformats.org/officeDocument/2006/relationships/slideLayout" Target="../slideLayouts/slideLayout832.xml"/><Relationship Id="rId6" Type="http://schemas.openxmlformats.org/officeDocument/2006/relationships/slideLayout" Target="../slideLayouts/slideLayout833.xml"/><Relationship Id="rId7" Type="http://schemas.openxmlformats.org/officeDocument/2006/relationships/slideLayout" Target="../slideLayouts/slideLayout834.xml"/><Relationship Id="rId8" Type="http://schemas.openxmlformats.org/officeDocument/2006/relationships/slideLayout" Target="../slideLayouts/slideLayout835.xml"/><Relationship Id="rId9" Type="http://schemas.openxmlformats.org/officeDocument/2006/relationships/slideLayout" Target="../slideLayouts/slideLayout836.xml"/><Relationship Id="rId10" Type="http://schemas.openxmlformats.org/officeDocument/2006/relationships/slideLayout" Target="../slideLayouts/slideLayout837.xml"/><Relationship Id="rId11" Type="http://schemas.openxmlformats.org/officeDocument/2006/relationships/slideLayout" Target="../slideLayouts/slideLayout838.xml"/><Relationship Id="rId12" Type="http://schemas.openxmlformats.org/officeDocument/2006/relationships/slideLayout" Target="../slideLayouts/slideLayout839.xml"/><Relationship Id="rId13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slideLayout" Target="../slideLayouts/slideLayout841.xml"/><Relationship Id="rId3" Type="http://schemas.openxmlformats.org/officeDocument/2006/relationships/slideLayout" Target="../slideLayouts/slideLayout842.xml"/><Relationship Id="rId4" Type="http://schemas.openxmlformats.org/officeDocument/2006/relationships/slideLayout" Target="../slideLayouts/slideLayout843.xml"/><Relationship Id="rId5" Type="http://schemas.openxmlformats.org/officeDocument/2006/relationships/slideLayout" Target="../slideLayouts/slideLayout844.xml"/><Relationship Id="rId6" Type="http://schemas.openxmlformats.org/officeDocument/2006/relationships/slideLayout" Target="../slideLayouts/slideLayout845.xml"/><Relationship Id="rId7" Type="http://schemas.openxmlformats.org/officeDocument/2006/relationships/slideLayout" Target="../slideLayouts/slideLayout846.xml"/><Relationship Id="rId8" Type="http://schemas.openxmlformats.org/officeDocument/2006/relationships/slideLayout" Target="../slideLayouts/slideLayout847.xml"/><Relationship Id="rId9" Type="http://schemas.openxmlformats.org/officeDocument/2006/relationships/slideLayout" Target="../slideLayouts/slideLayout848.xml"/><Relationship Id="rId10" Type="http://schemas.openxmlformats.org/officeDocument/2006/relationships/slideLayout" Target="../slideLayouts/slideLayout849.xml"/><Relationship Id="rId11" Type="http://schemas.openxmlformats.org/officeDocument/2006/relationships/slideLayout" Target="../slideLayouts/slideLayout850.xml"/><Relationship Id="rId12" Type="http://schemas.openxmlformats.org/officeDocument/2006/relationships/slideLayout" Target="../slideLayouts/slideLayout851.xml"/><Relationship Id="rId13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slideLayout" Target="../slideLayouts/slideLayout853.xml"/><Relationship Id="rId3" Type="http://schemas.openxmlformats.org/officeDocument/2006/relationships/slideLayout" Target="../slideLayouts/slideLayout854.xml"/><Relationship Id="rId4" Type="http://schemas.openxmlformats.org/officeDocument/2006/relationships/slideLayout" Target="../slideLayouts/slideLayout855.xml"/><Relationship Id="rId5" Type="http://schemas.openxmlformats.org/officeDocument/2006/relationships/slideLayout" Target="../slideLayouts/slideLayout856.xml"/><Relationship Id="rId6" Type="http://schemas.openxmlformats.org/officeDocument/2006/relationships/slideLayout" Target="../slideLayouts/slideLayout857.xml"/><Relationship Id="rId7" Type="http://schemas.openxmlformats.org/officeDocument/2006/relationships/slideLayout" Target="../slideLayouts/slideLayout858.xml"/><Relationship Id="rId8" Type="http://schemas.openxmlformats.org/officeDocument/2006/relationships/slideLayout" Target="../slideLayouts/slideLayout859.xml"/><Relationship Id="rId9" Type="http://schemas.openxmlformats.org/officeDocument/2006/relationships/slideLayout" Target="../slideLayouts/slideLayout860.xml"/><Relationship Id="rId10" Type="http://schemas.openxmlformats.org/officeDocument/2006/relationships/slideLayout" Target="../slideLayouts/slideLayout861.xml"/><Relationship Id="rId11" Type="http://schemas.openxmlformats.org/officeDocument/2006/relationships/slideLayout" Target="../slideLayouts/slideLayout862.xml"/><Relationship Id="rId12" Type="http://schemas.openxmlformats.org/officeDocument/2006/relationships/slideLayout" Target="../slideLayouts/slideLayout863.xml"/><Relationship Id="rId13" Type="http://schemas.openxmlformats.org/officeDocument/2006/relationships/slideLayout" Target="../slideLayouts/slideLayout864.xml"/>
</Relationships>
</file>

<file path=ppt/slideMasters/_rels/slideMaster73.xml.rels><?xml version="1.0" encoding="UTF-8"?>
<Relationships xmlns="http://schemas.openxmlformats.org/package/2006/relationships"><Relationship Id="rId1" Type="http://schemas.openxmlformats.org/officeDocument/2006/relationships/theme" Target="../theme/theme73.xml"/><Relationship Id="rId2" Type="http://schemas.openxmlformats.org/officeDocument/2006/relationships/slideLayout" Target="../slideLayouts/slideLayout865.xml"/><Relationship Id="rId3" Type="http://schemas.openxmlformats.org/officeDocument/2006/relationships/slideLayout" Target="../slideLayouts/slideLayout866.xml"/><Relationship Id="rId4" Type="http://schemas.openxmlformats.org/officeDocument/2006/relationships/slideLayout" Target="../slideLayouts/slideLayout867.xml"/><Relationship Id="rId5" Type="http://schemas.openxmlformats.org/officeDocument/2006/relationships/slideLayout" Target="../slideLayouts/slideLayout868.xml"/><Relationship Id="rId6" Type="http://schemas.openxmlformats.org/officeDocument/2006/relationships/slideLayout" Target="../slideLayouts/slideLayout869.xml"/><Relationship Id="rId7" Type="http://schemas.openxmlformats.org/officeDocument/2006/relationships/slideLayout" Target="../slideLayouts/slideLayout870.xml"/><Relationship Id="rId8" Type="http://schemas.openxmlformats.org/officeDocument/2006/relationships/slideLayout" Target="../slideLayouts/slideLayout871.xml"/><Relationship Id="rId9" Type="http://schemas.openxmlformats.org/officeDocument/2006/relationships/slideLayout" Target="../slideLayouts/slideLayout872.xml"/><Relationship Id="rId10" Type="http://schemas.openxmlformats.org/officeDocument/2006/relationships/slideLayout" Target="../slideLayouts/slideLayout873.xml"/><Relationship Id="rId11" Type="http://schemas.openxmlformats.org/officeDocument/2006/relationships/slideLayout" Target="../slideLayouts/slideLayout874.xml"/><Relationship Id="rId12" Type="http://schemas.openxmlformats.org/officeDocument/2006/relationships/slideLayout" Target="../slideLayouts/slideLayout875.xml"/><Relationship Id="rId13" Type="http://schemas.openxmlformats.org/officeDocument/2006/relationships/slideLayout" Target="../slideLayouts/slideLayout876.xml"/>
</Relationships>
</file>

<file path=ppt/slideMasters/_rels/slideMaster74.xml.rels><?xml version="1.0" encoding="UTF-8"?>
<Relationships xmlns="http://schemas.openxmlformats.org/package/2006/relationships"><Relationship Id="rId1" Type="http://schemas.openxmlformats.org/officeDocument/2006/relationships/theme" Target="../theme/theme74.xml"/><Relationship Id="rId2" Type="http://schemas.openxmlformats.org/officeDocument/2006/relationships/slideLayout" Target="../slideLayouts/slideLayout877.xml"/><Relationship Id="rId3" Type="http://schemas.openxmlformats.org/officeDocument/2006/relationships/slideLayout" Target="../slideLayouts/slideLayout878.xml"/><Relationship Id="rId4" Type="http://schemas.openxmlformats.org/officeDocument/2006/relationships/slideLayout" Target="../slideLayouts/slideLayout879.xml"/><Relationship Id="rId5" Type="http://schemas.openxmlformats.org/officeDocument/2006/relationships/slideLayout" Target="../slideLayouts/slideLayout880.xml"/><Relationship Id="rId6" Type="http://schemas.openxmlformats.org/officeDocument/2006/relationships/slideLayout" Target="../slideLayouts/slideLayout881.xml"/><Relationship Id="rId7" Type="http://schemas.openxmlformats.org/officeDocument/2006/relationships/slideLayout" Target="../slideLayouts/slideLayout882.xml"/><Relationship Id="rId8" Type="http://schemas.openxmlformats.org/officeDocument/2006/relationships/slideLayout" Target="../slideLayouts/slideLayout883.xml"/><Relationship Id="rId9" Type="http://schemas.openxmlformats.org/officeDocument/2006/relationships/slideLayout" Target="../slideLayouts/slideLayout884.xml"/><Relationship Id="rId10" Type="http://schemas.openxmlformats.org/officeDocument/2006/relationships/slideLayout" Target="../slideLayouts/slideLayout885.xml"/><Relationship Id="rId11" Type="http://schemas.openxmlformats.org/officeDocument/2006/relationships/slideLayout" Target="../slideLayouts/slideLayout886.xml"/><Relationship Id="rId12" Type="http://schemas.openxmlformats.org/officeDocument/2006/relationships/slideLayout" Target="../slideLayouts/slideLayout887.xml"/><Relationship Id="rId13" Type="http://schemas.openxmlformats.org/officeDocument/2006/relationships/slideLayout" Target="../slideLayouts/slideLayout888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699E3-614B-441C-B125-966B9B5B491E}" type="slidenum">
              <a:rPr b="0" lang="ar-SA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7AAC5-98A1-4FC4-B6EC-CCC430849FE1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9C55C-3D9A-482C-BFEF-658F19E2F71A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0ED18-7CB8-4409-86DB-49EE422818F5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DB4E1-30BF-4EF4-BAAE-23660D8EE34B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A2DD6-A2F2-4EF0-A0C7-C95DEACF7F94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1C681-A0F1-4003-A1CA-303692D8418A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79CA7-5E58-4BC6-BB46-4D9CFC24B594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C6D57-713F-4C33-AD27-28BCBF3069AE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3121F-E99B-4AB8-889F-0C417D518E3A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9B55D-F411-43C5-BA41-674820EEA6D2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6DA37-69D1-4A41-B6BD-09E4EF65B59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4B2F4-A47D-4F25-9ED5-E8A2C1E9318E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DBD23-7CCC-4B7B-A592-C72C475C7FB5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D73E7-01B4-40AE-956C-3A1381626E6B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E6A68-342B-42DB-A700-DB2DD9B89643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1D6AD-569B-4A47-B68F-7A49F8EDE4AB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8C151-BF18-4DBD-B6F6-F76CD3F5A813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00BBC-0B54-4784-B75D-CAF8CD5E82F0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36FB9-D8C1-44B2-B488-39BB10D03DC6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E1EE7-6129-4C7A-8692-8A89767CE769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F7477-BACA-4C8C-8DB6-29D239439273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E6D8E-D576-4735-988D-508B050A83B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8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8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9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8D1D3-36FB-4641-9054-88383B4C099C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9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9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9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1E6E8-B9BF-432F-ADEF-FCCA990A84CB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9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9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9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66CB9-4093-487B-AD10-00D274A0F02B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27E08-E2EE-4EC6-9653-81F9B184E7D3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dt" idx="10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ftr" idx="10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sldNum" idx="10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57F1A-DF9A-4743-B1AD-B2E107907BC1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10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ftr" idx="10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 type="sldNum" idx="10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4C6EA-5C19-498F-AD63-9638F63D969C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 type="dt" idx="10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 type="ftr" idx="10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 type="sldNum" idx="10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83D78-6A0C-4146-B3FE-90296AEDF772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 type="dt" idx="10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 type="ftr" idx="1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0" name="PlaceHolder 5"/>
          <p:cNvSpPr>
            <a:spLocks noGrp="1"/>
          </p:cNvSpPr>
          <p:nvPr>
            <p:ph type="sldNum" idx="1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D0C12-ACF2-4083-A7C9-9087705E6BFD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 type="dt" idx="1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PlaceHolder 4"/>
          <p:cNvSpPr>
            <a:spLocks noGrp="1"/>
          </p:cNvSpPr>
          <p:nvPr>
            <p:ph type="ftr" idx="1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PlaceHolder 5"/>
          <p:cNvSpPr>
            <a:spLocks noGrp="1"/>
          </p:cNvSpPr>
          <p:nvPr>
            <p:ph type="sldNum" idx="1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78E4A-6692-4AEF-9F42-EEC11C3DAE1D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 type="dt" idx="1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 type="ftr" idx="1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2" name="PlaceHolder 5"/>
          <p:cNvSpPr>
            <a:spLocks noGrp="1"/>
          </p:cNvSpPr>
          <p:nvPr>
            <p:ph type="sldNum" idx="1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CE02B-5E24-45AC-82C4-77BA724D7CB5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CC94A-854B-4244-8C2F-8E936D79407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 type="dt" idx="1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 type="ftr" idx="1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3" name="PlaceHolder 5"/>
          <p:cNvSpPr>
            <a:spLocks noGrp="1"/>
          </p:cNvSpPr>
          <p:nvPr>
            <p:ph type="sldNum" idx="12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2687E-B627-4B4D-BF85-059CE0E8608B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 type="dt" idx="1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3" name="PlaceHolder 4"/>
          <p:cNvSpPr>
            <a:spLocks noGrp="1"/>
          </p:cNvSpPr>
          <p:nvPr>
            <p:ph type="ftr" idx="1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4" name="PlaceHolder 5"/>
          <p:cNvSpPr>
            <a:spLocks noGrp="1"/>
          </p:cNvSpPr>
          <p:nvPr>
            <p:ph type="sldNum" idx="1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68053-DBA9-47B0-AA5F-63177749CA52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PlaceHolder 3"/>
          <p:cNvSpPr>
            <a:spLocks noGrp="1"/>
          </p:cNvSpPr>
          <p:nvPr>
            <p:ph type="dt" idx="1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PlaceHolder 4"/>
          <p:cNvSpPr>
            <a:spLocks noGrp="1"/>
          </p:cNvSpPr>
          <p:nvPr>
            <p:ph type="ftr" idx="12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PlaceHolder 5"/>
          <p:cNvSpPr>
            <a:spLocks noGrp="1"/>
          </p:cNvSpPr>
          <p:nvPr>
            <p:ph type="sldNum" idx="12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85C80-7098-41CC-B968-4C0481491A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PlaceHolder 3"/>
          <p:cNvSpPr>
            <a:spLocks noGrp="1"/>
          </p:cNvSpPr>
          <p:nvPr>
            <p:ph type="dt" idx="1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5" name="PlaceHolder 4"/>
          <p:cNvSpPr>
            <a:spLocks noGrp="1"/>
          </p:cNvSpPr>
          <p:nvPr>
            <p:ph type="ftr" idx="1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6" name="PlaceHolder 5"/>
          <p:cNvSpPr>
            <a:spLocks noGrp="1"/>
          </p:cNvSpPr>
          <p:nvPr>
            <p:ph type="sldNum" idx="12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99D84-6775-4BDC-865D-FBAF92975D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3"/>
          <p:cNvSpPr>
            <a:spLocks noGrp="1"/>
          </p:cNvSpPr>
          <p:nvPr>
            <p:ph type="dt" idx="1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PlaceHolder 4"/>
          <p:cNvSpPr>
            <a:spLocks noGrp="1"/>
          </p:cNvSpPr>
          <p:nvPr>
            <p:ph type="ftr" idx="13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PlaceHolder 5"/>
          <p:cNvSpPr>
            <a:spLocks noGrp="1"/>
          </p:cNvSpPr>
          <p:nvPr>
            <p:ph type="sldNum" idx="13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B164E-AE3D-449A-865F-53DDBFE2B9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PlaceHolder 3"/>
          <p:cNvSpPr>
            <a:spLocks noGrp="1"/>
          </p:cNvSpPr>
          <p:nvPr>
            <p:ph type="dt" idx="13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7" name="PlaceHolder 4"/>
          <p:cNvSpPr>
            <a:spLocks noGrp="1"/>
          </p:cNvSpPr>
          <p:nvPr>
            <p:ph type="ftr" idx="13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8" name="PlaceHolder 5"/>
          <p:cNvSpPr>
            <a:spLocks noGrp="1"/>
          </p:cNvSpPr>
          <p:nvPr>
            <p:ph type="sldNum" idx="13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702E7-CD35-4079-822A-E69EE9CA94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PlaceHolder 3"/>
          <p:cNvSpPr>
            <a:spLocks noGrp="1"/>
          </p:cNvSpPr>
          <p:nvPr>
            <p:ph type="dt" idx="1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8" name="PlaceHolder 4"/>
          <p:cNvSpPr>
            <a:spLocks noGrp="1"/>
          </p:cNvSpPr>
          <p:nvPr>
            <p:ph type="ftr" idx="13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9" name="PlaceHolder 5"/>
          <p:cNvSpPr>
            <a:spLocks noGrp="1"/>
          </p:cNvSpPr>
          <p:nvPr>
            <p:ph type="sldNum" idx="13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CA5EC-3400-4DEB-9DFC-5B27FCB96E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PlaceHolder 3"/>
          <p:cNvSpPr>
            <a:spLocks noGrp="1"/>
          </p:cNvSpPr>
          <p:nvPr>
            <p:ph type="dt" idx="13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PlaceHolder 4"/>
          <p:cNvSpPr>
            <a:spLocks noGrp="1"/>
          </p:cNvSpPr>
          <p:nvPr>
            <p:ph type="ftr" idx="14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PlaceHolder 5"/>
          <p:cNvSpPr>
            <a:spLocks noGrp="1"/>
          </p:cNvSpPr>
          <p:nvPr>
            <p:ph type="sldNum" idx="14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5AFD0-8E99-4475-912A-FF9A3B19A4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PlaceHolder 3"/>
          <p:cNvSpPr>
            <a:spLocks noGrp="1"/>
          </p:cNvSpPr>
          <p:nvPr>
            <p:ph type="dt" idx="14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0" name="PlaceHolder 4"/>
          <p:cNvSpPr>
            <a:spLocks noGrp="1"/>
          </p:cNvSpPr>
          <p:nvPr>
            <p:ph type="ftr" idx="14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1" name="PlaceHolder 5"/>
          <p:cNvSpPr>
            <a:spLocks noGrp="1"/>
          </p:cNvSpPr>
          <p:nvPr>
            <p:ph type="sldNum" idx="14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2ACCA-929D-4235-BC7C-E3C6D07B4D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PlaceHolder 3"/>
          <p:cNvSpPr>
            <a:spLocks noGrp="1"/>
          </p:cNvSpPr>
          <p:nvPr>
            <p:ph type="dt" idx="14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1" name="PlaceHolder 4"/>
          <p:cNvSpPr>
            <a:spLocks noGrp="1"/>
          </p:cNvSpPr>
          <p:nvPr>
            <p:ph type="ftr" idx="14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2" name="PlaceHolder 5"/>
          <p:cNvSpPr>
            <a:spLocks noGrp="1"/>
          </p:cNvSpPr>
          <p:nvPr>
            <p:ph type="sldNum" idx="14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D9842-E598-49E8-B529-5F7589B795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9CC4E-7D50-47E7-B8C0-1B498648A9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PlaceHolder 3"/>
          <p:cNvSpPr>
            <a:spLocks noGrp="1"/>
          </p:cNvSpPr>
          <p:nvPr>
            <p:ph type="dt" idx="14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2" name="PlaceHolder 4"/>
          <p:cNvSpPr>
            <a:spLocks noGrp="1"/>
          </p:cNvSpPr>
          <p:nvPr>
            <p:ph type="ftr" idx="14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3" name="PlaceHolder 5"/>
          <p:cNvSpPr>
            <a:spLocks noGrp="1"/>
          </p:cNvSpPr>
          <p:nvPr>
            <p:ph type="sldNum" idx="15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249DF-3365-4E79-9939-F5544B1685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PlaceHolder 3"/>
          <p:cNvSpPr>
            <a:spLocks noGrp="1"/>
          </p:cNvSpPr>
          <p:nvPr>
            <p:ph type="dt" idx="15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PlaceHolder 4"/>
          <p:cNvSpPr>
            <a:spLocks noGrp="1"/>
          </p:cNvSpPr>
          <p:nvPr>
            <p:ph type="ftr" idx="15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PlaceHolder 5"/>
          <p:cNvSpPr>
            <a:spLocks noGrp="1"/>
          </p:cNvSpPr>
          <p:nvPr>
            <p:ph type="sldNum" idx="15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E5F79-2F7A-4B82-9C59-2736F2212B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PlaceHolder 3"/>
          <p:cNvSpPr>
            <a:spLocks noGrp="1"/>
          </p:cNvSpPr>
          <p:nvPr>
            <p:ph type="dt" idx="15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PlaceHolder 4"/>
          <p:cNvSpPr>
            <a:spLocks noGrp="1"/>
          </p:cNvSpPr>
          <p:nvPr>
            <p:ph type="ftr" idx="15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PlaceHolder 5"/>
          <p:cNvSpPr>
            <a:spLocks noGrp="1"/>
          </p:cNvSpPr>
          <p:nvPr>
            <p:ph type="sldNum" idx="15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6E821-8666-434B-B464-597916EC61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PlaceHolder 3"/>
          <p:cNvSpPr>
            <a:spLocks noGrp="1"/>
          </p:cNvSpPr>
          <p:nvPr>
            <p:ph type="dt" idx="15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PlaceHolder 4"/>
          <p:cNvSpPr>
            <a:spLocks noGrp="1"/>
          </p:cNvSpPr>
          <p:nvPr>
            <p:ph type="ftr" idx="15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PlaceHolder 5"/>
          <p:cNvSpPr>
            <a:spLocks noGrp="1"/>
          </p:cNvSpPr>
          <p:nvPr>
            <p:ph type="sldNum" idx="15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87461-397C-43CB-968C-96E44C7453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PlaceHolder 3"/>
          <p:cNvSpPr>
            <a:spLocks noGrp="1"/>
          </p:cNvSpPr>
          <p:nvPr>
            <p:ph type="dt" idx="16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6" name="PlaceHolder 4"/>
          <p:cNvSpPr>
            <a:spLocks noGrp="1"/>
          </p:cNvSpPr>
          <p:nvPr>
            <p:ph type="ftr" idx="16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7" name="PlaceHolder 5"/>
          <p:cNvSpPr>
            <a:spLocks noGrp="1"/>
          </p:cNvSpPr>
          <p:nvPr>
            <p:ph type="sldNum" idx="16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5AAFF-62F5-4252-9B50-69EFCB963C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PlaceHolder 3"/>
          <p:cNvSpPr>
            <a:spLocks noGrp="1"/>
          </p:cNvSpPr>
          <p:nvPr>
            <p:ph type="dt" idx="16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PlaceHolder 4"/>
          <p:cNvSpPr>
            <a:spLocks noGrp="1"/>
          </p:cNvSpPr>
          <p:nvPr>
            <p:ph type="ftr" idx="16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PlaceHolder 5"/>
          <p:cNvSpPr>
            <a:spLocks noGrp="1"/>
          </p:cNvSpPr>
          <p:nvPr>
            <p:ph type="sldNum" idx="16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30443-E3FD-41D2-B254-D0A5227A14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PlaceHolder 3"/>
          <p:cNvSpPr>
            <a:spLocks noGrp="1"/>
          </p:cNvSpPr>
          <p:nvPr>
            <p:ph type="dt" idx="16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8" name="PlaceHolder 4"/>
          <p:cNvSpPr>
            <a:spLocks noGrp="1"/>
          </p:cNvSpPr>
          <p:nvPr>
            <p:ph type="ftr" idx="16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9" name="PlaceHolder 5"/>
          <p:cNvSpPr>
            <a:spLocks noGrp="1"/>
          </p:cNvSpPr>
          <p:nvPr>
            <p:ph type="sldNum" idx="16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95A19-68DA-47B0-958D-3B9B898E40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8" name="PlaceHolder 3"/>
          <p:cNvSpPr>
            <a:spLocks noGrp="1"/>
          </p:cNvSpPr>
          <p:nvPr>
            <p:ph type="dt" idx="16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9" name="PlaceHolder 4"/>
          <p:cNvSpPr>
            <a:spLocks noGrp="1"/>
          </p:cNvSpPr>
          <p:nvPr>
            <p:ph type="ftr" idx="17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5"/>
          <p:cNvSpPr>
            <a:spLocks noGrp="1"/>
          </p:cNvSpPr>
          <p:nvPr>
            <p:ph type="sldNum" idx="17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0CF76-F9A5-4A9E-9F47-7FE8BDBAC0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PlaceHolder 3"/>
          <p:cNvSpPr>
            <a:spLocks noGrp="1"/>
          </p:cNvSpPr>
          <p:nvPr>
            <p:ph type="dt" idx="17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0" name="PlaceHolder 4"/>
          <p:cNvSpPr>
            <a:spLocks noGrp="1"/>
          </p:cNvSpPr>
          <p:nvPr>
            <p:ph type="ftr" idx="17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1" name="PlaceHolder 5"/>
          <p:cNvSpPr>
            <a:spLocks noGrp="1"/>
          </p:cNvSpPr>
          <p:nvPr>
            <p:ph type="sldNum" idx="17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63F66-6192-4CDD-99F0-4EEBECDF7A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2"/>
    <p:sldLayoutId id="2147484391" r:id="rId3"/>
    <p:sldLayoutId id="2147484392" r:id="rId4"/>
    <p:sldLayoutId id="2147484393" r:id="rId5"/>
    <p:sldLayoutId id="2147484394" r:id="rId6"/>
    <p:sldLayoutId id="2147484395" r:id="rId7"/>
    <p:sldLayoutId id="2147484396" r:id="rId8"/>
    <p:sldLayoutId id="2147484397" r:id="rId9"/>
    <p:sldLayoutId id="2147484398" r:id="rId10"/>
    <p:sldLayoutId id="2147484399" r:id="rId11"/>
    <p:sldLayoutId id="2147484400" r:id="rId12"/>
    <p:sldLayoutId id="2147484401" r:id="rId13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0" name="PlaceHolder 3"/>
          <p:cNvSpPr>
            <a:spLocks noGrp="1"/>
          </p:cNvSpPr>
          <p:nvPr>
            <p:ph type="dt" idx="17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1" name="PlaceHolder 4"/>
          <p:cNvSpPr>
            <a:spLocks noGrp="1"/>
          </p:cNvSpPr>
          <p:nvPr>
            <p:ph type="ftr" idx="17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2" name="PlaceHolder 5"/>
          <p:cNvSpPr>
            <a:spLocks noGrp="1"/>
          </p:cNvSpPr>
          <p:nvPr>
            <p:ph type="sldNum" idx="17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DABC4-FB69-41A3-973B-E58085B0B4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1370E-1063-4153-8F33-84B411DC48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1" name="PlaceHolder 3"/>
          <p:cNvSpPr>
            <a:spLocks noGrp="1"/>
          </p:cNvSpPr>
          <p:nvPr>
            <p:ph type="dt" idx="17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2" name="PlaceHolder 4"/>
          <p:cNvSpPr>
            <a:spLocks noGrp="1"/>
          </p:cNvSpPr>
          <p:nvPr>
            <p:ph type="ftr" idx="17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3" name="PlaceHolder 5"/>
          <p:cNvSpPr>
            <a:spLocks noGrp="1"/>
          </p:cNvSpPr>
          <p:nvPr>
            <p:ph type="sldNum" idx="18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30188-673D-401A-BD25-994628E085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2" name="PlaceHolder 3"/>
          <p:cNvSpPr>
            <a:spLocks noGrp="1"/>
          </p:cNvSpPr>
          <p:nvPr>
            <p:ph type="dt" idx="18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3" name="PlaceHolder 4"/>
          <p:cNvSpPr>
            <a:spLocks noGrp="1"/>
          </p:cNvSpPr>
          <p:nvPr>
            <p:ph type="ftr" idx="18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4" name="PlaceHolder 5"/>
          <p:cNvSpPr>
            <a:spLocks noGrp="1"/>
          </p:cNvSpPr>
          <p:nvPr>
            <p:ph type="sldNum" idx="18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691BC-A70E-479D-BE1F-0495206E02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2"/>
    <p:sldLayoutId id="2147484430" r:id="rId3"/>
    <p:sldLayoutId id="2147484431" r:id="rId4"/>
    <p:sldLayoutId id="2147484432" r:id="rId5"/>
    <p:sldLayoutId id="2147484433" r:id="rId6"/>
    <p:sldLayoutId id="2147484434" r:id="rId7"/>
    <p:sldLayoutId id="2147484435" r:id="rId8"/>
    <p:sldLayoutId id="2147484436" r:id="rId9"/>
    <p:sldLayoutId id="2147484437" r:id="rId10"/>
    <p:sldLayoutId id="2147484438" r:id="rId11"/>
    <p:sldLayoutId id="2147484439" r:id="rId12"/>
    <p:sldLayoutId id="2147484440" r:id="rId13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3" name="PlaceHolder 3"/>
          <p:cNvSpPr>
            <a:spLocks noGrp="1"/>
          </p:cNvSpPr>
          <p:nvPr>
            <p:ph type="dt" idx="18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4" name="PlaceHolder 4"/>
          <p:cNvSpPr>
            <a:spLocks noGrp="1"/>
          </p:cNvSpPr>
          <p:nvPr>
            <p:ph type="ftr" idx="18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5" name="PlaceHolder 5"/>
          <p:cNvSpPr>
            <a:spLocks noGrp="1"/>
          </p:cNvSpPr>
          <p:nvPr>
            <p:ph type="sldNum" idx="18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08425-A41D-4C1A-A573-4195CB8B0B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2"/>
    <p:sldLayoutId id="2147484443" r:id="rId3"/>
    <p:sldLayoutId id="2147484444" r:id="rId4"/>
    <p:sldLayoutId id="2147484445" r:id="rId5"/>
    <p:sldLayoutId id="2147484446" r:id="rId6"/>
    <p:sldLayoutId id="2147484447" r:id="rId7"/>
    <p:sldLayoutId id="2147484448" r:id="rId8"/>
    <p:sldLayoutId id="2147484449" r:id="rId9"/>
    <p:sldLayoutId id="2147484450" r:id="rId10"/>
    <p:sldLayoutId id="2147484451" r:id="rId11"/>
    <p:sldLayoutId id="2147484452" r:id="rId12"/>
    <p:sldLayoutId id="2147484453" r:id="rId13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4" name="PlaceHolder 3"/>
          <p:cNvSpPr>
            <a:spLocks noGrp="1"/>
          </p:cNvSpPr>
          <p:nvPr>
            <p:ph type="dt" idx="18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5" name="PlaceHolder 4"/>
          <p:cNvSpPr>
            <a:spLocks noGrp="1"/>
          </p:cNvSpPr>
          <p:nvPr>
            <p:ph type="ftr" idx="18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6" name="PlaceHolder 5"/>
          <p:cNvSpPr>
            <a:spLocks noGrp="1"/>
          </p:cNvSpPr>
          <p:nvPr>
            <p:ph type="sldNum" idx="18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6F4D6-119C-419B-B5A5-6EF80DFDDC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2"/>
    <p:sldLayoutId id="2147484456" r:id="rId3"/>
    <p:sldLayoutId id="2147484457" r:id="rId4"/>
    <p:sldLayoutId id="2147484458" r:id="rId5"/>
    <p:sldLayoutId id="2147484459" r:id="rId6"/>
    <p:sldLayoutId id="2147484460" r:id="rId7"/>
    <p:sldLayoutId id="2147484461" r:id="rId8"/>
    <p:sldLayoutId id="2147484462" r:id="rId9"/>
    <p:sldLayoutId id="2147484463" r:id="rId10"/>
    <p:sldLayoutId id="2147484464" r:id="rId11"/>
    <p:sldLayoutId id="2147484465" r:id="rId12"/>
    <p:sldLayoutId id="2147484466" r:id="rId13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5" name="PlaceHolder 3"/>
          <p:cNvSpPr>
            <a:spLocks noGrp="1"/>
          </p:cNvSpPr>
          <p:nvPr>
            <p:ph type="dt" idx="19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6" name="PlaceHolder 4"/>
          <p:cNvSpPr>
            <a:spLocks noGrp="1"/>
          </p:cNvSpPr>
          <p:nvPr>
            <p:ph type="ftr" idx="19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7" name="PlaceHolder 5"/>
          <p:cNvSpPr>
            <a:spLocks noGrp="1"/>
          </p:cNvSpPr>
          <p:nvPr>
            <p:ph type="sldNum" idx="19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F6084-2A17-4A70-A8C1-BF782DAC08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2"/>
    <p:sldLayoutId id="2147484469" r:id="rId3"/>
    <p:sldLayoutId id="2147484470" r:id="rId4"/>
    <p:sldLayoutId id="2147484471" r:id="rId5"/>
    <p:sldLayoutId id="2147484472" r:id="rId6"/>
    <p:sldLayoutId id="2147484473" r:id="rId7"/>
    <p:sldLayoutId id="2147484474" r:id="rId8"/>
    <p:sldLayoutId id="2147484475" r:id="rId9"/>
    <p:sldLayoutId id="2147484476" r:id="rId10"/>
    <p:sldLayoutId id="2147484477" r:id="rId11"/>
    <p:sldLayoutId id="2147484478" r:id="rId12"/>
    <p:sldLayoutId id="2147484479" r:id="rId13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6" name="PlaceHolder 3"/>
          <p:cNvSpPr>
            <a:spLocks noGrp="1"/>
          </p:cNvSpPr>
          <p:nvPr>
            <p:ph type="dt" idx="19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7" name="PlaceHolder 4"/>
          <p:cNvSpPr>
            <a:spLocks noGrp="1"/>
          </p:cNvSpPr>
          <p:nvPr>
            <p:ph type="ftr" idx="19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8" name="PlaceHolder 5"/>
          <p:cNvSpPr>
            <a:spLocks noGrp="1"/>
          </p:cNvSpPr>
          <p:nvPr>
            <p:ph type="sldNum" idx="19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9B5A8-ED14-4BB2-A520-2E154D9E0A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2"/>
    <p:sldLayoutId id="2147484482" r:id="rId3"/>
    <p:sldLayoutId id="2147484483" r:id="rId4"/>
    <p:sldLayoutId id="2147484484" r:id="rId5"/>
    <p:sldLayoutId id="2147484485" r:id="rId6"/>
    <p:sldLayoutId id="2147484486" r:id="rId7"/>
    <p:sldLayoutId id="2147484487" r:id="rId8"/>
    <p:sldLayoutId id="2147484488" r:id="rId9"/>
    <p:sldLayoutId id="2147484489" r:id="rId10"/>
    <p:sldLayoutId id="2147484490" r:id="rId11"/>
    <p:sldLayoutId id="2147484491" r:id="rId12"/>
    <p:sldLayoutId id="2147484492" r:id="rId13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7" name="PlaceHolder 3"/>
          <p:cNvSpPr>
            <a:spLocks noGrp="1"/>
          </p:cNvSpPr>
          <p:nvPr>
            <p:ph type="dt" idx="19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8" name="PlaceHolder 4"/>
          <p:cNvSpPr>
            <a:spLocks noGrp="1"/>
          </p:cNvSpPr>
          <p:nvPr>
            <p:ph type="ftr" idx="19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9" name="PlaceHolder 5"/>
          <p:cNvSpPr>
            <a:spLocks noGrp="1"/>
          </p:cNvSpPr>
          <p:nvPr>
            <p:ph type="sldNum" idx="19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481CD-C3B5-47B3-8517-DF1097E8D6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2"/>
    <p:sldLayoutId id="2147484495" r:id="rId3"/>
    <p:sldLayoutId id="2147484496" r:id="rId4"/>
    <p:sldLayoutId id="2147484497" r:id="rId5"/>
    <p:sldLayoutId id="2147484498" r:id="rId6"/>
    <p:sldLayoutId id="2147484499" r:id="rId7"/>
    <p:sldLayoutId id="2147484500" r:id="rId8"/>
    <p:sldLayoutId id="2147484501" r:id="rId9"/>
    <p:sldLayoutId id="2147484502" r:id="rId10"/>
    <p:sldLayoutId id="2147484503" r:id="rId11"/>
    <p:sldLayoutId id="2147484504" r:id="rId12"/>
    <p:sldLayoutId id="2147484505" r:id="rId13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8" name="PlaceHolder 3"/>
          <p:cNvSpPr>
            <a:spLocks noGrp="1"/>
          </p:cNvSpPr>
          <p:nvPr>
            <p:ph type="dt" idx="19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9" name="PlaceHolder 4"/>
          <p:cNvSpPr>
            <a:spLocks noGrp="1"/>
          </p:cNvSpPr>
          <p:nvPr>
            <p:ph type="ftr" idx="20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0" name="PlaceHolder 5"/>
          <p:cNvSpPr>
            <a:spLocks noGrp="1"/>
          </p:cNvSpPr>
          <p:nvPr>
            <p:ph type="sldNum" idx="20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EC699-E50E-4F10-A5A8-C985B0C01D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2"/>
    <p:sldLayoutId id="2147484508" r:id="rId3"/>
    <p:sldLayoutId id="2147484509" r:id="rId4"/>
    <p:sldLayoutId id="2147484510" r:id="rId5"/>
    <p:sldLayoutId id="2147484511" r:id="rId6"/>
    <p:sldLayoutId id="2147484512" r:id="rId7"/>
    <p:sldLayoutId id="2147484513" r:id="rId8"/>
    <p:sldLayoutId id="2147484514" r:id="rId9"/>
    <p:sldLayoutId id="2147484515" r:id="rId10"/>
    <p:sldLayoutId id="2147484516" r:id="rId11"/>
    <p:sldLayoutId id="2147484517" r:id="rId12"/>
    <p:sldLayoutId id="2147484518" r:id="rId13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9" name="PlaceHolder 3"/>
          <p:cNvSpPr>
            <a:spLocks noGrp="1"/>
          </p:cNvSpPr>
          <p:nvPr>
            <p:ph type="dt" idx="20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0" name="PlaceHolder 4"/>
          <p:cNvSpPr>
            <a:spLocks noGrp="1"/>
          </p:cNvSpPr>
          <p:nvPr>
            <p:ph type="ftr" idx="20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1" name="PlaceHolder 5"/>
          <p:cNvSpPr>
            <a:spLocks noGrp="1"/>
          </p:cNvSpPr>
          <p:nvPr>
            <p:ph type="sldNum" idx="20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DECC7-8F54-4490-AE97-695E7D8D18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2"/>
    <p:sldLayoutId id="2147484521" r:id="rId3"/>
    <p:sldLayoutId id="2147484522" r:id="rId4"/>
    <p:sldLayoutId id="2147484523" r:id="rId5"/>
    <p:sldLayoutId id="2147484524" r:id="rId6"/>
    <p:sldLayoutId id="2147484525" r:id="rId7"/>
    <p:sldLayoutId id="2147484526" r:id="rId8"/>
    <p:sldLayoutId id="2147484527" r:id="rId9"/>
    <p:sldLayoutId id="2147484528" r:id="rId10"/>
    <p:sldLayoutId id="2147484529" r:id="rId11"/>
    <p:sldLayoutId id="2147484530" r:id="rId12"/>
    <p:sldLayoutId id="2147484531" r:id="rId13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0" name="PlaceHolder 3"/>
          <p:cNvSpPr>
            <a:spLocks noGrp="1"/>
          </p:cNvSpPr>
          <p:nvPr>
            <p:ph type="dt" idx="20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1" name="PlaceHolder 4"/>
          <p:cNvSpPr>
            <a:spLocks noGrp="1"/>
          </p:cNvSpPr>
          <p:nvPr>
            <p:ph type="ftr" idx="20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2" name="PlaceHolder 5"/>
          <p:cNvSpPr>
            <a:spLocks noGrp="1"/>
          </p:cNvSpPr>
          <p:nvPr>
            <p:ph type="sldNum" idx="20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1D5E3-C758-433C-8ED7-CFD28EE904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2"/>
    <p:sldLayoutId id="2147484534" r:id="rId3"/>
    <p:sldLayoutId id="2147484535" r:id="rId4"/>
    <p:sldLayoutId id="2147484536" r:id="rId5"/>
    <p:sldLayoutId id="2147484537" r:id="rId6"/>
    <p:sldLayoutId id="2147484538" r:id="rId7"/>
    <p:sldLayoutId id="2147484539" r:id="rId8"/>
    <p:sldLayoutId id="2147484540" r:id="rId9"/>
    <p:sldLayoutId id="2147484541" r:id="rId10"/>
    <p:sldLayoutId id="2147484542" r:id="rId11"/>
    <p:sldLayoutId id="2147484543" r:id="rId12"/>
    <p:sldLayoutId id="2147484544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0DB45-3E1F-4D2C-9554-878C4C1E55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1" name="PlaceHolder 3"/>
          <p:cNvSpPr>
            <a:spLocks noGrp="1"/>
          </p:cNvSpPr>
          <p:nvPr>
            <p:ph type="dt" idx="20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2" name="PlaceHolder 4"/>
          <p:cNvSpPr>
            <a:spLocks noGrp="1"/>
          </p:cNvSpPr>
          <p:nvPr>
            <p:ph type="ftr" idx="20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3" name="PlaceHolder 5"/>
          <p:cNvSpPr>
            <a:spLocks noGrp="1"/>
          </p:cNvSpPr>
          <p:nvPr>
            <p:ph type="sldNum" idx="2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C489F-4E40-4C69-9848-A416D7B338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2"/>
    <p:sldLayoutId id="2147484547" r:id="rId3"/>
    <p:sldLayoutId id="2147484548" r:id="rId4"/>
    <p:sldLayoutId id="2147484549" r:id="rId5"/>
    <p:sldLayoutId id="2147484550" r:id="rId6"/>
    <p:sldLayoutId id="2147484551" r:id="rId7"/>
    <p:sldLayoutId id="2147484552" r:id="rId8"/>
    <p:sldLayoutId id="2147484553" r:id="rId9"/>
    <p:sldLayoutId id="2147484554" r:id="rId10"/>
    <p:sldLayoutId id="2147484555" r:id="rId11"/>
    <p:sldLayoutId id="2147484556" r:id="rId12"/>
    <p:sldLayoutId id="2147484557" r:id="rId13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2" name="PlaceHolder 3"/>
          <p:cNvSpPr>
            <a:spLocks noGrp="1"/>
          </p:cNvSpPr>
          <p:nvPr>
            <p:ph type="dt" idx="2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3" name="PlaceHolder 4"/>
          <p:cNvSpPr>
            <a:spLocks noGrp="1"/>
          </p:cNvSpPr>
          <p:nvPr>
            <p:ph type="ftr" idx="2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4" name="PlaceHolder 5"/>
          <p:cNvSpPr>
            <a:spLocks noGrp="1"/>
          </p:cNvSpPr>
          <p:nvPr>
            <p:ph type="sldNum" idx="2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2B529-BFE4-4751-BE10-11E48A98EA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2"/>
    <p:sldLayoutId id="2147484560" r:id="rId3"/>
    <p:sldLayoutId id="2147484561" r:id="rId4"/>
    <p:sldLayoutId id="2147484562" r:id="rId5"/>
    <p:sldLayoutId id="2147484563" r:id="rId6"/>
    <p:sldLayoutId id="2147484564" r:id="rId7"/>
    <p:sldLayoutId id="2147484565" r:id="rId8"/>
    <p:sldLayoutId id="2147484566" r:id="rId9"/>
    <p:sldLayoutId id="2147484567" r:id="rId10"/>
    <p:sldLayoutId id="2147484568" r:id="rId11"/>
    <p:sldLayoutId id="2147484569" r:id="rId12"/>
    <p:sldLayoutId id="2147484570" r:id="rId13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3" name="PlaceHolder 3"/>
          <p:cNvSpPr>
            <a:spLocks noGrp="1"/>
          </p:cNvSpPr>
          <p:nvPr>
            <p:ph type="dt" idx="2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4" name="PlaceHolder 4"/>
          <p:cNvSpPr>
            <a:spLocks noGrp="1"/>
          </p:cNvSpPr>
          <p:nvPr>
            <p:ph type="ftr" idx="21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5" name="PlaceHolder 5"/>
          <p:cNvSpPr>
            <a:spLocks noGrp="1"/>
          </p:cNvSpPr>
          <p:nvPr>
            <p:ph type="sldNum" idx="21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3CF1E-B1A9-413B-9598-9C5B8F4793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2"/>
    <p:sldLayoutId id="2147484573" r:id="rId3"/>
    <p:sldLayoutId id="2147484574" r:id="rId4"/>
    <p:sldLayoutId id="2147484575" r:id="rId5"/>
    <p:sldLayoutId id="2147484576" r:id="rId6"/>
    <p:sldLayoutId id="2147484577" r:id="rId7"/>
    <p:sldLayoutId id="2147484578" r:id="rId8"/>
    <p:sldLayoutId id="2147484579" r:id="rId9"/>
    <p:sldLayoutId id="2147484580" r:id="rId10"/>
    <p:sldLayoutId id="2147484581" r:id="rId11"/>
    <p:sldLayoutId id="2147484582" r:id="rId12"/>
    <p:sldLayoutId id="2147484583" r:id="rId13"/>
  </p:sldLayoutIdLst>
</p:sldMaster>
</file>

<file path=ppt/slideMasters/slideMaster7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4" name="PlaceHolder 3"/>
          <p:cNvSpPr>
            <a:spLocks noGrp="1"/>
          </p:cNvSpPr>
          <p:nvPr>
            <p:ph type="dt" idx="2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5" name="PlaceHolder 4"/>
          <p:cNvSpPr>
            <a:spLocks noGrp="1"/>
          </p:cNvSpPr>
          <p:nvPr>
            <p:ph type="ftr" idx="2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6" name="PlaceHolder 5"/>
          <p:cNvSpPr>
            <a:spLocks noGrp="1"/>
          </p:cNvSpPr>
          <p:nvPr>
            <p:ph type="sldNum" idx="21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A3409-27B4-4F3C-BE26-0DF20B236D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85" r:id="rId2"/>
    <p:sldLayoutId id="2147484586" r:id="rId3"/>
    <p:sldLayoutId id="2147484587" r:id="rId4"/>
    <p:sldLayoutId id="2147484588" r:id="rId5"/>
    <p:sldLayoutId id="2147484589" r:id="rId6"/>
    <p:sldLayoutId id="2147484590" r:id="rId7"/>
    <p:sldLayoutId id="2147484591" r:id="rId8"/>
    <p:sldLayoutId id="2147484592" r:id="rId9"/>
    <p:sldLayoutId id="2147484593" r:id="rId10"/>
    <p:sldLayoutId id="2147484594" r:id="rId11"/>
    <p:sldLayoutId id="2147484595" r:id="rId12"/>
    <p:sldLayoutId id="2147484596" r:id="rId13"/>
  </p:sldLayoutIdLst>
</p:sldMaster>
</file>

<file path=ppt/slideMasters/slideMaster7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5" name="PlaceHolder 3"/>
          <p:cNvSpPr>
            <a:spLocks noGrp="1"/>
          </p:cNvSpPr>
          <p:nvPr>
            <p:ph type="dt" idx="22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6" name="PlaceHolder 4"/>
          <p:cNvSpPr>
            <a:spLocks noGrp="1"/>
          </p:cNvSpPr>
          <p:nvPr>
            <p:ph type="ftr" idx="22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7" name="PlaceHolder 5"/>
          <p:cNvSpPr>
            <a:spLocks noGrp="1"/>
          </p:cNvSpPr>
          <p:nvPr>
            <p:ph type="sldNum" idx="22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8AB15-25C7-47B6-8BCC-C0E13C03A2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98" r:id="rId2"/>
    <p:sldLayoutId id="2147484599" r:id="rId3"/>
    <p:sldLayoutId id="2147484600" r:id="rId4"/>
    <p:sldLayoutId id="2147484601" r:id="rId5"/>
    <p:sldLayoutId id="2147484602" r:id="rId6"/>
    <p:sldLayoutId id="2147484603" r:id="rId7"/>
    <p:sldLayoutId id="2147484604" r:id="rId8"/>
    <p:sldLayoutId id="2147484605" r:id="rId9"/>
    <p:sldLayoutId id="2147484606" r:id="rId10"/>
    <p:sldLayoutId id="2147484607" r:id="rId11"/>
    <p:sldLayoutId id="2147484608" r:id="rId12"/>
    <p:sldLayoutId id="2147484609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E542F-655F-4DBB-982B-DFBB23D965B0}" type="slidenum">
              <a:rPr b="0" lang="ar-SA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22DFA-992C-4F56-A99F-FD834F826DDF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29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6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0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3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6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697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53735"/>
                </a:solidFill>
                <a:latin typeface="Calibri"/>
                <a:ea typeface="Arial"/>
              </a:rPr>
              <a:t>Tumors of lung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002060"/>
                </a:solidFill>
                <a:latin typeface="Calibri"/>
                <a:ea typeface="Arial"/>
              </a:rPr>
              <a:t>DR. AYSER HAMEED</a:t>
            </a:r>
            <a:br>
              <a:rPr sz="4000"/>
            </a:br>
            <a:r>
              <a:rPr b="1" i="1" lang="en-US" sz="4000" spc="-1" strike="noStrike">
                <a:solidFill>
                  <a:srgbClr val="002060"/>
                </a:solidFill>
                <a:latin typeface="Calibri"/>
                <a:ea typeface="Arial"/>
              </a:rPr>
              <a:t>LEC.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Squamous cell carcinoma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mmon in 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mal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lated to 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smoking.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rise 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centrally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(hilar origin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Areas of metaplasia , dysplasia are seen in the adjacent mucos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6019920" cy="4514760"/>
          </a:xfrm>
          <a:prstGeom prst="rect">
            <a:avLst/>
          </a:prstGeom>
          <a:ln w="0">
            <a:noFill/>
          </a:ln>
        </p:spPr>
      </p:pic>
      <p:pic>
        <p:nvPicPr>
          <p:cNvPr id="3052" name="Picture 5" descr=""/>
          <p:cNvPicPr/>
          <p:nvPr/>
        </p:nvPicPr>
        <p:blipFill>
          <a:blip r:embed="rId2"/>
          <a:stretch/>
        </p:blipFill>
        <p:spPr>
          <a:xfrm>
            <a:off x="0" y="4495680"/>
            <a:ext cx="72388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3" name="Picture 4" descr="scc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3054" name="Text Box 5"/>
          <p:cNvSpPr/>
          <p:nvPr/>
        </p:nvSpPr>
        <p:spPr>
          <a:xfrm>
            <a:off x="1653120" y="6093000"/>
            <a:ext cx="583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quamous cell carcinoma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quamous cell carcino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56" name="Picture 4" descr="LUNG069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quamous cell carcino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58" name="Picture 4" descr="NEO097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Adenocarcinoma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Two for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1. Bronchial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riv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2. Bronchoalveolar (from the terminal bronchiole &amp; alveolar wall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It is characterized b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en commonly in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fema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the common type seen in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non smok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arises in more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peripheral location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size of the mass is smaller than squamous cell c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grows more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slow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times it is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seen near areas of scarring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denocarcinom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1" name="Picture 4" descr="LUNG070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denocarcino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3" name="Picture 4" descr="LUNG124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4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Small cell carcinoma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ighly malignant, 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most aggressive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Metastasize widely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Not cured by surgery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strong relation to smoking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rise 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centrally (hilar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cells 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appear small ( 2x the size of lymphocyte), dark nucleus, thin cytoplasm hence the name OAT CELL CARCINOMA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5" name="Picture 4" descr="LUNG068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6032520"/>
          </a:xfrm>
          <a:prstGeom prst="rect">
            <a:avLst/>
          </a:prstGeom>
          <a:ln w="0">
            <a:noFill/>
          </a:ln>
        </p:spPr>
      </p:pic>
      <p:sp>
        <p:nvSpPr>
          <p:cNvPr id="3066" name="Text Box 5"/>
          <p:cNvSpPr/>
          <p:nvPr/>
        </p:nvSpPr>
        <p:spPr>
          <a:xfrm>
            <a:off x="1405440" y="6032520"/>
            <a:ext cx="633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all cell carcinoma of lung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Tumors of lung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90-95% of lung tumors are 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bronchogenic carcinoma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arise from respiratory epithelium)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5% are 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carcinoid tumor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2-5% are 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Mesenchymal tumor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mall cell carcino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8" name="Picture 4" descr="LUNG073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mall cell carcino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70" name="Picture 4" descr="LUNG075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1" name="Picture 4" descr="scellcar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4724280" cy="5902200"/>
          </a:xfrm>
          <a:prstGeom prst="rect">
            <a:avLst/>
          </a:prstGeom>
          <a:ln w="0">
            <a:noFill/>
          </a:ln>
        </p:spPr>
      </p:pic>
      <p:pic>
        <p:nvPicPr>
          <p:cNvPr id="3072" name="Picture 5" descr="SCCLung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4800600" y="0"/>
            <a:ext cx="4343400" cy="5902200"/>
          </a:xfrm>
          <a:prstGeom prst="rect">
            <a:avLst/>
          </a:prstGeom>
          <a:ln w="0">
            <a:noFill/>
          </a:ln>
        </p:spPr>
      </p:pic>
      <p:sp>
        <p:nvSpPr>
          <p:cNvPr id="3073" name="Text Box 6"/>
          <p:cNvSpPr/>
          <p:nvPr/>
        </p:nvSpPr>
        <p:spPr>
          <a:xfrm>
            <a:off x="1736640" y="5535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4" name="Text Box 7"/>
          <p:cNvSpPr/>
          <p:nvPr/>
        </p:nvSpPr>
        <p:spPr>
          <a:xfrm>
            <a:off x="2565720" y="6172200"/>
            <a:ext cx="431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all cell carcinom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arge cell carcino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anaplastic tum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may represent poorly differentiated squamous or adenocarcinom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ells appear so large, bizarre, and even giant cells could be se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Clinical presentation of bronchogenic carcinom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age i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round 50 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is considered as 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most aggressive neoplas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senting symptoms: cough, weight loss, chest pain, dyspnea,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putum produc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Most commonly it is discovered by its secondary sprea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Diagno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putum cytolog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squamous cell carcinoma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Bronchial wash and brus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adenocarcinoma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ne needle aspira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ytological examin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8" name=""/>
          <p:cNvSpPr txBox="1"/>
          <p:nvPr/>
        </p:nvSpPr>
        <p:spPr>
          <a:xfrm>
            <a:off x="457200" y="1904760"/>
            <a:ext cx="8229600" cy="19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79" name="Picture 5" descr="Robbins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4692600"/>
          </a:xfrm>
          <a:prstGeom prst="rect">
            <a:avLst/>
          </a:prstGeom>
          <a:ln w="0">
            <a:noFill/>
          </a:ln>
        </p:spPr>
      </p:pic>
      <p:sp>
        <p:nvSpPr>
          <p:cNvPr id="3080" name="Text Box 6"/>
          <p:cNvSpPr/>
          <p:nvPr/>
        </p:nvSpPr>
        <p:spPr>
          <a:xfrm>
            <a:off x="-14400" y="5894280"/>
            <a:ext cx="434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-  Squamous cell carcino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1" name="Text Box 7"/>
          <p:cNvSpPr/>
          <p:nvPr/>
        </p:nvSpPr>
        <p:spPr>
          <a:xfrm>
            <a:off x="4648320" y="593892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- adenocarcino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Prognosis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Sq. cell ca and adenoca. tend to be localized for a longer period than small and large cell ca. </a:t>
            </a:r>
            <a:r>
              <a:rPr b="1" i="1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 slightly better prognosi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Small cell ca. ..once it is discovered , it is beyond surgery, but it is radiosensitive &amp; chemosensitive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Its survival rate is not more than 1 year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3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Neuroendocrine tumor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Bronchial carcino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Behavi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Most carcinoid tumors DO NOT metastasize , DO NOT secrete hormones (like that of the appendix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might show metastasis to the local L.N and some may secrete horm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Treatment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rgical rese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Carcinoid tum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85" name="Picture 4" descr="GI134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Metastatic tumo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lung is a frequent site of metastatic tumors from all over the body, it is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ore common than the primar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reaches the lung by lymphatic,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blood 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r direct continuity as in esophageal carcinom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umor of pleu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y be involved by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primary or secondary tumor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The secondary involvement is more comm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most common secondary comes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from the lung and breast carcinom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3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Bronchogenic carcino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the most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comm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alignancy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in mal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ently it is also becoming the cause of death in female more than breast carcino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Etiology and pathogenesi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1- Tobacco smok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is a great relation between lung carcinoma and the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amoun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 daily smoking , tendency to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inhal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&amp;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dura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smoking habi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7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olitary fibrous tumor (pleural mesothelioma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alled benign mesotheliom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t is a localized growth , 1-2 cm in size, confined to the surfac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Grossly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t looks like a mass of fibrous tissu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Mic.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ands of collagen &amp; reticulin fiber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Malignant Mesothelioma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rise from visceral or parietal surfac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t is closely related to asbesto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Grossly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lung is enclosed by a thick, soft, gelatinous, gray-white tumor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ic.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wo types of cells seen in the mic. Sections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-Epithelial like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(flat, cuboidal, columnar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2- Mesenchymal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stromal cells ( spindle shape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9" name="Picture 3" descr=""/>
          <p:cNvPicPr/>
          <p:nvPr/>
        </p:nvPicPr>
        <p:blipFill>
          <a:blip r:embed="rId1"/>
          <a:stretch/>
        </p:blipFill>
        <p:spPr>
          <a:xfrm>
            <a:off x="3530520" y="2440080"/>
            <a:ext cx="2082960" cy="2846160"/>
          </a:xfrm>
          <a:prstGeom prst="rect">
            <a:avLst/>
          </a:prstGeom>
          <a:ln w="0">
            <a:noFill/>
          </a:ln>
        </p:spPr>
      </p:pic>
      <p:pic>
        <p:nvPicPr>
          <p:cNvPr id="3090" name="Picture 4" descr="Robbins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3091" name="Text Box 5"/>
          <p:cNvSpPr/>
          <p:nvPr/>
        </p:nvSpPr>
        <p:spPr>
          <a:xfrm>
            <a:off x="2505240" y="6278400"/>
            <a:ext cx="463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lignant Mesothelio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968560"/>
          </a:xfrm>
          <a:prstGeom prst="rect">
            <a:avLst/>
          </a:prstGeom>
          <a:ln w="0">
            <a:noFill/>
          </a:ln>
        </p:spPr>
      </p:pic>
      <p:pic>
        <p:nvPicPr>
          <p:cNvPr id="3093" name="Picture 5" descr=""/>
          <p:cNvPicPr/>
          <p:nvPr/>
        </p:nvPicPr>
        <p:blipFill>
          <a:blip r:embed="rId2"/>
          <a:stretch/>
        </p:blipFill>
        <p:spPr>
          <a:xfrm>
            <a:off x="0" y="3008160"/>
            <a:ext cx="6477120" cy="3849840"/>
          </a:xfrm>
          <a:prstGeom prst="rect">
            <a:avLst/>
          </a:prstGeom>
          <a:ln w="0">
            <a:noFill/>
          </a:ln>
        </p:spPr>
      </p:pic>
      <p:sp>
        <p:nvSpPr>
          <p:cNvPr id="3094" name="Text Box 6"/>
          <p:cNvSpPr/>
          <p:nvPr/>
        </p:nvSpPr>
        <p:spPr>
          <a:xfrm>
            <a:off x="6705720" y="548640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Wingdings"/>
                <a:ea typeface="Wingdings"/>
              </a:rPr>
              <a:t>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5" name="Text Box 7"/>
          <p:cNvSpPr/>
          <p:nvPr/>
        </p:nvSpPr>
        <p:spPr>
          <a:xfrm>
            <a:off x="6629400" y="38862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&amp;E, IMMUNOCHEMIST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6" name="Line 8"/>
          <p:cNvSpPr/>
          <p:nvPr/>
        </p:nvSpPr>
        <p:spPr>
          <a:xfrm flipH="1" flipV="1">
            <a:off x="7467120" y="3123720"/>
            <a:ext cx="38124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7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5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4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atistical evidenc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Smokers have 10x risk than non smok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Heavy smokers have 20x the risk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80% of lung ca. occur in smoker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* Clinical evidenc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histological changes of the lining epithelium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(metaplasia- atypical hyperplasia) more in smok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97% of cigarette smokers show some Atypical cell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 the bronchial tree compared to 1% in non smok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* Experimental work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sts on animals found out that more than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1200 substances found in cig. Smoke, most are carcinoge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2- Industrial hazards 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Radiation. e.g. (Hiroshima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Uranium. carries 4x the risk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Asbestos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3- Air pollutions 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problem of indoor pollutions e.g.  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Radon (radioactive gas) exposure in miner workers </a:t>
            </a:r>
            <a:r>
              <a:rPr b="1" i="1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 lung ca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4- Molecular genetics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dominant oncogene is 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c-myc in small cell ca. , k- ras in adenocarcinom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deleted (inactive gene) is P53, Rb gen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occasional 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familial clustering suggests a genetic predisposition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5- Scarring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Some adenoca. arise near a scarred pulmonary tissue (old infarct., granuloma..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7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Classifications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ased on the WHO classification, they are divided into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Squamous cell carcinoma 25-40%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Adenocarcinoma 25- 40%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Small cell carcinoma 20-25%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Large cell carcinoma 10-15%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Morpholog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incidence of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denoca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ha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&amp; it forms the common type in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emal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quamous cell ca. &amp; small cell ca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re greatly related to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moking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Bronchogenic ca. starts as an area of in-situ cytological atypical</a:t>
            </a:r>
            <a:r>
              <a:rPr b="1" i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 thick mucosa</a:t>
            </a:r>
            <a:r>
              <a:rPr b="1" i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 elevate or erode the lining epithelium</a:t>
            </a:r>
            <a:r>
              <a:rPr b="1" i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 then it ma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Calibri"/>
              </a:rPr>
              <a:t>Fungate into the lumen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Calibri"/>
              </a:rPr>
              <a:t>Penetrate the wall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Calibri"/>
              </a:rPr>
              <a:t>Expand forming cauliflower mass pushing the lung substance.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The tumor ma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Extend to the pleural, pericardial surfac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Spread to the lymph no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Hematogenous sprea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Bronchog. Ca. spread early in their evolution both by lymphatic and hematogenous pathways &amp; often the metastatic deposit represents the first manifest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The most common organs involved by secondary deposit are: adrenals, liver, brain, b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R.Ahmed Saker 2o1O</cp:lastModifiedBy>
  <dcterms:modified xsi:type="dcterms:W3CDTF">2015-02-23T14:54:09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