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5.jpeg" ContentType="image/jpeg"/>
  <Override PartName="/ppt/media/image35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1.png" ContentType="image/png"/>
  <Override PartName="/ppt/media/image6.png" ContentType="image/png"/>
  <Override PartName="/ppt/media/image11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0030-FF93-45BE-8852-BE6DF4C2A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069B-DCF1-4CE7-ABB5-F6CEC824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7521-A945-4B25-AF52-7C7378668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2FCF-6F1B-4355-BB36-99DC50EE8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DBB4-9771-4D10-B6A5-F528F85A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CE81-2B41-4182-9E84-85267EF1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2B8C-E403-4E5A-89AF-3993E663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ED62-99D2-4DE8-8DCD-148924B0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30E8-00A0-46BD-89F1-7DB0E417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E998-A2D5-48E7-ACEE-89BEFD24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2B3B-B375-4706-BB10-57531E12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F3AC-39E3-40BE-A302-A2967EA6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8105-9DCF-4F31-BA7E-9016E8738D8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en.wikipedia.org/wiki/Rotavirus" TargetMode="External"/><Relationship Id="rId3" Type="http://schemas.openxmlformats.org/officeDocument/2006/relationships/hyperlink" Target="http://en.wikipedia.org/wiki/Diarrhea" TargetMode="External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http://en.wikipedia.org/wiki/Bangladesh" TargetMode="External"/><Relationship Id="rId4" Type="http://schemas.openxmlformats.org/officeDocument/2006/relationships/hyperlink" Target="http://en.wikipedia.org/wiki/Vaccine" TargetMode="External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5" descr=""/>
          <p:cNvPicPr/>
          <p:nvPr/>
        </p:nvPicPr>
        <p:blipFill>
          <a:blip r:embed="rId1"/>
          <a:stretch/>
        </p:blipFill>
        <p:spPr>
          <a:xfrm>
            <a:off x="469800" y="328680"/>
            <a:ext cx="7845480" cy="245088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4" descr=""/>
          <p:cNvPicPr/>
          <p:nvPr/>
        </p:nvPicPr>
        <p:blipFill>
          <a:blip r:embed="rId2"/>
          <a:stretch/>
        </p:blipFill>
        <p:spPr>
          <a:xfrm>
            <a:off x="5894280" y="2255760"/>
            <a:ext cx="2659320" cy="52380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46080" y="6211800"/>
            <a:ext cx="46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P</a:t>
            </a:r>
            <a:r>
              <a:rPr b="0" lang="ar-IQ" sz="1800" spc="-1" strike="noStrike">
                <a:solidFill>
                  <a:srgbClr val="000000"/>
                </a:solidFill>
                <a:latin typeface="Cooper Black"/>
              </a:rPr>
              <a:t>ro Dr NAJLAA FAWZ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800" spc="-1" strike="noStrike">
                <a:solidFill>
                  <a:srgbClr val="000000"/>
                </a:solidFill>
                <a:latin typeface="Cooper Black"/>
              </a:rPr>
              <a:t>Family and Community Medicine De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Rectangle 1" descr=""/>
          <p:cNvPicPr/>
          <p:nvPr/>
        </p:nvPicPr>
        <p:blipFill>
          <a:blip r:embed="rId1"/>
          <a:stretch/>
        </p:blipFill>
        <p:spPr>
          <a:xfrm>
            <a:off x="324000" y="378000"/>
            <a:ext cx="7697520" cy="4633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2"/>
          <p:cNvSpPr/>
          <p:nvPr/>
        </p:nvSpPr>
        <p:spPr>
          <a:xfrm>
            <a:off x="324000" y="1060560"/>
            <a:ext cx="685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a virulent vaccine, virulent pathoge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6958800" y="1060560"/>
            <a:ext cx="17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6"/>
          <p:cNvSpPr/>
          <p:nvPr/>
        </p:nvSpPr>
        <p:spPr>
          <a:xfrm>
            <a:off x="587160" y="1590840"/>
            <a:ext cx="78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an not be used as such, but so treated to be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7"/>
          <p:cNvSpPr/>
          <p:nvPr/>
        </p:nvSpPr>
        <p:spPr>
          <a:xfrm>
            <a:off x="417240" y="220968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attenuated an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3425040" y="2217600"/>
            <a:ext cx="49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virulent, but remain antigen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8569-3412-4A86-BB26-93C34F603C0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Rectangle 23" descr=""/>
          <p:cNvPicPr/>
          <p:nvPr/>
        </p:nvPicPr>
        <p:blipFill>
          <a:blip r:embed="rId1"/>
          <a:stretch/>
        </p:blipFill>
        <p:spPr>
          <a:xfrm>
            <a:off x="457200" y="285840"/>
            <a:ext cx="7937640" cy="525240"/>
          </a:xfrm>
          <a:prstGeom prst="rect">
            <a:avLst/>
          </a:prstGeom>
          <a:ln w="0">
            <a:noFill/>
          </a:ln>
        </p:spPr>
      </p:pic>
      <p:pic>
        <p:nvPicPr>
          <p:cNvPr id="121" name="Rectangle 2" descr=""/>
          <p:cNvPicPr/>
          <p:nvPr/>
        </p:nvPicPr>
        <p:blipFill>
          <a:blip r:embed="rId2"/>
          <a:stretch/>
        </p:blipFill>
        <p:spPr>
          <a:xfrm>
            <a:off x="480960" y="907920"/>
            <a:ext cx="1042920" cy="5241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1839960" y="907920"/>
            <a:ext cx="37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Use for  prevention of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68E0-8477-418A-819B-A8544BC6101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4"/>
          <p:cNvSpPr/>
          <p:nvPr/>
        </p:nvSpPr>
        <p:spPr>
          <a:xfrm>
            <a:off x="731520" y="1628640"/>
            <a:ext cx="495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 Black"/>
              </a:rPr>
              <a:t>OPV (oral polio vaccine</a:t>
            </a:r>
            <a:r>
              <a:rPr b="1" lang="en-US" sz="3200" spc="-1" strike="noStrike" u="sng">
                <a:solidFill>
                  <a:srgbClr val="993300"/>
                </a:solidFill>
                <a:uFillTx/>
                <a:latin typeface="Arial Blac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6028200" y="159876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bi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572040" y="2421000"/>
            <a:ext cx="16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 Black"/>
              </a:rPr>
              <a:t>Meas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479520" y="306864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 Black"/>
              </a:rPr>
              <a:t>MMR(measles, mumps, rubell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"/>
          <p:cNvSpPr/>
          <p:nvPr/>
        </p:nvSpPr>
        <p:spPr>
          <a:xfrm>
            <a:off x="573120" y="3860640"/>
            <a:ext cx="151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 Black"/>
              </a:rPr>
              <a:t>Rub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Rectangle 1" descr=""/>
          <p:cNvPicPr/>
          <p:nvPr/>
        </p:nvPicPr>
        <p:blipFill>
          <a:blip r:embed="rId1"/>
          <a:stretch/>
        </p:blipFill>
        <p:spPr>
          <a:xfrm>
            <a:off x="384120" y="304920"/>
            <a:ext cx="4194360" cy="5857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228600" y="914400"/>
            <a:ext cx="89154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rotavirus vaccine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protects children from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 Black"/>
                <a:hlinkClick r:id="rId2"/>
              </a:rPr>
              <a:t>rotaviruses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, which are the leading cause of sever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 Black"/>
                <a:hlinkClick r:id="rId3"/>
              </a:rPr>
              <a:t>diarrhea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among infants and young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162000" y="2436840"/>
            <a:ext cx="836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ota virus vaccine is a live,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 Black"/>
              </a:rPr>
              <a:t>oral pentavalent vaccine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at contains five rotaviru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https://encrypted-tbn2.gstatic.com/images?q=tbn:ANd9GcTVdly4uDPXh-_SxVZiDnj25paSJlH6vNJ3VvWefYE5VyvI8k6vow"/>
          <p:cNvPicPr/>
          <p:nvPr/>
        </p:nvPicPr>
        <p:blipFill>
          <a:blip r:embed="rId4"/>
          <a:stretch/>
        </p:blipFill>
        <p:spPr>
          <a:xfrm>
            <a:off x="6524640" y="4076640"/>
            <a:ext cx="2619360" cy="2781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https://encrypted-tbn3.gstatic.com/images?q=tbn:ANd9GcSpjUhVFk6__zUozvz-aXhOdTH9BP5OoX7P0zIlwreDkA674N5HkQ"/>
          <p:cNvPicPr/>
          <p:nvPr/>
        </p:nvPicPr>
        <p:blipFill>
          <a:blip r:embed="rId5"/>
          <a:stretch/>
        </p:blipFill>
        <p:spPr>
          <a:xfrm>
            <a:off x="0" y="4292640"/>
            <a:ext cx="4575240" cy="2565360"/>
          </a:xfrm>
          <a:prstGeom prst="rect">
            <a:avLst/>
          </a:prstGeom>
          <a:ln w="0">
            <a:noFill/>
          </a:ln>
        </p:spPr>
      </p:pic>
      <p:sp>
        <p:nvSpPr>
          <p:cNvPr id="136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E13B-84C4-47ED-8F7F-96D91D3E6E5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441000" y="30492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 general,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5"/>
          <p:cNvSpPr/>
          <p:nvPr/>
        </p:nvSpPr>
        <p:spPr>
          <a:xfrm>
            <a:off x="2988720" y="31284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atten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4"/>
          <p:cNvSpPr/>
          <p:nvPr/>
        </p:nvSpPr>
        <p:spPr>
          <a:xfrm>
            <a:off x="5220720" y="312840"/>
            <a:ext cx="28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accines are m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55680" y="774720"/>
            <a:ext cx="45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tent immuni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3875760" y="774720"/>
            <a:ext cx="27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gents than ki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770760" y="1341360"/>
            <a:ext cx="42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accines, </a:t>
            </a:r>
            <a:r>
              <a:rPr b="0" lang="en-US" sz="2400" spc="-1" strike="noStrike">
                <a:solidFill>
                  <a:srgbClr val="993300"/>
                </a:solidFill>
                <a:latin typeface="Arial Black"/>
              </a:rPr>
              <a:t>the reasons being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792000" y="2492280"/>
            <a:ext cx="484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(I ) live organisms multiply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6102000" y="2492280"/>
            <a:ext cx="20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ost and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"/>
          <p:cNvSpPr/>
          <p:nvPr/>
        </p:nvSpPr>
        <p:spPr>
          <a:xfrm>
            <a:off x="971640" y="2954160"/>
            <a:ext cx="55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sulting antige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4200480" y="295416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ose is larger than wha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1132560" y="3416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j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5"/>
          <p:cNvSpPr/>
          <p:nvPr/>
        </p:nvSpPr>
        <p:spPr>
          <a:xfrm>
            <a:off x="325440" y="4292640"/>
            <a:ext cx="85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(ii) live vaccines have all the maj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6333480" y="427500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nd min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1098360" y="473724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ntige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8"/>
          <p:cNvSpPr/>
          <p:nvPr/>
        </p:nvSpPr>
        <p:spPr>
          <a:xfrm>
            <a:off x="2859120" y="473724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6884-BF74-4C81-9D1E-346351EB54F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9"/>
          <p:cNvSpPr/>
          <p:nvPr/>
        </p:nvSpPr>
        <p:spPr>
          <a:xfrm>
            <a:off x="395280" y="549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(iii) live vaccines occupy cer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2"/>
          <p:cNvSpPr/>
          <p:nvPr/>
        </p:nvSpPr>
        <p:spPr>
          <a:xfrm>
            <a:off x="6012000" y="549360"/>
            <a:ext cx="37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issues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1158840" y="99864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od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4"/>
          <p:cNvSpPr/>
          <p:nvPr/>
        </p:nvSpPr>
        <p:spPr>
          <a:xfrm>
            <a:off x="2545560" y="1009800"/>
            <a:ext cx="54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s for example, intestinal mucosa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116000" y="1460520"/>
            <a:ext cx="52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oral p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5"/>
          <p:cNvSpPr/>
          <p:nvPr/>
        </p:nvSpPr>
        <p:spPr>
          <a:xfrm>
            <a:off x="3560040" y="1460520"/>
            <a:ext cx="13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acc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7"/>
          <p:cNvSpPr/>
          <p:nvPr/>
        </p:nvSpPr>
        <p:spPr>
          <a:xfrm>
            <a:off x="797040" y="2205000"/>
            <a:ext cx="34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(iv) There may be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8"/>
          <p:cNvSpPr/>
          <p:nvPr/>
        </p:nvSpPr>
        <p:spPr>
          <a:xfrm>
            <a:off x="4780080" y="2189160"/>
            <a:ext cx="36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echanisms such as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9"/>
          <p:cNvSpPr/>
          <p:nvPr/>
        </p:nvSpPr>
        <p:spPr>
          <a:xfrm>
            <a:off x="1327680" y="265104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ersist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"/>
          <p:cNvSpPr/>
          <p:nvPr/>
        </p:nvSpPr>
        <p:spPr>
          <a:xfrm>
            <a:off x="3393720" y="2651040"/>
            <a:ext cx="13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f la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>
            <a:off x="4970160" y="26510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ir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2E99-20DB-43AF-A6F9-8897CA311E4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31"/>
          <p:cNvSpPr/>
          <p:nvPr/>
        </p:nvSpPr>
        <p:spPr>
          <a:xfrm>
            <a:off x="477000" y="457200"/>
            <a:ext cx="51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uch vaccines produce a d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2"/>
          <p:cNvSpPr/>
          <p:nvPr/>
        </p:nvSpPr>
        <p:spPr>
          <a:xfrm>
            <a:off x="5907240" y="444600"/>
            <a:ext cx="60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immunity , but n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368640" y="91908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always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011320" y="92880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3"/>
          <p:cNvSpPr/>
          <p:nvPr/>
        </p:nvSpPr>
        <p:spPr>
          <a:xfrm>
            <a:off x="2982240" y="936720"/>
            <a:ext cx="43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as that of natural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739080" y="1849320"/>
            <a:ext cx="27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ive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1258200" y="183528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atten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3218040" y="1820880"/>
            <a:ext cx="80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accines should not 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382680" y="2282760"/>
            <a:ext cx="30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dministe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2957040" y="2265480"/>
            <a:ext cx="24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o persons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5699160" y="2274840"/>
            <a:ext cx="29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mmune deficie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382680" y="2744640"/>
            <a:ext cx="41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seases or to pers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4520520" y="2727360"/>
            <a:ext cx="23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ose imm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975600" y="3171960"/>
            <a:ext cx="60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sponse may be suppressed becaus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250920" y="3606840"/>
            <a:ext cx="45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ymph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6"/>
          <p:cNvSpPr/>
          <p:nvPr/>
        </p:nvSpPr>
        <p:spPr>
          <a:xfrm>
            <a:off x="7449120" y="3144960"/>
            <a:ext cx="15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eukemi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2695320" y="3633840"/>
            <a:ext cx="55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r malignancy or because of therap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4"/>
          <p:cNvSpPr/>
          <p:nvPr/>
        </p:nvSpPr>
        <p:spPr>
          <a:xfrm>
            <a:off x="369720" y="409428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ith corticosteroid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4434840" y="4094280"/>
            <a:ext cx="35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lkylating agents, anti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369720" y="4556160"/>
            <a:ext cx="544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etabolic agent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6"/>
          <p:cNvSpPr/>
          <p:nvPr/>
        </p:nvSpPr>
        <p:spPr>
          <a:xfrm>
            <a:off x="3630240" y="4546440"/>
            <a:ext cx="19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r rad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DF0D-82C6-4231-90F0-5E6AF02CF02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735840" y="3333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egnancy is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4287600" y="33192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traind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916200" y="1052640"/>
            <a:ext cx="76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en two live vaccines are required they should 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306720" y="1514520"/>
            <a:ext cx="9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1814760" y="1504800"/>
            <a:ext cx="61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ither simultaneously at different sites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247680" y="1959120"/>
            <a:ext cx="59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ith an interval of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8"/>
          <p:cNvSpPr/>
          <p:nvPr/>
        </p:nvSpPr>
        <p:spPr>
          <a:xfrm>
            <a:off x="1028520" y="2697120"/>
            <a:ext cx="64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 the case of live vaccines, immunization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3851280" y="1959120"/>
            <a:ext cx="443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east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eek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9"/>
          <p:cNvSpPr/>
          <p:nvPr/>
        </p:nvSpPr>
        <p:spPr>
          <a:xfrm>
            <a:off x="912960" y="3059280"/>
            <a:ext cx="55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enerally achieved with a single d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B2CE-633B-4BC0-858A-38F0BE47E51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703080" y="3657600"/>
            <a:ext cx="32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exception is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 Black"/>
              </a:rPr>
              <a:t>p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4623120" y="3657600"/>
            <a:ext cx="403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accine which needs thre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484920" y="411948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1356840" y="4127400"/>
            <a:ext cx="49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ore doses to be given at spa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6818400" y="4137120"/>
            <a:ext cx="18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erval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532080" y="4605480"/>
            <a:ext cx="26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oduce eff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3413160" y="4616280"/>
            <a:ext cx="163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Rectangle 1" descr=""/>
          <p:cNvPicPr/>
          <p:nvPr/>
        </p:nvPicPr>
        <p:blipFill>
          <a:blip r:embed="rId1"/>
          <a:stretch/>
        </p:blipFill>
        <p:spPr>
          <a:xfrm>
            <a:off x="152280" y="122400"/>
            <a:ext cx="8541000" cy="388908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0BE1-0EA5-4A3D-9A23-D13B1562DC0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307800" y="521028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only absolute contraindication to their administration is a severe local or general reaction to a previous d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250920" y="395928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y tend to provide a shorter length of protection than live vaccines, and are more likely to require boosters to create long-term i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Rectangle 1" descr=""/>
          <p:cNvPicPr/>
          <p:nvPr/>
        </p:nvPicPr>
        <p:blipFill>
          <a:blip r:embed="rId1"/>
          <a:stretch/>
        </p:blipFill>
        <p:spPr>
          <a:xfrm>
            <a:off x="158760" y="334800"/>
            <a:ext cx="8624880" cy="5048280"/>
          </a:xfrm>
          <a:prstGeom prst="rect">
            <a:avLst/>
          </a:prstGeom>
          <a:ln w="0">
            <a:noFill/>
          </a:ln>
        </p:spPr>
      </p:pic>
      <p:sp>
        <p:nvSpPr>
          <p:cNvPr id="21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48CF-805E-4C97-AF19-D44145544C1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108000" y="121680"/>
            <a:ext cx="8874000" cy="59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cc"/>
                </a:solidFill>
                <a:latin typeface="Arial Black"/>
                <a:ea typeface="Times New Roman"/>
              </a:rPr>
              <a:t>5-SURFACE – ANTIGEN VACCINE (subuni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protein subunit –rather than introducing an inactivated or attenuated microorganism to immune system, a fragment of it can create an immune 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Examples include the subunit  vaccine against </a:t>
            </a:r>
            <a:r>
              <a:rPr b="1" i="1" lang="en-US" sz="2000" spc="-1" strike="noStrike">
                <a:solidFill>
                  <a:srgbClr val="993300"/>
                </a:solidFill>
                <a:latin typeface="Arial Black"/>
                <a:ea typeface="Times New Roman"/>
              </a:rPr>
              <a:t>Hepatitis B virus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that is composed of only the surface proteins of the virus ;      two forms were prepared for HBV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*</a:t>
            </a:r>
            <a:r>
              <a:rPr b="1" lang="en-US" sz="2000" spc="-1" strike="noStrike">
                <a:solidFill>
                  <a:srgbClr val="993300"/>
                </a:solidFill>
                <a:latin typeface="Tahoma"/>
                <a:ea typeface="Tahoma"/>
              </a:rPr>
              <a:t>Plasma- derived hepatitis B vaccine, made of Hbs Ag, prepared from healthy Hbs Ag carri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Yeast – recombinant hepatitis B vaccine; Hbs Ag needed to prepare the vaccine is produced by recombinant DNA in yeast cell, it is the vaccine used at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Virus –like particle (VLP) vaccine against human papilloma virus (HPV)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8E75-D41F-423A-B4D8-C729C4A6E5A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6FDA-2897-4BFB-9612-F1E41D57A9B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581280" y="860400"/>
            <a:ext cx="21337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c def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9"/>
          <p:cNvSpPr/>
          <p:nvPr/>
        </p:nvSpPr>
        <p:spPr>
          <a:xfrm>
            <a:off x="4645080" y="1546200"/>
            <a:ext cx="0" cy="45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20"/>
          <p:cNvSpPr/>
          <p:nvPr/>
        </p:nvSpPr>
        <p:spPr>
          <a:xfrm>
            <a:off x="1371600" y="2013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755640" y="2400480"/>
            <a:ext cx="21337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e i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21"/>
          <p:cNvSpPr/>
          <p:nvPr/>
        </p:nvSpPr>
        <p:spPr>
          <a:xfrm>
            <a:off x="1365120" y="2025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3"/>
          <p:cNvSpPr/>
          <p:nvPr/>
        </p:nvSpPr>
        <p:spPr>
          <a:xfrm flipH="1">
            <a:off x="374760" y="28526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4"/>
          <p:cNvSpPr/>
          <p:nvPr/>
        </p:nvSpPr>
        <p:spPr>
          <a:xfrm>
            <a:off x="351000" y="285264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5"/>
          <p:cNvSpPr/>
          <p:nvPr/>
        </p:nvSpPr>
        <p:spPr>
          <a:xfrm>
            <a:off x="374760" y="364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3"/>
          <p:cNvSpPr/>
          <p:nvPr/>
        </p:nvSpPr>
        <p:spPr>
          <a:xfrm>
            <a:off x="831960" y="3378240"/>
            <a:ext cx="21333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llowing clinical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6"/>
          <p:cNvSpPr/>
          <p:nvPr/>
        </p:nvSpPr>
        <p:spPr>
          <a:xfrm>
            <a:off x="355680" y="429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4"/>
          <p:cNvSpPr/>
          <p:nvPr/>
        </p:nvSpPr>
        <p:spPr>
          <a:xfrm>
            <a:off x="812880" y="4025880"/>
            <a:ext cx="23191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llowing subclinical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8"/>
          <p:cNvSpPr/>
          <p:nvPr/>
        </p:nvSpPr>
        <p:spPr>
          <a:xfrm>
            <a:off x="355680" y="5122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5"/>
          <p:cNvSpPr/>
          <p:nvPr/>
        </p:nvSpPr>
        <p:spPr>
          <a:xfrm>
            <a:off x="820800" y="4871880"/>
            <a:ext cx="21333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llowing vacc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5"/>
          <p:cNvSpPr/>
          <p:nvPr/>
        </p:nvSpPr>
        <p:spPr>
          <a:xfrm>
            <a:off x="4176000" y="362916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7"/>
          <p:cNvSpPr/>
          <p:nvPr/>
        </p:nvSpPr>
        <p:spPr>
          <a:xfrm flipH="1" flipV="1">
            <a:off x="2953800" y="3644640"/>
            <a:ext cx="1219320" cy="16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8"/>
          <p:cNvSpPr/>
          <p:nvPr/>
        </p:nvSpPr>
        <p:spPr>
          <a:xfrm flipH="1">
            <a:off x="3131640" y="3813120"/>
            <a:ext cx="1041480" cy="43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6"/>
          <p:cNvSpPr/>
          <p:nvPr/>
        </p:nvSpPr>
        <p:spPr>
          <a:xfrm>
            <a:off x="4176720" y="487692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1"/>
          <p:cNvSpPr/>
          <p:nvPr/>
        </p:nvSpPr>
        <p:spPr>
          <a:xfrm flipH="1">
            <a:off x="2998440" y="505944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2"/>
          <p:cNvSpPr/>
          <p:nvPr/>
        </p:nvSpPr>
        <p:spPr>
          <a:xfrm>
            <a:off x="7924680" y="2025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6372360" y="2373480"/>
            <a:ext cx="213336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ive i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9"/>
          <p:cNvSpPr/>
          <p:nvPr/>
        </p:nvSpPr>
        <p:spPr>
          <a:xfrm>
            <a:off x="8505720" y="2743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0"/>
          <p:cNvSpPr/>
          <p:nvPr/>
        </p:nvSpPr>
        <p:spPr>
          <a:xfrm>
            <a:off x="8886960" y="273060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1"/>
          <p:cNvSpPr/>
          <p:nvPr/>
        </p:nvSpPr>
        <p:spPr>
          <a:xfrm flipH="1">
            <a:off x="8458200" y="3728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8"/>
          <p:cNvSpPr/>
          <p:nvPr/>
        </p:nvSpPr>
        <p:spPr>
          <a:xfrm>
            <a:off x="6138720" y="3378240"/>
            <a:ext cx="2319480" cy="598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fer of mater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bodies Through plac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9"/>
          <p:cNvSpPr/>
          <p:nvPr/>
        </p:nvSpPr>
        <p:spPr>
          <a:xfrm flipV="1">
            <a:off x="4761000" y="3710160"/>
            <a:ext cx="1377720" cy="11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0"/>
          <p:cNvSpPr/>
          <p:nvPr/>
        </p:nvSpPr>
        <p:spPr>
          <a:xfrm>
            <a:off x="4946760" y="3870360"/>
            <a:ext cx="1419120" cy="58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2"/>
          <p:cNvSpPr/>
          <p:nvPr/>
        </p:nvSpPr>
        <p:spPr>
          <a:xfrm flipH="1">
            <a:off x="8496000" y="4559400"/>
            <a:ext cx="39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7"/>
          <p:cNvSpPr/>
          <p:nvPr/>
        </p:nvSpPr>
        <p:spPr>
          <a:xfrm>
            <a:off x="6372360" y="4248000"/>
            <a:ext cx="2133360" cy="578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fer of mater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bodies Through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2"/>
          <p:cNvSpPr/>
          <p:nvPr/>
        </p:nvSpPr>
        <p:spPr>
          <a:xfrm>
            <a:off x="5170320" y="5060880"/>
            <a:ext cx="1089360" cy="16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3"/>
          <p:cNvSpPr/>
          <p:nvPr/>
        </p:nvSpPr>
        <p:spPr>
          <a:xfrm flipH="1">
            <a:off x="8458200" y="5108400"/>
            <a:ext cx="419040" cy="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6"/>
          <p:cNvSpPr/>
          <p:nvPr/>
        </p:nvSpPr>
        <p:spPr>
          <a:xfrm>
            <a:off x="6249960" y="4813200"/>
            <a:ext cx="2217600" cy="784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llowing administration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munoglobulin or anti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Rectangle 1" descr=""/>
          <p:cNvPicPr/>
          <p:nvPr/>
        </p:nvPicPr>
        <p:blipFill>
          <a:blip r:embed="rId1"/>
          <a:stretch/>
        </p:blipFill>
        <p:spPr>
          <a:xfrm>
            <a:off x="212760" y="115920"/>
            <a:ext cx="2212920" cy="58572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5"/>
          <p:cNvSpPr/>
          <p:nvPr/>
        </p:nvSpPr>
        <p:spPr>
          <a:xfrm>
            <a:off x="144360" y="2514600"/>
            <a:ext cx="8855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hey are detoxicated exotoxins preparations which stimulate formation of humoral antitoxin i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Diphtheria toxoids &amp; tetanus toxoids are widely used for active immunization, each by itself or in combinations (DPT&amp; DT) ,Pertussis toxoids  ( less reaction), Cholera toxoid ;oral , against cholera exotoxin, which is the major pathogenic factor of cholera vib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B2C5-39D4-420E-9D00-407F813469F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249120" y="701640"/>
            <a:ext cx="859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ome bacterial diseases are not directly caused by a bacterium itself, but by a toxin produced by the bacter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6AD2-F5D8-4D2A-80E4-3896AD14F60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760680" y="254160"/>
            <a:ext cx="39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Combination Vacc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395280" y="95868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bination vaccines take two or more vaccines that could be given individually and put them into one sho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33280" y="1846440"/>
            <a:ext cx="87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bination vaccines defines as “a product whose components can be equally divided into independently available routine vaccine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217440" y="2960640"/>
            <a:ext cx="87645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What are some examples of comb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accin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M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TaP-Hib-po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TaP-hepatitis B- IP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TP-HB-Hib –IP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222C-A9EC-4182-B5F6-74B5A83925B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"/>
          <p:cNvSpPr/>
          <p:nvPr/>
        </p:nvSpPr>
        <p:spPr>
          <a:xfrm>
            <a:off x="250920" y="50148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vantages of comb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vacc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Image result for hexa vaccine"/>
          <p:cNvPicPr/>
          <p:nvPr/>
        </p:nvPicPr>
        <p:blipFill>
          <a:blip r:embed="rId1"/>
          <a:stretch/>
        </p:blipFill>
        <p:spPr>
          <a:xfrm>
            <a:off x="539640" y="1484280"/>
            <a:ext cx="784872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2"/>
          <p:cNvSpPr txBox="1"/>
          <p:nvPr/>
        </p:nvSpPr>
        <p:spPr>
          <a:xfrm>
            <a:off x="611280" y="147600"/>
            <a:ext cx="80769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9c9c"/>
                </a:solidFill>
                <a:latin typeface="Arial Black"/>
              </a:rPr>
              <a:t>SYSTEMS OF ACTIVE IMMUNIZATION     </a:t>
            </a:r>
            <a:endParaRPr b="1" lang="en-US" sz="1600" spc="1" strike="noStrike">
              <a:ln w="12600">
                <a:solidFill>
                  <a:srgbClr val="000000"/>
                </a:solidFill>
                <a:miter/>
              </a:ln>
              <a:solidFill>
                <a:srgbClr val="9c9c9c"/>
              </a:solidFill>
              <a:latin typeface="Arial Black"/>
              <a:ea typeface="Arial Black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208080" y="693720"/>
            <a:ext cx="830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Primary ( first time) immunization &amp; booster immunization or revaccination, are to maintain protective immune level, if necess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607C-36CC-4D40-98AE-18100EFCB5C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Rectangle 3" descr=""/>
          <p:cNvPicPr/>
          <p:nvPr/>
        </p:nvPicPr>
        <p:blipFill>
          <a:blip r:embed="rId1"/>
          <a:stretch/>
        </p:blipFill>
        <p:spPr>
          <a:xfrm>
            <a:off x="152280" y="1871640"/>
            <a:ext cx="8199720" cy="41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Rectangle 5" descr=""/>
          <p:cNvPicPr/>
          <p:nvPr/>
        </p:nvPicPr>
        <p:blipFill>
          <a:blip r:embed="rId1"/>
          <a:stretch/>
        </p:blipFill>
        <p:spPr>
          <a:xfrm>
            <a:off x="324000" y="212760"/>
            <a:ext cx="8326440" cy="1012680"/>
          </a:xfrm>
          <a:prstGeom prst="rect">
            <a:avLst/>
          </a:prstGeom>
          <a:ln w="0">
            <a:noFill/>
          </a:ln>
        </p:spPr>
      </p:pic>
      <p:sp>
        <p:nvSpPr>
          <p:cNvPr id="23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ACDC-C765-478F-B9D4-2A89F560106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Rectangle 2" descr=""/>
          <p:cNvPicPr/>
          <p:nvPr/>
        </p:nvPicPr>
        <p:blipFill>
          <a:blip r:embed="rId2"/>
          <a:stretch/>
        </p:blipFill>
        <p:spPr>
          <a:xfrm>
            <a:off x="244440" y="1073160"/>
            <a:ext cx="832644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Rectangle 1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8197920" cy="841320"/>
          </a:xfrm>
          <a:prstGeom prst="rect">
            <a:avLst/>
          </a:prstGeom>
          <a:ln w="0">
            <a:noFill/>
          </a:ln>
        </p:spPr>
      </p:pic>
      <p:sp>
        <p:nvSpPr>
          <p:cNvPr id="23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5DF9-7B5C-4026-8875-49C7C925FDC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Rectangle 2" descr=""/>
          <p:cNvPicPr/>
          <p:nvPr/>
        </p:nvPicPr>
        <p:blipFill>
          <a:blip r:embed="rId2"/>
          <a:stretch/>
        </p:blipFill>
        <p:spPr>
          <a:xfrm>
            <a:off x="281160" y="774720"/>
            <a:ext cx="8557920" cy="3078000"/>
          </a:xfrm>
          <a:prstGeom prst="rect">
            <a:avLst/>
          </a:prstGeom>
          <a:ln w="0">
            <a:noFill/>
          </a:ln>
        </p:spPr>
      </p:pic>
      <p:pic>
        <p:nvPicPr>
          <p:cNvPr id="236" name="Rectangle 4" descr=""/>
          <p:cNvPicPr/>
          <p:nvPr/>
        </p:nvPicPr>
        <p:blipFill>
          <a:blip r:embed="rId3"/>
          <a:stretch/>
        </p:blipFill>
        <p:spPr>
          <a:xfrm>
            <a:off x="231840" y="2779560"/>
            <a:ext cx="8478720" cy="35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Rectangle 5" descr=""/>
          <p:cNvPicPr/>
          <p:nvPr/>
        </p:nvPicPr>
        <p:blipFill>
          <a:blip r:embed="rId1"/>
          <a:stretch/>
        </p:blipFill>
        <p:spPr>
          <a:xfrm>
            <a:off x="249120" y="212760"/>
            <a:ext cx="8705880" cy="457200"/>
          </a:xfrm>
          <a:prstGeom prst="rect">
            <a:avLst/>
          </a:prstGeom>
          <a:ln w="0">
            <a:noFill/>
          </a:ln>
        </p:spPr>
      </p:pic>
      <p:pic>
        <p:nvPicPr>
          <p:cNvPr id="238" name="Rectangle 1" descr=""/>
          <p:cNvPicPr/>
          <p:nvPr/>
        </p:nvPicPr>
        <p:blipFill>
          <a:blip r:embed="rId2"/>
          <a:stretch/>
        </p:blipFill>
        <p:spPr>
          <a:xfrm>
            <a:off x="249120" y="676440"/>
            <a:ext cx="5932440" cy="463320"/>
          </a:xfrm>
          <a:prstGeom prst="rect">
            <a:avLst/>
          </a:prstGeom>
          <a:ln w="0">
            <a:noFill/>
          </a:ln>
        </p:spPr>
      </p:pic>
      <p:pic>
        <p:nvPicPr>
          <p:cNvPr id="239" name="Rectangle 1" descr=""/>
          <p:cNvPicPr/>
          <p:nvPr/>
        </p:nvPicPr>
        <p:blipFill>
          <a:blip r:embed="rId3"/>
          <a:stretch/>
        </p:blipFill>
        <p:spPr>
          <a:xfrm>
            <a:off x="3780000" y="669960"/>
            <a:ext cx="493560" cy="463680"/>
          </a:xfrm>
          <a:prstGeom prst="rect">
            <a:avLst/>
          </a:prstGeom>
          <a:ln w="0">
            <a:noFill/>
          </a:ln>
        </p:spPr>
      </p:pic>
      <p:pic>
        <p:nvPicPr>
          <p:cNvPr id="240" name="Rectangle 6" descr=""/>
          <p:cNvPicPr/>
          <p:nvPr/>
        </p:nvPicPr>
        <p:blipFill>
          <a:blip r:embed="rId4"/>
          <a:stretch/>
        </p:blipFill>
        <p:spPr>
          <a:xfrm>
            <a:off x="249120" y="1133640"/>
            <a:ext cx="6469200" cy="463320"/>
          </a:xfrm>
          <a:prstGeom prst="rect">
            <a:avLst/>
          </a:prstGeom>
          <a:ln w="0">
            <a:noFill/>
          </a:ln>
        </p:spPr>
      </p:pic>
      <p:pic>
        <p:nvPicPr>
          <p:cNvPr id="241" name="Rectangle 3" descr=""/>
          <p:cNvPicPr/>
          <p:nvPr/>
        </p:nvPicPr>
        <p:blipFill>
          <a:blip r:embed="rId5"/>
          <a:stretch/>
        </p:blipFill>
        <p:spPr>
          <a:xfrm>
            <a:off x="4194000" y="665280"/>
            <a:ext cx="4913640" cy="461880"/>
          </a:xfrm>
          <a:prstGeom prst="rect">
            <a:avLst/>
          </a:prstGeom>
          <a:ln w="0">
            <a:noFill/>
          </a:ln>
        </p:spPr>
      </p:pic>
      <p:pic>
        <p:nvPicPr>
          <p:cNvPr id="242" name="Rectangle 2" descr=""/>
          <p:cNvPicPr/>
          <p:nvPr/>
        </p:nvPicPr>
        <p:blipFill>
          <a:blip r:embed="rId6"/>
          <a:stretch/>
        </p:blipFill>
        <p:spPr>
          <a:xfrm>
            <a:off x="158760" y="1700280"/>
            <a:ext cx="8564400" cy="390852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3D99-F3E6-452C-AC1D-8B09B1D82A1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Rectangle 3" descr=""/>
          <p:cNvPicPr/>
          <p:nvPr/>
        </p:nvPicPr>
        <p:blipFill>
          <a:blip r:embed="rId1"/>
          <a:stretch/>
        </p:blipFill>
        <p:spPr>
          <a:xfrm>
            <a:off x="334800" y="365040"/>
            <a:ext cx="8328240" cy="3170160"/>
          </a:xfrm>
          <a:prstGeom prst="rect">
            <a:avLst/>
          </a:prstGeom>
          <a:ln w="0">
            <a:noFill/>
          </a:ln>
        </p:spPr>
      </p:pic>
      <p:sp>
        <p:nvSpPr>
          <p:cNvPr id="24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70A3-850D-4C49-BDCC-27069613E53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295200" y="2637000"/>
            <a:ext cx="8569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accination coverage is the percent of at risk or susceptible individuals, or population who have been fully immunized against particular diseases by vaccines or tox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o be significantly effective in prevention of disease on mass or community level at least a satisfactory proportion (75% or more) of the at risk population must be immun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250920" y="252360"/>
            <a:ext cx="830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Rockwell Extra Bold"/>
                <a:ea typeface="Times New Roman"/>
              </a:rPr>
              <a:t>Why an actively immunized individual may get disease when exposed to infe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257040" y="1288080"/>
            <a:ext cx="849168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Tahoma"/>
              </a:rPr>
              <a:t>1-Causes related to the </a:t>
            </a:r>
            <a:r>
              <a:rPr b="1" lang="en-US" sz="2400" spc="-1" strike="noStrike">
                <a:solidFill>
                  <a:srgbClr val="660066"/>
                </a:solidFill>
                <a:latin typeface="Arial Black"/>
                <a:ea typeface="Tahoma"/>
              </a:rPr>
              <a:t>vaccine/ toxoids &amp; process of immunization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Tahoma"/>
              </a:rPr>
              <a:t> : inactivation of  live attenuated vaccine used; not using updated vaccine of antigenic ally changing organisms, moderate protective value of vacc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Tahoma"/>
              </a:rPr>
              <a:t>2- </a:t>
            </a:r>
            <a:r>
              <a:rPr b="1" lang="en-US" sz="2400" spc="-1" strike="noStrike">
                <a:solidFill>
                  <a:srgbClr val="000066"/>
                </a:solidFill>
                <a:latin typeface="Arial Black"/>
                <a:ea typeface="Tahoma"/>
              </a:rPr>
              <a:t>Host factors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  <a:ea typeface="Tahoma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Tahoma"/>
              </a:rPr>
              <a:t>Unsatisfactory or impaired immune respons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  <a:ea typeface="Tahoma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Tahoma"/>
              </a:rPr>
              <a:t>Serum antibody level at time of immunization; the higher the level, less immune response to active immunization &amp; vice ver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4E8F-964E-48A8-991C-D3204E2BFF0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1675-826F-4FFA-969F-F9CDAA18A7E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0" y="0"/>
          <a:ext cx="9144000" cy="7093080"/>
        </p:xfrm>
        <a:graphic>
          <a:graphicData uri="http://schemas.openxmlformats.org/drawingml/2006/table">
            <a:tbl>
              <a:tblPr/>
              <a:tblGrid>
                <a:gridCol w="1781280"/>
                <a:gridCol w="7362720"/>
              </a:tblGrid>
              <a:tr h="411120"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 &amp;d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cine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041480">
                <a:tc>
                  <a:txBody>
                    <a:bodyPr anchor="t">
                      <a:noAutofit/>
                    </a:bodyPr>
                    <a:p>
                      <a:pPr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ter birth(1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CG, OPV (0 dose) , HBV ( within 24hr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anchor="t">
                      <a:noAutofit/>
                    </a:bodyPr>
                    <a:p>
                      <a:pPr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000099"/>
                          </a:solidFill>
                          <a:latin typeface="Arial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d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DPT, Hib , HBV,IPV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&amp;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a viru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amp;</a:t>
                      </a:r>
                      <a:r>
                        <a:rPr b="1" lang="ar-IQ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السداسي )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, pneumococca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anchor="t">
                      <a:noAutofit/>
                    </a:bodyPr>
                    <a:p>
                      <a:pPr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Month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000099"/>
                          </a:solidFill>
                          <a:latin typeface="Arial"/>
                        </a:rPr>
                        <a:t>nd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dose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PT, Hib , HBV,IPV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&amp;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a virus &amp;O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neumococcal</a:t>
                      </a:r>
                      <a:r>
                        <a:rPr b="1" lang="ar-IQ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داسي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6640">
                <a:tc>
                  <a:txBody>
                    <a:bodyPr anchor="t">
                      <a:noAutofit/>
                    </a:bodyPr>
                    <a:p>
                      <a:pPr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Month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800" spc="-1" strike="noStrike" baseline="30000">
                          <a:solidFill>
                            <a:srgbClr val="000099"/>
                          </a:solidFill>
                          <a:latin typeface="Arial"/>
                        </a:rPr>
                        <a:t>rd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dose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PT, Hib , HBV, IPV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a virus , O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neumococ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anchor="t">
                      <a:noAutofit/>
                    </a:bodyPr>
                    <a:p>
                      <a:pPr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Month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les vaccine + vit A (100 ,000I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760">
                <a:tc>
                  <a:txBody>
                    <a:bodyPr anchor="t">
                      <a:noAutofit/>
                    </a:bodyPr>
                    <a:p>
                      <a:pPr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s{1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ose}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R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anchor="t">
                      <a:noAutofit/>
                    </a:bodyPr>
                    <a:p>
                      <a:pPr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PT , Hib,HBV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{ </a:t>
                      </a:r>
                      <a:r>
                        <a:rPr b="1" lang="en-US" sz="1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1</a:t>
                      </a:r>
                      <a:r>
                        <a:rPr b="1" lang="en-US" sz="1800" spc="-1" strike="noStrike" u="sng" baseline="30000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ST</a:t>
                      </a:r>
                      <a:r>
                        <a:rPr b="1" lang="en-US" sz="1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 booster dos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+ vit A ( 200,000IU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200">
                <a:tc>
                  <a:txBody>
                    <a:bodyPr anchor="t">
                      <a:noAutofit/>
                    </a:bodyPr>
                    <a:p>
                      <a:pPr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PT,Hib,HBV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)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( </a:t>
                      </a:r>
                      <a:r>
                        <a:rPr b="1" lang="en-US" sz="1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2</a:t>
                      </a:r>
                      <a:r>
                        <a:rPr b="1" lang="en-US" sz="1800" spc="-1" strike="noStrike" u="sng" baseline="30000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ND</a:t>
                      </a:r>
                      <a:r>
                        <a:rPr b="1" lang="en-US" sz="1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 booster dos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R(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000099"/>
                          </a:solidFill>
                          <a:latin typeface="Arial"/>
                        </a:rPr>
                        <a:t>nd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dos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Rectangle 1" descr=""/>
          <p:cNvPicPr/>
          <p:nvPr/>
        </p:nvPicPr>
        <p:blipFill>
          <a:blip r:embed="rId1"/>
          <a:stretch/>
        </p:blipFill>
        <p:spPr>
          <a:xfrm>
            <a:off x="1474920" y="133200"/>
            <a:ext cx="5870520" cy="1019160"/>
          </a:xfrm>
          <a:prstGeom prst="rect">
            <a:avLst/>
          </a:prstGeom>
          <a:ln w="0">
            <a:noFill/>
          </a:ln>
        </p:spPr>
      </p:pic>
      <p:sp>
        <p:nvSpPr>
          <p:cNvPr id="77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8957-02BC-4545-9E6F-57A6DFCACB7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431640" y="1044720"/>
            <a:ext cx="871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Each year, vaccines prevent more than 2.5 million child deaths globally. An additional 2 million child deaths could be prevented each year through immunization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5" descr="نتيجة بحث الصور عن ‪mmr vaccine pictures‬‏"/>
          <p:cNvPicPr/>
          <p:nvPr/>
        </p:nvPicPr>
        <p:blipFill>
          <a:blip r:embed="rId2"/>
          <a:stretch/>
        </p:blipFill>
        <p:spPr>
          <a:xfrm>
            <a:off x="0" y="2997360"/>
            <a:ext cx="914400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D469-D06A-44C4-865D-71554B4BD9B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HAZARDS OF IMMU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79280" y="85572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No immune response is entirely free from the risk of adverse reactions or remote sque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he adverse reactions that may occur may be grouped under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324000" y="1778040"/>
            <a:ext cx="39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he following hea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452520" y="2492280"/>
            <a:ext cx="8367480" cy="41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actions inherent to ino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actions due to faulty techniq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actions due to hyper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eurological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flammatory rea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th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31BD-B11E-40C6-97F8-972CA27AE42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214200" y="136440"/>
            <a:ext cx="87138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 Black"/>
              </a:rPr>
              <a:t>   </a:t>
            </a:r>
            <a:r>
              <a:rPr b="0" lang="en-US" sz="2800" spc="-1" strike="noStrike">
                <a:solidFill>
                  <a:srgbClr val="336699"/>
                </a:solidFill>
                <a:latin typeface="Arial Black"/>
              </a:rPr>
              <a:t>Ways of achieving satisfactory immunization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fficient immunization service; urban and r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ealth awareness and cooperation of the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eriodic mass immunization campaigns, to cover those who missed regular immu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utreach programs in rural and migrant areas, and home vis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485E-D9D9-421E-9DA1-9BE37050FEF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4269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Application of active immu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33200" y="833400"/>
            <a:ext cx="86709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nfants and children expanded immunization program (schedu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ctive immunization for adult females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MR vaccine is given in adolescence girls, Tetanus toxoid in pregnan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accination for special occup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6267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73"/>
                </a:solidFill>
                <a:latin typeface="Arial Black"/>
              </a:rPr>
              <a:t>Vaccination for special life sty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6267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73"/>
                </a:solidFill>
                <a:latin typeface="Arial Black"/>
              </a:rPr>
              <a:t>Vaccination for special environmental sit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 Black"/>
              </a:rPr>
              <a:t>All should receive hepatitis B vac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339840" y="3625920"/>
            <a:ext cx="867096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accinations for special health status per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accinations in tra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accines against bioterrorism :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nthr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mall p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l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BE7A-0830-4170-8BBA-63108C4AA31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500040" y="333360"/>
            <a:ext cx="8643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Vaccination for special occup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179280" y="814320"/>
            <a:ext cx="87854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Health care workers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epatitis B, influenza, MMR, p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Public safety personnel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(police, fire fighters)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and staff of institutions for the developmentally disabled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epatitis B, influ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Vets and animal handlers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rabies, plague and anthr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Sewage workers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T, hepatitis A, polio,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Food handlers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Military troops and camp dwellers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neumococcal, meningococcal, influenza, BCG (for non reactors), tetan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A088-E0F0-4B6F-A36C-810A86A27F1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130320" y="252360"/>
            <a:ext cx="888336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Vaccinations for special health status pers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Vaccinations in travel: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Haj for instance necessities meningococcal vaccination from all over the world , TAB, YF from places like south Africa, and cholera from places like Ind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324000" y="692280"/>
            <a:ext cx="76593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mmuno-compromised persons ( Leukemia, lymphoma, HIV, malignancy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Hemodialysis and transplantation should receive the following vaccines according to their situ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 Black"/>
              </a:rPr>
              <a:t>HBV, Influenza, Pneumococcal vacci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CC33-F7E7-4D7D-8C23-16B2B587B69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905040" y="189000"/>
            <a:ext cx="49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 Black"/>
              </a:rPr>
              <a:t>Why are vaccines so speci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24000" y="822240"/>
            <a:ext cx="882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3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 Black"/>
              </a:rPr>
              <a:t>Vaccines promote health: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nlike many other health interventions, they help healthy people stay healthy, removing a major obstacle to human develop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369720" y="1947960"/>
            <a:ext cx="831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3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 Black"/>
              </a:rPr>
              <a:t>Vaccines have an extensive reach: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hey protect individuals, communities, and entire popul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287280" y="2852640"/>
            <a:ext cx="8569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3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 Black"/>
              </a:rPr>
              <a:t>Vaccines have rapid impact: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he impact of most vaccines on communities and populations is almost immedi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r example, between 2000 and 2008, vaccination reduced global deaths from   measles by 78% (from 750 000 deaths to 164 000 deaths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6C7A-D2F3-459B-8188-186BF499B6C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Rectangle 3" descr=""/>
          <p:cNvPicPr/>
          <p:nvPr/>
        </p:nvPicPr>
        <p:blipFill>
          <a:blip r:embed="rId1"/>
          <a:stretch/>
        </p:blipFill>
        <p:spPr>
          <a:xfrm>
            <a:off x="128520" y="158760"/>
            <a:ext cx="87663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10"/>
          <p:cNvSpPr txBox="1"/>
          <p:nvPr/>
        </p:nvSpPr>
        <p:spPr>
          <a:xfrm>
            <a:off x="533520" y="228600"/>
            <a:ext cx="3894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9c9c"/>
                </a:solidFill>
                <a:latin typeface="Arial Black"/>
              </a:rPr>
              <a:t>IMMUNIZING   AGENTS</a:t>
            </a:r>
            <a:endParaRPr b="1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9c9c9c"/>
              </a:solidFill>
              <a:latin typeface="Arial Black"/>
              <a:ea typeface="Arial Black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521640" y="727200"/>
            <a:ext cx="44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The immunizing agents m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5335560" y="72216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be class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4"/>
          <p:cNvSpPr/>
          <p:nvPr/>
        </p:nvSpPr>
        <p:spPr>
          <a:xfrm>
            <a:off x="722520" y="1179360"/>
            <a:ext cx="73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as 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vaccine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immunoglobulin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antisera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16"/>
          <p:cNvSpPr txBox="1"/>
          <p:nvPr/>
        </p:nvSpPr>
        <p:spPr>
          <a:xfrm>
            <a:off x="412920" y="1844640"/>
            <a:ext cx="26175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9c9c"/>
                </a:solidFill>
                <a:latin typeface="Arial Black"/>
              </a:rPr>
              <a:t>Vaccin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9c9c"/>
              </a:solidFill>
              <a:latin typeface="Arial Black"/>
              <a:ea typeface="Arial Black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339840" y="2403360"/>
            <a:ext cx="8613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A vaccine is a biological preparation that improves immunity to a particular diseas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A vaccine typically contain an agent that resembles a disease –causing microorganism , and is often made from weakened or killed forms of the microbe or its tox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he agent stimulates the body’s immune system . Vaccines can b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 Black"/>
                <a:ea typeface="Times New Roman"/>
              </a:rPr>
              <a:t>prophylactic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 Black"/>
                <a:ea typeface="Times New Roman"/>
              </a:rPr>
              <a:t>  or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 Black"/>
                <a:ea typeface="Times New Roman"/>
              </a:rPr>
              <a:t>therapeutic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 Black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77BF-DA69-4BBB-B79E-ECA6775B063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BDA2-9D2E-4FA5-960D-4ED3968AFAD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179280" y="6206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Characteristics of Effective Vacc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666360" y="1484280"/>
            <a:ext cx="17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726480" y="2276640"/>
            <a:ext cx="25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876600" y="3040200"/>
            <a:ext cx="436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ong-lasting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38040" y="4181400"/>
            <a:ext cx="839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ministration easy to deliver with no side-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539640" y="363852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st Inexpensive to produce an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7194240" y="3638520"/>
            <a:ext cx="13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9D46-E7E4-464B-86B2-57EB244ECA6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Rectangle 12" descr=""/>
          <p:cNvPicPr/>
          <p:nvPr/>
        </p:nvPicPr>
        <p:blipFill>
          <a:blip r:embed="rId1"/>
          <a:stretch/>
        </p:blipFill>
        <p:spPr>
          <a:xfrm>
            <a:off x="957240" y="390600"/>
            <a:ext cx="7083360" cy="736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Image result for types of vaccines"/>
          <p:cNvPicPr/>
          <p:nvPr/>
        </p:nvPicPr>
        <p:blipFill>
          <a:blip r:embed="rId2"/>
          <a:stretch/>
        </p:blipFill>
        <p:spPr>
          <a:xfrm>
            <a:off x="0" y="1112760"/>
            <a:ext cx="914400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Rectangle 12" descr=""/>
          <p:cNvPicPr/>
          <p:nvPr/>
        </p:nvPicPr>
        <p:blipFill>
          <a:blip r:embed="rId1"/>
          <a:stretch/>
        </p:blipFill>
        <p:spPr>
          <a:xfrm>
            <a:off x="542880" y="328680"/>
            <a:ext cx="4913280" cy="5857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"/>
          <p:cNvSpPr/>
          <p:nvPr/>
        </p:nvSpPr>
        <p:spPr>
          <a:xfrm>
            <a:off x="547560" y="1052640"/>
            <a:ext cx="326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 Black"/>
              </a:rPr>
              <a:t>1-LIVE VACCIN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539640" y="16225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Only small pox vaccine is no more in uses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673200" y="209088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e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5" descr=""/>
          <p:cNvPicPr/>
          <p:nvPr/>
        </p:nvPicPr>
        <p:blipFill>
          <a:blip r:embed="rId2"/>
          <a:stretch/>
        </p:blipFill>
        <p:spPr>
          <a:xfrm>
            <a:off x="5364000" y="2320920"/>
            <a:ext cx="3486240" cy="31878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"/>
          <p:cNvSpPr/>
          <p:nvPr/>
        </p:nvSpPr>
        <p:spPr>
          <a:xfrm>
            <a:off x="1042920" y="5508720"/>
            <a:ext cx="6629400" cy="114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young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Bangladesh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irl infected with smallpox (1973). Due to the development of the smallpox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vaccin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disease was officially eradicated in 197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203D-317E-485A-A85D-FF8CEB525CF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"/>
          <p:cNvPicPr/>
          <p:nvPr/>
        </p:nvPicPr>
        <p:blipFill>
          <a:blip r:embed="rId5"/>
          <a:stretch/>
        </p:blipFill>
        <p:spPr>
          <a:xfrm>
            <a:off x="395280" y="2550960"/>
            <a:ext cx="4645080" cy="27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Najlaa</cp:lastModifiedBy>
  <dcterms:modified xsi:type="dcterms:W3CDTF">2019-02-17T13:51:22Z</dcterms:modified>
  <cp:revision>344</cp:revision>
  <dc:subject/>
  <dc:title>Diapositiva 1</dc:title>
</cp:coreProperties>
</file>