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5.jpeg" ContentType="image/jpeg"/>
  <Override PartName="/ppt/media/image35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11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06E-E27A-48C9-94D1-7C39EBA9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7A1D-CDFA-4984-8DB7-97C7EC68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4BDA-D050-4108-87FB-9641B40C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696C-4982-4172-8824-E8C5C469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803D-B248-4980-9E25-5D04871A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1650-B12F-48A9-9DEA-15F7A738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1CEE-4A48-482A-A370-D08B15C8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1682-6763-4880-A764-EBD21ABF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741D-1151-4B9C-8165-A4B14999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D817-8850-4211-A2E7-B10B6B52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1427-AE9A-4848-8CEF-C752C2EB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B5C-0F60-41A4-98AB-8BBB8ABA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B536-788A-4794-9896-D205BD4A3AF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en.wikipedia.org/wiki/Rotavirus" TargetMode="External"/><Relationship Id="rId3" Type="http://schemas.openxmlformats.org/officeDocument/2006/relationships/hyperlink" Target="http://en.wikipedia.org/wiki/Diarrhea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en.wikipedia.org/wiki/Bangladesh" TargetMode="External"/><Relationship Id="rId4" Type="http://schemas.openxmlformats.org/officeDocument/2006/relationships/hyperlink" Target="http://en.wikipedia.org/wiki/Vaccine" TargetMode="External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5" descr=""/>
          <p:cNvPicPr/>
          <p:nvPr/>
        </p:nvPicPr>
        <p:blipFill>
          <a:blip r:embed="rId1"/>
          <a:stretch/>
        </p:blipFill>
        <p:spPr>
          <a:xfrm>
            <a:off x="469800" y="328680"/>
            <a:ext cx="7845480" cy="245088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4" descr=""/>
          <p:cNvPicPr/>
          <p:nvPr/>
        </p:nvPicPr>
        <p:blipFill>
          <a:blip r:embed="rId2"/>
          <a:stretch/>
        </p:blipFill>
        <p:spPr>
          <a:xfrm>
            <a:off x="5894280" y="2255760"/>
            <a:ext cx="2659320" cy="523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46080" y="6211800"/>
            <a:ext cx="46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P</a:t>
            </a:r>
            <a:r>
              <a:rPr b="0" lang="ar-IQ" sz="1800" spc="-1" strike="noStrike">
                <a:solidFill>
                  <a:srgbClr val="000000"/>
                </a:solidFill>
                <a:latin typeface="Cooper Black"/>
              </a:rPr>
              <a:t>ro Dr NAJLAA FAWZ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800" spc="-1" strike="noStrike">
                <a:solidFill>
                  <a:srgbClr val="000000"/>
                </a:solidFill>
                <a:latin typeface="Cooper Black"/>
              </a:rPr>
              <a:t>Family and Community Medicine D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ctangle 1" descr=""/>
          <p:cNvPicPr/>
          <p:nvPr/>
        </p:nvPicPr>
        <p:blipFill>
          <a:blip r:embed="rId1"/>
          <a:stretch/>
        </p:blipFill>
        <p:spPr>
          <a:xfrm>
            <a:off x="324000" y="378000"/>
            <a:ext cx="7697520" cy="4633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"/>
          <p:cNvSpPr/>
          <p:nvPr/>
        </p:nvSpPr>
        <p:spPr>
          <a:xfrm>
            <a:off x="324000" y="1060560"/>
            <a:ext cx="68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 virulent vaccine, virulent pathoge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958800" y="106056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587160" y="1590840"/>
            <a:ext cx="78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an not be used as such, but so treated to be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417240" y="22096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ttenuated an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3425040" y="2217600"/>
            <a:ext cx="49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irulent, but remain antigen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BA73-A714-4A14-8691-52B7C5CF2B8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23" descr=""/>
          <p:cNvPicPr/>
          <p:nvPr/>
        </p:nvPicPr>
        <p:blipFill>
          <a:blip r:embed="rId1"/>
          <a:stretch/>
        </p:blipFill>
        <p:spPr>
          <a:xfrm>
            <a:off x="457200" y="285840"/>
            <a:ext cx="7937640" cy="52524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2" descr=""/>
          <p:cNvPicPr/>
          <p:nvPr/>
        </p:nvPicPr>
        <p:blipFill>
          <a:blip r:embed="rId2"/>
          <a:stretch/>
        </p:blipFill>
        <p:spPr>
          <a:xfrm>
            <a:off x="480960" y="907920"/>
            <a:ext cx="1042920" cy="5241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1839960" y="90792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se for  prevention of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0AD4-2753-46B5-8D57-2B007352B42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731520" y="1628640"/>
            <a:ext cx="495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 Black"/>
              </a:rPr>
              <a:t>OPV (oral polio vaccine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Arial Blac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6028200" y="159876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b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72040" y="2421000"/>
            <a:ext cx="16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 Black"/>
              </a:rPr>
              <a:t>Meas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479520" y="3068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 Black"/>
              </a:rPr>
              <a:t>MMR(measles, mumps, rubel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573120" y="3860640"/>
            <a:ext cx="15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 Black"/>
              </a:rPr>
              <a:t>Rub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1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4194360" cy="5857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228600" y="914400"/>
            <a:ext cx="8915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rotavirus vaccin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protects children fro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rotaviruse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, which are the leading cause of sever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Black"/>
                <a:hlinkClick r:id="rId3"/>
              </a:rPr>
              <a:t>diarrhe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mong infants and young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162000" y="2436840"/>
            <a:ext cx="836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ota virus vaccine is a live,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Black"/>
              </a:rPr>
              <a:t>oral pentavalent vaccine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at contains five rotaviru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https://encrypted-tbn2.gstatic.com/images?q=tbn:ANd9GcTVdly4uDPXh-_SxVZiDnj25paSJlH6vNJ3VvWefYE5VyvI8k6vow"/>
          <p:cNvPicPr/>
          <p:nvPr/>
        </p:nvPicPr>
        <p:blipFill>
          <a:blip r:embed="rId4"/>
          <a:stretch/>
        </p:blipFill>
        <p:spPr>
          <a:xfrm>
            <a:off x="6524640" y="4076640"/>
            <a:ext cx="2619360" cy="2781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https://encrypted-tbn3.gstatic.com/images?q=tbn:ANd9GcSpjUhVFk6__zUozvz-aXhOdTH9BP5OoX7P0zIlwreDkA674N5HkQ"/>
          <p:cNvPicPr/>
          <p:nvPr/>
        </p:nvPicPr>
        <p:blipFill>
          <a:blip r:embed="rId5"/>
          <a:stretch/>
        </p:blipFill>
        <p:spPr>
          <a:xfrm>
            <a:off x="0" y="4292640"/>
            <a:ext cx="4575240" cy="2565360"/>
          </a:xfrm>
          <a:prstGeom prst="rect">
            <a:avLst/>
          </a:prstGeom>
          <a:ln w="0">
            <a:noFill/>
          </a:ln>
        </p:spPr>
      </p:pic>
      <p:sp>
        <p:nvSpPr>
          <p:cNvPr id="13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D2A6-EE5D-4EA6-9804-DAD72E320A3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41000" y="30492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 general,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5"/>
          <p:cNvSpPr/>
          <p:nvPr/>
        </p:nvSpPr>
        <p:spPr>
          <a:xfrm>
            <a:off x="2988720" y="31284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tten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4"/>
          <p:cNvSpPr/>
          <p:nvPr/>
        </p:nvSpPr>
        <p:spPr>
          <a:xfrm>
            <a:off x="5220720" y="312840"/>
            <a:ext cx="28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accines are m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55680" y="77472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tent immun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3875760" y="77472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gents than 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770760" y="1341360"/>
            <a:ext cx="42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accines, </a:t>
            </a:r>
            <a:r>
              <a:rPr b="0" lang="en-US" sz="2400" spc="-1" strike="noStrike">
                <a:solidFill>
                  <a:srgbClr val="993300"/>
                </a:solidFill>
                <a:latin typeface="Arial Black"/>
              </a:rPr>
              <a:t>the reasons being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792000" y="2492280"/>
            <a:ext cx="48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I ) live organisms multiply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102000" y="2492280"/>
            <a:ext cx="20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ost and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971640" y="2954160"/>
            <a:ext cx="55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sulting antige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4200480" y="295416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se is larger than wha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1132560" y="3416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j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325440" y="4292640"/>
            <a:ext cx="85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ii) live vaccines have all the ma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6333480" y="427500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nd min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098360" y="473724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ntige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2859120" y="473724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7E8E-07F0-4CD6-B6EC-690A681F220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9"/>
          <p:cNvSpPr/>
          <p:nvPr/>
        </p:nvSpPr>
        <p:spPr>
          <a:xfrm>
            <a:off x="395280" y="54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iii) live vaccines occupy 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2"/>
          <p:cNvSpPr/>
          <p:nvPr/>
        </p:nvSpPr>
        <p:spPr>
          <a:xfrm>
            <a:off x="6012000" y="54936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issues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1158840" y="9986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d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4"/>
          <p:cNvSpPr/>
          <p:nvPr/>
        </p:nvSpPr>
        <p:spPr>
          <a:xfrm>
            <a:off x="2545560" y="1009800"/>
            <a:ext cx="54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s for example, intestinal mucosa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116000" y="1460520"/>
            <a:ext cx="52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oral p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3560040" y="146052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acc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7"/>
          <p:cNvSpPr/>
          <p:nvPr/>
        </p:nvSpPr>
        <p:spPr>
          <a:xfrm>
            <a:off x="797040" y="220500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iv) There may be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8"/>
          <p:cNvSpPr/>
          <p:nvPr/>
        </p:nvSpPr>
        <p:spPr>
          <a:xfrm>
            <a:off x="4780080" y="218916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chanisms such a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9"/>
          <p:cNvSpPr/>
          <p:nvPr/>
        </p:nvSpPr>
        <p:spPr>
          <a:xfrm>
            <a:off x="1327680" y="265104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ersist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3393720" y="2651040"/>
            <a:ext cx="13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f la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>
            <a:off x="4970160" y="26510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8240-9066-417C-B0DD-20E74E69664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1"/>
          <p:cNvSpPr/>
          <p:nvPr/>
        </p:nvSpPr>
        <p:spPr>
          <a:xfrm>
            <a:off x="477000" y="457200"/>
            <a:ext cx="51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uch vaccines produce a d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2"/>
          <p:cNvSpPr/>
          <p:nvPr/>
        </p:nvSpPr>
        <p:spPr>
          <a:xfrm>
            <a:off x="5907240" y="44460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mmunity , but n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68640" y="91908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lways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011320" y="92880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3"/>
          <p:cNvSpPr/>
          <p:nvPr/>
        </p:nvSpPr>
        <p:spPr>
          <a:xfrm>
            <a:off x="2982240" y="93672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s that of natural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739080" y="184932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ive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1258200" y="183528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tten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218040" y="1820880"/>
            <a:ext cx="80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accines should not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382680" y="228276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ministe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2957040" y="226548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 persons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699160" y="227484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mmune de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382680" y="2744640"/>
            <a:ext cx="41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seases or to pers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4520520" y="272736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ose imm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975600" y="3171960"/>
            <a:ext cx="60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sponse may be suppressed becaus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250920" y="3606840"/>
            <a:ext cx="45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ymph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7449120" y="314496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ukem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2695320" y="3633840"/>
            <a:ext cx="55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r malignancy or because of therap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369720" y="40942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ith corticosteroi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4434840" y="409428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lkylating agents, anti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369720" y="4556160"/>
            <a:ext cx="54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tabolic agen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3630240" y="454644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r rad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A15E-FA01-4EBA-812A-2B5E50A6D8E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735840" y="3333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egnancy is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287600" y="33192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traind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916200" y="1052640"/>
            <a:ext cx="76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en two live vaccines are required they should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306720" y="1514520"/>
            <a:ext cx="9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814760" y="1504800"/>
            <a:ext cx="61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ither simultaneously at different sites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247680" y="1959120"/>
            <a:ext cx="59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ith an interval of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1028520" y="2697120"/>
            <a:ext cx="64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 the case of live vaccines, immuniza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851280" y="1959120"/>
            <a:ext cx="44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ast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ee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912960" y="3059280"/>
            <a:ext cx="55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enerally achieved with a single d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AF7A-8E45-46B5-B300-5B090DB7FC4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703080" y="365760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exception is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Black"/>
              </a:rPr>
              <a:t>p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4623120" y="3657600"/>
            <a:ext cx="40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accine which needs thr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484920" y="41194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1356840" y="4127400"/>
            <a:ext cx="49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re doses to be given at spa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6818400" y="4137120"/>
            <a:ext cx="18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val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532080" y="460548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duce 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3413160" y="461628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1" descr=""/>
          <p:cNvPicPr/>
          <p:nvPr/>
        </p:nvPicPr>
        <p:blipFill>
          <a:blip r:embed="rId1"/>
          <a:stretch/>
        </p:blipFill>
        <p:spPr>
          <a:xfrm>
            <a:off x="152280" y="122400"/>
            <a:ext cx="8541000" cy="38890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3278-6908-47ED-96DA-0DFE1280241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07800" y="521028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only absolute contraindication to their administration is a severe local or general reaction to a previous d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250920" y="39592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y tend to provide a shorter length of protection than live vaccines, and are more likely to require boosters to create long-term i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1" descr=""/>
          <p:cNvPicPr/>
          <p:nvPr/>
        </p:nvPicPr>
        <p:blipFill>
          <a:blip r:embed="rId1"/>
          <a:stretch/>
        </p:blipFill>
        <p:spPr>
          <a:xfrm>
            <a:off x="158760" y="334800"/>
            <a:ext cx="8624880" cy="5048280"/>
          </a:xfrm>
          <a:prstGeom prst="rect">
            <a:avLst/>
          </a:prstGeom>
          <a:ln w="0">
            <a:noFill/>
          </a:ln>
        </p:spPr>
      </p:pic>
      <p:sp>
        <p:nvSpPr>
          <p:cNvPr id="21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D352-C963-4A99-91A1-611679E3B06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108000" y="121680"/>
            <a:ext cx="8874000" cy="59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Arial Black"/>
                <a:ea typeface="Times New Roman"/>
              </a:rPr>
              <a:t>5-SURFACE – ANTIGEN VACCINE (subuni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tein subunit –rather than introducing an inactivated or attenuated microorganism to immune system, a fragment of it can create an immun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xamples include the subunit  vaccine against </a:t>
            </a:r>
            <a:r>
              <a:rPr b="1" i="1" lang="en-US" sz="2000" spc="-1" strike="noStrike">
                <a:solidFill>
                  <a:srgbClr val="993300"/>
                </a:solidFill>
                <a:latin typeface="Arial Black"/>
                <a:ea typeface="Times New Roman"/>
              </a:rPr>
              <a:t>Hepatitis B virus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that is composed of only the surface proteins of the virus ;      two forms were prepared for HBV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*</a:t>
            </a:r>
            <a:r>
              <a:rPr b="1" lang="en-US" sz="2000" spc="-1" strike="noStrike">
                <a:solidFill>
                  <a:srgbClr val="993300"/>
                </a:solidFill>
                <a:latin typeface="Tahoma"/>
                <a:ea typeface="Tahoma"/>
              </a:rPr>
              <a:t>Plasma- derived hepatitis B vaccine, made of Hbs Ag, prepared from healthy Hbs Ag carr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east – recombinant hepatitis B vaccine; Hbs Ag needed to prepare the vaccine is produced by recombinant DNA in yeast cell, it is the vaccine used at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Virus –like particle (VLP) vaccine against human papilloma virus (HPV)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768D-71F2-49AB-B818-EC1A0F41B9F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BC0C-AB78-4A5C-B6B7-702C404D0BD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581280" y="860400"/>
            <a:ext cx="21337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 def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9"/>
          <p:cNvSpPr/>
          <p:nvPr/>
        </p:nvSpPr>
        <p:spPr>
          <a:xfrm>
            <a:off x="4645080" y="1546200"/>
            <a:ext cx="0" cy="45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20"/>
          <p:cNvSpPr/>
          <p:nvPr/>
        </p:nvSpPr>
        <p:spPr>
          <a:xfrm>
            <a:off x="1371600" y="2013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755640" y="2400480"/>
            <a:ext cx="21337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21"/>
          <p:cNvSpPr/>
          <p:nvPr/>
        </p:nvSpPr>
        <p:spPr>
          <a:xfrm>
            <a:off x="1365120" y="2025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3"/>
          <p:cNvSpPr/>
          <p:nvPr/>
        </p:nvSpPr>
        <p:spPr>
          <a:xfrm flipH="1">
            <a:off x="374760" y="28526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4"/>
          <p:cNvSpPr/>
          <p:nvPr/>
        </p:nvSpPr>
        <p:spPr>
          <a:xfrm>
            <a:off x="351000" y="285264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5"/>
          <p:cNvSpPr/>
          <p:nvPr/>
        </p:nvSpPr>
        <p:spPr>
          <a:xfrm>
            <a:off x="374760" y="364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3"/>
          <p:cNvSpPr/>
          <p:nvPr/>
        </p:nvSpPr>
        <p:spPr>
          <a:xfrm>
            <a:off x="831960" y="3378240"/>
            <a:ext cx="21333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llowing clinical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6"/>
          <p:cNvSpPr/>
          <p:nvPr/>
        </p:nvSpPr>
        <p:spPr>
          <a:xfrm>
            <a:off x="355680" y="429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4"/>
          <p:cNvSpPr/>
          <p:nvPr/>
        </p:nvSpPr>
        <p:spPr>
          <a:xfrm>
            <a:off x="812880" y="4025880"/>
            <a:ext cx="23191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llowing subclinical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8"/>
          <p:cNvSpPr/>
          <p:nvPr/>
        </p:nvSpPr>
        <p:spPr>
          <a:xfrm>
            <a:off x="355680" y="5122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5"/>
          <p:cNvSpPr/>
          <p:nvPr/>
        </p:nvSpPr>
        <p:spPr>
          <a:xfrm>
            <a:off x="820800" y="4871880"/>
            <a:ext cx="21333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llowing vacc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5"/>
          <p:cNvSpPr/>
          <p:nvPr/>
        </p:nvSpPr>
        <p:spPr>
          <a:xfrm>
            <a:off x="4176000" y="36291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7"/>
          <p:cNvSpPr/>
          <p:nvPr/>
        </p:nvSpPr>
        <p:spPr>
          <a:xfrm flipH="1" flipV="1">
            <a:off x="2953800" y="3644640"/>
            <a:ext cx="1219320" cy="16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8"/>
          <p:cNvSpPr/>
          <p:nvPr/>
        </p:nvSpPr>
        <p:spPr>
          <a:xfrm flipH="1">
            <a:off x="3131640" y="3813120"/>
            <a:ext cx="1041480" cy="43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6"/>
          <p:cNvSpPr/>
          <p:nvPr/>
        </p:nvSpPr>
        <p:spPr>
          <a:xfrm>
            <a:off x="4176720" y="48769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1"/>
          <p:cNvSpPr/>
          <p:nvPr/>
        </p:nvSpPr>
        <p:spPr>
          <a:xfrm flipH="1">
            <a:off x="2998440" y="505944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7924680" y="2025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372360" y="2373480"/>
            <a:ext cx="213336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ive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9"/>
          <p:cNvSpPr/>
          <p:nvPr/>
        </p:nvSpPr>
        <p:spPr>
          <a:xfrm>
            <a:off x="8505720" y="2743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0"/>
          <p:cNvSpPr/>
          <p:nvPr/>
        </p:nvSpPr>
        <p:spPr>
          <a:xfrm>
            <a:off x="8886960" y="273060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1"/>
          <p:cNvSpPr/>
          <p:nvPr/>
        </p:nvSpPr>
        <p:spPr>
          <a:xfrm flipH="1">
            <a:off x="8458200" y="3728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8"/>
          <p:cNvSpPr/>
          <p:nvPr/>
        </p:nvSpPr>
        <p:spPr>
          <a:xfrm>
            <a:off x="6138720" y="3378240"/>
            <a:ext cx="2319480" cy="598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fer of mater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bodies Through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9"/>
          <p:cNvSpPr/>
          <p:nvPr/>
        </p:nvSpPr>
        <p:spPr>
          <a:xfrm flipV="1">
            <a:off x="4761000" y="3710160"/>
            <a:ext cx="1377720" cy="11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0"/>
          <p:cNvSpPr/>
          <p:nvPr/>
        </p:nvSpPr>
        <p:spPr>
          <a:xfrm>
            <a:off x="4946760" y="3870360"/>
            <a:ext cx="141912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2"/>
          <p:cNvSpPr/>
          <p:nvPr/>
        </p:nvSpPr>
        <p:spPr>
          <a:xfrm flipH="1">
            <a:off x="8496000" y="4559400"/>
            <a:ext cx="39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7"/>
          <p:cNvSpPr/>
          <p:nvPr/>
        </p:nvSpPr>
        <p:spPr>
          <a:xfrm>
            <a:off x="6372360" y="4248000"/>
            <a:ext cx="2133360" cy="578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fer of mater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bodies Through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2"/>
          <p:cNvSpPr/>
          <p:nvPr/>
        </p:nvSpPr>
        <p:spPr>
          <a:xfrm>
            <a:off x="5170320" y="5060880"/>
            <a:ext cx="108936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3"/>
          <p:cNvSpPr/>
          <p:nvPr/>
        </p:nvSpPr>
        <p:spPr>
          <a:xfrm flipH="1">
            <a:off x="8458200" y="5108400"/>
            <a:ext cx="419040" cy="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6"/>
          <p:cNvSpPr/>
          <p:nvPr/>
        </p:nvSpPr>
        <p:spPr>
          <a:xfrm>
            <a:off x="6249960" y="4813200"/>
            <a:ext cx="2217600" cy="78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llowing administration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munoglobulin or anti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1" descr=""/>
          <p:cNvPicPr/>
          <p:nvPr/>
        </p:nvPicPr>
        <p:blipFill>
          <a:blip r:embed="rId1"/>
          <a:stretch/>
        </p:blipFill>
        <p:spPr>
          <a:xfrm>
            <a:off x="212760" y="115920"/>
            <a:ext cx="2212920" cy="5857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144360" y="2514600"/>
            <a:ext cx="885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y are detoxicated exotoxins preparations which stimulate formation of humoral antitoxin i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Diphtheria toxoids &amp; tetanus toxoids are widely used for active immunization, each by itself or in combinations (DPT&amp; DT) ,Pertussis toxoids  ( less reaction), Cholera toxoid ;oral , against cholera exotoxin, which is the major pathogenic factor of cholera vib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58F3-6965-465C-9B7E-324E448DC35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249120" y="701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ome bacterial diseases are not directly caused by a bacterium itself, but by a toxin produced by the bacter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BE92-2D9F-4D4F-A0C1-CABADBACDA1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760680" y="254160"/>
            <a:ext cx="39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ombination Vacc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95280" y="9586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bination vaccines take two or more vaccines that could be given individually and put them into one sh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33280" y="1846440"/>
            <a:ext cx="87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bination vaccines defines as “a product whose components can be equally divided into independently available routine vaccin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217440" y="2960640"/>
            <a:ext cx="8764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hat are some examples of comb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accin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M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TaP-Hib-p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TaP-hepatitis B- IP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TP-HB-Hib –IP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156A-3680-498F-B80A-05856671AF4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250920" y="50148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antages of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acc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Image result for hexa vaccine"/>
          <p:cNvPicPr/>
          <p:nvPr/>
        </p:nvPicPr>
        <p:blipFill>
          <a:blip r:embed="rId1"/>
          <a:stretch/>
        </p:blipFill>
        <p:spPr>
          <a:xfrm>
            <a:off x="539640" y="1484280"/>
            <a:ext cx="784872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611280" y="147600"/>
            <a:ext cx="8076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9c9c"/>
                </a:solidFill>
                <a:latin typeface="Arial Black"/>
              </a:rPr>
              <a:t>SYSTEMS OF ACTIVE IMMUNIZATION     </a:t>
            </a:r>
            <a:endParaRPr b="1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9c9c9c"/>
              </a:solidFill>
              <a:latin typeface="Arial Black"/>
              <a:ea typeface="Arial Black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8080" y="693720"/>
            <a:ext cx="830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imary ( first time) immunization &amp; booster immunization or revaccination, are to maintain protective immune level, if necess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863B-817D-4032-A1A7-4AEA2456108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Rectangle 3" descr=""/>
          <p:cNvPicPr/>
          <p:nvPr/>
        </p:nvPicPr>
        <p:blipFill>
          <a:blip r:embed="rId1"/>
          <a:stretch/>
        </p:blipFill>
        <p:spPr>
          <a:xfrm>
            <a:off x="152280" y="1871640"/>
            <a:ext cx="819972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5" descr=""/>
          <p:cNvPicPr/>
          <p:nvPr/>
        </p:nvPicPr>
        <p:blipFill>
          <a:blip r:embed="rId1"/>
          <a:stretch/>
        </p:blipFill>
        <p:spPr>
          <a:xfrm>
            <a:off x="324000" y="212760"/>
            <a:ext cx="8326440" cy="1012680"/>
          </a:xfrm>
          <a:prstGeom prst="rect">
            <a:avLst/>
          </a:prstGeom>
          <a:ln w="0">
            <a:noFill/>
          </a:ln>
        </p:spPr>
      </p:pic>
      <p:sp>
        <p:nvSpPr>
          <p:cNvPr id="23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379A-7F49-40DD-8BC2-4D23E85F4EB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Rectangle 2" descr=""/>
          <p:cNvPicPr/>
          <p:nvPr/>
        </p:nvPicPr>
        <p:blipFill>
          <a:blip r:embed="rId2"/>
          <a:stretch/>
        </p:blipFill>
        <p:spPr>
          <a:xfrm>
            <a:off x="244440" y="1073160"/>
            <a:ext cx="832644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197920" cy="841320"/>
          </a:xfrm>
          <a:prstGeom prst="rect">
            <a:avLst/>
          </a:prstGeom>
          <a:ln w="0">
            <a:noFill/>
          </a:ln>
        </p:spPr>
      </p:pic>
      <p:sp>
        <p:nvSpPr>
          <p:cNvPr id="23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95AF-ED9E-4DC9-A0B0-0003928F739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Rectangle 2" descr=""/>
          <p:cNvPicPr/>
          <p:nvPr/>
        </p:nvPicPr>
        <p:blipFill>
          <a:blip r:embed="rId2"/>
          <a:stretch/>
        </p:blipFill>
        <p:spPr>
          <a:xfrm>
            <a:off x="281160" y="774720"/>
            <a:ext cx="8557920" cy="3078000"/>
          </a:xfrm>
          <a:prstGeom prst="rect">
            <a:avLst/>
          </a:prstGeom>
          <a:ln w="0">
            <a:noFill/>
          </a:ln>
        </p:spPr>
      </p:pic>
      <p:pic>
        <p:nvPicPr>
          <p:cNvPr id="236" name="Rectangle 4" descr=""/>
          <p:cNvPicPr/>
          <p:nvPr/>
        </p:nvPicPr>
        <p:blipFill>
          <a:blip r:embed="rId3"/>
          <a:stretch/>
        </p:blipFill>
        <p:spPr>
          <a:xfrm>
            <a:off x="231840" y="2779560"/>
            <a:ext cx="847872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5" descr=""/>
          <p:cNvPicPr/>
          <p:nvPr/>
        </p:nvPicPr>
        <p:blipFill>
          <a:blip r:embed="rId1"/>
          <a:stretch/>
        </p:blipFill>
        <p:spPr>
          <a:xfrm>
            <a:off x="249120" y="212760"/>
            <a:ext cx="8705880" cy="457200"/>
          </a:xfrm>
          <a:prstGeom prst="rect">
            <a:avLst/>
          </a:prstGeom>
          <a:ln w="0">
            <a:noFill/>
          </a:ln>
        </p:spPr>
      </p:pic>
      <p:pic>
        <p:nvPicPr>
          <p:cNvPr id="238" name="Rectangle 1" descr=""/>
          <p:cNvPicPr/>
          <p:nvPr/>
        </p:nvPicPr>
        <p:blipFill>
          <a:blip r:embed="rId2"/>
          <a:stretch/>
        </p:blipFill>
        <p:spPr>
          <a:xfrm>
            <a:off x="249120" y="676440"/>
            <a:ext cx="5932440" cy="463320"/>
          </a:xfrm>
          <a:prstGeom prst="rect">
            <a:avLst/>
          </a:prstGeom>
          <a:ln w="0">
            <a:noFill/>
          </a:ln>
        </p:spPr>
      </p:pic>
      <p:pic>
        <p:nvPicPr>
          <p:cNvPr id="239" name="Rectangle 1" descr=""/>
          <p:cNvPicPr/>
          <p:nvPr/>
        </p:nvPicPr>
        <p:blipFill>
          <a:blip r:embed="rId3"/>
          <a:stretch/>
        </p:blipFill>
        <p:spPr>
          <a:xfrm>
            <a:off x="3780000" y="669960"/>
            <a:ext cx="493560" cy="463680"/>
          </a:xfrm>
          <a:prstGeom prst="rect">
            <a:avLst/>
          </a:prstGeom>
          <a:ln w="0">
            <a:noFill/>
          </a:ln>
        </p:spPr>
      </p:pic>
      <p:pic>
        <p:nvPicPr>
          <p:cNvPr id="240" name="Rectangle 6" descr=""/>
          <p:cNvPicPr/>
          <p:nvPr/>
        </p:nvPicPr>
        <p:blipFill>
          <a:blip r:embed="rId4"/>
          <a:stretch/>
        </p:blipFill>
        <p:spPr>
          <a:xfrm>
            <a:off x="249120" y="1133640"/>
            <a:ext cx="6469200" cy="463320"/>
          </a:xfrm>
          <a:prstGeom prst="rect">
            <a:avLst/>
          </a:prstGeom>
          <a:ln w="0">
            <a:noFill/>
          </a:ln>
        </p:spPr>
      </p:pic>
      <p:pic>
        <p:nvPicPr>
          <p:cNvPr id="241" name="Rectangle 3" descr=""/>
          <p:cNvPicPr/>
          <p:nvPr/>
        </p:nvPicPr>
        <p:blipFill>
          <a:blip r:embed="rId5"/>
          <a:stretch/>
        </p:blipFill>
        <p:spPr>
          <a:xfrm>
            <a:off x="4194000" y="665280"/>
            <a:ext cx="4913640" cy="46188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2" descr=""/>
          <p:cNvPicPr/>
          <p:nvPr/>
        </p:nvPicPr>
        <p:blipFill>
          <a:blip r:embed="rId6"/>
          <a:stretch/>
        </p:blipFill>
        <p:spPr>
          <a:xfrm>
            <a:off x="158760" y="1700280"/>
            <a:ext cx="8564400" cy="390852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1404-47E7-49E6-A9BF-F79B9FC45B3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Rectangle 3" descr=""/>
          <p:cNvPicPr/>
          <p:nvPr/>
        </p:nvPicPr>
        <p:blipFill>
          <a:blip r:embed="rId1"/>
          <a:stretch/>
        </p:blipFill>
        <p:spPr>
          <a:xfrm>
            <a:off x="334800" y="365040"/>
            <a:ext cx="8328240" cy="3170160"/>
          </a:xfrm>
          <a:prstGeom prst="rect">
            <a:avLst/>
          </a:prstGeom>
          <a:ln w="0">
            <a:noFill/>
          </a:ln>
        </p:spPr>
      </p:pic>
      <p:sp>
        <p:nvSpPr>
          <p:cNvPr id="24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B902-4786-4198-9052-1D5E4D09945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295200" y="2637000"/>
            <a:ext cx="8569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accination coverage is the percent of at risk or susceptible individuals, or population who have been fully immunized against particular diseases by vaccines or tox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o be significantly effective in prevention of disease on mass or community level at least a satisfactory proportion (75% or more) of the at risk population must be immu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250920" y="252360"/>
            <a:ext cx="830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Rockwell Extra Bold"/>
                <a:ea typeface="Times New Roman"/>
              </a:rPr>
              <a:t>Why an actively immunized individual may get disease when exposed to infe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257040" y="1288080"/>
            <a:ext cx="84916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ahoma"/>
              </a:rPr>
              <a:t>1-Causes related to the </a:t>
            </a:r>
            <a:r>
              <a:rPr b="1" lang="en-US" sz="2400" spc="-1" strike="noStrike">
                <a:solidFill>
                  <a:srgbClr val="660066"/>
                </a:solidFill>
                <a:latin typeface="Arial Black"/>
                <a:ea typeface="Tahoma"/>
              </a:rPr>
              <a:t>vaccine/ toxoids &amp; process of immunization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ahoma"/>
              </a:rPr>
              <a:t> : inactivation of  live attenuated vaccine used; not using updated vaccine of antigenic ally changing organisms, moderate protective value of vacc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ahoma"/>
              </a:rPr>
              <a:t>2- </a:t>
            </a:r>
            <a:r>
              <a:rPr b="1" lang="en-US" sz="2400" spc="-1" strike="noStrike">
                <a:solidFill>
                  <a:srgbClr val="000066"/>
                </a:solidFill>
                <a:latin typeface="Arial Black"/>
                <a:ea typeface="Tahoma"/>
              </a:rPr>
              <a:t>Host factors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  <a:ea typeface="Tahoma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ahoma"/>
              </a:rPr>
              <a:t>Unsatisfactory or impaired immune respons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  <a:ea typeface="Tahoma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ahoma"/>
              </a:rPr>
              <a:t>Serum antibody level at time of immunization; the higher the level, less immune response to active immunization &amp; vice 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7C74-212D-43DB-AFCE-668AB6E7EA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C9CF-E789-44CF-A7BD-6082BFCC42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0" y="0"/>
          <a:ext cx="9144000" cy="7093080"/>
        </p:xfrm>
        <a:graphic>
          <a:graphicData uri="http://schemas.openxmlformats.org/drawingml/2006/table">
            <a:tbl>
              <a:tblPr/>
              <a:tblGrid>
                <a:gridCol w="1781280"/>
                <a:gridCol w="7362720"/>
              </a:tblGrid>
              <a:tr h="411120"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 &amp;d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cin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041480"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 birth(1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G, OPV (0 dose) , HBV ( within 24hr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000099"/>
                          </a:solidFill>
                          <a:latin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DPT, Hib , HBV,IPV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&amp;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 viru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amp;</a:t>
                      </a: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السداسي )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, pneumococca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Month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99"/>
                          </a:solidFill>
                          <a:latin typeface="Arial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dose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PT, Hib , HBV,IPV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&amp;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 virus &amp;O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eumococcal</a:t>
                      </a:r>
                      <a:r>
                        <a:rPr b="1" lang="ar-IQ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داس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Month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0099"/>
                          </a:solidFill>
                          <a:latin typeface="Arial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dose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PT, Hib , HBV, IPV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 virus , O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eumococ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Month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les vaccine + vit A (100 ,000I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s{1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ose}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PT , Hib,HBV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{ </a:t>
                      </a:r>
                      <a:r>
                        <a:rPr b="1" lang="en-US" sz="1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1</a:t>
                      </a:r>
                      <a:r>
                        <a:rPr b="1" lang="en-US" sz="1800" spc="-1" strike="noStrike" u="sng" baseline="30000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ST</a:t>
                      </a:r>
                      <a:r>
                        <a:rPr b="1" lang="en-US" sz="1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 booster dos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+ vit A ( 200,000IU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PT,Hib,HBV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)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( </a:t>
                      </a:r>
                      <a:r>
                        <a:rPr b="1" lang="en-US" sz="1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2</a:t>
                      </a:r>
                      <a:r>
                        <a:rPr b="1" lang="en-US" sz="1800" spc="-1" strike="noStrike" u="sng" baseline="30000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ND</a:t>
                      </a:r>
                      <a:r>
                        <a:rPr b="1" lang="en-US" sz="1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 booster dos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R(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99"/>
                          </a:solidFill>
                          <a:latin typeface="Arial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dos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ctangle 1" descr=""/>
          <p:cNvPicPr/>
          <p:nvPr/>
        </p:nvPicPr>
        <p:blipFill>
          <a:blip r:embed="rId1"/>
          <a:stretch/>
        </p:blipFill>
        <p:spPr>
          <a:xfrm>
            <a:off x="1474920" y="133200"/>
            <a:ext cx="5870520" cy="1019160"/>
          </a:xfrm>
          <a:prstGeom prst="rect">
            <a:avLst/>
          </a:prstGeom>
          <a:ln w="0">
            <a:noFill/>
          </a:ln>
        </p:spPr>
      </p:pic>
      <p:sp>
        <p:nvSpPr>
          <p:cNvPr id="7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3E8A-BCB1-404D-8D9C-4F0C49F83E5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31640" y="1044720"/>
            <a:ext cx="871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Each year, vaccines prevent more than 2.5 million child deaths globally. An additional 2 million child deaths could be prevented each year through immunization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5" descr="نتيجة بحث الصور عن ‪mmr vaccine pictures‬‏"/>
          <p:cNvPicPr/>
          <p:nvPr/>
        </p:nvPicPr>
        <p:blipFill>
          <a:blip r:embed="rId2"/>
          <a:stretch/>
        </p:blipFill>
        <p:spPr>
          <a:xfrm>
            <a:off x="0" y="2997360"/>
            <a:ext cx="91440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4CF4-382F-48CF-9E48-9A748066F8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HAZARDS OF IMMU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79280" y="85572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 immune response is entirely free from the risk of adverse reactions or remote sque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e adverse reactions that may occur may be grouped under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324000" y="1778040"/>
            <a:ext cx="39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e following hea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452520" y="2492280"/>
            <a:ext cx="8367480" cy="41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actions inherent to ino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actions due to faulty techni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actions due to hyper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urologic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flammatory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th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A1FC-3021-40E8-BFF2-15319EF17D1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214200" y="136440"/>
            <a:ext cx="87138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Black"/>
              </a:rPr>
              <a:t>   </a:t>
            </a:r>
            <a:r>
              <a:rPr b="0" lang="en-US" sz="2800" spc="-1" strike="noStrike">
                <a:solidFill>
                  <a:srgbClr val="336699"/>
                </a:solidFill>
                <a:latin typeface="Arial Black"/>
              </a:rPr>
              <a:t>Ways of achieving satisfactory immunization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fficient immunization service; urban and r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alth awareness and cooperation of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eriodic mass immunization campaigns, to cover those who missed regular immu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utreach programs in rural and migrant areas, and home vis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319B-0E67-405E-9D63-47402F09843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269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pplication of active immu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33200" y="833400"/>
            <a:ext cx="86709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nfants and children expanded immunization program (sched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ctive immunization for adult females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R vaccine is given in adolescence girls, Tetanus toxoid in pregna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accination for special occup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73"/>
                </a:solidFill>
                <a:latin typeface="Arial Black"/>
              </a:rPr>
              <a:t>Vaccination for special life sty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6267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73"/>
                </a:solidFill>
                <a:latin typeface="Arial Black"/>
              </a:rPr>
              <a:t>Vaccination for special environmental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 Black"/>
              </a:rPr>
              <a:t>All should receive hepatitis B vac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339840" y="3625920"/>
            <a:ext cx="86709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accinations for special health status per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accinations in tra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accines against bioterrorism :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nthr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mall p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l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E9F2-626C-458A-A331-42DF50DDC13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500040" y="333360"/>
            <a:ext cx="8643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Vaccination for special occup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179280" y="814320"/>
            <a:ext cx="87854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Health care workers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patitis B, influenza, MMR, p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Public safety personnel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police, fire fighters)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and staff of institutions for the developmentally disabled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patitis B, influ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Vets and animal handlers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rabies, plague and anthr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Sewage workers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T, hepatitis A, polio,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Food handlers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Military troops and camp dwellers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neumococcal, meningococcal, influenza, BCG (for non reactors), tetan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2A02-E95A-4613-9F7E-21D17B86FAA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130320" y="252360"/>
            <a:ext cx="888336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Vaccinations for special health status per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Vaccinations in travel: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aj for instance necessities meningococcal vaccination from all over the world , TAB, YF from places like south Africa, and cholera from places like Ind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324000" y="692280"/>
            <a:ext cx="76593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mmuno-compromised persons ( Leukemia, lymphoma, HIV, malignancy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emodialysis and transplantation should receive the following vaccines according to their situ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 Black"/>
              </a:rPr>
              <a:t>HBV, Influenza, Pneumococcal vacc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2156-2EC9-4FC4-98C9-1FE4ECBB5C0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905040" y="189000"/>
            <a:ext cx="49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 Black"/>
              </a:rPr>
              <a:t>Why are vaccines so spec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24000" y="822240"/>
            <a:ext cx="88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3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 Black"/>
              </a:rPr>
              <a:t>Vaccines promote health: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nlike many other health interventions, they help healthy people stay healthy, removing a major obstacle to human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69720" y="1947960"/>
            <a:ext cx="831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3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 Black"/>
              </a:rPr>
              <a:t>Vaccines have an extensive reach: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ey protect individuals, communities, and entire popu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287280" y="2852640"/>
            <a:ext cx="856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3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 Black"/>
              </a:rPr>
              <a:t>Vaccines have rapid impact: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e impact of most vaccines on communities and populations is almost immedi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r example, between 2000 and 2008, vaccination reduced global deaths from   measles by 78% (from 750 000 deaths to 164 000 death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44D9-260A-4BF9-965A-AD09EFD5F2B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Rectangle 3" descr=""/>
          <p:cNvPicPr/>
          <p:nvPr/>
        </p:nvPicPr>
        <p:blipFill>
          <a:blip r:embed="rId1"/>
          <a:stretch/>
        </p:blipFill>
        <p:spPr>
          <a:xfrm>
            <a:off x="128520" y="158760"/>
            <a:ext cx="8766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10"/>
          <p:cNvSpPr txBox="1"/>
          <p:nvPr/>
        </p:nvSpPr>
        <p:spPr>
          <a:xfrm>
            <a:off x="533520" y="228600"/>
            <a:ext cx="3894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9c9c"/>
                </a:solidFill>
                <a:latin typeface="Arial Black"/>
              </a:rPr>
              <a:t>IMMUNIZING   AGENTS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9c9c9c"/>
              </a:solidFill>
              <a:latin typeface="Arial Black"/>
              <a:ea typeface="Arial Black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521640" y="727200"/>
            <a:ext cx="44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e immunizing agents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5335560" y="72216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be class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722520" y="1179360"/>
            <a:ext cx="73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s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vaccine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immunoglobulin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antisera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16"/>
          <p:cNvSpPr txBox="1"/>
          <p:nvPr/>
        </p:nvSpPr>
        <p:spPr>
          <a:xfrm>
            <a:off x="412920" y="1844640"/>
            <a:ext cx="26175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9c9c"/>
                </a:solidFill>
                <a:latin typeface="Arial Black"/>
              </a:rPr>
              <a:t>Vaccin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9c9c"/>
              </a:solidFill>
              <a:latin typeface="Arial Black"/>
              <a:ea typeface="Arial Black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39840" y="2403360"/>
            <a:ext cx="8613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 vaccine is a biological preparation that improves immunity to a particular diseas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 vaccine typically contain an agent that resembles a disease –causing microorganism , and is often made from weakened or killed forms of the microbe or its tox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 agent stimulates the body’s immune system . Vaccines can b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Black"/>
                <a:ea typeface="Times New Roman"/>
              </a:rPr>
              <a:t>prophylactic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 Black"/>
                <a:ea typeface="Times New Roman"/>
              </a:rPr>
              <a:t> 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Black"/>
                <a:ea typeface="Times New Roman"/>
              </a:rPr>
              <a:t>therapeutic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 Black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4032-DB55-4EFF-B51B-8CD88D7C4A1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0C90-8B2C-4EF2-8435-FB0B7500FE9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179280" y="620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Characteristics of Effective Vacc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66360" y="1484280"/>
            <a:ext cx="17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726480" y="2276640"/>
            <a:ext cx="25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876600" y="3040200"/>
            <a:ext cx="43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ong-lasting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38040" y="4181400"/>
            <a:ext cx="839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ministration easy to deliver with no side-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539640" y="363852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st Inexpensive to produce an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7194240" y="363852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98E8-FCEA-4D40-8F62-418E65094A4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Rectangle 12" descr=""/>
          <p:cNvPicPr/>
          <p:nvPr/>
        </p:nvPicPr>
        <p:blipFill>
          <a:blip r:embed="rId1"/>
          <a:stretch/>
        </p:blipFill>
        <p:spPr>
          <a:xfrm>
            <a:off x="957240" y="390600"/>
            <a:ext cx="7083360" cy="736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Image result for types of vaccines"/>
          <p:cNvPicPr/>
          <p:nvPr/>
        </p:nvPicPr>
        <p:blipFill>
          <a:blip r:embed="rId2"/>
          <a:stretch/>
        </p:blipFill>
        <p:spPr>
          <a:xfrm>
            <a:off x="0" y="1112760"/>
            <a:ext cx="914400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12" descr=""/>
          <p:cNvPicPr/>
          <p:nvPr/>
        </p:nvPicPr>
        <p:blipFill>
          <a:blip r:embed="rId1"/>
          <a:stretch/>
        </p:blipFill>
        <p:spPr>
          <a:xfrm>
            <a:off x="542880" y="328680"/>
            <a:ext cx="4913280" cy="585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"/>
          <p:cNvSpPr/>
          <p:nvPr/>
        </p:nvSpPr>
        <p:spPr>
          <a:xfrm>
            <a:off x="547560" y="1052640"/>
            <a:ext cx="32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Black"/>
              </a:rPr>
              <a:t>1-LIVE VACCIN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539640" y="1622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nly small pox vaccine is no more in us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673200" y="20908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e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5" descr=""/>
          <p:cNvPicPr/>
          <p:nvPr/>
        </p:nvPicPr>
        <p:blipFill>
          <a:blip r:embed="rId2"/>
          <a:stretch/>
        </p:blipFill>
        <p:spPr>
          <a:xfrm>
            <a:off x="5364000" y="2320920"/>
            <a:ext cx="3486240" cy="3187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1042920" y="5508720"/>
            <a:ext cx="6629400" cy="114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young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Bangladesh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irl infected with smallpox (1973). Due to the development of the smallpox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vacci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disease was officially eradicated in 197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27E0-FFA9-4772-9AFB-D7BA49243D0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5"/>
          <a:stretch/>
        </p:blipFill>
        <p:spPr>
          <a:xfrm>
            <a:off x="395280" y="2550960"/>
            <a:ext cx="4645080" cy="27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Najlaa</cp:lastModifiedBy>
  <dcterms:modified xsi:type="dcterms:W3CDTF">2019-02-17T13:51:22Z</dcterms:modified>
  <cp:revision>344</cp:revision>
  <dc:subject/>
  <dc:title>Diapositiva 1</dc:title>
</cp:coreProperties>
</file>