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AD0BE-5150-4635-A2E5-CAA0AA1A9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BBC70-6627-4A73-ADF5-03C5713C9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ECA30-1F7F-41A7-B57B-11810B74A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06A6F-A257-4E3B-A298-7E163072E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C1EF123-974C-4E01-9251-BDAACC369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E720F3-C00F-4C82-B7EB-289345A31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5F702E-9C6F-45B2-ADB0-6C2A2F1EC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640BC8-EE1E-4E0C-8A95-401ECCA0D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594760-6C49-4C1A-A4C1-402DCBF0C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7142F0-5655-4310-8EF3-953E383DF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A2EC25-3A4E-4B74-A92E-57C4DDA48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20EF7-E539-464F-AFA4-D8CBF1D7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72C2FB-60EA-4EA4-9F77-CB7AC24F1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E27D70-A44C-4BFE-8A5C-A3799033B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CDDF7C-6E4F-487C-BF93-1893BB2B1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577D253-6E48-4B41-8653-5076BD07E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F042EA9-492B-4F2F-B32F-932312E1D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2D33C-302E-4FF0-9439-5F9220A2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5CD17-B52E-49AF-BD24-ED4BD207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CFC08-AD4D-43CC-B06C-FE2AD3EFD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6020F-A947-4910-A3B5-D63BB115F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2E97E-F297-4E82-8D09-CE99A778C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6713-8688-41D3-ACAC-35E95E5B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5ED57-CAA2-4A16-A690-980E7FB4B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41F1-C9E1-48B0-8959-0D06F3CAE94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A44F-59F4-424D-AFE8-5993933A90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75920"/>
            <a:ext cx="822960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400" spc="-1" strike="noStrike">
                <a:solidFill>
                  <a:srgbClr val="e3e3ff"/>
                </a:solidFill>
                <a:latin typeface="Arial"/>
              </a:rPr>
              <a:t>احكام الوفاء بالكمبيالة</a:t>
            </a:r>
            <a:r>
              <a:rPr b="0" lang="ar-IQ" sz="5400" spc="-1" strike="noStrike">
                <a:solidFill>
                  <a:srgbClr val="e3e3ff"/>
                </a:solidFill>
                <a:latin typeface="Arial"/>
              </a:rPr>
              <a:t> </a:t>
            </a:r>
            <a:endParaRPr b="0" lang="en-US" sz="5400" spc="-1" strike="noStrike">
              <a:solidFill>
                <a:srgbClr val="e3e3ff"/>
              </a:solidFill>
              <a:latin typeface="Arial"/>
            </a:endParaRPr>
          </a:p>
        </p:txBody>
      </p:sp>
      <p:sp>
        <p:nvSpPr>
          <p:cNvPr id="123" name="PlaceHolder 2"/>
          <p:cNvSpPr>
            <a:spLocks noGrp="1"/>
          </p:cNvSpPr>
          <p:nvPr>
            <p:ph type="subTitle"/>
          </p:nvPr>
        </p:nvSpPr>
        <p:spPr>
          <a:xfrm>
            <a:off x="755640" y="2349360"/>
            <a:ext cx="7159680" cy="4104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عند تأدية قيمة الكمبيالة تراعى أحكام قانون العطلات القانونية فلا يمكن المطالبة بالوفاء في يوم من أيام العطل</a:t>
            </a:r>
            <a:r>
              <a:rPr b="0" lang="ar-IQ" sz="2400" spc="-1" strike="noStrike">
                <a:solidFill>
                  <a:srgbClr val="ffffff"/>
                </a:solidFill>
                <a:latin typeface="Arial"/>
              </a:rPr>
              <a:t> </a:t>
            </a:r>
            <a:r>
              <a:rPr b="0" lang="ar-IQ" sz="2400" spc="-1" strike="noStrike">
                <a:solidFill>
                  <a:srgbClr val="ffffff"/>
                </a:solidFill>
                <a:latin typeface="Arial"/>
              </a:rPr>
              <a:t>.</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الشخص الذي يتقدم للمطالبة بوفاء الكمبيالة يجب أن يكون حاملا قانونيا لها أو ممثل قانوني عنه ، وإلا جاز للمتعهد الإمتناع عن الوفاء بقيمة الكمبيالة لغير الحامل القانوني</a:t>
            </a:r>
            <a:r>
              <a:rPr b="0" lang="ar-IQ" sz="2400" spc="-1" strike="noStrike">
                <a:solidFill>
                  <a:srgbClr val="ffffff"/>
                </a:solidFill>
                <a:latin typeface="Arial"/>
              </a:rPr>
              <a:t> </a:t>
            </a:r>
            <a:r>
              <a:rPr b="0" lang="ar-IQ" sz="2400" spc="-1" strike="noStrike">
                <a:solidFill>
                  <a:srgbClr val="ffffff"/>
                </a:solidFill>
                <a:latin typeface="Arial"/>
              </a:rPr>
              <a:t>.</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التقديم للوفاء يكون في مكان الوفاء المذكور في السند وعند وجود شرط الدفع في محل مختار يجب مراعاة هذا الشرط عند التقديم للوفاء ولا يمنح المتعهد مهلة للوفاء تطبيقا لحكم المادة </a:t>
            </a:r>
            <a:r>
              <a:rPr b="0" lang="ar-IQ" sz="2400" spc="-1" strike="noStrike">
                <a:solidFill>
                  <a:srgbClr val="ffffff"/>
                </a:solidFill>
                <a:latin typeface="Arial"/>
              </a:rPr>
              <a:t>183</a:t>
            </a:r>
            <a:r>
              <a:rPr b="0" lang="ar-IQ" sz="2400" spc="-1" strike="noStrike">
                <a:solidFill>
                  <a:srgbClr val="ffffff"/>
                </a:solidFill>
                <a:latin typeface="Arial"/>
              </a:rPr>
              <a:t> من قانون التجارة العراق النافذ ، وإذا تعذ ر على الحامل تقديم الكمبيالة للوفاء ضمن المواعيد القانونية المقررة بسبب القوة القاهرة فعندئذ تمتد مواعيد التقديم وتطبق احكام المادة </a:t>
            </a:r>
            <a:r>
              <a:rPr b="0" lang="ar-IQ" sz="2400" spc="-1" strike="noStrike">
                <a:solidFill>
                  <a:srgbClr val="ffffff"/>
                </a:solidFill>
                <a:latin typeface="Arial"/>
              </a:rPr>
              <a:t>112</a:t>
            </a:r>
            <a:r>
              <a:rPr b="0" lang="ar-IQ" sz="2400" spc="-1" strike="noStrike">
                <a:solidFill>
                  <a:srgbClr val="ffffff"/>
                </a:solidFill>
                <a:latin typeface="Arial"/>
              </a:rPr>
              <a:t> من القانون المذكور</a:t>
            </a:r>
            <a:r>
              <a:rPr b="0" lang="ar-IQ" sz="2400" spc="-1" strike="noStrike">
                <a:solidFill>
                  <a:srgbClr val="ffffff"/>
                </a:solidFill>
                <a:latin typeface="Arial"/>
              </a:rPr>
              <a:t> </a:t>
            </a:r>
            <a:r>
              <a:rPr b="0" lang="ar-IQ"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3e3ff"/>
                </a:solidFill>
                <a:latin typeface="Arial"/>
              </a:rPr>
              <a:t>الرجوع قبل ميعاد الإستحقاق</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لا يوجد في قانون التجارة العراقي ما يمنع الحامل القانوني للكمبيالة على باقي الملتزمين قبل ميعاد الإستحقاق ويكون ذلك قياسا على ما هو الحال في الحوالة التجارية ، أي في حالة صدور حكم قضائي بإفلاس المتعهد أو توقفه عن الدفع ولو لم يثبت ذلك بحكم قضائي أو الحجز على امواله دون جدوى ، وفيما عدا حالة الحكم بالافلاس على الحامل الذي يستعمل حقه في الرجوع أن يثبت امتناع المتعهد عن الوفاء بإحتجاج من الكاتب العدل .</a:t>
            </a:r>
            <a:endParaRPr b="0" lang="en-US" sz="2800" spc="-1" strike="noStrike">
              <a:solidFill>
                <a:srgbClr val="ffffff"/>
              </a:solidFill>
              <a:latin typeface="Arial"/>
            </a:endParaRPr>
          </a:p>
          <a:p>
            <a:pPr marL="312120" indent="-3121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وعند الرجوع على باقي الملتزمين يجوز منح من تم الرجوع عليه قبل ميعاد الإستحقاق مهلة تحددها المحكمة في قرارها على  أن لا تتجاوز الموعد المحدد للإستحقا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3e3ff"/>
                </a:solidFill>
                <a:latin typeface="Arial"/>
              </a:rPr>
              <a:t>الوفاء بقيمة الكمبيالة قبل تاريخ الاستحقاق</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إذا تم وفاء قيمة الكمبيالة قبل تاريخ الإستحقاق فإن مثل هذا الوفاء لا يكون مبرءا لذمة المتعهد  الا اذا كان قد تم للحامل القانوني ولم يرتكب الموفي خطأ . وعليه يسأل الموفي حتى عن خطأه اليسير فإذا تبين أن الوفاء لم يكن للحامل القانوني فعلى النوفي دفع قيمة الكمبيالة مرة ثانية للحامل القانوني وكذلك الحال في حالة افلاس الحامل القانوني الذي قبض قيمة الكمبيالة قبل تاريخ الإستحقاق .</a:t>
            </a:r>
            <a:endParaRPr b="0" lang="en-US" sz="3200" spc="-1" strike="noStrike">
              <a:solidFill>
                <a:srgbClr val="ffffff"/>
              </a:solidFill>
              <a:latin typeface="Arial"/>
            </a:endParaRPr>
          </a:p>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3e3ff"/>
                </a:solidFill>
                <a:latin typeface="Arial"/>
              </a:rPr>
              <a:t>الوفاء بقيمة الكمبيالة  في تاريخ الاستحقاق</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تبرأ ذمة المدين عند الوفاء بقيمة الكمبيالة الى الحامل القانوني في ميعاد الإستحقاق إذا تحقق من أن سلسلة التظهيرات تنتهي الى الحامل الذي يطالبه بالوفاء إلا اذا كانت هناك معارضة صحيحة بالوفاء .</a:t>
            </a:r>
            <a:endParaRPr b="0" lang="en-US" sz="2400" spc="-1" strike="noStrike">
              <a:solidFill>
                <a:srgbClr val="ffffff"/>
              </a:solidFill>
              <a:latin typeface="Arial"/>
            </a:endParaRPr>
          </a:p>
          <a:p>
            <a:pPr marL="308520" indent="-308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لا تبرأ ذمة الموفي اذا تبين انه قد ارتكب غشا او خطأ جسيما عند الوفاء ، ولا يجوز للحامل القانوني رفض الوفاء الجزئي وعند رفضه يفقد حقه بالرجوع في ذلك المبلغ على باقي الموقعين .</a:t>
            </a:r>
            <a:endParaRPr b="0" lang="en-US" sz="2400" spc="-1" strike="noStrike">
              <a:solidFill>
                <a:srgbClr val="ffffff"/>
              </a:solidFill>
              <a:latin typeface="Arial"/>
            </a:endParaRPr>
          </a:p>
          <a:p>
            <a:pPr marL="308520" indent="-308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قد يتم الوفاء بقيمة الكمبيالة بواسطة صك يتضمن قيمة الكمبيالة مسحوبا من المتعهد أو المدين بموجب الكمبيالة الى الحامل القانوني وعندئذ فإن ذمة المدين بالكمبيالة لا تبرأ إلا بعد استيفاء قيمة الصك ويحبذ أن لارتضي الحامل القانوني الوفاء بواسطة الصك ما لم يكن الصك مصدقا من قبل المصرف المسحوب عليه ضمانا للوفاء به عند المطالبة بصرفه .</a:t>
            </a:r>
            <a:r>
              <a:rPr b="1" lang="ar-IQ" sz="2400" spc="-1" strike="noStrike">
                <a:solidFill>
                  <a:srgbClr val="ffffff"/>
                </a:solidFill>
                <a:latin typeface="Arial"/>
              </a:rPr>
              <a:t>  </a:t>
            </a:r>
            <a:endParaRPr b="0" lang="en-US" sz="2400" spc="-1" strike="noStrike">
              <a:solidFill>
                <a:srgbClr val="ffffff"/>
              </a:solidFill>
              <a:latin typeface="Arial"/>
            </a:endParaRPr>
          </a:p>
          <a:p>
            <a:pPr marL="308520" indent="-308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تجدر الاشارة الى أن جميع ما ورد ذكره من احكام بشأن اثبات الوفاء والإيداع والمعارضة في الوفاء بالنسبة للحوالة تنطبق على الكمبيالة لذلك نحيل اليها بهذا الشأن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08:47:33Z</dcterms:created>
  <dc:creator/>
  <dc:description/>
  <dc:language>en-US</dc:language>
  <cp:lastModifiedBy/>
  <dcterms:modified xsi:type="dcterms:W3CDTF">2018-03-06T15:19:43Z</dcterms:modified>
  <cp:revision>2</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