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E361945-57F9-432B-BF38-CD253FB46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3FF21F-66F8-478E-AAC5-CCBE85586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9ACC3B2-74CE-4344-8245-395411176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3169527-A899-4C43-913B-60CAFA33D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B3A24-CF4E-45EF-8134-452233411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5547B-206D-4148-9C10-2A81BA28D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B3D26-3FB2-40BE-BB87-BF6C0E938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52A7C-1662-4812-B695-A8B37B53F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280AB-D3A7-444C-898E-06FF2CDA4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238D0-7473-4FFB-941B-7EE26A2BE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A8459-531C-43C4-897C-BA0813C05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BBF29F-AB2D-45E5-A00B-334639766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06BCA-CB01-4462-A4E4-56A75AEC9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9E90B-8F73-4E4A-AAEB-1F27C682B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1793A-2E8F-4CD4-9BC5-1063D2B9C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DE9D5-FDE9-4A73-BE46-D7DF766F9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47073-E665-4EDB-B357-3A08E31A5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34BA27-8A82-40D1-B549-89574EB2A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17C3238-109A-4801-BB2D-B0634EF70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25803C-E079-4F73-BC50-47253F72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D6D48C-52A7-41B9-907E-E43876C87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608E1F-054B-4950-9D5F-AF259836F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8FEC6F-AAA6-4B07-87EB-5E798C086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E1E911-CF3F-459A-9244-1651ED2B8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B8BF-A420-4DE0-BD63-78C872A6250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26A5-58DC-4E4D-A866-945F25E9CC6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47628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e5e5ff"/>
                </a:solidFill>
                <a:latin typeface="Garamond"/>
              </a:rPr>
              <a:t>الصـــــــــــك ( تعريفه وإنشائه</a:t>
            </a:r>
            <a:r>
              <a:rPr b="1" lang="ar-IQ" sz="6000" spc="-1" strike="noStrike">
                <a:solidFill>
                  <a:srgbClr val="e5e5ff"/>
                </a:solidFill>
                <a:latin typeface="Garamond"/>
              </a:rPr>
              <a:t> </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971640" y="1989000"/>
            <a:ext cx="7408800" cy="41040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الصك : عبارة عن محرر منظم وفق شروط نص عليها القانون بموجبه يأمر الساحب شخصا آخر – المسحوب عليه- بأن يدفع لدى الاطلاع مبلغا معينا من النقود الى شخص معين او الى حامله – المستفيد</a:t>
            </a:r>
            <a:r>
              <a:rPr b="0" lang="ar-IQ" sz="2000" spc="-1" strike="noStrike">
                <a:solidFill>
                  <a:srgbClr val="ffffff"/>
                </a:solidFill>
                <a:latin typeface="Garamond"/>
              </a:rPr>
              <a:t>- .</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  </a:t>
            </a:r>
            <a:r>
              <a:rPr b="0" lang="ar-IQ" sz="2000" spc="-1" strike="noStrike">
                <a:solidFill>
                  <a:srgbClr val="ffffff"/>
                </a:solidFill>
                <a:latin typeface="Garamond"/>
              </a:rPr>
              <a:t>ويتبين من هذا التعريف أن الصك ينشأ بين اطراف ثلاثة هم الساحب والمسحوب عليه والمستفيد كما هو الحال في الحوالة التجارية  وبالرغم من هذا التماثل بين هاتين الورقتين التجاريتين غير انه توجد فوارق رئيسية تميز بينهما تتمثل بالآتي</a:t>
            </a:r>
            <a:r>
              <a:rPr b="0" lang="ar-IQ" sz="2000" spc="-1" strike="noStrike">
                <a:solidFill>
                  <a:srgbClr val="ffffff"/>
                </a:solidFill>
                <a:latin typeface="Garamond"/>
              </a:rPr>
              <a:t> </a:t>
            </a:r>
            <a:r>
              <a:rPr b="0" lang="ar-IQ" sz="2000" spc="-1" strike="noStrike">
                <a:solidFill>
                  <a:srgbClr val="ffffff"/>
                </a:solidFill>
                <a:latin typeface="Garamond"/>
              </a:rPr>
              <a:t>:</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الصك مستحق الداء دائما لدى الإطلاع لذلك لا يتضمن عادة اجلا بالوفاء بخلاف الحوالة</a:t>
            </a:r>
            <a:r>
              <a:rPr b="0" lang="ar-IQ" sz="2000" spc="-1" strike="noStrike">
                <a:solidFill>
                  <a:srgbClr val="ffffff"/>
                </a:solidFill>
                <a:latin typeface="Garamond"/>
              </a:rPr>
              <a:t> </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يؤدي الصك وظيفة الوفاء و وظيفة نقل النقود كما هو الحال بالنسبة للحوالة أما وظيفة الائتمان التي تؤديها الحوالة فلا يقوم بها الصك لأنه خال من اجل الوفاء</a:t>
            </a:r>
            <a:r>
              <a:rPr b="0" lang="ar-IQ" sz="2000" spc="-1" strike="noStrike">
                <a:solidFill>
                  <a:srgbClr val="ffffff"/>
                </a:solidFill>
                <a:latin typeface="Garamond"/>
              </a:rPr>
              <a:t> </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يجوز سحب الصك إبتداءا لحامله خلافا للحوالة كونها ورقة اسمية يجب أن تشتمل على اسم المستفيد</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خلافا للحوالة لا يجوز اشتراط الفائدة في الصك وبخلافه يعتبر الشرط لاغيا والصك صحيحا</a:t>
            </a:r>
            <a:r>
              <a:rPr b="0" lang="ar-IQ"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خصائص الصك </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لا يجوز القبول في الصك واذا كتبت عبارة تفيد القبول اعتبرت كأن لم تكن في حين أن تقديم الحوالة للقبول يعتبر من حيث المبدأ حقا لحاملها.</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خلافا للحوالة يجب وجود مقابل الوفاء في الصك عند وضعه في التداول وإلا سيكون الساحب مدانا بجريمة إصدار صك بدون رصيد بموجب المادة </a:t>
            </a:r>
            <a:r>
              <a:rPr b="0" lang="ar-IQ" sz="2000" spc="-1" strike="noStrike">
                <a:solidFill>
                  <a:srgbClr val="ffffff"/>
                </a:solidFill>
                <a:latin typeface="Garamond"/>
              </a:rPr>
              <a:t>459</a:t>
            </a:r>
            <a:r>
              <a:rPr b="0" lang="ar-IQ" sz="2000" spc="-1" strike="noStrike">
                <a:solidFill>
                  <a:srgbClr val="ffffff"/>
                </a:solidFill>
                <a:latin typeface="Garamond"/>
              </a:rPr>
              <a:t> من قانون العقوبات العراقي .</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خلافا للحوالة فلا يجوز سحب نسخ من الصك عندما يكون لحامله أما اذا لم يكن لحامله وكان الصك دوليا جاز سحب نسخ منه .</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الصك المحلي أي الصادر في العراق والواجب الوفاء لا بد أن يكون المسحوب عليه مصرفا في حين يمكن سحب الحوالة على أي شخص طبيعيا كان او معنويا .</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يجوز اثبات امتناع المسحوب عليه عن الوفاء عوضا عن الاحتجاج المعروف في الحوالة ببيان صادر من المسحوب عليه مكتوبا ومؤرخا على الصك .</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يجوز لساحب الصك او لحامله أن يشترط عدم وفائه نقدا وذلك بوضعه على الصك عبارة تفيد القيد في الحساب .</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مدة التقادم في الصك تختلف عن مدة التقادم المتعلقة بالدعاوى الناشئة عن الحوالة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إنشاء الصــــــــــك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أن انشاء الصك يستلزم توافر نوعين من الشروط ، الأولى شروط موضوعية تخضع لأحكام القواعد الخاصة بالأوراق التجارية عموما والثانية شكلية تخضع للنصوص المقررة بهذا النوع من الأوراق التجارية نبينها تباعا :</a:t>
            </a:r>
            <a:endParaRPr b="0" lang="en-US" sz="2400" spc="-1" strike="noStrike">
              <a:solidFill>
                <a:srgbClr val="ffffff"/>
              </a:solidFill>
              <a:latin typeface="Garamond"/>
            </a:endParaRPr>
          </a:p>
          <a:p>
            <a:pPr marL="298440" indent="-2984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أولا : الشروط الموضوعية</a:t>
            </a:r>
            <a:r>
              <a:rPr b="0" lang="ar-IQ" sz="2400" spc="-1" strike="noStrike">
                <a:solidFill>
                  <a:srgbClr val="ffffff"/>
                </a:solidFill>
                <a:latin typeface="Garamond"/>
              </a:rPr>
              <a:t> : تتمثل الشروط الموضوعية اللازمة لإنشاء الصك بذات الشروط الموضوعية التي سبق بيانها بصدد إنشاء الحوالة التجارية وهذه الشروط تتمثل بالرضا وما يتطلبه من وجود إرادة صحيحة خالية من عيوب الإرادة وصدورها عن شخص ذي أهلية لإعتبار التزامه الصرفي التزاما صحيحا ًبإعتبار أن التعامل بالأوراق التجارية عموما ومنها الصك يعتبر عملا تجاريا ينبغي في القائم به المتع بالأهلية المطلوبة قانونا .أما إذا كان التزام أحد الموقعين باطلا لنقص أهليته فيكون التزام باطلا بالنسبة اليه فقط دون غير من الموقعين الذين ستظل التزاماتهم صحيحة طبقا لمبدأ استقلال التواقيع .كما يلزم الى جانب الرضا وجود محل صحيح والوراق التجارية عموما محلها واحد يتمثل بمبلغ من النقود معين من الناحية النوعية والكمية ، كما يلزم الى جانب ذلك  وجود سبب صحيح وفقا لما يتطلبه القانون وعلى النحو السابق بيانه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الشروط الشكلية </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إن الصك عبارة عن محرر وهو ما يتطلب وجوب كونه مكتوبا فالكتابة لإزمة لإنشائه وإن لم ينص عليها قانونا صراحة ، وهو عبارة عن محرر عرفي لذا فإن انشائه لا يتطلب توثيقه من جهة رسمية  ولكن هذا لا يمنع من تنظيمه أمام الكاتب العدل . ولا يشترط أن يقوم المتعهد بكتابته شخصيا فمن المكن أن يتم بواسطة الغير ومن الممكن إعداد نماذج لهذا الغرض  . فقد جرى العرف المصرفي على قيام المصرف بتوزيع دفاتر صكوك على عملائها تحتوي على عدد معين من الصكوك المطبوعة متسلسلة الأرقام ، وعند سحب صك يتم ملء بعض البيانات كتاريخ السحب واسم المستفيد والمبلغ . تسري على الشيك احكام الحوالة بالقدر الذي لا تتعارض مع ماهيته. وقد أكد المشرع العراقي بالمادة </a:t>
            </a:r>
            <a:r>
              <a:rPr b="0" lang="ar-IQ" sz="2400" spc="-1" strike="noStrike">
                <a:solidFill>
                  <a:srgbClr val="ffffff"/>
                </a:solidFill>
                <a:latin typeface="Garamond"/>
              </a:rPr>
              <a:t>137</a:t>
            </a:r>
            <a:r>
              <a:rPr b="0" lang="ar-IQ" sz="2400" spc="-1" strike="noStrike">
                <a:solidFill>
                  <a:srgbClr val="ffffff"/>
                </a:solidFill>
                <a:latin typeface="Garamond"/>
              </a:rPr>
              <a:t> من قانون التجارة النافذ على انه تسري على الصك الأحكام المتعلقة بالحوالة بالقدر الذي لا تتعارض مع ماهيته  . </a:t>
            </a:r>
            <a:endParaRPr b="0" lang="en-US" sz="2400" spc="-1" strike="noStrike">
              <a:solidFill>
                <a:srgbClr val="ffffff"/>
              </a:solidFill>
              <a:latin typeface="Garamond"/>
            </a:endParaRPr>
          </a:p>
          <a:p>
            <a:pPr marL="318960" indent="-318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ولكي تعتبر الورقة صكا ينبغي أن تستوفي البيانات الإلزامية التي حددها المشرع العراقي بالمادة </a:t>
            </a:r>
            <a:r>
              <a:rPr b="0" lang="ar-IQ" sz="2400" spc="-1" strike="noStrike">
                <a:solidFill>
                  <a:srgbClr val="ffffff"/>
                </a:solidFill>
                <a:latin typeface="Garamond"/>
              </a:rPr>
              <a:t>138</a:t>
            </a:r>
            <a:r>
              <a:rPr b="0" lang="ar-IQ" sz="2400" spc="-1" strike="noStrike">
                <a:solidFill>
                  <a:srgbClr val="ffffff"/>
                </a:solidFill>
                <a:latin typeface="Garamond"/>
              </a:rPr>
              <a:t> من القانون المذكور والتي جاء فيها ( يجب ان يشتمل الشيك على البيانات الاتية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fontScale="89000"/>
          </a:bodyPr>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اولا : لفظ شيك مكتوبا في الورقة باللغة التي آتبت بها. ثانيا : امر غير معلق على شرط باداء مبلغ معين من النقود.ثالثا : اسم من يؤمر بالاداء (المسحوب عليه).رابعا : مكان الاداء. خامسا : تاريخ انشاء الشيك ومكان انشائه.سادسا : اسم وتوقيع من أنشأ الشيك (الساحب)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وسنتولى تباعا تحديد ماهية هذه البيانات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1</a:t>
            </a:r>
            <a:r>
              <a:rPr b="0" lang="ar-IQ" sz="1400" spc="-1" strike="noStrike">
                <a:solidFill>
                  <a:srgbClr val="ffffff"/>
                </a:solidFill>
                <a:latin typeface="Garamond"/>
              </a:rPr>
              <a:t>- لفظ شيك مكتوبا في متن الورقة وباللغة التي كتبت بها : يمثل هذا البيان بمثابة عنوان لهذه الورقة التجارية تميزها عن غيرها من الأوراق وأوجب ذكرها في متن الورقة ، ويلاحظ أن القانون كان يستخدم لفظ الشيك غير انه حل محله لفظ صك وذلك بموجب القرار المرقم </a:t>
            </a:r>
            <a:r>
              <a:rPr b="0" lang="ar-IQ" sz="1400" spc="-1" strike="noStrike">
                <a:solidFill>
                  <a:srgbClr val="ffffff"/>
                </a:solidFill>
                <a:latin typeface="Garamond"/>
              </a:rPr>
              <a:t>174</a:t>
            </a:r>
            <a:r>
              <a:rPr b="0" lang="ar-IQ" sz="1400" spc="-1" strike="noStrike">
                <a:solidFill>
                  <a:srgbClr val="ffffff"/>
                </a:solidFill>
                <a:latin typeface="Garamond"/>
              </a:rPr>
              <a:t> لسنة </a:t>
            </a:r>
            <a:r>
              <a:rPr b="0" lang="ar-IQ" sz="1400" spc="-1" strike="noStrike">
                <a:solidFill>
                  <a:srgbClr val="ffffff"/>
                </a:solidFill>
                <a:latin typeface="Garamond"/>
              </a:rPr>
              <a:t>1992</a:t>
            </a:r>
            <a:r>
              <a:rPr b="0" lang="ar-IQ" sz="1400" spc="-1" strike="noStrike">
                <a:solidFill>
                  <a:srgbClr val="ffffff"/>
                </a:solidFill>
                <a:latin typeface="Garamond"/>
              </a:rPr>
              <a:t> والذي اكد على انه ( تحل كلمة صك محل كلمة الشيك أينما وردت في القوانين والأنظمة والتعليمات والأوراق المالية )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وتنفيذا لذلك يكتب مثلا في متن الورقة ومع سياق البيانات الإلزامية عبارة إدفعوا بموجب هذا الصك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2</a:t>
            </a:r>
            <a:r>
              <a:rPr b="0" lang="ar-IQ" sz="1400" spc="-1" strike="noStrike">
                <a:solidFill>
                  <a:srgbClr val="ffffff"/>
                </a:solidFill>
                <a:latin typeface="Garamond"/>
              </a:rPr>
              <a:t>- أمر غير معلق على شرط بأداء مبلغ معين من النقود :  كما يبدو أن ساحب الصك لا يتعهد بالاداء كما في الكمبيالة وانما يوجه الى المسحوب عليه امراً بالوفاء على غرار ما عليه الحال في الحوالة التجارية . وينبغي أن يكون الأمر بالدفع مطلقا أي غير معلق على شرط ذلك أن التعليق على شرط يجعل افلتزام غر قاطعا ومؤكدا وهذا ما يحول دون تداول الورقة بالسرعة المطلوبة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وينبغي أن يكون المحل مبلغا من النقود وليس شيئا آخر وبخلافه ستكون الورقة التجارية باطلة وينبغي أن يتم تحيد مقدار المبلغ الذي يتضمنه الصك سواء من الناحية الكمية بتحديد مقداره بشكل دقيق سواء كتب بالحروف او الأرقام أو الاثنين معا وكذلك تحديده نوعيا بتحديد العملة التي يدفع بها سواء بالدينار العراقي أو بعملة اخرى وقد عالجت المادة </a:t>
            </a:r>
            <a:r>
              <a:rPr b="0" lang="ar-IQ" sz="1400" spc="-1" strike="noStrike">
                <a:solidFill>
                  <a:srgbClr val="ffffff"/>
                </a:solidFill>
                <a:latin typeface="Garamond"/>
              </a:rPr>
              <a:t>161</a:t>
            </a:r>
            <a:r>
              <a:rPr b="0" lang="ar-IQ" sz="1400" spc="-1" strike="noStrike">
                <a:solidFill>
                  <a:srgbClr val="ffffff"/>
                </a:solidFill>
                <a:latin typeface="Garamond"/>
              </a:rPr>
              <a:t> من القانون المذكور احكام الوفاء بمبلغ الصك المحرر بعملة اجنبية ونحيل بشأنها للنص المذكور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3</a:t>
            </a:r>
            <a:r>
              <a:rPr b="0" lang="ar-IQ" sz="1400" spc="-1" strike="noStrike">
                <a:solidFill>
                  <a:srgbClr val="ffffff"/>
                </a:solidFill>
                <a:latin typeface="Garamond"/>
              </a:rPr>
              <a:t>- اسم من يلزمه الاداء (المسحوب عليه) : ينبغي أن يذكر اسم المسحوب عليه بشكل دقيق على نحو يتمكن معه المستفيد من تعيينه بشكل كاف ليتمكن من معرفته ومطالبته بقيمة الصك . وبما أن الصك مستحق الأداء لدى الإطلاع فلا محل لقبول المسحوب عليه لذا فإن المسحوب عليه لا يلتزم بالوفاء قبل الحامل فإذا رفض الحامل الوفاء به فلا يستطيع الحامل مطالبته قضائيا وإنما له حق الرجوع على الساحب والموقعين الآخرين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وبالنسبة للصك المسحوب في العراق والواجب الوفاء به داخل العراق ينبغي أن يكون المسحوب عليه مصرفا وليس شخصا اخر والمصرف هو المؤسسة التي تقوم بممارسة الصيرفة والمجازة من البنك المركزي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والأصل هو عدم جواز سحب الصك على الساحب نفسه وينبغي أن يكون كلاهما مستقلين عن الآخر لكن لضرورات عملية أجاز  القانون الموحد سحب الصك على الساحب في الحالات التي يكون فيها الساحب مؤسسات متعددة بأن يكون مصرف له فروع متعددة وقد أكدت المادة </a:t>
            </a:r>
            <a:r>
              <a:rPr b="0" lang="ar-IQ" sz="1400" spc="-1" strike="noStrike">
                <a:solidFill>
                  <a:srgbClr val="ffffff"/>
                </a:solidFill>
                <a:latin typeface="Garamond"/>
              </a:rPr>
              <a:t>144</a:t>
            </a:r>
            <a:r>
              <a:rPr b="0" lang="ar-IQ" sz="1400" spc="-1" strike="noStrike">
                <a:solidFill>
                  <a:srgbClr val="ffffff"/>
                </a:solidFill>
                <a:latin typeface="Garamond"/>
              </a:rPr>
              <a:t> من قانون التجارة العراقي النافذ على جواز سحب الصك لأمر الساحب نفسه أو لأمر شخص آخر ويجوز للمصر أن يكون ساحبا ومسحوبا عليه بنفس الوقت .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4</a:t>
            </a:r>
            <a:r>
              <a:rPr b="0" lang="ar-IQ" sz="1400" spc="-1" strike="noStrike">
                <a:solidFill>
                  <a:srgbClr val="ffffff"/>
                </a:solidFill>
                <a:latin typeface="Garamond"/>
              </a:rPr>
              <a:t>- مكان الأداء : من الضروري معرفة مكان وفاء الصك ليتمكن المستفيد من مطالبة المسحوب عليه وقبض قيمته في المكان المحدد لذلك أوجب المشرع ذكره صراحة في الصك ولكن في حال عدم ذكره فإن الورقة تظل صحيحة ومستحقة في العنوان المذكور بجانب اسم المسحوب عليه وإذا ذكرت عدة عناوين بهذا الشأن كان الصك مستحق الأداء في العنوان المذكور اولا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08:53:03Z</dcterms:created>
  <dc:creator/>
  <dc:description/>
  <dc:language>en-US</dc:language>
  <cp:lastModifiedBy/>
  <dcterms:modified xsi:type="dcterms:W3CDTF">2018-03-06T18:18:36Z</dcterms:modified>
  <cp:revision>2</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