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7621D-D79E-4AB3-BFDC-7C8162358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8A2A6-A497-4068-B66E-88A4A1A77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CCF34-4D2D-4D6B-A33F-E081FBE7E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B9FA0-DB98-4BAF-AB09-F0E9DEF65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E5ECE-AFFD-44BB-9092-BE07B2E0B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4EBC4-E90E-4170-A0CE-1071A4CD7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D474B-E0D6-413B-A8BE-E6E8DFA91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FFC09-1FDD-4C7F-9670-229EF17F3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724F1-50F8-4B36-B3CE-4347A2E6B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84157-C9E8-4A6F-B3F2-20BD77E21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33DEB-B32B-492E-9564-CFA0D804C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B1350-C4D8-4658-8C98-0B364DBF2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5F3E7-F015-4D30-A320-25A391522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5F244-6835-45AE-B41B-B4605D291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4B568-CE01-4A6D-B18E-DA5E2065A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F3DA2F-1721-4932-9FF4-0924D08CF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0A5BF6-69A2-4038-80B0-247061ECD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3713D-B02A-41AD-8D6E-04044BB34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E3C1A-13BB-4533-8E06-4CE78B62B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40225-186F-4631-AC62-997FD0CD7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9AF7F-A9B6-4E76-92AF-67C295E22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D233B-0F13-4D2E-896C-E7C090C0D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BB889-1CF5-4359-97D8-412B4FBFE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B850C-8CB5-4DF3-97A1-0B16E0371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5D81-886B-4CA0-9278-D7A70D3C8FD7}"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lgn="r" rtl="1">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lgn="r" rtl="1">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lgn="r" rtl="1">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lgn="r" rtl="1">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B7A65-0319-45A5-A82C-CF892B832C02}"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rtl="1">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rtl="1">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rtl="1">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0"/>
            <a:ext cx="8226360" cy="1052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5400" spc="-1" strike="noStrike" u="sng">
                <a:solidFill>
                  <a:srgbClr val="ccecff"/>
                </a:solidFill>
                <a:uFillTx/>
                <a:latin typeface="Arial"/>
              </a:rPr>
              <a:t>أنواع خاصة من الصــــــــــــــــــــــك</a:t>
            </a:r>
            <a:endParaRPr b="0" lang="en-US" sz="5400" spc="-1" strike="noStrike">
              <a:solidFill>
                <a:srgbClr val="ccecff"/>
              </a:solidFill>
              <a:latin typeface="Arial"/>
            </a:endParaRPr>
          </a:p>
        </p:txBody>
      </p:sp>
      <p:sp>
        <p:nvSpPr>
          <p:cNvPr id="213" name="PlaceHolder 2"/>
          <p:cNvSpPr>
            <a:spLocks noGrp="1"/>
          </p:cNvSpPr>
          <p:nvPr>
            <p:ph type="subTitle"/>
          </p:nvPr>
        </p:nvSpPr>
        <p:spPr>
          <a:xfrm>
            <a:off x="1403280" y="1413000"/>
            <a:ext cx="7088400" cy="42256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eaeaea"/>
                </a:solidFill>
                <a:latin typeface="Arial"/>
              </a:rPr>
              <a:t>: </a:t>
            </a:r>
            <a:r>
              <a:rPr b="1" lang="ar-IQ" sz="2000" spc="-1" strike="noStrike">
                <a:solidFill>
                  <a:srgbClr val="eaeaea"/>
                </a:solidFill>
                <a:latin typeface="Arial"/>
              </a:rPr>
              <a:t>الصــــــــــــك المسطر</a:t>
            </a:r>
            <a:r>
              <a:rPr b="0" lang="ar-IQ" sz="2000" spc="-1" strike="noStrike">
                <a:solidFill>
                  <a:srgbClr val="eaeaea"/>
                </a:solidFill>
                <a:latin typeface="Arial"/>
              </a:rPr>
              <a:t> : نص قانون التجارة على كيفية تسطير الصك وآثار التسطير وهذا النوع من الصك عبارة عن صك عادي مع وضع خطين متوازيين عليه بينهما فراغ ومثل هذا الصك لا يمكن وفاء قيمته الا الى مصرف او احد عملاء المسحوب عليه</a:t>
            </a:r>
            <a:r>
              <a:rPr b="0" lang="ar-IQ" sz="2000" spc="-1" strike="noStrike">
                <a:solidFill>
                  <a:srgbClr val="eaeaea"/>
                </a:solidFill>
                <a:latin typeface="Arial"/>
              </a:rPr>
              <a:t> </a:t>
            </a:r>
            <a:endParaRPr b="0" lang="en-US" sz="2000" spc="-1" strike="noStrike">
              <a:solidFill>
                <a:srgbClr val="eaeaea"/>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Arial"/>
              </a:rPr>
              <a:t>سبب التسطير : هو لتلافي الضياع الصك وسرقته فإذا كان مسطرا تعذر على من وجده او على سارقه أن يلجأ الى مصرف يقبل تسلم قيمة الصك لحسابه ، ويكثر التسطير في  الصك لحامله الا أن التسطير لا يقضي تماما على خطر استعمال الصك بعد سرقته أو ضياعه ذلك لأن السارق يستطيع أن يظهره الى حامل حسن النية وبالتالي لم يذهب الحامل الى احد المصارف فيقبض بواسطته قيمة الصك المذكور</a:t>
            </a:r>
            <a:r>
              <a:rPr b="0" lang="ar-IQ" sz="2000" spc="-1" strike="noStrike">
                <a:solidFill>
                  <a:srgbClr val="eaeaea"/>
                </a:solidFill>
                <a:latin typeface="Arial"/>
              </a:rPr>
              <a:t> </a:t>
            </a:r>
            <a:r>
              <a:rPr b="0" lang="ar-IQ" sz="2000" spc="-1" strike="noStrike">
                <a:solidFill>
                  <a:srgbClr val="eaeaea"/>
                </a:solidFill>
                <a:latin typeface="Arial"/>
              </a:rPr>
              <a:t>.  </a:t>
            </a:r>
            <a:endParaRPr b="0" lang="en-US" sz="2000" spc="-1" strike="noStrike">
              <a:solidFill>
                <a:srgbClr val="eaeaea"/>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Arial"/>
              </a:rPr>
              <a:t>وتتم عملية الوفاء بالصك المسطر بين مصرف حامل الصك وبين مصرف المسحوب عليه وتسوى بينهما الحسابات عن طريق المقاصة وقد يكون حامل الصك أحد عملاء المصرف المسحوب عليه فيجوز عندئذ وفاء القيمة لذلك الحامل</a:t>
            </a:r>
            <a:r>
              <a:rPr b="0" lang="ar-IQ" sz="2000" spc="-1" strike="noStrike">
                <a:solidFill>
                  <a:srgbClr val="eaeaea"/>
                </a:solidFill>
                <a:latin typeface="Arial"/>
              </a:rPr>
              <a:t> </a:t>
            </a:r>
            <a:r>
              <a:rPr b="0" lang="ar-IQ" sz="2000" spc="-1" strike="noStrike">
                <a:solidFill>
                  <a:srgbClr val="eaeaea"/>
                </a:solidFill>
                <a:latin typeface="Arial"/>
              </a:rPr>
              <a:t>.</a:t>
            </a:r>
            <a:endParaRPr b="0" lang="en-US" sz="2000" spc="-1" strike="noStrike">
              <a:solidFill>
                <a:srgbClr val="eaeaea"/>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Arial"/>
              </a:rPr>
              <a:t>والتسطير نوعان : تسطير عام ويكون عندما لا يكتب بين الخطين المتوازيين شيء او تكتب كلمة مصرف أو أي تعبير آخر يفيد المعنى المذكور . أما اذا كتب بين الخطين اسم مصرف معين مثل ( مصرف الرافدين) ( مصرف الرشيد) ففي هذه الحالة يكون التسطير خاصا</a:t>
            </a:r>
            <a:r>
              <a:rPr b="0" lang="ar-IQ" sz="2000" spc="-1" strike="noStrike">
                <a:solidFill>
                  <a:srgbClr val="eaeaea"/>
                </a:solidFill>
                <a:latin typeface="Arial"/>
              </a:rPr>
              <a:t> </a:t>
            </a:r>
            <a:r>
              <a:rPr b="0" lang="ar-IQ" sz="2000" spc="-1" strike="noStrike">
                <a:solidFill>
                  <a:srgbClr val="eaeaea"/>
                </a:solidFill>
                <a:latin typeface="Arial"/>
              </a:rPr>
              <a:t>.</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ccecff"/>
                </a:solidFill>
                <a:latin typeface="Arial"/>
              </a:rPr>
              <a:t>انواع الصكوك</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1000"/>
          </a:bodyPr>
          <a:p>
            <a:pPr marL="312120" indent="-312120" algn="r" rtl="1">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eaeaea"/>
                </a:solidFill>
                <a:latin typeface="Arial"/>
              </a:rPr>
              <a:t>وعندما يكون التسطير عاما يعني أن أي مصرف كان يستطيع أن يتسلم قيمة الصك فإذا كان للحامل حساب في احد المصارف يسلمه اليه فيقبض المصرف القيمة ويضيفها الى حسابه . </a:t>
            </a:r>
            <a:endParaRPr b="0" lang="en-US" sz="2400" spc="-1" strike="noStrike">
              <a:solidFill>
                <a:srgbClr val="eaeaea"/>
              </a:solidFill>
              <a:latin typeface="Arial"/>
            </a:endParaRPr>
          </a:p>
          <a:p>
            <a:pPr marL="312120" indent="-312120" algn="r" rtl="1">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eaeaea"/>
                </a:solidFill>
                <a:latin typeface="Arial"/>
              </a:rPr>
              <a:t>أما اذا كان التسطير خاصا كما الو ذكر في الفراغ الموجود بين الخطين عبارة ( مصرف الرافدين ) فهذا يعني أن هذا الصك لا يمكن أن تؤدى القيمة الا الى مصرف الرافدين ويجوز لهذا المصرف أن يوكل عنه مصرفا آخر لقبض القيمة .</a:t>
            </a:r>
            <a:endParaRPr b="0" lang="en-US" sz="2400" spc="-1" strike="noStrike">
              <a:solidFill>
                <a:srgbClr val="eaeaea"/>
              </a:solidFill>
              <a:latin typeface="Arial"/>
            </a:endParaRPr>
          </a:p>
          <a:p>
            <a:pPr marL="312120" indent="-312120" algn="r" rtl="1">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eaeaea"/>
                </a:solidFill>
                <a:latin typeface="Arial"/>
              </a:rPr>
              <a:t>ويجوز تحويل التخطيط العام الى تخطيط خاص وذلك بذكر اسم احد المصارف في الفراغ اما اذا كان التسطير خاصا فلا يمكن تحويله الى تسطير عام .</a:t>
            </a:r>
            <a:endParaRPr b="0" lang="en-US" sz="2400" spc="-1" strike="noStrike">
              <a:solidFill>
                <a:srgbClr val="eaeaea"/>
              </a:solidFill>
              <a:latin typeface="Arial"/>
            </a:endParaRPr>
          </a:p>
          <a:p>
            <a:pPr marL="312120" indent="-312120" algn="r" rtl="1">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eaeaea"/>
                </a:solidFill>
                <a:latin typeface="Arial"/>
              </a:rPr>
              <a:t>وفي حالة مخالفة المسحوب عليه أحكام الصك المسطر عند وفائه لقيمة الصك يسأل عندئذ عن تعويض الضرر بمقدار لا يزيد على قيمة الصك .ولا يجوز شطب التسطير او إمحاء اسم المصرف ومثل هذا العمل يعتبر كأن لم يكن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ccecff"/>
                </a:solidFill>
                <a:latin typeface="Arial"/>
              </a:rPr>
              <a:t>الصــــــــــك المقيد في الحساب</a:t>
            </a:r>
            <a:r>
              <a:rPr b="0" lang="ar-IQ" sz="4400" spc="-1" strike="noStrike">
                <a:solidFill>
                  <a:srgbClr val="ccecff"/>
                </a:solidFill>
                <a:latin typeface="Arial"/>
              </a:rPr>
              <a:t> </a:t>
            </a:r>
            <a:endParaRPr b="0" lang="en-US" sz="4400" spc="-1" strike="noStrike">
              <a:solidFill>
                <a:srgbClr val="ccecff"/>
              </a:solidFill>
              <a:latin typeface="Arial"/>
            </a:endParaRPr>
          </a:p>
        </p:txBody>
      </p:sp>
      <p:sp>
        <p:nvSpPr>
          <p:cNvPr id="217" name="PlaceHolder 2"/>
          <p:cNvSpPr>
            <a:spLocks noGrp="1"/>
          </p:cNvSpPr>
          <p:nvPr>
            <p:ph/>
          </p:nvPr>
        </p:nvSpPr>
        <p:spPr>
          <a:xfrm>
            <a:off x="455400" y="1413000"/>
            <a:ext cx="8226360" cy="4682880"/>
          </a:xfrm>
          <a:prstGeom prst="rect">
            <a:avLst/>
          </a:prstGeom>
          <a:noFill/>
          <a:ln w="0">
            <a:noFill/>
          </a:ln>
        </p:spPr>
        <p:txBody>
          <a:bodyPr lIns="90000" rIns="90000" tIns="46800" bIns="46800" anchor="t">
            <a:normAutofit fontScale="92000"/>
          </a:bodyPr>
          <a:p>
            <a:pPr marL="315360" indent="-315360" algn="r" rtl="1">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Arial"/>
              </a:rPr>
              <a:t>يستعمل هذا النوع من الصك لتجنب مخاطر الضياع والسرقة فيذكر على وجهه عبارة للقيد في الحساب أو ما يفيد هذا المعنى وبذلك لا يمكن إيفاء قيمته نقدا ولأجل الوفاء يقوم المسحوب عليه بتسوية المبلغ بواسطة تسجيل في حساب العميل الحامل او بواسطة المقاصة أو نقل الحساب من حساب الى اخر . وعند مخالفة المسحوب لهذه القواعد يكون مسؤولا عن تعويض الضرر بمقدار لا يتجاوز قيمة الصك .</a:t>
            </a:r>
            <a:endParaRPr b="0" lang="en-US" sz="2000" spc="-1" strike="noStrike">
              <a:solidFill>
                <a:srgbClr val="eaeaea"/>
              </a:solidFill>
              <a:latin typeface="Arial"/>
            </a:endParaRPr>
          </a:p>
          <a:p>
            <a:pPr marL="315360" indent="-315360" algn="r" rtl="1">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Arial"/>
              </a:rPr>
              <a:t>هذا النوع من الصك يفترض وجود حساب للحامل في المصرف المسحوب عليه وفي حالة عدم وجود حساب سابق لحامل الصك في ذلك المصرف عليه أن يظهره الى شخص اخر له حساب في ذلك المصرف أو يطلب منه أن يفتح له فيه حسابا .</a:t>
            </a:r>
            <a:endParaRPr b="0" lang="en-US" sz="2000" spc="-1" strike="noStrike">
              <a:solidFill>
                <a:srgbClr val="eaeaea"/>
              </a:solidFill>
              <a:latin typeface="Arial"/>
            </a:endParaRPr>
          </a:p>
          <a:p>
            <a:pPr marL="315360" indent="-315360" algn="r" rtl="1">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Arial"/>
              </a:rPr>
              <a:t>ولا أثر للشطب الذي يجري على العبارة التي تفيد معنى القيد في الحساب .</a:t>
            </a:r>
            <a:endParaRPr b="0" lang="en-US" sz="2000" spc="-1" strike="noStrike">
              <a:solidFill>
                <a:srgbClr val="eaeaea"/>
              </a:solidFill>
              <a:latin typeface="Arial"/>
            </a:endParaRPr>
          </a:p>
          <a:p>
            <a:pPr marL="315360" indent="-315360" algn="r" rtl="1">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Arial"/>
              </a:rPr>
              <a:t>وقد عالجت المادة </a:t>
            </a:r>
            <a:r>
              <a:rPr b="0" lang="ar-IQ" sz="2000" spc="-1" strike="noStrike">
                <a:solidFill>
                  <a:srgbClr val="eaeaea"/>
                </a:solidFill>
                <a:latin typeface="Arial"/>
              </a:rPr>
              <a:t>168</a:t>
            </a:r>
            <a:r>
              <a:rPr b="0" lang="ar-IQ" sz="2000" spc="-1" strike="noStrike">
                <a:solidFill>
                  <a:srgbClr val="eaeaea"/>
                </a:solidFill>
                <a:latin typeface="Arial"/>
              </a:rPr>
              <a:t>من قانون التجارة هذا النوع من الصكوك بنصها   </a:t>
            </a:r>
            <a:endParaRPr b="0" lang="en-US" sz="2000" spc="-1" strike="noStrike">
              <a:solidFill>
                <a:srgbClr val="eaeaea"/>
              </a:solidFill>
              <a:latin typeface="Arial"/>
            </a:endParaRPr>
          </a:p>
          <a:p>
            <a:pPr marL="315360" indent="-315360" algn="r" rtl="1">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Arial"/>
              </a:rPr>
              <a:t>اولا : يجوز لساحب الشيك او لحامله ان يشترط عدم وفائه نقداً بأن يضع على صدره البيان الآتي (للقيد في الحساب) او اية عبارة بهذا المعنى، وفي هذه الحالة لا يكون للمسحوب عليه الا تسوية قيمة الشيك بطريقة قيود كتابية كالقيد في الحساب او النقل المصرفي أو المقاصة، وتقوم هذه القيود الكتابية مقام الوفاء.</a:t>
            </a:r>
            <a:endParaRPr b="0" lang="en-US" sz="2000" spc="-1" strike="noStrike">
              <a:solidFill>
                <a:srgbClr val="eaeaea"/>
              </a:solidFill>
              <a:latin typeface="Arial"/>
            </a:endParaRPr>
          </a:p>
          <a:p>
            <a:pPr marL="315360" indent="-315360" algn="r" rtl="1">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Arial"/>
              </a:rPr>
              <a:t>ثانيا : لا يعتد بشطب بيان (للقيد في الحساب).</a:t>
            </a:r>
            <a:endParaRPr b="0" lang="en-US" sz="2000" spc="-1" strike="noStrike">
              <a:solidFill>
                <a:srgbClr val="eaeaea"/>
              </a:solidFill>
              <a:latin typeface="Arial"/>
            </a:endParaRPr>
          </a:p>
          <a:p>
            <a:pPr marL="315360" indent="-315360" algn="r" rtl="1">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Arial"/>
              </a:rPr>
              <a:t>ثالثا : اذا لم يراع المسحوب عليه الاحكام المتقدمة كان مسؤولاً عن تعويض الضرر بما لا يجاوز مبلغ الشيك.</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06T18:27:30Z</dcterms:created>
  <dc:creator>DR.Ahmed Saker</dc:creator>
  <dc:description/>
  <dc:language>en-US</dc:language>
  <cp:lastModifiedBy>DR.Ahmed Saker</cp:lastModifiedBy>
  <dcterms:modified xsi:type="dcterms:W3CDTF">2018-03-06T18:31:20Z</dcterms:modified>
  <cp:revision>1</cp:revision>
  <dc:subject/>
  <dc:title>أنواع خاصة من الصــــــــــــــــــــــك</dc:title>
</cp:coreProperties>
</file>