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29CFB5B-707B-44AB-B614-8224E0786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4439D3-D701-483A-8C04-BCEAA1BC2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D14DBB7-6788-481A-BEA5-56FE8BA9C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0C12CC-8333-4D47-95E2-C5E69689A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56EE3-A055-44B9-8E67-D15672C6B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0D17-3331-43A8-9C0D-FB7F7D377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D365A-564E-42A0-98D4-A61C1581D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F994F-23A2-48A9-A7C2-C289EAF58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2F8F5-1EE6-4799-A78E-045BF0723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E29F4-5BBF-45A9-A70D-4FC782018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07039-C129-495E-A00F-598ABB01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0B283C-FAF8-4577-98EF-035F24396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910FD-86FD-4797-8B5D-AAB4033C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C21F5-D7B6-4FA3-86BF-4BEA0018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992EF-E7EF-4CDA-BD92-AC78957EE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0A5E2-CE69-4D11-B849-54C0A4293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89073-5C73-4F65-B718-6034CAC7C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B820B4-8CFD-4223-A758-AEAF43796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415B6F-9AC0-4E41-8C7D-64B3CF2C2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74AA42-657F-4F82-BA06-0AFF68AF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A04DFC-3724-40A8-B66A-51D236757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2D4387-584A-4DD1-9715-EB769C16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1EE062-51B2-4823-B1AD-6287B543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E1218B-0CD2-4ECF-956A-C56701B0F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526D-D101-464A-B220-39727DF3D2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1915-805C-475E-8B8D-FBD728E8CE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e5e5ff"/>
                </a:solidFill>
                <a:latin typeface="Garamond"/>
              </a:rPr>
              <a:t>الصك المعتمد</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899640" y="1341360"/>
            <a:ext cx="7704360" cy="4967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يسمى ايضا بالصك المصدق ويقوم المسحوب عليه في هذا النوع من الصكوك بتصديقه او اعتماده وهذا يعني اعترافه بوجود الرصيد الكافي للصك ويترتب على اعتماد الصك أن يجمد المسحوب عليه الرصيد وبهذه الطريقة يطمئن المستفيد بوجود الرصيد الذي يكون الضمانة الاولى لوفاء قيمة الصك .تصديق الصك من قبل المسحوب عليه لا يعني قبوله ذلك لعدم إمكان قبول الصك ول يمكن الأخذ بما ذهب اليه البعض من أن معنى الاعتماد تقديم المسحوب عليه بالقبول وذلك لأن القانون نص صراحة على أن لا قبول في الصك وبالتالي فإن فإن اعتماد المصرف للصك المسحوب عليه لا ينتج آثار القبول وإنما يجعل المسحوب عليه ملتزما تجاه الحامل بإعتبار أن الإعتماد يعني الإعتراف من قبل المسحوب عليه بوجود الرصيد الكافي لديه فلا يستطيع بعدئذ أن يدعي عدم وجود الرصيد أو عدم كفايته . وطلب تصديق الصك يقدم من الساحب او من الحامل</a:t>
            </a:r>
            <a:r>
              <a:rPr b="0"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الصك المعتمد</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قد عالج قان ن التجارة أحكام الصك المعتمد في المادة </a:t>
            </a:r>
            <a:r>
              <a:rPr b="0" lang="ar-IQ" sz="2800" spc="-1" strike="noStrike">
                <a:solidFill>
                  <a:srgbClr val="ffffff"/>
                </a:solidFill>
                <a:latin typeface="Garamond"/>
              </a:rPr>
              <a:t>142</a:t>
            </a:r>
            <a:r>
              <a:rPr b="0" lang="ar-IQ" sz="2800" spc="-1" strike="noStrike">
                <a:solidFill>
                  <a:srgbClr val="ffffff"/>
                </a:solidFill>
                <a:latin typeface="Garamond"/>
              </a:rPr>
              <a:t> بنصه على أنه  :</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اولا : لا قبول في الشيك. واذا كتبت على الشيك صيغة القبول اعتبرت كأن لم تكن.</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ثانيا : يجوز للمسحوب عليه ان يؤشر على الشيك باعتماده. ويفيد الاعتماد وجود مقابل الوفاء لدى المسحوب عليه في تاريخ التأشير به. ويعتبر توقيع المسحوب عليه على وجه الشيك اعتمادا له.</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ثالثا : لا يجوز للمسحوب عليه رفض اعتماد الشيك اذا طلب منه الساحب او الحامل ذلك. وكان لديه مقابل وفاء يكفي لاداء مبلغ الشيك.</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رابعا : يبقى مقابل وفاء الشيك المعتمد مجمداً لدى المسحوب عليه وتحت مسؤوليته لمصلحة الحامل الى حين انتهاء مواعيد</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صكـــــــــوك المسافرين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تقوم هذه الصكوك بوظيفة نقل النقود ، وتستعمل لأغراض السياحة والسفر . فبدلا من أن يقوم السائح بأخذ نقوده معه يلجأ الى احد المصارف فيعطيه المبلغ المراد تبديله الى صكوك  ويقوم المصرف بتزويده بدفتر صكوك يحتوي على صكوك محددة القيمة كأن تكون بالدولار الأمريكي او الجنيه الأسترليني وعندما يرغب الحامل بصرف قيمة الصك يقدمه الى المصرف فيوفيها له .</a:t>
            </a:r>
            <a:endParaRPr b="0" lang="en-US" sz="2800" spc="-1" strike="noStrike">
              <a:solidFill>
                <a:srgbClr val="ffffff"/>
              </a:solidFill>
              <a:latin typeface="Garamond"/>
            </a:endParaRPr>
          </a:p>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معظم القوانين لا تعالج أحكام صكوك المسافرين ومنها القانون العراقي نظرا للخلاف حول طبيعتها القانونية وهذا السبب الذي جعل مؤتمر جنيف لم يتطرق لها عند وضعه للصكوك التي وحدت أحكام الصك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32:33Z</dcterms:created>
  <dc:creator/>
  <dc:description/>
  <dc:language>en-US</dc:language>
  <cp:lastModifiedBy/>
  <dcterms:modified xsi:type="dcterms:W3CDTF">2018-03-06T18:36:18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