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5A41F-5E88-4C0C-AC8D-2E910DE7A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7D019-BB60-43C5-A2F0-2C2A4CDE6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54B7A-50DE-4804-B496-B37229837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D4BB0-7146-4516-8EDD-743C3A90F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98DE01-53F9-44D7-B921-4FAA7157D6F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F0C0C5-A7E3-4BD7-A229-E7A98D5080C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1E2719-36E2-498F-8B1A-E2527D9785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D17430-6849-4F62-8C1B-82CCEE8E7EA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E805E4-212E-49C1-A1F8-941D3A23234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49FF55-7ACB-440D-BF28-F44B4D0EED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95F7F2-14BE-4DE3-A10D-851E49D3AB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A2A71-6AA5-44A0-B080-A4F179948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DB1EA0-F67B-4E68-B48E-7045F4F468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3591E4-AE99-4B36-9D13-55877D2DC0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8267C5-EA67-4BE4-BEA7-EFA09901507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32A76F-55CC-4D83-9C66-FA3FBA6F4A5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818F7C-41C4-468F-911F-7619DDD6A47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A9B92-2598-4297-9AB7-F76B9B4AF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6613F-0147-4152-AAD7-D5F7983F9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19F11-E098-4F8B-A5E8-7B337705D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95E43-B081-4E90-8CF3-1881DEFEB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D2B60-7659-44E4-82F0-9282C2CD8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4CCAD-88AA-4707-9A3E-D233F5FA3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24E94-88E3-4175-9D73-2861C6B26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46280-5D03-45F8-834C-54A2BC8F5A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4F41-2740-4375-AB90-D64B4EBE23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Tahoma"/>
              </a:rPr>
              <a:t>القانون التجاري</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Tahoma"/>
              </a:rPr>
              <a:t>الصك</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1" lang="ar-SA" sz="1400" spc="-1" strike="noStrike">
                <a:solidFill>
                  <a:srgbClr val="ffffff"/>
                </a:solidFill>
                <a:latin typeface="Tahoma"/>
              </a:rPr>
              <a:t>التعريف والخصائص</a:t>
            </a:r>
            <a:r>
              <a:rPr b="0" lang="ar-SA" sz="1400" spc="-1" strike="noStrike">
                <a:solidFill>
                  <a:srgbClr val="ffffff"/>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عتبر الأوراق النقدية أداة أساسية للتعاملات بين الناس وبخاصة في العمليات التجارية. إلا أن معظم التجار لا يحتفظون – غالباً – في خزائنهم بالنقود السائلة بدون استثمار.</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لذلك فإنهم يحتاجون دائماً إلى الائتمان، ويكون ذلك في شكل منح المدين أو المشتري فترة زمنية يسدد بعدها القيمة المطلوبة (وهذا هو الائتمان). ولذلك نشأت الحاجة إلى مستندات تنظم هذه الأعمال التجارية، وهذا ما يتم الحصول عليه بواسطة الكمبيالة او ما يعرف بالسند لأمر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لكمبيالة هي سند منظم وفق الشكل الذي نص عليه القانون يتعهد بمقتضاه شخص يسمى بالمتعهد او المحرر بدفع مبلغ معين من النقود الى شخص اخر يسمى المستفيد وذلك في زمان او مكان معينان او لدى الإطلاع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تعد الكمبيالة اكثر الأوراق التجارية شيوعا في المعاملات التجارية الداخلية إلا ان قانون التجارة العراقي وبعض القوانين التجارة العربية لم تخصص للكمبيالة سوى عدد قليل جدا من المواد القانونية واحالت بشأنها على احكام الحوالة التجارية لكي تطبق على الكمبيالة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للسند للأمر ( الكمبيالة ) ذات الخصائص العامة للورقة التجارية التي سبق بيانها اذ ينصب على دفع مبلغ معين من النقود مستحق الداء وغير معلق على شرط فضلا عن قابليته لتداول شأنه شأن أي ورقة تجارية اخرى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يشترك السند لأمر مع الحوالة التجارية في الكثير من الخصائص والحكام غير انه يختلف عنها من الوجوه الآتية :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1</a:t>
            </a:r>
            <a:r>
              <a:rPr b="0" lang="ar-SA" sz="1400" spc="-1" strike="noStrike">
                <a:solidFill>
                  <a:srgbClr val="ffffff"/>
                </a:solidFill>
                <a:latin typeface="Tahoma"/>
              </a:rPr>
              <a:t>- لما كانت الكمبيالة تتضمن تعهدا بأداء مبلغ معين من النقود فإن انشائه يتم بصيغة التعهد بينما يتم انشاء الحوالة التجارية بصيغة الأمر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2</a:t>
            </a:r>
            <a:r>
              <a:rPr b="0" lang="ar-SA" sz="1400" spc="-1" strike="noStrike">
                <a:solidFill>
                  <a:srgbClr val="ffffff"/>
                </a:solidFill>
                <a:latin typeface="Tahoma"/>
              </a:rPr>
              <a:t>- ان الكمبيالة لا يتضمن سوى شخصين هما المتعهد ( المحرر) والمستفيد بينما يتم انشاء الحوالة التجارية من ثلاث اشخاص هم الساحب والمسحوب عليه والمستفيد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3</a:t>
            </a:r>
            <a:r>
              <a:rPr b="0" lang="ar-SA" sz="1400" spc="-1" strike="noStrike">
                <a:solidFill>
                  <a:srgbClr val="ffffff"/>
                </a:solidFill>
                <a:latin typeface="Tahoma"/>
              </a:rPr>
              <a:t>- ان الكمبيالة لا تقدم للقبول كما هو الحال في الحوالة التجارية . وذلك لأن المتعهد في الكمبيالة يلتزم بمجرد توقيعه على الكمبيالة بوفاء قيمته ومن ثم فلا داعي للقبول ، فالمستفيد هو بمثابة المسحوب عليه القابل في الحوالة التجارية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4</a:t>
            </a:r>
            <a:r>
              <a:rPr b="0" lang="ar-SA" sz="1400" spc="-1" strike="noStrike">
                <a:solidFill>
                  <a:srgbClr val="ffffff"/>
                </a:solidFill>
                <a:latin typeface="Tahoma"/>
              </a:rPr>
              <a:t>- لا يوجد في الكمبيالة ما يطلق عليه بمقابل الوفاء والذي يتمثل بالدين النقدي للساحب على المسحوب عليه وذلك بسبب عدم وجود المسحوب عليه في الكمبيالة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jmj</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1" lang="ar-SA" sz="1400" spc="-1" strike="noStrike">
                <a:solidFill>
                  <a:srgbClr val="ffffff"/>
                </a:solidFill>
                <a:latin typeface="Tahoma"/>
              </a:rPr>
              <a:t>التعريف والخصائص</a:t>
            </a:r>
            <a:r>
              <a:rPr b="0" lang="ar-SA" sz="1400" spc="-1" strike="noStrike">
                <a:solidFill>
                  <a:srgbClr val="ffffff"/>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عتبر الأوراق النقدية أداة أساسية للتعاملات بين الناس وبخاصة في العمليات التجارية. إلا أن معظم التجار لا يحتفظون – غالباً – في خزائنهم بالنقود السائلة بدون استثمار.</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لذلك فإنهم يحتاجون دائماً إلى الائتمان، ويكون ذلك في شكل منح المدين أو المشتري فترة زمنية يسدد بعدها القيمة المطلوبة (وهذا هو الائتمان). ولذلك نشأت الحاجة إلى مستندات تنظم هذه الأعمال التجارية، وهذا ما يتم الحصول عليه بواسطة الكمبيالة او ما يعرف بالسند لأمر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لكمبيالة هي سند منظم وفق الشكل الذي نص عليه القانون يتعهد بمقتضاه شخص يسمى بالمتعهد او المحرر بدفع مبلغ معين من النقود الى شخص اخر يسمى المستفيد وذلك في زمان او مكان معينان او لدى الإطلاع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تعد الكمبيالة اكثر الأوراق التجارية شيوعا في المعاملات التجارية الداخلية إلا ان قانون التجارة العراقي وبعض القوانين التجارة العربية لم تخصص للكمبيالة سوى عدد قليل جدا من المواد القانونية واحالت بشأنها على احكام الحوالة التجارية لكي تطبق على الكمبيالة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للسند للأمر ( الكمبيالة ) ذات الخصائص العامة للورقة التجارية التي سبق بيانها اذ ينصب على دفع مبلغ معين من النقود مستحق الداء وغير معلق على شرط فضلا عن قابليته لتداول شأنه شأن أي ورقة تجارية اخرى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يشترك السند لأمر مع الحوالة التجارية في الكثير من الخصائص والحكام غير انه يختلف عنها من الوجوه الآتية :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1</a:t>
            </a:r>
            <a:r>
              <a:rPr b="0" lang="ar-SA" sz="1400" spc="-1" strike="noStrike">
                <a:solidFill>
                  <a:srgbClr val="ffffff"/>
                </a:solidFill>
                <a:latin typeface="Tahoma"/>
              </a:rPr>
              <a:t>- لما كانت الكمبيالة تتضمن تعهدا بأداء مبلغ معين من النقود فإن انشائه يتم بصيغة التعهد بينما يتم انشاء الحوالة التجارية بصيغة الأمر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2</a:t>
            </a:r>
            <a:r>
              <a:rPr b="0" lang="ar-SA" sz="1400" spc="-1" strike="noStrike">
                <a:solidFill>
                  <a:srgbClr val="ffffff"/>
                </a:solidFill>
                <a:latin typeface="Tahoma"/>
              </a:rPr>
              <a:t>- ان الكمبيالة لا يتضمن سوى شخصين هما المتعهد ( المحرر) والمستفيد بينما يتم انشاء الحوالة التجارية من ثلاث اشخاص هم الساحب والمسحوب عليه والمستفيد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3</a:t>
            </a:r>
            <a:r>
              <a:rPr b="0" lang="ar-SA" sz="1400" spc="-1" strike="noStrike">
                <a:solidFill>
                  <a:srgbClr val="ffffff"/>
                </a:solidFill>
                <a:latin typeface="Tahoma"/>
              </a:rPr>
              <a:t>- ان الكمبيالة لا تقدم للقبول كما هو الحال في الحوالة التجارية . وذلك لأن المتعهد في الكمبيالة يلتزم بمجرد توقيعه على الكمبيالة بوفاء قيمته ومن ثم فلا داعي للقبول ، فالمستفيد هو بمثابة المسحوب عليه القابل في الحوالة التجارية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4</a:t>
            </a:r>
            <a:r>
              <a:rPr b="0" lang="ar-SA" sz="1400" spc="-1" strike="noStrike">
                <a:solidFill>
                  <a:srgbClr val="ffffff"/>
                </a:solidFill>
                <a:latin typeface="Tahoma"/>
              </a:rPr>
              <a:t>- لا يوجد في الكمبيالة ما يطلق عليه بمقابل الوفاء والذي يتمثل بالدين النقدي للساحب على المسحوب عليه وذلك بسبب عدم وجود المسحوب عليه في الكمبيالة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Tahoma"/>
              </a:rPr>
              <a:t>الكمبيالة</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1" lang="ar-SA" sz="1400" spc="-1" strike="noStrike">
                <a:solidFill>
                  <a:srgbClr val="ffffff"/>
                </a:solidFill>
                <a:latin typeface="Tahoma"/>
              </a:rPr>
              <a:t>التعريف والخصائص</a:t>
            </a:r>
            <a:r>
              <a:rPr b="0" lang="ar-SA" sz="1400" spc="-1" strike="noStrike">
                <a:solidFill>
                  <a:srgbClr val="ffffff"/>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عتبر الأوراق النقدية أداة أساسية للتعاملات بين الناس وبخاصة في العمليات التجارية. إلا أن معظم التجار لا يحتفظون – غالباً – في خزائنهم بالنقود السائلة بدون استثمار.</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لذلك فإنهم يحتاجون دائماً إلى الائتمان، ويكون ذلك في شكل منح المدين أو المشتري فترة زمنية يسدد بعدها القيمة المطلوبة (وهذا هو الائتمان). ولذلك نشأت الحاجة إلى مستندات تنظم هذه الأعمال التجارية، وهذا ما يتم الحصول عليه بواسطة الكمبيالة او ما يعرف بالسند لأمر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لكمبيالة هي سند منظم وفق الشكل الذي نص عليه القانون يتعهد بمقتضاه شخص يسمى بالمتعهد او المحرر بدفع مبلغ معين من النقود الى شخص اخر يسمى المستفيد وذلك في زمان او مكان معينان او لدى الإطلاع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تعد الكمبيالة اكثر الأوراق التجارية شيوعا في المعاملات التجارية الداخلية إلا ان قانون التجارة العراقي وبعض القوانين التجارة العربية لم تخصص للكمبيالة سوى عدد قليل جدا من المواد القانونية واحالت بشأنها على احكام الحوالة التجارية لكي تطبق على الكمبيالة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للسند للأمر ( الكمبيالة ) ذات الخصائص العامة للورقة التجارية التي سبق بيانها اذ ينصب على دفع مبلغ معين من النقود مستحق الداء وغير معلق على شرط فضلا عن قابليته لتداول شأنه شأن أي ورقة تجارية اخرى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يشترك السند لأمر مع الحوالة التجارية في الكثير من الخصائص والحكام غير انه يختلف عنها من الوجوه الآتية :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1</a:t>
            </a:r>
            <a:r>
              <a:rPr b="0" lang="ar-SA" sz="1400" spc="-1" strike="noStrike">
                <a:solidFill>
                  <a:srgbClr val="ffffff"/>
                </a:solidFill>
                <a:latin typeface="Tahoma"/>
              </a:rPr>
              <a:t>- لما كانت الكمبيالة تتضمن تعهدا بأداء مبلغ معين من النقود فإن انشائه يتم بصيغة التعهد بينما يتم انشاء الحوالة التجارية بصيغة الأمر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2</a:t>
            </a:r>
            <a:r>
              <a:rPr b="0" lang="ar-SA" sz="1400" spc="-1" strike="noStrike">
                <a:solidFill>
                  <a:srgbClr val="ffffff"/>
                </a:solidFill>
                <a:latin typeface="Tahoma"/>
              </a:rPr>
              <a:t>- ان الكمبيالة لا يتضمن سوى شخصين هما المتعهد ( المحرر) والمستفيد بينما يتم انشاء الحوالة التجارية من ثلاث اشخاص هم الساحب والمسحوب عليه والمستفيد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3</a:t>
            </a:r>
            <a:r>
              <a:rPr b="0" lang="ar-SA" sz="1400" spc="-1" strike="noStrike">
                <a:solidFill>
                  <a:srgbClr val="ffffff"/>
                </a:solidFill>
                <a:latin typeface="Tahoma"/>
              </a:rPr>
              <a:t>- ان الكمبيالة لا تقدم للقبول كما هو الحال في الحوالة التجارية . وذلك لأن المتعهد في الكمبيالة يلتزم بمجرد توقيعه على الكمبيالة بوفاء قيمته ومن ثم فلا داعي للقبول ، فالمستفيد هو بمثابة المسحوب عليه القابل في الحوالة التجارية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4</a:t>
            </a:r>
            <a:r>
              <a:rPr b="0" lang="ar-SA" sz="1400" spc="-1" strike="noStrike">
                <a:solidFill>
                  <a:srgbClr val="ffffff"/>
                </a:solidFill>
                <a:latin typeface="Tahoma"/>
              </a:rPr>
              <a:t>- لا يوجد في الكمبيالة ما يطلق عليه بمقابل الوفاء والذي يتمثل بالدين النقدي للساحب على المسحوب عليه وذلك بسبب عدم وجود المسحوب عليه في الكمبيالة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06T08:37:50Z</dcterms:created>
  <dc:creator>DR.Ahmed Saker</dc:creator>
  <dc:description/>
  <dc:language>en-US</dc:language>
  <cp:lastModifiedBy>DR.Ahmed Saker</cp:lastModifiedBy>
  <dcterms:modified xsi:type="dcterms:W3CDTF">2018-03-06T08:46:32Z</dcterms:modified>
  <cp:revision>3</cp:revision>
  <dc:subject/>
  <dc:title>القانون التجاري</dc:title>
</cp:coreProperties>
</file>