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1A058AD-7A3B-4AE1-A078-F4C653072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5DA1888-FA42-437E-BADC-1C3FDFA18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86C0047-9191-4F86-BAAD-139D0521CF3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A8378DA-D9A9-4C5B-ADA1-8E2B88040F7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AF034-2844-417C-8E58-5A7384AEA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B25F0-F497-4830-82E6-A7746A66B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AA7EC-547B-4CEB-9128-3842D53F5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48BAA-9F62-4974-A6CF-C1F7166C0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4858E-3E46-4FBD-A383-89D19D29E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25397-A1B3-4C05-9478-ECD647D2D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E0885-53E4-4C93-AE0D-A9B6AB2FA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D0E5E8E-705A-4A8E-B020-467D38E2B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B7295-C8F8-4236-A34F-EE66FCDD7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96793-6AD2-41D8-9687-013993263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A1713-62FB-435F-9CD9-88A0ACB0F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2F279-8F9D-4B85-A332-C43C36957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404BA-171A-4ED8-AD5C-9010CFFA7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430F8B1-10BD-47BE-BE4A-A9E69D55B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B8D28D6-EFF4-4D7F-AECF-17C08FAEC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6AE8304-3405-4511-AE05-08C3C5E70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642E8B0-612C-4673-9F20-B891ECC42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53C13F6-D73D-4AB2-BA07-47ABD2EE8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86D25FC-C123-46BD-A4CF-C34E9979E6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A9B57C4-3E3F-4701-AA29-A877C612F3E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2EDA-E005-422F-A45B-C56E6A0A6B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035B-9582-411D-8333-3A5DDD79AF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9640" y="188640"/>
            <a:ext cx="777240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dfdef6"/>
                </a:solidFill>
                <a:latin typeface="Arial"/>
              </a:rPr>
              <a:t>مرور الزمان المانع من سماع الدعوى الصرفية</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240" y="1413000"/>
            <a:ext cx="708804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ظمت الماده </a:t>
            </a:r>
            <a:r>
              <a:rPr b="0" lang="ar-SA" sz="2800" spc="-1" strike="noStrike">
                <a:solidFill>
                  <a:srgbClr val="ffffff"/>
                </a:solidFill>
                <a:latin typeface="Arial"/>
              </a:rPr>
              <a:t>132</a:t>
            </a:r>
            <a:r>
              <a:rPr b="0" lang="ar-SA" sz="2800" spc="-1" strike="noStrike">
                <a:solidFill>
                  <a:srgbClr val="ffffff"/>
                </a:solidFill>
                <a:latin typeface="Arial"/>
              </a:rPr>
              <a:t> من قانون التجاره العراقي النافذ احكام تقادم الدعوى الصرفية الناشئة من التوقيع على الحوالة التجارية وذلك بنصها على انه (اولا : تتقادم الدعوى الناشئة عن الحوالة تجاه قابلها بمضي ثلاث سنوات من تاريخ الاستحقاق.ثانيا : تتقادم دعاوى الحامل تجاه المظهرين او الساحب بمضي سنة من تاريخ الاحتجاج المحرر في الميعاد القانوني او من تاريخ الاستحقاق اذا اشتملت الحوالة على شرط الرجوع بلا مصاريف.ثالثا : تتقادم دعاوى المظهرين تجاه بعضهم البعض او تجاه الساحب بمضي ستة اشهر من اليوم الذي اوفى فيه المظهرالحوالة او من يوم اقامة الدعوى عليه )</a:t>
            </a:r>
            <a:r>
              <a:rPr b="0" lang="ar-SA" sz="2800" spc="-1" strike="noStrike">
                <a:solidFill>
                  <a:srgbClr val="ffffff"/>
                </a:solidFill>
                <a:latin typeface="Arial"/>
              </a:rPr>
              <a:t>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dfdef6"/>
                </a:solidFill>
                <a:latin typeface="Arial"/>
              </a:rPr>
              <a:t>مرور الزمان المانع من سماع الدعوى الصرفية</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5000"/>
          </a:bodyPr>
          <a:p>
            <a:pPr marL="325800" indent="-32580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يتبين من النص المتقدم أن مدة تقادم الدعوى الصرفية المتعلقة بالحوالة ليست واحدة وانما تختلف بحسب الدعوى ، إذ توجد بهذا الشأن ثلاث مدد وبحسب نوع الدعوى وفيما إذا كانت الدعوى الناتجه عن الحواله ضد القابل أو دعوى رجوع الحامل على الساحب والمظهرين ، أو  دعوى رجوع الضامنين بعضهم على البعض الاخر .</a:t>
            </a:r>
            <a:endParaRPr b="0" lang="en-US" sz="2800" spc="-1" strike="noStrike">
              <a:solidFill>
                <a:srgbClr val="ffffff"/>
              </a:solidFill>
              <a:latin typeface="Arial"/>
            </a:endParaRPr>
          </a:p>
          <a:p>
            <a:pPr marL="325800" indent="-32580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ن التقادم في هذا الموضوع لا يشمل الا الدعوى الصرفيه الناشئة من التوقيع على الحوالة التجارية  دون الدعوى المدنيه الناتجه عن العلاقات القانونيه قبل انشاء الورقه التجاري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dfdef6"/>
                </a:solidFill>
                <a:latin typeface="Arial"/>
              </a:rPr>
              <a:t>شروط تقادم الدعوى الصرفية</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 يشترط لتطبيق  التقادم االدعوى الصرفية الناشئة من التوقيع على الحوالة التجارية   الشروط الآتية : </a:t>
            </a:r>
            <a:endParaRPr b="0" lang="en-US" sz="2400" spc="-1" strike="noStrike">
              <a:solidFill>
                <a:srgbClr val="ffffff"/>
              </a:solidFill>
              <a:latin typeface="Arial"/>
            </a:endParaRPr>
          </a:p>
          <a:p>
            <a:pPr marL="294840" indent="-294840" algn="r" rtl="1">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ولا :  وجود حواله تجاريه صحيحه من حيث الشروط الموضوعيه والشكليه</a:t>
            </a:r>
            <a:endParaRPr b="0" lang="en-US" sz="2400" spc="-1" strike="noStrike">
              <a:solidFill>
                <a:srgbClr val="ffffff"/>
              </a:solidFill>
              <a:latin typeface="Arial"/>
            </a:endParaRPr>
          </a:p>
          <a:p>
            <a:pPr marL="294840" indent="-294840" algn="r" rtl="1">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ثانيا : لا يسري التقادم الا على شخصين يصبح احدهما دائنا والاخر مدينا</a:t>
            </a:r>
            <a:endParaRPr b="0" lang="en-US" sz="2400" spc="-1" strike="noStrike">
              <a:solidFill>
                <a:srgbClr val="ffffff"/>
              </a:solidFill>
              <a:latin typeface="Arial"/>
            </a:endParaRPr>
          </a:p>
          <a:p>
            <a:pPr marL="294840" indent="-294840" algn="r" rtl="1">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ثالثا : التقادم الصرفي يسري على الدعاوي التي يكون مصدرها الحواله التجاريه</a:t>
            </a:r>
            <a:endParaRPr b="0" lang="en-US" sz="2400" spc="-1" strike="noStrike">
              <a:solidFill>
                <a:srgbClr val="ffffff"/>
              </a:solidFill>
              <a:latin typeface="Arial"/>
            </a:endParaRPr>
          </a:p>
          <a:p>
            <a:pPr marL="294840" indent="-294840" algn="r" rtl="1">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ن المسحوب عليه اذا قام بوفاء قيمه السفتجه دون ان يكون لديه مقابل الوفاء لا يخضع للتقادم الصرفي لانه دفع قيمة  الورقه التجاريه كونه فضولي واذا سقط حق الحامل بالرجوع على الساحب والملتزمين بسبب اهماله فانه يرجع على عليهم بدعوى الاثراء دون سبب واذا  انقضت علاقة الحامل بالمظهر بالتقادم فانه يرجع عليه بدعوى العلاقه السابقه على انشاء الورقه التجاريه واذا انقضت الدعوى بين الضامن والمضمون او الموفي بالتدخل لمن حصل التدخل لمصلحته فانه يرجع عليه بموجب الفضاله او الوكاله او الكفال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gn="r" rtl="1">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بعد كل ذلك لا بد لنا من دراسة الدعاوى الناشئه عن الحواله باختلاف اشخاصها وكالاتي</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 </a:t>
            </a:r>
            <a:r>
              <a:rPr b="0" lang="ar-SA" sz="2000" spc="-1" strike="noStrike">
                <a:solidFill>
                  <a:srgbClr val="ffffff"/>
                </a:solidFill>
                <a:latin typeface="Arial"/>
              </a:rPr>
              <a:t>1</a:t>
            </a:r>
            <a:r>
              <a:rPr b="0" lang="ar-SA" sz="2000" spc="-1" strike="noStrike">
                <a:solidFill>
                  <a:srgbClr val="ffffff"/>
                </a:solidFill>
                <a:latin typeface="Arial"/>
              </a:rPr>
              <a:t>- الدعاوى التي تتقادم ضد القابل مدتها ثلاث سنوات</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 </a:t>
            </a:r>
            <a:r>
              <a:rPr b="0" lang="ar-SA" sz="2000" spc="-1" strike="noStrike">
                <a:solidFill>
                  <a:srgbClr val="ffffff"/>
                </a:solidFill>
                <a:latin typeface="Arial"/>
              </a:rPr>
              <a:t>2</a:t>
            </a:r>
            <a:r>
              <a:rPr b="0" lang="ar-SA" sz="2000" spc="-1" strike="noStrike">
                <a:solidFill>
                  <a:srgbClr val="ffffff"/>
                </a:solidFill>
                <a:latin typeface="Arial"/>
              </a:rPr>
              <a:t>- دعاوى الحامل ضد الساحب والمظهرين مدتها سنه واحده</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 - دعاوى المظهرين بعضهم تجاه البعض الاخر وضد الساحب تنقضي بعد مرور ستة اشهر</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4</a:t>
            </a:r>
            <a:r>
              <a:rPr b="0" lang="ar-SA" sz="2000" spc="-1" strike="noStrike">
                <a:solidFill>
                  <a:srgbClr val="ffffff"/>
                </a:solidFill>
                <a:latin typeface="Arial"/>
              </a:rPr>
              <a:t> دعوى الموفي بالتدخل مدتها ستة اشهر</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5</a:t>
            </a:r>
            <a:r>
              <a:rPr b="0" lang="ar-SA" sz="2000" spc="-1" strike="noStrike">
                <a:solidFill>
                  <a:srgbClr val="ffffff"/>
                </a:solidFill>
                <a:latin typeface="Arial"/>
              </a:rPr>
              <a:t> دعوى الحامل ضد القابل بالتدخل مدتها  سنه واحده</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6</a:t>
            </a:r>
            <a:r>
              <a:rPr b="0" lang="ar-SA" sz="2000" spc="-1" strike="noStrike">
                <a:solidFill>
                  <a:srgbClr val="ffffff"/>
                </a:solidFill>
                <a:latin typeface="Arial"/>
              </a:rPr>
              <a:t>دعوى القابل بالتدخل ضد من حصل القبول بالتدخل لمصلحته مدتها ستة اشهر</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7</a:t>
            </a:r>
            <a:r>
              <a:rPr b="0" lang="ar-SA" sz="2000" spc="-1" strike="noStrike">
                <a:solidFill>
                  <a:srgbClr val="ffffff"/>
                </a:solidFill>
                <a:latin typeface="Arial"/>
              </a:rPr>
              <a:t> دعوى الحامل ضد الضامن مدتها سنه واحده </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8</a:t>
            </a:r>
            <a:r>
              <a:rPr b="0" lang="ar-SA" sz="2000" spc="-1" strike="noStrike">
                <a:solidFill>
                  <a:srgbClr val="ffffff"/>
                </a:solidFill>
                <a:latin typeface="Arial"/>
              </a:rPr>
              <a:t> دعوى  الضامن  ضد الشخص المضمون مدتها  ستة اشهر </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في حالة اقامة الدعوى وتركها او توقفها لاي سبب من الاسباب فان المده لا تسري الا من تاريخ  اخر اجراء  في الدعوى وكذلك لا تسري الدعوى  اذا ثبت الدين  بحكم صادر من المحكمه او كان قد اعترف به المدين بسند مستقل  ينطوي على تجديد الدين</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10T15:00:31Z</dcterms:created>
  <dc:creator>DR.Ahmed Saker</dc:creator>
  <dc:description/>
  <dc:language>en-US</dc:language>
  <cp:lastModifiedBy>DR.Ahmed Saker</cp:lastModifiedBy>
  <dcterms:modified xsi:type="dcterms:W3CDTF">2018-07-10T15:04:12Z</dcterms:modified>
  <cp:revision>1</cp:revision>
  <dc:subject/>
  <dc:title>مرور الزمان المانع من سماع الدعوى الصرفية</dc:title>
</cp:coreProperties>
</file>