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DCF90-B61B-4CD9-9F78-190178DE4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29B7-A235-47F1-8084-8C5D8D84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C347C-2664-42D5-ACDC-8D996C15F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44450-5FC7-4B86-981C-F1C2FC53B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D4A53-8A53-413B-9220-08950A5C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2863C-5C8B-4785-9CA8-FCC8E9A81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056C-510A-40FC-B834-E7555D2E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CF677-9B12-441F-816B-5631E91D1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0974-3689-44EF-8566-CF45BE96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CE3C6-D2E1-46EC-89C3-9504DC2A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5209-1DCF-42FE-A4C5-D96B5FA1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D9D8-57BE-44A8-BD22-7C3495B43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CFEC-10D1-4C27-8AF7-A09F8775A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360"/>
            <a:ext cx="7772400" cy="2016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نظام القانوني للكمبيالة</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1640" y="2060280"/>
            <a:ext cx="7127640" cy="45147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غلب التشريعات لا تضع قواعد خاصة لأحكام الكمبيالة وإنما تكتفي بالاحالة لأحكام الحوالة التجارية وهذا ما نهجه قانون التجارة العراقي حيث انه لم يخصص سوى أربع مواد لتنظيم الكمبيالة من (</a:t>
            </a:r>
            <a:r>
              <a:rPr b="0" lang="ar-IQ" sz="2000" spc="-1" strike="noStrike">
                <a:solidFill>
                  <a:srgbClr val="000000"/>
                </a:solidFill>
                <a:latin typeface="Arial"/>
              </a:rPr>
              <a:t>133</a:t>
            </a:r>
            <a:r>
              <a:rPr b="0" lang="ar-IQ" sz="2000" spc="-1" strike="noStrike">
                <a:solidFill>
                  <a:srgbClr val="000000"/>
                </a:solidFill>
                <a:latin typeface="Arial"/>
              </a:rPr>
              <a:t> – </a:t>
            </a:r>
            <a:r>
              <a:rPr b="0" lang="ar-IQ" sz="2000" spc="-1" strike="noStrike">
                <a:solidFill>
                  <a:srgbClr val="000000"/>
                </a:solidFill>
                <a:latin typeface="Arial"/>
              </a:rPr>
              <a:t>136</a:t>
            </a:r>
            <a:r>
              <a:rPr b="0" lang="ar-IQ" sz="2000" spc="-1" strike="noStrike">
                <a:solidFill>
                  <a:srgbClr val="000000"/>
                </a:solidFill>
                <a:latin typeface="Arial"/>
              </a:rPr>
              <a:t> )  فقد نص في المادتين </a:t>
            </a:r>
            <a:r>
              <a:rPr b="0" lang="ar-IQ" sz="2000" spc="-1" strike="noStrike">
                <a:solidFill>
                  <a:srgbClr val="000000"/>
                </a:solidFill>
                <a:latin typeface="Arial"/>
              </a:rPr>
              <a:t>133</a:t>
            </a:r>
            <a:r>
              <a:rPr b="0" lang="ar-IQ" sz="2000" spc="-1" strike="noStrike">
                <a:solidFill>
                  <a:srgbClr val="000000"/>
                </a:solidFill>
                <a:latin typeface="Arial"/>
              </a:rPr>
              <a:t> ، </a:t>
            </a:r>
            <a:r>
              <a:rPr b="0" lang="ar-IQ" sz="2000" spc="-1" strike="noStrike">
                <a:solidFill>
                  <a:srgbClr val="000000"/>
                </a:solidFill>
                <a:latin typeface="Arial"/>
              </a:rPr>
              <a:t>134</a:t>
            </a:r>
            <a:r>
              <a:rPr b="0" lang="ar-IQ" sz="2000" spc="-1" strike="noStrike">
                <a:solidFill>
                  <a:srgbClr val="000000"/>
                </a:solidFill>
                <a:latin typeface="Arial"/>
              </a:rPr>
              <a:t> على البيانات الواجب ذكرها في الكمبيالة ونص في المادة </a:t>
            </a:r>
            <a:r>
              <a:rPr b="0" lang="ar-IQ" sz="2000" spc="-1" strike="noStrike">
                <a:solidFill>
                  <a:srgbClr val="000000"/>
                </a:solidFill>
                <a:latin typeface="Arial"/>
              </a:rPr>
              <a:t>135</a:t>
            </a:r>
            <a:r>
              <a:rPr b="0" lang="ar-IQ" sz="2000" spc="-1" strike="noStrike">
                <a:solidFill>
                  <a:srgbClr val="000000"/>
                </a:solidFill>
                <a:latin typeface="Arial"/>
              </a:rPr>
              <a:t> على انه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ولا : تسري على السند للامر الاحكام المتعلقة بالحوالة فيما يخص الاهلية والتظهير والاستحقاق والوفاء والرجوع بسبب عدم الاداء والحجز الاحتياطي والاحتجاج والرجوع بطريق انشاء حوالة رجوع والوفاء بالتدخل والصور والتحريف والتقادم.</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ثانيا : تسري ايضا على السند للامر القواعد المتعلقة بالحوالة المستحقة بالوفاء في مقام الغير او في مكان غير الذي يوجد فيه مقام المسحوب عليه المنصوص عليها في المادة ( </a:t>
            </a:r>
            <a:r>
              <a:rPr b="0" lang="ar-IQ" sz="2000" spc="-1" strike="noStrike">
                <a:solidFill>
                  <a:srgbClr val="000000"/>
                </a:solidFill>
                <a:latin typeface="Arial"/>
              </a:rPr>
              <a:t>43</a:t>
            </a:r>
            <a:r>
              <a:rPr b="0" lang="ar-IQ" sz="2000" spc="-1" strike="noStrike">
                <a:solidFill>
                  <a:srgbClr val="000000"/>
                </a:solidFill>
                <a:latin typeface="Arial"/>
              </a:rPr>
              <a:t> ) واشتراط الفائدة المذكورة في المادة ( </a:t>
            </a:r>
            <a:r>
              <a:rPr b="0" lang="ar-IQ" sz="2000" spc="-1" strike="noStrike">
                <a:solidFill>
                  <a:srgbClr val="000000"/>
                </a:solidFill>
                <a:latin typeface="Arial"/>
              </a:rPr>
              <a:t>44</a:t>
            </a:r>
            <a:r>
              <a:rPr b="0" lang="ar-IQ" sz="2000" spc="-1" strike="noStrike">
                <a:solidFill>
                  <a:srgbClr val="000000"/>
                </a:solidFill>
                <a:latin typeface="Arial"/>
              </a:rPr>
              <a:t> ) والاختلاف في البيانات الخاصة بالمبلغ الواجب دفعه المنصوص عليها في المادة ( </a:t>
            </a:r>
            <a:r>
              <a:rPr b="0" lang="ar-IQ" sz="2000" spc="-1" strike="noStrike">
                <a:solidFill>
                  <a:srgbClr val="000000"/>
                </a:solidFill>
                <a:latin typeface="Arial"/>
              </a:rPr>
              <a:t>45</a:t>
            </a:r>
            <a:r>
              <a:rPr b="0" lang="ar-IQ" sz="2000" spc="-1" strike="noStrike">
                <a:solidFill>
                  <a:srgbClr val="000000"/>
                </a:solidFill>
                <a:latin typeface="Arial"/>
              </a:rPr>
              <a:t> ) والنتائج المترتبة على التوقيع في الحالات المنصوص عليها في المادتين ( </a:t>
            </a:r>
            <a:r>
              <a:rPr b="0" lang="ar-IQ" sz="2000" spc="-1" strike="noStrike">
                <a:solidFill>
                  <a:srgbClr val="000000"/>
                </a:solidFill>
                <a:latin typeface="Arial"/>
              </a:rPr>
              <a:t>46</a:t>
            </a:r>
            <a:r>
              <a:rPr b="0" lang="ar-IQ" sz="2000" spc="-1" strike="noStrike">
                <a:solidFill>
                  <a:srgbClr val="000000"/>
                </a:solidFill>
                <a:latin typeface="Arial"/>
              </a:rPr>
              <a:t> ) و( </a:t>
            </a:r>
            <a:r>
              <a:rPr b="0" lang="ar-IQ" sz="2000" spc="-1" strike="noStrike">
                <a:solidFill>
                  <a:srgbClr val="000000"/>
                </a:solidFill>
                <a:latin typeface="Arial"/>
              </a:rPr>
              <a:t>47</a:t>
            </a:r>
            <a:r>
              <a:rPr b="0" lang="ar-IQ" sz="2000" spc="-1" strike="noStrike">
                <a:solidFill>
                  <a:srgbClr val="000000"/>
                </a:solidFill>
                <a:latin typeface="Arial"/>
              </a:rPr>
              <a:t> ) وعلى توقيع شخص غير مفوض او جاوز حدود التفويض المذكورة في المادة ( </a:t>
            </a:r>
            <a:r>
              <a:rPr b="0" lang="ar-IQ" sz="2000" spc="-1" strike="noStrike">
                <a:solidFill>
                  <a:srgbClr val="000000"/>
                </a:solidFill>
                <a:latin typeface="Arial"/>
              </a:rPr>
              <a:t>49</a:t>
            </a:r>
            <a:r>
              <a:rPr b="0" lang="ar-IQ" sz="2000" spc="-1" strike="noStrike">
                <a:solidFill>
                  <a:srgbClr val="000000"/>
                </a:solidFill>
                <a:latin typeface="Arial"/>
              </a:rPr>
              <a:t> ) من هذا القانون</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نظام القانوني للكمبيالة</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الثا : تسري على السند للامر الاحكام المتعلقة بالضمان المنصوص عليها في المواد ( </a:t>
            </a:r>
            <a:r>
              <a:rPr b="0" lang="ar-IQ" sz="2800" spc="-1" strike="noStrike">
                <a:solidFill>
                  <a:srgbClr val="000000"/>
                </a:solidFill>
                <a:latin typeface="Arial"/>
              </a:rPr>
              <a:t>80</a:t>
            </a:r>
            <a:r>
              <a:rPr b="0" lang="ar-IQ" sz="2800" spc="-1" strike="noStrike">
                <a:solidFill>
                  <a:srgbClr val="000000"/>
                </a:solidFill>
                <a:latin typeface="Arial"/>
              </a:rPr>
              <a:t> وما بعدها) واذا لم يذكر في صيغة الضمان اسم المضمون اعتبر الضمان حاصلا لمصلحة محرر السند.</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رابعا : وتسري على السند للامر بوجه عام الاحكام المتعلقة بالحوالة بالقدر الذي لا تتعارض فيه مع ماهيته.</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أما المادة </a:t>
            </a:r>
            <a:r>
              <a:rPr b="0" lang="ar-IQ" sz="2800" spc="-1" strike="noStrike">
                <a:solidFill>
                  <a:srgbClr val="000000"/>
                </a:solidFill>
                <a:latin typeface="Arial"/>
              </a:rPr>
              <a:t>136</a:t>
            </a:r>
            <a:r>
              <a:rPr b="0" lang="ar-IQ" sz="2800" spc="-1" strike="noStrike">
                <a:solidFill>
                  <a:srgbClr val="000000"/>
                </a:solidFill>
                <a:latin typeface="Arial"/>
              </a:rPr>
              <a:t> فقد جاء ببعض أحكام الحوالة التي يلزم تعديلها عند تطبيقها على الكمبيالة فجعلت المتعهد في مركز المسحوب عليه القابل وإعتبرت التأشير بالإطلاع على الكمبيالة المستحقة الوفاء بعد مضي مدة معينة من الإطلاع في مقام القبول في الحوالة ومن حيث حساب ميعاد الأستحقاق فيحسب ميعاد الاستحقاق من تاريخ التقديم للإطلاع أو التأش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نظام القانوني للكمبيالة</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يختلف السند لأمر على الحوالة من حيث عدد اشخاصه فهو يحتوي على شخصين هما المتعهد ( المحرر) والمستفيد بينما تتضمن الحوالة التجارية عند انشائها ثلاث اشخاص هم الساحب والمسحوب عليه والمستفيد ، كما أن الكمبيالة لا تقدم للقبول وذلك لأن الساحب هو الذي انشأها وهو الذي يلتزم بوفاء قيمتها ويكون بمقام المسحوب عليه القابل .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تظهير الكمبيالة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أن جميع الحكام الخاصة بتظهير الحوالة التجارية تسري على الكمبيالة ولذلك فإن المستفيد من الكمبيالة بإمكانه أن يقوم بتظهيرها للغير ، فيمكنه التنازل عن ملكيتها للمظهر اليه بموجب تظهير تمليكي يتم بكتابة تفيد معنى التظهير التمليكي وتوقيعه على ذلك لتنتقل بذلك جميع الحقوق الممقرررة بموجب الكمبيالة لحساب المظهر اليه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كما يمكنه توكيل الغير ليقوم مقامه في استعمال الحقوق المقررة بالكمبيالة وذلك بموجب تظهير توكيلي يتم بكتابة عبارة تفيد معنى التوكيل لحساب المظهر اليع وعندئذ تسري أحكام الوكالة بين المظهر والمظهر اليه ولا يجوز لهذا الخير اعادة تظهير الكمبيالة الا على سبيل التوكيل طبقا لما سبق بيانه من احكام التظهير التوكيلي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كما يمكن للمستفيد من الكمبيالة أن يرهنها لدى شخص اخر ضمانا للوفاء بما عليه من دين ويتم ذلك عن طريق التظهير التأميني او التوثيقيعلى النحو النمقرر في تظهير الحوالة وتطبق على الرهن التأميني في الكمبيالة نفس الحكام الخاصة بالشكل والواجبات الملقاة على عاتق المظهر اليه ( الدائن المرتهن) من تقديم للوفاء وسحب الاحتجاج عند الامتناع  وعمل الاخطارات اللازمة والاحكام الخاصة بعلاقته بباقي الموقعين والسابق بيان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6:39:35Z</dcterms:created>
  <dc:creator>DR.Ahmed Saker</dc:creator>
  <dc:description/>
  <dc:language>en-US</dc:language>
  <cp:lastModifiedBy>DR.Ahmed Saker</cp:lastModifiedBy>
  <dcterms:modified xsi:type="dcterms:W3CDTF">2019-03-07T16:39:35Z</dcterms:modified>
  <cp:revision>1</cp:revision>
  <dc:subject/>
  <dc:title>النظام القانوني للكمبيالة</dc:title>
</cp:coreProperties>
</file>