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9ED72-B52C-49CD-A12E-0ADC58987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952EB-2A07-4D3A-8A3A-F0AB75F6B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CA248-7695-4A88-8167-CCFFB28E0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39E3F-0F3F-47BD-AB56-F66EFBE02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71D6C-8A9D-4951-9CCD-DDE6E6107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883D5-02F4-4222-BD72-5500A0A95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D28E4-D091-4067-BA18-BC8D546F5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23E31-D118-47B1-A495-CF6D0704F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9F112-EA8B-43D7-B7F6-BD4BDF3B1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ED001-24FC-473A-A4C2-8EBEE5399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D52E0-A493-4DDE-A4E3-A948FF81B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7F38B-708E-4253-95C4-F364CB7ABA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F3C3-BB75-4F07-82C8-3EDB1D2046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49000"/>
            <a:ext cx="7772400" cy="208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00000"/>
                </a:solidFill>
                <a:latin typeface="Arial"/>
              </a:rPr>
              <a:t>تقادم الدعوى الصرفية الناشيئة عن الكمبيالة </a:t>
            </a:r>
            <a:endParaRPr b="0" lang="en-US" sz="4400" spc="-1" strike="noStrike">
              <a:solidFill>
                <a:srgbClr val="000000"/>
              </a:solidFill>
              <a:latin typeface="Arial"/>
            </a:endParaRPr>
          </a:p>
        </p:txBody>
      </p:sp>
      <p:sp>
        <p:nvSpPr>
          <p:cNvPr id="42" name="PlaceHolder 2"/>
          <p:cNvSpPr>
            <a:spLocks noGrp="1"/>
          </p:cNvSpPr>
          <p:nvPr>
            <p:ph type="subTitle"/>
          </p:nvPr>
        </p:nvSpPr>
        <p:spPr>
          <a:xfrm>
            <a:off x="1402920" y="2205000"/>
            <a:ext cx="6913800" cy="3936960"/>
          </a:xfrm>
          <a:prstGeom prst="rect">
            <a:avLst/>
          </a:prstGeom>
          <a:noFill/>
          <a:ln w="0">
            <a:noFill/>
          </a:ln>
        </p:spPr>
        <p:txBody>
          <a:bodyPr lIns="90000" rIns="90000" tIns="46800" bIns="46800" anchor="t">
            <a:noAutofit/>
          </a:bodyPr>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نصت المادة </a:t>
            </a:r>
            <a:r>
              <a:rPr b="0" lang="ar-IQ" sz="2000" spc="-1" strike="noStrike">
                <a:solidFill>
                  <a:srgbClr val="000000"/>
                </a:solidFill>
                <a:latin typeface="Arial"/>
              </a:rPr>
              <a:t>135</a:t>
            </a:r>
            <a:r>
              <a:rPr b="0" lang="ar-IQ" sz="2000" spc="-1" strike="noStrike">
                <a:solidFill>
                  <a:srgbClr val="000000"/>
                </a:solidFill>
                <a:latin typeface="Arial"/>
              </a:rPr>
              <a:t> من قانون التجارة العراقي على سريان احكام التقادم المانع من سماع الدعوى المتعلقة بالحوالة على السند لأمر ، وعلى هذا الساس تكون مدة التقادم في الكمبيالة على الوجه الاتي </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الدعاوى المقامة ضد المتعهد تنقضي بمرور ثلاث سنوات من تاريخ استحقاق الكمبيالة سواء كانت الدعوى المقامة من قبل الحامل أو من احد المظهرين او من الضامن </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دعاوى الحامل ضد المظهرين تنقضي بمرور سنة واحدة اعتبارا من تاريخ الإحتجاج المسحوب في المواعيد المقررة او من تاريخ الإستحقاق عند وجود شرط الرجوع بلا مصاريف </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دعوى المظهرين ضد بعضهم البعض تنقضي بمرور ستة اشهر من تاريخ وفاء المظهر بقيمة الكمبيالة او من  تاريخ اقامة الدعوى  عليه </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 دعوى الموفي بالتدخل تنقضي بمضي ستة اشهر من تاريخ وفائه لقيمة الكمبيال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000000"/>
                </a:solidFill>
                <a:latin typeface="Arial"/>
              </a:rPr>
              <a:t>احكام تقادم الدعوى الصرفية الناشئة عن الكمبيالة </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 دعوى الحامل ضد الضامن إذا كانت قد اقيمت على الضامن للمتعهد فتنقضي بمرور ثلاث سنوات  من الإستحقاق أما اذا كان الضامن الذي اقيمت عليه الدعوى ضامنا لأحد المظهرين فتنقضي الدعوى عندئذ بمرور سنة من تاريخ سحب الإحتجاج لعدم الوفاء او من تاريخ استحقاق الكمبيالة لن الضامن يلتزم بما يلتزم به المضمون </a:t>
            </a: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 دعوى الضامن على من ضمنه تنقضيبمرور ستة اشهر من تاريخ وفائة بقيمة المكمبيالة أو من تاريخ رفع الدعوى عليه </a:t>
            </a: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ويجب التأكيد على أن احكام التقادم المذكورة لا تسري الا على الدعاوى الناشئة عن الكمبيالة ولا تخضع لها الدعوى الناشئة عن العلاقات القانونية بين الأشخاص المذكورة في الكمبيالة والتيي لا تستند الى الورقة التجارية  وانا تخضع لأحكام التقادم المنصوص عليها في القانون المدن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3-07T16:58:47Z</dcterms:created>
  <dc:creator>DR.Ahmed Saker</dc:creator>
  <dc:description/>
  <dc:language>en-US</dc:language>
  <cp:lastModifiedBy>DR.Ahmed Saker</cp:lastModifiedBy>
  <dcterms:modified xsi:type="dcterms:W3CDTF">2019-03-07T16:58:47Z</dcterms:modified>
  <cp:revision>1</cp:revision>
  <dc:subject/>
  <dc:title>تقادم الدعوى الصرفية الناشيئة عن الكمبيالة </dc:title>
</cp:coreProperties>
</file>