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6053D-E7F0-4344-A316-401B6C944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BB0F0-5506-489F-9CCD-70C3CC1B5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CF0B4-DB4E-4BF0-B887-EFF24AE95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5B348-6486-4041-8BCD-EB41975CE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F9639-3CD6-4527-9202-5B9B21D4D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9D4A-08FD-482D-ADE2-1E0E3A1C3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8007-5C50-427C-80A8-C0B8020E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6D013-C11C-4328-9078-AF6AF5B2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1B35A-CC4C-411C-9EEF-996A5EA0D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46C9-616A-412C-A392-277225374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2079-0BBF-4E5B-8287-327566563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49B3-B62F-427B-8A48-BF279F1BD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4748-1037-486E-BA62-4E8D01CF0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تظهير الورقة التجارية</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1413000"/>
            <a:ext cx="8280360" cy="47527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تظهير الحوالة التجارية قد يكون بقصد رهنها أي تقديمها للمظهر اليه ضمانا للوفاء بدين له في ذمة المظهر ويصطلح عليه بالتظهير التوثيقي نسبة لما يقرره من تأمينات عينية على الورقة التجارية لمصلحة المظهر اليه وقد اجاز المشرع العراقي التظهير التوثيقي للورقة التجارية بالمادة </a:t>
            </a:r>
            <a:r>
              <a:rPr b="0" lang="ar-IQ" sz="2800" spc="-1" strike="noStrike">
                <a:solidFill>
                  <a:srgbClr val="000000"/>
                </a:solidFill>
                <a:latin typeface="Arial"/>
              </a:rPr>
              <a:t>59</a:t>
            </a:r>
            <a:r>
              <a:rPr b="0" lang="ar-IQ" sz="2800" spc="-1" strike="noStrike">
                <a:solidFill>
                  <a:srgbClr val="000000"/>
                </a:solidFill>
                <a:latin typeface="Arial"/>
              </a:rPr>
              <a:t> من قانون التجارة العراقي والتي تنص على انه اولا : اذا اشتمل التظهير على عبارة (القيمة للضمان) او (القيمة للرهن) او اي بيان آخر يفيد الرهن جاز للحامل استعمال جميع الحقوق الناشئة عن الحوالة. ومع ذلك اذا ظهر الحامل الحوالة اعتبر التظهير حاصلا على سبيل التوكيل.</a:t>
            </a:r>
            <a:endParaRPr b="0" lang="en-US" sz="2800" spc="-1" strike="noStrike">
              <a:solidFill>
                <a:srgbClr val="000000"/>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انيا : ليس للملتزمين بالحوالة الاحتجاج على الحامل بالدفوع المبنية على علاقاتهم الشخصية بالمظهر ما لم يكن الحامل وقت حصوله على الحوالة قد تصرف بقصد الاضرار بالمدين.</a:t>
            </a:r>
            <a:endParaRPr b="0" lang="en-US" sz="2800" spc="-1" strike="noStrike">
              <a:solidFill>
                <a:srgbClr val="000000"/>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ونتناول هذا النوع من التظهير ببيان إنشائه أولا وآثاره ثانيا</a:t>
            </a:r>
            <a:r>
              <a:rPr b="0" lang="ar-IQ"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نشاء التظهيرالتأميني للحوالة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تظهير التوثيقي عبارة عن تصرف ارادي صرفي يرد على الورقة التجارية بقصد رهنها ضمانا للوفاء بدين ، ويستلزم انشائه توافر نوعين من الشروط ، موضوعية واخرى شكلية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a:t>
            </a:r>
            <a:r>
              <a:rPr b="1" lang="ar-IQ" sz="2000" spc="-1" strike="noStrike">
                <a:solidFill>
                  <a:srgbClr val="000000"/>
                </a:solidFill>
                <a:latin typeface="Arial"/>
              </a:rPr>
              <a:t>- الشروط الموضوعية للتظهير التوثيقي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أن التظهير التوثيقي للحوالة هو تصرف إرادي يعبر بمقتضاه الحامل القانوني عن رغبته في رهن ورقته التجارية  . لذا يستلزم فيه توافر الشروط الموضوعية اللازمة لعموم التصرفات القانونية من رضا ومحل وسبب ، بأن يكون الحامل القانوني أهلا لتحمل الإلتزام الصرفي المترتب على رهن للحوالة وأن تنصرف إرادته نحو الرهن بشكل سليم دون تعرضها لما يعيبها من اكراه أو غلط ونحو ذلك من عيوب . كما يجب أن تكون الحوالة التجارية المقدمة للرهن حوالة صحيحة بأن تكون مستوفية للبيانات الإلزامية المحددة بالمادة (</a:t>
            </a:r>
            <a:r>
              <a:rPr b="0" lang="ar-IQ" sz="2000" spc="-1" strike="noStrike">
                <a:solidFill>
                  <a:srgbClr val="000000"/>
                </a:solidFill>
                <a:latin typeface="Arial"/>
              </a:rPr>
              <a:t>40</a:t>
            </a:r>
            <a:r>
              <a:rPr b="0" lang="ar-IQ" sz="2000" spc="-1" strike="noStrike">
                <a:solidFill>
                  <a:srgbClr val="000000"/>
                </a:solidFill>
                <a:latin typeface="Arial"/>
              </a:rPr>
              <a:t>) من قانون التجارة العراقي كما يجب أن تكون قابلة للتعامل بها وهذا ما يستلزم خلو الورقة من بيان حظر التظهير  فضلاً عن أن يكون الباعث الدافع لرهنها للحوالة مشروعا وان يكون الدين مخصصا بأن يكون الدين المضمون معينا فلا يجوز أن يرد هذا التصرف ضمانا لكل ما عسى أن ينشأ في ذمة المظهر الراهن من دين للمظهر اليه المرتهن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وبما أن المظهر هو حامل الحوالة فينبغي أن يكون مالكها الشرعي </a:t>
            </a: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flipV="1">
            <a:off x="8532720" y="333360"/>
            <a:ext cx="193680" cy="71280"/>
          </a:xfrm>
          <a:prstGeom prst="rect">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شروط الشكلية للتظهير التأميني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تجسد الشروط الشكلية بالكتابة ، اذ يجب أن يكون التظهير مكتوبا على الورقة فلا يصح انشائه شفاها وينبغي أن يرد التظهير مكتوبا على ظهر الحوالة التجارية او ظهر الوصلة المتصلة بها باعتباره المكان الطبيعي المخصص للتظهير ومع ذلك يجوز ايراده على وجه الورقة دون تفسير ذلك بالضمان تبعا لوجود بيانات الزامية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فمن حيث المضمون يجب أن تتضمن كتابة التظهير بيانات محددة تتمثل بالات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شروط الشكلية للتظهير التوثيقي التأميني</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عبارة القيمة للضمان او القيمة للرهن او أي بيان اخر يفيد الرهن على حد تعبير الفقرة الاولى من المادة  </a:t>
            </a:r>
            <a:r>
              <a:rPr b="0" lang="ar-IQ" sz="2400" spc="-1" strike="noStrike">
                <a:solidFill>
                  <a:srgbClr val="000000"/>
                </a:solidFill>
                <a:latin typeface="Arial"/>
              </a:rPr>
              <a:t>59</a:t>
            </a:r>
            <a:r>
              <a:rPr b="0" lang="ar-IQ" sz="2400" spc="-1" strike="noStrike">
                <a:solidFill>
                  <a:srgbClr val="000000"/>
                </a:solidFill>
                <a:latin typeface="Arial"/>
              </a:rPr>
              <a:t> من قانون التجارة العراقي كعبارة القيمة للتوثيق او التأمين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توقيع المظهر الحاصل بواسطة الامضاء الكتابي او بصمة الابهام بحضور موظف عام مختص او شاهدين يوقعان على السند وفقا لما بينه قانون الاثبات العراقي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والى جانب ذلك لا يرى البعض وجوب ذكر اسم المستفيد ولذا فا التظهير التوثيقي يمكن أن يكون اسميا او للحامل او على بياض وبحسب ما اذا ورد في صيغة التظهير اسم المظهر اليه او عبارة للحامل او لم ترد الإشارة اليه مطلقا .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كما يمكن اضافة بيانات اختيارية كما لو ذكر سبب التظهير او اعفى المظهر نفسه من ضمان القبول او الوفاء او الضمانين معا بموجب بيان اختياري يذكر صراحة في ذات الورقة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07T18:19:00Z</dcterms:created>
  <dc:creator>DR.Ahmed Saker</dc:creator>
  <dc:description/>
  <dc:language>en-US</dc:language>
  <cp:lastModifiedBy>DR.Ahmed Saker</cp:lastModifiedBy>
  <dcterms:modified xsi:type="dcterms:W3CDTF">2019-12-07T18:19:00Z</dcterms:modified>
  <cp:revision>1</cp:revision>
  <dc:subject/>
  <dc:title>تظهير الورقة التجارية</dc:title>
</cp:coreProperties>
</file>