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838-3255-4F32-8C95-C022CACF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978-5F1B-40C6-BAD7-DED4893C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A18-90AE-4AC3-980D-FBBAEA30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082-F136-43AD-A09E-459367F8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C936-7432-47FB-B26C-F63D9398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B5F-F082-4C52-902D-268A4F5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9CB9-79FC-4BCF-B889-C3DDDB6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537D-D03D-441B-A1DC-5D0782C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E3F5-1448-4774-A5E6-A8C1C1CC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D733-984C-4E3E-AB41-7C0077F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AA63-2243-40D3-B65B-15A8692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8E6-57D1-4828-9442-376B488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D00B-35EF-47AF-97E0-E4AE9DD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2CF8-F174-414A-B623-CEA5317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4D7-B552-4353-9E21-CA27C6A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402D-87A2-45A1-9843-16FE0C4B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70EC-5E72-4FAA-A77E-62F5884A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833-16CC-4A7C-ADBD-63B35F8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5DF-0269-4B69-903A-E2C05381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5B4-227A-4184-B276-D7734C95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6EF-5751-43CB-B032-2D20DA5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FED-F60E-4FD3-A98B-F296FF6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959-256E-4E8F-A137-7409BA5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75F-7F86-4799-8C03-C2077AA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DEA4-F5EB-46B0-BF8C-655265FDAA7C}" type="slidenum">
              <a:rPr b="0" lang="ar-SA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4CA2-8A8A-482E-B48C-6A8F65E3EBDA}" type="slidenum">
              <a:rPr b="0" lang="ar-SA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696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لمقصود بالتظهير</a:t>
            </a: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5280" y="1844640"/>
            <a:ext cx="6612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2f1311"/>
                </a:solidFill>
                <a:latin typeface="Arial"/>
              </a:rPr>
              <a:t>التظهير ، هو تصرف إرادي صرفي يرد على الورقة التجارية أما بقصد نقل ملكيتها أو توكيل شخص ما في مباشرة الحقوق المتربة عليها أو بقصد رهنها ضمانا للوفاء بدين ما</a:t>
            </a:r>
            <a:r>
              <a:rPr b="0" lang="ar-IQ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ar-IQ" sz="3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نواع التظهير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ينقسم التظهير الى عدة انواع وبحسب الزاوية التي يتم النظر منها اليه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فهو من الناحية الموضوعية والمتمثلة بالغرض الذي انشأ من أجله التظهير ينقسم الى ثلاثة أنواع وهي 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أول : التظهير التمليكي أو الناقل للملكية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ني : التظهير التوكيلي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لث : التظهير التوثيق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نواع التظهير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وغذا نظرنا الى التظهير من الناحية الشكلية والمتمثلة بالصيغة التي يرد بها التظهير نجده ينقسم الى الأنواع الآتية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أول : التظهير الإسمي ، وهو التظهير الذي يشتمل في صيغته على اسم المظهر اليه . بأن يكتب اسم المظهر اليه صراحةً مثلا ظهرت الورقة تمليكا لمصلحة زيد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نواع التظهير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ني : التظهير اللا إسمي ، وهو التظهير الذي يشتمل في صيغته على ما يشير ضمنا لشخص المظهر اليه دون ذكر اسمه صراحةَ ، بأن يكتب   مثلا ظهرت تمليكا لمصلحة حاملها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 algn="ct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لث : التظهير على بياض ، وهو التظهير الذي لا يشتمل في صيغته على ما يشير صراحةَ اوضمنا لشخص المظهر اليه . بأن يكتفي المظهر بالتوقيع على الورقة بما يفيد نقل ملكيتها لمصلحة المظهر اليه دون ذكر اسمه صراحة أو ضمناً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7T14:47:55Z</dcterms:created>
  <dc:creator/>
  <dc:description/>
  <dc:language>en-US</dc:language>
  <cp:lastModifiedBy/>
  <dcterms:modified xsi:type="dcterms:W3CDTF">2020-03-07T15:25:21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