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1C1A-5688-4C3B-9718-EF9F4114C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8E62-5F79-4593-B414-F738E20A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7998-0375-464C-8A59-4EEAA8CAF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4A6A-3D55-4C94-9ADF-220F3AEA7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DC11-E018-4540-9E78-1D13DE19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B11C-0CF6-49D7-9A61-5B158260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24B5-656B-46D7-B8B4-80AB737A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3EA2-13C4-4435-A9E1-1040B0F5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1E81-6994-40EF-BBFF-C4C78CE5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019F-4997-46B3-99F5-B7FBEEFD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ADC0-0AAF-472B-A4C5-1EF429C5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B6F7-9A14-4857-9553-4F749A19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F790-BEF1-419B-9F37-8985FA03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B434-9839-48FF-8AFD-47EF3BF2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5D4B-8DE7-42D9-8644-AB9B1259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08E5-C97F-45B4-9F79-3D633052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6E5C-6A58-4F05-9E11-E033C1290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27DD-A74B-4D6F-BEFE-AA0D1AE2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2756-48CD-4142-BE61-CBC7C71A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622C-F290-46F6-8A9F-5EC12AA7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5305-7337-456F-8B63-3CE2B840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9920-AB46-436B-B2B5-ED7D32CC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E699-89FE-4BAB-B889-6C1A198B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0075-05BE-4613-A649-FBA797B1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C734-846F-454D-B843-E16DBAC6D0C7}" type="slidenum">
              <a:rPr b="0" lang="ar-SA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94DC-5A55-487E-B020-A1A9A6F0E663}" type="slidenum">
              <a:rPr b="0" lang="ar-SA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6966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000" spc="-1" strike="noStrike">
                <a:solidFill>
                  <a:srgbClr val="f7d47d"/>
                </a:solidFill>
                <a:latin typeface="Arial"/>
              </a:rPr>
              <a:t>المقصود بالتظهير</a:t>
            </a:r>
            <a:r>
              <a:rPr b="0" lang="ar-IQ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755280" y="1844640"/>
            <a:ext cx="66121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600" spc="-1" strike="noStrike">
                <a:solidFill>
                  <a:srgbClr val="2f1311"/>
                </a:solidFill>
                <a:latin typeface="Arial"/>
              </a:rPr>
              <a:t>التظهير ، هو تصرف إرادي صرفي يرد على الورقة التجارية أما بقصد نقل ملكيتها أو توكيل شخص ما في مباشرة الحقوق المتربة عليها أو بقصد رهنها ضمانا للوفاء بدين ما</a:t>
            </a:r>
            <a:r>
              <a:rPr b="0" lang="ar-IQ" sz="3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ar-IQ" sz="36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000" spc="-1" strike="noStrike">
                <a:solidFill>
                  <a:srgbClr val="f7d47d"/>
                </a:solidFill>
                <a:latin typeface="Arial"/>
              </a:rPr>
              <a:t>انواع التظهير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2f1311"/>
                </a:solidFill>
                <a:latin typeface="Arial"/>
              </a:rPr>
              <a:t>ينقسم التظهير الى عدة انواع وبحسب الزاوية التي يتم النظر منها اليه 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2f1311"/>
                </a:solidFill>
                <a:latin typeface="Arial"/>
              </a:rPr>
              <a:t>فهو من الناحية الموضوعية والمتمثلة بالغرض الذي انشأ من أجله التظهير ينقسم الى ثلاثة أنواع وهي :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2f1311"/>
                </a:solidFill>
                <a:latin typeface="Arial"/>
              </a:rPr>
              <a:t>النوع الأول : التظهير التمليكي أو الناقل للملكية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2f1311"/>
                </a:solidFill>
                <a:latin typeface="Arial"/>
              </a:rPr>
              <a:t>النوع الثاني : التظهير التوكيلي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2f1311"/>
                </a:solidFill>
                <a:latin typeface="Arial"/>
              </a:rPr>
              <a:t>النوع الثالث : التظهير التوثيقي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000" spc="-1" strike="noStrike">
                <a:solidFill>
                  <a:srgbClr val="f7d47d"/>
                </a:solidFill>
                <a:latin typeface="Arial"/>
              </a:rPr>
              <a:t>انواع التظهير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2f1311"/>
                </a:solidFill>
                <a:latin typeface="Arial"/>
              </a:rPr>
              <a:t>وغذا نظرنا الى التظهير من الناحية الشكلية والمتمثلة بالصيغة التي يرد بها التظهير نجده ينقسم الى الأنواع الآتية 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2f1311"/>
                </a:solidFill>
                <a:latin typeface="Arial"/>
              </a:rPr>
              <a:t>النوع الأول : التظهير الإسمي ، وهو التظهير الذي يشتمل في صيغته على اسم المظهر اليه . بأن يكتب اسم المظهر اليه صراحةً مثلا ظهرت الورقة تمليكا لمصلحة زيد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000" spc="-1" strike="noStrike">
                <a:solidFill>
                  <a:srgbClr val="f7d47d"/>
                </a:solidFill>
                <a:latin typeface="Arial"/>
              </a:rPr>
              <a:t>انواع التظهير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ct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2f1311"/>
                </a:solidFill>
                <a:latin typeface="Arial"/>
              </a:rPr>
              <a:t>النوع الثاني : التظهير اللا إسمي ، وهو التظهير الذي يشتمل في صيغته على ما يشير ضمنا لشخص المظهر اليه دون ذكر اسمه صراحةَ ، بأن يكتب   مثلا ظهرت تمليكا لمصلحة حاملها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 algn="ct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2f1311"/>
                </a:solidFill>
                <a:latin typeface="Arial"/>
              </a:rPr>
              <a:t>النوع الثالث : التظهير على بياض ، وهو التظهير الذي لا يشتمل في صيغته على ما يشير صراحةَ اوضمنا لشخص المظهر اليه . بأن يكتفي المظهر بالتوقيع على الورقة بما يفيد نقل ملكيتها لمصلحة المظهر اليه دون ذكر اسمه صراحة أو ضمناً 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07T14:47:55Z</dcterms:created>
  <dc:creator/>
  <dc:description/>
  <dc:language>en-US</dc:language>
  <cp:lastModifiedBy/>
  <dcterms:modified xsi:type="dcterms:W3CDTF">2020-03-07T15:25:21Z</dcterms:modified>
  <cp:revision>3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