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631-1F59-4E84-A5A2-18F703CE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6F2E-5219-4994-BBD6-88B577BE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1FE5-13BB-4B14-8DF3-7D1F4FA2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17C-2767-4C5D-A96E-D8511B10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5C1B-0C5E-4600-985E-28DB53B1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C556-841D-4C61-8AE1-284AF85C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D881-FEE5-4E53-AF9C-EF2FF3B3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A1F0-D0AA-4E6C-B318-2FFB34B0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7F82-4B1A-4E4F-A03D-2082CF7B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5B3A-4C1D-4FA2-8AE8-419213FA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0A6D-DA44-45E6-AD7D-F85DC7BE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998-80B1-48C8-A4B9-492F5E4C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381F-8B39-4973-9C9F-6F702BEE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FA93-3EE0-4EA2-8F55-1AE9A494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2AF4-19AC-46C0-876D-F5C2E7B1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B540-E19C-4A4A-ADC0-B7D0072A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ABF3-630A-4109-9462-E140D469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B26A-8228-45DE-ADF6-BB45A53E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56E-D643-4D03-A16C-FBF6386E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B80-CABA-4862-98FD-01C51881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ADC-96D9-4571-8AB5-EC741122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DC1-07B8-4A6D-A9A2-DC69E52E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626-3B5E-4304-A955-1F21C16B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7DF-7556-4BCF-8D4C-FFD991B8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CB17-7675-44A5-B898-42BA31F6300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AD5C-7F19-4621-A10E-35349C051DB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696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000" spc="-1" strike="noStrike">
                <a:solidFill>
                  <a:srgbClr val="f7d47d"/>
                </a:solidFill>
                <a:latin typeface="Arial"/>
              </a:rPr>
              <a:t>ما هي مبادئ قانون الصرف ؟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800360" y="2019240"/>
            <a:ext cx="5471280" cy="2736000"/>
            <a:chOff x="1800360" y="2019240"/>
            <a:chExt cx="5471280" cy="2736000"/>
          </a:xfrm>
        </p:grpSpPr>
        <p:cxnSp>
          <p:nvCxnSpPr>
            <p:cNvPr id="195" name="_s9228"/>
            <p:cNvCxnSpPr>
              <a:stCxn id="196" idx="0"/>
              <a:endCxn id="197" idx="2"/>
            </p:cNvCxnSpPr>
            <p:nvPr/>
          </p:nvCxnSpPr>
          <p:spPr>
            <a:xfrm flipV="1" rot="16200000">
              <a:off x="5219640" y="2429640"/>
              <a:ext cx="547560" cy="1915560"/>
            </a:xfrm>
            <a:prstGeom prst="bentConnector3">
              <a:avLst>
                <a:gd name="adj1" fmla="val 49934"/>
              </a:avLst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198" name="_s9227"/>
            <p:cNvCxnSpPr>
              <a:stCxn id="199" idx="0"/>
              <a:endCxn id="197" idx="2"/>
            </p:cNvCxnSpPr>
            <p:nvPr/>
          </p:nvCxnSpPr>
          <p:spPr>
            <a:xfrm rot="16200000">
              <a:off x="4262040" y="3387240"/>
              <a:ext cx="547560" cy="36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00" name="_s9226"/>
            <p:cNvCxnSpPr>
              <a:stCxn id="201" idx="0"/>
              <a:endCxn id="197" idx="2"/>
            </p:cNvCxnSpPr>
            <p:nvPr/>
          </p:nvCxnSpPr>
          <p:spPr>
            <a:xfrm flipH="1" flipV="1" rot="5400000">
              <a:off x="3304440" y="2430000"/>
              <a:ext cx="547560" cy="1915200"/>
            </a:xfrm>
            <a:prstGeom prst="bentConnector3">
              <a:avLst>
                <a:gd name="adj1" fmla="val 49934"/>
              </a:avLst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197" name="_s9222"/>
            <p:cNvSpPr/>
            <p:nvPr/>
          </p:nvSpPr>
          <p:spPr>
            <a:xfrm>
              <a:off x="3715200" y="2019240"/>
              <a:ext cx="1641240" cy="109440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المبادئ هي</a:t>
              </a:r>
              <a:r>
                <a:rPr b="0" lang="ar-IQ" sz="14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01" name="_s9223"/>
            <p:cNvSpPr/>
            <p:nvPr/>
          </p:nvSpPr>
          <p:spPr>
            <a:xfrm>
              <a:off x="1800360" y="3660840"/>
              <a:ext cx="1641240" cy="109440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استقلالية التواقيع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99" name="_s9224"/>
            <p:cNvSpPr/>
            <p:nvPr/>
          </p:nvSpPr>
          <p:spPr>
            <a:xfrm>
              <a:off x="3715200" y="3660840"/>
              <a:ext cx="1641240" cy="109440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التشدد على المدين الصرفي</a:t>
              </a:r>
              <a:r>
                <a:rPr b="0" lang="ar-IQ" sz="14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96" name="_s9225"/>
            <p:cNvSpPr/>
            <p:nvPr/>
          </p:nvSpPr>
          <p:spPr>
            <a:xfrm>
              <a:off x="5630400" y="3660840"/>
              <a:ext cx="1641240" cy="109440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الشكلية 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08T18:15:07Z</dcterms:created>
  <dc:creator/>
  <dc:description/>
  <dc:language>en-US</dc:language>
  <cp:lastModifiedBy/>
  <dcterms:modified xsi:type="dcterms:W3CDTF">2020-03-08T18:17:41Z</dcterms:modified>
  <cp:revision>1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