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0952-2749-4DF3-9D80-69B22B66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BD63-1777-4BAD-AC76-2C17E334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93B1-EFF5-4B9F-8E1F-69B53DEF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AB0D-E321-4B20-B153-960BDFC9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15F5-6E71-4479-B9DB-85837927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1CAF-17D4-47B8-BDC3-5B4435C9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A34C-A2B6-43CD-AADE-1B768A08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88C7-1C67-4A3D-8EAF-914E3B8B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3371-76E6-41FC-A044-66977736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15E0-64AE-41DF-AC07-3B9CC2DE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B573-AC7B-4889-82D7-E21615A2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C945-0D30-46FA-A637-22EB2D08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CE75-127B-4719-8FFC-B64E5556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F53A-515B-4E7D-832D-3563554D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9F44-56C5-401C-BD92-D65D40C6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A9D3-E16C-4A44-A974-9B27668A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0649-57EC-4D04-874C-0E9CC295C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6C0E-33CE-472B-AB52-CB48E447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13E4-35DE-42E4-91BD-F2DDA0BB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3425-B406-4344-B2E3-AF83CD7A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DBBD-98D3-49C7-9FD8-3997C30F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7D7F-550C-412A-BA0A-386D3365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C208-19D7-4EF2-9E30-EC6EB941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81CE-A57C-4BF1-9EAE-59181135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0921-0CBD-41F4-BC33-56F44D087004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C1CE-1E92-4C96-B3E9-12E72DB7E17B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6966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000" spc="-1" strike="noStrike">
                <a:solidFill>
                  <a:srgbClr val="f7d47d"/>
                </a:solidFill>
                <a:latin typeface="Arial"/>
              </a:rPr>
              <a:t>ما هي مبادئ قانون الصرف ؟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800360" y="2019240"/>
            <a:ext cx="5471280" cy="2736000"/>
            <a:chOff x="1800360" y="2019240"/>
            <a:chExt cx="5471280" cy="2736000"/>
          </a:xfrm>
        </p:grpSpPr>
        <p:cxnSp>
          <p:nvCxnSpPr>
            <p:cNvPr id="195" name="_s9228"/>
            <p:cNvCxnSpPr>
              <a:stCxn id="196" idx="0"/>
              <a:endCxn id="197" idx="2"/>
            </p:cNvCxnSpPr>
            <p:nvPr/>
          </p:nvCxnSpPr>
          <p:spPr>
            <a:xfrm flipV="1" rot="16200000">
              <a:off x="5219640" y="2429640"/>
              <a:ext cx="547560" cy="1915560"/>
            </a:xfrm>
            <a:prstGeom prst="bentConnector3">
              <a:avLst>
                <a:gd name="adj1" fmla="val 49934"/>
              </a:avLst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198" name="_s9227"/>
            <p:cNvCxnSpPr>
              <a:stCxn id="199" idx="0"/>
              <a:endCxn id="197" idx="2"/>
            </p:cNvCxnSpPr>
            <p:nvPr/>
          </p:nvCxnSpPr>
          <p:spPr>
            <a:xfrm rot="16200000">
              <a:off x="4262040" y="3387240"/>
              <a:ext cx="547560" cy="36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00" name="_s9226"/>
            <p:cNvCxnSpPr>
              <a:stCxn id="201" idx="0"/>
              <a:endCxn id="197" idx="2"/>
            </p:cNvCxnSpPr>
            <p:nvPr/>
          </p:nvCxnSpPr>
          <p:spPr>
            <a:xfrm flipH="1" flipV="1" rot="5400000">
              <a:off x="3304440" y="2430000"/>
              <a:ext cx="547560" cy="1915200"/>
            </a:xfrm>
            <a:prstGeom prst="bentConnector3">
              <a:avLst>
                <a:gd name="adj1" fmla="val 49934"/>
              </a:avLst>
            </a:prstGeom>
            <a:ln w="28440">
              <a:solidFill>
                <a:srgbClr val="2f1311"/>
              </a:solidFill>
              <a:miter/>
            </a:ln>
          </p:spPr>
        </p:cxnSp>
        <p:sp>
          <p:nvSpPr>
            <p:cNvPr id="197" name="_s9222"/>
            <p:cNvSpPr/>
            <p:nvPr/>
          </p:nvSpPr>
          <p:spPr>
            <a:xfrm>
              <a:off x="3715200" y="2019240"/>
              <a:ext cx="1641240" cy="109440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000" spc="-1" strike="noStrike">
                  <a:solidFill>
                    <a:srgbClr val="2f1311"/>
                  </a:solidFill>
                  <a:latin typeface="Arial"/>
                </a:rPr>
                <a:t>المبادئ هي</a:t>
              </a:r>
              <a:r>
                <a:rPr b="0" lang="ar-IQ" sz="14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01" name="_s9223"/>
            <p:cNvSpPr/>
            <p:nvPr/>
          </p:nvSpPr>
          <p:spPr>
            <a:xfrm>
              <a:off x="1800360" y="3660840"/>
              <a:ext cx="1641240" cy="109440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000" spc="-1" strike="noStrike">
                  <a:solidFill>
                    <a:srgbClr val="2f1311"/>
                  </a:solidFill>
                  <a:latin typeface="Arial"/>
                </a:rPr>
                <a:t>استقلالية التواقيع</a:t>
              </a:r>
              <a:endParaRPr b="0" lang="en-US" sz="20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99" name="_s9224"/>
            <p:cNvSpPr/>
            <p:nvPr/>
          </p:nvSpPr>
          <p:spPr>
            <a:xfrm>
              <a:off x="3715200" y="3660840"/>
              <a:ext cx="1641240" cy="109440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000" spc="-1" strike="noStrike">
                  <a:solidFill>
                    <a:srgbClr val="2f1311"/>
                  </a:solidFill>
                  <a:latin typeface="Arial"/>
                </a:rPr>
                <a:t>التشدد على المدين الصرفي</a:t>
              </a:r>
              <a:r>
                <a:rPr b="0" lang="ar-IQ" sz="14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96" name="_s9225"/>
            <p:cNvSpPr/>
            <p:nvPr/>
          </p:nvSpPr>
          <p:spPr>
            <a:xfrm>
              <a:off x="5630400" y="3660840"/>
              <a:ext cx="1641240" cy="109440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000" spc="-1" strike="noStrike">
                  <a:solidFill>
                    <a:srgbClr val="2f1311"/>
                  </a:solidFill>
                  <a:latin typeface="Arial"/>
                </a:rPr>
                <a:t>الشكلية </a:t>
              </a:r>
              <a:endParaRPr b="0" lang="en-US" sz="20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08T18:15:07Z</dcterms:created>
  <dc:creator/>
  <dc:description/>
  <dc:language>en-US</dc:language>
  <cp:lastModifiedBy/>
  <dcterms:modified xsi:type="dcterms:W3CDTF">2020-03-08T18:17:41Z</dcterms:modified>
  <cp:revision>1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