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2A0-B173-4A0A-AC6F-D363DFF6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1C0-183C-499A-A061-DEA6622A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C85-72D0-4A09-B820-51AD29E1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A77-BB09-46D5-86ED-D2257D2B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9D77-534F-480E-8911-A898FD99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A92E-3FB6-4DED-88E3-38269566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BFA5-1D4F-46FB-8621-BECDE76F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8252-4204-4733-96B8-0AB5E73A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6F6F-9CCA-44CA-BDF9-41E0B123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FC73-0A79-4F3F-A920-8C89561A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B576-CB95-40C3-826C-93473E0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A74-74AF-4B0B-966E-77E9AB1F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45AF-C435-4FA1-BF8F-9EFD7F9A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30AC-D3D2-4D89-A382-BC4D21EC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985C-7D82-473F-B92B-1B6F584D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95AB-DF7D-47EC-A4D9-81D00DD7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18BB-AF68-4293-95B2-F4256EF3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74D-B076-42DF-A44E-C2BCCB48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238-69AD-48FD-8798-27E407FA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EF3-75D2-4934-B18F-C2DA6170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0A7-6D48-483F-BB33-89B99D65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3E5-D9F7-4786-BBC7-3195A5CF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4CA-64AB-4935-80A2-3201F6C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36F-8D27-45E9-AC9D-BD5DE6B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A7E3-81CC-4D53-80B4-9F4691DA9ED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E267-C302-4E78-B28D-5BBC7758C50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696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لبيانات الإلزامية للحوالة التجارية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560" y="1844640"/>
            <a:ext cx="6540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6800" y="2101680"/>
            <a:ext cx="4228920" cy="4151160"/>
            <a:chOff x="2206800" y="2101680"/>
            <a:chExt cx="4228920" cy="4151160"/>
          </a:xfrm>
        </p:grpSpPr>
        <p:sp>
          <p:nvSpPr>
            <p:cNvPr id="195" name="_s8212"/>
            <p:cNvSpPr/>
            <p:nvPr/>
          </p:nvSpPr>
          <p:spPr>
            <a:xfrm flipH="1" flipV="1">
              <a:off x="3476520" y="3584520"/>
              <a:ext cx="424080" cy="3362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6" name="_s8211"/>
            <p:cNvSpPr/>
            <p:nvPr/>
          </p:nvSpPr>
          <p:spPr>
            <a:xfrm>
              <a:off x="2517840" y="271116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سم المستفيد 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7" name="_s8210"/>
            <p:cNvSpPr/>
            <p:nvPr/>
          </p:nvSpPr>
          <p:spPr>
            <a:xfrm flipH="1">
              <a:off x="3268800" y="4375080"/>
              <a:ext cx="527040" cy="122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8" name="_s8209"/>
            <p:cNvSpPr/>
            <p:nvPr/>
          </p:nvSpPr>
          <p:spPr>
            <a:xfrm>
              <a:off x="2206800" y="4079520"/>
              <a:ext cx="1077840" cy="10782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مكان انشاء الحوالة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وتاريخ انشاءها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9" name="_s8208"/>
            <p:cNvSpPr/>
            <p:nvPr/>
          </p:nvSpPr>
          <p:spPr>
            <a:xfrm flipH="1">
              <a:off x="3853080" y="4740120"/>
              <a:ext cx="233280" cy="487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0" name="_s8207"/>
            <p:cNvSpPr/>
            <p:nvPr/>
          </p:nvSpPr>
          <p:spPr>
            <a:xfrm>
              <a:off x="3083040" y="517500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ميعاد الإستحقاق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1" name="_s8206"/>
            <p:cNvSpPr/>
            <p:nvPr/>
          </p:nvSpPr>
          <p:spPr>
            <a:xfrm>
              <a:off x="4552920" y="4740120"/>
              <a:ext cx="235080" cy="487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2" name="_s8205"/>
            <p:cNvSpPr/>
            <p:nvPr/>
          </p:nvSpPr>
          <p:spPr>
            <a:xfrm>
              <a:off x="4484880" y="517356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مكان الأداء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3" name="_s8204"/>
            <p:cNvSpPr/>
            <p:nvPr/>
          </p:nvSpPr>
          <p:spPr>
            <a:xfrm>
              <a:off x="4843440" y="4376520"/>
              <a:ext cx="527040" cy="1191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4" name="_s8203"/>
            <p:cNvSpPr/>
            <p:nvPr/>
          </p:nvSpPr>
          <p:spPr>
            <a:xfrm>
              <a:off x="5357880" y="407664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سم من يؤمر بالأداء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لمسحوب عليه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5" name="_s8202"/>
            <p:cNvSpPr/>
            <p:nvPr/>
          </p:nvSpPr>
          <p:spPr>
            <a:xfrm flipV="1">
              <a:off x="4740480" y="3584520"/>
              <a:ext cx="422280" cy="3362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6" name="_s8201"/>
            <p:cNvSpPr/>
            <p:nvPr/>
          </p:nvSpPr>
          <p:spPr>
            <a:xfrm>
              <a:off x="5045040" y="270972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سم الساحب 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وتوقيعه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7" name="_s8200"/>
            <p:cNvSpPr/>
            <p:nvPr/>
          </p:nvSpPr>
          <p:spPr>
            <a:xfrm flipV="1">
              <a:off x="4319640" y="3177720"/>
              <a:ext cx="0" cy="54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8" name="_s8199"/>
            <p:cNvSpPr/>
            <p:nvPr/>
          </p:nvSpPr>
          <p:spPr>
            <a:xfrm>
              <a:off x="3781440" y="210168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1800" spc="-1" strike="noStrike">
                  <a:solidFill>
                    <a:srgbClr val="2f1311"/>
                  </a:solidFill>
                  <a:latin typeface="Arial"/>
                </a:rPr>
                <a:t>لفظ حوالة تجارية</a:t>
              </a:r>
              <a:endParaRPr b="0" lang="en-US" sz="18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1800" spc="-1" strike="noStrike">
                  <a:solidFill>
                    <a:srgbClr val="2f1311"/>
                  </a:solidFill>
                  <a:latin typeface="Arial"/>
                </a:rPr>
                <a:t> أو سفتجة </a:t>
              </a:r>
              <a:endParaRPr b="0" lang="en-US" sz="18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9" name="_s8198"/>
            <p:cNvSpPr/>
            <p:nvPr/>
          </p:nvSpPr>
          <p:spPr>
            <a:xfrm>
              <a:off x="3781440" y="3719160"/>
              <a:ext cx="1077840" cy="10782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مر بدفع مبلغ 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من النقود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8T18:30:07Z</dcterms:created>
  <dc:creator/>
  <dc:description/>
  <dc:language>en-US</dc:language>
  <cp:lastModifiedBy/>
  <dcterms:modified xsi:type="dcterms:W3CDTF">2020-03-08T18:35:11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