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61B-E020-4B83-A36C-B5796F18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C54-D582-4E32-9DBF-418C1B34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6F2-9FA1-483C-8A0C-0B2DC0AE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C2A-7ACC-4C11-8514-C07437E3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B7FA-7D9D-4138-9716-1A4C2E58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6838-EC75-41E4-B40D-FCB4B2BC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73B-3DCF-4EE6-8495-5F2DC402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CC88-32E7-4DD2-9891-A4940A3E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3004-19CE-4188-86A7-0BBCD65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C8F-AFD1-4B43-8370-B985F55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8E3F-AC21-4731-9E6D-995B58E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023-94DD-46BE-949D-79A1ED3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B3CA-3275-42EF-B119-06AF148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4545-ACEA-4E0F-9AA2-ABA65960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385C-A3F7-4521-8C73-C2604D2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FBA1-35C1-43B2-BDA6-43F0A56B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2A6E-F59D-4CAD-B472-4AC1D480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7F0-4F0A-4A33-B129-12FE83AC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22B-8153-4FEB-9F79-A56F192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070-3884-47E3-A096-2EC14848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92E-56BA-45A3-9F37-9B3BF131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C01-35C9-4E02-814E-B6AC369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3E7-9344-41A0-83F1-F291B4A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D16-819E-4C55-9BBA-81DDB37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BCC8-86F3-460A-A1DE-4FEF4D02D85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B05B-54BA-4032-A1B9-B016A7F646C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696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7d47d"/>
                </a:solidFill>
                <a:latin typeface="Arial"/>
              </a:rPr>
              <a:t>البيانات الإلزامية للحوالة التجارية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560" y="1844640"/>
            <a:ext cx="65408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6800" y="2101680"/>
            <a:ext cx="4228920" cy="4151160"/>
            <a:chOff x="2206800" y="2101680"/>
            <a:chExt cx="4228920" cy="4151160"/>
          </a:xfrm>
        </p:grpSpPr>
        <p:sp>
          <p:nvSpPr>
            <p:cNvPr id="195" name="_s8212"/>
            <p:cNvSpPr/>
            <p:nvPr/>
          </p:nvSpPr>
          <p:spPr>
            <a:xfrm flipH="1" flipV="1">
              <a:off x="3476520" y="3584520"/>
              <a:ext cx="424080" cy="3362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6" name="_s8211"/>
            <p:cNvSpPr/>
            <p:nvPr/>
          </p:nvSpPr>
          <p:spPr>
            <a:xfrm>
              <a:off x="2517840" y="271116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المستفيد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7" name="_s8210"/>
            <p:cNvSpPr/>
            <p:nvPr/>
          </p:nvSpPr>
          <p:spPr>
            <a:xfrm flipH="1">
              <a:off x="3268800" y="4375080"/>
              <a:ext cx="527040" cy="122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8" name="_s8209"/>
            <p:cNvSpPr/>
            <p:nvPr/>
          </p:nvSpPr>
          <p:spPr>
            <a:xfrm>
              <a:off x="2206800" y="4079520"/>
              <a:ext cx="1077840" cy="10782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كان انشاء الحوالة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وتاريخ انشاءها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99" name="_s8208"/>
            <p:cNvSpPr/>
            <p:nvPr/>
          </p:nvSpPr>
          <p:spPr>
            <a:xfrm flipH="1">
              <a:off x="3853080" y="4740120"/>
              <a:ext cx="23328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0" name="_s8207"/>
            <p:cNvSpPr/>
            <p:nvPr/>
          </p:nvSpPr>
          <p:spPr>
            <a:xfrm>
              <a:off x="3083040" y="517500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يعاد الإستحقاق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1" name="_s8206"/>
            <p:cNvSpPr/>
            <p:nvPr/>
          </p:nvSpPr>
          <p:spPr>
            <a:xfrm>
              <a:off x="4552920" y="4740120"/>
              <a:ext cx="235080" cy="487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2" name="_s8205"/>
            <p:cNvSpPr/>
            <p:nvPr/>
          </p:nvSpPr>
          <p:spPr>
            <a:xfrm>
              <a:off x="4484880" y="517356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كان الأداء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3" name="_s8204"/>
            <p:cNvSpPr/>
            <p:nvPr/>
          </p:nvSpPr>
          <p:spPr>
            <a:xfrm>
              <a:off x="4843440" y="4376520"/>
              <a:ext cx="527040" cy="1191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4" name="_s8203"/>
            <p:cNvSpPr/>
            <p:nvPr/>
          </p:nvSpPr>
          <p:spPr>
            <a:xfrm>
              <a:off x="5357880" y="407664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من يؤمر بالأداء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لمسحوب عليه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5" name="_s8202"/>
            <p:cNvSpPr/>
            <p:nvPr/>
          </p:nvSpPr>
          <p:spPr>
            <a:xfrm flipV="1">
              <a:off x="4740480" y="3584520"/>
              <a:ext cx="422280" cy="3362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6" name="_s8201"/>
            <p:cNvSpPr/>
            <p:nvPr/>
          </p:nvSpPr>
          <p:spPr>
            <a:xfrm>
              <a:off x="5045040" y="270972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سم الساحب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وتوقيعه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7" name="_s8200"/>
            <p:cNvSpPr/>
            <p:nvPr/>
          </p:nvSpPr>
          <p:spPr>
            <a:xfrm flipV="1">
              <a:off x="4319640" y="3177720"/>
              <a:ext cx="0" cy="54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8" name="_s8199"/>
            <p:cNvSpPr/>
            <p:nvPr/>
          </p:nvSpPr>
          <p:spPr>
            <a:xfrm>
              <a:off x="3781440" y="2101680"/>
              <a:ext cx="1077840" cy="107784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1800" spc="-1" strike="noStrike">
                  <a:solidFill>
                    <a:srgbClr val="2f1311"/>
                  </a:solidFill>
                  <a:latin typeface="Arial"/>
                </a:rPr>
                <a:t>لفظ حوالة تجارية</a:t>
              </a:r>
              <a:endParaRPr b="0" lang="en-US" sz="18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1800" spc="-1" strike="noStrike">
                  <a:solidFill>
                    <a:srgbClr val="2f1311"/>
                  </a:solidFill>
                  <a:latin typeface="Arial"/>
                </a:rPr>
                <a:t> أو سفتجة </a:t>
              </a:r>
              <a:endParaRPr b="0" lang="en-US" sz="18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09" name="_s8198"/>
            <p:cNvSpPr/>
            <p:nvPr/>
          </p:nvSpPr>
          <p:spPr>
            <a:xfrm>
              <a:off x="3781440" y="3719160"/>
              <a:ext cx="1077840" cy="10782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امر بدفع مبلغ 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000" spc="-1" strike="noStrike">
                  <a:solidFill>
                    <a:srgbClr val="2f1311"/>
                  </a:solidFill>
                  <a:latin typeface="Arial"/>
                </a:rPr>
                <a:t>من النقود</a:t>
              </a:r>
              <a:endParaRPr b="0" lang="en-US" sz="20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8T18:30:07Z</dcterms:created>
  <dc:creator/>
  <dc:description/>
  <dc:language>en-US</dc:language>
  <cp:lastModifiedBy/>
  <dcterms:modified xsi:type="dcterms:W3CDTF">2020-03-08T18:35:1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