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5900D-E706-4534-A261-6F694EE8F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3AC31-7559-4B9F-A87E-FF1D07A2A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EBA62-99EF-467C-8FD3-E2E12C208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CA202-BE52-4C0E-B31B-75DF960D9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EEE315-7DCA-42D7-BA19-C7644E9DBEB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25397E-5E11-40CA-8A85-65AF5FC89DE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21DBC7-A591-4AFB-A617-C148E4EA8BD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0E51E3-17AA-45F6-A5D6-B1BD74094B1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47D8AF-BC24-4196-A4F7-72A73415B61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E88FE8-9AF7-4F44-BB37-7B6A41D1F78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B482CC-4F3B-4FD2-AE19-AC11157121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12DB5-F199-4C11-993B-994E48A87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B156D7-0B4B-486E-A523-9F4B4BDE905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D5DC21-4AC1-4B20-99CF-EC85066D455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72518C-14A3-4FF3-AB5B-E1EB027DD79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510786-150C-4C0A-B466-9982C0B2600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5532A6-5062-4A1C-AE8B-DC7E696B312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3CF1D-63FA-4495-822A-7FD738DD8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361C9-868F-4BEC-A14B-DF8F37699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1A677-F2DF-4F4B-85FB-1333B0891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9E554-E21B-4A9F-85E9-53304ED6E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44A5C-8C88-4F04-9159-20B65183A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A5A72-96A1-4AEB-B933-614B8202D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C827A-BC12-4F03-AA2C-85D5FBD1C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7178-13E7-4D2D-BA04-C0535C3A5A10}"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5D8F9-D242-4358-A70D-577EA41D9E3C}"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0"/>
            <a:ext cx="7772400" cy="1844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ffff"/>
                </a:solidFill>
                <a:latin typeface="Tahoma"/>
              </a:rPr>
              <a:t>اهلية الاجنبي للتوقيع على ورقة تجارية</a:t>
            </a:r>
            <a:endParaRPr b="0" lang="en-US" sz="4400" spc="-1" strike="noStrike">
              <a:solidFill>
                <a:srgbClr val="ffffff"/>
              </a:solidFill>
              <a:latin typeface="Tahoma"/>
            </a:endParaRPr>
          </a:p>
        </p:txBody>
      </p:sp>
      <p:sp>
        <p:nvSpPr>
          <p:cNvPr id="84" name="PlaceHolder 2"/>
          <p:cNvSpPr>
            <a:spLocks noGrp="1"/>
          </p:cNvSpPr>
          <p:nvPr>
            <p:ph type="subTitle"/>
          </p:nvPr>
        </p:nvSpPr>
        <p:spPr>
          <a:xfrm>
            <a:off x="610920" y="2204640"/>
            <a:ext cx="7777080" cy="42483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Tahoma"/>
              </a:rPr>
              <a:t>الأجنبي هو كل من لا يتمتع بالجنسية العراقية سواء كان من مواطني الدول العربية أو غير العربية</a:t>
            </a:r>
            <a:r>
              <a:rPr b="0" lang="ar-IQ" sz="2800" spc="-1" strike="noStrike">
                <a:solidFill>
                  <a:srgbClr val="ffffff"/>
                </a:solidFill>
                <a:latin typeface="Tahoma"/>
              </a:rPr>
              <a:t> </a:t>
            </a:r>
            <a:r>
              <a:rPr b="0" lang="ar-IQ" sz="2800" spc="-1" strike="noStrike">
                <a:solidFill>
                  <a:srgbClr val="ffffff"/>
                </a:solidFill>
                <a:latin typeface="Tahoma"/>
              </a:rPr>
              <a:t>.</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Tahoma"/>
              </a:rPr>
              <a:t>نظمت المادة </a:t>
            </a:r>
            <a:r>
              <a:rPr b="0" lang="ar-IQ" sz="2800" spc="-1" strike="noStrike">
                <a:solidFill>
                  <a:srgbClr val="ffffff"/>
                </a:solidFill>
                <a:latin typeface="Tahoma"/>
              </a:rPr>
              <a:t>48</a:t>
            </a:r>
            <a:r>
              <a:rPr b="0" lang="ar-IQ" sz="2800" spc="-1" strike="noStrike">
                <a:solidFill>
                  <a:srgbClr val="ffffff"/>
                </a:solidFill>
                <a:latin typeface="Tahoma"/>
              </a:rPr>
              <a:t> من قانون التجارة العراقي النافذ الأحكام الخاصة بأهلية الأجنبي للإلتزام بموجب الحوالة التجارية أو التعامل بالأوراق التجارية وبمقتضاها يرجع ومن أجل تحديد أهلية الاجنبي للإلتزام بالحوالة يتم الرجوع الى قانون الدولة التي ينتمي إليها بجنسيته فإذا أحال هذا القانون الى قانون دولة اخرى كانت القواعد الموضوعية من قانون تلك الدولة هي الواجبة التطبيق ، ولكن إذا كان القانون الواجب التطبيق يعتبر الملتزم ناقص الأهلية فإن التزامه بمقتضى الحوالة يبقى صحيحا إذا وضع توقيعه عليها في دولة يعتبره قانونها كامل الأهلية</a:t>
            </a:r>
            <a:r>
              <a:rPr b="0" lang="ar-IQ" sz="2800" spc="-1" strike="noStrike">
                <a:solidFill>
                  <a:srgbClr val="ffffff"/>
                </a:solidFill>
                <a:latin typeface="Tahoma"/>
              </a:rPr>
              <a:t> </a:t>
            </a:r>
            <a:r>
              <a:rPr b="0" lang="ar-IQ"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ffff"/>
                </a:solidFill>
                <a:latin typeface="Tahoma"/>
              </a:rPr>
              <a:t>اهلية الاجنبي للتوقيع على ورقة تجارية</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gn="ct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Tahoma"/>
              </a:rPr>
              <a:t>فمثلا البلجيكي الذي يرغب بانشاء حوالة في العراق يرجع في تحديد أهليته الى القانون البلجيكي واذا أحال هذا القانون الى قانون دولة اخرى وجب تطبيق القانون الأخير. وفي الحالتين إذا كان القانون واجب التطبيق يفترض كمال السن الحادية والعشرين للتمتع بالأهلية اللازمة للتعامل بالأوراق التجارية فعندئذ يطبق القانون العراقي باعتباره قانون موضوع الإلتزام والذي يتطلب اكمال الثامنة عشر دون وجود عارض من عوارض الأهلية فإذا كان هذا البلجيكي بلغ هذه المرحلة كان له انشاء الحوالة في العراق . ولم يبين القانون الحالي الحكم اذا كان القانون الأجنبي يتطلب سنا أقل من الثامنة عشر كشرط لإكتساب الأهلية خلافا للقانون الملغي والذي أجاز للأجنبي ممارسة التجارة في العراق اذا كان قد أكمل الخامسة عشر ومنعه من ذلك اذا كان سنه يقل عن ذلك ولو أجاز له قانون دولته مزاولة التجارة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ffff"/>
                </a:solidFill>
                <a:latin typeface="Tahoma"/>
              </a:rPr>
              <a:t>الأثر المترتب على مخالفة قواعد الأهلية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Tahoma"/>
              </a:rPr>
              <a:t>مما تقدم يتضح أنه لابد من تمتع الشخص سواء كان عراقي أو اجنبي بالأهلية القانونية المطلوبة لقدرته على إنشاء حوالة تجارية صحيحة . وبخلافه يعد الشخص غير أهلا لذلك . وقد بينت المادة (</a:t>
            </a:r>
            <a:r>
              <a:rPr b="0" lang="ar-IQ" sz="2800" spc="-1" strike="noStrike">
                <a:solidFill>
                  <a:srgbClr val="ffffff"/>
                </a:solidFill>
                <a:latin typeface="Tahoma"/>
              </a:rPr>
              <a:t>46</a:t>
            </a:r>
            <a:r>
              <a:rPr b="0" lang="ar-IQ" sz="2800" spc="-1" strike="noStrike">
                <a:solidFill>
                  <a:srgbClr val="ffffff"/>
                </a:solidFill>
                <a:latin typeface="Tahoma"/>
              </a:rPr>
              <a:t>) من قانون التجارة العراقي الأثر المترتب على سحب حوالة تجارية أو القيام بأي تصرف قانوني يتعلق بها من قبل شخص لا تتوافر فيه الأهلية . وذلك بنصها  على أنه ( تكون التزامات ناقص الأهلية وعديم الأهلية الناشئة من توقيعه على الحوالة بأية صفة باطلة بالنسبة اليه فقط ويجوز له التمسك بهذا البطلان قبل كل حامل للحوالة ) . ويبرر هذا البطلان بحماية ناقص الأهلية وعديمها من الخضوع لأحكام قانون الصرف والتي تتسم بالشدة في التعامل مع المدين . لذا فإن هذا البطلان له أحكام خاصة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ffff"/>
                </a:solidFill>
                <a:latin typeface="Tahoma"/>
              </a:rPr>
              <a:t>الأثر المترتب على مخالفة قواعد الأهلية</a:t>
            </a:r>
            <a:endParaRPr b="0" lang="en-US" sz="4400" spc="-1" strike="noStrike">
              <a:solidFill>
                <a:srgbClr val="ffffff"/>
              </a:solidFill>
              <a:latin typeface="Tahoma"/>
            </a:endParaRPr>
          </a:p>
        </p:txBody>
      </p:sp>
      <p:sp>
        <p:nvSpPr>
          <p:cNvPr id="90" name="PlaceHolder 2"/>
          <p:cNvSpPr>
            <a:spLocks noGrp="1"/>
          </p:cNvSpPr>
          <p:nvPr>
            <p:ph/>
          </p:nvPr>
        </p:nvSpPr>
        <p:spPr>
          <a:xfrm>
            <a:off x="457200" y="1484280"/>
            <a:ext cx="8229600" cy="518472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Tahoma"/>
              </a:rPr>
              <a:t>فمن جانب نجد الحكم به لا يستوجب اثبات تضرر القاصر من انشاء الالتزام الصرفي وانما يحتاج فقط لإثبات نقص الأهلية أو انعدامها ، كما أن الإحتجاج بالبطلان يتسم بنسبيته كونه يقصر على ناقص الأهلية وعديمها فهو دفع منحصر بمن أراد القانون حمايته وعليه اذا كانت الحوالة التجارية تحمل توقيعات اشخاص اخرين كاملي الأهلية وبأية صفة كانت الى جانب توقيع عديم الأهلية فإنها تعد صحيحة بالنسبة لهؤلاء وباطلة بالنسبة لعديم الأهلية فقط وذلك وفقا لما يعرف بقاعدة استقلال التواقيع المقررة بالمادة (</a:t>
            </a:r>
            <a:r>
              <a:rPr b="0" lang="ar-IQ" sz="2800" spc="-1" strike="noStrike">
                <a:solidFill>
                  <a:srgbClr val="ffffff"/>
                </a:solidFill>
                <a:latin typeface="Tahoma"/>
              </a:rPr>
              <a:t>47</a:t>
            </a:r>
            <a:r>
              <a:rPr b="0" lang="ar-IQ" sz="2800" spc="-1" strike="noStrike">
                <a:solidFill>
                  <a:srgbClr val="ffffff"/>
                </a:solidFill>
                <a:latin typeface="Tahoma"/>
              </a:rPr>
              <a:t>) من قانون التجارة .ومن جانب اخر يلاحظ أنه يمكن لعديم الأهلية الإحتجاج بهذا البطلان تجاه كل شخص حتى وإن كان هذا الشخص حسن النية لا يعلم بأن ساحب الحوالة عديم الأهلية . ومع ذلك يمكن لعديم الأهلية إجازة العمل الصادر منه بعد اكتسابه الأهلية وعندئذ تكون الورقة التجارية الصادرة عنه صحيحة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11T13:41:38Z</dcterms:created>
  <dc:creator/>
  <dc:description/>
  <dc:language>en-US</dc:language>
  <cp:lastModifiedBy/>
  <dcterms:modified xsi:type="dcterms:W3CDTF">2020-03-11T13:48:12Z</dcterms:modified>
  <cp:revision>1</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