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CC717-CC2A-4DD1-884F-F4F20ADBD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D3175-81A2-4C41-9032-8F0E6757E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4F263-67F2-48DD-AAA6-45820A3A4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CED9B-7010-4EF9-B07C-BF4FC0939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A86C4-CA34-4B35-8ED1-AC4E2D3A7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5FE97-734A-4CE1-BF37-D465FB8AC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0E217-81E6-448B-A2AC-DE7D10A7C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C16B7-2C44-411F-A54E-E512EEF21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F0879-E637-4DBB-83D0-20A8ED124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1CB85-116D-4634-B925-1B589F082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5D205-3308-469A-86D3-78D4CC4C2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4448C-4C6F-4C85-AFFB-4E281AAF4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2ED0D-0319-4BAD-AE95-0AEB25119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9326B-4A80-4439-B0CD-2D9332B33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D7924-9B03-4436-9996-A9FC7C95C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F6870-6ECC-450E-B0A5-0FF6942D1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DC2A7-7293-42BB-A41B-19EA118F4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418ED-F827-4E8A-A8BE-3D75EE92C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34BB4-27A5-4270-AC63-9C2F448D5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A9E9B-A7A3-4068-9A4E-2F420FC01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B298E-BEB4-4484-9A3D-886BE43F6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670E7-5669-4EE7-A1CD-4477DE6A2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725C8-4B56-4F95-BD56-B8F4B5EF7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CE391-3F88-478D-B8CD-76A6B869C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lgn="r" rtl="1">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lgn="r" rtl="1">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9B73-3084-4FE0-9A73-B6BE6BEA90FC}"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3AA2-2085-48FE-BF2D-D8EA7799DD05}"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rtl="1">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rtl="1">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rtl="1">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125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Arial Black"/>
              </a:rPr>
              <a:t>النائب الكاذب والنائب المتجاوز</a:t>
            </a:r>
            <a:r>
              <a:rPr b="0" lang="ar-IQ" sz="4400" spc="-1" strike="noStrike">
                <a:solidFill>
                  <a:srgbClr val="ffffff"/>
                </a:solidFill>
                <a:latin typeface="Arial Black"/>
              </a:rPr>
              <a:t> </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684360" y="2420640"/>
            <a:ext cx="7704000" cy="381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cc00"/>
                </a:solidFill>
                <a:latin typeface="Arial Black"/>
              </a:rPr>
              <a:t>المقصود بالنيابة الكاذبة والنيابة المتجاوزة</a:t>
            </a:r>
            <a:r>
              <a:rPr b="0" lang="ar-IQ" sz="3200" spc="-1" strike="noStrike">
                <a:solidFill>
                  <a:srgbClr val="ffcc00"/>
                </a:solidFill>
                <a:latin typeface="Arial Black"/>
              </a:rPr>
              <a:t> النائب الكاذب وفقا لما بينته المادة (</a:t>
            </a:r>
            <a:r>
              <a:rPr b="0" lang="ar-IQ" sz="3200" spc="-1" strike="noStrike">
                <a:solidFill>
                  <a:srgbClr val="ffcc00"/>
                </a:solidFill>
                <a:latin typeface="Arial Black"/>
              </a:rPr>
              <a:t>49</a:t>
            </a:r>
            <a:r>
              <a:rPr b="0" lang="ar-IQ" sz="3200" spc="-1" strike="noStrike">
                <a:solidFill>
                  <a:srgbClr val="ffcc00"/>
                </a:solidFill>
                <a:latin typeface="Arial Black"/>
              </a:rPr>
              <a:t>) من قانون التجارة العراقي هو ( من وقع حوالة عن اخر بغير تفويض منه ) أما النائب المتجاوز فهو الذي يوقع حوالة تجارية نيابة عن اخر استنادا الى تفويض صحيح منه ولكنه يتجاوز حدود التفويض الممنوح له أي يتجاوز حدود السلطة</a:t>
            </a:r>
            <a:r>
              <a:rPr b="0" lang="ar-IQ" sz="3200" spc="-1" strike="noStrike">
                <a:solidFill>
                  <a:srgbClr val="ffcc00"/>
                </a:solidFill>
                <a:latin typeface="Arial Black"/>
              </a:rPr>
              <a:t> </a:t>
            </a:r>
            <a:r>
              <a:rPr b="0" lang="ar-IQ" sz="3200" spc="-1" strike="noStrike">
                <a:solidFill>
                  <a:srgbClr val="ffcc00"/>
                </a:solidFill>
                <a:latin typeface="Arial Black"/>
              </a:rPr>
              <a:t>.</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ff"/>
                </a:solidFill>
                <a:latin typeface="Arial Black"/>
              </a:rPr>
              <a:t>الآثار المترتبة على النيابة الكاذبة والنيابة المتجاوزة</a:t>
            </a:r>
            <a:r>
              <a:rPr b="0" lang="ar-IQ" sz="4400" spc="-1" strike="noStrike">
                <a:solidFill>
                  <a:srgbClr val="ffffff"/>
                </a:solidFill>
                <a:latin typeface="Arial Black"/>
              </a:rPr>
              <a:t> </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أ- علاقة حامل الورقة التجارية بالأصيل المزعوم والنائب الكاذب والمتجاوز </a:t>
            </a:r>
            <a:endParaRPr b="0" lang="en-US" sz="2400" spc="-1" strike="noStrike">
              <a:solidFill>
                <a:srgbClr val="ffcc00"/>
              </a:solidFill>
              <a:latin typeface="Arial Black"/>
            </a:endParaRPr>
          </a:p>
          <a:p>
            <a:pPr marL="308520" indent="-30852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في حالة النائب الكاذب نجد أن الأخير يلتزم التزاما صرفيا قبل حامل الحوالة التجارية بكل المبلغ المذكور فيها دون أن يكون الأصيل المزعوم مسؤولا عن أي التزام . إذ لا يمكن الزام الأصيل المزعوم ضد ارادته أو بدون اجازة منه  بل من العدل ألزام النائب الكاذب قبل الحامل لأنه هو الذي زج بالورقة التجارية في ميدان التعامل فعليه غرم ذلك .</a:t>
            </a:r>
            <a:endParaRPr b="0" lang="en-US" sz="2400" spc="-1" strike="noStrike">
              <a:solidFill>
                <a:srgbClr val="ffcc00"/>
              </a:solidFill>
              <a:latin typeface="Arial Black"/>
            </a:endParaRPr>
          </a:p>
          <a:p>
            <a:pPr marL="308520" indent="-30852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أما في حالة النائب المتجاوز لحدود سلطته فقد اعتبره المشرع بمثابة النائب الكاذب وذلك عندما اعتبره ملتزما التزاما شخصيا باداء قيمة الحوالة الى الحامل ويبقى له حق الرجوع على الأصيل بما تؤول اليه من حقوق نتيجة هذا الأداء ويحقق هذا الحل مصلحة الأغيار حيث يجهل هؤلاء مدى تجاوز النائب لحدود نيابته .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Arial Black"/>
              </a:rPr>
              <a:t>الاثار المترتبة على تجاوز النيابة أو ادعاءها كذبا</a:t>
            </a: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cc00"/>
                </a:solidFill>
                <a:latin typeface="Arial Black"/>
              </a:rPr>
              <a:t>ومع ذلك يمكن للحامل الرجوع على الأصيل في حدود ما خوله هذا الأخير للنائب المتجاوز أو أن يرجع على النائب المتجاوز بجميع مبلغ الورقة التجارية وهكذا تكون للحامل علاقتان صرفيتان قبل كل من النائب المتجاوز والأصيل . بخلاف النيابة الكاذبة فلا ينشأ عنها سوى علاقة واحدة بين حامل الورقة التجارية والنائب الكاذب يلتزم بموجبها الأخير بأداء كل قيمة الورقة للحامل</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Arial Black"/>
              </a:rPr>
              <a:t>الاثار المترتبة على تجاوز النيابة أو ادعاءها كذبا</a:t>
            </a: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ويشير الفقه لضرورة توافر شروط معينة لثبوت حالة النيابة الكاذبة او المتجاوزة وتتمثل بالآتي :</a:t>
            </a:r>
            <a:endParaRPr b="0" lang="en-US" sz="2400" spc="-1" strike="noStrike">
              <a:solidFill>
                <a:srgbClr val="ffcc00"/>
              </a:solidFill>
              <a:latin typeface="Arial Black"/>
            </a:endParaRPr>
          </a:p>
          <a:p>
            <a:pPr marL="339480" indent="-339480" algn="r" rtl="1">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أ- أن يوقع الشخص على الحوالة التجارية باعتباره ممثلا لشخص اخر أي مخولا بالتوقيع عنه . وهو ما يقتضي توقيعه باسمه الشخصي مقترنا بصفة تدل على نيابته . </a:t>
            </a:r>
            <a:endParaRPr b="0" lang="en-US" sz="2400" spc="-1" strike="noStrike">
              <a:solidFill>
                <a:srgbClr val="ffcc00"/>
              </a:solidFill>
              <a:latin typeface="Arial Black"/>
            </a:endParaRPr>
          </a:p>
          <a:p>
            <a:pPr marL="339480" indent="-339480" algn="r" rtl="1">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ب – أن يكون الموقع على الحوالة التجارية زاعما للنيابة بأن لا يكون مخول بالتوقيع اطلاقا أو أن يكون قد تجاوز حدود التفويض الممنوح له كأن يكون مخولا بالتوقيع بحدود مليون دينار فوقع ورقة بقيمة ثلاث ملايين . أما اذا أساء استعمال السلطة فلا يدخل ضمن مفهوم النيابة الكاذبة او المتجاوزة .</a:t>
            </a:r>
            <a:endParaRPr b="0" lang="en-US" sz="2400" spc="-1" strike="noStrike">
              <a:solidFill>
                <a:srgbClr val="ffcc00"/>
              </a:solidFill>
              <a:latin typeface="Arial Black"/>
            </a:endParaRPr>
          </a:p>
          <a:p>
            <a:pPr marL="339480" indent="-339480" algn="r" rtl="1">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ج- يشترط في النائب الكاذب أو المتجاوز أن يكون متمتعا بالأهلية القانونية حين توقيعه على الحوالة التجارية وبخلافه سيكون التوقيع باطلا  ولا يرتب اثرا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ff"/>
                </a:solidFill>
                <a:latin typeface="Arial Black"/>
              </a:rPr>
              <a:t>علاقة النائب الكاذب أو النائب المتجاوز بالأصيل</a:t>
            </a:r>
            <a:r>
              <a:rPr b="0" lang="ar-IQ" sz="4400" spc="-1" strike="noStrike">
                <a:solidFill>
                  <a:srgbClr val="ffffff"/>
                </a:solidFill>
                <a:latin typeface="Arial Black"/>
              </a:rPr>
              <a:t> </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بالنسبة لحالة النائب الكاذب فلا تنشأ أية علاقة بينه وبين الأصيل في المرحلة السابقة على وفاء الورقة التجارية وغالبا ما يجهل الأخير وجود الحوالة واذا علم بذلك مقاضاة الزاعم ومطالبته بالتعويض عما لحقه من ضرر ومع ذلك يمكن للأصيل المزعوم اجازة تصرف النائب الكاذب وعندئذ تعد الإجازة اللاحقة في حكم الوكالة السابقة . أما بالنسبة لحالة النائب المتجاوز فالأمر يختلف إذ تربطه بالأصيل علاقة قانونية تخضع في حدود التوكيل لأحكام عقد الوكالة وفيما يتجاوز حدود هذا التفويض  فيستطيع الأصيل اجازة هذا التصرف أو نقضه ولا يتحمل عندئذ أية مسؤولية عنه .</a:t>
            </a:r>
            <a:endParaRPr b="0" lang="en-US" sz="2400" spc="-1" strike="noStrike">
              <a:solidFill>
                <a:srgbClr val="ffcc00"/>
              </a:solidFill>
              <a:latin typeface="Arial Black"/>
            </a:endParaRPr>
          </a:p>
          <a:p>
            <a:pPr marL="315360" indent="-3153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وفي المرحلة اللاحقة لأداء النائب لقيمة الورقة التجارية فقد نظمت المادة (</a:t>
            </a:r>
            <a:r>
              <a:rPr b="0" lang="ar-IQ" sz="2400" spc="-1" strike="noStrike">
                <a:solidFill>
                  <a:srgbClr val="ffcc00"/>
                </a:solidFill>
                <a:latin typeface="Arial Black"/>
              </a:rPr>
              <a:t>49</a:t>
            </a:r>
            <a:r>
              <a:rPr b="0" lang="ar-IQ" sz="2400" spc="-1" strike="noStrike">
                <a:solidFill>
                  <a:srgbClr val="ffcc00"/>
                </a:solidFill>
                <a:latin typeface="Arial Black"/>
              </a:rPr>
              <a:t>) من قانون التجارة علاقة الأصيل بالنائب الكاذب أو المتجاوز بنصها على أنه ( تؤول الى الموفي الحقوق التي كانت تؤول الى من ادعى النيابة عنه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ff"/>
                </a:solidFill>
                <a:latin typeface="Arial Black"/>
              </a:rPr>
              <a:t>علاقة النائب الكاذب أو النائب المتجاوز بالأصيل</a:t>
            </a: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ويلاحظ على النص انه لا يميز بين النائب الذي تعمد الكذب والنائب الذي تجاوز حدود سلطته دون تعمد وانما عن جهل أو غفلة . كما يلاحظ أن المشرع اقتصر على اعلان حلول النائب الموفي ( الكاذب أو المتجاوز) محل الأصيل دون التطرق الى ما قد يقوم بين هؤلاء من علاقة قانونية . ففي حالة النائب الكاذب لا يمكن تصور رجوع النائب على الأصيل المزعوم بعد أدائه لقيمة الحوالة ما لم يكن الأخير انتفع من هذا الوفاء وعندئذ يتم الرجوع عليه وفقا لقواعد الكسب دون سبب . </a:t>
            </a:r>
            <a:endParaRPr b="0" lang="en-US" sz="2400" spc="-1" strike="noStrike">
              <a:solidFill>
                <a:srgbClr val="ffcc00"/>
              </a:solidFill>
              <a:latin typeface="Arial Black"/>
            </a:endParaRPr>
          </a:p>
          <a:p>
            <a:pPr marL="335880" indent="-33588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اما بالنسبة للنائب المتجاوز فالأمر يختلف إذ يستطيع النائب الرجوع على الأصيل في حدود المبلغ المخول به وفقا لأحكام النيابة التي تربطهما . بالإضافة لحقه في الرجوع عليه بما أثراه بدون سبب فيما يتعلق بالمبلغ المتجاوز لحدود نيابته .</a:t>
            </a:r>
            <a:endParaRPr b="0" lang="en-US" sz="2400" spc="-1" strike="noStrike">
              <a:solidFill>
                <a:srgbClr val="ffcc00"/>
              </a:solidFill>
              <a:latin typeface="Arial Black"/>
            </a:endParaRPr>
          </a:p>
          <a:p>
            <a:pPr marL="3358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3T16:44:09Z</dcterms:created>
  <dc:creator/>
  <dc:description/>
  <dc:language>en-US</dc:language>
  <cp:lastModifiedBy/>
  <dcterms:modified xsi:type="dcterms:W3CDTF">2020-03-14T09:36:47Z</dcterms:modified>
  <cp:revision>2</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