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55C9C-480C-4965-B81B-3FB261C47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C275-CAFC-4D3B-837D-4CF40EEC2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3DE3F-792F-4C87-81EC-583154C93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61056-A1E8-41CF-8B9B-017F6F6CB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E72EA-214A-4A5E-BDEF-43E0C376B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0278D-0DE6-439E-A4B7-1FB94E259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7348F-6391-4C43-87F4-FF84A34C6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27B68-47AE-4813-979B-75AE3C2C9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BE3A9-9C95-458A-B421-82E94823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E016B-82A9-4004-B306-59CFCE549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004E5-B4B3-4BB4-9893-335BC8604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1887-E467-4832-877E-BE878111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A2D71-C18D-4AEB-85F3-A460A798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87B16-E530-454A-A54C-94114F54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AF3F3-D19E-4703-94BB-2DED9C370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E8006-DB05-4579-B322-4C1F7D36B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52877-B6C4-4F37-B8B2-2EF05E227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34A70-A32D-43B9-B253-838D89AB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469E-349B-46A8-9423-777F133B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0FB4-8EBC-4D2E-A7B9-CA8A97F83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CF43-CA8B-44DB-886B-464BA5A99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CC45-62B2-4334-8C7A-FB29AD50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9CF9E-AF9B-4F3F-9778-E28FA4FA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2360-23C5-4D2F-8608-9F94A3C0C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E750-25F7-449D-A5B9-4CFF8E7B6C6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C769-F5C4-4CD5-9505-60DAFF4A825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60280"/>
            <a:ext cx="77724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u="sng">
                <a:solidFill>
                  <a:srgbClr val="ffffb7"/>
                </a:solidFill>
                <a:uFillTx/>
                <a:latin typeface="Arial Black"/>
              </a:rPr>
              <a:t>تعريف مقابل الوفاء</a:t>
            </a:r>
            <a:r>
              <a:rPr b="0" lang="ar-IQ" sz="4800" spc="-1" strike="noStrike" u="sng">
                <a:solidFill>
                  <a:srgbClr val="ffffb7"/>
                </a:solidFill>
                <a:uFillTx/>
                <a:latin typeface="Arial Black"/>
              </a:rPr>
              <a:t> </a:t>
            </a:r>
            <a:br>
              <a:rPr sz="4800"/>
            </a:br>
            <a:endParaRPr b="1" lang="en-US" sz="4800" spc="-1" strike="noStrike">
              <a:solidFill>
                <a:srgbClr val="ffffb7"/>
              </a:solidFill>
              <a:latin typeface="Arial Black"/>
            </a:endParaRPr>
          </a:p>
        </p:txBody>
      </p:sp>
      <p:sp>
        <p:nvSpPr>
          <p:cNvPr id="99" name="PlaceHolder 2"/>
          <p:cNvSpPr>
            <a:spLocks noGrp="1"/>
          </p:cNvSpPr>
          <p:nvPr>
            <p:ph type="subTitle"/>
          </p:nvPr>
        </p:nvSpPr>
        <p:spPr>
          <a:xfrm>
            <a:off x="539280" y="1341360"/>
            <a:ext cx="7993080" cy="49672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يعتبر مقابل الوفاء ضمانه من الضمانات الخاصة والهامة للوفاء بقيمة الورقة التجارية والتي يقدمها الساحب الى الحامل القانوني للورقه التجاريه . ومن المعروف ان الورقه التجاريه لا تسحب الا بعد وجود علاقة مديونيه بين الساحب والحامل والتي تسمى بعوض الورقة الورقه التجاريه ، أما بالنسبة للعلاقة ما بين الساحب والمسحوب عليه ففي الغالب أن توجد علاقة مديونية بأن يكون المسحوب عليه دائنا للساحب بمبلغ من النقود يساوي في الأقل لقيمة الحوالة المسحوبة عليه</a:t>
            </a:r>
            <a:r>
              <a:rPr b="0" lang="ar-IQ" sz="2800" spc="-1" strike="noStrike">
                <a:solidFill>
                  <a:srgbClr val="ffffff"/>
                </a:solidFill>
                <a:latin typeface="Arial"/>
              </a:rPr>
              <a:t> </a:t>
            </a:r>
            <a:r>
              <a:rPr b="0" lang="ar-IQ" sz="2800" spc="-1" strike="noStrike">
                <a:solidFill>
                  <a:srgbClr val="ffffff"/>
                </a:solidFill>
                <a:latin typeface="Arial"/>
              </a:rPr>
              <a:t>.</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 </a:t>
            </a:r>
            <a:r>
              <a:rPr b="0" lang="ar-IQ" sz="2800" spc="-1" strike="noStrike">
                <a:solidFill>
                  <a:srgbClr val="ffffff"/>
                </a:solidFill>
                <a:latin typeface="Arial"/>
              </a:rPr>
              <a:t>لذلك يمكن تعريف مقابل الوفاء  بأنه الدين النقدي الذي يكون للساحب على المسحوب عليه  بحيث يمكن لهذا الاخير ان ياخذ منه ما يفي قيمة الحواله التجاريه في ميعاد استحقاقها  وان مقابل الوفاء قد يكون موجودا قبل انشاء الورقه التجاريه او بعد إنشائ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023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u="sng">
                <a:solidFill>
                  <a:srgbClr val="ffffb7"/>
                </a:solidFill>
                <a:uFillTx/>
                <a:latin typeface="Arial Black"/>
              </a:rPr>
              <a:t>وجود مقابل الوفاء</a:t>
            </a:r>
            <a:r>
              <a:rPr b="1" lang="ar-IQ" sz="4400" spc="-1" strike="noStrike" u="sng">
                <a:solidFill>
                  <a:srgbClr val="ffffb7"/>
                </a:solidFill>
                <a:uFillTx/>
                <a:latin typeface="Arial Black"/>
              </a:rPr>
              <a:t>-</a:t>
            </a:r>
            <a:endParaRPr b="1" lang="en-US" sz="4400" spc="-1" strike="noStrike">
              <a:solidFill>
                <a:srgbClr val="ffffb7"/>
              </a:solidFill>
              <a:latin typeface="Arial Black"/>
            </a:endParaRPr>
          </a:p>
        </p:txBody>
      </p:sp>
      <p:sp>
        <p:nvSpPr>
          <p:cNvPr id="101" name="PlaceHolder 2"/>
          <p:cNvSpPr>
            <a:spLocks noGrp="1"/>
          </p:cNvSpPr>
          <p:nvPr>
            <p:ph/>
          </p:nvPr>
        </p:nvSpPr>
        <p:spPr>
          <a:xfrm>
            <a:off x="394920" y="1267920"/>
            <a:ext cx="8450280" cy="518508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بينت المادة (</a:t>
            </a:r>
            <a:r>
              <a:rPr b="0" lang="ar-IQ" sz="2400" spc="-1" strike="noStrike">
                <a:solidFill>
                  <a:srgbClr val="ffffff"/>
                </a:solidFill>
                <a:latin typeface="Arial"/>
              </a:rPr>
              <a:t>63</a:t>
            </a:r>
            <a:r>
              <a:rPr b="0" lang="ar-IQ" sz="2400" spc="-1" strike="noStrike">
                <a:solidFill>
                  <a:srgbClr val="ffffff"/>
                </a:solidFill>
                <a:latin typeface="Arial"/>
              </a:rPr>
              <a:t>) من قانون التجارة العراقي الشروط الواجب توافرها في الدين النقدي الذي يكون للساحب على المسحوب عليه  مقابلا لوفاء الحوالة التجارية و من اجل ان يكون مقابل الوفاء موجودا لا بد من توفر الشروط التالية-</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1</a:t>
            </a:r>
            <a:r>
              <a:rPr b="0" lang="ar-IQ" sz="2400" spc="-1" strike="noStrike">
                <a:solidFill>
                  <a:srgbClr val="ffffff"/>
                </a:solidFill>
                <a:latin typeface="Arial"/>
              </a:rPr>
              <a:t>- </a:t>
            </a:r>
            <a:r>
              <a:rPr b="0" lang="ar-SA" sz="2400" spc="-1" strike="noStrike">
                <a:solidFill>
                  <a:srgbClr val="ffffff"/>
                </a:solidFill>
                <a:latin typeface="Arial"/>
              </a:rPr>
              <a:t>يشترط في مقابل الوفاء أن يكون دينا نقدياً ذلك أنه لا يتحقق وجود هذا المقابل إلا إذا كان الساحب دائناً للمسحوب عليه بدين محله مبلغ من النقود وسواء في ذلك أكان الدين من طبيعة مدنية أم تجارية.</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هذا المبلغ هو الذي يرد عليه أمر الدفع الصادر من الساحب إلى المسحوب عليه وهذا المبلغ هو محل الالتزام في الحوالة فلا يمكن أن يكون شيئاً آخر غير النقود كالقيام بعمل أو تسليم البضاعة ولا يجب الخلط بين مبلغ الحوالة ومقابل الوفاء فمبلغ الحوالة هو موضوع التزام الساحب قبل المستفيد وغيره من الحملة اللاحقين لها أما مقابل الوفاء فهو الوسيلة التي ينفذ بها هذا الالتزام وهو لا يخص إلا علاقة الساحب مع المسحوب عليه.</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ما اذا دين الساحب مال اخر غير النقود كأسهم او سندات او منقولات فلا تصلح لأن تكون مقابلا للوفاء إذا ما تحولت لدين نقدي وقت إعطاء الحوالة  أما قبل ذلك فلا تصلح لأن تكون مقابل وف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 وجود الدين الذي يمثل مقابل الوفاء وقت استحقاق الحواله التجاريه :إذ أن اهمية مقابل الوفاء لا تظهر الا عند استحقاق الحوالة  لذا لالا يعتبر المقابل موجودا اذا كان المسحوب عليه مدينا للساحب ثم اوفى لهذا الأخير قبل حلول ميعاد استحقاق الحوالة بالدين .</a:t>
            </a:r>
            <a:br>
              <a:rPr sz="2400"/>
            </a:br>
            <a:endParaRPr b="1" lang="en-US" sz="2400" spc="-1" strike="noStrike">
              <a:solidFill>
                <a:srgbClr val="ffffb7"/>
              </a:solidFill>
              <a:latin typeface="Arial Black"/>
            </a:endParaRPr>
          </a:p>
        </p:txBody>
      </p:sp>
      <p:sp>
        <p:nvSpPr>
          <p:cNvPr id="103" name="PlaceHolder 2"/>
          <p:cNvSpPr>
            <a:spLocks noGrp="1"/>
          </p:cNvSpPr>
          <p:nvPr>
            <p:ph/>
          </p:nvPr>
        </p:nvSpPr>
        <p:spPr>
          <a:xfrm>
            <a:off x="323640" y="1557360"/>
            <a:ext cx="8521560" cy="489600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3</a:t>
            </a:r>
            <a:r>
              <a:rPr b="0" lang="ar-IQ" sz="2400" spc="-1" strike="noStrike">
                <a:solidFill>
                  <a:srgbClr val="ffffff"/>
                </a:solidFill>
                <a:latin typeface="Arial"/>
              </a:rPr>
              <a:t>-ان يكون دين مقابل الوفاء مستحق الاداء وقت استحقاق الحواله التجاريه : فقد اكد المشرع العراقي صراحة على وجوب استحقاق الدين النقدي وقت استحقاق الحوالة فإذا كان الدين مستحق الأداء بعد ميعاد استحجقاف الحوالة فلا يعتبر المقابل موجودا وعدم الوجود هذا يكون نسبي قبل المسحوب عليه ويترتب على ذلك انه لا يجوز للحامل اجبار المسحوب عليه وفاء الحوالة الا اذا قبلها الأخير وعندئذ يكون تنازل عن الأجل المشروط لمصلحته في  استحقاق دين الساحب .</a:t>
            </a:r>
            <a:endParaRPr b="0" lang="en-US" sz="2400" spc="-1" strike="noStrike">
              <a:solidFill>
                <a:srgbClr val="ffffff"/>
              </a:solidFill>
              <a:latin typeface="Arial"/>
            </a:endParaRPr>
          </a:p>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كما أن اهمال الحامل لواجباته فليس للساحب التمسك بهذا الاهمال لرد دعوى الرجوع عليه  اذا لم يكن المقابل موجودا فضلا عن امتناع المسحوب عليه عن الوفاء فيحق للحامل الانتظار لحين استحقاق المقابل وعندئذ تكون له الأولوية في استيفاء قيمة الحوالة من هذا المقابل  </a:t>
            </a:r>
            <a:endParaRPr b="0" lang="en-US" sz="2400" spc="-1" strike="noStrike">
              <a:solidFill>
                <a:srgbClr val="ffffff"/>
              </a:solidFill>
              <a:latin typeface="Arial"/>
            </a:endParaRPr>
          </a:p>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4</a:t>
            </a:r>
            <a:r>
              <a:rPr b="0" lang="ar-IQ" sz="2400" spc="-1" strike="noStrike">
                <a:solidFill>
                  <a:srgbClr val="ffffff"/>
                </a:solidFill>
                <a:latin typeface="Arial"/>
              </a:rPr>
              <a:t>- ان يكون مقابل الوفاء مساويا في الاقل لمبلغ الحواله التجاريه :  أما اذا كان كان المقابل اقل من قيمة الحوالة كما لو سحبت الحوالة بقيمة خمس مليون دينار عراقي وكان مقابل الوفاء بثلاث ملايين دينار فعندئذ يعتبر المقابل غير موجود ويكون للمسحوب عليه الإمتناع عن قبول الحوالة وله أن يقبلها  قبولا جزئي ولا يمكن للحامل رفض الوفاء الجزئي .وبالنسبة للساحب رد دعوى الرجوع عليه من قبل الحامل بحجة وجود مقابل الوفا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1720"/>
            <a:ext cx="8385120" cy="93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u="sng">
                <a:solidFill>
                  <a:srgbClr val="ffffb7"/>
                </a:solidFill>
                <a:uFillTx/>
                <a:latin typeface="Arial Black"/>
              </a:rPr>
              <a:t>من الذي يلتزم بإيجاد مقابل الوفاء</a:t>
            </a:r>
            <a:endParaRPr b="1" lang="en-US" sz="2800" spc="-1" strike="noStrike">
              <a:solidFill>
                <a:srgbClr val="ffffb7"/>
              </a:solidFill>
              <a:latin typeface="Arial Black"/>
            </a:endParaRPr>
          </a:p>
        </p:txBody>
      </p:sp>
      <p:sp>
        <p:nvSpPr>
          <p:cNvPr id="105" name="PlaceHolder 2"/>
          <p:cNvSpPr>
            <a:spLocks noGrp="1"/>
          </p:cNvSpPr>
          <p:nvPr>
            <p:ph/>
          </p:nvPr>
        </p:nvSpPr>
        <p:spPr>
          <a:xfrm>
            <a:off x="323640" y="980640"/>
            <a:ext cx="8521560" cy="5472360"/>
          </a:xfrm>
          <a:prstGeom prst="rect">
            <a:avLst/>
          </a:prstGeom>
          <a:noFill/>
          <a:ln w="0">
            <a:noFill/>
          </a:ln>
        </p:spPr>
        <p:txBody>
          <a:bodyPr lIns="90000" rIns="90000" tIns="46800" bIns="46800" anchor="t">
            <a:normAutofit fontScale="91000"/>
          </a:bodyPr>
          <a:p>
            <a:pPr marL="312120" indent="0" algn="ct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ان الذي يقدم مقابل الوفاء هو الساحب الحقيقي للورقه التجاريه وان المكان الذي يقدم فيه مقابل الوفاء هو المكان الذي يوجد فيه الشخص المسحوب عليه للورقه التجاريه فاذا كان تاجرا فان المكان الذي يقدم فيه مقابل الوفاء هو محله التجاري اما اذا كان شركه تجاريه فيكون في مركز الشركه التجاريه واذا كان شخصا طبيعيا غير تاجر فان مكان تقديم مقابل الوفاء هو مكان السكن لهذا الشخص وان من حق الساحب اثبات وجود مقابل الوفاء لدى المسحوب عليه وفي احيانا اخرى فان الحامل  يكون صاحب المصلحه  لاثبات وجود مقابل الوفاء لدى المسحوب عليه.</a:t>
            </a: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في حالة السحب الصوري للحوالة التجارية فإن الساحب الظاهري يكون هو  الملتزم بتوفير مقابل الوفاء بالنسبة لعلاقته بالحامل والمظهرين  اليهم لأنه في الغالب يجهل هؤلاء وجود ساحب حقيقي للورقة التجارية ، فبالنسبة لهم فإن الساحب الظاهري هو الموقع الأول على الورقة التجارية .</a:t>
            </a: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أما بصدد علاقة الساحب بالمسحوب عليه فإن الساحب الظاهر هو المسؤول عن تقديم مقابل الوفاء ذلك أن المسحوب عليه يكون على معرفة بالاتفاق الحاصل بين الساحب الظاهري والساحب الحقيقي  وإن كان اسم الأول وتوقيعه موجودا على الورقة فإن الشخص ليس الا وكيلا ولا مصلحة له مباشرة على في سحب الحوال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60"/>
            <a:ext cx="8385120" cy="692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u="sng">
                <a:solidFill>
                  <a:srgbClr val="ffffb7"/>
                </a:solidFill>
                <a:uFillTx/>
                <a:latin typeface="Arial Black"/>
              </a:rPr>
              <a:t>حقوق حامل الورقه التجاريه على مقابل الوفاء-</a:t>
            </a:r>
            <a:endParaRPr b="1" lang="en-US" sz="4000" spc="-1" strike="noStrike">
              <a:solidFill>
                <a:srgbClr val="ffffb7"/>
              </a:solidFill>
              <a:latin typeface="Arial Black"/>
            </a:endParaRPr>
          </a:p>
        </p:txBody>
      </p:sp>
      <p:sp>
        <p:nvSpPr>
          <p:cNvPr id="107" name="PlaceHolder 2"/>
          <p:cNvSpPr>
            <a:spLocks noGrp="1"/>
          </p:cNvSpPr>
          <p:nvPr>
            <p:ph/>
          </p:nvPr>
        </p:nvSpPr>
        <p:spPr>
          <a:xfrm>
            <a:off x="394920" y="981000"/>
            <a:ext cx="8450280" cy="511488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Arial"/>
              </a:rPr>
              <a:t>حقوق حامل الورقه التجاريه على مقابل الوفاء-</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عالجت المادة </a:t>
            </a:r>
            <a:r>
              <a:rPr b="0" lang="ar-IQ" sz="3200" spc="-1" strike="noStrike">
                <a:solidFill>
                  <a:srgbClr val="ffffff"/>
                </a:solidFill>
                <a:latin typeface="Arial"/>
              </a:rPr>
              <a:t>65</a:t>
            </a:r>
            <a:r>
              <a:rPr b="0" lang="ar-IQ" sz="3200" spc="-1" strike="noStrike">
                <a:solidFill>
                  <a:srgbClr val="ffffff"/>
                </a:solidFill>
                <a:latin typeface="Arial"/>
              </a:rPr>
              <a:t> من قانون التجاره هذا الموضوع بنصها</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اولا - ينتقل الحق في مقابل الوفاء بحكم القانون الى حملة الحواله المتعاقبين</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ثانيا واذا كان مقابل الوفاء اقل من قيمة الحواله كان للحامل على هذا المقابل الناقص جميع الحقوق المقررة له على المقابل الكامل ويسري هذا الحكم اذا كان مقابل الوفاء دينا متنازعا عليه او غير حال عند استحقاق السفتج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8T01:26:19Z</dcterms:created>
  <dc:creator/>
  <dc:description/>
  <dc:language>en-US</dc:language>
  <cp:lastModifiedBy/>
  <dcterms:modified xsi:type="dcterms:W3CDTF">2020-05-18T01:34:20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